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832-15A5-4093-942A-B483541E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B19-B872-43DF-901A-7E52BF09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6D6-7618-4B3E-8BAD-330B0CBF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4F8-B31D-40A6-973F-1903D083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F643-9A38-4EF6-9BC7-1A351A4B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C41-EBDF-44A1-9654-610277CD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A64-DA59-4AFB-BE71-E915540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0D86-7390-4EAA-87FD-2C381AF6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7276-3380-4B97-8CE0-60EEAD8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AE80-F630-4E5D-85FD-D4B21FC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1CB-96B1-4993-A99F-DBBC5A1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4EA-2E87-42A4-B741-AD2C59BD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7358-A6B0-4503-81C7-16BC8015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1D82-31FC-4D89-8266-CFA7575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072D-55FF-4D36-A8E4-967F6640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414A-BEE9-4E0B-BC59-A54B669B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33C1-7AEA-423E-AB65-D9960E5C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8B7-98E1-4997-BF5E-70E2DAA1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FA2-3B2E-4132-BFD3-A33FC73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072-2C85-49AD-B02B-DB4F686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9E2-8CD8-400A-B29F-0C0F7CE7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122-39D9-45F1-8DFD-294609E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1E5-7A72-44B0-BD0E-ADB2B0D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847-5943-4BC1-8F61-8C9A5DF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9A31-7D4F-4528-B2F8-2562EFAE5C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ACB-E186-42FC-A020-F21AF4AE9D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ознавательный интерес учащихся на уроке музыке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6870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Распределение по группам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ритерии оценивания ответов групп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1773360"/>
          <a:ext cx="7265880" cy="3657600"/>
        </p:xfrm>
        <a:graphic>
          <a:graphicData uri="http://schemas.openxmlformats.org/drawingml/2006/table">
            <a:tbl>
              <a:tblPr/>
              <a:tblGrid>
                <a:gridCol w="3456000"/>
                <a:gridCol w="38098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казатель уровня от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сновные треб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зкий уровень (1-2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очное, дословное воспроизведение материала предложенного для использования преподавателем (приложение1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уровень (3-4 балл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сказанный «своими слова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сокий уровень (5 балл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ный ответ на поставленный вопрос или задачу, подкрепленный своей собственной самостоятельной аргументированной позицие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формулируйте определ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– избирательная направленность личности на предметы и явления окружающие действительность и тем самым, способствующая ориентировке в ознакомление с новыми фактами, более полному и глубокому отражению действительности. Систематически укрепляясь и развиваясь, познавательный интерес, становится основой положительного отношения к учению.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крайне необходимое  для творчества, учебной деятельности образование, носящее поисковый характер, направленное на  ознакомление с новыми факторами, способствующее    более глубокому и полному отражению действительности.   Стимулирование познавательного интереса к предмету необходимо для формирования полноценной личности ученика.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Познавательный интерес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— это глубинный внутренний мотив, основанный на свойственной человеку врожденной познавательной потребности. Познавательный интерес не является чем-то внешним, дополнительным по отношению к учению. Наличие интереса является одним из главных условий успешного протекания учебного процесса и свидетельством его правильной организации. Отсутствие интереса у школьников является показателем серьезных недостатков в организации обуче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анжирование понят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пытство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– Элементарная стадия избирательного отношения, которая обусловлена чисто внешними, часто неожиданными обстоятельствами, привлекающими внимание человека. Для человека эта элементарная ориентировка, связанная с новизной ситуации, может не иметь особой значимости. На стадии любопытства ребёнок довольствуется лишь ориентировкой, связанной с занимательностью того или иного предмета, той или иной ситуации. Эта стадия ещё не обнаруживает подлинного стремления к познанию. И, тем не менее, занимательность как фактор выявления познавательного интереса может служить его начальным толчком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пытство по отношению к урокам музыки проявляет большинство учащихся. Перед уроком они с огромным интересом расспрашивают, какую песню намечено разучить, какое произведение послушать.                Однако стремление глубже узнать что-то о музыке  вообще на стадии любопытства не возникает. Здесь привлекает занимательная сторона: достаточно ли весёлая песня, что она «изображает»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Любознательность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ценное состояние личности. Она характеризуется стремлением человека проникнуть за пределы увиденного. На этой стадии интереса обнаруживаются достаточно сильные выражения эмоций удивления. Радости познания, удовлетворённости деятельностью.  В возникновении загадок и их расшифровке и заключается сущность любознательности, как активного видения мира, которое развивается не только на занятиях, но и в труде, когда человек отрешён от простого исполнительства  и пассивного запоминания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становится устойчивой чертой характера, имеет значительную ценность в развитии личности. Любознательные люди не равнодушны к миру, они всегда находятся  в поис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Любознательность  возникает в процессе музыкального обучения как  определённый показатель его результативного уровня. Учащиеся стремятся самостоятельно узнать  нечто о заинтересовавшем их  музыкальном явлении:  песне, произведении, композиторе, жанре и т. д. и сразу возникает стремление выйти за пределы известного, полученного на урок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Познавательны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на пути своего развития обычно характеризуется познавательной активностью, явной избирательной направленностью учебных предметов, ценной мотивацией, в которой главное место занимают познавательные мотивы. Познавательный интерес содействует проникновению личности в существенные связи, отношения. Закономерности  познания.  Эта стадия характеризуется поступательным движением познавательной деятельности  школьника, поиском интересующей информации. Любознательный школьник просвещает свободное время предмету познавательного интереса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Познавательный интерес к музыке сочетается с эмоциональным интересом к ней. Для этого этапа характерно внимание к проявлению стиля в музыке, к исполнительским средствам выразительности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Высшая ступень познавательного интереса к музыке( к ней мы и стремимся) связанна с развитием музыкальных чувств потребности использовать знания, умения на практике, в самостоятельных занятиях музыкой, в музыкальном самообразовании и воспитании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ru-RU" sz="1000" spc="-1" strike="noStrike" u="sng">
                <a:solidFill>
                  <a:srgbClr val="ff0000"/>
                </a:solidFill>
                <a:uFillTx/>
                <a:latin typeface="Comic Sans MS"/>
              </a:rPr>
              <a:t>Теоретический интерес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вязан как со стремлением к познанию сложных теоретических вопросов и проблем конкретной науки, так и с использованием их как инструмента познания. Эта ступень активного воздействия человека на мир, на его переустройство, что непосредственно связано с мировоззрением человека, с его убеждениями в силе и возможностях науки. Эта ступень характеризует не только познавательное начало в структуре личности, но и человека как деятеля, субъекта, личность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Развитие теоретического интереса не входит в задачи музыкального воспитания в школ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Блиц-опрос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 тем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«Мотивация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Что такое классическая музык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Что имел в виду Бернстайн, называя классическую музыку «точной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 чем заключается суть классической музык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чему современному молодому человеку очень сложно понять и полюбить классик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997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акие средства должен использовать учитель музыки для формирования устойчивого интереса к класси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дания для груп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конспекты уроков, с использованием ИК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Разработать диагностику по определению стартового уровня познавательного интереса у школьников к классической музык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7:38:56Z</dcterms:created>
  <dc:creator>Michael</dc:creator>
  <dc:description/>
  <dc:language>en-US</dc:language>
  <cp:lastModifiedBy>Michael</cp:lastModifiedBy>
  <dcterms:modified xsi:type="dcterms:W3CDTF">2011-10-11T18:01:16Z</dcterms:modified>
  <cp:revision>2</cp:revision>
  <dc:subject/>
  <dc:title>Познавательный интерес учащихся на уроке музыке.</dc:title>
</cp:coreProperties>
</file>