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3C80-A6FC-4F53-B56E-210796DAE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671A-7097-476E-B7A9-4E709BC6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6F7D-905A-4489-BC6D-6DB012513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713B-3EAA-477E-B009-0426A004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7851-7778-4EDC-B3AA-DE5A29352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A796-B180-4105-A22A-61AA3EC3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6228-1B08-435E-A3E6-2752FFE6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61E5-5A20-436F-83E3-10AAD5D1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6D48-2DF7-47DF-9191-FDD9316C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5800-6D12-4568-91E3-3AC57CE2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7BBC-C25F-4474-9E24-24FCC858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EEF7-CB02-48A4-B884-3768E432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3AFD-223B-457B-92D4-D4ECD02B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BD01-FAFA-4859-8538-7B1592DF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2FC0-0F14-4945-A319-A4345051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C7F3-268E-4B97-A4FB-9C0D5E3E2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E802-2284-4909-8083-0FCD7FFDC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3AD3-75D4-421E-9904-C987F990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FACE-FF5E-4BED-9D4C-2A333BD4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765D-BCEA-47DC-B107-2C41EB5A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451E-7691-46EE-B2C0-DD7EEC08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F31F-6AC9-44E3-B69E-B679615B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A20E-0933-426B-8619-A7535573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150A-EBEF-4CB0-ADB9-4A3A1D3B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4A1C-7B2A-4979-947A-DF9897AEAB8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E705-7C13-4CFC-A1EC-7F7B0934D53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360" y="206028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Познавательный интерес учащихся на уроке музыке.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000" y="1196640"/>
            <a:ext cx="687060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Распределение по группам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Критерии оценивания ответов групп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84360" y="1773360"/>
          <a:ext cx="7265880" cy="3657600"/>
        </p:xfrm>
        <a:graphic>
          <a:graphicData uri="http://schemas.openxmlformats.org/drawingml/2006/table">
            <a:tbl>
              <a:tblPr/>
              <a:tblGrid>
                <a:gridCol w="3456000"/>
                <a:gridCol w="3809880"/>
              </a:tblGrid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казатель уровня от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сновные треб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изкий уровень (1-2 балл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очное, дословное воспроизведение материала предложенного для использования преподавателем (приложение1-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редний уровень (3-4 балл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лный ответ на поставленный вопрос или задачу, сказанный «своими словам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ысокий уровень (5 балло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лный ответ на поставленный вопрос или задачу, подкрепленный своей собственной самостоятельной аргументированной позицией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Сформулируйте определе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Познавательный интерес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– избирательная направленность личности на предметы и явления окружающие действительность и тем самым, способствующая ориентировке в ознакомление с новыми фактами, более полному и глубокому отражению действительности. Систематически укрепляясь и развиваясь, познавательный интерес, становится основой положительного отношения к учению.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Познавательный интерес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- крайне необходимое  для творчества, учебной деятельности образование, носящее поисковый характер, направленное на  ознакомление с новыми факторами, способствующее    более глубокому и полному отражению действительности.   Стимулирование познавательного интереса к предмету необходимо для формирования полноценной личности ученика.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Познавательный интерес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— это глубинный внутренний мотив, основанный на свойственной человеку врожденной познавательной потребности. Познавательный интерес не является чем-то внешним, дополнительным по отношению к учению. Наличие интереса является одним из главных условий успешного протекания учебного процесса и свидетельством его правильной организации. Отсутствие интереса у школьников является показателем серьезных недостатков в организации обучения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6870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Ранжирование понят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696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0000"/>
                </a:solidFill>
                <a:uFillTx/>
                <a:latin typeface="Comic Sans MS"/>
              </a:rPr>
              <a:t>Любопытство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– Элементарная стадия избирательного отношения, которая обусловлена чисто внешними, часто неожиданными обстоятельствами, привлекающими внимание человека. Для человека эта элементарная ориентировка, связанная с новизной ситуации, может не иметь особой значимости. На стадии любопытства ребёнок довольствуется лишь ориентировкой, связанной с занимательностью того или иного предмета, той или иной ситуации. Эта стадия ещё не обнаруживает подлинного стремления к познанию. И, тем не менее, занимательность как фактор выявления познавательного интереса может служить его начальным толчком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Любопытство по отношению к урокам музыки проявляет большинство учащихся. Перед уроком они с огромным интересом расспрашивают, какую песню намечено разучить, какое произведение послушать.                Однако стремление глубже узнать что-то о музыке  вообще на стадии любопытства не возникает. Здесь привлекает занимательная сторона: достаточно ли весёлая песня, что она «изображает»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1" lang="ru-RU" sz="1000" spc="-1" strike="noStrike" u="sng">
                <a:solidFill>
                  <a:srgbClr val="ff0000"/>
                </a:solidFill>
                <a:uFillTx/>
                <a:latin typeface="Comic Sans MS"/>
              </a:rPr>
              <a:t>Любознательность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- ценное состояние личности. Она характеризуется стремлением человека проникнуть за пределы увиденного. На этой стадии интереса обнаруживаются достаточно сильные выражения эмоций удивления. Радости познания, удовлетворённости деятельностью.  В возникновении загадок и их расшифровке и заключается сущность любознательности, как активного видения мира, которое развивается не только на занятиях, но и в труде, когда человек отрешён от простого исполнительства  и пассивного запоминания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Любознательность становится устойчивой чертой характера, имеет значительную ценность в развитии личности. Любознательные люди не равнодушны к миру, они всегда находятся  в поиске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Любознательность  возникает в процессе музыкального обучения как  определённый показатель его результативного уровня. Учащиеся стремятся самостоятельно узнать  нечто о заинтересовавшем их  музыкальном явлении:  песне, произведении, композиторе, жанре и т. д. и сразу возникает стремление выйти за пределы известного, полученного на уроке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ru-RU" sz="1000" spc="-1" strike="noStrike" u="sng">
                <a:solidFill>
                  <a:srgbClr val="ff0000"/>
                </a:solidFill>
                <a:uFillTx/>
                <a:latin typeface="Comic Sans MS"/>
              </a:rPr>
              <a:t>Познавательный интерес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- на пути своего развития обычно характеризуется познавательной активностью, явной избирательной направленностью учебных предметов, ценной мотивацией, в которой главное место занимают познавательные мотивы. Познавательный интерес содействует проникновению личности в существенные связи, отношения. Закономерности  познания.  Эта стадия характеризуется поступательным движением познавательной деятельности  школьника, поиском интересующей информации. Любознательный школьник просвещает свободное время предмету познавательного интереса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Познавательный интерес к музыке сочетается с эмоциональным интересом к ней. Для этого этапа характерно внимание к проявлению стиля в музыке, к исполнительским средствам выразительности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Высшая ступень познавательного интереса к музыке( к ней мы и стремимся) связанна с развитием музыкальных чувств потребности использовать знания, умения на практике, в самостоятельных занятиях музыкой, в музыкальном самообразовании и воспитании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ru-RU" sz="1000" spc="-1" strike="noStrike" u="sng">
                <a:solidFill>
                  <a:srgbClr val="ff0000"/>
                </a:solidFill>
                <a:uFillTx/>
                <a:latin typeface="Comic Sans MS"/>
              </a:rPr>
              <a:t>Теоретический интерес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связан как со стремлением к познанию сложных теоретических вопросов и проблем конкретной науки, так и с использованием их как инструмента познания. Эта ступень активного воздействия человека на мир, на его переустройство, что непосредственно связано с мировоззрением человека, с его убеждениями в силе и возможностях науки. Эта ступень характеризует не только познавательное начало в структуре личности, но и человека как деятеля, субъекта, личность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Развитие теоретического интереса не входит в задачи музыкального воспитания в школе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76360" y="2491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Блиц-опрос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о теме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«Мотивация»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Что такое классическая музыка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Что имел в виду Бернстайн, называя классическую музыку «точной»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В чем заключается суть классической музыки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Почему современному молодому человеку очень сложно понять и полюбить классику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000" y="2997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Какие средства должен использовать учитель музыки для формирования устойчивого интереса к классике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Задания для групп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Разработать конспекты уроков, с использованием ИК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Разработать диагностику по определению стартового уровня познавательного интереса у школьников к классической музык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7:38:56Z</dcterms:created>
  <dc:creator>Michael</dc:creator>
  <dc:description/>
  <dc:language>en-US</dc:language>
  <cp:lastModifiedBy>Michael</cp:lastModifiedBy>
  <dcterms:modified xsi:type="dcterms:W3CDTF">2011-10-11T18:01:16Z</dcterms:modified>
  <cp:revision>2</cp:revision>
  <dc:subject/>
  <dc:title>Познавательный интерес учащихся на уроке музыке.</dc:title>
</cp:coreProperties>
</file>