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0B1-8FA0-4A57-8A9B-CF4638BD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89F5-D188-4A7C-9199-57C75549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D9E-D612-41EF-AD34-1D9CBE3D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1EE-2FAB-4CE5-B495-B3382596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5DFC-8C9F-443E-AD68-4F013D4C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67FB-4117-43A1-BB6E-5137E039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3279-9BB2-4276-A05E-43116079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8D16-C053-46EE-A0F5-D2B156EF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ABCD-C8B9-4F6D-AB03-C1127538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8A9B-44D0-48FD-955F-136791BF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D07D-823D-4AA5-86A5-F7202FB9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AC0-46F5-4F79-B395-69B565F3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1608-ACD9-4D97-9FCA-285C7664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60AD-CDBC-4D35-9306-8AAE75E0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4035-3365-4D11-9686-03E4E199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18B5-F615-4526-B262-43588DEB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9785-BED1-426A-96F1-F15E481C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AA0-53CF-480B-9751-83300B6C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04F-D84D-4A0C-813D-B987FF26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6DD-D8D2-478F-9A57-1A9FD77D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F15-4FA2-44EB-A1DB-745C884F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B1A-8137-4B49-8464-C9D4C1C7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F73-47C5-468A-934C-D3D02F8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E6D-5165-4456-B015-0F4F6104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D891-7F27-420B-9853-9EDF51EB7AE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D875-8BD2-4827-BE07-19FB799BFBC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2060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ознавательный интерес учащихся на уроке музыке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687060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Распределение по группам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Критерии оценивания ответов групп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4360" y="1773360"/>
          <a:ext cx="7265880" cy="3657600"/>
        </p:xfrm>
        <a:graphic>
          <a:graphicData uri="http://schemas.openxmlformats.org/drawingml/2006/table">
            <a:tbl>
              <a:tblPr/>
              <a:tblGrid>
                <a:gridCol w="3456000"/>
                <a:gridCol w="3809880"/>
              </a:tblGrid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казатель уровня от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сновные треб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изкий уровень (1-2 бал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очное, дословное воспроизведение материала предложенного для использования преподавателем (приложение1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едний уровень (3-4 бал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лный ответ на поставленный вопрос или задачу, сказанный «своими слова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сокий уровень (5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лный ответ на поставленный вопрос или задачу, подкрепленный своей собственной самостоятельной аргументированной позицие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Сформулируйте определ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Познавательный интерес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– избирательная направленность личности на предметы и явления окружающие действительность и тем самым, способствующая ориентировке в ознакомление с новыми фактами, более полному и глубокому отражению действительности. Систематически укрепляясь и развиваясь, познавательный интерес, становится основой положительного отношения к учению.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Познавательный интерес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- крайне необходимое  для творчества, учебной деятельности образование, носящее поисковый характер, направленное на  ознакомление с новыми факторами, способствующее    более глубокому и полному отражению действительности.   Стимулирование познавательного интереса к предмету необходимо для формирования полноценной личности ученика.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Познавательный интерес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— это глубинный внутренний мотив, основанный на свойственной человеку врожденной познавательной потребности. Познавательный интерес не является чем-то внешним, дополнительным по отношению к учению. Наличие интереса является одним из главных условий успешного протекания учебного процесса и свидетельством его правильной организации. Отсутствие интереса у школьников является показателем серьезных недостатков в организации обучения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анжирование понят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696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0000"/>
                </a:solidFill>
                <a:uFillTx/>
                <a:latin typeface="Comic Sans MS"/>
              </a:rPr>
              <a:t>Любопытство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– Элементарная стадия избирательного отношения, которая обусловлена чисто внешними, часто неожиданными обстоятельствами, привлекающими внимание человека. Для человека эта элементарная ориентировка, связанная с новизной ситуации, может не иметь особой значимости. На стадии любопытства ребёнок довольствуется лишь ориентировкой, связанной с занимательностью того или иного предмета, той или иной ситуации. Эта стадия ещё не обнаруживает подлинного стремления к познанию. И, тем не менее, занимательность как фактор выявления познавательного интереса может служить его начальным толчком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Любопытство по отношению к урокам музыки проявляет большинство учащихся. Перед уроком они с огромным интересом расспрашивают, какую песню намечено разучить, какое произведение послушать.                Однако стремление глубже узнать что-то о музыке  вообще на стадии любопытства не возникает. Здесь привлекает занимательная сторона: достаточно ли весёлая песня, что она «изображает»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ru-RU" sz="1000" spc="-1" strike="noStrike" u="sng">
                <a:solidFill>
                  <a:srgbClr val="ff0000"/>
                </a:solidFill>
                <a:uFillTx/>
                <a:latin typeface="Comic Sans MS"/>
              </a:rPr>
              <a:t>Любознательность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- ценное состояние личности. Она характеризуется стремлением человека проникнуть за пределы увиденного. На этой стадии интереса обнаруживаются достаточно сильные выражения эмоций удивления. Радости познания, удовлетворённости деятельностью.  В возникновении загадок и их расшифровке и заключается сущность любознательности, как активного видения мира, которое развивается не только на занятиях, но и в труде, когда человек отрешён от простого исполнительства  и пассивного запоминания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Любознательность становится устойчивой чертой характера, имеет значительную ценность в развитии личности. Любознательные люди не равнодушны к миру, они всегда находятся  в поиске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Любознательность  возникает в процессе музыкального обучения как  определённый показатель его результативного уровня. Учащиеся стремятся самостоятельно узнать  нечто о заинтересовавшем их  музыкальном явлении:  песне, произведении, композиторе, жанре и т. д. и сразу возникает стремление выйти за пределы известного, полученного на уроке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ru-RU" sz="1000" spc="-1" strike="noStrike" u="sng">
                <a:solidFill>
                  <a:srgbClr val="ff0000"/>
                </a:solidFill>
                <a:uFillTx/>
                <a:latin typeface="Comic Sans MS"/>
              </a:rPr>
              <a:t>Познавательный интерес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- на пути своего развития обычно характеризуется познавательной активностью, явной избирательной направленностью учебных предметов, ценной мотивацией, в которой главное место занимают познавательные мотивы. Познавательный интерес содействует проникновению личности в существенные связи, отношения. Закономерности  познания.  Эта стадия характеризуется поступательным движением познавательной деятельности  школьника, поиском интересующей информации. Любознательный школьник просвещает свободное время предмету познавательного интереса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Познавательный интерес к музыке сочетается с эмоциональным интересом к ней. Для этого этапа характерно внимание к проявлению стиля в музыке, к исполнительским средствам выразительности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Высшая ступень познавательного интереса к музыке( к ней мы и стремимся) связанна с развитием музыкальных чувств потребности использовать знания, умения на практике, в самостоятельных занятиях музыкой, в музыкальном самообразовании и воспитании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ru-RU" sz="1000" spc="-1" strike="noStrike" u="sng">
                <a:solidFill>
                  <a:srgbClr val="ff0000"/>
                </a:solidFill>
                <a:uFillTx/>
                <a:latin typeface="Comic Sans MS"/>
              </a:rPr>
              <a:t>Теоретический интерес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связан как со стремлением к познанию сложных теоретических вопросов и проблем конкретной науки, так и с использованием их как инструмента познания. Эта ступень активного воздействия человека на мир, на его переустройство, что непосредственно связано с мировоззрением человека, с его убеждениями в силе и возможностях науки. Эта ступень характеризует не только познавательное начало в структуре личности, но и человека как деятеля, субъекта, личность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азвитие теоретического интереса не входит в задачи музыкального воспитания в школе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360" y="2491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Блиц-опрос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о теме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«Мотивация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Что такое классическая музык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Что имел в виду Бернстайн, называя классическую музыку «точной»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 чем заключается суть классической музыки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чему современному молодому человеку очень сложно понять и полюбить классику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997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Какие средства должен использовать учитель музыки для формирования устойчивого интереса к классике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дания для груп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Разработать конспекты уроков, с использованием ИК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Разработать диагностику по определению стартового уровня познавательного интереса у школьников к классической музык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7:38:56Z</dcterms:created>
  <dc:creator>Michael</dc:creator>
  <dc:description/>
  <dc:language>en-US</dc:language>
  <cp:lastModifiedBy>Michael</cp:lastModifiedBy>
  <dcterms:modified xsi:type="dcterms:W3CDTF">2011-10-11T18:01:16Z</dcterms:modified>
  <cp:revision>2</cp:revision>
  <dc:subject/>
  <dc:title>Познавательный интерес учащихся на уроке музыке.</dc:title>
</cp:coreProperties>
</file>