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17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FE0E-C9E4-44F9-B220-8F5BC25A1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920" y="411084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6E53-8B86-4B93-B9E9-63515E88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3145-DA7E-4DCC-8794-FA9813BD9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304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92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304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80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48CE-32C9-40EF-8A4F-537AE50A0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067E-D29C-46E9-9FD7-2C98EB0BA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5105-48F6-4E29-8757-2C39E4FC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BEEF-D74F-42C5-A7CD-3E67EBEB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5127-4934-4483-BA10-17BD93B6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904A-F8CA-4080-912E-ACA29133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0"/>
            <a:ext cx="85341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20EB-45E8-4429-82C9-224A719E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421C-D49A-4374-8CB8-32219817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6C7D-38A7-438A-A7FB-59A03868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C502-29A4-447E-A10D-8996BA1D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959F-632C-47A7-879C-E12CA65C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411084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3CD1-86B7-44B8-86C9-AC880549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C0FA-AA98-4CB4-8888-E78AB446F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3494-EFD3-420E-B3BB-EFFEB9AE5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FE29-E057-412E-BF52-D0A0C220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3218-10F9-4207-AD00-1D0ECE03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5FFC-048B-477D-859F-E7ED356D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0"/>
            <a:ext cx="85341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0229-9430-43FF-AA33-8F710A24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959F-8EB8-4089-B44A-5785B8ED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7395-4555-4A5C-9CE7-ED39CBED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07AD-3E03-4CF6-9AE3-F9F05768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300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B3B5-ACF1-4FE1-8F05-70ABA2FF38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192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192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192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6EC2-76D6-4871-8C3A-FD7BE495C51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solidFill>
            <a:srgbClr val="000000">
              <a:alpha val="4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ини-волейбол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1483920"/>
            <a:ext cx="9144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самых маленьких Федерация волейбола рекомендует игру по упрощенным правилам, очень похожую на игру для взрослых и названную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ини - волейболо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NN08_14.MP3" descr=""/>
          <p:cNvPicPr/>
          <p:nvPr/>
        </p:nvPicPr>
        <p:blipFill>
          <a:blip r:embed="rId1"/>
          <a:stretch/>
        </p:blipFill>
        <p:spPr>
          <a:xfrm>
            <a:off x="352440" y="404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j0299763"/>
          <p:cNvPicPr/>
          <p:nvPr/>
        </p:nvPicPr>
        <p:blipFill>
          <a:blip r:embed="rId2"/>
          <a:stretch/>
        </p:blipFill>
        <p:spPr>
          <a:xfrm>
            <a:off x="324000" y="4869000"/>
            <a:ext cx="2050920" cy="168912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1"/>
          <p:cNvSpPr/>
          <p:nvPr/>
        </p:nvSpPr>
        <p:spPr>
          <a:xfrm>
            <a:off x="3419640" y="4653000"/>
            <a:ext cx="554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66ff33"/>
                </a:solidFill>
                <a:uFillTx/>
                <a:latin typeface="Times New Roman"/>
                <a:ea typeface="Times New Roman"/>
              </a:rPr>
              <a:t>Выполнил</a:t>
            </a:r>
            <a:r>
              <a:rPr b="0" i="1" lang="ru-RU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Кордов Виктор Василье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(учитель физической культуры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рямоугольник 2"/>
          <p:cNvSpPr/>
          <p:nvPr/>
        </p:nvSpPr>
        <p:spPr>
          <a:xfrm>
            <a:off x="3340080" y="6357960"/>
            <a:ext cx="27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 Челябинск 20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4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68000" y="2420640"/>
            <a:ext cx="83516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c000"/>
                </a:solidFill>
                <a:latin typeface="Arial"/>
              </a:rPr>
              <a:t>СПАСИБО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c000"/>
                </a:solidFill>
                <a:latin typeface="Arial"/>
              </a:rPr>
              <a:t>ЗА ВНИМАНИЕ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5"/>
          <p:cNvPicPr/>
          <p:nvPr/>
        </p:nvPicPr>
        <p:blipFill>
          <a:blip r:embed="rId1"/>
          <a:stretch/>
        </p:blipFill>
        <p:spPr>
          <a:xfrm>
            <a:off x="5003640" y="4724280"/>
            <a:ext cx="3848400" cy="182880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89" name="Picture 5" descr="1"/>
          <p:cNvPicPr/>
          <p:nvPr/>
        </p:nvPicPr>
        <p:blipFill>
          <a:blip r:embed="rId2"/>
          <a:stretch/>
        </p:blipFill>
        <p:spPr>
          <a:xfrm>
            <a:off x="5003640" y="1773360"/>
            <a:ext cx="3780000" cy="2079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9636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начала  о  правилах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475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e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ы в мини волейбол проводят среди мальчиков и девочек 7-8  и 9-10 лет раздельно. Играть в него могут и школьники более старшего возрас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e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е команды по 6 игроков располагаются по площадке длиной 12 м и шириной 9 м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Михей и Джуманджи - Туда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9" descr="2"/>
          <p:cNvPicPr/>
          <p:nvPr/>
        </p:nvPicPr>
        <p:blipFill>
          <a:blip r:embed="rId1"/>
          <a:stretch/>
        </p:blipFill>
        <p:spPr>
          <a:xfrm>
            <a:off x="539640" y="189000"/>
            <a:ext cx="2826000" cy="3960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78920" y="4292280"/>
            <a:ext cx="64594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0e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ют волейбольным мячом, вес которого не должен превышать 270 г,  а окружность 66 с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4083120" y="1268280"/>
            <a:ext cx="511164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0e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лейбольная сетка закрепляется между двумя стойками на высоте 2 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12" descr="3"/>
          <p:cNvPicPr/>
          <p:nvPr/>
        </p:nvPicPr>
        <p:blipFill>
          <a:blip r:embed="rId2"/>
          <a:stretch/>
        </p:blipFill>
        <p:spPr>
          <a:xfrm>
            <a:off x="6875640" y="3933720"/>
            <a:ext cx="1869840" cy="2806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 advTm="6000">
    <p:comb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7"/>
          <p:cNvPicPr/>
          <p:nvPr/>
        </p:nvPicPr>
        <p:blipFill>
          <a:blip r:embed="rId1"/>
          <a:stretch/>
        </p:blipFill>
        <p:spPr>
          <a:xfrm>
            <a:off x="6516720" y="1916280"/>
            <a:ext cx="2401920" cy="36716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98" name="Picture 5" descr="6"/>
          <p:cNvPicPr/>
          <p:nvPr/>
        </p:nvPicPr>
        <p:blipFill>
          <a:blip r:embed="rId2"/>
          <a:stretch/>
        </p:blipFill>
        <p:spPr>
          <a:xfrm>
            <a:off x="250920" y="2276640"/>
            <a:ext cx="2363760" cy="36716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484000" y="1844640"/>
            <a:ext cx="3886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0e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д началом игры капитаны команд по жребию выбирают подачу или площадку. Если одна команда выбрала право на подачу в первой партии, то в начале второй партии подает другая коман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250920" y="260280"/>
            <a:ext cx="60148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0e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авать  с  линии  не разрешается</a:t>
            </a:r>
            <a:r>
              <a:rPr b="0" lang="ru-RU" sz="2400" spc="-1" strike="noStrike">
                <a:solidFill>
                  <a:srgbClr val="cc9900"/>
                </a:solidFill>
                <a:latin typeface="Niagara Soli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cover dir="l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3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43920"/>
            <a:ext cx="48592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f0e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 начинается с подачи мяча через сетку одной из команд. Игроки противоположной команды принимают и разыгрывают мяч, посылая его через сетку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0e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анда получившая право на подачу, должна произвести смену мест игроков из зоны в зону по направлению движения часовой стрелки. Мяч вводит в игру волейболист, вышедший на подачу</a:t>
            </a:r>
            <a:r>
              <a:rPr b="1" i="1" lang="ru-RU" sz="2800" spc="-1" strike="noStrike">
                <a:solidFill>
                  <a:srgbClr val="ffffff"/>
                </a:solidFill>
                <a:latin typeface="Niagara Soli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8" descr="9"/>
          <p:cNvPicPr/>
          <p:nvPr/>
        </p:nvPicPr>
        <p:blipFill>
          <a:blip r:embed="rId1"/>
          <a:stretch/>
        </p:blipFill>
        <p:spPr>
          <a:xfrm>
            <a:off x="5867280" y="189000"/>
            <a:ext cx="2160720" cy="324000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103" name="Picture 9" descr="8"/>
          <p:cNvPicPr/>
          <p:nvPr/>
        </p:nvPicPr>
        <p:blipFill>
          <a:blip r:embed="rId2"/>
          <a:stretch/>
        </p:blipFill>
        <p:spPr>
          <a:xfrm>
            <a:off x="5867280" y="3716280"/>
            <a:ext cx="2173320" cy="288144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</p:spTree>
  </p:cSld>
  <p:transition spd="slow" advTm="5000">
    <p:cover dir="r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3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7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6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7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419640" y="115560"/>
            <a:ext cx="5473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f0e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ререкаться с судьями и оспаривать из решения на разрешается. Игрок удаленный судьей, не возвращается в игру до конца матч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f0e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Каждой команде разрешается произвести не более трех ударов, поочередно выполненных игроками, и перебить мяч на сторону </a:t>
            </a:r>
            <a:r>
              <a:rPr b="1" i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   соперни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11"/>
          <p:cNvPicPr/>
          <p:nvPr/>
        </p:nvPicPr>
        <p:blipFill>
          <a:blip r:embed="rId1"/>
          <a:stretch/>
        </p:blipFill>
        <p:spPr>
          <a:xfrm>
            <a:off x="250920" y="4516560"/>
            <a:ext cx="5041800" cy="23288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06" name="Picture 5" descr="10"/>
          <p:cNvPicPr/>
          <p:nvPr/>
        </p:nvPicPr>
        <p:blipFill>
          <a:blip r:embed="rId2"/>
          <a:stretch/>
        </p:blipFill>
        <p:spPr>
          <a:xfrm>
            <a:off x="208080" y="189000"/>
            <a:ext cx="2563560" cy="38275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 advTm="6000">
    <p:dissolv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4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4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4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4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ntr" presetID="3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4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4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4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4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6" nodeType="after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12"/>
          <p:cNvPicPr/>
          <p:nvPr/>
        </p:nvPicPr>
        <p:blipFill>
          <a:blip r:embed="rId1"/>
          <a:stretch/>
        </p:blipFill>
        <p:spPr>
          <a:xfrm>
            <a:off x="5364000" y="907920"/>
            <a:ext cx="3529080" cy="57596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4969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f0e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а касания мяча подряд одним игроком считается ошибкой (кроме блокирования). Касание мяча одновременно двумя игроками засчитывается за два удара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f0e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сание мяча несколькими игроками при блокировании считается как один удар. После этого блокировавшие имеют право на второе касание мяча. Игрокам задней линии запрещается выполнять нападающие удары у сетки и блокировать</a:t>
            </a:r>
            <a:r>
              <a:rPr b="0" i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7">
                                  <p:stCondLst>
                                    <p:cond delay="5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3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3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3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85" nodeType="afterEffect" fill="hold" presetClass="entr" presetID="27">
                                  <p:stCondLst>
                                    <p:cond delay="5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3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3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3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590640" y="3733920"/>
            <a:ext cx="511164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о время игры возникает необходимость посоветоваться, то с разрешения судьи, когда мяч находиться вне игры, в каждой партии можно взять не более двух перерывов ( по 30  секунд кажды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28440"/>
            <a:ext cx="52560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сание мяча на стороне соперника и сетки рукой во время игры считается ошибкой. Разрешается переносить руки над сеткой и касаться мяча только при блокировании, когда соперник выполняет нападающий уда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0e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5" descr="14"/>
          <p:cNvPicPr/>
          <p:nvPr/>
        </p:nvPicPr>
        <p:blipFill>
          <a:blip r:embed="rId1"/>
          <a:stretch/>
        </p:blipFill>
        <p:spPr>
          <a:xfrm>
            <a:off x="6588000" y="476280"/>
            <a:ext cx="2135160" cy="30812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12" name="Picture 6" descr="13"/>
          <p:cNvPicPr/>
          <p:nvPr/>
        </p:nvPicPr>
        <p:blipFill>
          <a:blip r:embed="rId2"/>
          <a:stretch/>
        </p:blipFill>
        <p:spPr>
          <a:xfrm>
            <a:off x="324000" y="3557520"/>
            <a:ext cx="2226960" cy="31593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p:transition spd="slow" advTm="6000">
    <p:plus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3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2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" nodeType="after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20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08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13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3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1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1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23" nodeType="after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4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227" nodeType="afterEffect" fill="hold" presetClass="exit" presetID="7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8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519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беждает сильнейший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43196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тот, кто быстрее и без ошибок научится принимать, передавать и подавать мяч, кто лучше изучит правила игр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15"/>
          <p:cNvPicPr/>
          <p:nvPr/>
        </p:nvPicPr>
        <p:blipFill>
          <a:blip r:embed="rId1"/>
          <a:stretch/>
        </p:blipFill>
        <p:spPr>
          <a:xfrm>
            <a:off x="5292720" y="1557360"/>
            <a:ext cx="2959200" cy="4968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 advTm="30000">
    <p:strips dir="ru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4600"/>
                            </p:stCondLst>
                            <p:childTnLst>
                              <p:par>
                                <p:cTn id="250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7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06:00:13Z</dcterms:created>
  <dc:creator>Admin</dc:creator>
  <dc:description/>
  <cp:keywords/>
  <dc:language>en-US</dc:language>
  <cp:lastModifiedBy>SauderPA</cp:lastModifiedBy>
  <dcterms:modified xsi:type="dcterms:W3CDTF">2013-12-04T08:51:00Z</dcterms:modified>
  <cp:revision>2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083911049</vt:lpwstr>
  </property>
</Properties>
</file>