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3C4-BB40-4223-A2B9-C670EA48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168-CCC4-44F8-8004-9FB534C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85D-C113-4E22-99BA-785D39B9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B0F-B9B0-495A-9A6B-97FCE2FF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0E33-1DF1-468F-ABC4-2969130B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B686-0E04-45DB-A641-3C4A93B9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66FF-0567-4CFA-8830-694DD135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93A-3400-4384-AA2F-4CD6758C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8AD8-BF9E-4380-812E-32D3A56E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B15-A307-447D-B766-7CB87AF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4C5-6635-4598-9936-EF3DB7B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0DA-D9C6-4C1A-ABD5-A1C3710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94C-FB12-4605-A722-90C2A62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9B9B-4AF6-41ED-8ADF-80BDFA7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4287-EAD3-40E2-BC71-0BC01EF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E4CD-DBCB-4B87-8EA4-3C36490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635-137A-4B64-AEAE-A37685E1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997-DEB8-488F-A028-562B36C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3D0-2D12-4630-8516-8675D1A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264-A4B5-4250-97A8-2484E73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115-14E4-4900-9CE9-DFC11F7E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F03-A76A-4E0E-ABA4-407BBA1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92D-8688-48CB-90B6-1213DC4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FE1-C9A9-4D5D-8C7E-7C88DBF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80E-E4A4-4D04-BA7A-D77EAF3A3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039-B974-4976-9F96-98967D56622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волейбол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амых маленьких Федерация волейбола рекомендует игру по упрощенным правилам, очень похожую на игру для взрослых и назван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 - волейбол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NN08_14.MP3" descr=""/>
          <p:cNvPicPr/>
          <p:nvPr/>
        </p:nvPicPr>
        <p:blipFill>
          <a:blip r:embed="rId1"/>
          <a:stretch/>
        </p:blipFill>
        <p:spPr>
          <a:xfrm>
            <a:off x="3524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99763"/>
          <p:cNvPicPr/>
          <p:nvPr/>
        </p:nvPicPr>
        <p:blipFill>
          <a:blip r:embed="rId2"/>
          <a:stretch/>
        </p:blipFill>
        <p:spPr>
          <a:xfrm>
            <a:off x="324000" y="4869000"/>
            <a:ext cx="2050920" cy="16891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3419640" y="4653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Выполнил</a:t>
            </a: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рдов Виктор Васи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учитель физической культур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340080" y="6357960"/>
            <a:ext cx="27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Челябинск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000" y="2420640"/>
            <a:ext cx="8351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5"/>
          <p:cNvPicPr/>
          <p:nvPr/>
        </p:nvPicPr>
        <p:blipFill>
          <a:blip r:embed="rId1"/>
          <a:stretch/>
        </p:blipFill>
        <p:spPr>
          <a:xfrm>
            <a:off x="5003640" y="4724280"/>
            <a:ext cx="3848400" cy="1828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9" name="Picture 5" descr="1"/>
          <p:cNvPicPr/>
          <p:nvPr/>
        </p:nvPicPr>
        <p:blipFill>
          <a:blip r:embed="rId2"/>
          <a:stretch/>
        </p:blipFill>
        <p:spPr>
          <a:xfrm>
            <a:off x="5003640" y="1773360"/>
            <a:ext cx="3780000" cy="207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ачала  о  правилах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в мини волейбол проводят среди мальчиков и девочек 7-8  и 9-10 лет раздельно. Играть в него могут и школьники более старше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команды по 6 игроков располагаются по площадке длиной 12 м и шириной 9 м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Михей и Джуманджи - Туд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2"/>
          <p:cNvPicPr/>
          <p:nvPr/>
        </p:nvPicPr>
        <p:blipFill>
          <a:blip r:embed="rId1"/>
          <a:stretch/>
        </p:blipFill>
        <p:spPr>
          <a:xfrm>
            <a:off x="539640" y="189000"/>
            <a:ext cx="282600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4292280"/>
            <a:ext cx="6459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т волейбольным мячом, вес которого не должен превышать 270 г,  а окружность 66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083120" y="1268280"/>
            <a:ext cx="511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ейбольная сетка закрепляется между двумя стойками на высоте 2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3"/>
          <p:cNvPicPr/>
          <p:nvPr/>
        </p:nvPicPr>
        <p:blipFill>
          <a:blip r:embed="rId2"/>
          <a:stretch/>
        </p:blipFill>
        <p:spPr>
          <a:xfrm>
            <a:off x="6875640" y="3933720"/>
            <a:ext cx="1869840" cy="280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7"/>
          <p:cNvPicPr/>
          <p:nvPr/>
        </p:nvPicPr>
        <p:blipFill>
          <a:blip r:embed="rId1"/>
          <a:stretch/>
        </p:blipFill>
        <p:spPr>
          <a:xfrm>
            <a:off x="6516720" y="1916280"/>
            <a:ext cx="2401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8" name="Picture 5" descr="6"/>
          <p:cNvPicPr/>
          <p:nvPr/>
        </p:nvPicPr>
        <p:blipFill>
          <a:blip r:embed="rId2"/>
          <a:stretch/>
        </p:blipFill>
        <p:spPr>
          <a:xfrm>
            <a:off x="250920" y="2276640"/>
            <a:ext cx="236376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84000" y="1844640"/>
            <a:ext cx="388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началом игры капитаны команд по жребию выбирают подачу или площадку. Если одна команда выбрала право на подачу в первой партии, то в начале второй партии подает другая коман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50920" y="260280"/>
            <a:ext cx="6014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авать  с  линии  не разрешается</a:t>
            </a:r>
            <a:r>
              <a:rPr b="0" lang="ru-RU" sz="2400" spc="-1" strike="noStrike">
                <a:solidFill>
                  <a:srgbClr val="cc9900"/>
                </a:solidFill>
                <a:latin typeface="Niagara Soli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4859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подачи мяча через сетку одной из команд. Игроки противоположной команды принимают и разыгрывают мяч, посылая его через сет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получившая право на подачу, должна произвести смену мест игроков из зоны в зону по направлению движения часовой стрелки. Мяч вводит в игру волейболист, вышедший на подачу</a:t>
            </a:r>
            <a:r>
              <a:rPr b="1" i="1" lang="ru-RU" sz="2800" spc="-1" strike="noStrike">
                <a:solidFill>
                  <a:srgbClr val="ffffff"/>
                </a:solidFill>
                <a:latin typeface="Niagara Soli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9"/>
          <p:cNvPicPr/>
          <p:nvPr/>
        </p:nvPicPr>
        <p:blipFill>
          <a:blip r:embed="rId1"/>
          <a:stretch/>
        </p:blipFill>
        <p:spPr>
          <a:xfrm>
            <a:off x="5867280" y="189000"/>
            <a:ext cx="2160720" cy="32400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03" name="Picture 9" descr="8"/>
          <p:cNvPicPr/>
          <p:nvPr/>
        </p:nvPicPr>
        <p:blipFill>
          <a:blip r:embed="rId2"/>
          <a:stretch/>
        </p:blipFill>
        <p:spPr>
          <a:xfrm>
            <a:off x="5867280" y="3716280"/>
            <a:ext cx="2173320" cy="2881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 spd="slow" advTm="5000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7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419640" y="115560"/>
            <a:ext cx="547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рекаться с судьями и оспаривать из решения на разрешается. Игрок удаленный судьей, не возвращается в игру до конца мат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ждой команде разрешается произвести не более трех ударов, поочередно выполненных игроками, и перебить мяч на сторону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сопер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1"/>
          <p:cNvPicPr/>
          <p:nvPr/>
        </p:nvPicPr>
        <p:blipFill>
          <a:blip r:embed="rId1"/>
          <a:stretch/>
        </p:blipFill>
        <p:spPr>
          <a:xfrm>
            <a:off x="250920" y="4516560"/>
            <a:ext cx="5041800" cy="2328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5" descr="10"/>
          <p:cNvPicPr/>
          <p:nvPr/>
        </p:nvPicPr>
        <p:blipFill>
          <a:blip r:embed="rId2"/>
          <a:stretch/>
        </p:blipFill>
        <p:spPr>
          <a:xfrm>
            <a:off x="208080" y="189000"/>
            <a:ext cx="2563560" cy="382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4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"/>
          <p:cNvPicPr/>
          <p:nvPr/>
        </p:nvPicPr>
        <p:blipFill>
          <a:blip r:embed="rId1"/>
          <a:stretch/>
        </p:blipFill>
        <p:spPr>
          <a:xfrm>
            <a:off x="5364000" y="907920"/>
            <a:ext cx="3529080" cy="575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9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касания мяча подряд одним игроком считается ошибкой (кроме блокирования). Касание мяча одновременно двумя игроками засчитывается за два уда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есколькими игроками при блокировании считается как один удар. После этого блокировавшие имеют право на второе касание мяча. Игрокам задней линии запрещается выполнять нападающие удары у сетки и блокировать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90640" y="3733920"/>
            <a:ext cx="5111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 время игры возникает необходимость посоветоваться, то с разрешения судьи, когда мяч находиться вне игры, в каждой партии можно взять не более двух перерывов ( по 30  секунд кажд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28440"/>
            <a:ext cx="5256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а стороне соперника и сетки рукой во время игры считается ошибкой. Разрешается переносить руки над сеткой и касаться мяча только при блокировании, когда соперник выполняет нападающий уд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14"/>
          <p:cNvPicPr/>
          <p:nvPr/>
        </p:nvPicPr>
        <p:blipFill>
          <a:blip r:embed="rId1"/>
          <a:stretch/>
        </p:blipFill>
        <p:spPr>
          <a:xfrm>
            <a:off x="6588000" y="476280"/>
            <a:ext cx="2135160" cy="3081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Picture 6" descr="13"/>
          <p:cNvPicPr/>
          <p:nvPr/>
        </p:nvPicPr>
        <p:blipFill>
          <a:blip r:embed="rId2"/>
          <a:stretch/>
        </p:blipFill>
        <p:spPr>
          <a:xfrm>
            <a:off x="324000" y="3557520"/>
            <a:ext cx="2226960" cy="3159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 advTm="6000">
    <p:plus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3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519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ждает сильнейши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1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тот, кто быстрее и без ошибок научится принимать, передавать и подавать мяч, кто лучше изучит правила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5"/>
          <p:cNvPicPr/>
          <p:nvPr/>
        </p:nvPicPr>
        <p:blipFill>
          <a:blip r:embed="rId1"/>
          <a:stretch/>
        </p:blipFill>
        <p:spPr>
          <a:xfrm>
            <a:off x="5292720" y="1557360"/>
            <a:ext cx="2959200" cy="49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30000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6:00:13Z</dcterms:created>
  <dc:creator>Admin</dc:creator>
  <dc:description/>
  <cp:keywords/>
  <dc:language>en-US</dc:language>
  <cp:lastModifiedBy>SauderPA</cp:lastModifiedBy>
  <dcterms:modified xsi:type="dcterms:W3CDTF">2013-12-04T08:51:00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3911049</vt:lpwstr>
  </property>
</Properties>
</file>