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1C8-A7C6-4FB3-9EC3-1F6AA8DA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4A2-C7FA-4E1E-99CF-55BE3AAC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214-19EE-4BB9-B8FB-C769018D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E66-ACCF-4958-86DE-67CFEA51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090E-B39D-460A-A17A-1A88553B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8762-56FE-42F5-8596-4F5C8D21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A6AE-458F-4DE8-B76B-492A8AD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AFC-FAA9-473E-9C3A-2555C317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E06F-ECEE-4B09-BAE7-7BB46AF4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FC91-30F1-4815-A184-9BD6F9AC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5E5-A81B-4249-84A8-034705A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DC2-0FF4-42A9-A2E0-B3EB30AD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C9AC-B558-475A-A627-E3ADA66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BF54-7BA3-4710-B8FB-26A0BA1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3F1F-188C-4972-A663-C5F5D33A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10C-EE43-45E3-9C22-9A39B465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2828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10840"/>
            <a:ext cx="2782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B54-5E78-4255-BB6F-FE6A9D48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865-42BA-4558-A95D-6F43A9F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9BB-528B-465B-9E07-3789884B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B2D-94A3-4A0C-84F8-EEA3F09E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DE7-5047-4753-9A3E-5D0A3AF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72D-5465-4F68-B715-E38522C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1084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8BE-5567-4432-B922-83AFC54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28280"/>
            <a:ext cx="42170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10840"/>
            <a:ext cx="8642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D61-94C7-4C43-8A8D-E39399D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F287-6CFF-459C-A320-1240A3EC8D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e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b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45EF-1784-430C-BB1B-D7D3E48CAB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solidFill>
            <a:srgbClr val="000000">
              <a:alpha val="4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-волейбол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амых маленьких Федерация волейбола рекомендует игру по упрощенным правилам, очень похожую на игру для взрослых и назван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ни - волейбол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NN08_14.MP3" descr=""/>
          <p:cNvPicPr/>
          <p:nvPr/>
        </p:nvPicPr>
        <p:blipFill>
          <a:blip r:embed="rId1"/>
          <a:stretch/>
        </p:blipFill>
        <p:spPr>
          <a:xfrm>
            <a:off x="352440" y="40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99763"/>
          <p:cNvPicPr/>
          <p:nvPr/>
        </p:nvPicPr>
        <p:blipFill>
          <a:blip r:embed="rId2"/>
          <a:stretch/>
        </p:blipFill>
        <p:spPr>
          <a:xfrm>
            <a:off x="324000" y="4869000"/>
            <a:ext cx="2050920" cy="16891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3419640" y="4653000"/>
            <a:ext cx="55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Выполнил</a:t>
            </a: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ордов Виктор Васи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учитель физической культур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340080" y="6357960"/>
            <a:ext cx="27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Челябинск 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68000" y="2420640"/>
            <a:ext cx="8351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5"/>
          <p:cNvPicPr/>
          <p:nvPr/>
        </p:nvPicPr>
        <p:blipFill>
          <a:blip r:embed="rId1"/>
          <a:stretch/>
        </p:blipFill>
        <p:spPr>
          <a:xfrm>
            <a:off x="5003640" y="4724280"/>
            <a:ext cx="3848400" cy="1828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9" name="Picture 5" descr="1"/>
          <p:cNvPicPr/>
          <p:nvPr/>
        </p:nvPicPr>
        <p:blipFill>
          <a:blip r:embed="rId2"/>
          <a:stretch/>
        </p:blipFill>
        <p:spPr>
          <a:xfrm>
            <a:off x="5003640" y="1773360"/>
            <a:ext cx="3780000" cy="2079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ачала  о  правилах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ы в мини волейбол проводят среди мальчиков и девочек 7-8  и 9-10 лет раздельно. Играть в него могут и школьники более старше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команды по 6 игроков располагаются по площадке длиной 12 м и шириной 9 м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Михей и Джуманджи - Туд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2"/>
          <p:cNvPicPr/>
          <p:nvPr/>
        </p:nvPicPr>
        <p:blipFill>
          <a:blip r:embed="rId1"/>
          <a:stretch/>
        </p:blipFill>
        <p:spPr>
          <a:xfrm>
            <a:off x="539640" y="189000"/>
            <a:ext cx="282600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4292280"/>
            <a:ext cx="64594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ют волейбольным мячом, вес которого не должен превышать 270 г,  а окружность 66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083120" y="1268280"/>
            <a:ext cx="511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ейбольная сетка закрепляется между двумя стойками на высоте 2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2" descr="3"/>
          <p:cNvPicPr/>
          <p:nvPr/>
        </p:nvPicPr>
        <p:blipFill>
          <a:blip r:embed="rId2"/>
          <a:stretch/>
        </p:blipFill>
        <p:spPr>
          <a:xfrm>
            <a:off x="6875640" y="3933720"/>
            <a:ext cx="1869840" cy="280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comb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7"/>
          <p:cNvPicPr/>
          <p:nvPr/>
        </p:nvPicPr>
        <p:blipFill>
          <a:blip r:embed="rId1"/>
          <a:stretch/>
        </p:blipFill>
        <p:spPr>
          <a:xfrm>
            <a:off x="6516720" y="1916280"/>
            <a:ext cx="240192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98" name="Picture 5" descr="6"/>
          <p:cNvPicPr/>
          <p:nvPr/>
        </p:nvPicPr>
        <p:blipFill>
          <a:blip r:embed="rId2"/>
          <a:stretch/>
        </p:blipFill>
        <p:spPr>
          <a:xfrm>
            <a:off x="250920" y="2276640"/>
            <a:ext cx="2363760" cy="3671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484000" y="1844640"/>
            <a:ext cx="388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началом игры капитаны команд по жребию выбирают подачу или площадку. Если одна команда выбрала право на подачу в первой партии, то в начале второй партии подает другая коман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50920" y="260280"/>
            <a:ext cx="6014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авать  с  линии  не разрешается</a:t>
            </a:r>
            <a:r>
              <a:rPr b="0" lang="ru-RU" sz="2400" spc="-1" strike="noStrike">
                <a:solidFill>
                  <a:srgbClr val="cc9900"/>
                </a:solidFill>
                <a:latin typeface="Niagara Soli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4859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подачи мяча через сетку одной из команд. Игроки противоположной команды принимают и разыгрывают мяч, посылая его через сет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получившая право на подачу, должна произвести смену мест игроков из зоны в зону по направлению движения часовой стрелки. Мяч вводит в игру волейболист, вышедший на подачу</a:t>
            </a:r>
            <a:r>
              <a:rPr b="1" i="1" lang="ru-RU" sz="2800" spc="-1" strike="noStrike">
                <a:solidFill>
                  <a:srgbClr val="ffffff"/>
                </a:solidFill>
                <a:latin typeface="Niagara Soli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9"/>
          <p:cNvPicPr/>
          <p:nvPr/>
        </p:nvPicPr>
        <p:blipFill>
          <a:blip r:embed="rId1"/>
          <a:stretch/>
        </p:blipFill>
        <p:spPr>
          <a:xfrm>
            <a:off x="5867280" y="189000"/>
            <a:ext cx="2160720" cy="32400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03" name="Picture 9" descr="8"/>
          <p:cNvPicPr/>
          <p:nvPr/>
        </p:nvPicPr>
        <p:blipFill>
          <a:blip r:embed="rId2"/>
          <a:stretch/>
        </p:blipFill>
        <p:spPr>
          <a:xfrm>
            <a:off x="5867280" y="3716280"/>
            <a:ext cx="2173320" cy="2881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p:transition spd="slow" advTm="5000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7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7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419640" y="115560"/>
            <a:ext cx="5473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рекаться с судьями и оспаривать из решения на разрешается. Игрок удаленный судьей, не возвращается в игру до конца мат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ждой команде разрешается произвести не более трех ударов, поочередно выполненных игроками, и перебить мяч на сторону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сопер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1"/>
          <p:cNvPicPr/>
          <p:nvPr/>
        </p:nvPicPr>
        <p:blipFill>
          <a:blip r:embed="rId1"/>
          <a:stretch/>
        </p:blipFill>
        <p:spPr>
          <a:xfrm>
            <a:off x="250920" y="4516560"/>
            <a:ext cx="5041800" cy="2328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5" descr="10"/>
          <p:cNvPicPr/>
          <p:nvPr/>
        </p:nvPicPr>
        <p:blipFill>
          <a:blip r:embed="rId2"/>
          <a:stretch/>
        </p:blipFill>
        <p:spPr>
          <a:xfrm>
            <a:off x="208080" y="189000"/>
            <a:ext cx="2563560" cy="3827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6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4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"/>
          <p:cNvPicPr/>
          <p:nvPr/>
        </p:nvPicPr>
        <p:blipFill>
          <a:blip r:embed="rId1"/>
          <a:stretch/>
        </p:blipFill>
        <p:spPr>
          <a:xfrm>
            <a:off x="5364000" y="907920"/>
            <a:ext cx="3529080" cy="5759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496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касания мяча подряд одним игроком считается ошибкой (кроме блокирования). Касание мяча одновременно двумя игроками засчитывается за два уда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есколькими игроками при блокировании считается как один удар. После этого блокировавшие имеют право на второе касание мяча. Игрокам задней линии запрещается выполнять нападающие удары у сетки и блокировать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590640" y="3733920"/>
            <a:ext cx="5111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 время игры возникает необходимость посоветоваться, то с разрешения судьи, когда мяч находиться вне игры, в каждой партии можно взять не более двух перерывов ( по 30  секунд кажд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28440"/>
            <a:ext cx="5256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ание мяча на стороне соперника и сетки рукой во время игры считается ошибкой. Разрешается переносить руки над сеткой и касаться мяча только при блокировании, когда соперник выполняет нападающий уд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0e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14"/>
          <p:cNvPicPr/>
          <p:nvPr/>
        </p:nvPicPr>
        <p:blipFill>
          <a:blip r:embed="rId1"/>
          <a:stretch/>
        </p:blipFill>
        <p:spPr>
          <a:xfrm>
            <a:off x="6588000" y="476280"/>
            <a:ext cx="2135160" cy="3081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2" name="Picture 6" descr="13"/>
          <p:cNvPicPr/>
          <p:nvPr/>
        </p:nvPicPr>
        <p:blipFill>
          <a:blip r:embed="rId2"/>
          <a:stretch/>
        </p:blipFill>
        <p:spPr>
          <a:xfrm>
            <a:off x="324000" y="3557520"/>
            <a:ext cx="2226960" cy="3159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spd="slow" advTm="6000">
    <p:plus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3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7" nodeType="afterEffect" fill="hold" presetClass="exit" presetID="7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519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еждает сильнейши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1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тот, кто быстрее и без ошибок научится принимать, передавать и подавать мяч, кто лучше изучит правила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15"/>
          <p:cNvPicPr/>
          <p:nvPr/>
        </p:nvPicPr>
        <p:blipFill>
          <a:blip r:embed="rId1"/>
          <a:stretch/>
        </p:blipFill>
        <p:spPr>
          <a:xfrm>
            <a:off x="5292720" y="1557360"/>
            <a:ext cx="2959200" cy="49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 advTm="30000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250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6:00:13Z</dcterms:created>
  <dc:creator>Admin</dc:creator>
  <dc:description/>
  <cp:keywords/>
  <dc:language>en-US</dc:language>
  <cp:lastModifiedBy>SauderPA</cp:lastModifiedBy>
  <dcterms:modified xsi:type="dcterms:W3CDTF">2013-12-04T08:51:00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3911049</vt:lpwstr>
  </property>
</Properties>
</file>