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7E6-0DD2-4B8F-9869-5096B323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823-1054-4C04-8B1D-5D43317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198-6CFE-4770-A84F-2B115DD7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83D-E82D-43E1-8D25-A0099963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5472-0A0B-4216-B6A9-2FDDB204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58F0-95D9-4544-9BF5-2F9F55F0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C46D-62E5-41C5-A88A-06F71C9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30F0-EF5C-430B-B29D-46DCF32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98E0-D4F5-4CB0-B849-C222B91C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17B0-31BF-4B0C-964B-5A602B1E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636E-0866-4EBD-9AFF-7F59BD56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FE9-4103-4F64-9FCA-B676ABAF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F26A-4E22-4491-AA56-6CC7C51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DD3A-0DA0-4FCF-B558-502A6A4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34E8-3BC3-4A7F-9972-1559A24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7D0D-FB24-41AE-96DC-C36F05E4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A473-CBE3-45A3-A765-A655B19D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430-8A5B-48CE-893A-2B2D7A32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8A6-527B-4905-AE0F-0C50506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D3E-E889-48CD-A23D-8BFF656E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5B1-D217-402C-9363-E5AF9ACE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45D-E1DA-4276-B318-CEC508E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F02-51F3-4D25-8384-5156B081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E1E-C8D9-4666-890D-BCC24962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1BBB-3BBF-4D9B-BBD4-85E9AA1C20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9D6C-B33F-4218-83CE-CC593EFAD3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Механические преобразования граф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имметрия относительно оси 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280" y="1197000"/>
            <a:ext cx="0" cy="36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34304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4720" y="1125360"/>
            <a:ext cx="3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1080" y="3357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59400" y="3068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2060640"/>
            <a:ext cx="3745080" cy="2388960"/>
          </a:xfrm>
          <a:custGeom>
            <a:avLst/>
            <a:gdLst/>
            <a:ahLst/>
            <a:rect l="l" t="t" r="r" b="b"/>
            <a:pathLst>
              <a:path w="2359" h="1505">
                <a:moveTo>
                  <a:pt x="0" y="597"/>
                </a:moveTo>
                <a:cubicBezTo>
                  <a:pt x="211" y="298"/>
                  <a:pt x="423" y="0"/>
                  <a:pt x="635" y="8"/>
                </a:cubicBezTo>
                <a:cubicBezTo>
                  <a:pt x="847" y="16"/>
                  <a:pt x="1067" y="613"/>
                  <a:pt x="1271" y="643"/>
                </a:cubicBezTo>
                <a:cubicBezTo>
                  <a:pt x="1475" y="673"/>
                  <a:pt x="1679" y="45"/>
                  <a:pt x="1860" y="189"/>
                </a:cubicBezTo>
                <a:cubicBezTo>
                  <a:pt x="2041" y="333"/>
                  <a:pt x="2276" y="1286"/>
                  <a:pt x="2359" y="150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20920" y="2143080"/>
            <a:ext cx="3860640" cy="2130480"/>
          </a:xfrm>
          <a:custGeom>
            <a:avLst/>
            <a:gdLst/>
            <a:ahLst/>
            <a:rect l="l" t="t" r="r" b="b"/>
            <a:pathLst>
              <a:path w="2432" h="1342">
                <a:moveTo>
                  <a:pt x="2432" y="538"/>
                </a:moveTo>
                <a:cubicBezTo>
                  <a:pt x="2324" y="451"/>
                  <a:pt x="2001" y="9"/>
                  <a:pt x="1783" y="16"/>
                </a:cubicBezTo>
                <a:cubicBezTo>
                  <a:pt x="1565" y="23"/>
                  <a:pt x="1321" y="565"/>
                  <a:pt x="1125" y="583"/>
                </a:cubicBezTo>
                <a:cubicBezTo>
                  <a:pt x="929" y="601"/>
                  <a:pt x="791" y="0"/>
                  <a:pt x="604" y="126"/>
                </a:cubicBezTo>
                <a:cubicBezTo>
                  <a:pt x="417" y="252"/>
                  <a:pt x="126" y="1089"/>
                  <a:pt x="0" y="134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476280"/>
            <a:ext cx="751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y=f(-x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x-n)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&gt;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&lt;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нос вдоль оси 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476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8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0.16944 2.77457E-006 E">
                                      <p:cBhvr>
                                        <p:cTn id="2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x)+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g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l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 вдоль оси 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640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0.00399 -0.14682 E">
                                      <p:cBhvr>
                                        <p:cTn id="7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-0.00382 0.14682 E">
                                      <p:cBhvr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x-n)+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f(x-5)+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476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9600" y="385452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 2  3  4  5  6 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50400" y="380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4520" y="2708280"/>
            <a:ext cx="340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5.55556E-007 -0.06844 C 5.55556E-007 -0.09896 0.03368 -0.13619 0.06111 -0.13619 L 0.12222 -0.13619 E">
                                      <p:cBhvr>
                                        <p:cTn id="13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530064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тображение в верхнюю полуплоскость части графика, расположенной в нижней полуплоско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040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f(x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6160" y="765000"/>
            <a:ext cx="4040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lf(x)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68360" y="155700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8720" y="3284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9440" y="2637000"/>
            <a:ext cx="1511280" cy="1223640"/>
          </a:xfrm>
          <a:custGeom>
            <a:avLst/>
            <a:gdLst/>
            <a:ahLst/>
            <a:rect l="l" t="t" r="r" b="b"/>
            <a:pathLst>
              <a:path w="952" h="771">
                <a:moveTo>
                  <a:pt x="0" y="0"/>
                </a:moveTo>
                <a:cubicBezTo>
                  <a:pt x="147" y="385"/>
                  <a:pt x="294" y="771"/>
                  <a:pt x="453" y="771"/>
                </a:cubicBezTo>
                <a:cubicBezTo>
                  <a:pt x="612" y="771"/>
                  <a:pt x="782" y="385"/>
                  <a:pt x="9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08720" y="169992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1800" y="3357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9800" y="2637000"/>
            <a:ext cx="1511280" cy="723600"/>
          </a:xfrm>
          <a:custGeom>
            <a:avLst/>
            <a:gdLst/>
            <a:ahLst/>
            <a:rect l="l" t="t" r="r" b="b"/>
            <a:pathLst>
              <a:path w="952" h="456">
                <a:moveTo>
                  <a:pt x="0" y="0"/>
                </a:moveTo>
                <a:cubicBezTo>
                  <a:pt x="28" y="73"/>
                  <a:pt x="90" y="418"/>
                  <a:pt x="166" y="437"/>
                </a:cubicBezTo>
                <a:cubicBezTo>
                  <a:pt x="242" y="456"/>
                  <a:pt x="364" y="117"/>
                  <a:pt x="458" y="117"/>
                </a:cubicBezTo>
                <a:cubicBezTo>
                  <a:pt x="552" y="117"/>
                  <a:pt x="651" y="456"/>
                  <a:pt x="733" y="437"/>
                </a:cubicBezTo>
                <a:cubicBezTo>
                  <a:pt x="815" y="418"/>
                  <a:pt x="916" y="73"/>
                  <a:pt x="9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5120" y="14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89120" y="33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5936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148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69120" y="337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108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тображение в левую полуплоскость части графика, расположенной в правой полуплоско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f(lx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00720" y="155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85264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557360"/>
            <a:ext cx="2881440" cy="2663640"/>
          </a:xfrm>
          <a:custGeom>
            <a:avLst/>
            <a:gdLst/>
            <a:ahLst/>
            <a:rect l="l" t="t" r="r" b="b"/>
            <a:pathLst>
              <a:path w="1815" h="1678">
                <a:moveTo>
                  <a:pt x="1815" y="0"/>
                </a:moveTo>
                <a:cubicBezTo>
                  <a:pt x="1716" y="404"/>
                  <a:pt x="1618" y="809"/>
                  <a:pt x="1452" y="953"/>
                </a:cubicBezTo>
                <a:cubicBezTo>
                  <a:pt x="1286" y="1097"/>
                  <a:pt x="1059" y="741"/>
                  <a:pt x="817" y="862"/>
                </a:cubicBezTo>
                <a:cubicBezTo>
                  <a:pt x="575" y="983"/>
                  <a:pt x="144" y="1542"/>
                  <a:pt x="0" y="16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344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8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54720" y="280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97080" y="1528920"/>
            <a:ext cx="2770200" cy="1752480"/>
          </a:xfrm>
          <a:custGeom>
            <a:avLst/>
            <a:gdLst/>
            <a:ahLst/>
            <a:rect l="l" t="t" r="r" b="b"/>
            <a:pathLst>
              <a:path w="1745" h="1104">
                <a:moveTo>
                  <a:pt x="0" y="0"/>
                </a:moveTo>
                <a:cubicBezTo>
                  <a:pt x="59" y="160"/>
                  <a:pt x="187" y="822"/>
                  <a:pt x="332" y="963"/>
                </a:cubicBezTo>
                <a:cubicBezTo>
                  <a:pt x="477" y="1104"/>
                  <a:pt x="689" y="844"/>
                  <a:pt x="868" y="844"/>
                </a:cubicBezTo>
                <a:cubicBezTo>
                  <a:pt x="1047" y="844"/>
                  <a:pt x="1259" y="1101"/>
                  <a:pt x="1405" y="963"/>
                </a:cubicBezTo>
                <a:cubicBezTo>
                  <a:pt x="1551" y="825"/>
                  <a:pt x="1674" y="215"/>
                  <a:pt x="1745" y="1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kx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&lt;k&l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&g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306864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11280" y="2491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9520" y="3468600"/>
            <a:ext cx="3948120" cy="1490760"/>
          </a:xfrm>
          <a:custGeom>
            <a:avLst/>
            <a:gdLst/>
            <a:ahLst/>
            <a:rect l="l" t="t" r="r" b="b"/>
            <a:pathLst>
              <a:path w="2487" h="939">
                <a:moveTo>
                  <a:pt x="2487" y="73"/>
                </a:moveTo>
                <a:cubicBezTo>
                  <a:pt x="2275" y="220"/>
                  <a:pt x="1631" y="939"/>
                  <a:pt x="1217" y="927"/>
                </a:cubicBezTo>
                <a:cubicBezTo>
                  <a:pt x="803" y="915"/>
                  <a:pt x="254" y="193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14972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92428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32720" y="234756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68960" y="2859120"/>
            <a:ext cx="1160640" cy="1949400"/>
          </a:xfrm>
          <a:custGeom>
            <a:avLst/>
            <a:gdLst/>
            <a:ahLst/>
            <a:rect l="l" t="t" r="r" b="b"/>
            <a:pathLst>
              <a:path w="731" h="1228">
                <a:moveTo>
                  <a:pt x="731" y="46"/>
                </a:moveTo>
                <a:cubicBezTo>
                  <a:pt x="668" y="246"/>
                  <a:pt x="477" y="1228"/>
                  <a:pt x="355" y="1220"/>
                </a:cubicBezTo>
                <a:cubicBezTo>
                  <a:pt x="233" y="1212"/>
                  <a:pt x="74" y="254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0804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0" y="40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0228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076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604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028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kf(x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&g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&lt;k&l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99736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11280" y="2420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22360" y="2395440"/>
            <a:ext cx="2133720" cy="3586320"/>
          </a:xfrm>
          <a:custGeom>
            <a:avLst/>
            <a:gdLst/>
            <a:ahLst/>
            <a:rect l="l" t="t" r="r" b="b"/>
            <a:pathLst>
              <a:path w="1344" h="2259">
                <a:moveTo>
                  <a:pt x="1344" y="18"/>
                </a:moveTo>
                <a:cubicBezTo>
                  <a:pt x="1308" y="193"/>
                  <a:pt x="1250" y="724"/>
                  <a:pt x="1125" y="1097"/>
                </a:cubicBezTo>
                <a:cubicBezTo>
                  <a:pt x="1000" y="1470"/>
                  <a:pt x="759" y="2259"/>
                  <a:pt x="594" y="2258"/>
                </a:cubicBezTo>
                <a:cubicBezTo>
                  <a:pt x="429" y="2257"/>
                  <a:pt x="236" y="1464"/>
                  <a:pt x="137" y="1088"/>
                </a:cubicBezTo>
                <a:cubicBezTo>
                  <a:pt x="38" y="712"/>
                  <a:pt x="29" y="22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925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732720" y="2349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43560" y="3657600"/>
            <a:ext cx="2583000" cy="696960"/>
          </a:xfrm>
          <a:custGeom>
            <a:avLst/>
            <a:gdLst/>
            <a:ahLst/>
            <a:rect l="l" t="t" r="r" b="b"/>
            <a:pathLst>
              <a:path w="1627" h="439">
                <a:moveTo>
                  <a:pt x="1627" y="0"/>
                </a:moveTo>
                <a:cubicBezTo>
                  <a:pt x="1569" y="50"/>
                  <a:pt x="1417" y="247"/>
                  <a:pt x="1280" y="320"/>
                </a:cubicBezTo>
                <a:cubicBezTo>
                  <a:pt x="1143" y="393"/>
                  <a:pt x="952" y="439"/>
                  <a:pt x="804" y="439"/>
                </a:cubicBezTo>
                <a:cubicBezTo>
                  <a:pt x="656" y="439"/>
                  <a:pt x="527" y="393"/>
                  <a:pt x="393" y="320"/>
                </a:cubicBezTo>
                <a:cubicBezTo>
                  <a:pt x="259" y="247"/>
                  <a:pt x="82" y="6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414972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149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804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0228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368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640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312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2336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508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имметрия относительно оси 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f(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071880" y="1969920"/>
            <a:ext cx="2808360" cy="187200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40240" y="139356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32280" y="2046240"/>
            <a:ext cx="2830320" cy="1963800"/>
          </a:xfrm>
          <a:custGeom>
            <a:avLst/>
            <a:gdLst/>
            <a:ahLst/>
            <a:rect l="l" t="t" r="r" b="b"/>
            <a:pathLst>
              <a:path w="1783" h="1237">
                <a:moveTo>
                  <a:pt x="1783" y="1210"/>
                </a:moveTo>
                <a:cubicBezTo>
                  <a:pt x="1728" y="1108"/>
                  <a:pt x="1600" y="780"/>
                  <a:pt x="1454" y="579"/>
                </a:cubicBezTo>
                <a:cubicBezTo>
                  <a:pt x="1308" y="378"/>
                  <a:pt x="1088" y="0"/>
                  <a:pt x="905" y="3"/>
                </a:cubicBezTo>
                <a:cubicBezTo>
                  <a:pt x="722" y="6"/>
                  <a:pt x="508" y="391"/>
                  <a:pt x="357" y="597"/>
                </a:cubicBezTo>
                <a:cubicBezTo>
                  <a:pt x="206" y="803"/>
                  <a:pt x="74" y="1104"/>
                  <a:pt x="0" y="123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00240" y="297828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392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8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7664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6:59:52Z</dcterms:created>
  <dc:creator>Натуська</dc:creator>
  <dc:description/>
  <dc:language>en-US</dc:language>
  <cp:lastModifiedBy>Saf</cp:lastModifiedBy>
  <dcterms:modified xsi:type="dcterms:W3CDTF">2008-01-20T09:00:02Z</dcterms:modified>
  <cp:revision>16</cp:revision>
  <dc:subject/>
  <dc:title>Слайд 1</dc:title>
</cp:coreProperties>
</file>