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834D-7E38-4EC6-93AB-89BA0D28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567-3FD3-4586-8C27-2B11D05E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ACC-D6CF-42C4-950B-925B3BD3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29D-269D-4346-B7EE-82B200ED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76C9-0954-492D-8500-3BEFB71C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C535-2007-402B-A45C-48B89F22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EA30-68CA-47D9-8ACC-C8289440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00E2-5F66-4A85-ADD3-17DA1C77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170C-3C04-4635-B596-3D3FEF61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E86E-18F1-419B-BA96-4FDC7342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4CEF-732E-4537-BAD5-92E4D669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6DD-5007-4F17-85B2-EB15A3D1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D4BB-0FDD-41C9-9AC8-5A6FE7DB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BD65-53C6-4E1B-90AE-70B86654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61CF-0D61-425B-89B3-52E66749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B376-7A77-49FD-9C36-1D4C5D0A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EEF0-4A4F-431F-97CB-3829FDFA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658-2253-4B02-838C-676BA58F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DD1-C5CB-4492-8AB0-1C85B339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B73-5CC4-4856-AA30-34226F39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5E5-A13C-464B-8993-D977A58B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E32-1DE6-40B4-B0D1-3E1AE492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0AFF-848F-4FBB-9131-2C5C4256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2FC-4A3E-4522-8A4F-1380D391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B6C2-0B5D-4809-AED1-4B3152786E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730D-2F9C-4AC8-9415-8FB5C98A27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Механические преобразования граф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30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имметрия относительно оси У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280" y="1197000"/>
            <a:ext cx="0" cy="367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6000" y="34304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4720" y="1125360"/>
            <a:ext cx="3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61080" y="3357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59400" y="3068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2060640"/>
            <a:ext cx="3745080" cy="2388960"/>
          </a:xfrm>
          <a:custGeom>
            <a:avLst/>
            <a:gdLst/>
            <a:ahLst/>
            <a:rect l="l" t="t" r="r" b="b"/>
            <a:pathLst>
              <a:path w="2359" h="1505">
                <a:moveTo>
                  <a:pt x="0" y="597"/>
                </a:moveTo>
                <a:cubicBezTo>
                  <a:pt x="211" y="298"/>
                  <a:pt x="423" y="0"/>
                  <a:pt x="635" y="8"/>
                </a:cubicBezTo>
                <a:cubicBezTo>
                  <a:pt x="847" y="16"/>
                  <a:pt x="1067" y="613"/>
                  <a:pt x="1271" y="643"/>
                </a:cubicBezTo>
                <a:cubicBezTo>
                  <a:pt x="1475" y="673"/>
                  <a:pt x="1679" y="45"/>
                  <a:pt x="1860" y="189"/>
                </a:cubicBezTo>
                <a:cubicBezTo>
                  <a:pt x="2041" y="333"/>
                  <a:pt x="2276" y="1286"/>
                  <a:pt x="2359" y="150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20920" y="2143080"/>
            <a:ext cx="3860640" cy="2130480"/>
          </a:xfrm>
          <a:custGeom>
            <a:avLst/>
            <a:gdLst/>
            <a:ahLst/>
            <a:rect l="l" t="t" r="r" b="b"/>
            <a:pathLst>
              <a:path w="2432" h="1342">
                <a:moveTo>
                  <a:pt x="2432" y="538"/>
                </a:moveTo>
                <a:cubicBezTo>
                  <a:pt x="2324" y="451"/>
                  <a:pt x="2001" y="9"/>
                  <a:pt x="1783" y="16"/>
                </a:cubicBezTo>
                <a:cubicBezTo>
                  <a:pt x="1565" y="23"/>
                  <a:pt x="1321" y="565"/>
                  <a:pt x="1125" y="583"/>
                </a:cubicBezTo>
                <a:cubicBezTo>
                  <a:pt x="929" y="601"/>
                  <a:pt x="791" y="0"/>
                  <a:pt x="604" y="126"/>
                </a:cubicBezTo>
                <a:cubicBezTo>
                  <a:pt x="417" y="252"/>
                  <a:pt x="126" y="1089"/>
                  <a:pt x="0" y="134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476280"/>
            <a:ext cx="751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y=f(-x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=f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x-n)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&gt;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&lt;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нос вдоль оси 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414972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572000" y="2565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236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476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0840" y="3860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457E-006 L 0.16944 2.77457E-006 E">
                                      <p:cBhvr>
                                        <p:cTn id="2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8,22,-68)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8,22,-68)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=f(x)+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&gt;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&lt;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нос вдоль оси 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414972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572000" y="2565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36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640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3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457E-006 L 0.00399 -0.14682 E">
                                      <p:cBhvr>
                                        <p:cTn id="7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8,22,-68)"/>
                                      </p:to>
                                    </p:set>
                                    <p:set>
                                      <p:cBhvr>
                                        <p:cTn id="82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457E-006 L -0.00382 0.14682 E">
                                      <p:cBhvr>
                                        <p:cTn id="9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8,22,-68)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=f(x-n)+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f(x-5)+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414972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572000" y="2565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3141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36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476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9600" y="3854520"/>
            <a:ext cx="14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 2  3  4  5  6  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50400" y="3803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4520" y="2708280"/>
            <a:ext cx="340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457E-006 L 5.55556E-007 -0.06844 C 5.55556E-007 -0.09896 0.03368 -0.13619 0.06111 -0.13619 L 0.12222 -0.13619 E">
                                      <p:cBhvr>
                                        <p:cTn id="13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8,22,-68)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530064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отображение в верхнюю полуплоскость части графика, расположенной в нижней полуплоскост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4040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=f(x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6160" y="765000"/>
            <a:ext cx="40402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=lf(x)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268360" y="1557000"/>
            <a:ext cx="0" cy="26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8720" y="3284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49440" y="2637000"/>
            <a:ext cx="1511280" cy="1223640"/>
          </a:xfrm>
          <a:custGeom>
            <a:avLst/>
            <a:gdLst/>
            <a:ahLst/>
            <a:rect l="l" t="t" r="r" b="b"/>
            <a:pathLst>
              <a:path w="952" h="771">
                <a:moveTo>
                  <a:pt x="0" y="0"/>
                </a:moveTo>
                <a:cubicBezTo>
                  <a:pt x="147" y="385"/>
                  <a:pt x="294" y="771"/>
                  <a:pt x="453" y="771"/>
                </a:cubicBezTo>
                <a:cubicBezTo>
                  <a:pt x="612" y="771"/>
                  <a:pt x="782" y="385"/>
                  <a:pt x="95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308720" y="1699920"/>
            <a:ext cx="0" cy="26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1800" y="335772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89800" y="2637000"/>
            <a:ext cx="1511280" cy="723600"/>
          </a:xfrm>
          <a:custGeom>
            <a:avLst/>
            <a:gdLst/>
            <a:ahLst/>
            <a:rect l="l" t="t" r="r" b="b"/>
            <a:pathLst>
              <a:path w="952" h="456">
                <a:moveTo>
                  <a:pt x="0" y="0"/>
                </a:moveTo>
                <a:cubicBezTo>
                  <a:pt x="28" y="73"/>
                  <a:pt x="90" y="418"/>
                  <a:pt x="166" y="437"/>
                </a:cubicBezTo>
                <a:cubicBezTo>
                  <a:pt x="242" y="456"/>
                  <a:pt x="364" y="117"/>
                  <a:pt x="458" y="117"/>
                </a:cubicBezTo>
                <a:cubicBezTo>
                  <a:pt x="552" y="117"/>
                  <a:pt x="651" y="456"/>
                  <a:pt x="733" y="437"/>
                </a:cubicBezTo>
                <a:cubicBezTo>
                  <a:pt x="815" y="418"/>
                  <a:pt x="916" y="73"/>
                  <a:pt x="95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5120" y="1432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89120" y="330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5936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1484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69120" y="3376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1088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Отображение в левую полуплоскость части графика, расположенной в правой полуплоскост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f(lx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500720" y="155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85264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1557360"/>
            <a:ext cx="2881440" cy="2663640"/>
          </a:xfrm>
          <a:custGeom>
            <a:avLst/>
            <a:gdLst/>
            <a:ahLst/>
            <a:rect l="l" t="t" r="r" b="b"/>
            <a:pathLst>
              <a:path w="1815" h="1678">
                <a:moveTo>
                  <a:pt x="1815" y="0"/>
                </a:moveTo>
                <a:cubicBezTo>
                  <a:pt x="1716" y="404"/>
                  <a:pt x="1618" y="809"/>
                  <a:pt x="1452" y="953"/>
                </a:cubicBezTo>
                <a:cubicBezTo>
                  <a:pt x="1286" y="1097"/>
                  <a:pt x="1059" y="741"/>
                  <a:pt x="817" y="862"/>
                </a:cubicBezTo>
                <a:cubicBezTo>
                  <a:pt x="575" y="983"/>
                  <a:pt x="144" y="1542"/>
                  <a:pt x="0" y="16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3440" y="14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380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54720" y="2801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97080" y="1528920"/>
            <a:ext cx="2770200" cy="1752480"/>
          </a:xfrm>
          <a:custGeom>
            <a:avLst/>
            <a:gdLst/>
            <a:ahLst/>
            <a:rect l="l" t="t" r="r" b="b"/>
            <a:pathLst>
              <a:path w="1745" h="1104">
                <a:moveTo>
                  <a:pt x="0" y="0"/>
                </a:moveTo>
                <a:cubicBezTo>
                  <a:pt x="59" y="160"/>
                  <a:pt x="187" y="822"/>
                  <a:pt x="332" y="963"/>
                </a:cubicBezTo>
                <a:cubicBezTo>
                  <a:pt x="477" y="1104"/>
                  <a:pt x="689" y="844"/>
                  <a:pt x="868" y="844"/>
                </a:cubicBezTo>
                <a:cubicBezTo>
                  <a:pt x="1047" y="844"/>
                  <a:pt x="1259" y="1101"/>
                  <a:pt x="1405" y="963"/>
                </a:cubicBezTo>
                <a:cubicBezTo>
                  <a:pt x="1551" y="825"/>
                  <a:pt x="1674" y="215"/>
                  <a:pt x="1745" y="1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=f(kx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3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&lt;k&lt;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&gt;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306864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411280" y="249192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9520" y="3468600"/>
            <a:ext cx="3948120" cy="1490760"/>
          </a:xfrm>
          <a:custGeom>
            <a:avLst/>
            <a:gdLst/>
            <a:ahLst/>
            <a:rect l="l" t="t" r="r" b="b"/>
            <a:pathLst>
              <a:path w="2487" h="939">
                <a:moveTo>
                  <a:pt x="2487" y="73"/>
                </a:moveTo>
                <a:cubicBezTo>
                  <a:pt x="2275" y="220"/>
                  <a:pt x="1631" y="939"/>
                  <a:pt x="1217" y="927"/>
                </a:cubicBezTo>
                <a:cubicBezTo>
                  <a:pt x="803" y="915"/>
                  <a:pt x="254" y="193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4149720"/>
            <a:ext cx="331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0" y="292428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732720" y="234756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68960" y="2859120"/>
            <a:ext cx="1160640" cy="1949400"/>
          </a:xfrm>
          <a:custGeom>
            <a:avLst/>
            <a:gdLst/>
            <a:ahLst/>
            <a:rect l="l" t="t" r="r" b="b"/>
            <a:pathLst>
              <a:path w="731" h="1228">
                <a:moveTo>
                  <a:pt x="731" y="46"/>
                </a:moveTo>
                <a:cubicBezTo>
                  <a:pt x="668" y="246"/>
                  <a:pt x="477" y="1228"/>
                  <a:pt x="355" y="1220"/>
                </a:cubicBezTo>
                <a:cubicBezTo>
                  <a:pt x="233" y="1212"/>
                  <a:pt x="74" y="254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4149720"/>
            <a:ext cx="30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08040" y="236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0" y="402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0228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00760" y="222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9604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5028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=kf(x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&gt;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&lt;k&lt;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299736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411280" y="242064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22360" y="2395440"/>
            <a:ext cx="2133720" cy="3586320"/>
          </a:xfrm>
          <a:custGeom>
            <a:avLst/>
            <a:gdLst/>
            <a:ahLst/>
            <a:rect l="l" t="t" r="r" b="b"/>
            <a:pathLst>
              <a:path w="1344" h="2259">
                <a:moveTo>
                  <a:pt x="1344" y="18"/>
                </a:moveTo>
                <a:cubicBezTo>
                  <a:pt x="1308" y="193"/>
                  <a:pt x="1250" y="724"/>
                  <a:pt x="1125" y="1097"/>
                </a:cubicBezTo>
                <a:cubicBezTo>
                  <a:pt x="1000" y="1470"/>
                  <a:pt x="759" y="2259"/>
                  <a:pt x="594" y="2258"/>
                </a:cubicBezTo>
                <a:cubicBezTo>
                  <a:pt x="429" y="2257"/>
                  <a:pt x="236" y="1464"/>
                  <a:pt x="137" y="1088"/>
                </a:cubicBezTo>
                <a:cubicBezTo>
                  <a:pt x="38" y="712"/>
                  <a:pt x="29" y="227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2925720"/>
            <a:ext cx="2808360" cy="187164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732720" y="2349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43560" y="3657600"/>
            <a:ext cx="2583000" cy="696960"/>
          </a:xfrm>
          <a:custGeom>
            <a:avLst/>
            <a:gdLst/>
            <a:ahLst/>
            <a:rect l="l" t="t" r="r" b="b"/>
            <a:pathLst>
              <a:path w="1627" h="439">
                <a:moveTo>
                  <a:pt x="1627" y="0"/>
                </a:moveTo>
                <a:cubicBezTo>
                  <a:pt x="1569" y="50"/>
                  <a:pt x="1417" y="247"/>
                  <a:pt x="1280" y="320"/>
                </a:cubicBezTo>
                <a:cubicBezTo>
                  <a:pt x="1143" y="393"/>
                  <a:pt x="952" y="439"/>
                  <a:pt x="804" y="439"/>
                </a:cubicBezTo>
                <a:cubicBezTo>
                  <a:pt x="656" y="439"/>
                  <a:pt x="527" y="393"/>
                  <a:pt x="393" y="320"/>
                </a:cubicBezTo>
                <a:cubicBezTo>
                  <a:pt x="259" y="247"/>
                  <a:pt x="82" y="67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414972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414972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08040" y="222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02280" y="37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0368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6400" y="222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5312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23360" y="38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508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имметрия относительно оси 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f(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071880" y="1969920"/>
            <a:ext cx="2808360" cy="1872000"/>
          </a:xfrm>
          <a:custGeom>
            <a:avLst/>
            <a:gdLst/>
            <a:ahLst/>
            <a:rect l="l" t="t" r="r" b="b"/>
            <a:pathLst>
              <a:path w="1769" h="1179">
                <a:moveTo>
                  <a:pt x="1769" y="0"/>
                </a:moveTo>
                <a:cubicBezTo>
                  <a:pt x="1463" y="589"/>
                  <a:pt x="1157" y="1179"/>
                  <a:pt x="862" y="1179"/>
                </a:cubicBezTo>
                <a:cubicBezTo>
                  <a:pt x="567" y="1179"/>
                  <a:pt x="283" y="58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440240" y="139356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32280" y="2046240"/>
            <a:ext cx="2830320" cy="1963800"/>
          </a:xfrm>
          <a:custGeom>
            <a:avLst/>
            <a:gdLst/>
            <a:ahLst/>
            <a:rect l="l" t="t" r="r" b="b"/>
            <a:pathLst>
              <a:path w="1783" h="1237">
                <a:moveTo>
                  <a:pt x="1783" y="1210"/>
                </a:moveTo>
                <a:cubicBezTo>
                  <a:pt x="1728" y="1108"/>
                  <a:pt x="1600" y="780"/>
                  <a:pt x="1454" y="579"/>
                </a:cubicBezTo>
                <a:cubicBezTo>
                  <a:pt x="1308" y="378"/>
                  <a:pt x="1088" y="0"/>
                  <a:pt x="905" y="3"/>
                </a:cubicBezTo>
                <a:cubicBezTo>
                  <a:pt x="722" y="6"/>
                  <a:pt x="508" y="391"/>
                  <a:pt x="357" y="597"/>
                </a:cubicBezTo>
                <a:cubicBezTo>
                  <a:pt x="206" y="803"/>
                  <a:pt x="74" y="1104"/>
                  <a:pt x="0" y="123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00240" y="297828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63920" y="134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5816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76640" y="299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16:59:52Z</dcterms:created>
  <dc:creator>Натуська</dc:creator>
  <dc:description/>
  <dc:language>en-US</dc:language>
  <cp:lastModifiedBy>Saf</cp:lastModifiedBy>
  <dcterms:modified xsi:type="dcterms:W3CDTF">2008-01-20T09:00:02Z</dcterms:modified>
  <cp:revision>16</cp:revision>
  <dc:subject/>
  <dc:title>Слайд 1</dc:title>
</cp:coreProperties>
</file>