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2D6-C09E-49D4-9FAA-2EF86CA8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967-5298-4F63-8036-5AE87250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223-A835-4DCB-9858-4776ED37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05A-47AA-4349-B401-EB5A083A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686-D60B-4AF3-B1A7-2C312869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381-F5A9-457A-A01B-0B0DA1A4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2DD-2E55-4151-838B-58BB4BAC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923-C611-4CBD-95BA-CDD2C547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F26-82F4-4087-A34B-987E22D9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7A9-8D3C-44EA-B589-B96BA381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1C6-13D0-4774-8C6B-A8A6240E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141-30CF-4E9C-B97F-F7B7D212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04F4-6E44-497A-98A4-639A453FA9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e5ffff"/>
                </a:solidFill>
                <a:uFillTx/>
                <a:latin typeface="Tahoma"/>
              </a:rPr>
              <a:t>Правила пользования утюг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Для учащихся 7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Предмет – социально-бытовая ориентир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Учитель – М.А. Расул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«Берёзовская СКОШ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8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Утюг поставь вертикальн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14" descr="j0234266"/>
          <p:cNvPicPr/>
          <p:nvPr/>
        </p:nvPicPr>
        <p:blipFill>
          <a:blip r:embed="rId1"/>
          <a:stretch/>
        </p:blipFill>
        <p:spPr>
          <a:xfrm rot="5400000">
            <a:off x="3780360" y="3643920"/>
            <a:ext cx="23194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27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Включай вилку в розетку сухими рукам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j0302953"/>
          <p:cNvPicPr/>
          <p:nvPr/>
        </p:nvPicPr>
        <p:blipFill>
          <a:blip r:embed="rId1"/>
          <a:stretch/>
        </p:blipFill>
        <p:spPr>
          <a:xfrm>
            <a:off x="3267000" y="2421000"/>
            <a:ext cx="2610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Поставь терморегулятор по виду ткан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лопок или лён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ерсть или шёлк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тетика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4. Приготовь кипячёную воду для увлажнения тка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пульверизатор или налей воду в водоналивное отверстие утюг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j0293828"/>
          <p:cNvPicPr/>
          <p:nvPr/>
        </p:nvPicPr>
        <p:blipFill>
          <a:blip r:embed="rId1"/>
          <a:stretch/>
        </p:blipFill>
        <p:spPr>
          <a:xfrm>
            <a:off x="2556000" y="3429000"/>
            <a:ext cx="352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380520"/>
            <a:ext cx="8497800" cy="405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Чтобы не испортить вещь,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роверь нагретый утюг на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 изнаночной стороне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4" descr="j0336075"/>
          <p:cNvPicPr/>
          <p:nvPr/>
        </p:nvPicPr>
        <p:blipFill>
          <a:blip r:embed="rId1"/>
          <a:stretch/>
        </p:blipFill>
        <p:spPr>
          <a:xfrm>
            <a:off x="2700360" y="4221000"/>
            <a:ext cx="3600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е оставляй включенный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тюг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ез присмотр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j0286034"/>
          <p:cNvPicPr/>
          <p:nvPr/>
        </p:nvPicPr>
        <p:blipFill>
          <a:blip r:embed="rId1"/>
          <a:stretch/>
        </p:blipFill>
        <p:spPr>
          <a:xfrm>
            <a:off x="2411280" y="4005360"/>
            <a:ext cx="3745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кончив утюжку,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- выключи вилку из розетки,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- вылей воду и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- оставь утюг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о полного остывания на подставк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бери утюг на место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4" descr="j0234266"/>
          <p:cNvPicPr/>
          <p:nvPr/>
        </p:nvPicPr>
        <p:blipFill>
          <a:blip r:embed="rId1"/>
          <a:stretch/>
        </p:blipFill>
        <p:spPr>
          <a:xfrm>
            <a:off x="2627280" y="3068640"/>
            <a:ext cx="4105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6:34:05Z</dcterms:created>
  <dc:creator>1</dc:creator>
  <dc:description/>
  <dc:language>en-US</dc:language>
  <cp:lastModifiedBy>Samsung</cp:lastModifiedBy>
  <dcterms:modified xsi:type="dcterms:W3CDTF">2011-10-04T17:40:12Z</dcterms:modified>
  <cp:revision>3</cp:revision>
  <dc:subject/>
  <dc:title>Правила пользования утюгом</dc:title>
</cp:coreProperties>
</file>