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10D-1629-4A58-85D4-05F7AC8A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BA1-D398-468A-9177-798CC06B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86E-1007-4568-82C8-6B274E29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CA7-22C5-416B-B355-B113BF4F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9FE-764F-473D-B78B-6DF1E16C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2ED6-6FF9-4B41-B46F-6087DCAA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CEA-11E4-44E3-835B-796F9467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903-A370-41F1-AF20-DA73000A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2EE-0370-4B5D-9BBC-B9469407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FC5-07A3-419B-80D5-34447F2B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296-310F-4F78-9C47-F7DBCF2B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7AC-359E-40C1-8090-03ADC1B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FF9D-D58C-484D-BCBC-A274679FC0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e5ffff"/>
                </a:solidFill>
                <a:uFillTx/>
                <a:latin typeface="Tahoma"/>
              </a:rPr>
              <a:t>Правила пользования утюг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Для учащихся 7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Предмет – социально-бытовая ориентир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Учитель – М.А. Расул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ahoma"/>
              </a:rPr>
              <a:t>«Берёзовская СКОШ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8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Утюг поставь вертикальн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14" descr="j0234266"/>
          <p:cNvPicPr/>
          <p:nvPr/>
        </p:nvPicPr>
        <p:blipFill>
          <a:blip r:embed="rId1"/>
          <a:stretch/>
        </p:blipFill>
        <p:spPr>
          <a:xfrm rot="5400000">
            <a:off x="3780360" y="3643920"/>
            <a:ext cx="23194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27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Включай вилку в розетку сухими рукам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85228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j0302953"/>
          <p:cNvPicPr/>
          <p:nvPr/>
        </p:nvPicPr>
        <p:blipFill>
          <a:blip r:embed="rId1"/>
          <a:stretch/>
        </p:blipFill>
        <p:spPr>
          <a:xfrm>
            <a:off x="3267000" y="2421000"/>
            <a:ext cx="2610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Поставь терморегулятор по виду ткан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лопок или лён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ерсть или шёлк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тетика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4. Приготовь кипячёную воду для увлажнения тка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пульверизатор или налей воду в водоналивное отверстие утюг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j0293828"/>
          <p:cNvPicPr/>
          <p:nvPr/>
        </p:nvPicPr>
        <p:blipFill>
          <a:blip r:embed="rId1"/>
          <a:stretch/>
        </p:blipFill>
        <p:spPr>
          <a:xfrm>
            <a:off x="2556000" y="3429000"/>
            <a:ext cx="35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380520"/>
            <a:ext cx="8497800" cy="405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Чтобы не испортить вещь,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роверь нагретый утюг на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изнаночной стороне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4" descr="j0336075"/>
          <p:cNvPicPr/>
          <p:nvPr/>
        </p:nvPicPr>
        <p:blipFill>
          <a:blip r:embed="rId1"/>
          <a:stretch/>
        </p:blipFill>
        <p:spPr>
          <a:xfrm>
            <a:off x="2700360" y="4221000"/>
            <a:ext cx="3600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е оставляй включенный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тюг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ез присмот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j0286034"/>
          <p:cNvPicPr/>
          <p:nvPr/>
        </p:nvPicPr>
        <p:blipFill>
          <a:blip r:embed="rId1"/>
          <a:stretch/>
        </p:blipFill>
        <p:spPr>
          <a:xfrm>
            <a:off x="2411280" y="4005360"/>
            <a:ext cx="37450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9152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кончив утюжку,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 выключи вилку из розетки,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 вылей воду и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 оставь утюг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о полного остывания на подставк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бери утюг на место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4" descr="j0234266"/>
          <p:cNvPicPr/>
          <p:nvPr/>
        </p:nvPicPr>
        <p:blipFill>
          <a:blip r:embed="rId1"/>
          <a:stretch/>
        </p:blipFill>
        <p:spPr>
          <a:xfrm>
            <a:off x="2627280" y="3068640"/>
            <a:ext cx="4105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6:34:05Z</dcterms:created>
  <dc:creator>1</dc:creator>
  <dc:description/>
  <dc:language>en-US</dc:language>
  <cp:lastModifiedBy>Samsung</cp:lastModifiedBy>
  <dcterms:modified xsi:type="dcterms:W3CDTF">2011-10-04T17:40:12Z</dcterms:modified>
  <cp:revision>3</cp:revision>
  <dc:subject/>
  <dc:title>Правила пользования утюгом</dc:title>
</cp:coreProperties>
</file>