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45B-7F8D-4EDE-8298-294583C6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15B-6CE0-4700-A5DD-9789E2F2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C71-4AAC-4AD4-93E9-A6883394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02F-9EE2-46BD-A218-1B5DC2B6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F1F-AC2B-4EF0-98EA-A7CF669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CEF-5384-408E-A569-F6FB0813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706-E20A-434A-931D-A4FB9CA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91F-350F-4367-A0C5-FA9E1F7C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B75-C3CA-406D-B68E-B4E587B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7B1-20B5-4DD5-918E-F212EED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0EA-9DF3-43B8-B965-FFAA362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E98-030E-43AE-BF17-60691FFF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93F7-B598-404A-BEAB-0328774D93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5ffff"/>
                </a:solidFill>
                <a:uFillTx/>
                <a:latin typeface="Tahoma"/>
              </a:rPr>
              <a:t>Правила пользования утюг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Для учащихся 7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Предмет – социально-бытовая ориенти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Учитель – М.А. Расул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«Берёзовская СКОШ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8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Утюг поставь вертикальн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14" descr="j0234266"/>
          <p:cNvPicPr/>
          <p:nvPr/>
        </p:nvPicPr>
        <p:blipFill>
          <a:blip r:embed="rId1"/>
          <a:stretch/>
        </p:blipFill>
        <p:spPr>
          <a:xfrm rot="5400000">
            <a:off x="3780360" y="3643920"/>
            <a:ext cx="23194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7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Включай вилку в розетку сухими рукам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j0302953"/>
          <p:cNvPicPr/>
          <p:nvPr/>
        </p:nvPicPr>
        <p:blipFill>
          <a:blip r:embed="rId1"/>
          <a:stretch/>
        </p:blipFill>
        <p:spPr>
          <a:xfrm>
            <a:off x="3267000" y="2421000"/>
            <a:ext cx="261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Поставь терморегулятор по виду ткан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лопок или лён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ерсть или шёлк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етика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4. Приготовь кипячёную воду для увлажнения тка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пульверизатор или налей воду в водоналивное отверстие утюг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j0293828"/>
          <p:cNvPicPr/>
          <p:nvPr/>
        </p:nvPicPr>
        <p:blipFill>
          <a:blip r:embed="rId1"/>
          <a:stretch/>
        </p:blipFill>
        <p:spPr>
          <a:xfrm>
            <a:off x="2556000" y="3429000"/>
            <a:ext cx="35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380520"/>
            <a:ext cx="8497800" cy="40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Чтобы не испортить вещь,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роверь нагретый утюг на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изнаночной стороне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j0336075"/>
          <p:cNvPicPr/>
          <p:nvPr/>
        </p:nvPicPr>
        <p:blipFill>
          <a:blip r:embed="rId1"/>
          <a:stretch/>
        </p:blipFill>
        <p:spPr>
          <a:xfrm>
            <a:off x="2700360" y="4221000"/>
            <a:ext cx="3600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е оставляй включенный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тюг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ез присмот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j0286034"/>
          <p:cNvPicPr/>
          <p:nvPr/>
        </p:nvPicPr>
        <p:blipFill>
          <a:blip r:embed="rId1"/>
          <a:stretch/>
        </p:blipFill>
        <p:spPr>
          <a:xfrm>
            <a:off x="2411280" y="4005360"/>
            <a:ext cx="3745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кончив утюжку,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выключи вилку из розетки,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вылей воду и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оставь утюг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 полного остывания на подставк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бери утюг на место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j0234266"/>
          <p:cNvPicPr/>
          <p:nvPr/>
        </p:nvPicPr>
        <p:blipFill>
          <a:blip r:embed="rId1"/>
          <a:stretch/>
        </p:blipFill>
        <p:spPr>
          <a:xfrm>
            <a:off x="2627280" y="3068640"/>
            <a:ext cx="4105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6:34:05Z</dcterms:created>
  <dc:creator>1</dc:creator>
  <dc:description/>
  <dc:language>en-US</dc:language>
  <cp:lastModifiedBy>Samsung</cp:lastModifiedBy>
  <dcterms:modified xsi:type="dcterms:W3CDTF">2011-10-04T17:40:12Z</dcterms:modified>
  <cp:revision>3</cp:revision>
  <dc:subject/>
  <dc:title>Правила пользования утюгом</dc:title>
</cp:coreProperties>
</file>