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4929-9717-4C73-AF90-41FA6FF8E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E2CF-41E6-46DB-938F-61FA2FA50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71FE-E71D-4F0D-BC8D-F806C0384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768F-62B5-4B89-9D9E-33A9CBFA5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8CAA7-485E-4B32-B14A-82C3C800C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47BF3-3A27-4154-8B50-13414FDB5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26047-B5C0-458F-99CA-FB30D6C23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E536C-48E1-49FB-A0A6-B3F663055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EA201-BA0A-49E7-8218-D268769CE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917B6-1B82-4AB9-BA38-718C25CC3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87137-8ABC-4A57-A4FD-E130A9E6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40D2-FED4-410F-8AEF-0BA196D8B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6F449-A2CB-45BE-8D52-9CE7A8F6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C24B1-A9B6-46DC-BC4C-6EEC4665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4ECC3-E743-464F-B671-98731A444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37A96-0A03-4B1F-A6CD-F80854E37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D166E-6522-4246-A2EE-9045D8130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7338-76D6-4F57-A7BE-F05C4E1DF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770D-92D3-4584-B8AB-DA9551B59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24EF-30F0-4219-B1D4-7FCA64846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9EEB-859E-4D40-A7D6-50D8DB63E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790A-8B42-401F-B2E2-3AB47C998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6D5E-FA0C-4613-95DD-45340A76D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E8A9-05C5-4126-A83E-51DC7A5B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1E450-44A1-480A-89D6-AD8C4B51E6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C423F-EF90-485E-AC16-239EC036DB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Rockwell"/>
              </a:rPr>
              <a:t>Государственное бюджетное учреждение социального обслуживания населения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Rockwell"/>
              </a:rPr>
              <a:t>Свердловской области «Комплексный центр социального обслуживания населения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Rockwell"/>
              </a:rPr>
              <a:t>города Каменска – Уральского»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2057400"/>
            <a:ext cx="6400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Script MT Bold"/>
              </a:rPr>
              <a:t>Система контроля качества работы структурных подразделений Цент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Script MT Bold"/>
              </a:rPr>
              <a:t>201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Script MT Bold"/>
              </a:rPr>
              <a:t>Контроль заведующими качества услуг оказываемых социальными работниками клиентам отделения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5105520" y="1143000"/>
            <a:ext cx="3733560" cy="5257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Утверждаю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Директор ГОУ СОН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«КЦСОН Каменский»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_________Гапанович И.С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«____»____________2011г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                      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График проверки участка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       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отделения  Мажириной Е.В.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              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на октябрь 2011 года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13.10.2041г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27.10.2014г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Обследование участков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Комаровой А.И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Прокопьевой И.В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1.Обследование материально-бытового положения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2. Проверка качества предоставления соц. Услуг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3.Проверка правильности заполнения рабочих тетрадей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4.Выполнение Этического Кодекса ГОУ КЦОН.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143000"/>
            <a:ext cx="4038480" cy="5562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АК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контроля качества социальных услуг, оказываемых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социальным работником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17.10.2011 года</a:t>
            </a: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зав. отделением Мажириной Е.В. была проведена проверка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участка социального  работника   Прокопьевой И.В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ФИО клиента: Бастракова Л.В.  – Дружбы 2-1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Ушакова С.Н.     -  Репина 63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Цель: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1.Проверка качества предоставления социальных услуг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2.Документальное оформление предоставленных услуг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3.Соблюдение этического кодекса.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Задачи: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1.Проверить качество социальных услуг оказываемых социальным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работником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2. Проверить правильность оформления тетради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3. Выявить, как соблюдается Этический кодекс, при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обслуживании клиентов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В ходе проверки выявлено следующее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1.  Социальный работник Прокопьева И.В. посещает подопечного регулярно.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Услуги, предоставляемые клиенту, оказываются в полном объеме, согласно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заявке.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Выполняются своевременно. Выполняются следующие услуги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-покупка и доставка лекарственных средств,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- содействие в получении льгот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Учитываются все нужды и потребности клиентов для создания нормальных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условий жизни. Отзывы клиентов о качестве обслуживания хорошие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2. Проверена рабочая документация.  Лекарства выписывает и приобретае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в аптеках.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В конце каждой записи имеется подпись клиента. Чеки  прилагаются.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Записи в тетрадях соответствуют актам выполненных работ.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3. При общении с клиентом соблюдается этический кодекс  ГОУ КСОН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Социальный  работник  внимательно выслушивает клиента, не  проявляет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негативных эмоций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Заключение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Прокопьева И.В. предоставляет услуги подопечным качественно,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своевременно</a:t>
            </a: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Решает правовые, бытовые проблемы клиентов для улучшения жизненного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состояния.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Рабочие тетради ведет в соответствии с требованиями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Этический кодекс ГОУ КСОН при обслуживании соблюдается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Замечание социальному работнику: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Замечаний  по социальному обслуживанию нет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17.10.2011г.                        Зав. отделения____________     Мажирина Е.В.       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                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                        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         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Соц. работник   ___________   Прокопьева И.В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14600" y="1752480"/>
            <a:ext cx="4038480" cy="5562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Утверждаю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Директор Государственного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областного учреждения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«Комплексный центр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социального обслуживания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населения» города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Каменска - Уральского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____________________И.С.Гапанович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«____»________________________2011г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ПОЛОЖЕНИЕ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о контроле качества предоставляемых социальных услуг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ГОУ «Комплексный центр социального обслуживания населения»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города Каменска – Уральского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Общие положения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Положение распространяется на социальные услуги,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предоставляемые населению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Государственным областным учреждением социального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обслуживания населения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«Комплексный центр социального обслуживания населения»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города Каменска – Уральского (далее Центр)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Настоящее Положение разработано в соответствии с нормативными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документами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Национальный стандарт Российской Федерации ГОСТ Р 52143 – 2003 –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У «Основные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виды социальных услуг»;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Национальные стандарты Российской Федерации ГОСТ Р 52342 – 2003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«Качество социальных услуг»;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Федеральным законом РФ от 10 декабря 1995 г. № 195 – ФЗ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«Об основах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социального обслуживания населения в Российской Федерации»;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Федеральным законом РФ от 2 августа 1995 г. № 122 – ФЗ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«О социальном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обслуживании граждан пожилого возраста и инвалидов»;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Федеральным законом Российской Федерации от 24 ноября 1995 г.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№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181 – ФЗ «О социальной защите инвалидов в Российской Федерации»;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Законом Свердловской области от 7 марта 2006 г. № 10 –ОЗ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«О социальном обслуживании населения в Свердловской области»;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Постановлением Правительства Свердловской области от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12 декабря 2006 г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Script MT Bold"/>
              </a:rPr>
              <a:t>Контроль за качеством работы заведующих отделениями заместителями директоров центра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Script MT Bold"/>
              </a:rPr>
              <a:t>Проведение оперативных совещаний с заведующими отделениям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Script MT Bold"/>
              </a:rPr>
              <a:t>Участие в комиссии по контролю качеств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Script MT Bold"/>
              </a:rPr>
              <a:t>Выходы на оперативные совещания заведующих с социальными работниками отделен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Script MT Bold"/>
              </a:rPr>
              <a:t>Текущая проверка документации заведующих отделения (Журналы по контролю качества, протоколы оперативных совещаний, акты выполненных работ и др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Script MT Bold"/>
              </a:rPr>
              <a:t>Контроль за качеством работы центра директором </a:t>
            </a:r>
            <a:br>
              <a:rPr sz="2400"/>
            </a:b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Script MT Bold"/>
              </a:rPr>
              <a:t>Проведение общих аппаратных совещаний еженедельно с заведующими отделениями и заместителями директор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Script MT Bold"/>
              </a:rPr>
              <a:t>Изучение и анализ всей стекающейся контрольно – аналитической документац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cript MT Bold"/>
              </a:rPr>
              <a:t>Национальные стандарты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Script MT Bold"/>
              </a:rPr>
              <a:t>Российской Федерации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Script MT Bold"/>
              </a:rPr>
              <a:t>ГОСТР 52497 – 2005 «Социальное обслуживание населения. Система качества учреждений социального обслуживания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Script MT Bold"/>
              </a:rPr>
              <a:t>ГОСТР 52496 – 2005 «Социальное обслуживание насел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Script MT Bold"/>
              </a:rPr>
              <a:t>    </a:t>
            </a:r>
            <a:r>
              <a:rPr b="1" i="1" lang="en-US" sz="2400" spc="-1" strike="noStrike">
                <a:solidFill>
                  <a:srgbClr val="ffffff"/>
                </a:solidFill>
                <a:latin typeface="Script MT Bold"/>
              </a:rPr>
              <a:t>Контроль качества социальных услуг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Script MT Bold"/>
              </a:rPr>
              <a:t>ГОСТР Р 52142 – 2003 «Социальное обслуживание населения. Качество социальных услуг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Script MT Bold"/>
              </a:rPr>
              <a:t>Система качества учреждения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Script MT Bold"/>
              </a:rPr>
              <a:t>Совокупность ресурсов учреждения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Script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Script MT Bold"/>
              </a:rPr>
              <a:t>Материально – технических (оборудование, приборы, аппаратура, мебель и др.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Script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Script MT Bold"/>
              </a:rPr>
              <a:t>Информационных (распространение информации об учреждении и услугах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Script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Script MT Bold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Script MT Bold"/>
              </a:rPr>
              <a:t>Документального оформления (локальные документы, регламентирующие работу структурных подразделений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Script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Script MT Bold"/>
              </a:rPr>
              <a:t>Людских (укомплектованность, профессионализм и компетентность сотрудников, четкое распределение полномочий и ответственности персонала, личная ответственность руководителя, обеспечение личной ответственности каждого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Script MT Bold"/>
              </a:rPr>
              <a:t>Руководство по качеству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990720"/>
            <a:ext cx="3657600" cy="533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тверждаю:                                                                                                                                         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Директор Государственного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областного учреждения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оциального обслуживания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населения «Комплексны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центр социального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обслуживания  населения»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г. Каменск – Уральски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г. Каменска- Уральского                                                                                                                                                           __________И.С.Гапанович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«___»____________2011 г.</a:t>
            </a: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                                 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ahoma"/>
              </a:rPr>
              <a:t>Руководство по качеству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ahoma"/>
              </a:rPr>
              <a:t>Государственного областного учреждения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ahoma"/>
              </a:rPr>
              <a:t>социального обслуживания населения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ahoma"/>
              </a:rPr>
              <a:t>«Комплексный центр социального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900" spc="-1" strike="noStrike">
                <a:solidFill>
                  <a:srgbClr val="000000"/>
                </a:solidFill>
                <a:latin typeface="Tahoma"/>
              </a:rPr>
              <a:t>обслуживания населения»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ahoma"/>
              </a:rPr>
              <a:t>г. Каменска - Уральского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г. Каменск – Уральски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2011 г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990720"/>
            <a:ext cx="3352680" cy="5257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Содержание: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Пояснительная записка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Общее описание системы качества;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3. Политика Центра в области качества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4. Организационная структура Центра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5. Задачи и функции подразделений и служб учреждения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в области качества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6. Сведения о комплекте документов всех уровней,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составляющих нормативно- методическую базу системы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качества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7. Порядок внедрения, функционирования и контроля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системы качества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Script MT Bold"/>
              </a:rPr>
              <a:t>Комиссия по контролю качеств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48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48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Script MT Bold"/>
              </a:rPr>
              <a:t>Председатель комиссии: Кайгородова И.А. – зам. директор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Script MT Bold"/>
              </a:rPr>
              <a:t>Члены комиссии: Камышева Р.В. – зам. директор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Script MT Bold"/>
              </a:rPr>
              <a:t>                               </a:t>
            </a:r>
            <a:r>
              <a:rPr b="1" i="1" lang="ru-RU" sz="1800" spc="-1" strike="noStrike">
                <a:solidFill>
                  <a:srgbClr val="ffffff"/>
                </a:solidFill>
                <a:latin typeface="Script MT Bold"/>
              </a:rPr>
              <a:t>Андреева Т.И. – зав. ОМО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Script MT Bold"/>
              </a:rPr>
              <a:t>                               </a:t>
            </a:r>
            <a:r>
              <a:rPr b="1" i="1" lang="ru-RU" sz="1800" spc="-1" strike="noStrike">
                <a:solidFill>
                  <a:srgbClr val="ffffff"/>
                </a:solidFill>
                <a:latin typeface="Script MT Bold"/>
              </a:rPr>
              <a:t>Бучельникова Т.Н. – главынй бухгалтер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Script MT Bold"/>
              </a:rPr>
              <a:t>                               </a:t>
            </a:r>
            <a:r>
              <a:rPr b="1" i="1" lang="ru-RU" sz="1800" spc="-1" strike="noStrike">
                <a:solidFill>
                  <a:srgbClr val="ffffff"/>
                </a:solidFill>
                <a:latin typeface="Script MT Bold"/>
              </a:rPr>
              <a:t>Загвоздина Л.Н. – экономист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Script MT Bold"/>
              </a:rPr>
              <a:t>В процессе проверки системы качества учреждения комиссия по контролю качества осуществляет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Script MT Bold"/>
              </a:rPr>
              <a:t>- контроль соответствия системы качества требованиям настоящего стандарта и документации на нее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Script MT Bold"/>
              </a:rPr>
              <a:t>- анализ и оценку состояния функционирования системы качества в целом и отдельных ее составных частей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Script MT Bold"/>
              </a:rPr>
              <a:t>- анализ соответствия предоставляемых услуг требованиям нормативных документов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Script MT Bold"/>
              </a:rPr>
              <a:t>- анализ и оценку результатов работы учреждения в области качества услуг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Script MT Bold"/>
              </a:rPr>
              <a:t>- выработку корректирующих действий, направленных на устранение недостатков, выявленных в процессе предоставления услуг, и совершенствование системы качеств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Формы контроля в учрежден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Script MT Bold"/>
              </a:rPr>
              <a:t>Проведение мониторингов результативности работы отделений центра один раз в год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Script MT Bold"/>
              </a:rPr>
              <a:t>Проведение проверки нормативно – правовой документации, регламентирующей работу отделений один раз в год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Script MT Bold"/>
              </a:rPr>
              <a:t>Контроль заведующими качества услуг оказываемых социальными работниками клиентам отделения ежемесячно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Script MT Bold"/>
              </a:rPr>
              <a:t>Контроль за качеством работы заведующих отделениями заместителями директоров центра еженедельно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Script MT Bold"/>
              </a:rPr>
              <a:t>Контроль за качеством работы центра директором ежедневно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14400" y="0"/>
            <a:ext cx="6705720" cy="3505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Утверждаю:               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                                                             </a:t>
            </a: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Директор  Государственного областного                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                                                                                         </a:t>
            </a: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учреждения «Комплексный центр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                                                                               </a:t>
            </a: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социального обслуживания  населения»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                                                                                               </a:t>
            </a: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города Каменска – Уральского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                                                                             </a:t>
            </a: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_______________________И.С.Гапанович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                                                                              </a:t>
            </a: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«_____»________________________2014 г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План работы по контролю качества оказываемых услуг социальными работниками и специалистами Центра на 2014 год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2514600"/>
            <a:ext cx="7543800" cy="41911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№ </a:t>
            </a: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п/п                              Наименование мероприятия                                             Сроки                           Ответственный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1.                Составление руководства по качеству на 2011 год                                январь                              Андреева Т.И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2.               Составление программы мониторинга результативности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работы социально-реабилитационного отделения,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проведение мониторинга и составление отчета.                                     Февраль-март                       Лесунова И.О.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                                                                  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социолог         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3.            Составление программы мониторинга результативности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работы отделения (№3, Каменский район) обслуживания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на дому пожилых людей и инвалидов, проведение мониторинга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и составление отчета.                                                                                Апрель-май                       Лесунова И.О.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                                                                       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социолог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4.            Составление программы мониторинга результативности работы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участковой службы Каменского района, проведение мониторинга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и составление отчета.                                                                                  Июль-август                     Лесунова И.О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                                                                    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социолог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5.            Составление программы мониторинга результативности работы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школы социального работника совместно с психологом, проведение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мониторинга и составление отчета.                                                                   Июнь                           Лесунова И.О.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                                                                   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социолог,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                                                                     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Психолог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                                                                 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Медведева Н.Б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6.           Работа комиссии по контролю качества оказания социальных услуг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социальными работниками в соответствии с планом - графиком.                 В течение всего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                           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периода                        Зам.директора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                                                               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Кайгородова И.А.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                                                                 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Зам.директора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                                                                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Камышева Р.В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                                                           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Зав. ОМОАндреева Т.И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                                                        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ЭкономистЗагвоздина Л.Н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                                                     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Гл. бухгалтерБучельникова Т.Н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7.     Проведение мониторинга качества и доступности предоставления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государственных услуг в учреждениях социального обслуживания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Свердловской области (отчет по обращениям отчет, по опросным листам).   Ежеквартально                 Лесунова И.О. социолог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Script MT Bold"/>
              </a:rPr>
              <a:t>Мониторинги результативности работы структурных подразделений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1371600"/>
            <a:ext cx="3429000" cy="4800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Утверждаю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Директор Государственного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областного учреждения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«Комплексный центр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социального обслуживания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населения» города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Каменска - Уральского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____________________И.С.Гапанович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«____»________________________2014г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Программа мониторинга результативности работы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отделений социального обслуживания на дому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пожилых людей и инвалидов города и Каменского района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                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Составитель: Зав. ОМО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Андреева Т.И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1371600"/>
            <a:ext cx="3429000" cy="4800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План – программа мероприятий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по проведению мониторинга результативности работы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отделений социального обслуживания на дому граждан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пожилого возраста и инвалидов в городе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Каменске – Уральском и Каменском районе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Проанализировать социальные услуги, наиболее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востребованные у клиентов города и Каменского района;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2. Проанализировать количество оказываемых социальных услуг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социальным работником в среднем на одного клиента в городе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и Каменском районе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3. Проанализировать качество оказываемых услуг клиентам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социальными работниками города и Каменского района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4. Проанализировать уровень социально – бытовых условий,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в которых проживают пенсионеры в городе и Каменском районе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Script MT Bold"/>
              </a:rPr>
              <a:t>Проведение проверки нормативно – правовой документации, регламентирующей работу отделений комиссией по контролю качества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228600" y="1219320"/>
            <a:ext cx="4267080" cy="533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УТВЕРЖДАЮ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Директор ГОУ СОН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«КЦСОН Каменский»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_____________ И.С. Гапанович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«____»________________2011 г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График проверок нормативно – правовой документации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заведующих структурных подразделений Центра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2011 год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№ </a:t>
            </a: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п/п    Заведующая отделением    Срок проведения       Примечание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Сергеева Р.К.,Сергеева С.А.          апрель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Голошейкина Н.А.Мажирина Е.В.      Май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Иванчикова Л.В.,Воробьева В.В.      Июнь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Богданова И.П.                           июль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Ковенко М.С.,Шафикова Г.А.            Авгус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Шапошник Е.В.,Шиль Е.Ю.              Сентябрь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Макиенко Ю.В.Назаренко Е.Г.          Октябрь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Перекрестная проверка                   ноябрь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Вопросы к проверке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0000"/>
                </a:solidFill>
                <a:uFillTx/>
                <a:latin typeface="Tahoma"/>
              </a:rPr>
              <a:t>Зав. ОМО Андреева Т.И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Папка с нормативно – правовой документацией, регламентирующая работу Центра;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Папка с нормативно – правовой документацией, регламентирующая работу отделения;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Журнал обращений граждан;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Журнал учета услуг заведующей и специалистов отделения;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10 индивидуальных карт реабилитации;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0000"/>
                </a:solidFill>
                <a:uFillTx/>
                <a:latin typeface="Tahoma"/>
              </a:rPr>
              <a:t>Зам. директора Кайгородова И.А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Журнал оперативных совещаний (обратить внимание на проведение тех. учеб);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10 социальных карт;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Журнал по контролю качества услуг;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Папка с планами и отчетами за 2011 год заведующих и участковых специалистов;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0000"/>
                </a:solidFill>
                <a:uFillTx/>
                <a:latin typeface="Tahoma"/>
              </a:rPr>
              <a:t>Зам. директора Камышева Р.В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10 личных дел;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Информация на 10 клиентов в компьютерной базе данных;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Расчет затрат времени на оказание услуг клиентам одного социального работника;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Алфавитка;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1295280"/>
            <a:ext cx="3733560" cy="5105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Sylfaen"/>
              </a:rPr>
              <a:t>АКТ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800" spc="-1" strike="noStrike">
                <a:solidFill>
                  <a:srgbClr val="000000"/>
                </a:solidFill>
                <a:latin typeface="Sylfaen"/>
              </a:rPr>
              <a:t>проверки нормативно- правовой документации,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Sylfaen"/>
              </a:rPr>
              <a:t>регламентирующей работу отделения социального обслуживания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Sylfaen"/>
              </a:rPr>
              <a:t>на дому заведующей ОСО № 2 Голошейкиной Н.А.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 u="sng">
                <a:solidFill>
                  <a:srgbClr val="000000"/>
                </a:solidFill>
                <a:uFillTx/>
                <a:latin typeface="Sylfaen"/>
              </a:rPr>
              <a:t>Дни проверки</a:t>
            </a:r>
            <a:r>
              <a:rPr b="1" lang="ru-RU" sz="800" spc="-1" strike="noStrike">
                <a:solidFill>
                  <a:srgbClr val="000000"/>
                </a:solidFill>
                <a:latin typeface="Sylfaen"/>
              </a:rPr>
              <a:t>: 31.05. 2011г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Sylfaen"/>
              </a:rPr>
              <a:t> 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 u="sng">
                <a:solidFill>
                  <a:srgbClr val="000000"/>
                </a:solidFill>
                <a:uFillTx/>
                <a:latin typeface="Sylfaen"/>
              </a:rPr>
              <a:t>Цель проверки:</a:t>
            </a:r>
            <a:r>
              <a:rPr b="1" lang="ru-RU" sz="8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Sylfaen"/>
              </a:rPr>
              <a:t>проверить соответствие нормативно - правовой, учетной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Sylfaen"/>
              </a:rPr>
              <a:t>и отчетной документации, регламентирующей работу ОСО Сергеевой Р.К.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Sylfaen"/>
              </a:rPr>
              <a:t>на соответствие требованиям Национальных стандартов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ylfae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Sylfaen"/>
              </a:rPr>
              <a:t>Национальный стандарт Российской Федерации ГОСТ Р 52142- 2003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ylfae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Sylfaen"/>
              </a:rPr>
              <a:t>«Качество социальных услуг»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Sylfaen"/>
              </a:rPr>
              <a:t>2. Национальный стандарт Российской Федерации ГОСТ Р 52143- 2003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Sylfaen"/>
              </a:rPr>
              <a:t>«Основные виды социальных услуг»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 u="sng">
                <a:solidFill>
                  <a:srgbClr val="000000"/>
                </a:solidFill>
                <a:uFillTx/>
                <a:latin typeface="Sylfaen"/>
              </a:rPr>
              <a:t>Задачи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Sylfaen"/>
              </a:rPr>
              <a:t>Проверка нормативно - правовой документации регламентирующей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Sylfaen"/>
              </a:rPr>
              <a:t>работу отделения ОСО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Sylfaen"/>
              </a:rPr>
              <a:t>Проверка учетной и отчетной документации ОСО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0000"/>
                </a:solidFill>
                <a:uFillTx/>
                <a:latin typeface="Sylfaen"/>
              </a:rPr>
              <a:t>Анализ папки с подборкой нормативно- правовой документации,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0000"/>
                </a:solidFill>
                <a:uFillTx/>
                <a:latin typeface="Sylfaen"/>
              </a:rPr>
              <a:t>которая регламентирует работу Центра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Sylfaen"/>
              </a:rPr>
              <a:t>Папка находится в разработке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Sylfaen"/>
              </a:rPr>
              <a:t>2. </a:t>
            </a:r>
            <a:r>
              <a:rPr b="0" lang="ru-RU" sz="800" spc="-1" strike="noStrike" u="sng">
                <a:solidFill>
                  <a:srgbClr val="000000"/>
                </a:solidFill>
                <a:uFillTx/>
                <a:latin typeface="Sylfaen"/>
              </a:rPr>
              <a:t>Имеется папка с нормативно – правовой документацией,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0000"/>
                </a:solidFill>
                <a:uFillTx/>
                <a:latin typeface="Sylfaen"/>
              </a:rPr>
              <a:t>регламентирующая работу отделения (положения, должностные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0000"/>
                </a:solidFill>
                <a:uFillTx/>
                <a:latin typeface="Sylfaen"/>
              </a:rPr>
              <a:t>инструкции, этический кодекс и т.д.)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ylfae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Sylfaen"/>
              </a:rPr>
              <a:t>Положение по отделению, должностные инструкции социальных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ylfae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Sylfaen"/>
              </a:rPr>
              <a:t>работников и заведующей имеются, социальные работники с ними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ylfae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Sylfaen"/>
              </a:rPr>
              <a:t>ознакомлены, имеются подписи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ylfae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Sylfaen"/>
              </a:rPr>
              <a:t>Имеется Положение по контролю качества, Этический кодекс,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ylfae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Sylfaen"/>
              </a:rPr>
              <a:t>Правила внутреннего распорядка, Положение о социальном обслуживании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ylfae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Sylfaen"/>
              </a:rPr>
              <a:t>граждан бригадным методом, Методические рекомендации по составлению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ylfae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Sylfaen"/>
              </a:rPr>
              <a:t>локальных документов…, Нормы времени на оказание социальных услуг,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ylfae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Sylfaen"/>
              </a:rPr>
              <a:t>Положение о порядке и условиях оплаты социальных услуг.. и др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Sylfaen"/>
              </a:rPr>
              <a:t>- имеются все приказы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Sylfaen"/>
              </a:rPr>
              <a:t>Замечаний нет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0000"/>
                </a:solidFill>
                <a:uFillTx/>
                <a:latin typeface="Sylfaen"/>
              </a:rPr>
              <a:t>Анализ учетной и отчетной документации оказываемых услуг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Sylfaen"/>
              </a:rPr>
              <a:t>Учет социальных услуг, оказываемых  заведующей отделением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Sylfaen"/>
              </a:rPr>
              <a:t>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Sylfaen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Sylfaen"/>
              </a:rPr>
              <a:t>- ведется «журнал письменных обращений граждан», «журнал устных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Sylfaen"/>
              </a:rPr>
              <a:t>обращений граждан», «журнал учета социальных услуг заведующей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Sylfaen"/>
              </a:rPr>
              <a:t>отделением»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Sylfaen"/>
              </a:rPr>
              <a:t>Замечаний нет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est</cp:lastModifiedBy>
  <dcterms:modified xsi:type="dcterms:W3CDTF">2005-03-02T01:30:51Z</dcterms:modified>
  <cp:revision>8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