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55C-1229-4676-AD98-8514F83F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489-9DAB-40F1-8117-F0943EDC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42C-7975-4630-A7BD-06B3E292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258-305D-4940-8697-FB6D4D48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F267-3F3B-4A3A-827D-86AA7CD8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E3E0-B966-458B-9642-DA7F6F3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7040-FB66-4B50-A83B-45F0072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AA3F-204F-44AE-A0DE-FE32D85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934-E31F-4216-90EB-A1C2076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D34-EA02-42AE-9A72-92D26DF3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0771-1945-4F23-840E-4D62D0C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509-9072-45FC-8B2C-AD1C4F6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349-EB7D-4FDE-BBD5-BC6F312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B62-6C45-414B-A91D-478BECC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AB3-AB14-4932-A9E9-347CC7A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727-B8B6-49D4-9387-04FBD7C9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00D5-6F9C-4076-B602-B9D56B3D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0E7-C57E-4825-A87A-4191C1AC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610-55CD-4E5E-A553-6E4EA145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18E-0CC9-4289-9B64-0F1DD65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CB3-D210-4C2A-862D-4F4AB439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F5F-0366-4C69-B363-221B3A3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F46-6551-4DD6-A29A-5660D48B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115-BB3E-480C-BAE0-14C4274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8EB-E962-4F6B-9730-69F1ABD43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B11-2E40-4F6C-AB39-9F21643F4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сударственное бюджетное учреждение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Свердловской области «Комплексный центр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рода Каменска – Уральского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онтроля качества работы структурных подразделений Цен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1143000"/>
            <a:ext cx="37335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Гапанович И.С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рафик проверки участк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тделения  Мажириной Е.В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октябрь 2011 г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3.10.2041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7.10.2014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едование участк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маровой А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Обследование материально-бытового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ка качества предоставления соц. Услу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Проверка правильности заполнения рабочих тетраде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Выполнение Этического Кодекса ГОУ КЦО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АК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онтроля качества социальных услуг, оказываем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 года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тделением Мажириной Е.В. была проведена проверк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а социального  работника   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ИО клиента: Бастракова Л.В.  – Дружбы 2-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шакова С.Н.     -  Репина 6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Цель: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ка качества предоставления социаль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Документальное оформление предоставлен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Соблюдение этического кодекс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дачи: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ить качество социальных услуг оказываемых социальны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ником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ить правильность оформления тетрад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Выявить, как соблюдается Этический кодекс, пр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клиенто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 ходе проверки выявлено следующе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Социальный работник Прокопьева И.В. посещает подопечного регулярн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уги, предоставляемые клиенту, оказываются в полном объеме, согласн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явке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ыполняются своевременно. Выполняются следующие услуг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покупка и доставка лекарственных средств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 содействие в получении льго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итываются все нужды и потребности клиентов для создания норм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овий жизни. Отзывы клиентов о качестве обслуживания хороши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ена рабочая документация.  Лекарства выписывает и приобретае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аптеках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нце каждой записи имеется подпись клиента. Чеки  прилагаются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писи в тетрадях соответствуют актам выполненных работ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и общении с клиентом соблюдается этический кодекс  ГОУ КСО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й  работник  внимательно выслушивает клиента, не  проявляе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егативных эмоци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ключени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а И.В. предоставляет услуги подопечным качественно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оевременно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ешает правовые, бытовые проблемы клиентов для улучшения жизн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ояния.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чие тетради ведет в соответствии с требованиям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тический кодекс ГОУ КСОН при обслуживании соблюдаетс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мечание социальному работнику: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ечаний  по социальному обслуживанию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г.                        Зав. отделения____________     Мажирина Е.В.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. работник   ___________   Прокопьева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175248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 контроле качества предоставля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У 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щие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ложение распространяется на социальные услуги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едоставляемые населени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м областным учреждением социаль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я насе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 (далее Центр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стоящее Положение разработано в соответствии с нормативны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окументам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й стандарт Российской Федерации ГОСТ Р 52143 – 2003 –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 «Основ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иды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е стандарты Российской Федерации ГОСТ Р 52342 – 2003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ачество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10 декабря 1995 г. № 195 – ФЗ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б основа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2 августа 1995 г. № 122 – Ф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граждан пожилого возраста и инвалидов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оссийской Федерации от 24 ноября 1995 г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81 – ФЗ «О социальной защите инвалидов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коном Свердловской области от 7 марта 2006 г. № 10 –О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обслуживании населения в Свердловской област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становлением Правительства Свердловской области о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2 декабря 2006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перативных совещаний с заведующими отделени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Участие в комиссии по контролю кач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Выходы на оперативные совещания заведующих с социальными работниками отде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Текущая проверка документации заведующих отделения (Журналы по контролю качества, протоколы оперативных совещаний, акты выполненных работ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центра директором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бщих аппаратных совещаний еженедельно с заведующими отделениями и заместителями дирек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Изучение и анализ всей стекающейся контрольно – аналитической документ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Национальные стандарты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Российской Федерац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7 – 2005 «Социальное обслуживание населения. Система качества учреждений социального обслужива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6 – 2005 «Социальное обслуживание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Контроль качества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Р 52142 – 2003 «Социальное обслуживание населения. Качество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ачества учрежд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Script MT Bold"/>
              </a:rPr>
              <a:t>Совокупность ресурсов учрежд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Материально – технических (оборудование, приборы, аппаратура, мебель и д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Информационных (распространение информации об учреждении и услугах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Документального оформления (локальные документы, регламентирующие работу структурных подразделени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Людских (укомплектованность, профессионализм и компетентность сотрудников, четкое распределение полномочий и ответственности персонала, личная ответственность руководителя, обеспечение личной ответственности каждог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Руководство по качеств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365760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аю: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селения «Комплексны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центр социаль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служивания 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а- Уральского                                                                                                                                                           __________И.С.Гапанови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«___»____________2011 г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Руководство по качеству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осударственного 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обслуживания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. Каменска - Уральск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2011 г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990720"/>
            <a:ext cx="335268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Пояснительная запис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Общее описание системы качества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3. Политика Центра 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. Организационная структура Центр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. Задачи и функции подразделений и служб учрежд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6. Сведения о комплекте документов всех уровней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оставляющих нормативно- методическую базу систем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7. Порядок внедрения, функционирования и контрол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истемы качеств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cript MT Bold"/>
              </a:rPr>
              <a:t>Комиссия по контролю ка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Председатель комиссии: Кайгородова И.А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Члены комиссии: Камышева Р.В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Андреева Т.И. – зав. ОМ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Бучельникова Т.Н. – главынй бухгалте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Загвоздина Л.Н. – экономи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В процессе проверки системы качества учреждения комиссия по контролю качества осуществля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контроль соответствия системы качества требованиям настоящего стандарта и документации на не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состояния функционирования системы качества в целом и отдельных ее составных ча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соответствия предоставляемых услуг требованиям нормативных докумен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результатов работы учреждения в области качества услу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выработку корректирующих действий, направленных на устранение недостатков, выявленных в процессе предоставления услуг, и совершенствование системы ка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Формы контроля в учреж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мониторингов результативности работы отделений центра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 ежемесяч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 еженед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центра директором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0"/>
            <a:ext cx="6705720" cy="35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 Государственного областного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чреждения 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_»________________________2014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работы по контролю качества оказываемых услуг социальными работниками и специалистами Центра на 2014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7543800" cy="4191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                          Наименование мероприятия                                             Сроки                           Ответственны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              Составление руководства по качеству на 2011 год                                январь                             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              Составление программы мониторинга результативности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социально-реабилитационного отделения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ведение мониторинга и составление отчета.                                     Февраль-март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           Составление программы мониторинга результативност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отделения (№3, Каменский район)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дому пожилых людей и инвалидов, проведение мониторинга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Апрель-май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овой службы Каменского района, проведение мониторинг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  Июль-август                     Лесунова И.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5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колы социального работника совместно с психологом, провед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ониторинга и составление отчета.                                                                   Июнь    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сих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едведева Н.Б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6.           Работа комиссии по контролю качества оказания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в соответствии с планом - графиком.                 В течение все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иода                        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йгородова И.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МО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кономистЗагвоздина Л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л. бухгалтерБучельникова Т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7.     Проведение мониторинга качества и доступности предостав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х услуг в учреждениях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ердловской области (отчет по обращениям отчет, по опросным листам).   Ежеквартально                 Лесунова И.О. 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Мониторинги результативности работы структурных подразделен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4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рограмма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ых людей и инвалидов города и Каменского район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авитель: Зав. ОМ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– программа мероприяти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 проведению мониторинга результативности работы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 гражда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ого возраста и инвалидов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е – Уральском и Каменском район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анализировать социальные услуги, наиболе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остребованные у клиентов города и Каменского район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анализировать количество оказыва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 в среднем на одного клиента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оанализировать качество оказываемых услуг клиента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города и Каменского район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Проанализировать уровень социально – бытовых услови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торых проживают пенсионеры в городе 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комиссией по контролю качест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19320"/>
            <a:ext cx="426708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____ И.С. 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____2011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рафик проверок нормативно – правовой документац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ведующих структурных подразделений Центр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2011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Заведующая отделением    Срок проведения       Примеча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ергеева Р.К.,Сергеева С.А.          апре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лошейкина Н.А.Мажирина Е.В.      Ма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ванчикова Л.В.,Воробьева В.В.      Июн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Богданова И.П.                           ию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венко М.С.,Шафикова Г.А.            Авгус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апошник Е.В.,Шиль Е.Ю.              Сен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акиенко Ю.В.Назаренко Е.Г.          Ок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екрестная проверка                   но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опросы к проверк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в. ОМО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Центр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бращений граждан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учета услуг заведующей и специалистов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индивидуальных карт реабилитации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йгородова И.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перативных совещаний (обратить внимание на проведение тех. учеб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социальных карт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по контролю качества услуг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планами и отчетами за 2011 год заведующих и участковых специалистов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личных де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нформация на 10 клиентов в компьютерной базе данных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счет затрат времени на оказание услуг клиентам одного социального работни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лфавит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3733560" cy="510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АК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роверки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регламентирующей работу отделения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на дому заведующей ОСО № 2 Голошейкиной Н.А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Дни проверки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: 31.05. 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Цель проверки: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ить соответствие нормативно - правовой, учетной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 отчетной документации, регламентирующей работу ОСО Сергеевой Р.К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 соответствие требованиям Национальных стандарт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циональный стандарт Российской Федерации ГОСТ Р 52142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Качество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Национальный стандарт Российской Федерации ГОСТ Р 52143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Основные виды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Задач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нормативно - правовой документации регламентир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у отделения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учетной и отчетной документации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папки с подборкой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которая регламентирует работу Центр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апка находится в разработк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меется папка с нормативно – правовой документацие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регламентирующая работу отделения (положения, должност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нструкции, этический кодекс и т.д.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по отделению, должностные инструкции соци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ников и заведующей имеются, социальные работники с ни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знакомлены, имеются подпис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меется Положение по контролю качества, Этический кодекс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авила внутреннего распорядка, Положение о социальном обслуживан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граждан бригадным методом, Методические рекомендации по составлению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локальных документов…, Нормы времени на оказание социальных услу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о порядке и условиях оплаты социальных услуг.. и др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имеются все приказы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учетной и отчетной документации оказываем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Учет социальных услуг, оказываемых  заведующей отделение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ведется «журнал письменных обращений граждан», «журнал уст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бращений граждан», «журнал учета социальных услуг завед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тделением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05-03-02T01:30:51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