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31.wmf" ContentType="image/x-wmf"/>
  <Override PartName="/ppt/media/image3.jpeg" ContentType="image/jpeg"/>
  <Override PartName="/ppt/media/image24.jpeg" ContentType="image/jpeg"/>
  <Override PartName="/ppt/media/image30.jpeg" ContentType="image/jpeg"/>
  <Override PartName="/ppt/media/image7.wmf" ContentType="image/x-wmf"/>
  <Override PartName="/ppt/media/image11.jpeg" ContentType="image/jpeg"/>
  <Override PartName="/ppt/media/image12.wmf" ContentType="image/x-wmf"/>
  <Override PartName="/ppt/media/image29.jpeg" ContentType="image/jpeg"/>
  <Override PartName="/ppt/media/image13.wmf" ContentType="image/x-wmf"/>
  <Override PartName="/ppt/media/image8.wmf" ContentType="image/x-wmf"/>
  <Override PartName="/ppt/media/image9.wmf" ContentType="image/x-wmf"/>
  <Override PartName="/ppt/media/image4.wmf" ContentType="image/x-wmf"/>
  <Override PartName="/ppt/media/image27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22.jpeg" ContentType="image/jpeg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jpeg" ContentType="image/jpeg"/>
  <Override PartName="/ppt/media/image23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243B-D60A-410A-B1BB-6C28AC68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E682-6615-4A0B-9CD9-7095C4CF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DF9B-CE89-411B-AEE3-726C00162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5579-771A-496A-B0FD-3AB6D4A5E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251F-E2B1-431C-A9DB-87E38FC6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5861-EC11-414E-9A3B-A307508D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9C9D-0ECB-4801-9BC2-35905C74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9A97-66FD-4277-9008-7C631AFD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9820-09A8-497C-A00C-CCE5F2DF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5083-2ADD-40CC-B481-C017AD0B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835E-BB21-451F-9856-0D0479A7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87E3-0BE1-4A4E-B925-A3F7EF30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E429-E995-478B-A1C7-E5861C122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0.wmf"/><Relationship Id="rId16" Type="http://schemas.openxmlformats.org/officeDocument/2006/relationships/image" Target="../media/image11.jpe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0.wmf"/><Relationship Id="rId20" Type="http://schemas.openxmlformats.org/officeDocument/2006/relationships/image" Target="../media/image21.jpeg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66680" y="1219320"/>
            <a:ext cx="7467840" cy="47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Урок-игр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«Полет на планету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МИФ»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14400" y="380880"/>
            <a:ext cx="7696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Полет окончен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Всем спасиб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Домашняя работа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№ 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744,  № 687 (1,2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304920"/>
            <a:ext cx="784872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Всем сменам экипажа приступ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к операции «Компьютер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Начинаем проверку блока памя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438280"/>
            <a:ext cx="883908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 Какое равенство называют уравнение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 Какое число называют корнем уравн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 Что значит решить уравн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 Как найти неизвестное слагаемое, вычитаемое, уменьшаемое.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 Как найти неизвестный множител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 Как найти неизвестное делим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 Как найти неизвестный делител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66680" y="30492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«Проверим работу процессор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990720"/>
            <a:ext cx="7467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Устный сч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ыполните деление:        а) 1600: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) 2500: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) 1000: 1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г) 100000: 1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едставьте в виде суммы произвед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)                        б)                               в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3880" y="3352680"/>
          <a:ext cx="1371600" cy="5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3352680"/>
                    <a:ext cx="13716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581280" y="3429000"/>
          <a:ext cx="1447920" cy="482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81280" y="3429000"/>
                    <a:ext cx="14479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248520" y="3429000"/>
          <a:ext cx="1523880" cy="469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248520" y="3429000"/>
                    <a:ext cx="152388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838080" y="4114800"/>
            <a:ext cx="8077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ычислите, выбрав удобный порядок дей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)                          б)                    в)                     г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акое свойство умножения мы здесь примени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371600" y="4724280"/>
          <a:ext cx="1371600" cy="389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371600" y="4724280"/>
                    <a:ext cx="13716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429000" y="4724280"/>
          <a:ext cx="1295280" cy="368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429000" y="4724280"/>
                    <a:ext cx="1295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257800" y="4724280"/>
          <a:ext cx="1295280" cy="3668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257800" y="4724280"/>
                    <a:ext cx="129528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010280" y="4724280"/>
          <a:ext cx="1371600" cy="343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010280" y="4724280"/>
                    <a:ext cx="137160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6324480" y="990720"/>
            <a:ext cx="24386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09480" y="914400"/>
            <a:ext cx="7391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гадайте корни урав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)                           б)                        в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)                          д)                         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ж)                          з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офизм.     Докажем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066680" y="1676520"/>
          <a:ext cx="1752840" cy="44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676520"/>
                    <a:ext cx="1752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733920" y="1676520"/>
          <a:ext cx="1523880" cy="420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33920" y="1676520"/>
                    <a:ext cx="152388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172200" y="1676520"/>
          <a:ext cx="1523880" cy="422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1676520"/>
                    <a:ext cx="15238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990720" y="2362320"/>
          <a:ext cx="1676160" cy="463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90720" y="2362320"/>
                    <a:ext cx="1676160" cy="46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657600" y="2362320"/>
          <a:ext cx="1600200" cy="453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657600" y="2362320"/>
                    <a:ext cx="160020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172200" y="2438280"/>
          <a:ext cx="2057400" cy="362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172200" y="2438280"/>
                    <a:ext cx="205740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066680" y="3124080"/>
          <a:ext cx="1600200" cy="441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066680" y="3124080"/>
                    <a:ext cx="160020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657600" y="3124080"/>
          <a:ext cx="1752480" cy="454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657600" y="3124080"/>
                    <a:ext cx="1752480" cy="4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334120" y="4876920"/>
          <a:ext cx="2361960" cy="9158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334120" y="4876920"/>
                    <a:ext cx="236196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" descr=""/>
          <p:cNvPicPr/>
          <p:nvPr/>
        </p:nvPicPr>
        <p:blipFill>
          <a:blip r:embed="rId20"/>
          <a:srcRect l="7317" t="0" r="14636" b="31709"/>
          <a:stretch/>
        </p:blipFill>
        <p:spPr>
          <a:xfrm>
            <a:off x="762120" y="4952880"/>
            <a:ext cx="198108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95280" y="685800"/>
            <a:ext cx="6858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Проконтролируем работу электронно-вычислительной машины в диалоговом режим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800600" y="4038480"/>
            <a:ext cx="312408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880" y="457200"/>
            <a:ext cx="7315200" cy="60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Приступить к вычислительному эксперименту по проверке основных параметров корабля. Сообщаем дан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Масса третьей ступени ракеты- носителя космического корабля в 6 раз меньше массы второй ступени, а масса первой ступени в 3 раза больше массы второй ступени. Какова масса корабля, если известно, что масса первой ступени 756 т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543800" y="685800"/>
            <a:ext cx="1380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4775d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2276640" cy="3276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48120" y="609480"/>
            <a:ext cx="5715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На экране появляется двуглавый иксовый драко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Приготовиться к отражению атаки дракона. Кто из экипажа хочет сразиться с драконом?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590920" y="3581280"/>
          <a:ext cx="5486400" cy="124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3581280"/>
                    <a:ext cx="5486400" cy="12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486400" y="4800600"/>
          <a:ext cx="2743200" cy="1366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86400" y="4800600"/>
                    <a:ext cx="2743200" cy="13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143000" y="1676520"/>
          <a:ext cx="4648320" cy="102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676520"/>
                    <a:ext cx="464832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57200" y="2971800"/>
            <a:ext cx="6858000" cy="3067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7405560" y="228600"/>
            <a:ext cx="1452600" cy="2438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04920" y="2286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Ракета подлетает к планете «Электроник». На этой планете живет мальчик ЧИП. Он подготовил Вам испы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074000" y="228600"/>
            <a:ext cx="1785960" cy="2514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5800" y="609480"/>
            <a:ext cx="5791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сталось преодолеть последний этап, но на пути инопланетное существо, которое приготовило для Вас следующее испыт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371600" y="3429000"/>
          <a:ext cx="6629400" cy="12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3429000"/>
                    <a:ext cx="6629400" cy="12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rina</cp:lastModifiedBy>
  <dcterms:modified xsi:type="dcterms:W3CDTF">2012-01-04T10:23:1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