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31.wmf" ContentType="image/x-wmf"/>
  <Override PartName="/ppt/media/image3.jpeg" ContentType="image/jpeg"/>
  <Override PartName="/ppt/media/image24.jpeg" ContentType="image/jpeg"/>
  <Override PartName="/ppt/media/image30.jpeg" ContentType="image/jpeg"/>
  <Override PartName="/ppt/media/image7.wmf" ContentType="image/x-wmf"/>
  <Override PartName="/ppt/media/image11.jpeg" ContentType="image/jpeg"/>
  <Override PartName="/ppt/media/image12.wmf" ContentType="image/x-wmf"/>
  <Override PartName="/ppt/media/image29.jpeg" ContentType="image/jpeg"/>
  <Override PartName="/ppt/media/image13.wmf" ContentType="image/x-wmf"/>
  <Override PartName="/ppt/media/image8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22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jpeg" ContentType="image/jpeg"/>
  <Override PartName="/ppt/media/image23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F1E5-7761-44B5-ABCA-6391C9BF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8AA0-BE10-404D-B249-B1B8CF1D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4903-7A10-4B1B-B2C6-9F34C4F9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AA9-328B-4759-8DC7-A9504C77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FA8D-D771-4E96-942B-DD1CEC15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3E05-3764-4EC4-98CC-8486EC74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AFE9-5A9D-4880-A3C8-4369A624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4EF0-5AA9-4779-8D95-83A28198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08E-8639-4986-A87B-AAAA57BF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6986-5E15-4E1F-AFD7-AE5807C9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2DD9-6324-4AAA-85D6-3B943497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898B-86EA-4CE6-883E-44FCE58A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262A-24A7-4448-9165-09355D58A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.wmf"/><Relationship Id="rId16" Type="http://schemas.openxmlformats.org/officeDocument/2006/relationships/image" Target="../media/image11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0.wmf"/><Relationship Id="rId20" Type="http://schemas.openxmlformats.org/officeDocument/2006/relationships/image" Target="../media/image21.jpe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6680" y="1219320"/>
            <a:ext cx="746784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Урок-игр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«Полет на планету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МИФ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14400" y="380880"/>
            <a:ext cx="7696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Полет окончен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Всем спасиб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Домашняя работ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№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744,  № 687 (1,2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304920"/>
            <a:ext cx="784872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Всем сменам экипажа приступ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к операции «Компьютер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Начинаем проверку блока памя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438280"/>
            <a:ext cx="883908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Какое равенство называют уравнени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Какое число называют корнем уравн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Что значит решить уравн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Как найти неизвестное слагаемое, вычитаемое, уменьшаемое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Как найти неизвестный множител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Как найти неизвестное делим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Как найти неизвестный делител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6680" y="30492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«Проверим работу процессор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7467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стный сч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полните деление:        а) 1600: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) 2500: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) 1000: 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) 100000: 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дставьте в виде суммы произвед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)                        б)                               в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3880" y="3352680"/>
          <a:ext cx="1371600" cy="5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3352680"/>
                    <a:ext cx="13716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581280" y="3429000"/>
          <a:ext cx="144792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81280" y="3429000"/>
                    <a:ext cx="14479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248520" y="3429000"/>
          <a:ext cx="1523880" cy="469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48520" y="3429000"/>
                    <a:ext cx="15238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838080" y="4114800"/>
            <a:ext cx="8077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числите, выбрав удобный порядок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)                          б)                    в)                     г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кое свойство умножения мы здесь примени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371600" y="4724280"/>
          <a:ext cx="1371600" cy="389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71600" y="4724280"/>
                    <a:ext cx="13716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429000" y="4724280"/>
          <a:ext cx="1295280" cy="36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29000" y="4724280"/>
                    <a:ext cx="1295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257800" y="4724280"/>
          <a:ext cx="1295280" cy="366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257800" y="4724280"/>
                    <a:ext cx="12952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010280" y="4724280"/>
          <a:ext cx="1371600" cy="343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010280" y="4724280"/>
                    <a:ext cx="13716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6324480" y="990720"/>
            <a:ext cx="24386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914400"/>
            <a:ext cx="7391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гадайте корни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)                           б)                        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)                          д)                         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ж)                          з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офизм.     Докажем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066680" y="1676520"/>
          <a:ext cx="1752840" cy="44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1752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733920" y="1676520"/>
          <a:ext cx="1523880" cy="42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33920" y="1676520"/>
                    <a:ext cx="152388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172200" y="1676520"/>
          <a:ext cx="1523880" cy="422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1676520"/>
                    <a:ext cx="15238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90720" y="2362320"/>
          <a:ext cx="1676160" cy="463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2362320"/>
                    <a:ext cx="167616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657600" y="2362320"/>
          <a:ext cx="1600200" cy="453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57600" y="2362320"/>
                    <a:ext cx="160020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172200" y="2438280"/>
          <a:ext cx="2057400" cy="362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72200" y="2438280"/>
                    <a:ext cx="205740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066680" y="3124080"/>
          <a:ext cx="1600200" cy="441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66680" y="3124080"/>
                    <a:ext cx="16002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657600" y="3124080"/>
          <a:ext cx="1752480" cy="454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657600" y="3124080"/>
                    <a:ext cx="175248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34120" y="4876920"/>
          <a:ext cx="2361960" cy="9158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34120" y="4876920"/>
                    <a:ext cx="236196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" descr=""/>
          <p:cNvPicPr/>
          <p:nvPr/>
        </p:nvPicPr>
        <p:blipFill>
          <a:blip r:embed="rId20"/>
          <a:srcRect l="7317" t="0" r="14636" b="31709"/>
          <a:stretch/>
        </p:blipFill>
        <p:spPr>
          <a:xfrm>
            <a:off x="762120" y="4952880"/>
            <a:ext cx="198108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95280" y="685800"/>
            <a:ext cx="685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Проконтролируем работу электронно-вычислительной машины в диалоговом режим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800600" y="4038480"/>
            <a:ext cx="312408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457200"/>
            <a:ext cx="7315200" cy="60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Приступить к вычислительному эксперименту по проверке основных параметров корабля. Сообщаем да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Масса третьей ступени ракеты- носителя космического корабля в 6 раз меньше массы второй ступени, а масса первой ступени в 3 раза больше массы второй ступени. Какова масса корабля, если известно, что масса первой ступени 756 т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43800" y="685800"/>
            <a:ext cx="1380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4775d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2276640" cy="3276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8120" y="609480"/>
            <a:ext cx="5715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На экране появляется двуглавый иксовый драко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Приготовиться к отражению атаки дракона. Кто из экипажа хочет сразиться с драконом?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590920" y="3581280"/>
          <a:ext cx="5486400" cy="124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581280"/>
                    <a:ext cx="548640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486400" y="4800600"/>
          <a:ext cx="2743200" cy="136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86400" y="4800600"/>
                    <a:ext cx="274320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43000" y="1676520"/>
          <a:ext cx="4648320" cy="102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676520"/>
                    <a:ext cx="464832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57200" y="2971800"/>
            <a:ext cx="6858000" cy="3067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7405560" y="228600"/>
            <a:ext cx="1452600" cy="2438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2286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Ракета подлетает к планете «Электроник». На этой планете живет мальчик ЧИП. Он подготовил Вам испы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074000" y="228600"/>
            <a:ext cx="1785960" cy="2514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" y="609480"/>
            <a:ext cx="5791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сталось преодолеть последний этап, но на пути инопланетное существо, которое приготовило для Вас следующее испыт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3429000"/>
          <a:ext cx="6629400" cy="12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3429000"/>
                    <a:ext cx="662940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ina</cp:lastModifiedBy>
  <dcterms:modified xsi:type="dcterms:W3CDTF">2012-01-04T10:23:1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