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87D-FC33-46C5-ADB5-E7AF4E3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3C2-11DA-47BF-B1C6-5AC214E9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036-F7CB-46DE-89F1-3CE2C70B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8ED-4218-44B2-BEE0-F3353C00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EBA-2F93-4A56-800B-BC8F99D9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BA5-2720-48A0-894F-FA74652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249-0AF9-43BC-804A-091A644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942-4216-400F-8A71-5346AB05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A09-B68E-485A-B190-9F972F02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430-F1F5-486B-96E5-D336968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8BA-CB2F-42F2-B022-BE915D6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8F6-DFE9-4B32-8B4F-17BBE56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2A1-131B-49DD-9275-17824DEB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0.wmf"/><Relationship Id="rId20" Type="http://schemas.openxmlformats.org/officeDocument/2006/relationships/image" Target="../media/image21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19320"/>
            <a:ext cx="74678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Урок-иг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«Полет на плане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МИФ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3808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олет оконче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сем спасиб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Домашняя рабо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44,  № 687 (1,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04920"/>
            <a:ext cx="7848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сем сменам экипажа приступ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 операции «Компьюте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Начинаем проверку блока пам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438280"/>
            <a:ext cx="8839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равенство называют уравн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число называют корнем у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Что значит решить урав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слагаемое, вычитаемое, уменьшаемое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делим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дел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049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«Проверим работу процессо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746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ный 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деление:        а) 1600: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2500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1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 100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ьте в виде суммы произвед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б)                               в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3880" y="3352680"/>
          <a:ext cx="137160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3526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581280" y="3429000"/>
          <a:ext cx="14479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3429000"/>
                    <a:ext cx="14479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248520" y="3429000"/>
          <a:ext cx="152388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429000"/>
                    <a:ext cx="1523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41148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числите, выбрав удобный порядок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  б)                    в)                     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ое свойство умножения мы здесь приме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71600" y="4724280"/>
          <a:ext cx="1371600" cy="38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4724280"/>
                    <a:ext cx="13716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29000" y="4724280"/>
          <a:ext cx="1295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4724280"/>
                    <a:ext cx="12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7800" y="4724280"/>
          <a:ext cx="1295280" cy="366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7800" y="4724280"/>
                    <a:ext cx="1295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10280" y="4724280"/>
          <a:ext cx="137160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10280" y="4724280"/>
                    <a:ext cx="1371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324480" y="990720"/>
            <a:ext cx="24386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91440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гадайте корни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                          б)                        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                         д)                         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)                          з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физм.     Докаж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6680" y="1676520"/>
          <a:ext cx="175284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752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3920" y="1676520"/>
          <a:ext cx="152388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1676520"/>
                    <a:ext cx="15238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72200" y="1676520"/>
          <a:ext cx="15238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676520"/>
                    <a:ext cx="1523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90720" y="2362320"/>
          <a:ext cx="1676160" cy="46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362320"/>
                    <a:ext cx="16761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57600" y="2362320"/>
          <a:ext cx="1600200" cy="45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2362320"/>
                    <a:ext cx="16002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72200" y="2438280"/>
          <a:ext cx="205740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72200" y="2438280"/>
                    <a:ext cx="2057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3124080"/>
          <a:ext cx="160020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66680" y="3124080"/>
                    <a:ext cx="1600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3124080"/>
          <a:ext cx="1752480" cy="454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3124080"/>
                    <a:ext cx="175248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4120" y="4876920"/>
          <a:ext cx="2361960" cy="91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4120" y="4876920"/>
                    <a:ext cx="23619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20"/>
          <a:srcRect l="7317" t="0" r="14636" b="31709"/>
          <a:stretch/>
        </p:blipFill>
        <p:spPr>
          <a:xfrm>
            <a:off x="762120" y="4952880"/>
            <a:ext cx="19810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685800"/>
            <a:ext cx="685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Проконтролируем работу электронно-вычислительной машины в диалоговом режи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31240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731520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иступить к вычислительному эксперименту по проверке основных параметров корабля. Сообщаем да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Масса третьей ступени ракеты- носителя космического корабля в 6 раз меньше массы второй ступени, а масса первой ступени в 3 раза больше массы второй ступени. Какова масса корабля, если известно, что масса первой ступени 756 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138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4775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27664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609480"/>
            <a:ext cx="5715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а экране появляется двуглавый иксовый драк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иготовиться к отражению атаки дракона. Кто из экипажа хочет сразиться с драконом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90920" y="3581280"/>
          <a:ext cx="5486400" cy="12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5486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86400" y="4800600"/>
          <a:ext cx="2743200" cy="13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7432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676520"/>
          <a:ext cx="464832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76520"/>
                    <a:ext cx="46483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6858000" cy="306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405560" y="228600"/>
            <a:ext cx="145260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228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акета подлетает к планете «Электроник». На этой планете живет мальчик ЧИП. Он подготовил Вам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74000" y="228600"/>
            <a:ext cx="178596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талось преодолеть последний этап, но на пути инопланетное существо, которое приготовило для Вас следующее испы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3429000"/>
          <a:ext cx="6629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429000"/>
                    <a:ext cx="6629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2-01-04T10:23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