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4DF2-A9F3-418E-90FF-6A3121CE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C043-7599-478B-AC1D-EBD0BC68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5674-6C60-47D0-97D1-7461C038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B978-98E7-4238-AD36-A106118B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CB9F-994B-49EE-9A80-A570843C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7B3B-805E-4681-92E2-C5523616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1632-284A-4950-874F-8DD6B197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BF5B-C269-476C-8C38-477AD838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08FD-2C18-4259-9572-C4C663D5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BF1D-6E32-431C-9BFC-E54DCFDC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51FB-2BCD-413F-9E97-1079691A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AEA7-FD8D-4705-A702-3D233038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34AA-2DC4-4DDB-A436-7852C42D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0BCA-7C37-4A75-A9EB-395EC03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5FFC-BD58-4CAA-B8F2-83200A59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F94E-5717-410A-A81D-F9DDD792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7016-4A99-4C79-9378-F46BD77D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7F2F-2E32-4264-AFF6-56FA6C0C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664A-7C6F-44B2-9F21-D21B3207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43A2-DD5A-4C56-9B0A-4F8F8FC3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FCEA-2563-4C73-84D4-9975AEFF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C8B9-A9BF-433B-9DBD-E0A71C7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07EA-A112-4BBA-BD04-416E231C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9A00-F935-4A2F-B9CB-E9386AA9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B06C-9B30-4AD3-BDB3-347FB93B7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2692-7D77-4D74-9573-EFAF318D9F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9040" y="2786040"/>
            <a:ext cx="45720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Симоненко Алла Васильевна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МОУ «Гоноховская  СОШ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Алтайский край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Завьяловский район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 4 класс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357120" y="723960"/>
            <a:ext cx="492912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сивый    подсвечник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285920" y="2908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Calibri"/>
              </a:rPr>
              <a:t>По центру подсвечника устанавливаем свечу и декорируем поделку  (приклеиваем)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3" descr="C:\Documents and Settings\Администратор\Рабочий стол\фото Рождественская звезда\SAM_4879.JPG"/>
          <p:cNvPicPr/>
          <p:nvPr/>
        </p:nvPicPr>
        <p:blipFill>
          <a:blip r:embed="rId1"/>
          <a:stretch/>
        </p:blipFill>
        <p:spPr>
          <a:xfrm>
            <a:off x="1500120" y="1965240"/>
            <a:ext cx="62866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Оформление</a:t>
            </a:r>
            <a:br>
              <a:rPr sz="6000"/>
            </a:b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В центр  приклеить цветы и листик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2" descr="C:\Documents and Settings\Администратор\Рабочий стол\фото Рождественская звезда\SAM_4880.JPG"/>
          <p:cNvPicPr/>
          <p:nvPr/>
        </p:nvPicPr>
        <p:blipFill>
          <a:blip r:embed="rId1"/>
          <a:stretch/>
        </p:blipFill>
        <p:spPr>
          <a:xfrm>
            <a:off x="1643040" y="2400480"/>
            <a:ext cx="5715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aramond"/>
              </a:rPr>
              <a:t>Из истори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Garamond"/>
              </a:rPr>
              <a:t>Когда главным символом рождества стала ёлка, бедные люди изготавливали из хлебного теста рождественские сувениры. Для сохранения украшений от поедания мышами и насекомыми в тесто добавляли большое количество соли. Так возникло солёное тест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aramond"/>
              </a:rPr>
              <a:t>Красивый подсвечник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2" descr="C:\Documents and Settings\Администратор\Рабочий стол\фото Рождественская звезда\SAM_4881.JPG"/>
          <p:cNvPicPr/>
          <p:nvPr/>
        </p:nvPicPr>
        <p:blipFill>
          <a:blip r:embed="rId1"/>
          <a:stretch/>
        </p:blipFill>
        <p:spPr>
          <a:xfrm>
            <a:off x="1857240" y="2400480"/>
            <a:ext cx="5357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500040" y="665640"/>
            <a:ext cx="8286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  <a:ea typeface="Calibri"/>
              </a:rPr>
              <a:t>Хотя поделки из теста — древняя традиция, им находится место и в современном мире, потому что сейчас ценится всё экологически чистое и сделанное своими руками.Солёное тесто в последние годы стало очень популярным материалом для лепки. Работа с ним доставляет удовольствие и радость. Солёное тесто — материал экологически чистый, безвредный, практически не оставляет грязи, приятен для рук и даёт такие возможности при лепке, которых нет при работе с пластилином или другими мягкими материалами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e283363de2a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САЙ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stupeni.ru›lirika/3368-staty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stival.1september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shkolu.ru›gofile/501540-a106291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l-orbita.ru›publ/dosug…testoplastika/153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Администратор\Рабочий стол\фото Рождественская звезда\SAM_4883.JPG"/>
          <p:cNvPicPr/>
          <p:nvPr/>
        </p:nvPicPr>
        <p:blipFill>
          <a:blip r:embed="rId1"/>
          <a:stretch/>
        </p:blipFill>
        <p:spPr>
          <a:xfrm>
            <a:off x="785880" y="1357200"/>
            <a:ext cx="7715160" cy="50720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2"/>
          <a:stretch/>
        </p:blipFill>
        <p:spPr>
          <a:xfrm>
            <a:off x="2030400" y="158760"/>
            <a:ext cx="63324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Задач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знакомиться с историей возникновения тестопластики в России и странах ми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ределиться с выбором рецепта приготовления теста для лепк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думать вид издел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готовить изделия из солёного теста в технике тестопласти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раннего детства нас радуют подарки. Это мячи, мягкие игрушки, настольные игры и поделки, сделанные своими руками. Однажды на урок технологии я принесла  солёное тесто для леп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уроке мы лепили новогодние поделки, потом, когда они высохли, красили их гуашью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714240" y="285840"/>
            <a:ext cx="764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Работать с тестом нам так понравилось, что мы решили сами научиться делать солёное тесто.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" descr="e0065"/>
          <p:cNvPicPr/>
          <p:nvPr/>
        </p:nvPicPr>
        <p:blipFill>
          <a:blip r:embed="rId1"/>
          <a:stretch/>
        </p:blipFill>
        <p:spPr>
          <a:xfrm>
            <a:off x="1071720" y="3357720"/>
            <a:ext cx="3786120" cy="3071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Администратор\Рабочий стол\Тестоп Осень\SAM_3915.JPG"/>
          <p:cNvPicPr/>
          <p:nvPr/>
        </p:nvPicPr>
        <p:blipFill>
          <a:blip r:embed="rId2"/>
          <a:stretch/>
        </p:blipFill>
        <p:spPr>
          <a:xfrm>
            <a:off x="5929200" y="4000680"/>
            <a:ext cx="24289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Garamond"/>
              </a:rPr>
              <a:t>Введени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таринный русский народный промысел – лепка из солёного теста — упоминается в летописях уже в XII веке. Центром промысла является Русский Север, Архангельская область. Фигурки из солёного теста были не простыми игрушками, они играли магическую, ритуальную роль – служили оберег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642960" y="145080"/>
            <a:ext cx="77151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"Дарю вам мукосол, чтобы были хлеб да соль, чтобы было в доме изобилие", - так говорили в праздники в северных русских деревнях, даря произведения из солёного теста.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     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                                                                                        </a:t>
            </a: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Мукосол - это не только забавные фигурки из солёного теста на холсте или в самостоятельной композиции, это обереги наших домов ещё с дохристианских времён. Считалась, что любая такая поделка, находящаяся в доме - символ богатства, благополучия и достатка в семье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40da7b2ccd5f"/>
          <p:cNvPicPr/>
          <p:nvPr/>
        </p:nvPicPr>
        <p:blipFill>
          <a:blip r:embed="rId1"/>
          <a:stretch/>
        </p:blipFill>
        <p:spPr>
          <a:xfrm>
            <a:off x="3143160" y="1928880"/>
            <a:ext cx="2214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Garamond"/>
              </a:rPr>
              <a:t>Планирование работ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годня, работая с солёным тестом, многие придумывают удивительно красивые названия - тестопластика, биокерамика и даже, мукосолька! Но как не называй - результат, порой, превосходит все наши ожидания! Рождение шедевра из солёного теста - это всегда событие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лан работы</a:t>
            </a:r>
            <a:br>
              <a:rPr sz="4400"/>
            </a:br>
            <a:r>
              <a:rPr b="1" lang="ru-RU" sz="2800" spc="-1" strike="noStrike">
                <a:solidFill>
                  <a:srgbClr val="ffc000"/>
                </a:solidFill>
                <a:latin typeface="Garamond"/>
              </a:rPr>
              <a:t>Из плитки вырезаем круг .                                                                     На круг  наклеиваем мишуру новогоднюю</a:t>
            </a: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2" descr="C:\Documents and Settings\Администратор\Рабочий стол\фото Рождественская звезда\SAM_4878.JPG"/>
          <p:cNvPicPr/>
          <p:nvPr/>
        </p:nvPicPr>
        <p:blipFill>
          <a:blip r:embed="rId1"/>
          <a:stretch/>
        </p:blipFill>
        <p:spPr>
          <a:xfrm>
            <a:off x="1571760" y="2500200"/>
            <a:ext cx="6072120" cy="3571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285840" y="92880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20:19:17Z</dcterms:created>
  <dc:creator>Симоненко</dc:creator>
  <dc:description/>
  <dc:language>en-US</dc:language>
  <cp:lastModifiedBy>КарМаН</cp:lastModifiedBy>
  <dcterms:modified xsi:type="dcterms:W3CDTF">2012-01-17T12:23:05Z</dcterms:modified>
  <cp:revision>24</cp:revision>
  <dc:subject/>
  <dc:title>Слайд 1</dc:title>
</cp:coreProperties>
</file>