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90834-5B5E-4706-A3BB-5D9D4CBBB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A82E0-5C0A-4DE6-9FCC-D768FEBF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B6ECF-0713-4501-94B6-BA2CADD9E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08ECF-1B5E-4E94-95D1-D94BE9FE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B4C3-6F08-4C0C-86E4-8E0E9366D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2B52-9A87-4E65-90DC-4B33B696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F293-BC54-4F24-B336-64C4FB51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9C43-86BC-403F-AA84-29C45EFD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71A5-7F17-484D-802E-918A135E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E171-78A5-4F17-9E69-D4986523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02A8-2B15-470C-A323-56B68FD5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F3336-B9C5-41D8-90A3-BE1F53E6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95B0-A050-408E-88A3-3F84F5F6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8B1C-E7FB-4050-80D9-0051C7AA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BA8D-93A0-4F0D-8BEF-AE8A3B85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BF43-280E-4D93-A7EF-C154593B8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9211-EE6D-4EFB-81A1-60B8866E3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74DDA-DA30-4903-8EDD-A8D06EB2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58607-4CB8-4AA7-A387-1AE5C05A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B9708-F41F-46DE-915E-745796CE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B3FE4-2647-4827-8D19-4AF56580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4F5D4-4EA7-48B9-9618-63733C04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539D4-26AC-47EA-A31A-F8F823B1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A0D1C-0787-4DD6-B6AF-54DD2F2D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8AEF-5E61-468E-A85B-69345A45A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F447-3EB8-464B-95F3-C4B0949F4A0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29040" y="2786040"/>
            <a:ext cx="457200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Симоненко Алла Васильевна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МОУ «Гоноховская  СОШ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Алтайский край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Завьяловский район»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 4 класс</a:t>
            </a:r>
            <a:br>
              <a:rPr sz="6000"/>
            </a:br>
            <a:r>
              <a:rPr b="1" lang="ru-RU" sz="6000" spc="-1" strike="noStrike">
                <a:solidFill>
                  <a:srgbClr val="c00000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WordArt 8"/>
          <p:cNvSpPr txBox="1"/>
          <p:nvPr/>
        </p:nvSpPr>
        <p:spPr>
          <a:xfrm>
            <a:off x="357120" y="723960"/>
            <a:ext cx="4929120" cy="19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расивый    подсвечник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285920" y="29088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  <a:ea typeface="Calibri"/>
              </a:rPr>
              <a:t>По центру подсвечника устанавливаем свечу и декорируем поделку  (приклеиваем).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3" descr="C:\Documents and Settings\Администратор\Рабочий стол\фото Рождественская звезда\SAM_4879.JPG"/>
          <p:cNvPicPr/>
          <p:nvPr/>
        </p:nvPicPr>
        <p:blipFill>
          <a:blip r:embed="rId1"/>
          <a:stretch/>
        </p:blipFill>
        <p:spPr>
          <a:xfrm>
            <a:off x="1500120" y="1965240"/>
            <a:ext cx="628668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Garamond"/>
              </a:rPr>
              <a:t>Оформление</a:t>
            </a:r>
            <a:br>
              <a:rPr sz="6000"/>
            </a:br>
            <a:r>
              <a:rPr b="1" lang="ru-RU" sz="3600" spc="-1" strike="noStrike">
                <a:solidFill>
                  <a:srgbClr val="ffc000"/>
                </a:solidFill>
                <a:latin typeface="Garamond"/>
              </a:rPr>
              <a:t>В центр  приклеить цветы и листики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3" name="Picture 2" descr="C:\Documents and Settings\Администратор\Рабочий стол\фото Рождественская звезда\SAM_4880.JPG"/>
          <p:cNvPicPr/>
          <p:nvPr/>
        </p:nvPicPr>
        <p:blipFill>
          <a:blip r:embed="rId1"/>
          <a:stretch/>
        </p:blipFill>
        <p:spPr>
          <a:xfrm>
            <a:off x="1643040" y="2400480"/>
            <a:ext cx="5715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Garamond"/>
              </a:rPr>
              <a:t>Из истории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Garamond"/>
              </a:rPr>
              <a:t>Когда главным символом рождества стала ёлка, бедные люди изготавливали из хлебного теста рождественские сувениры. Для сохранения украшений от поедания мышами и насекомыми в тесто добавляли большое количество соли. Так возникло солёное тест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Garamond"/>
              </a:rPr>
              <a:t>Красивый подсвечник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Picture 2" descr="C:\Documents and Settings\Администратор\Рабочий стол\фото Рождественская звезда\SAM_4881.JPG"/>
          <p:cNvPicPr/>
          <p:nvPr/>
        </p:nvPicPr>
        <p:blipFill>
          <a:blip r:embed="rId1"/>
          <a:stretch/>
        </p:blipFill>
        <p:spPr>
          <a:xfrm>
            <a:off x="1857240" y="2400480"/>
            <a:ext cx="53578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500040" y="665640"/>
            <a:ext cx="82868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alibri"/>
                <a:ea typeface="Calibri"/>
              </a:rPr>
              <a:t>Хотя поделки из теста — древняя традиция, им находится место и в современном мире, потому что сейчас ценится всё экологически чистое и сделанное своими руками.Солёное тесто в последние годы стало очень популярным материалом для лепки. Работа с ним доставляет удовольствие и радость. Солёное тесто — материал экологически чистый, безвредный, практически не оставляет грязи, приятен для рук и даёт такие возможности при лепке, которых нет при работе с пластилином или другими мягкими материалами.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e283363de2a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Garamond"/>
              </a:rPr>
              <a:t>САЙТ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stupeni.ru›lirika/3368-staty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estival.1september.r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shkolu.ru›gofile/501540-a106291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l-orbita.ru›publ/dosug…testoplastika/153-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C:\Documents and Settings\Администратор\Рабочий стол\фото Рождественская звезда\SAM_4883.JPG"/>
          <p:cNvPicPr/>
          <p:nvPr/>
        </p:nvPicPr>
        <p:blipFill>
          <a:blip r:embed="rId1"/>
          <a:stretch/>
        </p:blipFill>
        <p:spPr>
          <a:xfrm>
            <a:off x="785880" y="1357200"/>
            <a:ext cx="7715160" cy="507204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3" descr=""/>
          <p:cNvPicPr/>
          <p:nvPr/>
        </p:nvPicPr>
        <p:blipFill>
          <a:blip r:embed="rId2"/>
          <a:stretch/>
        </p:blipFill>
        <p:spPr>
          <a:xfrm>
            <a:off x="2030400" y="158760"/>
            <a:ext cx="63324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Garamond"/>
              </a:rPr>
              <a:t>Задачи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знакомиться с историей возникновения тестопластики в России и странах мир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пределиться с выбором рецепта приготовления теста для лепк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думать вид изделий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зготовить изделия из солёного теста в технике тестопластик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 раннего детства нас радуют подарки. Это мячи, мягкие игрушки, настольные игры и поделки, сделанные своими руками. Однажды на урок технологии я принесла  солёное тесто для лепк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уроке мы лепили новогодние поделки, потом, когда они высохли, красили их гуашью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2"/>
          <p:cNvSpPr/>
          <p:nvPr/>
        </p:nvSpPr>
        <p:spPr>
          <a:xfrm>
            <a:off x="714240" y="285840"/>
            <a:ext cx="76438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Работать с тестом нам так понравилось, что мы решили сами научиться делать солёное тесто.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2" descr="e0065"/>
          <p:cNvPicPr/>
          <p:nvPr/>
        </p:nvPicPr>
        <p:blipFill>
          <a:blip r:embed="rId1"/>
          <a:stretch/>
        </p:blipFill>
        <p:spPr>
          <a:xfrm>
            <a:off x="1071720" y="3357720"/>
            <a:ext cx="3786120" cy="3071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Documents and Settings\Администратор\Рабочий стол\Тестоп Осень\SAM_3915.JPG"/>
          <p:cNvPicPr/>
          <p:nvPr/>
        </p:nvPicPr>
        <p:blipFill>
          <a:blip r:embed="rId2"/>
          <a:stretch/>
        </p:blipFill>
        <p:spPr>
          <a:xfrm>
            <a:off x="5929200" y="4000680"/>
            <a:ext cx="24289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Garamond"/>
              </a:rPr>
              <a:t>Введение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Старинный русский народный промысел – лепка из солёного теста — упоминается в летописях уже в XII веке. Центром промысла является Русский Север, Архангельская область. Фигурки из солёного теста были не простыми игрушками, они играли магическую, ритуальную роль – служили оберегам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642960" y="145080"/>
            <a:ext cx="7715160" cy="9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"Дарю вам мукосол, чтобы были хлеб да соль, чтобы было в доме изобилие", - так говорили в праздники в северных русских деревнях, даря произведения из солёного теста.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     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Garamond"/>
              </a:rPr>
              <a:t>                                                                                        </a:t>
            </a:r>
            <a:r>
              <a:rPr b="1" lang="ru-RU" sz="2400" spc="-1" strike="noStrike">
                <a:solidFill>
                  <a:srgbClr val="ffc000"/>
                </a:solidFill>
                <a:latin typeface="Garamond"/>
              </a:rPr>
              <a:t>Мукосол - это не только забавные фигурки из солёного теста на холсте или в самостоятельной композиции, это обереги наших домов ещё с дохристианских времён. Считалась, что любая такая поделка, находящаяся в доме - символ богатства, благополучия и достатка в семье.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2" descr="40da7b2ccd5f"/>
          <p:cNvPicPr/>
          <p:nvPr/>
        </p:nvPicPr>
        <p:blipFill>
          <a:blip r:embed="rId1"/>
          <a:stretch/>
        </p:blipFill>
        <p:spPr>
          <a:xfrm>
            <a:off x="3143160" y="1928880"/>
            <a:ext cx="22147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Garamond"/>
              </a:rPr>
              <a:t>Планирование работы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егодня, работая с солёным тестом, многие придумывают удивительно красивые названия - тестопластика, биокерамика и даже, мукосолька! Но как не называй - результат, порой, превосходит все наши ожидания! Рождение шедевра из солёного теста - это всегда событие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49968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aramond"/>
              </a:rPr>
              <a:t>План работы</a:t>
            </a:r>
            <a:br>
              <a:rPr sz="4400"/>
            </a:br>
            <a:r>
              <a:rPr b="1" lang="ru-RU" sz="2800" spc="-1" strike="noStrike">
                <a:solidFill>
                  <a:srgbClr val="ffc000"/>
                </a:solidFill>
                <a:latin typeface="Garamond"/>
              </a:rPr>
              <a:t>Из плитки вырезаем круг .                                                                     На круг  наклеиваем мишуру новогоднюю</a:t>
            </a:r>
            <a:r>
              <a:rPr b="1" lang="ru-RU" sz="2400" spc="-1" strike="noStrike">
                <a:solidFill>
                  <a:srgbClr val="ffc000"/>
                </a:solidFill>
                <a:latin typeface="Garamond"/>
              </a:rPr>
              <a:t>.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Picture 2" descr="C:\Documents and Settings\Администратор\Рабочий стол\фото Рождественская звезда\SAM_4878.JPG"/>
          <p:cNvPicPr/>
          <p:nvPr/>
        </p:nvPicPr>
        <p:blipFill>
          <a:blip r:embed="rId1"/>
          <a:stretch/>
        </p:blipFill>
        <p:spPr>
          <a:xfrm>
            <a:off x="1571760" y="2500200"/>
            <a:ext cx="6072120" cy="3571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285840" y="928800"/>
            <a:ext cx="107136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20:19:17Z</dcterms:created>
  <dc:creator>Симоненко</dc:creator>
  <dc:description/>
  <dc:language>en-US</dc:language>
  <cp:lastModifiedBy>КарМаН</cp:lastModifiedBy>
  <dcterms:modified xsi:type="dcterms:W3CDTF">2012-01-17T12:23:05Z</dcterms:modified>
  <cp:revision>24</cp:revision>
  <dc:subject/>
  <dc:title>Слайд 1</dc:title>
</cp:coreProperties>
</file>