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D258-3BE0-4807-B295-FEB2E1A2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CE2D-CACC-4F92-ABF7-CC02B775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F566-15D3-42D8-877D-D7946F6E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512B-C1BF-43A0-84D6-5AFB861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4CEE-1881-45E7-B90C-511A554E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C78-4916-431E-8DC8-AC21074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26A-E30C-45FA-92FA-45B9643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3E3B-BBBA-4E39-9F88-E4D66F5F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5CCF-36AB-4C59-BB95-3B1D3F64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E746-148C-4FE0-BA25-52F739F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0023-4771-4A30-9739-6E30FD0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968E-AA5B-4097-A187-2401B267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1179-7EDC-4978-823D-BC9FCBF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D1F7-B4EC-4B21-A54C-EDF271F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DCF-5F49-42DB-95BA-BF042E8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2918-9399-4F87-9372-66EB11B9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6245-2BB4-4F34-8BD4-417825B5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F327-1AB2-472B-BBD0-411EB2E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7731-7CBB-4FF8-8410-EFBCA56E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C374-7B23-4E85-978C-C973BBFD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711B-335C-4FAC-8552-F0F33AF3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128E-3EBD-40CB-800B-C244484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A03D-852C-4BDC-9093-1179536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E834E-21EC-4827-A4A4-91A250B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E57-42BD-4694-9E96-4EAE5AE4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9B12-57E3-483A-BAE9-0ECE3BA628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9040" y="2786040"/>
            <a:ext cx="4572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Симоненко Алла Васильевна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МОУ «Гоноховская  СОШ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Алтайский край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Завьяловский район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 4 класс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57120" y="723960"/>
            <a:ext cx="492912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сивый    подсвечник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285920" y="2908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Calibri"/>
              </a:rPr>
              <a:t>По центру подсвечника устанавливаем свечу и декорируем поделку  (приклеиваем)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3" descr="C:\Documents and Settings\Администратор\Рабочий стол\фото Рождественская звезда\SAM_4879.JPG"/>
          <p:cNvPicPr/>
          <p:nvPr/>
        </p:nvPicPr>
        <p:blipFill>
          <a:blip r:embed="rId1"/>
          <a:stretch/>
        </p:blipFill>
        <p:spPr>
          <a:xfrm>
            <a:off x="1500120" y="1965240"/>
            <a:ext cx="62866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Оформление</a:t>
            </a:r>
            <a:br>
              <a:rPr sz="6000"/>
            </a:b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В центр  приклеить цветы и лист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2" descr="C:\Documents and Settings\Администратор\Рабочий стол\фото Рождественская звезда\SAM_4880.JPG"/>
          <p:cNvPicPr/>
          <p:nvPr/>
        </p:nvPicPr>
        <p:blipFill>
          <a:blip r:embed="rId1"/>
          <a:stretch/>
        </p:blipFill>
        <p:spPr>
          <a:xfrm>
            <a:off x="1643040" y="24004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Из истор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Garamond"/>
              </a:rPr>
              <a:t>Когда главным символом рождества стала ёлка, бедные люди изготавливали из хлебного теста рождественские сувениры. Для сохранения украшений от поедания мышами и насекомыми в тесто добавляли большое количество соли. Так возникло солёное тест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Garamond"/>
              </a:rPr>
              <a:t>Красивый подсвечник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2" descr="C:\Documents and Settings\Администратор\Рабочий стол\фото Рождественская звезда\SAM_4881.JPG"/>
          <p:cNvPicPr/>
          <p:nvPr/>
        </p:nvPicPr>
        <p:blipFill>
          <a:blip r:embed="rId1"/>
          <a:stretch/>
        </p:blipFill>
        <p:spPr>
          <a:xfrm>
            <a:off x="1857240" y="2400480"/>
            <a:ext cx="5357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500040" y="665640"/>
            <a:ext cx="8286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Calibri"/>
              </a:rPr>
              <a:t>Хотя поделки из теста — древняя традиция, им находится место и в современном мире, потому что сейчас ценится всё экологически чистое и сделанное своими руками.Солёное тесто в последние годы стало очень популярным материалом для лепки. Работа с ним доставляет удовольствие и радость. Солёное тесто — материал экологически чистый, безвредный, практически не оставляет грязи, приятен для рук и даёт такие возможности при лепке, которых нет при работе с пластилином или другими мягкими материалами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e283363de2a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САЙ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stupeni.ru›lirika/3368-staty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stival.1september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shkolu.ru›gofile/501540-a106291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l-orbita.ru›publ/dosug…testoplastika/153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Администратор\Рабочий стол\фото Рождественская звезда\SAM_4883.JPG"/>
          <p:cNvPicPr/>
          <p:nvPr/>
        </p:nvPicPr>
        <p:blipFill>
          <a:blip r:embed="rId1"/>
          <a:stretch/>
        </p:blipFill>
        <p:spPr>
          <a:xfrm>
            <a:off x="785880" y="1357200"/>
            <a:ext cx="7715160" cy="50720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2030400" y="158760"/>
            <a:ext cx="6332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Задач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знакомиться с историей возникновения тестопластики в России и странах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иться с выбором рецепта приготовления теста для леп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умать вид издел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готовить изделия из солёного теста в технике тестопласт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раннего детства нас радуют подарки. Это мячи, мягкие игрушки, настольные игры и поделки, сделанные своими руками. Однажды на урок технологии я принесла  солёное тесто для леп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уроке мы лепили новогодние поделки, потом, когда они высохли, красили их гуашью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714240" y="28584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Работать с тестом нам так понравилось, что мы решили сами научиться делать солёное тесто.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e0065"/>
          <p:cNvPicPr/>
          <p:nvPr/>
        </p:nvPicPr>
        <p:blipFill>
          <a:blip r:embed="rId1"/>
          <a:stretch/>
        </p:blipFill>
        <p:spPr>
          <a:xfrm>
            <a:off x="1071720" y="3357720"/>
            <a:ext cx="3786120" cy="307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Администратор\Рабочий стол\Тестоп Осень\SAM_3915.JPG"/>
          <p:cNvPicPr/>
          <p:nvPr/>
        </p:nvPicPr>
        <p:blipFill>
          <a:blip r:embed="rId2"/>
          <a:stretch/>
        </p:blipFill>
        <p:spPr>
          <a:xfrm>
            <a:off x="5929200" y="4000680"/>
            <a:ext cx="2428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Введе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таринный русский народный промысел – лепка из солёного теста — упоминается в летописях уже в XII веке. Центром промысла является Русский Север, Архангельская область. Фигурки из солёного теста были не простыми игрушками, они играли магическую, ритуальную роль – служили оберег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642960" y="145080"/>
            <a:ext cx="77151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"Дарю вам мукосол, чтобы были хлеб да соль, чтобы было в доме изобилие", - так говорили в праздники в северных русских деревнях, даря произведения из солёного теста.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Мукосол - это не только забавные фигурки из солёного теста на холсте или в самостоятельной композиции, это обереги наших домов ещё с дохристианских времён. Считалась, что любая такая поделка, находящаяся в доме - символ богатства, благополучия и достатка в семье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40da7b2ccd5f"/>
          <p:cNvPicPr/>
          <p:nvPr/>
        </p:nvPicPr>
        <p:blipFill>
          <a:blip r:embed="rId1"/>
          <a:stretch/>
        </p:blipFill>
        <p:spPr>
          <a:xfrm>
            <a:off x="3143160" y="1928880"/>
            <a:ext cx="2214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Garamond"/>
              </a:rPr>
              <a:t>Планирование работ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годня, работая с солёным тестом, многие придумывают удивительно красивые названия - тестопластика, биокерамика и даже, мукосолька! Но как не называй - результат, порой, превосходит все наши ожидания! Рождение шедевра из солёного теста - это всегда событие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лан работы</a:t>
            </a:r>
            <a:br>
              <a:rPr sz="4400"/>
            </a:br>
            <a:r>
              <a:rPr b="1" lang="ru-RU" sz="2800" spc="-1" strike="noStrike">
                <a:solidFill>
                  <a:srgbClr val="ffc000"/>
                </a:solidFill>
                <a:latin typeface="Garamond"/>
              </a:rPr>
              <a:t>Из плитки вырезаем круг .                                                                     На круг  наклеиваем мишуру новогоднюю</a:t>
            </a:r>
            <a:r>
              <a:rPr b="1" lang="ru-RU" sz="2400" spc="-1" strike="noStrike">
                <a:solidFill>
                  <a:srgbClr val="ffc000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2" descr="C:\Documents and Settings\Администратор\Рабочий стол\фото Рождественская звезда\SAM_4878.JPG"/>
          <p:cNvPicPr/>
          <p:nvPr/>
        </p:nvPicPr>
        <p:blipFill>
          <a:blip r:embed="rId1"/>
          <a:stretch/>
        </p:blipFill>
        <p:spPr>
          <a:xfrm>
            <a:off x="1571760" y="2500200"/>
            <a:ext cx="6072120" cy="357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285840" y="92880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20:19:17Z</dcterms:created>
  <dc:creator>Симоненко</dc:creator>
  <dc:description/>
  <dc:language>en-US</dc:language>
  <cp:lastModifiedBy>КарМаН</cp:lastModifiedBy>
  <dcterms:modified xsi:type="dcterms:W3CDTF">2012-01-17T12:23:05Z</dcterms:modified>
  <cp:revision>24</cp:revision>
  <dc:subject/>
  <dc:title>Слайд 1</dc:title>
</cp:coreProperties>
</file>