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674-7749-4C3D-9776-B08F7D61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716-E5EF-466F-9F54-BBACB133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1DB-7013-40AA-864A-78DF7F6A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A7B-9F2D-40B9-8CB0-2F07F356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F495-F033-4ADC-BDA5-58F85A54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3959-BBC9-49FD-BA53-6BC46CED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3150-4E4F-48D0-B5F2-E2A64A52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4868-F28F-4836-92EA-835AEBCA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E032-DC0B-4122-A93D-3C1E424F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F1A0-5FA8-402B-9CE1-ACCF395A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86C4-50E6-4152-A6A0-57BFEFEC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842-3951-477E-9E9D-F192C2D7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6C73-77FC-45F6-827D-17DFEB16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74FE-408B-4E38-99D1-879E4D3D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4BC1-A394-409B-8556-FF412047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8B46-A0C1-4C86-B75F-CF906D6E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964F-D217-4D78-92EC-F443E724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42C-1CF2-4168-AB94-246B3C92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836-51FD-4278-A25B-13BA7CD2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D31-B689-4122-B226-50DDAB91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7CC-6936-452A-AC30-1A28415C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282-F17B-4719-9DF4-B6C83D37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8D7-C547-4E32-BAFF-AAED583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964-7CEC-4609-98C8-8E8D51A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E351-D1EB-4ECE-8D1B-CE8A5C08D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03F1-C2DD-451C-B1D4-54469A6CC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Сочинение по картине В.В. Мешкова «Золотая осень в Карелии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рок развития речи в 8 класс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читель Фролова Н.Н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коро вечер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120" y="1557360"/>
            <a:ext cx="7265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 Золотая  осень в Карелии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8360" y="1557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ловарная рабо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Ландшаф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олор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Цветовая гам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Формат хол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омпози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оэтич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Валу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ейза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ыберите словосочетания для ответа на вопросы к упр. № 54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покойный, слегка холмистый рельеф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Лес, уходящий за горизон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илие валунов, озё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Широта, протяжённость простор карельского пейзаж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егромкая, неяркая, холодноватая ,но милая северная зем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печатление умиротворения, тишины, спокойствия, лёгкой гру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Удлинённый форма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алитра художн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Ярк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Тёп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Золоти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оричнев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раснова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Холоднова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еро-зелё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озрач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Чи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еброск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ставим пл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сень в творчестве поэтов и худож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сень у Мешков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дний план картины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Центральное изображени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дний пл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печатление от картины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озможное начало сочин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дним из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амых поэтичных времён года является осень. Она вдохновляет поэтов, композиторов и художников на создание замечательных произве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споминаются строки Пушкина, картины Левита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 хочу поделиться впечатлениями от картины В.В. Мешкова. Она называется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ключительная ча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воим лирическим пейзажем художник,  по-видимому,хотел выразить чувство нежности к природе, любовь к негромкой, неяркой, холодноватой, но милой северной зем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ртина производит впечатление умиротворения, тишины, спокойствия, лёгкой гру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писать сочинение по картине. Поделиться впечатлениями от увиденног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дачи вам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нылая пора! Очей очарованье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.Л.Былич   «Осен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58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ятна мне твоя прощальная краса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.Саврасов  « Осен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335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юблю я пышное природы увяданье…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асилий Васильевич Мешков 1893-1963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51280" y="1599840"/>
            <a:ext cx="303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томственный художник-пейзажис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 детства увлекался живопис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обое место в творчестве занимали пейзажи Карел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697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Край озёр, непуганых птиц, нехоженых троп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483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Царство воды, камня и леса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5840" y="1557360"/>
            <a:ext cx="8572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нняя осен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968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иши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201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0:39:38Z</dcterms:created>
  <dc:creator>Admin</dc:creator>
  <dc:description/>
  <dc:language>en-US</dc:language>
  <cp:lastModifiedBy>Admin</cp:lastModifiedBy>
  <dcterms:modified xsi:type="dcterms:W3CDTF">2010-10-23T16:48:06Z</dcterms:modified>
  <cp:revision>54</cp:revision>
  <dc:subject/>
  <dc:title>Слайд 1</dc:title>
</cp:coreProperties>
</file>