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ABF-34D8-4AFC-97CA-DFB5F353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EBB-7E61-4A9E-B11E-ADCDE3DD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2F2-68DF-4E7C-9574-48F6A1CE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9EB-92ED-445F-8F18-E61768DB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F5D7-7C52-4DE6-890C-B17AEDD7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4357-CDAA-4D41-A448-44FA4331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6CA9-7AC8-46E9-86B7-25585F49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5488-D783-4283-B61D-2C9A2EEE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4C0C-5968-4647-8FD3-9BE59E14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7FD3-43F2-43D4-A1AE-31B7A11B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1638-E4C2-4599-BD07-6A79D931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E2D-5F08-42BF-92AD-128DCD59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1CCF-4EBB-4FBF-99A1-454AC03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CE5B-F650-4CFE-85F6-2B6F7507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156D-6AE2-40F6-865B-410BBCA4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24B8-A010-4AE1-91D3-2FB59170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2EED-9F71-4DFD-9FA3-B3228130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5B3-6CE0-4184-A329-B61B3399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B8F-3910-4A8A-8029-07F1CEAC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E7E-3955-4D1D-A36E-E722AAA6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E33-168B-483F-8AA7-E967DA98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B09-1008-4035-AE48-BE207AC5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1CE-24C1-484C-93D5-5CC70688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59B-EA2D-440F-9302-EF113B3F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91FE-16C0-4E18-A908-EE073F279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8E3A-B2D3-43B7-9AA0-3A38835D2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Сочинение по картине В.В. Мешкова «Золотая осень в Карелии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рок развития речи в 8 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читель Фролова Н.Н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коро вечер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120" y="1557360"/>
            <a:ext cx="7265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 Золотая  осень в Карелии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8360" y="1557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Ландшаф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олор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Цветовая гам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Формат хол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омпози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оэтич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Валу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ейза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ыберите словосочетания для ответа на вопросы к упр. № 54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покойный, слегка холмистый рельеф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Лес, уходящий за горизон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илие валунов, озё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Широта, протяжённость простор карельского пейзаж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егромкая, неяркая, холодноватая ,но милая северная зем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печатление умиротворения, тишины, спокойствия, лёгкой гру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Удлинённый форма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алитра художн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Ярк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Тёп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Золоти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оричнев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раснова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Холоднова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еро-зелё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озрач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Чи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еброск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ставим пл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сень в творчестве поэтов и худож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сень у Мешков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дний план картин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Центральное изображени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дний пл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печатление от картины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озможное начало сочин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дним из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амых поэтичных времён года является осень. Она вдохновляет поэтов, композиторов и художников на создание замечательных произве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поминаются строки Пушкина, картины Левита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 хочу поделиться впечатлениями от картины В.В. Мешкова. Она называется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ключительная ча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воим лирическим пейзажем художник,  по-видимому,хотел выразить чувство нежности к природе, любовь к негромкой, неяркой, холодноватой, но милой северной зем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ртина производит впечатление умиротворения, тишины, спокойствия, лёгкой гру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писать сочинение по картине. Поделиться впечатлениями от увиденног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дачи вам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нылая пора! Очей очарованье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.Л.Былич   «Осен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58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ятна мне твоя прощальная краса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.Саврасов  « Осен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335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юблю я пышное природы увяданье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асилий Васильевич Мешков 1893-1963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51280" y="1599840"/>
            <a:ext cx="303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томственный художник-пейзажис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 детства увлекался живопис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обое место в творчестве занимали пейзажи Карел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697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Край озёр, непуганых птиц, нехоженых троп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483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Царство воды, камня и леса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5840" y="1557360"/>
            <a:ext cx="8572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нняя осен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968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иши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201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9:38Z</dcterms:created>
  <dc:creator>Admin</dc:creator>
  <dc:description/>
  <dc:language>en-US</dc:language>
  <cp:lastModifiedBy>Admin</cp:lastModifiedBy>
  <dcterms:modified xsi:type="dcterms:W3CDTF">2010-10-23T16:48:06Z</dcterms:modified>
  <cp:revision>54</cp:revision>
  <dc:subject/>
  <dc:title>Слайд 1</dc:title>
</cp:coreProperties>
</file>