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33A-58D6-440F-8C6F-C8B74423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B47-1244-4435-B714-9C2F6B9B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4D7-1500-4504-9085-CEB94E82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D5D-D9D7-4918-A398-85D18B91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2396-D04F-45D9-A69D-C84886F5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8CB1-0803-42E4-931D-044CEF61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8943-486B-4BAA-8141-35968796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C6E0-E2C7-4FA1-B303-E2B2BAC7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216B-77DF-49B0-A80B-E61550D7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8206-F440-4CE0-834D-24CFE787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44B2-7929-44AE-A3CA-037A579E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502-1550-45E3-9322-1B44DDF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EBB4-8B1E-4346-A905-08569C8F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4936-A883-41E4-8377-65CA34A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ED04-83E7-4E8B-9AFC-A51181DF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9EDB-E270-4771-AC10-C299DB5F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A1E9-2D72-474D-B959-FDA6407E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A1C-7C93-490D-A480-73523032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A14-686C-4E75-A3E9-40F32AE6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264-68C6-40C7-B6B4-BDA4317F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4D8-9885-4563-BCFF-5D4AC1A6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FD2-4AA3-41BA-9AB3-33890D68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80F-67C7-42FE-A40C-AD2FA6F4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4C6-09E9-43EA-8163-C47AA94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6C2C-DCA1-4299-82B8-FBB84BF63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27B8-FF54-4DC8-A43B-49E7179C8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Сочинение по картине В.В. Мешкова «Золотая осень в Карелии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рок развития речи в 8 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читель Фролова Н.Н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коро вечер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1557360"/>
            <a:ext cx="7265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 Золотая  осень в Карели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Ландшаф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олор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Цветовая гам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Формат хол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омпози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оэтич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Валу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ейза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ыберите словосочетания для ответа на вопросы к упр. № 54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покойный, слегка холмистый рельеф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Лес, уходящий за горизон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илие валунов, озё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Широта, протяжённость простор карельского пейзаж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егромкая, неяркая, холодноватая ,но милая северная зем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печатление умиротворения, тишины, спокойствия, лёгкой гру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Удлинённый форма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алитра художн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Яр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Тёп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Золоти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оричнев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раснова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Холоднова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еро-зелё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озрач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Чи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еброс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ставим пл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сень в творчестве поэтов и худож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сень у Мешков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дний план картин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Центральное изображени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дний пл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печатление от картины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озможное начало сочин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дним из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амых поэтичных времён года является осень. Она вдохновляет поэтов, композиторов и художников на создание замечательных произве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поминаются строки Пушкина, картины Левита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 хочу поделиться впечатлениями от картины В.В. Мешкова. Она называется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ключительная ча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воим лирическим пейзажем художник,  по-видимому,хотел выразить чувство нежности к природе, любовь к негромкой, неяркой, холодноватой, но милой северной зем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ртина производит впечатление умиротворения, тишины, спокойствия, лёгкой гру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писать сочинение по картине. Поделиться впечатлениями от увиденно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дачи вам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нылая пора! Очей очарованье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.Л.Былич   «Осен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58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ятна мне твоя прощальная краса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.Саврасов  « Осен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335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юблю я пышное природы увяданье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асилий Васильевич Мешков 1893-1963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51280" y="1599840"/>
            <a:ext cx="303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томственный художник-пейзажис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 детства увлекался живопис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обое место в творчестве занимали пейзажи Карел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697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Край озёр, непуганых птиц, нехоженых троп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483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Царство воды, камня и леса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5840" y="1557360"/>
            <a:ext cx="8572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нняя осен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968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иши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201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9:38Z</dcterms:created>
  <dc:creator>Admin</dc:creator>
  <dc:description/>
  <dc:language>en-US</dc:language>
  <cp:lastModifiedBy>Admin</cp:lastModifiedBy>
  <dcterms:modified xsi:type="dcterms:W3CDTF">2010-10-23T16:48:06Z</dcterms:modified>
  <cp:revision>54</cp:revision>
  <dc:subject/>
  <dc:title>Слайд 1</dc:title>
</cp:coreProperties>
</file>