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gif" ContentType="image/gif"/>
  <Override PartName="/ppt/media/image26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34.jpeg" ContentType="image/jpeg"/>
  <Override PartName="/ppt/media/image1.gif" ContentType="image/gif"/>
  <Override PartName="/ppt/media/image11.jpeg" ContentType="image/jpeg"/>
  <Override PartName="/ppt/media/image18.wmf" ContentType="image/x-wmf"/>
  <Override PartName="/ppt/media/image36.jpeg" ContentType="image/jpeg"/>
  <Override PartName="/ppt/media/image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37.gif" ContentType="image/gif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801-B940-45F3-AE7D-3947F139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879-3A3E-4B88-986F-8D5AC7C5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849-9876-4538-80BF-9D27DE80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D21-F4BE-4B21-9F22-58B9E93C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774F-2D4A-40C1-B72E-03E67393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4D13-7F9C-43FB-8174-B5E8E74F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C83B-1B5C-4210-96FE-54AC3F4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75E-3832-4222-BB6C-CD09959F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9542-2242-4CB8-8005-801AD42E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50ED-7D2B-4828-90F4-A70BE865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45DC-AE2F-484D-B430-569F3835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B1A-C9F1-4E6B-858B-26B4EDCD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00D0-5FDE-4C0F-9C32-854D8C2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3446-C0B7-41D5-B245-6DAA908A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BED5-A969-4D6D-BC73-EB80083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8583-2D52-42C9-8F27-C6E73ABD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5D1-A8A7-43CD-B435-7152D62B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26A-2E67-4336-B4A1-A1C496E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534-78AB-4F35-8D93-5E206B6E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2F8-2722-4DEC-A786-87F28AE1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B7F-74DC-40F1-BE60-F039C0F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ECC-BBDB-48AD-A766-2874BF7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27D-7618-4C8C-A0B4-60808A9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37B-9733-49E2-99B4-5D307571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770-B191-462A-910D-E505AFD21CA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CBC-5D6F-4740-B57E-791B0D46370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mvist.ru/ims/all/11.06.06/big/15.jp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cc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WordArt 4"/>
          <p:cNvSpPr txBox="1"/>
          <p:nvPr/>
        </p:nvSpPr>
        <p:spPr>
          <a:xfrm>
            <a:off x="250920" y="333360"/>
            <a:ext cx="777240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лимпийские  игры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древности и современности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684360" y="1773360"/>
            <a:ext cx="8208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Times New Roman"/>
              </a:rPr>
              <a:t>Награды победителя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51814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Главной наградой победителю Олимпийских игр служил венок из оливковых ветвей. Их срезали золотым ритуальным ножом со старого дерева, которое , как считалось , посадил Геракл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Кроме венка победитель получал пальмовую ветвь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Имя атлета высекалось на мраморных колоннах, которые устанавливали вдоль реки Алфей в Олимпи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Олимпионик , победивший в состязаниях трижды , получал право поставить в Олимпии свою статую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Жители города, в котором жил победитель, одаривали его дорогими подарками, освобождали от налогов, назначали пожизненную пенсию, предоставляли бесплатное место в театр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озвращение победителя  к себе на Родину превращалось в подлинно триумфальное шествие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Первым победителем Олимпийских игр был бегун Корэб из Элиды.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Рассказы о знаменитых атлетах  (учебник стр.156.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9" name="Picture 5" descr="f10"/>
          <p:cNvPicPr/>
          <p:nvPr/>
        </p:nvPicPr>
        <p:blipFill>
          <a:blip r:embed="rId1"/>
          <a:stretch/>
        </p:blipFill>
        <p:spPr>
          <a:xfrm>
            <a:off x="6519960" y="1773360"/>
            <a:ext cx="1428480" cy="2197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1176638450"/>
          <p:cNvPicPr/>
          <p:nvPr/>
        </p:nvPicPr>
        <p:blipFill>
          <a:blip r:embed="rId2"/>
          <a:stretch/>
        </p:blipFill>
        <p:spPr>
          <a:xfrm>
            <a:off x="6012000" y="4149720"/>
            <a:ext cx="2630520" cy="161928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68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68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6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древней Греции игры проводились 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293</a:t>
            </a: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а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 776г.до н.э   по     394 г.н.э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лимпийские игры были отменены римским императором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одосием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в 394 г. н.э.,который принял свод законов по борьбе с язычеством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оружения и храмы  Олимпии были разрушен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Задание 1. Вставить пропущенные слова в тексте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“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лимпийские игры”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_______    году до н.э. Они посвящались богу  _______        Со всех концов Греции спешили люди на великолепное зрелище, которое проводилось только раз в ________       года. Проводились Олимпийские игры в _________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о время игр запрещалось _________   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_____Рабов, чужеземцев и _____           на игры не допускали. Празднества продолжались____       дней. На стадионе состязались в пятиборье, на ипподроме – в_______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_________         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_______ чудес света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5" name="Picture 4" descr="ag00317_"/>
          <p:cNvPicPr/>
          <p:nvPr/>
        </p:nvPicPr>
        <p:blipFill>
          <a:blip r:embed="rId1"/>
          <a:stretch/>
        </p:blipFill>
        <p:spPr>
          <a:xfrm>
            <a:off x="250920" y="9079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бразец выполненного зад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Олимпийские игры состоялись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776 году до 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н.э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Они посвящались богу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Зевсу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о всех концов Греции спешили люди на великолепное зрелище, которое проводилось только раз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четыре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года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Проводились Олимпийские игры в Олимпи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 время игр запрещалось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оевать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иновные в нарушении правил платили большой штраф. Атлеты должны были предварительно записаться в списки участников и тренироваться около года у себя на родине и еще месяц в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мпии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абов, чужеземцев 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женщи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на игры не допускали. Празднества продолжались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пять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ней. На стадионе состязались в пятиборье, на ипподроме –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в гонках на колесницах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качестве награды они получали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оливковую ветвь</a:t>
            </a:r>
            <a:r>
              <a:rPr b="0" i="1" lang="ru-RU" sz="2000" spc="-1" strike="noStrike" u="sng">
                <a:solidFill>
                  <a:srgbClr val="00ff00"/>
                </a:solidFill>
                <a:uFillTx/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аграждение проходило перед храмом Зевса, где находилась знаменитая статуя работы Фидия, признанная одним из </a:t>
            </a:r>
            <a:r>
              <a:rPr b="0" i="1" lang="ru-RU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ми</a:t>
            </a:r>
            <a:r>
              <a:rPr b="0" i="1" lang="ru-RU" sz="2000" spc="-1" strike="noStrike">
                <a:solidFill>
                  <a:srgbClr val="66ff66"/>
                </a:solidFill>
                <a:latin typeface="Times New Roman"/>
              </a:rPr>
              <a:t> чудес света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4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Французский историк, литератор, педагог , общественно-политический деятель;  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Основатель современного олимпийского движения;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29 лет он был бессменным президентом международного олимпийского комитета (МОК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1912 г. написал  гимн «Ода спорту», который состоит из 9 глав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Первые современные Олимпийские игры состоялись  по его инициативе в 1896 году  в Афинах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В состязаниях участвовало 285 спортсменов – только мужчин из  тринадцати стран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-1798560" y="-1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5172120" y="3638520"/>
            <a:ext cx="18396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611280" y="6237360"/>
            <a:ext cx="396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Пьер де Куберт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Times New Roman"/>
              </a:rPr>
              <a:t>01. 01.1863 - 02.09.19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403280" y="3333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Возрождение Олимпий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ff33cc"/>
                </a:solidFill>
                <a:latin typeface="Times New Roman"/>
              </a:rPr>
              <a:t>дви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6" descr="Пьер де Кубертен (1863 - 1937)"/>
          <p:cNvPicPr/>
          <p:nvPr/>
        </p:nvPicPr>
        <p:blipFill>
          <a:blip r:embed="rId2"/>
          <a:stretch/>
        </p:blipFill>
        <p:spPr>
          <a:xfrm>
            <a:off x="1187280" y="2060640"/>
            <a:ext cx="2797200" cy="38163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8"/>
          <p:cNvSpPr/>
          <p:nvPr/>
        </p:nvSpPr>
        <p:spPr>
          <a:xfrm>
            <a:off x="4473720" y="415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68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68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68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cc"/>
                </a:solidFill>
                <a:latin typeface="Verdana"/>
              </a:rPr>
              <a:t>Олимпийский девиз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Ci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al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fortius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</a:rPr>
              <a:t>»</a:t>
            </a:r>
            <a:r>
              <a:rPr b="0" i="1" lang="ru-RU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в переводе с латинского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«Быстрее, выше, сильнее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выражает устремления олимпийского движения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втором девиза был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священник Дидон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, директор одного из колледжей Франции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heel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ая эмблем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ереплетенные кольца символизируют объединенные в Олимпийское движение пять континентов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Picture 7" descr="11287"/>
          <p:cNvPicPr/>
          <p:nvPr/>
        </p:nvPicPr>
        <p:blipFill>
          <a:blip r:embed="rId1"/>
          <a:stretch/>
        </p:blipFill>
        <p:spPr>
          <a:xfrm>
            <a:off x="5456160" y="2244600"/>
            <a:ext cx="2193840" cy="145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3924360" y="4149720"/>
          <a:ext cx="4895640" cy="2378160"/>
        </p:xfrm>
        <a:graphic>
          <a:graphicData uri="http://schemas.openxmlformats.org/drawingml/2006/table">
            <a:tbl>
              <a:tblPr/>
              <a:tblGrid>
                <a:gridCol w="2448000"/>
                <a:gridCol w="2447640"/>
              </a:tblGrid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ЦВЕТА ОЛИМПИЙСКИХ КОЛ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66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Си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Че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Кра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Желт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Зеле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33"/>
                      </a:solidFill>
                    </a:lnL>
                    <a:lnR w="5760">
                      <a:solidFill>
                        <a:srgbClr val="ff9933"/>
                      </a:solidFill>
                    </a:lnR>
                    <a:lnT w="5760">
                      <a:solidFill>
                        <a:srgbClr val="ff9933"/>
                      </a:solidFill>
                    </a:lnT>
                    <a:lnB w="5760">
                      <a:solidFill>
                        <a:srgbClr val="ff993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wheel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флаг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На белом атласном полотнище изображен олимпийский символ- пять разноцветных переплетенных колец. Белый фон флага, на котором расположены кольца, дополняет идею содружества всех без исключения наций Земли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первые флаг на Олимпийских играх был</a:t>
            </a: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поднят 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920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год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6" name="Picture 6" descr="65223040443eca500519b1"/>
          <p:cNvPicPr/>
          <p:nvPr/>
        </p:nvPicPr>
        <p:blipFill>
          <a:blip r:embed="rId1"/>
          <a:stretch/>
        </p:blipFill>
        <p:spPr>
          <a:xfrm>
            <a:off x="4859280" y="2565360"/>
            <a:ext cx="3854520" cy="2297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й огон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Зажжение олимпийского    огня-  один из главных ритуалов на торжественной церемонии открытия  игр, зажжению предшествует факельная эстафета,  берущая начало в Греции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первые церемония зажжения олимпийского огня  была проведена  на играх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Олимпиады  1928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Амстердаме    и  на зимних играх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в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952 г</a:t>
            </a: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. в Осло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imes New Roman"/>
              </a:rPr>
              <a:t>Олимпийский огонь горит непрерывно в течение Игр и гасится на церемонии закрыт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9" name="Picture 9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000600" cy="1714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fire"/>
          <p:cNvPicPr/>
          <p:nvPr/>
        </p:nvPicPr>
        <p:blipFill>
          <a:blip r:embed="rId2"/>
          <a:stretch/>
        </p:blipFill>
        <p:spPr>
          <a:xfrm>
            <a:off x="5651640" y="4076640"/>
            <a:ext cx="2016000" cy="1944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003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wheel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Талисман Олимпийских иг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бычно талисманом объявляют изображение какого-либо животного , популярного в стране, проводящей Олимпийские иг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летних играх 1968 г. в Мехико талисманом был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ягуа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Талисманом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нреальско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Олимпиады-76 был симпатичны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бобёр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осковской Олимпиады-80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бурый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медвежонок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Миш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4" name="Picture 7" descr="Картинка 19 из 35"/>
          <p:cNvPicPr/>
          <p:nvPr/>
        </p:nvPicPr>
        <p:blipFill>
          <a:blip r:embed="rId1"/>
          <a:stretch/>
        </p:blipFill>
        <p:spPr>
          <a:xfrm>
            <a:off x="6659640" y="2060640"/>
            <a:ext cx="1485720" cy="1944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8" descr="010003photo"/>
          <p:cNvPicPr/>
          <p:nvPr/>
        </p:nvPicPr>
        <p:blipFill>
          <a:blip r:embed="rId2"/>
          <a:stretch/>
        </p:blipFill>
        <p:spPr>
          <a:xfrm>
            <a:off x="6588000" y="4292640"/>
            <a:ext cx="1541520" cy="1800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Картинка 12 из 3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292640"/>
            <a:ext cx="1441440" cy="18003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2" descr="859"/>
          <p:cNvPicPr/>
          <p:nvPr/>
        </p:nvPicPr>
        <p:blipFill>
          <a:blip r:embed="rId5"/>
          <a:stretch/>
        </p:blipFill>
        <p:spPr>
          <a:xfrm>
            <a:off x="4716360" y="2133720"/>
            <a:ext cx="13464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Picture 4" descr="ag00029_"/>
          <p:cNvPicPr/>
          <p:nvPr/>
        </p:nvPicPr>
        <p:blipFill>
          <a:blip r:embed="rId1"/>
          <a:stretch/>
        </p:blipFill>
        <p:spPr>
          <a:xfrm>
            <a:off x="826920" y="1844640"/>
            <a:ext cx="1428840" cy="113364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2340000" y="191628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н урок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1.Первые Олимпийские иг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2.Пять незабываемых дн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3.Современные Олимпийские игры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омашнее 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чебник п.33; задания 8.5; 8.6;(рабочая тетрадь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5400720" cy="1245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ff33cc"/>
                </a:solidFill>
                <a:latin typeface="Times New Roman"/>
              </a:rPr>
              <a:t>Олимпийские награды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Олимпийские чемпионы современности за победу в Олимпийских играх  получают олимпийские медали 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(золотые , серебряные и бронзовые)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33cc"/>
                </a:solidFill>
                <a:latin typeface="Times New Roman"/>
              </a:rPr>
              <a:t>Победа в Олимпийских играх считается самым большим спортивным достижением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0" name="Picture 7" descr="olimpKomitet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59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оссийские олимпийц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портсмены из России впервые приняли участие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08 г. в 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V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Олимпийских играх.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Команда состояла из 5 человек, но , несмотря на малочисленность, они завоевали одну золотую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фигурист Н.Панин-Коломенкин)</a:t>
            </a:r>
            <a:r>
              <a:rPr b="0" i="1" lang="ru-RU" sz="2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две серебряные медал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( борцы Н.Орлов и А.Петров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3" name="Picture 10" descr="nikolay_panin320x472"/>
          <p:cNvPicPr/>
          <p:nvPr/>
        </p:nvPicPr>
        <p:blipFill>
          <a:blip r:embed="rId1"/>
          <a:stretch/>
        </p:blipFill>
        <p:spPr>
          <a:xfrm>
            <a:off x="5157720" y="1981080"/>
            <a:ext cx="2789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Гордость Российского                 спор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3429000" y="2925720"/>
            <a:ext cx="168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" name="Picture 5" descr="Владислав Третьяк. Фото: Виктор Васенин"/>
          <p:cNvPicPr/>
          <p:nvPr/>
        </p:nvPicPr>
        <p:blipFill>
          <a:blip r:embed="rId1"/>
          <a:stretch/>
        </p:blipFill>
        <p:spPr>
          <a:xfrm>
            <a:off x="755640" y="2276640"/>
            <a:ext cx="2087640" cy="187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7" name=""/>
          <p:cNvGraphicFramePr/>
          <p:nvPr/>
        </p:nvGraphicFramePr>
        <p:xfrm>
          <a:off x="826920" y="3068640"/>
          <a:ext cx="1872000" cy="3085920"/>
        </p:xfrm>
        <a:graphic>
          <a:graphicData uri="http://schemas.openxmlformats.org/drawingml/2006/table">
            <a:tbl>
              <a:tblPr/>
              <a:tblGrid>
                <a:gridCol w="1872000"/>
              </a:tblGrid>
              <a:tr h="1195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Владислав Треть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рёхкратный олимпийский чемпион по хокке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8" name="Picture 27" descr="SPORT-rodnina-41hi"/>
          <p:cNvPicPr/>
          <p:nvPr/>
        </p:nvPicPr>
        <p:blipFill>
          <a:blip r:embed="rId2"/>
          <a:stretch/>
        </p:blipFill>
        <p:spPr>
          <a:xfrm>
            <a:off x="3564000" y="2276640"/>
            <a:ext cx="2171520" cy="19443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28"/>
          <p:cNvSpPr/>
          <p:nvPr/>
        </p:nvSpPr>
        <p:spPr>
          <a:xfrm>
            <a:off x="3784680" y="4295520"/>
            <a:ext cx="17370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Ири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Роднин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трёхкрат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 фигурном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кат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34"/>
          <p:cNvSpPr/>
          <p:nvPr/>
        </p:nvSpPr>
        <p:spPr>
          <a:xfrm>
            <a:off x="6372360" y="4002120"/>
            <a:ext cx="201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Александ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Карел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тырехкратны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лимпийски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чемпио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греко-римск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борьб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3640320" y="2439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2" name="Picture 36" descr="Александр Карелин 01"/>
          <p:cNvPicPr/>
          <p:nvPr/>
        </p:nvPicPr>
        <p:blipFill>
          <a:blip r:embed="rId3"/>
          <a:stretch/>
        </p:blipFill>
        <p:spPr>
          <a:xfrm>
            <a:off x="6300720" y="2276640"/>
            <a:ext cx="21240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йские  виды спор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Летние Олимпийские  виды спорта  сегодня включают в себ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-29 дисципли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(легкая атлета,бокс, борьба ,конный спорт,футбол, и  т.д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Зимние Олимпийские виды спорта включают в себя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-7 дисципли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imes New Roman"/>
              </a:rPr>
              <a:t>(биатлон, бобслей, конькобежный спорт, кёрлинг, лыжный спорт, санный спорт, хоккей  с шайбой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должительность современных Олимпийских игр 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летних игр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Times New Roman"/>
              </a:rPr>
              <a:t>-15 дней, </a:t>
            </a:r>
            <a:r>
              <a:rPr b="0" lang="ru-RU" sz="2000" spc="-1" strike="noStrike">
                <a:solidFill>
                  <a:srgbClr val="00ccff"/>
                </a:solidFill>
                <a:latin typeface="Times New Roman"/>
              </a:rPr>
              <a:t>зимних-10 дней</a:t>
            </a:r>
            <a:r>
              <a:rPr b="0" lang="ru-RU" sz="20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Современное пятиборь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Виды  пятиборь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Стрельба 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Фехтование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Плавание 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Верховая езда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00"/>
                </a:solidFill>
                <a:latin typeface="Times New Roman"/>
              </a:rPr>
              <a:t>Бег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</a:rPr>
              <a:t>Современное пятиборье проходит за один день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7" name="Picture 11" descr="250px-Modern_Pentathlon_2004_Olympics"/>
          <p:cNvPicPr/>
          <p:nvPr/>
        </p:nvPicPr>
        <p:blipFill>
          <a:blip r:embed="rId1"/>
          <a:stretch/>
        </p:blipFill>
        <p:spPr>
          <a:xfrm>
            <a:off x="7236000" y="4437000"/>
            <a:ext cx="938160" cy="1440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Horse_1"/>
          <p:cNvPicPr/>
          <p:nvPr/>
        </p:nvPicPr>
        <p:blipFill>
          <a:blip r:embed="rId2"/>
          <a:stretch/>
        </p:blipFill>
        <p:spPr>
          <a:xfrm>
            <a:off x="4643280" y="4653000"/>
            <a:ext cx="1800360" cy="1182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5" descr="Pyatibore_fext"/>
          <p:cNvPicPr/>
          <p:nvPr/>
        </p:nvPicPr>
        <p:blipFill>
          <a:blip r:embed="rId3"/>
          <a:stretch/>
        </p:blipFill>
        <p:spPr>
          <a:xfrm>
            <a:off x="6156360" y="2060640"/>
            <a:ext cx="1111320" cy="1368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" descr="5644"/>
          <p:cNvPicPr/>
          <p:nvPr/>
        </p:nvPicPr>
        <p:blipFill>
          <a:blip r:embed="rId4"/>
          <a:stretch/>
        </p:blipFill>
        <p:spPr>
          <a:xfrm>
            <a:off x="4572000" y="2492280"/>
            <a:ext cx="1162080" cy="1368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3" descr="38924_20071015132443"/>
          <p:cNvPicPr/>
          <p:nvPr/>
        </p:nvPicPr>
        <p:blipFill>
          <a:blip r:embed="rId5"/>
          <a:stretch/>
        </p:blipFill>
        <p:spPr>
          <a:xfrm>
            <a:off x="7740720" y="2565360"/>
            <a:ext cx="957240" cy="144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-8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980 г. в Москве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роходили игры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летней Олимпиады  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ША, ФРГ, Япония и Канада отказались принимать участие в играх, проходивших в Советском Союзе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есмотря на это, в Играх приняли участие 5603 спортсмена из 81 страны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играх  было зарегистрировано 36 мировых,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76 олимпийских, 40 европейских рекорд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heel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Девиз олимпиады </a:t>
            </a: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 Black"/>
              </a:rPr>
              <a:t>"Один мир - одна мечта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Эмблема в виде бегущего человека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оторый выглядит как китайский иероглиф,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означающий "столица".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5" name="Picture 4" descr="У Олимпиады-2008 будет сразу пять талисманов"/>
          <p:cNvPicPr/>
          <p:nvPr/>
        </p:nvPicPr>
        <p:blipFill>
          <a:blip r:embed="rId1"/>
          <a:stretch/>
        </p:blipFill>
        <p:spPr>
          <a:xfrm>
            <a:off x="468360" y="3187800"/>
            <a:ext cx="2952720" cy="20127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76" name="Rectangle 5"/>
          <p:cNvSpPr/>
          <p:nvPr/>
        </p:nvSpPr>
        <p:spPr>
          <a:xfrm>
            <a:off x="1835280" y="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кин – столиц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Х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летней олимпиады-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7" name="Picture 6" descr="эмблемой олимп 2008 станет бегущий человек"/>
          <p:cNvPicPr/>
          <p:nvPr/>
        </p:nvPicPr>
        <p:blipFill>
          <a:blip r:embed="rId2"/>
          <a:stretch/>
        </p:blipFill>
        <p:spPr>
          <a:xfrm>
            <a:off x="5364000" y="3213000"/>
            <a:ext cx="2953080" cy="19702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78" name="Text Box 7"/>
          <p:cNvSpPr/>
          <p:nvPr/>
        </p:nvSpPr>
        <p:spPr>
          <a:xfrm>
            <a:off x="755640" y="5229360"/>
            <a:ext cx="699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 олимпиады в Пекине было  сразу пять талисманов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рыба, панда, дух олимпийского огн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ибетская антилопа и ласточ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Олимпиада в Сочи    2014г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Столице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зимних   Олимпийских игр и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Х</a:t>
            </a: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аралимпийских   зимних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игр 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2014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году выбран г.Соч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Период проведения с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 по 23 февраля 2014 год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</a:rPr>
              <a:t>На проведение Олимпиады в Сочи будет выделено около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12 миллиардов долларов СШ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Picture 7" descr="1sochi8"/>
          <p:cNvPicPr/>
          <p:nvPr/>
        </p:nvPicPr>
        <p:blipFill>
          <a:blip r:embed="rId1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8" descr="f093"/>
          <p:cNvPicPr/>
          <p:nvPr/>
        </p:nvPicPr>
        <p:blipFill>
          <a:blip r:embed="rId2"/>
          <a:stretch/>
        </p:blipFill>
        <p:spPr>
          <a:xfrm>
            <a:off x="7380360" y="4724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9" descr="f093"/>
          <p:cNvPicPr/>
          <p:nvPr/>
        </p:nvPicPr>
        <p:blipFill>
          <a:blip r:embed="rId3"/>
          <a:stretch/>
        </p:blipFill>
        <p:spPr>
          <a:xfrm>
            <a:off x="3708360" y="4724280"/>
            <a:ext cx="2448000" cy="1743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0" descr="f093"/>
          <p:cNvPicPr/>
          <p:nvPr/>
        </p:nvPicPr>
        <p:blipFill>
          <a:blip r:embed="rId4"/>
          <a:stretch/>
        </p:blipFill>
        <p:spPr>
          <a:xfrm>
            <a:off x="5508720" y="3933720"/>
            <a:ext cx="2298600" cy="1887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768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2" dur="768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4" dur="768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6" dur="768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85800" y="1981080"/>
          <a:ext cx="7772400" cy="45500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(только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 раз в 4 года (зимние и лет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 дн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 летних игр -15 дней, а зимних-10 дн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о решению М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Прекращались во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овали только греки –мужч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ь награждался оливковым венком, пальмовой ветв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В перерывах между состязаниями выступали поэты и музыкант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.Не соблюд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2.Участвуют  мужчины и женщин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3.Победители получают золотые, серебряные и бронзовые медал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4.Большая культурная програм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Picture 56" descr="ag00029_"/>
          <p:cNvPicPr/>
          <p:nvPr/>
        </p:nvPicPr>
        <p:blipFill>
          <a:blip r:embed="rId1"/>
          <a:stretch/>
        </p:blipFill>
        <p:spPr>
          <a:xfrm>
            <a:off x="1042920" y="76500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Задание на урок</a:t>
            </a:r>
            <a:br>
              <a:rPr sz="28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 ходу изучения нового материала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оведи сравнительный анализ</a:t>
            </a:r>
            <a:r>
              <a:rPr b="0" lang="ru-RU" sz="2400" spc="-1" strike="noStrike">
                <a:solidFill>
                  <a:srgbClr val="ffff99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4360" y="1989000"/>
          <a:ext cx="7772400" cy="410688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в Древней Гре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Олимпийские игры соврем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ериод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Продолжи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Место провед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Тради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8" name="Picture 38" descr="ag00317_"/>
          <p:cNvPicPr/>
          <p:nvPr/>
        </p:nvPicPr>
        <p:blipFill>
          <a:blip r:embed="rId1"/>
          <a:stretch/>
        </p:blipFill>
        <p:spPr>
          <a:xfrm>
            <a:off x="684360" y="549360"/>
            <a:ext cx="934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37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99cc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ff00"/>
                </a:solidFill>
                <a:latin typeface="Verdana"/>
              </a:rPr>
              <a:t>«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Все –в Олимпию! Священный мир объявлен, дороги безопасны! Да победят сильнейшие!»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ждые четыре года в Олимпии- древнем городе Греции , в области Элида на Пелопоннесе проходили олимпийские игр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Первые игры состоялись в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776 году до н.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4" descr="на 008"/>
          <p:cNvPicPr/>
          <p:nvPr/>
        </p:nvPicPr>
        <p:blipFill>
          <a:blip r:embed="rId1"/>
          <a:stretch/>
        </p:blipFill>
        <p:spPr>
          <a:xfrm>
            <a:off x="0" y="476280"/>
            <a:ext cx="5003640" cy="63817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11"/>
          <p:cNvSpPr/>
          <p:nvPr/>
        </p:nvSpPr>
        <p:spPr>
          <a:xfrm>
            <a:off x="250920" y="5229360"/>
            <a:ext cx="1079280" cy="431640"/>
          </a:xfrm>
          <a:prstGeom prst="rightArrow">
            <a:avLst>
              <a:gd name="adj1" fmla="val 50000"/>
              <a:gd name="adj2" fmla="val 62510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ff00"/>
                </a:solidFill>
                <a:latin typeface="Times New Roman"/>
              </a:rPr>
              <a:t>На олимпийские игры приезжали жители не только из самой Греции, но и с побережья Малой Азии, из Сицилии, Италии,Африки, отовсюду , где находились греческие города- колонии.  Игры посвящались  богу Зевсу. Все прибывшие в Олимпию считались «гостями Зевса» и находились под его защитой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Picture 17" descr="gr-kolon"/>
          <p:cNvPicPr/>
          <p:nvPr/>
        </p:nvPicPr>
        <p:blipFill>
          <a:blip r:embed="rId1"/>
          <a:stretch/>
        </p:blipFill>
        <p:spPr>
          <a:xfrm>
            <a:off x="179280" y="1484280"/>
            <a:ext cx="8964720" cy="53737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Подготовка к играм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Почти за год до начала игр все участники обязаны были приступить к тренировкам в своём родном город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10 месяцев подряд неустанно тренировались атлеты  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затем сдавали своеобразный экзамен судьям (элладоникам)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Ровно за месяц до открытия игр им нужно было прибыть в Олимпию и продолжить подготовку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Times New Roman"/>
              </a:rPr>
              <a:t>Участвовать в играх могли все свободные греки. Запрещалось участие женщин, варваров( лиц негреческого происхождения), рабов. За нарушение запрета  женщин ждала смертная казнь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000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ервый день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жертвоприношение богам,клятва судей, знакомство участников  с судьями и друг с другом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оследующие три дня 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остязания атлетов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ff00"/>
                </a:solidFill>
                <a:latin typeface="Verdana"/>
              </a:rPr>
              <a:t>Пятый день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награждение победителей (олимпиоников) перед            храмом Зевса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1584360" cy="1873080"/>
          </a:xfrm>
          <a:prstGeom prst="rect">
            <a:avLst/>
          </a:prstGeom>
          <a:ln w="0">
            <a:noFill/>
          </a:ln>
        </p:spPr>
      </p:pic>
      <p:sp>
        <p:nvSpPr>
          <p:cNvPr id="370" name="WordArt 7"/>
          <p:cNvSpPr txBox="1"/>
          <p:nvPr/>
        </p:nvSpPr>
        <p:spPr>
          <a:xfrm>
            <a:off x="1042920" y="476280"/>
            <a:ext cx="56577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незабываемых дней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Пятиборье (пентатлон)- главное состязание Олимпийских игр, которое состояло из соревнований по пяти видам спор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373" name="Organization Chart 4"/>
          <p:cNvGrpSpPr/>
          <p:nvPr/>
        </p:nvGrpSpPr>
        <p:grpSpPr>
          <a:xfrm>
            <a:off x="685800" y="1981080"/>
            <a:ext cx="7772040" cy="4114080"/>
            <a:chOff x="685800" y="1981080"/>
            <a:chExt cx="7772040" cy="4114080"/>
          </a:xfrm>
        </p:grpSpPr>
        <p:cxnSp>
          <p:nvCxnSpPr>
            <p:cNvPr id="374" name="_s1028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6969600" y="4146120"/>
              <a:ext cx="514440" cy="13262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1029"/>
            <p:cNvCxnSpPr>
              <a:stCxn id="378" idx="0"/>
              <a:endCxn id="376" idx="2"/>
            </p:cNvCxnSpPr>
            <p:nvPr/>
          </p:nvCxnSpPr>
          <p:spPr>
            <a:xfrm flipV="1">
              <a:off x="6563880" y="4552200"/>
              <a:ext cx="1800" cy="51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9" name="_s1030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5643360" y="4145400"/>
              <a:ext cx="514440" cy="132804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1" name="_s1031"/>
            <p:cNvCxnSpPr>
              <a:stCxn id="382" idx="0"/>
              <a:endCxn id="383" idx="2"/>
            </p:cNvCxnSpPr>
            <p:nvPr/>
          </p:nvCxnSpPr>
          <p:spPr>
            <a:xfrm flipV="1" rot="16200000">
              <a:off x="2988000" y="41468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4" name="_s1032"/>
            <p:cNvCxnSpPr>
              <a:stCxn id="385" idx="0"/>
              <a:endCxn id="383" idx="2"/>
            </p:cNvCxnSpPr>
            <p:nvPr/>
          </p:nvCxnSpPr>
          <p:spPr>
            <a:xfrm flipH="1" flipV="1" rot="5400000">
              <a:off x="2324160" y="480852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6" name="_s1033"/>
            <p:cNvCxnSpPr>
              <a:stCxn id="387" idx="0"/>
              <a:endCxn id="383" idx="2"/>
            </p:cNvCxnSpPr>
            <p:nvPr/>
          </p:nvCxnSpPr>
          <p:spPr>
            <a:xfrm flipH="1" flipV="1" rot="5400000">
              <a:off x="1661760" y="4146120"/>
              <a:ext cx="514440" cy="13269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8" name="_s1034"/>
            <p:cNvCxnSpPr>
              <a:stCxn id="376" idx="0"/>
              <a:endCxn id="389" idx="2"/>
            </p:cNvCxnSpPr>
            <p:nvPr/>
          </p:nvCxnSpPr>
          <p:spPr>
            <a:xfrm flipV="1" rot="16200000">
              <a:off x="4978440" y="1938240"/>
              <a:ext cx="514440" cy="265680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0" name="_s1035"/>
            <p:cNvCxnSpPr>
              <a:stCxn id="391" idx="0"/>
              <a:endCxn id="389" idx="2"/>
            </p:cNvCxnSpPr>
            <p:nvPr/>
          </p:nvCxnSpPr>
          <p:spPr>
            <a:xfrm flipV="1" rot="16200000">
              <a:off x="4314600" y="2602080"/>
              <a:ext cx="514440" cy="1329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2" name="_s1036"/>
            <p:cNvCxnSpPr>
              <a:stCxn id="393" idx="0"/>
              <a:endCxn id="389" idx="2"/>
            </p:cNvCxnSpPr>
            <p:nvPr/>
          </p:nvCxnSpPr>
          <p:spPr>
            <a:xfrm flipV="1" rot="16200000">
              <a:off x="3651120" y="3265560"/>
              <a:ext cx="514440" cy="2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4" name="_s1037"/>
            <p:cNvCxnSpPr>
              <a:stCxn id="383" idx="0"/>
              <a:endCxn id="389" idx="2"/>
            </p:cNvCxnSpPr>
            <p:nvPr/>
          </p:nvCxnSpPr>
          <p:spPr>
            <a:xfrm flipH="1" flipV="1" rot="5400000">
              <a:off x="2988360" y="2604240"/>
              <a:ext cx="514440" cy="132516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95" name="_s1038"/>
            <p:cNvCxnSpPr>
              <a:stCxn id="396" idx="0"/>
              <a:endCxn id="389" idx="2"/>
            </p:cNvCxnSpPr>
            <p:nvPr/>
          </p:nvCxnSpPr>
          <p:spPr>
            <a:xfrm flipH="1" flipV="1" rot="5400000">
              <a:off x="2324160" y="1940760"/>
              <a:ext cx="514440" cy="2652480"/>
            </a:xfrm>
            <a:prstGeom prst="bentConnector3">
              <a:avLst>
                <a:gd name="adj1" fmla="val 221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9" name="_s1039"/>
            <p:cNvSpPr/>
            <p:nvPr/>
          </p:nvSpPr>
          <p:spPr>
            <a:xfrm>
              <a:off x="3339000" y="19810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ятиборь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_s1040"/>
            <p:cNvSpPr/>
            <p:nvPr/>
          </p:nvSpPr>
          <p:spPr>
            <a:xfrm>
              <a:off x="68580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ыжк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 длину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_s1041"/>
            <p:cNvSpPr/>
            <p:nvPr/>
          </p:nvSpPr>
          <p:spPr>
            <a:xfrm>
              <a:off x="2013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е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_s1042"/>
            <p:cNvSpPr/>
            <p:nvPr/>
          </p:nvSpPr>
          <p:spPr>
            <a:xfrm>
              <a:off x="334044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_s1043"/>
            <p:cNvSpPr/>
            <p:nvPr/>
          </p:nvSpPr>
          <p:spPr>
            <a:xfrm>
              <a:off x="4668120" y="352368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а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копь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_s1044"/>
            <p:cNvSpPr/>
            <p:nvPr/>
          </p:nvSpPr>
          <p:spPr>
            <a:xfrm>
              <a:off x="5995440" y="352368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Борьб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_s1045"/>
            <p:cNvSpPr/>
            <p:nvPr/>
          </p:nvSpPr>
          <p:spPr>
            <a:xfrm>
              <a:off x="68688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_s1046"/>
            <p:cNvSpPr/>
            <p:nvPr/>
          </p:nvSpPr>
          <p:spPr>
            <a:xfrm>
              <a:off x="201312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войн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_s1047"/>
            <p:cNvSpPr/>
            <p:nvPr/>
          </p:nvSpPr>
          <p:spPr>
            <a:xfrm>
              <a:off x="3339000" y="5066640"/>
              <a:ext cx="113760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На длинную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дистанци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_s1048"/>
            <p:cNvSpPr/>
            <p:nvPr/>
          </p:nvSpPr>
          <p:spPr>
            <a:xfrm>
              <a:off x="466920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оста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_s1049"/>
            <p:cNvSpPr/>
            <p:nvPr/>
          </p:nvSpPr>
          <p:spPr>
            <a:xfrm>
              <a:off x="5995440" y="5066640"/>
              <a:ext cx="113616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улачны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о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_s1050"/>
            <p:cNvSpPr/>
            <p:nvPr/>
          </p:nvSpPr>
          <p:spPr>
            <a:xfrm>
              <a:off x="7321320" y="5066640"/>
              <a:ext cx="1136520" cy="10285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анкратио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7" name="Picture 31" descr=""/>
          <p:cNvPicPr/>
          <p:nvPr/>
        </p:nvPicPr>
        <p:blipFill>
          <a:blip r:embed="rId1"/>
          <a:stretch/>
        </p:blipFill>
        <p:spPr>
          <a:xfrm>
            <a:off x="1763640" y="4149720"/>
            <a:ext cx="1554120" cy="1060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3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1376640" cy="958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4" descr=""/>
          <p:cNvPicPr/>
          <p:nvPr/>
        </p:nvPicPr>
        <p:blipFill>
          <a:blip r:embed="rId3"/>
          <a:stretch/>
        </p:blipFill>
        <p:spPr>
          <a:xfrm>
            <a:off x="4716360" y="2637000"/>
            <a:ext cx="1047960" cy="9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5" descr=""/>
          <p:cNvPicPr/>
          <p:nvPr/>
        </p:nvPicPr>
        <p:blipFill>
          <a:blip r:embed="rId4"/>
          <a:stretch/>
        </p:blipFill>
        <p:spPr>
          <a:xfrm>
            <a:off x="7596360" y="3068640"/>
            <a:ext cx="977760" cy="165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" descr=""/>
          <p:cNvPicPr/>
          <p:nvPr/>
        </p:nvPicPr>
        <p:blipFill>
          <a:blip r:embed="rId5"/>
          <a:stretch/>
        </p:blipFill>
        <p:spPr>
          <a:xfrm>
            <a:off x="5867280" y="4149720"/>
            <a:ext cx="1584360" cy="1098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9"/>
          <p:cNvSpPr/>
          <p:nvPr/>
        </p:nvSpPr>
        <p:spPr>
          <a:xfrm>
            <a:off x="1116000" y="6194520"/>
            <a:ext cx="60310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i="1" lang="ru-RU" sz="1600" spc="-1" strike="noStrike">
                <a:solidFill>
                  <a:srgbClr val="00ff00"/>
                </a:solidFill>
                <a:latin typeface="Times New Roman"/>
              </a:rPr>
              <a:t>В Древней Греции пятиборье считалось венцом Олимпиады , а его победитель объявлялся главным олимпионик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38163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нтерес зрителей на Олимпийских играх также вызывали гонки колесниц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( колесницы должны 12 раз обогнуть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ипподро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, при этом владелец упряжки мог сам не управлять ею, а нанять возничего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i="1" lang="ru-RU" sz="2000" spc="-1" strike="noStrike">
                <a:solidFill>
                  <a:srgbClr val="00ff00"/>
                </a:solidFill>
                <a:latin typeface="Times New Roman"/>
              </a:rPr>
              <a:t>37 Игр(632г.до н.э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) в состязаниях стали участвовать и юноши  в возрасте до 20 лет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5" name="Picture 15" descr="sdsd"/>
          <p:cNvPicPr/>
          <p:nvPr/>
        </p:nvPicPr>
        <p:blipFill>
          <a:blip r:embed="rId1"/>
          <a:stretch/>
        </p:blipFill>
        <p:spPr>
          <a:xfrm>
            <a:off x="3913200" y="2852640"/>
            <a:ext cx="5230800" cy="3417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43280" y="198900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0:55:13Z</dcterms:created>
  <dc:creator>Comp1</dc:creator>
  <dc:description/>
  <dc:language>en-US</dc:language>
  <cp:lastModifiedBy>ZooM</cp:lastModifiedBy>
  <dcterms:modified xsi:type="dcterms:W3CDTF">2013-12-03T20:38:52Z</dcterms:modified>
  <cp:revision>132</cp:revision>
  <dc:subject/>
  <dc:title>Слайд 1</dc:title>
</cp:coreProperties>
</file>