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gif" ContentType="image/gif"/>
  <Override PartName="/ppt/media/image5.wmf" ContentType="image/x-wmf"/>
  <Override PartName="/ppt/media/image6.png" ContentType="image/png"/>
  <Override PartName="/ppt/media/image7.png" ContentType="image/png"/>
  <Override PartName="/ppt/media/image8.gif" ContentType="image/gif"/>
  <Override PartName="/ppt/media/image9.png" ContentType="image/png"/>
  <Override PartName="/ppt/media/image10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88BC-EBF0-4B5D-9A87-A6814F66E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CF8C-6307-4AAD-B921-D5FE7470F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0970-6D25-425D-A382-5C1B5DF53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302D-D9FE-41CB-BA8A-F57835218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7C65-07DC-45C5-B1A5-C124B5156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6E5A-E568-4B38-94FD-54A14DBA5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7D3F-5505-4133-AA2A-4FAAB3ACF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AA92-AA62-4B88-BAD3-076038D9A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8D43-6AB0-4D13-A6CA-1360CB83D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C474-1B14-46DD-BD1C-58A50826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F8E0-E7DA-4244-8AA1-589174FF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E1ED-1C7E-4B99-A3FA-8539687C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61CBA-3C92-4352-BD0F-472B34F95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042920" y="1773360"/>
            <a:ext cx="750888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Н Е С Т А Н Д А Р Т Н Ы Е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З А ДА Ч И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451640" y="6534000"/>
            <a:ext cx="88596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5 КЛАСС</a:t>
            </a:r>
            <a:endParaRPr b="0" lang="en-US" sz="2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276720" y="260280"/>
            <a:ext cx="2485800" cy="233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latin typeface="Arial"/>
              </a:rPr>
              <a:t>Реши сам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latin typeface="Arial"/>
              <a:ea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04640"/>
            <a:ext cx="770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Угадай корень уравн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 : х = 7 – 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26920" y="1700280"/>
            <a:ext cx="7367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 Улитка ползает по столбу высотой 10м. За день она поднимается на 5м, а за ночь опускается на 4м. За какое врем улитка доберётся от подножки до вершин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толб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500720" y="3500280"/>
            <a:ext cx="3943080" cy="4543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076720" y="1413000"/>
            <a:ext cx="3886200" cy="4474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403280" y="4221000"/>
            <a:ext cx="403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Даны числа 1, 2, 3, 4, 5, 6, 7, 8, 9. Расставьте их так, чтобы сумма их на каждой стороне треугольника была равна 2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58920" y="2637000"/>
            <a:ext cx="6840360" cy="9169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5 суток и 1 ден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92360" y="260280"/>
            <a:ext cx="6840360" cy="9169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Х = 3 или Х = 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380360" y="155736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364000" y="4076640"/>
            <a:ext cx="3241800" cy="2401920"/>
            <a:chOff x="5364000" y="4076640"/>
            <a:chExt cx="3241800" cy="2401920"/>
          </a:xfrm>
        </p:grpSpPr>
        <p:sp>
          <p:nvSpPr>
            <p:cNvPr id="119" name=""/>
            <p:cNvSpPr/>
            <p:nvPr/>
          </p:nvSpPr>
          <p:spPr>
            <a:xfrm>
              <a:off x="5796000" y="5300640"/>
              <a:ext cx="50472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364000" y="4076640"/>
              <a:ext cx="3241800" cy="2401920"/>
              <a:chOff x="5364000" y="4076640"/>
              <a:chExt cx="3241800" cy="2401920"/>
            </a:xfrm>
          </p:grpSpPr>
          <p:sp>
            <p:nvSpPr>
              <p:cNvPr id="121" name=""/>
              <p:cNvSpPr/>
              <p:nvPr/>
            </p:nvSpPr>
            <p:spPr>
              <a:xfrm>
                <a:off x="5364000" y="5950080"/>
                <a:ext cx="505080" cy="431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435640" y="6021360"/>
                <a:ext cx="3603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" name=""/>
              <p:cNvGrpSpPr/>
              <p:nvPr/>
            </p:nvGrpSpPr>
            <p:grpSpPr>
              <a:xfrm>
                <a:off x="6156360" y="4076640"/>
                <a:ext cx="2449440" cy="2401920"/>
                <a:chOff x="6156360" y="4076640"/>
                <a:chExt cx="2449440" cy="240192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6659640" y="4076640"/>
                  <a:ext cx="504720" cy="43200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5" name=""/>
                <p:cNvGrpSpPr/>
                <p:nvPr/>
              </p:nvGrpSpPr>
              <p:grpSpPr>
                <a:xfrm>
                  <a:off x="6156360" y="4581360"/>
                  <a:ext cx="2449440" cy="1897200"/>
                  <a:chOff x="6156360" y="4581360"/>
                  <a:chExt cx="2449440" cy="1897200"/>
                </a:xfrm>
              </p:grpSpPr>
              <p:sp>
                <p:nvSpPr>
                  <p:cNvPr id="126" name=""/>
                  <p:cNvSpPr/>
                  <p:nvPr/>
                </p:nvSpPr>
                <p:spPr>
                  <a:xfrm>
                    <a:off x="7236000" y="4581360"/>
                    <a:ext cx="504720" cy="4320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7667640" y="5229360"/>
                    <a:ext cx="504720" cy="4316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8101080" y="5877000"/>
                    <a:ext cx="504720" cy="4316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7308720" y="5950080"/>
                    <a:ext cx="505080" cy="4316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6372360" y="5950080"/>
                    <a:ext cx="504720" cy="4316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6156360" y="4581360"/>
                    <a:ext cx="504720" cy="4320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8172360" y="5877000"/>
                    <a:ext cx="36036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6443640" y="6021360"/>
                    <a:ext cx="36036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7380360" y="6021360"/>
                    <a:ext cx="43164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35" name=""/>
          <p:cNvGrpSpPr/>
          <p:nvPr/>
        </p:nvGrpSpPr>
        <p:grpSpPr>
          <a:xfrm>
            <a:off x="5364000" y="4149720"/>
            <a:ext cx="3240720" cy="2404440"/>
            <a:chOff x="5364000" y="4149720"/>
            <a:chExt cx="3240720" cy="2404440"/>
          </a:xfrm>
        </p:grpSpPr>
        <p:grpSp>
          <p:nvGrpSpPr>
            <p:cNvPr id="136" name=""/>
            <p:cNvGrpSpPr/>
            <p:nvPr/>
          </p:nvGrpSpPr>
          <p:grpSpPr>
            <a:xfrm>
              <a:off x="5364000" y="4149720"/>
              <a:ext cx="3240720" cy="2404440"/>
              <a:chOff x="5364000" y="4149720"/>
              <a:chExt cx="3240720" cy="2404440"/>
            </a:xfrm>
          </p:grpSpPr>
          <p:sp>
            <p:nvSpPr>
              <p:cNvPr id="137" name=""/>
              <p:cNvSpPr/>
              <p:nvPr/>
            </p:nvSpPr>
            <p:spPr>
              <a:xfrm>
                <a:off x="5364000" y="6023160"/>
                <a:ext cx="504720" cy="431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435280" y="609444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6156000" y="4149720"/>
                <a:ext cx="2448720" cy="2404440"/>
                <a:chOff x="6156000" y="4149720"/>
                <a:chExt cx="2448720" cy="240444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6658920" y="4149720"/>
                  <a:ext cx="504360" cy="43200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1" name=""/>
                <p:cNvGrpSpPr/>
                <p:nvPr/>
              </p:nvGrpSpPr>
              <p:grpSpPr>
                <a:xfrm>
                  <a:off x="6156000" y="4654440"/>
                  <a:ext cx="2448720" cy="1899720"/>
                  <a:chOff x="6156000" y="4654440"/>
                  <a:chExt cx="2448720" cy="1899720"/>
                </a:xfrm>
              </p:grpSpPr>
              <p:sp>
                <p:nvSpPr>
                  <p:cNvPr id="142" name=""/>
                  <p:cNvSpPr/>
                  <p:nvPr/>
                </p:nvSpPr>
                <p:spPr>
                  <a:xfrm>
                    <a:off x="7235280" y="4654440"/>
                    <a:ext cx="504360" cy="4320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7666920" y="5302440"/>
                    <a:ext cx="504360" cy="4316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9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8100360" y="5950080"/>
                    <a:ext cx="504360" cy="4316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308000" y="6023160"/>
                    <a:ext cx="504720" cy="4316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6371640" y="6023160"/>
                    <a:ext cx="504360" cy="4316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6156000" y="4654440"/>
                    <a:ext cx="504360" cy="4320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3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8171640" y="5950080"/>
                    <a:ext cx="360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6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6442920" y="6094440"/>
                    <a:ext cx="360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7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7379640" y="6094440"/>
                    <a:ext cx="4312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51" name=""/>
            <p:cNvSpPr/>
            <p:nvPr/>
          </p:nvSpPr>
          <p:spPr>
            <a:xfrm>
              <a:off x="5797440" y="5229360"/>
              <a:ext cx="504720" cy="43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476360" y="1268280"/>
            <a:ext cx="7345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 В летний лагерь приехали отдыхать три друга: Миша, Володя, Петя. Известно, что каждый из них имеет одну из следующих фамилий: Иванов, Семёнов, Герасимов.  Миша – не Герасимов. Отец Володи – инженер. Володя учится в 6 классе. Герасимов учится в 5 классе. Отец Иванова – учитель. Какая фамилия у каждого учени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1547640" y="476280"/>
            <a:ext cx="2257560" cy="1522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3564000" y="476280"/>
            <a:ext cx="2257200" cy="1522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5651640" y="476280"/>
            <a:ext cx="2257200" cy="1522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438200" y="5589720"/>
            <a:ext cx="770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(Герасимов Петя, Иванов Миша, Семёнов Волод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9640" y="47628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Кот в сапогах поймал четырех щук и ещё половину улова. Сколько щук поймал Кот в сапогах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27640" y="141300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вет: 8щ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00000" y="2060640"/>
            <a:ext cx="77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Кирпич весит 2 кг и ещё треть собственного веса. Сколько весит кирпич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716360" y="299736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вет: 3к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55640" y="3573360"/>
            <a:ext cx="799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Зайцы пилят бревно. Они сделали 10 распилов. Сколько чурбачков у них получилос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27640" y="450864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вет: 11 чурбач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22200" y="5157720"/>
            <a:ext cx="792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Бублик режут на сектора. Сделали 10 разрезов. Сколько получилось куск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967280" y="602136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вет: 10 кус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350120" y="0"/>
            <a:ext cx="179388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4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4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4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4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52360" y="0"/>
            <a:ext cx="7991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асса бидона с молоком 32 кг, а масса пустого бидона – 2 кг. Какова масса бидона заполненного молоком наполови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470720" y="3933720"/>
            <a:ext cx="1673280" cy="1586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332000" y="1949400"/>
            <a:ext cx="7812000" cy="49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Реш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2 – 2 = 30 (кг) – масса молока без бид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0 : 2 = 15 (кг) – масса молока половины бид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 + 2 = 17 (кг) – масса бидона наполовину заполненного моло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твет: 17 к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58920" y="0"/>
            <a:ext cx="7885080" cy="1989000"/>
          </a:xfrm>
          <a:prstGeom prst="rect">
            <a:avLst/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476360" y="333360"/>
            <a:ext cx="6443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 ученика делают 3 самолётика за 3 минуты. Сколько учеников сделают 9 самолётиков за 9 мин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2922480"/>
            <a:ext cx="7200720" cy="39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ученик делает 1 самолёт за 3 минуты. Значит за 9 минут он сделает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9 : 3 = 3 самолё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начит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за 9 минут 3 самолёта сделают 3 ученик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вет: 3 уче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333360"/>
            <a:ext cx="6769080" cy="2492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308720" y="2349360"/>
            <a:ext cx="183528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00000" y="189000"/>
            <a:ext cx="7993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лыш может съесть 600г варенья за 6 минут, а Карлсон – в 2 раза быстрее. За какое время они съедят это варенье вм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87280" y="2565360"/>
            <a:ext cx="79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00 : 6 = 100 (г) варенья съст Малыш за 1 мину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87280" y="357336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) 100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2 = 200 (г) съест за 1 минуту Карлс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50920" y="414972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)100 + 200 = 300 (г)  съедят варенье Малыш и Карлсон вместе за 1 м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32000" y="5229360"/>
            <a:ext cx="748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) 600 : 300 = 2 (мин) понадобится чтобы вместе съесть 600г варен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2360" y="6308640"/>
            <a:ext cx="51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вет: 2 мину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26920" y="0"/>
            <a:ext cx="8066160" cy="24210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55640" y="476280"/>
            <a:ext cx="7128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ри подруги вышли в белом, синем и зелёном платьях и туфлях таких же цветов. Известно, что только у Ани цвет платья и туфель совпадает. И они не были белыми. Наташа была в зелёных туфлях. Определите цвет платья и туфель каждой подру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260280"/>
            <a:ext cx="7634160" cy="525636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634160" y="4149720"/>
            <a:ext cx="150984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1547640" y="189000"/>
          <a:ext cx="6096240" cy="30319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69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ть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уфл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падают, но не бел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л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бел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таш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лё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684360" y="3357720"/>
            <a:ext cx="79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уфли Ани  не были белого цвета, но они и не были зелёного, так как в зелёных была Ната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4149720"/>
            <a:ext cx="84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начит у Ани туфли – синего цвета. А так как цвет платья Ани совпадает с цветом туфель, то значит плате у неё тоже СИНЕ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372360" y="649116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724360" y="981000"/>
            <a:ext cx="1656000" cy="6426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и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530064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 Наташи  платье не может быть синем и не может быть зелёным, значит оно – бел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708360" y="1916280"/>
            <a:ext cx="1655640" cy="5205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елё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609300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атье Вали – зелёное, а туфли – бел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635280" y="981000"/>
            <a:ext cx="1871640" cy="6426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и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8360" y="2492280"/>
            <a:ext cx="1871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ЕЛ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651640" y="1916280"/>
            <a:ext cx="1871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ЕЛ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727280" y="333360"/>
            <a:ext cx="74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йди среди чисел 3а + 1 первые три числа, которые кратны 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03280" y="1628640"/>
            <a:ext cx="3024360" cy="60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1 + 1 =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2 + 1 =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3+ 1 =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4 + 1 = 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 + 1 = 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6 + 1 =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1557360"/>
            <a:ext cx="4572000" cy="39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7 + 1 = 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8 + 1 = 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9+ 1 =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10 + 1 = 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11 + 1 = 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12 + 1 = 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13 + 1 = 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5734080"/>
            <a:ext cx="66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Ответ: 10, 25, 4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740720" y="1700280"/>
            <a:ext cx="1098360" cy="1098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7380360" y="3068640"/>
            <a:ext cx="1098360" cy="1098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7812000" y="4797360"/>
            <a:ext cx="109872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4360" y="0"/>
            <a:ext cx="7777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классе 35 учеников. Из них 20 школьников занимаются в математическом кружке, 11  - в экологическом, 10 ребят не посещают эти кружки. Сколько экологов занимаются в математическом круж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407664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00000" y="3213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748720" y="3933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276200" y="2281680"/>
            <a:ext cx="7473600" cy="359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942" y="34"/>
                </a:moveTo>
                <a:arcTo wR="10800" hR="10800" stAng="-5673328" swAng="5673328"/>
                <a:lnTo>
                  <a:pt x="10800" y="10800"/>
                </a:lnTo>
                <a:close/>
              </a:path>
              <a:path fill="none" w="21600" h="21600">
                <a:moveTo>
                  <a:pt x="9942" y="34"/>
                </a:moveTo>
                <a:arcTo wR="10800" hR="10800" stAng="-5673328" swAng="5673328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900720" y="2282040"/>
            <a:ext cx="7769160" cy="359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6" y="0"/>
                </a:moveTo>
                <a:arcTo wR="10800" hR="10800" stAng="-5401148" swAng="5401148"/>
                <a:lnTo>
                  <a:pt x="10800" y="10800"/>
                </a:lnTo>
                <a:close/>
              </a:path>
              <a:path fill="none" w="21600" h="21600">
                <a:moveTo>
                  <a:pt x="10796" y="0"/>
                </a:moveTo>
                <a:arcTo wR="10800" hR="10800" stAng="-5401148" swAng="5401148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6300000" y="3573360"/>
            <a:ext cx="3022200" cy="100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52000" y="3573360"/>
            <a:ext cx="2231280" cy="100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300720" y="364500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300720" y="40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00000" y="4076640"/>
            <a:ext cx="540072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92720" y="364500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348000" y="3645000"/>
            <a:ext cx="19447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826560" y="3645000"/>
            <a:ext cx="25210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132000" y="4437000"/>
            <a:ext cx="172728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4437000"/>
            <a:ext cx="172728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32000" y="371628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84720" y="60930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35 уче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659640" y="2997360"/>
            <a:ext cx="21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10 уче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24360" y="4581360"/>
            <a:ext cx="244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эколог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11 уче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00000" y="299736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Математический 11 уче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08:23:02Z</dcterms:created>
  <dc:creator>школа</dc:creator>
  <dc:description/>
  <dc:language>en-US</dc:language>
  <cp:lastModifiedBy>Natalia</cp:lastModifiedBy>
  <dcterms:modified xsi:type="dcterms:W3CDTF">2010-10-07T13:33:11Z</dcterms:modified>
  <cp:revision>20</cp:revision>
  <dc:subject/>
  <dc:title>Слайд 1</dc:title>
</cp:coreProperties>
</file>