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F16-9F10-4F30-AF94-6C6FDFD2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F13-5736-4B6F-A4F3-F555939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3C6-EF9C-40F9-80B8-989F59F4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650-83DF-4143-84EC-D1ABD500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71E-B72B-4626-BCAF-F92AF40A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06C-2134-46DE-80AC-3CF6D8B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33A-A67C-40B8-8A63-5A51514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F14-76F7-4673-B1B2-B013682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744-9F6B-4BC4-BB8C-E5662DC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6E7-CDE4-429E-9425-37AAF6C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D21-6E70-463F-8217-B0BD094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21B-B884-43D5-ADD1-B66CD2D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2CB-9C8C-400E-A933-979901D9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773360"/>
            <a:ext cx="75088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 Е С Т А Н Д А Р Т Н Ы 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 А ДА Ч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51640" y="6534000"/>
            <a:ext cx="8859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5 КЛАСС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76720" y="260280"/>
            <a:ext cx="2485800" cy="2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Реши са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46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гадай корень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: х = 7 –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3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Улитка ползает по столбу высотой 10м. За день она поднимается на 5м, а за ночь опускается на 4м. За какое врем улитка доберётся от подножки до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л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943080" cy="45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6200" cy="44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4221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Даны числа 1, 2, 3, 4, 5, 6, 7, 8, 9. Расставьте их так, чтобы сумма их на каждой стороне треугольника была равна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 суток и 1 д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6028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 = 3 или Х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64000" y="4076640"/>
            <a:ext cx="3241800" cy="2401920"/>
            <a:chOff x="5364000" y="4076640"/>
            <a:chExt cx="3241800" cy="2401920"/>
          </a:xfrm>
        </p:grpSpPr>
        <p:sp>
          <p:nvSpPr>
            <p:cNvPr id="119" name=""/>
            <p:cNvSpPr/>
            <p:nvPr/>
          </p:nvSpPr>
          <p:spPr>
            <a:xfrm>
              <a:off x="5796000" y="5300640"/>
              <a:ext cx="50472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364000" y="4076640"/>
              <a:ext cx="3241800" cy="2401920"/>
              <a:chOff x="5364000" y="4076640"/>
              <a:chExt cx="3241800" cy="240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364000" y="5950080"/>
                <a:ext cx="50508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35640" y="6021360"/>
                <a:ext cx="36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6156360" y="4076640"/>
                <a:ext cx="2449440" cy="2401920"/>
                <a:chOff x="6156360" y="4076640"/>
                <a:chExt cx="2449440" cy="2401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659640" y="4076640"/>
                  <a:ext cx="50472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6156360" y="4581360"/>
                  <a:ext cx="2449440" cy="1897200"/>
                  <a:chOff x="6156360" y="4581360"/>
                  <a:chExt cx="2449440" cy="18972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723600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667640" y="52293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101080" y="587700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308720" y="5950080"/>
                    <a:ext cx="50508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72360" y="595008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15636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172360" y="587700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443640" y="602136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380360" y="6021360"/>
                    <a:ext cx="4316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" name=""/>
          <p:cNvGrpSpPr/>
          <p:nvPr/>
        </p:nvGrpSpPr>
        <p:grpSpPr>
          <a:xfrm>
            <a:off x="5364000" y="4149720"/>
            <a:ext cx="3240720" cy="2404440"/>
            <a:chOff x="5364000" y="4149720"/>
            <a:chExt cx="3240720" cy="2404440"/>
          </a:xfrm>
        </p:grpSpPr>
        <p:grpSp>
          <p:nvGrpSpPr>
            <p:cNvPr id="136" name=""/>
            <p:cNvGrpSpPr/>
            <p:nvPr/>
          </p:nvGrpSpPr>
          <p:grpSpPr>
            <a:xfrm>
              <a:off x="5364000" y="4149720"/>
              <a:ext cx="3240720" cy="2404440"/>
              <a:chOff x="5364000" y="4149720"/>
              <a:chExt cx="3240720" cy="2404440"/>
            </a:xfrm>
          </p:grpSpPr>
          <p:sp>
            <p:nvSpPr>
              <p:cNvPr id="137" name=""/>
              <p:cNvSpPr/>
              <p:nvPr/>
            </p:nvSpPr>
            <p:spPr>
              <a:xfrm>
                <a:off x="5364000" y="6023160"/>
                <a:ext cx="50472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280" y="6094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156000" y="4149720"/>
                <a:ext cx="2448720" cy="2404440"/>
                <a:chOff x="6156000" y="4149720"/>
                <a:chExt cx="2448720" cy="2404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58920" y="4149720"/>
                  <a:ext cx="50436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6156000" y="4654440"/>
                  <a:ext cx="2448720" cy="1899720"/>
                  <a:chOff x="6156000" y="4654440"/>
                  <a:chExt cx="2448720" cy="1899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23528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66920" y="530244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100360" y="595008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08000" y="60231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371640" y="602316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15600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171640" y="59500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42920" y="60944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379640" y="6094440"/>
                    <a:ext cx="431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5797440" y="5229360"/>
              <a:ext cx="50472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268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В летний лагерь приехали отдыхать три друга: Миша, Володя, Петя. Известно, что каждый из них имеет одну из следующих фамилий: Иванов, Семёнов, Герасимов.  Миша – не Герасимов. Отец Володи – инженер. Володя учится в 6 классе. Герасимов учится в 5 классе. Отец Иванова – учитель. Какая фамилия у каждого уче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257560" cy="15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2257200" cy="15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2257200" cy="15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820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Герасимов Петя, Иванов Миша, Семёнов Волод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7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Кот в сапогах поймал четырех щук и ещё половину улова. Сколько щук поймал Кот в сапог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8щ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ирпич весит 2 кг и ещё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57336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йцы пилят бревно. Они сделали 10 распилов. Сколько чурбачков у них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4508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1 чурба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5157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Бублик режут на сектора. Сделали 10 разрезов. Сколько получилось кус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728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0 ку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50120" y="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2360" y="0"/>
            <a:ext cx="79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а бидона с молоком 32 кг, а масса пустого бидона – 2 кг. Какова масса бидона заполненного молоком наполо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70720" y="3933720"/>
            <a:ext cx="1673280" cy="15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949400"/>
            <a:ext cx="781200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 – 2 = 30 (кг) – масса молока без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: 2 = 15 (кг) – масса молока половины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+ 2 = 17 (кг) – масса бидона наполовину заполненного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17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0"/>
            <a:ext cx="7885080" cy="1989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33336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ученика делают 3 самолётика за 3 минуты. Сколько учеников сделают 9 самолётиков за 9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22480"/>
            <a:ext cx="720072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ченик делает 1 самолёт за 3 минуты. Значит за 9 минут он сделае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9 : 3 = 3 самол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 9 минут 3 самолёта сделают 3 учени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333360"/>
            <a:ext cx="6769080" cy="24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89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ыш может съесть 600г варенья за 6 минут, а Карлсон – в 2 раза быстрее. За какое время они съедят это варенье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56536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 : 6 = 100 (г) варенья съст Малыш за 1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57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= 200 (г) съест за 1 минуту 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0920" y="414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100 + 200 = 300 (г)  съедят варенье Малыш и Карлсон вместе за 1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229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600 : 300 = 2 (мин) понадобится чтобы вместе съесть 600г вар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6308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2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0"/>
            <a:ext cx="8066160" cy="2421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7628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 подруги вышли в белом, синем и зелёном платьях и туфлях таких же цветов. Известно, что только у Ани цвет платья и туфель совпадает. И они не были белыми. Наташа была в зелёных туфлях. Определите цвет платья и туфель каждой подр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60280"/>
            <a:ext cx="7634160" cy="525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4160" y="4149720"/>
            <a:ext cx="1509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47640" y="189000"/>
          <a:ext cx="6096240" cy="3031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ают, но не бе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ел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684360" y="33577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фли Ани  не были белого цвета, но они и не были зелёного, так как в зелёных была 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149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 у Ани туфли – синего цвета. А так как цвет платья Ани совпадает с цветом туфель, то значит плате у неё тоже СИ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64911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981000"/>
            <a:ext cx="1656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таши  платье не может быть синем и не может быть зелёным, значит оно –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916280"/>
            <a:ext cx="1655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Вали – зелёное, а туфли – б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981000"/>
            <a:ext cx="187164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2492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16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27280" y="333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 среди чисел 3а + 1 первые три числа, которые кратны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1628640"/>
            <a:ext cx="302436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+ 1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+ 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+ 1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+ 1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6 + 1 =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572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+ 1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 + 1 =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9+ 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0 + 1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1 + 1 =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2 + 1 =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3 + 1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57340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твет: 10, 25, 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812000" y="4797360"/>
            <a:ext cx="1098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 35 учеников. Из них 20 школьников занимаются в математическом кружке, 11  - в экологическом, 10 ребят не посещают эти кружки. Сколько экологов занимаются в математическом круж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07664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72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76200" y="2281680"/>
            <a:ext cx="747360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42" y="34"/>
                </a:moveTo>
                <a:arcTo wR="10800" hR="10800" stAng="-5673328" swAng="5673328"/>
                <a:lnTo>
                  <a:pt x="10800" y="10800"/>
                </a:lnTo>
                <a:close/>
              </a:path>
              <a:path fill="none" w="21600" h="21600">
                <a:moveTo>
                  <a:pt x="9942" y="34"/>
                </a:moveTo>
                <a:arcTo wR="10800" hR="10800" stAng="-5673328" swAng="56733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900720" y="2282040"/>
            <a:ext cx="776916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148" swAng="5401148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148" swAng="540114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00000" y="3573360"/>
            <a:ext cx="3022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2000" y="3573360"/>
            <a:ext cx="22312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3645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5400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645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645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6560" y="364500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716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609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5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9973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581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997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матический 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23:02Z</dcterms:created>
  <dc:creator>школа</dc:creator>
  <dc:description/>
  <dc:language>en-US</dc:language>
  <cp:lastModifiedBy>Natalia</cp:lastModifiedBy>
  <dcterms:modified xsi:type="dcterms:W3CDTF">2010-10-07T13:33:11Z</dcterms:modified>
  <cp:revision>20</cp:revision>
  <dc:subject/>
  <dc:title>Слайд 1</dc:title>
</cp:coreProperties>
</file>