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812-208F-453D-96FD-F372763A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21C-4A3F-4DE1-BA4A-26BEEB3D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DA8-CE9C-405B-B6D1-00A7E090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0C5-19A6-4C6D-BB00-4E5603F5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2FD-4610-45C4-847A-250D42F9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507-96B7-46D6-A7C4-3571319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2D0-168B-4672-BAB9-42AB7B75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65A-280E-443E-846E-1220D1E6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241-E351-4FC7-AFB7-47F9C76D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4AB-B914-4BD0-B514-A527BDA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075-E1EE-4550-BF24-45A92EC1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A0D-E12A-473C-B1C6-7554A7C9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056-88C0-453B-AFE8-C05A247D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773360"/>
            <a:ext cx="75088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 Е С Т А Н Д А Р Т Н Ы 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 А ДА Ч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51640" y="6534000"/>
            <a:ext cx="8859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5 КЛАСС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76720" y="260280"/>
            <a:ext cx="2485800" cy="2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Реши сам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46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гадай корень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: х = 7 –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00280"/>
            <a:ext cx="73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Улитка ползает по столбу высотой 10м. За день она поднимается на 5м, а за ночь опускается на 4м. За какое врем улитка доберётся от подножки до вер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л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943080" cy="45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3886200" cy="44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4221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Даны числа 1, 2, 3, 4, 5, 6, 7, 8, 9. Расставьте их так, чтобы сумма их на каждой стороне треугольника была равна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 суток и 1 д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6028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 = 3 или Х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1557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64000" y="4076640"/>
            <a:ext cx="3241800" cy="2401920"/>
            <a:chOff x="5364000" y="4076640"/>
            <a:chExt cx="3241800" cy="2401920"/>
          </a:xfrm>
        </p:grpSpPr>
        <p:sp>
          <p:nvSpPr>
            <p:cNvPr id="119" name=""/>
            <p:cNvSpPr/>
            <p:nvPr/>
          </p:nvSpPr>
          <p:spPr>
            <a:xfrm>
              <a:off x="5796000" y="5300640"/>
              <a:ext cx="50472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364000" y="4076640"/>
              <a:ext cx="3241800" cy="2401920"/>
              <a:chOff x="5364000" y="4076640"/>
              <a:chExt cx="3241800" cy="2401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364000" y="5950080"/>
                <a:ext cx="50508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35640" y="6021360"/>
                <a:ext cx="36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6156360" y="4076640"/>
                <a:ext cx="2449440" cy="2401920"/>
                <a:chOff x="6156360" y="4076640"/>
                <a:chExt cx="2449440" cy="2401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659640" y="4076640"/>
                  <a:ext cx="50472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6156360" y="4581360"/>
                  <a:ext cx="2449440" cy="1897200"/>
                  <a:chOff x="6156360" y="4581360"/>
                  <a:chExt cx="2449440" cy="18972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723600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667640" y="52293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8101080" y="587700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308720" y="5950080"/>
                    <a:ext cx="50508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72360" y="595008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15636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172360" y="587700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443640" y="602136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380360" y="6021360"/>
                    <a:ext cx="4316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" name=""/>
          <p:cNvGrpSpPr/>
          <p:nvPr/>
        </p:nvGrpSpPr>
        <p:grpSpPr>
          <a:xfrm>
            <a:off x="5364000" y="4149720"/>
            <a:ext cx="3240720" cy="2404440"/>
            <a:chOff x="5364000" y="4149720"/>
            <a:chExt cx="3240720" cy="2404440"/>
          </a:xfrm>
        </p:grpSpPr>
        <p:grpSp>
          <p:nvGrpSpPr>
            <p:cNvPr id="136" name=""/>
            <p:cNvGrpSpPr/>
            <p:nvPr/>
          </p:nvGrpSpPr>
          <p:grpSpPr>
            <a:xfrm>
              <a:off x="5364000" y="4149720"/>
              <a:ext cx="3240720" cy="2404440"/>
              <a:chOff x="5364000" y="4149720"/>
              <a:chExt cx="3240720" cy="2404440"/>
            </a:xfrm>
          </p:grpSpPr>
          <p:sp>
            <p:nvSpPr>
              <p:cNvPr id="137" name=""/>
              <p:cNvSpPr/>
              <p:nvPr/>
            </p:nvSpPr>
            <p:spPr>
              <a:xfrm>
                <a:off x="5364000" y="6023160"/>
                <a:ext cx="50472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5280" y="6094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156000" y="4149720"/>
                <a:ext cx="2448720" cy="2404440"/>
                <a:chOff x="6156000" y="4149720"/>
                <a:chExt cx="2448720" cy="2404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58920" y="4149720"/>
                  <a:ext cx="50436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6156000" y="4654440"/>
                  <a:ext cx="2448720" cy="1899720"/>
                  <a:chOff x="6156000" y="4654440"/>
                  <a:chExt cx="2448720" cy="18997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23528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666920" y="530244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8100360" y="595008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08000" y="60231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371640" y="602316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15600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8171640" y="59500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42920" y="60944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379640" y="6094440"/>
                    <a:ext cx="431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5797440" y="5229360"/>
              <a:ext cx="50472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126828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В летний лагерь приехали отдыхать три друга: Миша, Володя, Петя. Известно, что каждый из них имеет одну из следующих фамилий: Иванов, Семёнов, Герасимов.  Миша – не Герасимов. Отец Володи – инженер. Володя учится в 6 классе. Герасимов учится в 5 классе. Отец Иванова – учитель. Какая фамилия у каждого уче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257560" cy="152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2257200" cy="15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51640" y="476280"/>
            <a:ext cx="2257200" cy="15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38200" y="55897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Герасимов Петя, Иванов Миша, Семёнов Волод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7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Кот в сапогах поймал четырех щук и ещё половину улова. Сколько щук поймал Кот в сапог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41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8щ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ирпич весит 2 кг и ещё треть собственного веса. 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573360"/>
            <a:ext cx="79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йцы пилят бревно. Они сделали 10 распилов. Сколько чурбачков у них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4508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1 чурбач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5157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Бублик режут на сектора. Сделали 10 разрезов. Сколько получилось кус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728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0 ку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50120" y="0"/>
            <a:ext cx="1793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2360" y="0"/>
            <a:ext cx="79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а бидона с молоком 32 кг, а масса пустого бидона – 2 кг. Какова масса бидона заполненного молоком наполов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70720" y="3933720"/>
            <a:ext cx="1673280" cy="15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1949400"/>
            <a:ext cx="781200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 – 2 = 30 (кг) – масса молока без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: 2 = 15 (кг) – масса молока половины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 + 2 = 17 (кг) – масса бидона наполовину заполненного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17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0"/>
            <a:ext cx="7885080" cy="1989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33336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ученика делают 3 самолётика за 3 минуты. Сколько учеников сделают 9 самолётиков за 9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22480"/>
            <a:ext cx="720072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ченик делает 1 самолёт за 3 минуты. Значит за 9 минут он сделае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9 : 3 = 3 самол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 9 минут 3 самолёта сделают 3 учени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333360"/>
            <a:ext cx="6769080" cy="24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189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ыш может съесть 600г варенья за 6 минут, а Карлсон – в 2 раза быстрее. За какое время они съедят это варенье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56536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 : 6 = 100 (г) варенья съст Малыш за 1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57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= 200 (г) съест за 1 минуту Кар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50920" y="414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100 + 200 = 300 (г)  съедят варенье Малыш и Карлсон вместе за 1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229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600 : 300 = 2 (мин) понадобится чтобы вместе съесть 600г вар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6308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2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0"/>
            <a:ext cx="8066160" cy="2421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76280"/>
            <a:ext cx="71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и подруги вышли в белом, синем и зелёном платьях и туфлях таких же цветов. Известно, что только у Ани цвет платья и туфель совпадает. И они не были белыми. Наташа была в зелёных туфлях. Определите цвет платья и туфель каждой подр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60280"/>
            <a:ext cx="7634160" cy="5256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4160" y="4149720"/>
            <a:ext cx="1509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47640" y="189000"/>
          <a:ext cx="6096240" cy="3031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ф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ают, но не бе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ел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684360" y="33577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фли Ани  не были белого цвета, но они и не были зелёного, так как в зелёных была 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1497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 у Ани туфли – синего цвета. А так как цвет платья Ани совпадает с цветом туфель, то значит плате у неё тоже СИ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64911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981000"/>
            <a:ext cx="165600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30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аташи  платье не может быть синем и не может быть зелёным, значит оно –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916280"/>
            <a:ext cx="16556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Вали – зелёное, а туфли – бе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981000"/>
            <a:ext cx="187164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2492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16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27280" y="333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 среди чисел 3а + 1 первые три числа, которые кратны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1628640"/>
            <a:ext cx="302436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 + 1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+ 1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+ 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+ 1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+ 1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6 + 1 =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557360"/>
            <a:ext cx="4572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+ 1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8 + 1 =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9+ 1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0 + 1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1 + 1 =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2 + 1 =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3 + 1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57340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твет: 10, 25, 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40720" y="1700280"/>
            <a:ext cx="1098360" cy="109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80360" y="306864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812000" y="4797360"/>
            <a:ext cx="1098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лассе 35 учеников. Из них 20 школьников занимаются в математическом кружке, 11  - в экологическом, 10 ребят не посещают эти кружки. Сколько экологов занимаются в математическом круж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07664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48720" y="39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76200" y="2281680"/>
            <a:ext cx="747360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42" y="34"/>
                </a:moveTo>
                <a:arcTo wR="10800" hR="10800" stAng="-5673328" swAng="5673328"/>
                <a:lnTo>
                  <a:pt x="10800" y="10800"/>
                </a:lnTo>
                <a:close/>
              </a:path>
              <a:path fill="none" w="21600" h="21600">
                <a:moveTo>
                  <a:pt x="9942" y="34"/>
                </a:moveTo>
                <a:arcTo wR="10800" hR="10800" stAng="-5673328" swAng="567332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900720" y="2282040"/>
            <a:ext cx="776916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148" swAng="5401148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148" swAng="540114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300000" y="3573360"/>
            <a:ext cx="3022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2000" y="3573360"/>
            <a:ext cx="22312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3645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76640"/>
            <a:ext cx="5400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645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3645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26560" y="364500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3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3716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609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5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9973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45813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997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матический 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23:02Z</dcterms:created>
  <dc:creator>школа</dc:creator>
  <dc:description/>
  <dc:language>en-US</dc:language>
  <cp:lastModifiedBy>Natalia</cp:lastModifiedBy>
  <dcterms:modified xsi:type="dcterms:W3CDTF">2010-10-07T13:33:11Z</dcterms:modified>
  <cp:revision>20</cp:revision>
  <dc:subject/>
  <dc:title>Слайд 1</dc:title>
</cp:coreProperties>
</file>