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128-2229-407B-BEB0-1D84FF47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49B-AD77-497B-9DED-8C7E17A9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633-4CBF-412A-9C1B-9F2AE8DA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5E4-9BC7-4B4C-8049-6018A22D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35AA-6C38-4E2D-ABD6-DCBE5D42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FFBF-A818-4CD4-85BA-71F667EF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50FB-4E8A-4430-AED0-90AA3CCE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81C3-232A-465A-81CD-701676C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A8F8-3134-4BD2-A4EF-85DBF469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69E8-0B9E-4866-8DFE-E97C07EB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86A6-04A9-42D7-9B6A-6176B2E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AA1-53BF-4FAF-A9E3-928F33C7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C7B1-F5F8-4459-9A33-880044C5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AE9A-614A-4A7D-9FD4-34B8D428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888B-9C6A-4A30-BE54-D9BD5C71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0DD6-323D-4571-B1D0-8B4E05DE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81C2-EF22-458A-88D4-8A407316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D7A-BC37-4F4D-8659-24CEB088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F92-E4A0-4AD1-99C8-7AA3AEFA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D07-8842-4125-BD4E-21FC43F6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669-CBBE-4017-BDFD-665D074B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E91-76B1-497D-882B-7DE98B43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AC7-80AF-4B4E-A9F0-9EF7AFF1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544-DAC9-480A-8B81-529CC9AF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989B-427F-485F-9F1B-7EFD1E0B0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89B0-4638-44E3-82B3-2A28268A4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poboi.by.ru/img/flg/flg_1024x768/flgb_japan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tursinfo.ru/files/Data/1174082992_9268i.gif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db.ru/view.php?i=ph9pabkd_251847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namonitore.ru/uploads/catalog/japan/pagodi_1_600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db.ru/view.php?i=ac5weec8_251203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узыка Япон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Картинка 11 из 1162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484280"/>
            <a:ext cx="4174920" cy="3133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13 из 1162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2060640"/>
            <a:ext cx="3295800" cy="3809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4356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41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430880" cy="547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992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естиваль тыкв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3 сентябр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ень осеннего равноденстви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тот праздник Японии отмечается с 1878 год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этот день по всей стране проходит традиционный фестиваль тыквы, во время которого умельцы со всей страны демонстрируют оригинальные композиции из этого замечательного продукт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то значит «оригами»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40000" y="1599840"/>
            <a:ext cx="2746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ереводе с японского "ори" - сложенный, "ками" - бумага. Искусство складывания из бумаг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 - - Хостинг картинок, хранение и публикация изображен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205000"/>
            <a:ext cx="4000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789120"/>
            <a:ext cx="684072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3457800" cy="2593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292720" y="1341360"/>
            <a:ext cx="3295800" cy="439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5 из 1162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189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Картинка 71 из 116239"/>
          <p:cNvPicPr/>
          <p:nvPr/>
        </p:nvPicPr>
        <p:blipFill>
          <a:blip r:embed="rId2"/>
          <a:stretch/>
        </p:blipFill>
        <p:spPr>
          <a:xfrm>
            <a:off x="4140360" y="3070080"/>
            <a:ext cx="4787640" cy="3592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36 из 83099"/>
          <p:cNvPicPr/>
          <p:nvPr/>
        </p:nvPicPr>
        <p:blipFill>
          <a:blip r:embed="rId3"/>
          <a:stretch/>
        </p:blipFill>
        <p:spPr>
          <a:xfrm>
            <a:off x="179280" y="189000"/>
            <a:ext cx="35766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ака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1881000" cy="244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84360" y="2205000"/>
            <a:ext cx="2554200" cy="3573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21974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Живопись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936960" cy="454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8368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32605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ад камн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Картинка 122 из 116239"/>
          <p:cNvPicPr/>
          <p:nvPr/>
        </p:nvPicPr>
        <p:blipFill>
          <a:blip r:embed="rId1"/>
          <a:stretch/>
        </p:blipFill>
        <p:spPr>
          <a:xfrm>
            <a:off x="1403280" y="2276640"/>
            <a:ext cx="619308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акура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3280" y="5660640"/>
            <a:ext cx="41403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Японии полагают, что тому, кто не воспринимает красоту Природы, нельзя доверять ни в чем, поскольку у него «сердце из камня»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 - - Хостинг картинок, хранение и публикация изображен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907920"/>
            <a:ext cx="54738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Картинка 41 из 116239"/>
          <p:cNvPicPr/>
          <p:nvPr/>
        </p:nvPicPr>
        <p:blipFill>
          <a:blip r:embed="rId2"/>
          <a:stretch/>
        </p:blipFill>
        <p:spPr>
          <a:xfrm>
            <a:off x="1116000" y="1484280"/>
            <a:ext cx="6138720" cy="4606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акур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480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6:53:38Z</dcterms:created>
  <dc:creator>Admin</dc:creator>
  <dc:description/>
  <dc:language>en-US</dc:language>
  <cp:lastModifiedBy>Admin</cp:lastModifiedBy>
  <dcterms:modified xsi:type="dcterms:W3CDTF">2011-10-20T05:36:50Z</dcterms:modified>
  <cp:revision>8</cp:revision>
  <dc:subject/>
  <dc:title>Музыка Японии</dc:title>
</cp:coreProperties>
</file>