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81E-3F80-4174-8636-02BF518E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12A-7C68-4D4D-B972-540EFAF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C5-6636-47C7-B81D-25C9448D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5CB-CE05-4E36-A17D-D2B098A6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47A-F4CA-4DFA-AFCC-0FDD9C63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110C-A61F-4ED0-A359-2C9F033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F06-C2BF-4493-8B7A-3FB8D30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070-943B-43FF-9611-56646485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3B0C-42D8-4C35-A142-F69025F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952-0F58-4F41-AA06-1A82A48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51C-02D2-45FD-9B87-FE9842F3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9C7-22BD-4938-81A2-652EEE40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7DB7-731C-4863-8436-3CF2DA5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43EA-50FF-4F21-8DC2-4B32F00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605-027E-4728-A180-60C94F3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EFE5-DCC9-4960-A03E-7B73DA29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974-888C-4BD6-BC26-5DFBD210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2B1-D614-4CB0-89DD-2FA35CF9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E55-253E-4598-8117-037C6876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0F-4BBF-44FC-8904-B8E26BFD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6F7-7E7F-4513-9DAB-F12EED37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591-0A1D-42ED-A328-367EED7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7B9-EA26-44F8-B703-D2F3077B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21F-8022-4232-B055-24BDB7D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F47-2C21-42E2-A4FD-3866C4F7C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19B-2B43-4BDE-8FD7-0CDC48249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oboi.by.ru/img/flg/flg_1024x768/flgb_japa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ursinfo.ru/files/Data/1174082992_9268i.gif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db.ru/view.php?i=ph9pabkd_251847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namonitore.ru/uploads/catalog/japan/pagodi_1_6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db.ru/view.php?i=ac5weec8_251203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узыка Япон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Картинка 11 из 1162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84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13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060640"/>
            <a:ext cx="329580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356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1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430880" cy="547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99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естиваль тыкв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 сентябр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нь осеннего равноденств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т праздник Японии отмечается с 1878 год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этот день по всей стране проходит традиционный фестиваль тыквы, во время которого умельцы со всей страны демонстрируют оригинальные композиции из этого замечательного продукт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значит «оригами»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0000" y="1599840"/>
            <a:ext cx="27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еводе с японского "ори" - сложенный, "ками" - бумага. Искусство складывания из бумаг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20500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89120"/>
            <a:ext cx="684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3457800" cy="259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5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89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71 из 116239"/>
          <p:cNvPicPr/>
          <p:nvPr/>
        </p:nvPicPr>
        <p:blipFill>
          <a:blip r:embed="rId2"/>
          <a:stretch/>
        </p:blipFill>
        <p:spPr>
          <a:xfrm>
            <a:off x="4140360" y="3070080"/>
            <a:ext cx="4787640" cy="359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36 из 83099"/>
          <p:cNvPicPr/>
          <p:nvPr/>
        </p:nvPicPr>
        <p:blipFill>
          <a:blip r:embed="rId3"/>
          <a:stretch/>
        </p:blipFill>
        <p:spPr>
          <a:xfrm>
            <a:off x="179280" y="189000"/>
            <a:ext cx="35766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ака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881000" cy="244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2554200" cy="357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197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Живопис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936960" cy="454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368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3260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ад камн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Картинка 122 из 116239"/>
          <p:cNvPicPr/>
          <p:nvPr/>
        </p:nvPicPr>
        <p:blipFill>
          <a:blip r:embed="rId1"/>
          <a:stretch/>
        </p:blipFill>
        <p:spPr>
          <a:xfrm>
            <a:off x="1403280" y="2276640"/>
            <a:ext cx="61930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3280" y="5660640"/>
            <a:ext cx="4140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Японии полагают, что тому, кто не воспринимает красоту Природы, нельзя доверять ни в чем, поскольку у него «сердце из камня»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907920"/>
            <a:ext cx="5473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41 из 116239"/>
          <p:cNvPicPr/>
          <p:nvPr/>
        </p:nvPicPr>
        <p:blipFill>
          <a:blip r:embed="rId2"/>
          <a:stretch/>
        </p:blipFill>
        <p:spPr>
          <a:xfrm>
            <a:off x="1116000" y="1484280"/>
            <a:ext cx="6138720" cy="4606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480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53:38Z</dcterms:created>
  <dc:creator>Admin</dc:creator>
  <dc:description/>
  <dc:language>en-US</dc:language>
  <cp:lastModifiedBy>Admin</cp:lastModifiedBy>
  <dcterms:modified xsi:type="dcterms:W3CDTF">2011-10-20T05:36:50Z</dcterms:modified>
  <cp:revision>8</cp:revision>
  <dc:subject/>
  <dc:title>Музыка Японии</dc:title>
</cp:coreProperties>
</file>