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276-4A9D-4E04-8D94-4C9E1D02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F07-610D-4FA7-9E67-B69656E6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09D-7A66-44FD-B071-49EBA10B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738-5F09-48A1-A7D7-94D4DB56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AAE2-1BB9-40BD-800E-0BBFDA3C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6D61-D2B4-4EE4-B3BC-586FB83A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6ECC-6E17-4108-B21C-755CC8B1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E5A2-03CA-42F1-9EF1-B0B3583A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2BC2-A59A-4533-AABF-CAB10D21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24FD-9390-43C4-A1AD-3EA9D7E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E5F0-4960-48D6-A33A-55BD28F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A4C-8B56-4E87-9473-C43CE903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04B9-39C7-4EBA-9E37-93F38EDA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7E3A-A456-4514-BC41-8750A09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FDB6-960E-4150-AAB3-0C287020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1A5E-359D-42DC-82D2-46272396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7019-EF20-484C-B3D5-0CAEB62E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3B5-A785-46B7-A957-9D993350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9AE-0BD8-4EB0-B98D-FFCB7678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162-DB5B-446F-95E9-E644DE7F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8C1-93E5-4083-B34E-38A2395E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AC6-7B57-4A38-B6AB-945206C7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202-6908-4F2E-B349-2873EA66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141-DD21-41D4-BA6D-5CE5E3D2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BAC9-29FC-42EE-AFD9-CB3FD1979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A4BB-8946-46C4-B2BD-2541BC040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poboi.by.ru/img/flg/flg_1024x768/flgb_japan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tursinfo.ru/files/Data/1174082992_9268i.gif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db.ru/view.php?i=ph9pabkd_251847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namonitore.ru/uploads/catalog/japan/pagodi_1_600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db.ru/view.php?i=ac5weec8_251203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узыка Япон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Картинка 11 из 1162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484280"/>
            <a:ext cx="4174920" cy="3133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13 из 1162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2060640"/>
            <a:ext cx="3295800" cy="3809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4356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1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430880" cy="5472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992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естиваль тыкв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962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3 сентябр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ень осеннего равноденстви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Этот праздник Японии отмечается с 1878 год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этот день по всей стране проходит традиционный фестиваль тыквы, во время которого умельцы со всей страны демонстрируют оригинальные композиции из этого замечательного продукт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то значит «оригами»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40000" y="1599840"/>
            <a:ext cx="2746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ереводе с японского "ори" - сложенный, "ками" - бумага. Искусство складывания из бумаг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 - - Хостинг картинок, хранение и публикация изображен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205000"/>
            <a:ext cx="4000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89120"/>
            <a:ext cx="68407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3457800" cy="259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92720" y="1341360"/>
            <a:ext cx="3295800" cy="439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5 из 11623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89000"/>
            <a:ext cx="3744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Картинка 71 из 116239"/>
          <p:cNvPicPr/>
          <p:nvPr/>
        </p:nvPicPr>
        <p:blipFill>
          <a:blip r:embed="rId2"/>
          <a:stretch/>
        </p:blipFill>
        <p:spPr>
          <a:xfrm>
            <a:off x="4140360" y="3070080"/>
            <a:ext cx="4787640" cy="3592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36 из 83099"/>
          <p:cNvPicPr/>
          <p:nvPr/>
        </p:nvPicPr>
        <p:blipFill>
          <a:blip r:embed="rId3"/>
          <a:stretch/>
        </p:blipFill>
        <p:spPr>
          <a:xfrm>
            <a:off x="179280" y="189000"/>
            <a:ext cx="35766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ака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1881000" cy="244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2554200" cy="3573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21974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Живопись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936960" cy="454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8368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32605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ад камн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Картинка 122 из 116239"/>
          <p:cNvPicPr/>
          <p:nvPr/>
        </p:nvPicPr>
        <p:blipFill>
          <a:blip r:embed="rId1"/>
          <a:stretch/>
        </p:blipFill>
        <p:spPr>
          <a:xfrm>
            <a:off x="1403280" y="2276640"/>
            <a:ext cx="619308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281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акура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3280" y="5660640"/>
            <a:ext cx="4140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Японии полагают, что тому, кто не воспринимает красоту Природы, нельзя доверять ни в чем, поскольку у него «сердце из камня»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 - - Хостинг картинок, хранение и публикация изображен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907920"/>
            <a:ext cx="54738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Картинка 41 из 116239"/>
          <p:cNvPicPr/>
          <p:nvPr/>
        </p:nvPicPr>
        <p:blipFill>
          <a:blip r:embed="rId2"/>
          <a:stretch/>
        </p:blipFill>
        <p:spPr>
          <a:xfrm>
            <a:off x="1116000" y="1484280"/>
            <a:ext cx="6138720" cy="4606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акур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480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6:53:38Z</dcterms:created>
  <dc:creator>Admin</dc:creator>
  <dc:description/>
  <dc:language>en-US</dc:language>
  <cp:lastModifiedBy>Admin</cp:lastModifiedBy>
  <dcterms:modified xsi:type="dcterms:W3CDTF">2011-10-20T05:36:50Z</dcterms:modified>
  <cp:revision>8</cp:revision>
  <dc:subject/>
  <dc:title>Музыка Японии</dc:title>
</cp:coreProperties>
</file>