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8DD-2050-46C9-B9FE-113A7FD5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2A5-6240-4220-9A70-E7FAEF3D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D52-D213-4958-99F1-9EB2849A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CAA-15E0-4AF8-85ED-9D211F95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A99F-30B6-41D0-8100-C8CC8FFA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D060-2614-47BC-AC16-B4F10CC0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923B-72A4-4AD1-AAD1-8AD373AD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F1FD-2ADC-44A7-B5FA-AFA7A1AA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2DFF-6B01-448B-9BE5-197244A8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60E3-3690-4FF2-83EA-39BFFC61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CE08-7B51-4A1B-B0E3-25977288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F98-163C-4A54-85BC-34759053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BE95-FFC9-4544-BCC9-48039173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61AF-5403-4593-A362-04A3B01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45A9-7DF5-43AF-B1A1-B5F1768E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4324-E5C7-4555-B34D-00BD6842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6B39-30B1-42EA-A614-837DDE59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677-720A-4E72-BA50-48D54ECC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5C3-2A15-4852-BC6D-3DCE3E9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446-930C-422F-BC3D-35A43E89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275-874F-40E9-9414-8FFF2B0D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068-16A5-4F58-95C4-BDE2415C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5F2-78E0-4249-8EDD-66519085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0DF-BFE1-42A4-A233-797BFD81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493C-27C3-472D-ABFA-C8DC9DEE22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F622-4BF3-48A7-B52C-34BE499AFF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obiguru.ru/web/photo/maxon_mx-7970_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0066"/>
                </a:solidFill>
                <a:uFillTx/>
                <a:latin typeface="Times New Roman"/>
              </a:rPr>
              <a:t>Мобильный телефон друг или враг человека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Исследование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Никиты Вашкеви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Избегайте </a:t>
            </a:r>
            <a:r>
              <a:rPr b="1" lang="en-US" sz="2800" spc="-1" strike="noStrike">
                <a:solidFill>
                  <a:srgbClr val="ff00ff"/>
                </a:solidFill>
                <a:latin typeface="Garamond"/>
              </a:rPr>
              <a:t>постоянного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 расположения телефона возле уха. Купите себе наушники. 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248360" cy="424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27640" y="2852640"/>
            <a:ext cx="2374920" cy="316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и покупке новенького мобильника обязательно проверяйте, имеет ли он </a:t>
            </a:r>
            <a:r>
              <a:rPr b="1" lang="ru-RU" sz="2400" spc="-1" strike="noStrike">
                <a:solidFill>
                  <a:srgbClr val="ff00ff"/>
                </a:solidFill>
                <a:latin typeface="Garamond"/>
              </a:rPr>
              <a:t>документы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по проверке на безопасность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3097080" cy="232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Не стоит разговаривать по мобильнику </a:t>
            </a:r>
            <a:r>
              <a:rPr b="1" lang="ru-RU" sz="2400" spc="-1" strike="noStrike">
                <a:solidFill>
                  <a:srgbClr val="ff00ff"/>
                </a:solidFill>
                <a:latin typeface="Garamond"/>
              </a:rPr>
              <a:t>в машине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: отражаясь от металлического корпуса машины, излучение сотового увеличивается в несколько раз.</a:t>
            </a:r>
            <a:br>
              <a:rPr sz="40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888000" cy="2479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867280" y="3284640"/>
            <a:ext cx="2828880" cy="282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Не держите трубку возле уха, дожидаясь </a:t>
            </a:r>
            <a:r>
              <a:rPr b="1" lang="en-US" sz="2400" spc="-1" strike="noStrike">
                <a:solidFill>
                  <a:srgbClr val="ff00ff"/>
                </a:solidFill>
                <a:latin typeface="Garamond"/>
              </a:rPr>
              <a:t>ответа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абонента. Смотрите на экран и подносите телефон к уху, когда соединение произошло. 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376360" cy="428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Время разговор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&lt;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рыв 15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390760" cy="2481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Исследование – мобильный телефон в жизни учеников нашего класса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57080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Как часто пользуются телефоном ребята?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692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олее длительное время разговаривают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девочк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5545080" cy="4116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С кем же чаще всего общаются участники опроса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Как  используется  телефон, кроме звонков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efee"/>
                </a:solidFill>
                <a:latin typeface="Garamond"/>
              </a:rPr>
              <a:t>Цель: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Узнать о пользе и вреде мобильного телефона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учить историю телефона, узнать виды телефонной связ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Выяснить пользу и вред мобильного телефо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Провести исследование – мобильный телефон в жизни учеников нашего класса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Изучить правила этикета пользования телефон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Картинка 46 из 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060640"/>
            <a:ext cx="142884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ыводы исслед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елефон неотъемлемая часть жизни учеников нашего клас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Но в тоже время вызывает тревогу факт - длительных разговоров учеников по телефону в течении дн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403280" y="1268280"/>
            <a:ext cx="2592360" cy="251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Правила этикета пользования телефоном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е нужно разговаривать по мобильному телефону в библиотеках, музеях, театрах и кинотеатрах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356724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льзоваться мобильным телефоном во время вождения автомобиля  небезопасно, это может привести к аварии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302436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ы поступите вежливо, если не будете выбирать для сигнала звонка громкую и раздражающую музыку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3581280" cy="3593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важайте правила. Когда в учреждении или в самолете вас просят воздержаться от использования сотовых телефонов, не делайте вид, что ничего не слышали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2519640" cy="1896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2544840" cy="2059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ричать в телефон не стоит. Особенно если рядом находятся люди. Говорите тихо и мягко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2349360"/>
            <a:ext cx="3025800" cy="2614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00ff"/>
                </a:solidFill>
                <a:latin typeface="Garamond"/>
              </a:rPr>
              <a:t>В конце хотелось бы сказать помните обо всем сказанном и не позволяете телефону мешать вашей жизни, ведь он призван помогать ей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ЕЛЕФОН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лефон – это механизм, который передает речь на большое расстояние. Схема простейшего телефона нить с коробкой в качестве микрофо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вый телефон создал изобретатель </a:t>
            </a:r>
            <a:r>
              <a:rPr b="0" lang="ru-RU" sz="2000" spc="-1" strike="noStrike">
                <a:solidFill>
                  <a:srgbClr val="ff00ff"/>
                </a:solidFill>
                <a:latin typeface="Garamond"/>
              </a:rPr>
              <a:t>Александр Белл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в 1876 году. Для первого разговора по телефону изобретателю не пришлось набирать номер, так как на тот момент в мире было два телефонных аппар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вая мобильная телефонная связь испытана в 1950 году, а первый мобильный телефон выпустила компания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torola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97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1146240" cy="187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1092240" cy="88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4365720"/>
            <a:ext cx="1657080" cy="156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иды телефонной связ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елефонную связь можно разделить на два ви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 проводам –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проводная связ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помощью радиосигнала – 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мобильная связ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942160" y="1600200"/>
            <a:ext cx="1449360" cy="217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12000" y="4417920"/>
            <a:ext cx="137160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В чем обвиняют мобильную связь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3527640" cy="265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Английские исследователи утверждают о том, что электромагнитные волны, исходящие из мобильника, разрушают иммунную систему.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680000" cy="350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20000" y="3429000"/>
            <a:ext cx="137304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Шведские ученые пришли к выводу, что те, кто пользуется мобильным телефоном очень часто, страдают от головных болей и постоянного чувства сонливости.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667040" cy="4029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3095640" cy="230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 данным Всемирной организации здравоохранения, пользование сотовыми телефонами более часа в день заметно ухудшает зрение и слух. 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Чем спас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1:14:08Z</dcterms:created>
  <dc:creator>nik</dc:creator>
  <dc:description/>
  <dc:language>en-US</dc:language>
  <cp:lastModifiedBy>nik</cp:lastModifiedBy>
  <dcterms:modified xsi:type="dcterms:W3CDTF">2009-01-18T04:31:39Z</dcterms:modified>
  <cp:revision>18</cp:revision>
  <dc:subject/>
  <dc:title>Телефоны.</dc:title>
</cp:coreProperties>
</file>