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D72-7273-44CE-9C2D-65B3CBB7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950-2E5A-47D8-9392-716F265A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E49-A72C-417C-A8E4-BA40B3FA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ADE-F749-45A3-BC28-2BC66180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72E7-29D6-43C2-A337-F76BBC16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5E10-D94A-4D68-8217-3E55F733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C3CB-9620-488B-AFDF-8BC1AE43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FEB-8036-4ED1-BD50-3482D6EC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4861-8C2A-43FF-BE4D-5835FE4C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4443-26B1-4897-AEA2-A9B6B5FE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A3E6-3576-4292-986D-FA4361D8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1E1-BCAD-49E8-B6F4-01E1E4DD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2CFD-52AA-4286-9C86-60CCC488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3B4E-6118-4C14-8E9D-84636EA8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EEE7-7CBE-4DB1-A7D9-31D516B8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7F54-546A-4C6B-82D4-E3A9CB73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1673-305C-4995-9586-424F6179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C7A-E769-4D01-BC7B-D6230ADC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F3B-3BBC-4400-8F9A-C985FB20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C33-7CD9-4730-A53D-092424A3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80E-6BAF-478D-93A5-B251D4D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C5F-FB99-4C11-BD0A-FE23A60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2F4-FD46-46C7-91EE-61EC9F63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999-7E66-45EE-B5CC-96A100A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6FEB-BDE7-4CE7-BDF6-B15164A22F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ECDC-A50A-4607-A537-F22FE12511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obiguru.ru/web/photo/maxon_mx-7970_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0066"/>
                </a:solidFill>
                <a:uFillTx/>
                <a:latin typeface="Times New Roman"/>
              </a:rPr>
              <a:t>Мобильный телефон друг или враг человека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Исследование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Никиты Вашкеви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Избегайте </a:t>
            </a:r>
            <a:r>
              <a:rPr b="1" lang="en-US" sz="2800" spc="-1" strike="noStrike">
                <a:solidFill>
                  <a:srgbClr val="ff00ff"/>
                </a:solidFill>
                <a:latin typeface="Garamond"/>
              </a:rPr>
              <a:t>постоянного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 расположения телефона возле уха. Купите себе наушники. 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248360" cy="424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2374920" cy="316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и покупке новенького мобильника обязательно проверяйте, имеет ли он </a:t>
            </a:r>
            <a:r>
              <a:rPr b="1" lang="ru-RU" sz="2400" spc="-1" strike="noStrike">
                <a:solidFill>
                  <a:srgbClr val="ff00ff"/>
                </a:solidFill>
                <a:latin typeface="Garamond"/>
              </a:rPr>
              <a:t>документы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по проверке на безопасность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3097080" cy="232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Не стоит разговаривать по мобильнику </a:t>
            </a:r>
            <a:r>
              <a:rPr b="1" lang="ru-RU" sz="2400" spc="-1" strike="noStrike">
                <a:solidFill>
                  <a:srgbClr val="ff00ff"/>
                </a:solidFill>
                <a:latin typeface="Garamond"/>
              </a:rPr>
              <a:t>в машине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: отражаясь от металлического корпуса машины, излучение сотового увеличивается в несколько раз.</a:t>
            </a:r>
            <a:br>
              <a:rPr sz="40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888000" cy="2479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867280" y="3284640"/>
            <a:ext cx="282888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Не держите трубку возле уха, дожидаясь </a:t>
            </a:r>
            <a:r>
              <a:rPr b="1" lang="en-US" sz="2400" spc="-1" strike="noStrike">
                <a:solidFill>
                  <a:srgbClr val="ff00ff"/>
                </a:solidFill>
                <a:latin typeface="Garamond"/>
              </a:rPr>
              <a:t>ответа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абонента. Смотрите на экран и подносите телефон к уху, когда соединение произошло.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376360" cy="428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Время разговор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lt;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рыв 15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390760" cy="2481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Исследование – мобильный телефон в жизни учеников нашего класса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57080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Как часто пользуются телефоном ребята?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692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олее длительное время разговаривают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девочк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545080" cy="4116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С кем же чаще всего общаются участники опроса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ак  используется  телефон, кроме звонков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efee"/>
                </a:solidFill>
                <a:latin typeface="Garamond"/>
              </a:rPr>
              <a:t>Цель: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Узнать о пользе и вреде мобильного телефона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учить историю телефона, узнать виды телефонной св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Выяснить пользу и вред мобильного телефо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Провести исследование – мобильный телефон в жизни учеников нашего класса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Изучить правила этикета пользования телефон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Картинка 46 из 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060640"/>
            <a:ext cx="142884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ыводы исслед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лефон неотъемлемая часть жизни учеников нашего клас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Но в тоже время вызывает тревогу факт - длительных разговоров учеников по телефону в течении дн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403280" y="1268280"/>
            <a:ext cx="2592360" cy="251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Правила этикета пользования телефоном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 нужно разговаривать по мобильному телефону в библиотеках, музеях, театрах и кинотеатрах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356724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льзоваться мобильным телефоном во время вождения автомобиля  небезопасно, это может привести к аварии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ы поступите вежливо, если не будете выбирать для сигнала звонка громкую и раздражающую музыку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3581280" cy="3593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важайте правила. Когда в учреждении или в самолете вас просят воздержаться от использования сотовых телефонов, не делайте вид, что ничего не слышали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2519640" cy="1896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2544840" cy="2059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ричать в телефон не стоит. Особенно если рядом находятся люди. Говорите тихо и мягко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2349360"/>
            <a:ext cx="3025800" cy="261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00ff"/>
                </a:solidFill>
                <a:latin typeface="Garamond"/>
              </a:rPr>
              <a:t>В конце хотелось бы сказать помните обо всем сказанном и не позволяете телефону мешать вашей жизни, ведь он призван помогать ей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ЕЛЕФОН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лефон – это механизм, который передает речь на большое расстояние. Схема простейшего телефона нить с коробкой в качестве микрофо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вый телефон создал изобретатель </a:t>
            </a:r>
            <a:r>
              <a:rPr b="0" lang="ru-RU" sz="2000" spc="-1" strike="noStrike">
                <a:solidFill>
                  <a:srgbClr val="ff00ff"/>
                </a:solidFill>
                <a:latin typeface="Garamond"/>
              </a:rPr>
              <a:t>Александр Белл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в 1876 году. Для первого разговора по телефону изобретателю не пришлось набирать номер, так как на тот момент в мире было два телефонных аппар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вая мобильная телефонная связь испытана в 1950 году, а первый мобильный телефон выпустила компания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torola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97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1146240" cy="187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1092240" cy="88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4365720"/>
            <a:ext cx="1657080" cy="156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иды телефонной связ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лефонную связь можно разделить на два ви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 проводам –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проводная связ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помощью радиосигнала –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мобильная связ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942160" y="1600200"/>
            <a:ext cx="1449360" cy="217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12000" y="4417920"/>
            <a:ext cx="137160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В чем обвиняют мобильную связь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3527640" cy="265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нглийские исследователи утверждают о том, что электромагнитные волны, исходящие из мобильника, разрушают иммунную систему.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680000" cy="350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0000" y="3429000"/>
            <a:ext cx="13730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Шведские ученые пришли к выводу, что те, кто пользуется мобильным телефоном очень часто, страдают от головных болей и постоянного чувства сонливости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667040" cy="4029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3095640" cy="230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 данным Всемирной организации здравоохранения, пользование сотовыми телефонами более часа в день заметно ухудшает зрение и слух.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Чем спас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1:14:08Z</dcterms:created>
  <dc:creator>nik</dc:creator>
  <dc:description/>
  <dc:language>en-US</dc:language>
  <cp:lastModifiedBy>nik</cp:lastModifiedBy>
  <dcterms:modified xsi:type="dcterms:W3CDTF">2009-01-18T04:31:39Z</dcterms:modified>
  <cp:revision>18</cp:revision>
  <dc:subject/>
  <dc:title>Телефоны.</dc:title>
</cp:coreProperties>
</file>