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3FC-155A-4F8E-8DB0-3DCD2C4C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767-D0B3-44BF-AEFD-BF10590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7CB-9145-4FB6-B1A5-34D87B11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4DE-7F47-4771-8770-AA4806D9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2334-2946-4D94-8B6B-1EA01AC8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C6C6-83E3-42D3-A712-A5D1AFB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CED-A3B5-487A-B279-C49BC8B7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938-5880-40B4-81DC-BCCD464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F620-9CAA-45D0-A68F-9D95BAB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CBF-3CF1-417E-886B-678D3CD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0DC7-4F32-463D-98E9-10A05499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90D-D9F6-4E3D-806A-BA57DDD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8D5-3388-453B-9617-6D8DE5E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62A9-77D3-4842-B29C-BA9C1DA0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6E33-62BE-48E4-8BF5-80484831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828B-F9D6-4666-ABCF-C46A1E84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069F-6665-4A42-A629-4D31C442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0B8-88E5-4B55-990D-82AE4F2D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26C-4C1D-4AF5-9601-E439DF16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E89-D0EE-47AE-8D41-ED8C3CE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AAD-7DC6-4B46-8C9C-E711F88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D39-E1F5-4758-A93F-1128F65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487-D5CC-4A0A-B632-591BE70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F5B-B5AD-4866-B44D-75F850C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268-95B3-4A84-B343-B67BB1B849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E1B-7315-4F77-B9C4-16E696F31E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obiguru.ru/web/photo/maxon_mx-7970_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0066"/>
                </a:solidFill>
                <a:uFillTx/>
                <a:latin typeface="Times New Roman"/>
              </a:rPr>
              <a:t>Мобильный телефон друг или враг человека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Исследование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Никиты Вашкеви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Избегайте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постоянного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расположения телефона возле уха. Купите себе наушники. 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23749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 покупке новенького мобильника обязательно проверяйте, имеет ли он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документы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по проверке на безопасность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09708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е стоит разговаривать по мобильнику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в машине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: отражаясь от металлического корпуса машины, излучение сотового увеличивается в несколько раз.</a:t>
            </a:r>
            <a:br>
              <a:rPr sz="40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888000" cy="247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82888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Не держите трубку возле уха, дожидаясь </a:t>
            </a:r>
            <a:r>
              <a:rPr b="1" lang="en-US" sz="2400" spc="-1" strike="noStrike">
                <a:solidFill>
                  <a:srgbClr val="ff00ff"/>
                </a:solidFill>
                <a:latin typeface="Garamond"/>
              </a:rPr>
              <a:t>ответа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абонента. Смотрите на экран и подносите телефон к уху, когда соединение произошло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37636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ремя разговор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рыв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39076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Исследование – мобильный телефон в жизни учеников нашего класса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57080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Как часто пользуются телефоном ребята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6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олее длительное время разговаривают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девочк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545080" cy="4116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 кем же чаще всего общаются участники опроса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  используется  телефон, кроме звонков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Цель: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Узнать о пользе и вреде мобильного телефона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учить историю телефона, узнать виды телефон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Выяснить пользу и вред мобильного телефо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вести исследование – мобильный телефон в жизни учеников нашего класса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Изучить правила этикета пользования телефон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Картинка 46 из 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06064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воды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 неотъемлемая часть жизни учеников нашего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Но в тоже время вызывает тревогу факт - длительных разговоров учеников по телефону в течении д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2592360" cy="251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Правила этикета пользования телефоном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нужно разговаривать по мобильному телефону в библиотеках, музеях, театрах и кинотеатрах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56724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льзоваться мобильным телефоном во время вождения автомобиля  небезопасно, это может привести к аварии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ы поступите вежливо, если не будете выбирать для сигнала звонка громкую и раздражающую музыку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358128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важайте правила. Когда в учреждении или в самолете вас просят воздержаться от использования сотовых телефонов, не делайте вид, что ничего не слышал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519640" cy="1896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2544840" cy="205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ичать в телефон не стоит. Особенно если рядом находятся люди. Говорите тихо и мягко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302580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Garamond"/>
              </a:rPr>
              <a:t>В конце хотелось бы сказать помните обо всем сказанном и не позволяете телефону мешать вашей жизни, ведь он призван помогать ей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ЕЛЕФОН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лефон – это механизм, который передает речь на большое расстояние. Схема простейшего телефона нить с коробкой в качестве микрофо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ый телефон создал изобретатель </a:t>
            </a:r>
            <a:r>
              <a:rPr b="0" lang="ru-RU" sz="2000" spc="-1" strike="noStrike">
                <a:solidFill>
                  <a:srgbClr val="ff00ff"/>
                </a:solidFill>
                <a:latin typeface="Garamond"/>
              </a:rPr>
              <a:t>Александр Белл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в 1876 году. Для первого разговора по телефону изобретателю не пришлось набирать номер, так как на тот момент в мире было два телефонных аппар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ая мобильная телефонная связь испытана в 1950 году, а первый мобильный телефон выпустила компания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torola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97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11462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1092240" cy="88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165708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иды телефонной связ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ную связь можно разделить на два ви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 проводам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провод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помощью радиосигнала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мобиль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2160" y="1600200"/>
            <a:ext cx="1449360" cy="21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12000" y="4417920"/>
            <a:ext cx="137160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В чем обвиняют мобильную связь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352764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нглийские исследователи утверждают о том, что электромагнитные волны, исходящие из мобильника, разрушают иммунную систему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80000" cy="350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0000" y="3429000"/>
            <a:ext cx="1373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Шведские ученые пришли к выводу, что те, кто пользуется мобильным телефоном очень часто, страдают от головных болей и постоянного чувства сонливост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67040" cy="4029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095640" cy="23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 данным Всемирной организации здравоохранения, пользование сотовыми телефонами более часа в день заметно ухудшает зрение и слух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Чем спас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14:08Z</dcterms:created>
  <dc:creator>nik</dc:creator>
  <dc:description/>
  <dc:language>en-US</dc:language>
  <cp:lastModifiedBy>nik</cp:lastModifiedBy>
  <dcterms:modified xsi:type="dcterms:W3CDTF">2009-01-18T04:31:39Z</dcterms:modified>
  <cp:revision>18</cp:revision>
  <dc:subject/>
  <dc:title>Телефоны.</dc:title>
</cp:coreProperties>
</file>