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2F0-290B-400D-9557-F4AC3B9F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91D2-C72F-4E21-B9AC-0F1F7C90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138-0C3A-4AE3-8A71-7837EDA2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1B5-59CF-4486-BAFF-858FB3EE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76D-7B5F-410D-BCE7-DBB8B9D6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4C4-DE96-41D8-ADEC-0499F14F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10E-3950-4B6B-A181-97A907EE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EB6-7EBE-477C-9705-AB0D71D4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D43-0D57-49B9-9E8A-91708ADA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36E-3528-455A-B52E-775E9820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2DE-C7E0-49D3-9D3B-04E63972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8A4-85FC-47BD-B9F4-60BE0C35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F8FA-C5E6-4F91-86D6-8395E251B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Содержание образования и структура непрерывного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Лекция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Управление образова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2060640"/>
            <a:ext cx="777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сложная организационно-структурная система, внутри которой выделяется организационная структура регионального управления образованием, соответствующие муниципальные структуры управления, а также организационные структуры управления самих образовательных учрежде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400536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как процес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4869000"/>
            <a:ext cx="748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заимосвязанная совокупность циклически повторяющихся процессов выработки и осуществления решений, ориентированных на стабильное функционирование и эффективное развитие системы образования и основных ее ч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5240" y="1289160"/>
            <a:ext cx="28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как орган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едагогический менеджмен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4292640"/>
            <a:ext cx="4176720" cy="216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4" y="-26631"/>
                </a:moveTo>
                <a:lnTo>
                  <a:pt x="-394" y="1143"/>
                </a:lnTo>
              </a:path>
              <a:path w="21600" h="21600">
                <a:moveTo>
                  <a:pt x="-394" y="0"/>
                </a:moveTo>
                <a:lnTo>
                  <a:pt x="-394" y="21600"/>
                </a:lnTo>
              </a:path>
            </a:pathLst>
          </a:cu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) комплекс принципов, методов, организационных форм и технологических приемов управления педагогическими ситемами, направленный на повышение эффективности их функционирования и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789360"/>
            <a:ext cx="2156040" cy="914400"/>
          </a:xfrm>
          <a:prstGeom prst="borderCallout1">
            <a:avLst>
              <a:gd name="adj1" fmla="val -763"/>
              <a:gd name="adj2" fmla="val -56550"/>
              <a:gd name="adj3" fmla="val -763"/>
              <a:gd name="adj4" fmla="val 18900"/>
            </a:avLst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управление деятельностью учащих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989000"/>
            <a:ext cx="4603680" cy="1440000"/>
          </a:xfrm>
          <a:prstGeom prst="borderCallout1">
            <a:avLst>
              <a:gd name="adj1" fmla="val -358"/>
              <a:gd name="adj2" fmla="val -6359"/>
              <a:gd name="adj3" fmla="val -358"/>
              <a:gd name="adj4" fmla="val 19885"/>
            </a:avLst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б) научно-организованное управление со своеобразной иерархией: первый уровень – управление деятельностью педагогического коллек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65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65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65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662616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Методы управл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1268280"/>
            <a:ext cx="532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- это способы достижения поставленных целей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4653000"/>
            <a:ext cx="2737080" cy="201600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илю (авторитар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мократическ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бераль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2060640"/>
            <a:ext cx="2736720" cy="136836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у 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федераль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иональ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4000" y="2205000"/>
            <a:ext cx="3384360" cy="136836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ям (стратегическ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тические, операт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3429000"/>
            <a:ext cx="2737080" cy="136836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бъекту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дминистратив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зяйствен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3284640"/>
            <a:ext cx="3095640" cy="172872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ени управлен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перспектив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госрочные, текущ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869000"/>
            <a:ext cx="4105440" cy="172872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зму вли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оциально-политическ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онно-распорядитель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онно-педагог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350"/>
                            </p:stCondLst>
                            <p:childTnLst>
                              <p:par>
                                <p:cTn id="3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350"/>
                            </p:stCondLst>
                            <p:childTnLst>
                              <p:par>
                                <p:cTn id="3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350"/>
                            </p:stCondLst>
                            <p:childTnLst>
                              <p:par>
                                <p:cTn id="3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350"/>
                            </p:stCondLst>
                            <p:childTnLst>
                              <p:par>
                                <p:cTn id="4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350"/>
                            </p:stCondLst>
                            <p:childTnLst>
                              <p:par>
                                <p:cTn id="4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35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123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Содержание образов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268280"/>
            <a:ext cx="576360" cy="1729080"/>
          </a:xfrm>
          <a:custGeom>
            <a:avLst/>
            <a:gdLst>
              <a:gd name="textAreaLeft" fmla="*/ 77040 w 576360"/>
              <a:gd name="textAreaRight" fmla="*/ 499320 w 576360"/>
              <a:gd name="textAreaTop" fmla="*/ 302400 h 1729080"/>
              <a:gd name="textAreaBottom" fmla="*/ 125352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1916280"/>
            <a:ext cx="3456000" cy="93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во-ориентирова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х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32360" y="2205000"/>
            <a:ext cx="1150920" cy="358920"/>
          </a:xfrm>
          <a:prstGeom prst="rightArrow">
            <a:avLst>
              <a:gd name="adj1" fmla="val 50000"/>
              <a:gd name="adj2" fmla="val 80165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1628640"/>
            <a:ext cx="2736720" cy="3168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нимается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дагог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аптирова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ых зн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язанных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ми прак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й и навы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ыми необходи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владе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чающим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907920"/>
            <a:ext cx="1008000" cy="345600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604800 h 3456000"/>
              <a:gd name="textAreaBottom" fmla="*/ 25056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213000"/>
            <a:ext cx="3456000" cy="93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но-ориентир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346920" y="4437720"/>
            <a:ext cx="792360" cy="358560"/>
          </a:xfrm>
          <a:prstGeom prst="rightArrow">
            <a:avLst>
              <a:gd name="adj1" fmla="val 50000"/>
              <a:gd name="adj2" fmla="val 552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084640"/>
            <a:ext cx="7705440" cy="1511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7fb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еся должны  овладеть не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ным учебным содержанием.  У них должны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ны ценностно  значимые запросы и намер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е личностные качества,  как ответственность за свои действ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судьбу общества, толерантное  отношение к инакомыслящи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59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Четыре компонента содержания образов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916280"/>
            <a:ext cx="75614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205000"/>
            <a:ext cx="4752720" cy="14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познавательной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ксированной в форме ее результатов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ний (о природе, обществе, техни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шлении и способах деятель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5640" y="5229360"/>
            <a:ext cx="4896000" cy="143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осуществления изве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ов деятельности –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е умений действовать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цу (интеллектуальные и прак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я и навы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2060640"/>
            <a:ext cx="3672000" cy="2952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творческой деятельност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форме умений приним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тандартные решени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усвоение метод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перимента,  участи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ественном, техниче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оциальном творчеств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933720"/>
            <a:ext cx="345600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осущест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моционально-ценнос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ношений – в фор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ных ориента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отношение к окружающ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у,  людям, самому себ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ам мора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овоззренческим иде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Система образо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2349360"/>
            <a:ext cx="777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-  совокупность образовательных программ и стандартов, сеть образовательных учреждений и органов управления, а также комплекс принципов, определяющих функционирование сист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5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ринципы государственной образовательной полит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484280"/>
            <a:ext cx="7632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0" y="2205000"/>
            <a:ext cx="2340000" cy="2664000"/>
          </a:xfrm>
          <a:prstGeom prst="wedgeRectCallout">
            <a:avLst>
              <a:gd name="adj1" fmla="val -39555"/>
              <a:gd name="adj2" fmla="val 7770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уманистический характер образования, приоритет общечеловеческих ценностей, право личности на свобод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6732720" y="1699920"/>
            <a:ext cx="2232000" cy="2160360"/>
          </a:xfrm>
          <a:prstGeom prst="wedgeRectCallout">
            <a:avLst>
              <a:gd name="adj1" fmla="val 51064"/>
              <a:gd name="adj2" fmla="val 5903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доступность образования и адаптивность системы образования к потребностям обучаем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1258920" y="5805360"/>
            <a:ext cx="3889440" cy="790560"/>
          </a:xfrm>
          <a:prstGeom prst="wedgeRectCallout">
            <a:avLst>
              <a:gd name="adj1" fmla="val -27513"/>
              <a:gd name="adj2" fmla="val 59557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тский характер образования в государственных учрежде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5508360" y="4365720"/>
            <a:ext cx="2879640" cy="2016000"/>
          </a:xfrm>
          <a:prstGeom prst="wedgeRectCallout">
            <a:avLst>
              <a:gd name="adj1" fmla="val 18907"/>
              <a:gd name="adj2" fmla="val 19338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мократический, государственно-общественный характер управления, самостоятельность образовательных учрежд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4500360" y="2420640"/>
            <a:ext cx="1655640" cy="1152360"/>
          </a:xfrm>
          <a:prstGeom prst="wedgeRectCallout">
            <a:avLst>
              <a:gd name="adj1" fmla="val 9537"/>
              <a:gd name="adj2" fmla="val 12217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а и плюрализм в образо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2484000" y="2276640"/>
            <a:ext cx="1871640" cy="2952720"/>
          </a:xfrm>
          <a:prstGeom prst="wedgeRectCallout">
            <a:avLst>
              <a:gd name="adj1" fmla="val 5300"/>
              <a:gd name="adj2" fmla="val 7731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инство федерального образования с правом на своеобразие образования национальных и региональных куль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324000" y="189000"/>
            <a:ext cx="8568000" cy="6264000"/>
            <a:chOff x="324000" y="189000"/>
            <a:chExt cx="8568000" cy="6264000"/>
          </a:xfrm>
        </p:grpSpPr>
        <p:cxnSp>
          <p:nvCxnSpPr>
            <p:cNvPr id="75" name="_s8216"/>
            <p:cNvCxnSpPr>
              <a:stCxn id="76" idx="3"/>
              <a:endCxn id="77" idx="2"/>
            </p:cNvCxnSpPr>
            <p:nvPr/>
          </p:nvCxnSpPr>
          <p:spPr>
            <a:xfrm flipV="1">
              <a:off x="3996000" y="925200"/>
              <a:ext cx="612720" cy="515916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78" name="_s8214"/>
            <p:cNvCxnSpPr>
              <a:stCxn id="79" idx="1"/>
              <a:endCxn id="77" idx="2"/>
            </p:cNvCxnSpPr>
            <p:nvPr/>
          </p:nvCxnSpPr>
          <p:spPr>
            <a:xfrm rot="10800000">
              <a:off x="4607280" y="925200"/>
              <a:ext cx="612720" cy="405396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80" name="_s8212"/>
            <p:cNvCxnSpPr>
              <a:stCxn id="81" idx="3"/>
              <a:endCxn id="77" idx="2"/>
            </p:cNvCxnSpPr>
            <p:nvPr/>
          </p:nvCxnSpPr>
          <p:spPr>
            <a:xfrm flipV="1">
              <a:off x="3996000" y="925200"/>
              <a:ext cx="612720" cy="405396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82" name="_s8210"/>
            <p:cNvCxnSpPr>
              <a:stCxn id="83" idx="1"/>
              <a:endCxn id="77" idx="2"/>
            </p:cNvCxnSpPr>
            <p:nvPr/>
          </p:nvCxnSpPr>
          <p:spPr>
            <a:xfrm rot="10800000">
              <a:off x="4607280" y="925200"/>
              <a:ext cx="612720" cy="294840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84" name="_s8208"/>
            <p:cNvCxnSpPr>
              <a:stCxn id="85" idx="3"/>
              <a:endCxn id="77" idx="2"/>
            </p:cNvCxnSpPr>
            <p:nvPr/>
          </p:nvCxnSpPr>
          <p:spPr>
            <a:xfrm flipV="1">
              <a:off x="3996000" y="925560"/>
              <a:ext cx="612720" cy="294840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86" name="_s8206"/>
            <p:cNvCxnSpPr>
              <a:stCxn id="87" idx="1"/>
              <a:endCxn id="77" idx="2"/>
            </p:cNvCxnSpPr>
            <p:nvPr/>
          </p:nvCxnSpPr>
          <p:spPr>
            <a:xfrm rot="10800000">
              <a:off x="4607280" y="925200"/>
              <a:ext cx="612720" cy="184284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88" name="_s8204"/>
            <p:cNvCxnSpPr>
              <a:stCxn id="89" idx="3"/>
              <a:endCxn id="77" idx="2"/>
            </p:cNvCxnSpPr>
            <p:nvPr/>
          </p:nvCxnSpPr>
          <p:spPr>
            <a:xfrm flipV="1">
              <a:off x="3996000" y="925200"/>
              <a:ext cx="612720" cy="184284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90" name="_s8203"/>
            <p:cNvCxnSpPr>
              <a:stCxn id="91" idx="1"/>
              <a:endCxn id="77" idx="2"/>
            </p:cNvCxnSpPr>
            <p:nvPr/>
          </p:nvCxnSpPr>
          <p:spPr>
            <a:xfrm rot="10800000">
              <a:off x="4607280" y="925200"/>
              <a:ext cx="612720" cy="73764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92" name="_s8202"/>
            <p:cNvCxnSpPr>
              <a:stCxn id="93" idx="3"/>
              <a:endCxn id="77" idx="2"/>
            </p:cNvCxnSpPr>
            <p:nvPr/>
          </p:nvCxnSpPr>
          <p:spPr>
            <a:xfrm flipV="1">
              <a:off x="3996000" y="925200"/>
              <a:ext cx="612720" cy="73764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sp>
          <p:nvSpPr>
            <p:cNvPr id="77" name="_s8198"/>
            <p:cNvSpPr/>
            <p:nvPr/>
          </p:nvSpPr>
          <p:spPr>
            <a:xfrm>
              <a:off x="2772000" y="189000"/>
              <a:ext cx="3672000" cy="7369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8000"/>
                  </a:solidFill>
                  <a:latin typeface="Arial"/>
                </a:rPr>
                <a:t>Система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8000"/>
                  </a:solidFill>
                  <a:latin typeface="Arial"/>
                </a:rPr>
                <a:t>образован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199"/>
            <p:cNvSpPr/>
            <p:nvPr/>
          </p:nvSpPr>
          <p:spPr>
            <a:xfrm>
              <a:off x="324000" y="129420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шко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200"/>
            <p:cNvSpPr/>
            <p:nvPr/>
          </p:nvSpPr>
          <p:spPr>
            <a:xfrm>
              <a:off x="5220000" y="129420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чреждения для детей-сиро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 детей без попечения родите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201"/>
            <p:cNvSpPr/>
            <p:nvPr/>
          </p:nvSpPr>
          <p:spPr>
            <a:xfrm>
              <a:off x="324000" y="239976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образовате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05"/>
            <p:cNvSpPr/>
            <p:nvPr/>
          </p:nvSpPr>
          <p:spPr>
            <a:xfrm>
              <a:off x="5220000" y="239976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ругие учреждения: курсы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нституты повышения квалифик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207"/>
            <p:cNvSpPr/>
            <p:nvPr/>
          </p:nvSpPr>
          <p:spPr>
            <a:xfrm>
              <a:off x="327600" y="3504960"/>
              <a:ext cx="366804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фессиона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8209"/>
            <p:cNvSpPr/>
            <p:nvPr/>
          </p:nvSpPr>
          <p:spPr>
            <a:xfrm>
              <a:off x="5220000" y="3504960"/>
              <a:ext cx="366732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здоровительные 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анаторно-лесные шко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211"/>
            <p:cNvSpPr/>
            <p:nvPr/>
          </p:nvSpPr>
          <p:spPr>
            <a:xfrm>
              <a:off x="327600" y="4610520"/>
              <a:ext cx="366804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ециальные (коррекционные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8213"/>
            <p:cNvSpPr/>
            <p:nvPr/>
          </p:nvSpPr>
          <p:spPr>
            <a:xfrm>
              <a:off x="5220000" y="461052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756c75">
                    <a:alpha val="0"/>
                  </a:srgbClr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пециальные учрежден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ля подростков с девиантны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ведени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8215"/>
            <p:cNvSpPr/>
            <p:nvPr/>
          </p:nvSpPr>
          <p:spPr>
            <a:xfrm>
              <a:off x="324000" y="571608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чреждения дополнитель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Образовательные учрежд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2133720"/>
            <a:ext cx="647640" cy="2519280"/>
          </a:xfrm>
          <a:custGeom>
            <a:avLst/>
            <a:gdLst>
              <a:gd name="textAreaLeft" fmla="*/ 86760 w 647640"/>
              <a:gd name="textAreaRight" fmla="*/ 560880 w 647640"/>
              <a:gd name="textAreaTop" fmla="*/ 440640 h 2519280"/>
              <a:gd name="textAreaBottom" fmla="*/ 182664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0115000">
            <a:off x="3779640" y="1988640"/>
            <a:ext cx="574560" cy="3240360"/>
          </a:xfrm>
          <a:custGeom>
            <a:avLst/>
            <a:gdLst>
              <a:gd name="textAreaLeft" fmla="*/ 76680 w 574560"/>
              <a:gd name="textAreaRight" fmla="*/ 497880 w 574560"/>
              <a:gd name="textAreaTop" fmla="*/ 551880 h 3240360"/>
              <a:gd name="textAreaBottom" fmla="*/ 242388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61" stAng="-5400000" swAng="-5400000"/>
                <a:lnTo>
                  <a:pt x="0" y="12477"/>
                </a:lnTo>
                <a:arcTo wR="21600" hR="7361" stAng="10800000" swAng="-2636800"/>
                <a:lnTo>
                  <a:pt x="14400" y="21179"/>
                </a:lnTo>
                <a:lnTo>
                  <a:pt x="21600" y="17280"/>
                </a:lnTo>
                <a:lnTo>
                  <a:pt x="14400" y="12539"/>
                </a:lnTo>
                <a:lnTo>
                  <a:pt x="14400" y="14301"/>
                </a:lnTo>
                <a:arcTo wR="21600" hR="7361" stAng="8163200" swAng="2204909"/>
                <a:lnTo>
                  <a:pt x="1346" y="9919"/>
                </a:lnTo>
                <a:arcTo wR="21600" hR="7361" stAng="-10368109" swAng="4968109"/>
                <a:close/>
              </a:path>
              <a:path fill="darkenLess" w="21600" h="21600">
                <a:moveTo>
                  <a:pt x="21600" y="0"/>
                </a:moveTo>
                <a:arcTo wR="21600" hR="7361" stAng="-5400000" swAng="-5400000"/>
                <a:lnTo>
                  <a:pt x="0" y="7361"/>
                </a:lnTo>
                <a:arcTo wR="21600" hR="7361" stAng="10800000" swAng="-431891"/>
                <a:lnTo>
                  <a:pt x="1346" y="9919"/>
                </a:lnTo>
                <a:arcTo wR="21600" hR="7361" stAng="-10368109" swAng="4968109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308720" y="1916280"/>
            <a:ext cx="865440" cy="2952720"/>
          </a:xfrm>
          <a:custGeom>
            <a:avLst/>
            <a:gdLst>
              <a:gd name="textAreaLeft" fmla="*/ 115920 w 865440"/>
              <a:gd name="textAreaRight" fmla="*/ 749520 w 865440"/>
              <a:gd name="textAreaTop" fmla="*/ 516600 h 2952720"/>
              <a:gd name="textAreaBottom" fmla="*/ 21409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3645000"/>
            <a:ext cx="2808360" cy="2663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205000"/>
            <a:ext cx="2879640" cy="244800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ницип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4221000"/>
            <a:ext cx="2952720" cy="237492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государств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773360"/>
            <a:ext cx="770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7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2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2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2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2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2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22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Органы управл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916280"/>
            <a:ext cx="2017800" cy="2087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1916280"/>
            <a:ext cx="2017800" cy="2087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спубликан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1916280"/>
            <a:ext cx="2017800" cy="2087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ла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4437000"/>
            <a:ext cx="2017800" cy="2087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4508640"/>
            <a:ext cx="2017440" cy="2087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н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4508640"/>
            <a:ext cx="2017440" cy="2087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ницип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местны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Управление образовательными система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1844640"/>
            <a:ext cx="6769440" cy="2521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овокупность организационных, методически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дровых, воспитательных, планов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нансовых, снабженческих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роприятий, обеспечивающих норма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ункционирование учреждени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ия, дальнейшее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ширение и 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653000"/>
            <a:ext cx="8316720" cy="14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заимосвязанная совокупность циклически повторяющихся проце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аботки и осуществления решений, ориентиров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стабильное функционирование и эффективное 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ы образования и основных ее ч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0:59:24Z</dcterms:created>
  <dc:creator>Татьяна</dc:creator>
  <dc:description/>
  <dc:language>en-US</dc:language>
  <cp:lastModifiedBy>Татьяна</cp:lastModifiedBy>
  <dcterms:modified xsi:type="dcterms:W3CDTF">2008-03-30T12:06:43Z</dcterms:modified>
  <cp:revision>10</cp:revision>
  <dc:subject/>
  <dc:title>Содержание образования и структура непрерывного образо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20000000000010250600207f5200358026400</vt:lpwstr>
  </property>
</Properties>
</file>