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F0B-0E50-4434-A653-59A8B86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6CC-6BC9-4C6F-8859-494DF8B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EE3-3A65-4C21-BF78-BE83FDC3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B2E-A14F-4648-99C5-AC70159B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5B3-B2F2-4E43-B82E-0D45CBD0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7AB-1C57-451A-9AAF-7517E56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3CF-AA26-4570-AA62-5958FE6D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4B3-A7A7-491C-87F1-77A7C6A3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3B3-3DF8-4CD6-B4C5-9EF62FC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A82-942A-4121-8E9B-16AD919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2F8-783B-42C2-AB52-864E166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B4D-6648-4969-8FF0-D6F4DE88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22ED-F103-4DB5-A4F0-7BEF183D6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одержание образования и структура непрерыв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Лек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Управление образо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060640"/>
            <a:ext cx="77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ложная организационно-структурная система, внутри которой выделяется организационная структура регионального управления образованием, соответствующие муниципальные структуры управления, а также организационные структуры управления самих образовательных учрежде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4005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как процес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486900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аимосвязанная совокупность циклически повторяющихся процессов выработки и осуществления решений, ориентированных на стабильное функционирование и эффективное развитие системы образования и основных ее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5240" y="128916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как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едагогический менеджме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4292640"/>
            <a:ext cx="4176720" cy="21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4" y="-26631"/>
                </a:moveTo>
                <a:lnTo>
                  <a:pt x="-394" y="1143"/>
                </a:lnTo>
              </a:path>
              <a:path w="21600" h="21600">
                <a:moveTo>
                  <a:pt x="-394" y="0"/>
                </a:moveTo>
                <a:lnTo>
                  <a:pt x="-394" y="21600"/>
                </a:lnTo>
              </a:path>
            </a:pathLst>
          </a:cu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) комплекс принципов, методов, организационных форм и технологических приемов управления педагогическими ситемами, направленный на повышение эффективности их функционирования 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789360"/>
            <a:ext cx="2156040" cy="914400"/>
          </a:xfrm>
          <a:prstGeom prst="borderCallout1">
            <a:avLst>
              <a:gd name="adj1" fmla="val -763"/>
              <a:gd name="adj2" fmla="val -56550"/>
              <a:gd name="adj3" fmla="val -763"/>
              <a:gd name="adj4" fmla="val 18900"/>
            </a:avLst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управление деятельностью учащих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989000"/>
            <a:ext cx="4603680" cy="1440000"/>
          </a:xfrm>
          <a:prstGeom prst="borderCallout1">
            <a:avLst>
              <a:gd name="adj1" fmla="val -358"/>
              <a:gd name="adj2" fmla="val -6359"/>
              <a:gd name="adj3" fmla="val -358"/>
              <a:gd name="adj4" fmla="val 19885"/>
            </a:avLst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б) научно-организованное управление со своеобразной иерархией: первый уровень – управление деятельностью педагогического коллек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65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65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65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6626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Методы у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1268280"/>
            <a:ext cx="532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 это способы достижения поставленных целей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4653000"/>
            <a:ext cx="2737080" cy="201600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ю (авторитар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мократиче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бер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2060640"/>
            <a:ext cx="273672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у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едера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2205000"/>
            <a:ext cx="338436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ям (стратегическ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тические, операт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3429000"/>
            <a:ext cx="273708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ъекту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дминистратив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йствен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3284640"/>
            <a:ext cx="3095640" cy="172872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и управлен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ерспектив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госрочные, теку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869000"/>
            <a:ext cx="4105440" cy="172872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му вли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циально-политическ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о-распорядите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о-педагог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350"/>
                            </p:stCondLst>
                            <p:childTnLst>
                              <p:par>
                                <p:cTn id="3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350"/>
                            </p:stCondLst>
                            <p:childTnLst>
                              <p:par>
                                <p:cTn id="3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350"/>
                            </p:stCondLst>
                            <p:childTnLst>
                              <p:par>
                                <p:cTn id="4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350"/>
                            </p:stCondLst>
                            <p:childTnLst>
                              <p:par>
                                <p:cTn id="4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350"/>
                            </p:stCondLst>
                            <p:childTnLst>
                              <p:par>
                                <p:cTn id="4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350"/>
                            </p:stCondLst>
                            <p:childTnLst>
                              <p:par>
                                <p:cTn id="4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123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одержание образ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268280"/>
            <a:ext cx="576360" cy="1729080"/>
          </a:xfrm>
          <a:custGeom>
            <a:avLst/>
            <a:gdLst>
              <a:gd name="textAreaLeft" fmla="*/ 77040 w 576360"/>
              <a:gd name="textAreaRight" fmla="*/ 499320 w 576360"/>
              <a:gd name="textAreaTop" fmla="*/ 302400 h 1729080"/>
              <a:gd name="textAreaBottom" fmla="*/ 125352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1916280"/>
            <a:ext cx="3456000" cy="93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во-ориентирова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205000"/>
            <a:ext cx="1150920" cy="358920"/>
          </a:xfrm>
          <a:prstGeom prst="rightArrow">
            <a:avLst>
              <a:gd name="adj1" fmla="val 50000"/>
              <a:gd name="adj2" fmla="val 8016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628640"/>
            <a:ext cx="2736720" cy="316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имае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аптирова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х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ных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ми прак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ми необходи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лад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ающ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1008000" cy="3456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13000"/>
            <a:ext cx="3456000" cy="93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но-ориент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46920" y="4437720"/>
            <a:ext cx="792360" cy="358560"/>
          </a:xfrm>
          <a:prstGeom prst="rightArrow">
            <a:avLst>
              <a:gd name="adj1" fmla="val 50000"/>
              <a:gd name="adj2" fmla="val 552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084640"/>
            <a:ext cx="7705440" cy="1511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b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должны  овладеть не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м учебным содержанием.  У них должны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ы ценностно  значимые запросы и намер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личностные качества,  как ответственность за свои дейст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удьбу общества, толерантное  отношение к инакомыслящи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59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Четыре компонента содержания образ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916280"/>
            <a:ext cx="7561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205000"/>
            <a:ext cx="475272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познаватель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ксированной в форме ее результатов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й (о природе, обществе, техни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лении и способах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5229360"/>
            <a:ext cx="4896000" cy="14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осуществления 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ов деятельности –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е умений действовать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цу (интеллектуальные и пр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я и навы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2060640"/>
            <a:ext cx="367200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творческой деятель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орме умений прини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ндартные решени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усвоение метод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перимента,  участ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ом, технич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оциальном творчест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933720"/>
            <a:ext cx="34560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осущест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оционально-ценнос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й – в фор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ных ориент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тношение к окружающ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у,  людям, самому себ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м мор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оззренческим иде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истема образ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349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-  совокупность образовательных программ и стандартов, сеть образовательных учреждений и органов управления, а также комплекс принципов, определяющих функционирование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5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инципы государственной образовательной полит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484280"/>
            <a:ext cx="7632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2205000"/>
            <a:ext cx="2340000" cy="2664000"/>
          </a:xfrm>
          <a:prstGeom prst="wedgeRectCallout">
            <a:avLst>
              <a:gd name="adj1" fmla="val -39555"/>
              <a:gd name="adj2" fmla="val 77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манистический характер образования, приоритет общечеловеческих ценностей, право личности на свобод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6732720" y="1699920"/>
            <a:ext cx="2232000" cy="2160360"/>
          </a:xfrm>
          <a:prstGeom prst="wedgeRectCallout">
            <a:avLst>
              <a:gd name="adj1" fmla="val 51064"/>
              <a:gd name="adj2" fmla="val 590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доступность образования и адаптивность системы образования к потребностям обучае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1258920" y="5805360"/>
            <a:ext cx="3889440" cy="790560"/>
          </a:xfrm>
          <a:prstGeom prst="wedgeRectCallout">
            <a:avLst>
              <a:gd name="adj1" fmla="val -27513"/>
              <a:gd name="adj2" fmla="val 59557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тский характер образования в государственных учрежд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5508360" y="4365720"/>
            <a:ext cx="2879640" cy="2016000"/>
          </a:xfrm>
          <a:prstGeom prst="wedgeRectCallout">
            <a:avLst>
              <a:gd name="adj1" fmla="val 18907"/>
              <a:gd name="adj2" fmla="val 19338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мократический, государственно-общественный характер управления, самостоятельность образователь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500360" y="2420640"/>
            <a:ext cx="1655640" cy="1152360"/>
          </a:xfrm>
          <a:prstGeom prst="wedgeRectCallout">
            <a:avLst>
              <a:gd name="adj1" fmla="val 9537"/>
              <a:gd name="adj2" fmla="val 12217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и плюрализм в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2484000" y="2276640"/>
            <a:ext cx="1871640" cy="2952720"/>
          </a:xfrm>
          <a:prstGeom prst="wedgeRectCallout">
            <a:avLst>
              <a:gd name="adj1" fmla="val 5300"/>
              <a:gd name="adj2" fmla="val 7731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ство федерального образования с правом на своеобразие образования национальных и региональн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324000" y="189000"/>
            <a:ext cx="8568000" cy="6264000"/>
            <a:chOff x="324000" y="189000"/>
            <a:chExt cx="8568000" cy="6264000"/>
          </a:xfrm>
        </p:grpSpPr>
        <p:cxnSp>
          <p:nvCxnSpPr>
            <p:cNvPr id="75" name="_s8216"/>
            <p:cNvCxnSpPr>
              <a:stCxn id="76" idx="3"/>
              <a:endCxn id="77" idx="2"/>
            </p:cNvCxnSpPr>
            <p:nvPr/>
          </p:nvCxnSpPr>
          <p:spPr>
            <a:xfrm flipV="1">
              <a:off x="3996000" y="925200"/>
              <a:ext cx="612720" cy="51591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78" name="_s8214"/>
            <p:cNvCxnSpPr>
              <a:stCxn id="79" idx="1"/>
              <a:endCxn id="77" idx="2"/>
            </p:cNvCxnSpPr>
            <p:nvPr/>
          </p:nvCxnSpPr>
          <p:spPr>
            <a:xfrm rot="10800000">
              <a:off x="4607280" y="925200"/>
              <a:ext cx="612720" cy="40539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0" name="_s8212"/>
            <p:cNvCxnSpPr>
              <a:stCxn id="81" idx="3"/>
              <a:endCxn id="77" idx="2"/>
            </p:cNvCxnSpPr>
            <p:nvPr/>
          </p:nvCxnSpPr>
          <p:spPr>
            <a:xfrm flipV="1">
              <a:off x="3996000" y="925200"/>
              <a:ext cx="612720" cy="40539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2" name="_s8210"/>
            <p:cNvCxnSpPr>
              <a:stCxn id="83" idx="1"/>
              <a:endCxn id="77" idx="2"/>
            </p:cNvCxnSpPr>
            <p:nvPr/>
          </p:nvCxnSpPr>
          <p:spPr>
            <a:xfrm rot="10800000">
              <a:off x="4607280" y="925200"/>
              <a:ext cx="612720" cy="294840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4" name="_s8208"/>
            <p:cNvCxnSpPr>
              <a:stCxn id="85" idx="3"/>
              <a:endCxn id="77" idx="2"/>
            </p:cNvCxnSpPr>
            <p:nvPr/>
          </p:nvCxnSpPr>
          <p:spPr>
            <a:xfrm flipV="1">
              <a:off x="3996000" y="925560"/>
              <a:ext cx="612720" cy="294840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6" name="_s8206"/>
            <p:cNvCxnSpPr>
              <a:stCxn id="87" idx="1"/>
              <a:endCxn id="77" idx="2"/>
            </p:cNvCxnSpPr>
            <p:nvPr/>
          </p:nvCxnSpPr>
          <p:spPr>
            <a:xfrm rot="10800000">
              <a:off x="4607280" y="925200"/>
              <a:ext cx="612720" cy="18428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8" name="_s8204"/>
            <p:cNvCxnSpPr>
              <a:stCxn id="89" idx="3"/>
              <a:endCxn id="77" idx="2"/>
            </p:cNvCxnSpPr>
            <p:nvPr/>
          </p:nvCxnSpPr>
          <p:spPr>
            <a:xfrm flipV="1">
              <a:off x="3996000" y="925200"/>
              <a:ext cx="612720" cy="18428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90" name="_s8203"/>
            <p:cNvCxnSpPr>
              <a:stCxn id="91" idx="1"/>
              <a:endCxn id="77" idx="2"/>
            </p:cNvCxnSpPr>
            <p:nvPr/>
          </p:nvCxnSpPr>
          <p:spPr>
            <a:xfrm rot="10800000">
              <a:off x="4607280" y="925200"/>
              <a:ext cx="612720" cy="7376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92" name="_s8202"/>
            <p:cNvCxnSpPr>
              <a:stCxn id="93" idx="3"/>
              <a:endCxn id="77" idx="2"/>
            </p:cNvCxnSpPr>
            <p:nvPr/>
          </p:nvCxnSpPr>
          <p:spPr>
            <a:xfrm flipV="1">
              <a:off x="3996000" y="925200"/>
              <a:ext cx="612720" cy="7376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sp>
          <p:nvSpPr>
            <p:cNvPr id="77" name="_s8198"/>
            <p:cNvSpPr/>
            <p:nvPr/>
          </p:nvSpPr>
          <p:spPr>
            <a:xfrm>
              <a:off x="2772000" y="189000"/>
              <a:ext cx="3672000" cy="736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Систем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образова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324000" y="129420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0"/>
            <p:cNvSpPr/>
            <p:nvPr/>
          </p:nvSpPr>
          <p:spPr>
            <a:xfrm>
              <a:off x="5220000" y="129420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чреждения для детей-сиро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детей без попечения роди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1"/>
            <p:cNvSpPr/>
            <p:nvPr/>
          </p:nvSpPr>
          <p:spPr>
            <a:xfrm>
              <a:off x="324000" y="239976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образова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5"/>
            <p:cNvSpPr/>
            <p:nvPr/>
          </p:nvSpPr>
          <p:spPr>
            <a:xfrm>
              <a:off x="5220000" y="239976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ругие учреждения: курс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нституты повышения квалифик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7"/>
            <p:cNvSpPr/>
            <p:nvPr/>
          </p:nvSpPr>
          <p:spPr>
            <a:xfrm>
              <a:off x="327600" y="3504960"/>
              <a:ext cx="366804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фессиона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09"/>
            <p:cNvSpPr/>
            <p:nvPr/>
          </p:nvSpPr>
          <p:spPr>
            <a:xfrm>
              <a:off x="5220000" y="3504960"/>
              <a:ext cx="366732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здоровительные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наторно-лесные шко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1"/>
            <p:cNvSpPr/>
            <p:nvPr/>
          </p:nvSpPr>
          <p:spPr>
            <a:xfrm>
              <a:off x="327600" y="4610520"/>
              <a:ext cx="366804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ециальные (коррекционные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3"/>
            <p:cNvSpPr/>
            <p:nvPr/>
          </p:nvSpPr>
          <p:spPr>
            <a:xfrm>
              <a:off x="5220000" y="461052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756c75">
                    <a:alpha val="0"/>
                  </a:srgbClr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ециальные учрежде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ля подростков с девиантны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веде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15"/>
            <p:cNvSpPr/>
            <p:nvPr/>
          </p:nvSpPr>
          <p:spPr>
            <a:xfrm>
              <a:off x="324000" y="571608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реждения дополните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бразовательные учрежд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47640" cy="2519280"/>
          </a:xfrm>
          <a:custGeom>
            <a:avLst/>
            <a:gdLst>
              <a:gd name="textAreaLeft" fmla="*/ 86760 w 647640"/>
              <a:gd name="textAreaRight" fmla="*/ 560880 w 647640"/>
              <a:gd name="textAreaTop" fmla="*/ 440640 h 2519280"/>
              <a:gd name="textAreaBottom" fmla="*/ 182664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115000">
            <a:off x="3779640" y="1988640"/>
            <a:ext cx="574560" cy="3240360"/>
          </a:xfrm>
          <a:custGeom>
            <a:avLst/>
            <a:gdLst>
              <a:gd name="textAreaLeft" fmla="*/ 76680 w 574560"/>
              <a:gd name="textAreaRight" fmla="*/ 497880 w 574560"/>
              <a:gd name="textAreaTop" fmla="*/ 551880 h 3240360"/>
              <a:gd name="textAreaBottom" fmla="*/ 242388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61" stAng="-5400000" swAng="-5400000"/>
                <a:lnTo>
                  <a:pt x="0" y="12477"/>
                </a:lnTo>
                <a:arcTo wR="21600" hR="7361" stAng="10800000" swAng="-2636800"/>
                <a:lnTo>
                  <a:pt x="14400" y="21179"/>
                </a:lnTo>
                <a:lnTo>
                  <a:pt x="21600" y="17280"/>
                </a:lnTo>
                <a:lnTo>
                  <a:pt x="14400" y="12539"/>
                </a:lnTo>
                <a:lnTo>
                  <a:pt x="14400" y="14301"/>
                </a:lnTo>
                <a:arcTo wR="21600" hR="7361" stAng="8163200" swAng="2204909"/>
                <a:lnTo>
                  <a:pt x="1346" y="9919"/>
                </a:lnTo>
                <a:arcTo wR="21600" hR="7361" stAng="-10368109" swAng="4968109"/>
                <a:close/>
              </a:path>
              <a:path fill="darkenLess" w="21600" h="21600">
                <a:moveTo>
                  <a:pt x="21600" y="0"/>
                </a:moveTo>
                <a:arcTo wR="21600" hR="7361" stAng="-5400000" swAng="-5400000"/>
                <a:lnTo>
                  <a:pt x="0" y="7361"/>
                </a:lnTo>
                <a:arcTo wR="21600" hR="7361" stAng="10800000" swAng="-431891"/>
                <a:lnTo>
                  <a:pt x="1346" y="9919"/>
                </a:lnTo>
                <a:arcTo wR="21600" hR="7361" stAng="-10368109" swAng="4968109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308720" y="1916280"/>
            <a:ext cx="865440" cy="2952720"/>
          </a:xfrm>
          <a:custGeom>
            <a:avLst/>
            <a:gdLst>
              <a:gd name="textAreaLeft" fmla="*/ 115920 w 865440"/>
              <a:gd name="textAreaRight" fmla="*/ 749520 w 865440"/>
              <a:gd name="textAreaTop" fmla="*/ 516600 h 2952720"/>
              <a:gd name="textAreaBottom" fmla="*/ 21409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3645000"/>
            <a:ext cx="2808360" cy="2663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205000"/>
            <a:ext cx="2879640" cy="2448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4221000"/>
            <a:ext cx="2952720" cy="237492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государ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773360"/>
            <a:ext cx="770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2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2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2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рганы у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ла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437000"/>
            <a:ext cx="2017800" cy="2087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4508640"/>
            <a:ext cx="201744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508640"/>
            <a:ext cx="201744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естны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Управление образовательными систем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844640"/>
            <a:ext cx="6769440" cy="252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вокупность организационных, метод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ровых, воспитательных, планов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х, снабженческих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роприятий, обеспечивающих норм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нкционирование учрежд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, дальнейшее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ение и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653000"/>
            <a:ext cx="831672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заимосвязанная совокупность циклически повторяющихся проце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ботки и осуществления решений, ориентир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табильное функционирование и эффективное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ы образования и основных ее ч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0:59:24Z</dcterms:created>
  <dc:creator>Татьяна</dc:creator>
  <dc:description/>
  <dc:language>en-US</dc:language>
  <cp:lastModifiedBy>Татьяна</cp:lastModifiedBy>
  <dcterms:modified xsi:type="dcterms:W3CDTF">2008-03-30T12:06:43Z</dcterms:modified>
  <cp:revision>10</cp:revision>
  <dc:subject/>
  <dc:title>Содержание образования и структура непрерывно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20000000000010250600207f5200358026400</vt:lpwstr>
  </property>
</Properties>
</file>