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44B-16FB-4068-9F2A-56FC5893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C21-D18A-48F9-9F4B-1580B54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D6D-633A-4E64-B399-D54FD2DD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6A4-F94C-4536-806D-F3BF696A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A7D-55B5-4A8F-A692-0DC5D27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637-7467-4B13-A107-F8D712D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EBF-CE27-4C04-AAF9-5CFAE60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460-0248-4864-974C-12C8CC9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702-5EC2-408B-A084-6CE6668C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65E-D888-4911-BD0E-187934F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171-9C16-4AC7-A42F-D4C87C6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C59-8B46-4B2A-AC58-E83A42C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E7D-2127-4AE6-996C-7DAF439F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 и структура непрерыв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Лек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Управление образо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060640"/>
            <a:ext cx="77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ложная организационно-структурная система, внутри которой выделяется организационная структура регионального управления образованием, соответствующие муниципальные структуры управления, а также организационные структуры управления самих образовательных учрежд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00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как проце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486900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связанная совокупность циклически повторяющихся процессов выработки и осуществления решений, ориентированных на стабильное функционирование и эффективное развитие системы образования и основных ее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5240" y="128916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ак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едагогический менеджме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4292640"/>
            <a:ext cx="417672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4" y="-26631"/>
                </a:moveTo>
                <a:lnTo>
                  <a:pt x="-394" y="1143"/>
                </a:lnTo>
              </a:path>
              <a:path w="21600" h="21600">
                <a:moveTo>
                  <a:pt x="-394" y="0"/>
                </a:moveTo>
                <a:lnTo>
                  <a:pt x="-394" y="21600"/>
                </a:lnTo>
              </a:path>
            </a:pathLst>
          </a:cu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) комплекс принципов, методов, организационных форм и технологических приемов управления педагогическими ситемами, направленный на повышение эффективности их функционирования 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789360"/>
            <a:ext cx="2156040" cy="914400"/>
          </a:xfrm>
          <a:prstGeom prst="borderCallout1">
            <a:avLst>
              <a:gd name="adj1" fmla="val -763"/>
              <a:gd name="adj2" fmla="val -56550"/>
              <a:gd name="adj3" fmla="val -763"/>
              <a:gd name="adj4" fmla="val 18900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управление деятельностью учащих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4603680" cy="1440000"/>
          </a:xfrm>
          <a:prstGeom prst="borderCallout1">
            <a:avLst>
              <a:gd name="adj1" fmla="val -358"/>
              <a:gd name="adj2" fmla="val -6359"/>
              <a:gd name="adj3" fmla="val -358"/>
              <a:gd name="adj4" fmla="val 19885"/>
            </a:avLst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б) научно-организованное управление со своеобразной иерархией: первый уровень – управление деятельностью педагогического 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65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65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65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6626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Метод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1268280"/>
            <a:ext cx="53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 это способы достижения поставленных целей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4653000"/>
            <a:ext cx="2737080" cy="201600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ю (авторитар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бер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060640"/>
            <a:ext cx="273672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у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едера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ональ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2205000"/>
            <a:ext cx="338436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ям (стратег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ческие, операт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3429000"/>
            <a:ext cx="2737080" cy="136836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ъекту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дминистра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3284640"/>
            <a:ext cx="30956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и управлен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ерспектив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госрочные, теку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869000"/>
            <a:ext cx="4105440" cy="1728720"/>
          </a:xfrm>
          <a:prstGeom prst="flowChart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му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циально-политичес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распорядитель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о-педагог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350"/>
                            </p:stCondLst>
                            <p:childTnLst>
                              <p:par>
                                <p:cTn id="3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350"/>
                            </p:stCondLst>
                            <p:childTnLst>
                              <p:par>
                                <p:cTn id="4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350"/>
                            </p:stCondLst>
                            <p:childTnLst>
                              <p:par>
                                <p:cTn id="4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350"/>
                            </p:stCondLst>
                            <p:childTnLst>
                              <p:par>
                                <p:cTn id="4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350"/>
                            </p:stCondLst>
                            <p:childTnLst>
                              <p:par>
                                <p:cTn id="4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350"/>
                            </p:stCondLst>
                            <p:childTnLst>
                              <p:par>
                                <p:cTn id="4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123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одержание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268280"/>
            <a:ext cx="576360" cy="17290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400 h 1729080"/>
              <a:gd name="textAreaBottom" fmla="*/ 125352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916280"/>
            <a:ext cx="3456000" cy="93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во-ориентиров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205000"/>
            <a:ext cx="1150920" cy="358920"/>
          </a:xfrm>
          <a:prstGeom prst="rightArrow">
            <a:avLst>
              <a:gd name="adj1" fmla="val 50000"/>
              <a:gd name="adj2" fmla="val 8016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628640"/>
            <a:ext cx="2736720" cy="316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е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аптиров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х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ных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ми 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ми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ла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аю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1008000" cy="3456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13000"/>
            <a:ext cx="3456000" cy="93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о-ориент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46920" y="4437720"/>
            <a:ext cx="792360" cy="358560"/>
          </a:xfrm>
          <a:prstGeom prst="rightArrow">
            <a:avLst>
              <a:gd name="adj1" fmla="val 50000"/>
              <a:gd name="adj2" fmla="val 552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84640"/>
            <a:ext cx="7705440" cy="151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b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должны  овладеть не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м учебным содержанием.  У них должны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ы ценностно  значимые запросы и наме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личностные качества,  как ответственность за свои дей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удьбу общества, толерантное  отношение к инакомыслящи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59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тыре компонента содержания образ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916280"/>
            <a:ext cx="7561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205000"/>
            <a:ext cx="4752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познавате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ированной в форме ее результатов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й (о природе, обществе, техн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и и способах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5229360"/>
            <a:ext cx="489600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ов деятельности –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е умений действовать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цу (интеллектуальные и пр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я и навы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2060640"/>
            <a:ext cx="3672000" cy="2952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творческой деятель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орме умений прини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ндартные решени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усвоение метод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еримента,  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ом, технич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оциальном творче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34560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осущест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онально-ценнос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й – в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ных ориент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тношение к окружа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у,  людям, самому себ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м мор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оззренческим иде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истема образ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349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-  совокупность образовательных программ и стандартов, сеть образовательных учреждений и органов управления, а также комплекс принципов, определяющих функционирование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5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инципы государственной образовательной полит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484280"/>
            <a:ext cx="7632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2205000"/>
            <a:ext cx="2340000" cy="2664000"/>
          </a:xfrm>
          <a:prstGeom prst="wedgeRectCallout">
            <a:avLst>
              <a:gd name="adj1" fmla="val -39555"/>
              <a:gd name="adj2" fmla="val 77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анистический характер образования, приоритет общечеловеческих ценностей, право личности на свобод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6732720" y="1699920"/>
            <a:ext cx="2232000" cy="2160360"/>
          </a:xfrm>
          <a:prstGeom prst="wedgeRectCallout">
            <a:avLst>
              <a:gd name="adj1" fmla="val 51064"/>
              <a:gd name="adj2" fmla="val 590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доступность образования и адаптивность системы образования к потребностям обуча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1258920" y="5805360"/>
            <a:ext cx="3889440" cy="790560"/>
          </a:xfrm>
          <a:prstGeom prst="wedgeRectCallout">
            <a:avLst>
              <a:gd name="adj1" fmla="val -27513"/>
              <a:gd name="adj2" fmla="val 59557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тский характер образования в государственных учрежд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5508360" y="4365720"/>
            <a:ext cx="2879640" cy="2016000"/>
          </a:xfrm>
          <a:prstGeom prst="wedgeRectCallout">
            <a:avLst>
              <a:gd name="adj1" fmla="val 18907"/>
              <a:gd name="adj2" fmla="val 19338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мократический, государственно-общественный характер управления, самостоятельность образователь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00360" y="2420640"/>
            <a:ext cx="1655640" cy="1152360"/>
          </a:xfrm>
          <a:prstGeom prst="wedgeRectCallout">
            <a:avLst>
              <a:gd name="adj1" fmla="val 9537"/>
              <a:gd name="adj2" fmla="val 1221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и плюрализм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2484000" y="2276640"/>
            <a:ext cx="1871640" cy="2952720"/>
          </a:xfrm>
          <a:prstGeom prst="wedgeRectCallout">
            <a:avLst>
              <a:gd name="adj1" fmla="val 5300"/>
              <a:gd name="adj2" fmla="val 7731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ство федерального образования с правом на своеобразие образования национальных и региональ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24000" y="189000"/>
            <a:ext cx="8568000" cy="6264000"/>
            <a:chOff x="324000" y="189000"/>
            <a:chExt cx="8568000" cy="6264000"/>
          </a:xfrm>
        </p:grpSpPr>
        <p:cxnSp>
          <p:nvCxnSpPr>
            <p:cNvPr id="75" name="_s8216"/>
            <p:cNvCxnSpPr>
              <a:stCxn id="76" idx="3"/>
              <a:endCxn id="77" idx="2"/>
            </p:cNvCxnSpPr>
            <p:nvPr/>
          </p:nvCxnSpPr>
          <p:spPr>
            <a:xfrm flipV="1">
              <a:off x="3996000" y="925200"/>
              <a:ext cx="612720" cy="51591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78" name="_s8214"/>
            <p:cNvCxnSpPr>
              <a:stCxn id="79" idx="1"/>
              <a:endCxn id="77" idx="2"/>
            </p:cNvCxnSpPr>
            <p:nvPr/>
          </p:nvCxnSpPr>
          <p:spPr>
            <a:xfrm rot="10800000">
              <a:off x="460728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0" name="_s8212"/>
            <p:cNvCxnSpPr>
              <a:stCxn id="81" idx="3"/>
              <a:endCxn id="77" idx="2"/>
            </p:cNvCxnSpPr>
            <p:nvPr/>
          </p:nvCxnSpPr>
          <p:spPr>
            <a:xfrm flipV="1">
              <a:off x="3996000" y="925200"/>
              <a:ext cx="612720" cy="405396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2" name="_s8210"/>
            <p:cNvCxnSpPr>
              <a:stCxn id="83" idx="1"/>
              <a:endCxn id="77" idx="2"/>
            </p:cNvCxnSpPr>
            <p:nvPr/>
          </p:nvCxnSpPr>
          <p:spPr>
            <a:xfrm rot="10800000">
              <a:off x="4607280" y="92520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4" name="_s8208"/>
            <p:cNvCxnSpPr>
              <a:stCxn id="85" idx="3"/>
              <a:endCxn id="77" idx="2"/>
            </p:cNvCxnSpPr>
            <p:nvPr/>
          </p:nvCxnSpPr>
          <p:spPr>
            <a:xfrm flipV="1">
              <a:off x="3996000" y="925560"/>
              <a:ext cx="612720" cy="294840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6" name="_s8206"/>
            <p:cNvCxnSpPr>
              <a:stCxn id="87" idx="1"/>
              <a:endCxn id="77" idx="2"/>
            </p:cNvCxnSpPr>
            <p:nvPr/>
          </p:nvCxnSpPr>
          <p:spPr>
            <a:xfrm rot="10800000">
              <a:off x="460728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88" name="_s8204"/>
            <p:cNvCxnSpPr>
              <a:stCxn id="89" idx="3"/>
              <a:endCxn id="77" idx="2"/>
            </p:cNvCxnSpPr>
            <p:nvPr/>
          </p:nvCxnSpPr>
          <p:spPr>
            <a:xfrm flipV="1">
              <a:off x="3996000" y="925200"/>
              <a:ext cx="612720" cy="18428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0" name="_s8203"/>
            <p:cNvCxnSpPr>
              <a:stCxn id="91" idx="1"/>
              <a:endCxn id="77" idx="2"/>
            </p:cNvCxnSpPr>
            <p:nvPr/>
          </p:nvCxnSpPr>
          <p:spPr>
            <a:xfrm rot="10800000">
              <a:off x="460728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cxnSp>
          <p:nvCxnSpPr>
            <p:cNvPr id="92" name="_s8202"/>
            <p:cNvCxnSpPr>
              <a:stCxn id="93" idx="3"/>
              <a:endCxn id="77" idx="2"/>
            </p:cNvCxnSpPr>
            <p:nvPr/>
          </p:nvCxnSpPr>
          <p:spPr>
            <a:xfrm flipV="1">
              <a:off x="3996000" y="925200"/>
              <a:ext cx="612720" cy="737640"/>
            </a:xfrm>
            <a:prstGeom prst="bentConnector2">
              <a:avLst/>
            </a:prstGeom>
            <a:ln w="28440">
              <a:solidFill>
                <a:srgbClr val="008000"/>
              </a:solidFill>
              <a:miter/>
            </a:ln>
          </p:spPr>
        </p:cxnSp>
        <p:sp>
          <p:nvSpPr>
            <p:cNvPr id="77" name="_s8198"/>
            <p:cNvSpPr/>
            <p:nvPr/>
          </p:nvSpPr>
          <p:spPr>
            <a:xfrm>
              <a:off x="2772000" y="189000"/>
              <a:ext cx="3672000" cy="736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Систем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образов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324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0"/>
            <p:cNvSpPr/>
            <p:nvPr/>
          </p:nvSpPr>
          <p:spPr>
            <a:xfrm>
              <a:off x="5220000" y="129420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реждения для детей-сиро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детей без попечения род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1"/>
            <p:cNvSpPr/>
            <p:nvPr/>
          </p:nvSpPr>
          <p:spPr>
            <a:xfrm>
              <a:off x="324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образов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5"/>
            <p:cNvSpPr/>
            <p:nvPr/>
          </p:nvSpPr>
          <p:spPr>
            <a:xfrm>
              <a:off x="5220000" y="239976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ругие учреждения: курс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нституты повышения квалифик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7"/>
            <p:cNvSpPr/>
            <p:nvPr/>
          </p:nvSpPr>
          <p:spPr>
            <a:xfrm>
              <a:off x="327600" y="350496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фессиона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09"/>
            <p:cNvSpPr/>
            <p:nvPr/>
          </p:nvSpPr>
          <p:spPr>
            <a:xfrm>
              <a:off x="5220000" y="3504960"/>
              <a:ext cx="366732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доровительные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наторно-лесные шко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1"/>
            <p:cNvSpPr/>
            <p:nvPr/>
          </p:nvSpPr>
          <p:spPr>
            <a:xfrm>
              <a:off x="327600" y="4610520"/>
              <a:ext cx="366804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ециальные (коррекционные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3"/>
            <p:cNvSpPr/>
            <p:nvPr/>
          </p:nvSpPr>
          <p:spPr>
            <a:xfrm>
              <a:off x="5220000" y="461052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756c75">
                    <a:alpha val="0"/>
                  </a:srgbClr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ециальные учрежд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ля подростков с девиантны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15"/>
            <p:cNvSpPr/>
            <p:nvPr/>
          </p:nvSpPr>
          <p:spPr>
            <a:xfrm>
              <a:off x="324000" y="5716080"/>
              <a:ext cx="3672000" cy="73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bff"/>
                </a:gs>
                <a:gs pos="50000">
                  <a:srgbClr val="fefefe"/>
                </a:gs>
                <a:gs pos="100000">
                  <a:srgbClr val="ffeb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реждения дополните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бразовательные учреж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47640" cy="2519280"/>
          </a:xfrm>
          <a:custGeom>
            <a:avLst/>
            <a:gdLst>
              <a:gd name="textAreaLeft" fmla="*/ 86760 w 647640"/>
              <a:gd name="textAreaRight" fmla="*/ 560880 w 64764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115000">
            <a:off x="3779640" y="1988640"/>
            <a:ext cx="574560" cy="3240360"/>
          </a:xfrm>
          <a:custGeom>
            <a:avLst/>
            <a:gdLst>
              <a:gd name="textAreaLeft" fmla="*/ 76680 w 574560"/>
              <a:gd name="textAreaRight" fmla="*/ 497880 w 574560"/>
              <a:gd name="textAreaTop" fmla="*/ 551880 h 3240360"/>
              <a:gd name="textAreaBottom" fmla="*/ 24238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61" stAng="-5400000" swAng="-5400000"/>
                <a:lnTo>
                  <a:pt x="0" y="12477"/>
                </a:lnTo>
                <a:arcTo wR="21600" hR="7361" stAng="10800000" swAng="-2636800"/>
                <a:lnTo>
                  <a:pt x="14400" y="21179"/>
                </a:lnTo>
                <a:lnTo>
                  <a:pt x="21600" y="17280"/>
                </a:lnTo>
                <a:lnTo>
                  <a:pt x="14400" y="12539"/>
                </a:lnTo>
                <a:lnTo>
                  <a:pt x="14400" y="14301"/>
                </a:lnTo>
                <a:arcTo wR="21600" hR="7361" stAng="8163200" swAng="2204909"/>
                <a:lnTo>
                  <a:pt x="1346" y="9919"/>
                </a:lnTo>
                <a:arcTo wR="21600" hR="7361" stAng="-10368109" swAng="4968109"/>
                <a:close/>
              </a:path>
              <a:path fill="darkenLess" w="21600" h="21600">
                <a:moveTo>
                  <a:pt x="21600" y="0"/>
                </a:moveTo>
                <a:arcTo wR="21600" hR="7361" stAng="-5400000" swAng="-5400000"/>
                <a:lnTo>
                  <a:pt x="0" y="7361"/>
                </a:lnTo>
                <a:arcTo wR="21600" hR="7361" stAng="10800000" swAng="-431891"/>
                <a:lnTo>
                  <a:pt x="1346" y="9919"/>
                </a:lnTo>
                <a:arcTo wR="21600" hR="7361" stAng="-10368109" swAng="4968109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08720" y="1916280"/>
            <a:ext cx="865440" cy="2952720"/>
          </a:xfrm>
          <a:custGeom>
            <a:avLst/>
            <a:gdLst>
              <a:gd name="textAreaLeft" fmla="*/ 115920 w 865440"/>
              <a:gd name="textAreaRight" fmla="*/ 749520 w 86544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645000"/>
            <a:ext cx="2808360" cy="2663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205000"/>
            <a:ext cx="2879640" cy="2448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221000"/>
            <a:ext cx="2952720" cy="237492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государ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773360"/>
            <a:ext cx="770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2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рганы управ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916280"/>
            <a:ext cx="201780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437000"/>
            <a:ext cx="2017800" cy="2087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508640"/>
            <a:ext cx="2017440" cy="2087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н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Управление образовательными систем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6769440" cy="252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вокупность организационных, метод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ровых, воспитательных, планов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х, снабженческих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роприятий, обеспечивающих норм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онирование учрежд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, дальнейшее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ирение и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653000"/>
            <a:ext cx="831672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заимосвязанная совокупность циклически повторяющихся проце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ботки и осуществления решений, ориентир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табильное функционирование и эффективное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ы образования и основных ее 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0:59:24Z</dcterms:created>
  <dc:creator>Татьяна</dc:creator>
  <dc:description/>
  <dc:language>en-US</dc:language>
  <cp:lastModifiedBy>Татьяна</cp:lastModifiedBy>
  <dcterms:modified xsi:type="dcterms:W3CDTF">2008-03-30T12:06:43Z</dcterms:modified>
  <cp:revision>10</cp:revision>
  <dc:subject/>
  <dc:title>Содержание образования и структура непрерывно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20000000000010250600207f5200358026400</vt:lpwstr>
  </property>
</Properties>
</file>