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295-62C3-4E11-AA3F-739556B6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F95-9B83-4535-90A9-8A1C4269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899-3BA0-45D7-8765-E4A759EB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4DB-46B4-4E92-B8AE-6250EA5A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B8D4-33DA-4B61-96AA-0282D805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1F7-DBAF-413C-8458-A66ED6A2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50DB-5A16-4DC0-A64E-FC78C704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9D42-892C-4F57-9830-FA6B6BCC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22DF-FB03-42D7-9A31-39A5FEBE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BF39-4731-4847-83F5-66AD5198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2953-46F5-427F-BD0F-2185EFE2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F3F-1FFC-4648-A33B-7297EDDA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B9B8-9DCD-4CA7-9FA3-C6E130F9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8B65-693F-406E-9C9A-EBEE800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5ECD-F592-4A4C-BE9B-2BD0F387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58B5-C476-4229-8560-B2864484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11B8-7259-460B-8D53-C4310B6E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524A-2290-4754-A110-EB960BE0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E13A-BB57-48FE-B5C3-8B5CC167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DD67-B294-4517-931F-F8547D14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27D9-1371-42DA-A01E-F6B5C48B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170E-5C81-4598-B345-F5B47903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C85-489B-40F8-9AC9-BE930877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C1AD-23A8-41A6-BCDD-8167EB90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E9EF-E4A3-4F35-8A53-9B58F0A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52F8-AC2F-452B-A6DB-2548B4A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F38E-B3D9-4883-BBE2-801AC348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84DC-5803-4A7C-9C5E-F7845C70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7C172-CD60-47BF-8912-55DEAC67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998F-5B6D-4F2D-B5D0-0071FD67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CC37-9A74-499E-BDF6-7230D714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4515B-A74B-47EC-B7A9-2C1EDB62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D5A26-D466-4BC0-99EF-ADC114CA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5E0-1846-4D58-BA32-43B6126D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CAE5-1F15-442A-9D07-93147AA4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8BA5-5E5D-45B4-82BE-26C04C02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0F25F-F5DE-4C1E-B9B5-32F37861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BC21F-7510-4E98-924A-DF09C64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D5C11-172E-4AFE-8DC8-C9046BDD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285E5-825D-465A-8460-2E795747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1C0B8-7725-40BD-A646-ADE7E7E2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7C24-9FBC-48CF-BC88-BA6A2A28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D1144-3BB7-49FA-862A-17A76826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F8AF5-E85F-47F9-82DE-C8C9DA7C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D52-36B7-471D-9854-D0843E8F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F28FE-6787-433C-868F-2C14701F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10C61-F964-4CBF-8202-D7697B17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7565-A87F-49EF-BE7E-3BCA184B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76BB-A7D6-4D7C-A298-6B012CB3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1D1B4-63C4-4FCD-85BB-98F102E0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BF136-530C-4BE3-A2C9-C45F00FF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F818D-8754-42B3-A424-5123826F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257CA-C31B-4C6E-A234-EF027A60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FE49D-BAD7-4986-BF14-621DB65C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9AC0-D695-4580-8A49-A2554C75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AD2-4179-4B2E-90BC-9317C222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AA0C-8C2C-4745-AC9D-9C3D4913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DB7-39AF-45EA-99A5-0588588A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EFA-CAD5-4B8B-9703-2060A5B4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6D0-707B-44BA-AF54-45CA406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0D4E-4BDD-4F9A-B531-5BB44D3DB4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A349-FAFC-4AC4-BB5D-563A76D2DEC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92BC-3D21-45A7-A84E-16653BCAA08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17AA-F83A-4453-9E6A-F10D5A61B01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BAC5-7B66-4AA9-AA4F-30FADB0DD3F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89840" cy="554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74d26"/>
                </a:solidFill>
                <a:latin typeface="Verdana"/>
              </a:rPr>
              <a:t>Салаты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674d26"/>
                </a:solidFill>
                <a:latin typeface="Verdana"/>
              </a:rPr>
              <a:t>  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цель: научить готовить из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  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                     повседневных</a:t>
            </a: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продуктов вкусные </a:t>
            </a:r>
            <a:br>
              <a:rPr sz="1800"/>
            </a:b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и красивые блюд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                                                               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учитель технологии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                                                            первой категории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           Никипелова Л.Г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55640" y="69192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Муниципальное казен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«Средняя общеобразовательная школа №1»  г. Шумих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3" descr="F:\фото\Изображение 005.jpg"/>
          <p:cNvPicPr/>
          <p:nvPr/>
        </p:nvPicPr>
        <p:blipFill>
          <a:blip r:embed="rId1"/>
          <a:srcRect l="22782" t="4249" r="37476" b="9367"/>
          <a:stretch/>
        </p:blipFill>
        <p:spPr>
          <a:xfrm>
            <a:off x="324000" y="3500280"/>
            <a:ext cx="2160360" cy="2936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74d26"/>
                </a:solidFill>
                <a:latin typeface="Verdana"/>
              </a:rPr>
              <a:t>При </a:t>
            </a:r>
            <a:r>
              <a:rPr b="0" i="1" lang="en-US" sz="2000" spc="-1" strike="noStrike">
                <a:solidFill>
                  <a:srgbClr val="674d26"/>
                </a:solidFill>
                <a:latin typeface="Verdana"/>
              </a:rPr>
              <a:t>оформлении салата сельдь под шубой</a:t>
            </a:r>
            <a:r>
              <a:rPr b="0" i="1" lang="ru-RU" sz="2000" spc="-1" strike="noStrike">
                <a:solidFill>
                  <a:srgbClr val="674d26"/>
                </a:solidFill>
                <a:latin typeface="Verdana"/>
              </a:rPr>
              <a:t> немного проявить фантазию:</a:t>
            </a:r>
            <a:r>
              <a:rPr b="0" i="1" lang="en-US" sz="2000" spc="-1" strike="noStrike">
                <a:solidFill>
                  <a:srgbClr val="674d26"/>
                </a:solidFill>
                <a:latin typeface="Verdana"/>
              </a:rPr>
              <a:t> классический рецепт оформ</a:t>
            </a:r>
            <a:r>
              <a:rPr b="0" i="1" lang="ru-RU" sz="2000" spc="-1" strike="noStrike">
                <a:solidFill>
                  <a:srgbClr val="674d26"/>
                </a:solidFill>
                <a:latin typeface="Verdana"/>
              </a:rPr>
              <a:t>ить </a:t>
            </a:r>
            <a:r>
              <a:rPr b="0" i="1" lang="en-US" sz="2000" spc="-1" strike="noStrike">
                <a:solidFill>
                  <a:srgbClr val="674d26"/>
                </a:solidFill>
                <a:latin typeface="Verdana"/>
              </a:rPr>
              <a:t>самыми настоящими рыбьими головой и хвостом, сам салат сформировав как тело рыб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2" descr="seld-pod-shuboy11"/>
          <p:cNvPicPr/>
          <p:nvPr/>
        </p:nvPicPr>
        <p:blipFill>
          <a:blip r:embed="rId1"/>
          <a:stretch/>
        </p:blipFill>
        <p:spPr>
          <a:xfrm>
            <a:off x="395280" y="1844640"/>
            <a:ext cx="2952720" cy="20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Рецепт салата Селедка под шубой"/>
          <p:cNvPicPr/>
          <p:nvPr/>
        </p:nvPicPr>
        <p:blipFill>
          <a:blip r:embed="rId2"/>
          <a:stretch/>
        </p:blipFill>
        <p:spPr>
          <a:xfrm>
            <a:off x="5940360" y="4149720"/>
            <a:ext cx="2806920" cy="237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Салат Дракоша в виде дракона"/>
          <p:cNvPicPr/>
          <p:nvPr/>
        </p:nvPicPr>
        <p:blipFill>
          <a:blip r:embed="rId3"/>
          <a:stretch/>
        </p:blipFill>
        <p:spPr>
          <a:xfrm>
            <a:off x="5940360" y="184464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Рецепт салата Селедка под шубой"/>
          <p:cNvPicPr/>
          <p:nvPr/>
        </p:nvPicPr>
        <p:blipFill>
          <a:blip r:embed="rId4"/>
          <a:stretch/>
        </p:blipFill>
        <p:spPr>
          <a:xfrm>
            <a:off x="3492360" y="2060640"/>
            <a:ext cx="2374920" cy="396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Рецепт салата Селедка под шубой"/>
          <p:cNvPicPr/>
          <p:nvPr/>
        </p:nvPicPr>
        <p:blipFill>
          <a:blip r:embed="rId5"/>
          <a:stretch/>
        </p:blipFill>
        <p:spPr>
          <a:xfrm>
            <a:off x="395280" y="4076640"/>
            <a:ext cx="302436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04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Перед подачей любой вариант салата выдерживаем в холоде. Чтобы не томиться ожиданием, переключаемся </a:t>
            </a: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на приготовление других блюд</a:t>
            </a:r>
            <a:br>
              <a:rPr sz="2000"/>
            </a:b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0" y="6383160"/>
            <a:ext cx="9144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5" name="Picture 2" descr="Рецепт салата Селедка под шубой"/>
          <p:cNvPicPr/>
          <p:nvPr/>
        </p:nvPicPr>
        <p:blipFill>
          <a:blip r:embed="rId1"/>
          <a:stretch/>
        </p:blipFill>
        <p:spPr>
          <a:xfrm>
            <a:off x="395280" y="455760"/>
            <a:ext cx="3889440" cy="3765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Рецепт салата Селедка под шубой"/>
          <p:cNvPicPr/>
          <p:nvPr/>
        </p:nvPicPr>
        <p:blipFill>
          <a:blip r:embed="rId2"/>
          <a:stretch/>
        </p:blipFill>
        <p:spPr>
          <a:xfrm>
            <a:off x="4716360" y="404640"/>
            <a:ext cx="4032360" cy="3816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2160" y="-602640"/>
            <a:ext cx="77724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597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нежные «сугробы» </a:t>
            </a:r>
            <a:r>
              <a:rPr b="1" lang="ru-RU" sz="2000" spc="-1" strike="noStrike">
                <a:solidFill>
                  <a:srgbClr val="674d26"/>
                </a:solidFill>
                <a:latin typeface="Verdana"/>
              </a:rPr>
              <a:t>– это настоящий праздничный салат, имеющий свое определенное предназначение, понятное всем даже невооруженным взглядом. Дети в новогодние праздники не особо охотно кушают праздничные закуски, им по вкусу больше сладкое: торт чак-чак, печенье, пряничные человечки, а вот салат «сугробы» едят с удовольствием, видимо потому, что похож на сказочные декорации и еще – он с вареной колбаской. Да и вкус у сугробов не острый, всего в ме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74d26"/>
                </a:solidFill>
                <a:latin typeface="Verdana"/>
              </a:rPr>
              <a:t>В принципе, сугробы из снега можно соорудить на любом полюбившемся вашей семье новогоднем салате: с крабовыми палочками, кальмарами, семгой, и т.д. Как правило, все простые рецепты новогодних салатов оказываются в итоге самыми вкусными, «сугробы» как раз из этой сер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алат "Сугроб"</a:t>
            </a:r>
            <a:r>
              <a:rPr b="1" lang="ru-RU" sz="2000" spc="-1" strike="noStrike">
                <a:solidFill>
                  <a:srgbClr val="674d26"/>
                </a:solidFill>
                <a:latin typeface="Verdana"/>
              </a:rPr>
              <a:t> 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292360" y="1571400"/>
            <a:ext cx="3382920" cy="430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000" y="428760"/>
            <a:ext cx="4608360" cy="5643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алат "Сугроб"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2 картофелины (вареные), 2 морковки (вареные), луковица, 300гр вареной колбасы, 250гр сыра (твёрдых сортов), 3 яйца, майонез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Лук режем полукольцами, обжариваем на раст.масле. Колбасу нарезаем тонкой соломкой. Желток отделяем от белка. всё по отдельности трём на тёрке.</a:t>
            </a:r>
            <a:br>
              <a:rPr sz="1600"/>
            </a:b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укладываем салат слоями: сыр, желток, майонез, картофель, лук, майонез, морковь, майонез, колбаса. </a:t>
            </a:r>
            <a:br>
              <a:rPr sz="1600"/>
            </a:b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Переворачиваем миску на блюдо, чтобы получилась горка. Обмазываем бока майонезом и посыпаем сверху белк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4" descr="image"/>
          <p:cNvPicPr/>
          <p:nvPr/>
        </p:nvPicPr>
        <p:blipFill>
          <a:blip r:embed="rId1"/>
          <a:stretch/>
        </p:blipFill>
        <p:spPr>
          <a:xfrm>
            <a:off x="5219640" y="1285920"/>
            <a:ext cx="3456000" cy="398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2480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алата«Сугробы»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32360" y="5654520"/>
            <a:ext cx="3578400" cy="22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39000"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5280" y="549000"/>
            <a:ext cx="4176720" cy="5105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Ингредиенты для  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колбаса вареная (без жира) – 200 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картофель – 2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яйца куриные – 4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ыр – 200 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лук репчатый – 1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морковь – 1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майонез – 200 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масло раститель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салат сугробы рецепт с фото"/>
          <p:cNvPicPr/>
          <p:nvPr/>
        </p:nvPicPr>
        <p:blipFill>
          <a:blip r:embed="rId1"/>
          <a:stretch/>
        </p:blipFill>
        <p:spPr>
          <a:xfrm>
            <a:off x="4572000" y="1500120"/>
            <a:ext cx="4214880" cy="4953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ецепт салата «Сугробы»: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1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. Лук нарезаем мелкими кусочками, морковку измельчаем на терке для корейской моркови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2. Обжариваем сначала лук на масле, затем добавляем морковь, жарим на среднем огне до готовности, помешивая, чтобы не пригорел лук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3. Яйца отвариваем вкрутую, картошку варим в кожуре до готовности.</a:t>
            </a:r>
            <a:br>
              <a:rPr sz="32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4. Очищенную картошку измельчаем на крупной терке, а сыр натираем соломкой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5. Яйца режем пополам, вынимаем желток, растираем его и смешиваем с майонезом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6. Полученной начинкой фаршируем яичные белки.</a:t>
            </a:r>
            <a:br>
              <a:rPr sz="32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7. Затем выкладываем в салатницу слой обжаренного лука с морковкой, сверху раскладываем колбасу, порезанную тонкой соломкой, смазываем майонезом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8. Далее выкладываем картофель, а сверху укладываем яйца начинкой вниз (белками вверх)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9. После этого готовый салат «сугробы» поливаем майонезом и посыпаем сыром.</a:t>
            </a:r>
            <a:br>
              <a:rPr sz="3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4d26"/>
                </a:solidFill>
                <a:latin typeface="Verdana"/>
              </a:rPr>
              <a:t>Салат "Сугроб здоровья" 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538600" y="6240600"/>
            <a:ext cx="2971800" cy="4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-720" bIns="-453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5280" y="549360"/>
            <a:ext cx="4032360" cy="5154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Салат "Сугроб здоровья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Филе куриное (отварное) — 35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Помидор (3 шт средних) — 35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Перец болгарский (2 шт средних) — 30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Сыр твердый (Эдам, Гауда, Тильзитер) — 30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Сухарики (ржаные) — 50-10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Майонез — 6 ст.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Чеснок (7-8 средних зубчиков) — 15-2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Салат &quot;Сугроб здоровья&quot;"/>
          <p:cNvPicPr/>
          <p:nvPr/>
        </p:nvPicPr>
        <p:blipFill>
          <a:blip r:embed="rId1"/>
          <a:stretch/>
        </p:blipFill>
        <p:spPr>
          <a:xfrm>
            <a:off x="4716360" y="1341360"/>
            <a:ext cx="3998880" cy="5112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5516280"/>
            <a:ext cx="8183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8d3e"/>
                </a:solidFill>
                <a:latin typeface="Verdana"/>
              </a:rPr>
              <a:t>Салат «Гнездо глухаря»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Picture 2" descr="salat-gnezdo-glukhara-00"/>
          <p:cNvPicPr/>
          <p:nvPr/>
        </p:nvPicPr>
        <p:blipFill>
          <a:blip r:embed="rId1"/>
          <a:stretch/>
        </p:blipFill>
        <p:spPr>
          <a:xfrm>
            <a:off x="3419640" y="449280"/>
            <a:ext cx="5292720" cy="49244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3"/>
          <p:cNvSpPr/>
          <p:nvPr/>
        </p:nvSpPr>
        <p:spPr>
          <a:xfrm>
            <a:off x="468360" y="549360"/>
            <a:ext cx="28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4d26"/>
                </a:solidFill>
                <a:latin typeface="Arial"/>
              </a:rPr>
              <a:t>Ингредиенты</a:t>
            </a: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: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картофель - 3-4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лук репчатый - 2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морковь - 4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яйца - 5-6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мясо курицы отварное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майонез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укроп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чесн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655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en-US" sz="2500" spc="-1" strike="noStrike">
                <a:solidFill>
                  <a:srgbClr val="674d26"/>
                </a:solidFill>
                <a:latin typeface="Verdana"/>
              </a:rPr>
              <a:t>        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Приготовление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Картофель и морковь нарезать тонкой соломкой, лук нарезать полукольцами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Овощи поочередно обжарить в небольшом количества масла, выложить на салфетку, чтобы избавиться от лишнего жира. Вареное куриное мясо разобрать на волокна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У вареных вкрутую яиц отделить желтки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Белки нарезать соломкой, смешать с мясом, обжаренными овощи и заправить майонезом. Можно добавить по вкусу мелко порезанный чеснок или горчицу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Выложить на блюдо, сделать в центре углубление и придать форму гнезда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Желтки растереть с майонезом, добавить мелко нашинкованный укроп. Из получившейся пластичной массы сформировать небольшие шарики в виде яиц глухаря и выложить в углубление по центру салата. </a:t>
            </a:r>
            <a:br>
              <a:rPr sz="2200"/>
            </a:br>
            <a:r>
              <a:rPr b="1" i="1" lang="ru-RU" sz="1600" spc="-1" strike="noStrike">
                <a:solidFill>
                  <a:srgbClr val="674d26"/>
                </a:solidFill>
                <a:latin typeface="Verdana"/>
              </a:rPr>
              <a:t> </a:t>
            </a: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22160" y="6419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74d26"/>
                </a:solidFill>
                <a:latin typeface="Verdana"/>
              </a:rPr>
              <a:t>Закуски из ломтиков вареной колбасы </a:t>
            </a:r>
            <a:br>
              <a:rPr sz="2800"/>
            </a:br>
            <a:r>
              <a:rPr b="1" i="1" lang="en-US" sz="2800" spc="-1" strike="noStrike">
                <a:solidFill>
                  <a:srgbClr val="674d26"/>
                </a:solidFill>
                <a:latin typeface="Verdana"/>
              </a:rPr>
              <a:t> 1. «Бабочка»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0" y="6275520"/>
            <a:ext cx="9144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79" name="Picture 2" descr="baboch-00"/>
          <p:cNvPicPr/>
          <p:nvPr/>
        </p:nvPicPr>
        <p:blipFill>
          <a:blip r:embed="rId1"/>
          <a:stretch/>
        </p:blipFill>
        <p:spPr>
          <a:xfrm>
            <a:off x="395280" y="1459080"/>
            <a:ext cx="8424720" cy="5786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674d26"/>
                </a:solidFill>
                <a:latin typeface="Verdana"/>
              </a:rPr>
              <a:t>Немного из истории самого известного салата 20в и 21в.</a:t>
            </a:r>
            <a:br>
              <a:rPr sz="4300"/>
            </a:b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2636640"/>
            <a:ext cx="8183520" cy="381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74d26"/>
                </a:solidFill>
                <a:latin typeface="Verdana"/>
              </a:rPr>
              <a:t>Любое блюдо можно сделать праздничным, если его оригинально со вкусом оформить и торжественно подать на красиво сервированный стол.</a:t>
            </a:r>
            <a:r>
              <a:rPr b="0" i="1" lang="ru-RU" sz="2800" spc="-1" strike="noStrike">
                <a:solidFill>
                  <a:srgbClr val="674d2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74d26"/>
                </a:solidFill>
                <a:latin typeface="Verdana"/>
              </a:rPr>
              <a:t>Сельдь в автомобиле: из советских не капризных времен прямиком к столу современных «приверед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606240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14080" y="530280"/>
            <a:ext cx="3265560" cy="585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1) Ломтик вареной колбасы сложить в виде веера. В нижней трети сколоть веер зубочисткой. Это крыло бабочки. Их потребуется четыре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Два ломтика колбасы свернуть в две трубочки</a:t>
            </a:r>
            <a:r>
              <a:rPr b="0" i="1" lang="en-US" sz="1800" spc="-1" strike="noStrike">
                <a:solidFill>
                  <a:srgbClr val="674d2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756320" y="6092640"/>
            <a:ext cx="3930480" cy="36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2" descr="baboch-01"/>
          <p:cNvPicPr/>
          <p:nvPr/>
        </p:nvPicPr>
        <p:blipFill>
          <a:blip r:embed="rId1"/>
          <a:stretch/>
        </p:blipFill>
        <p:spPr>
          <a:xfrm>
            <a:off x="3851280" y="404640"/>
            <a:ext cx="4897440" cy="5616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627660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14080" y="530280"/>
            <a:ext cx="3336840" cy="585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74d26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) Собрать фигуру следующим образом: к трубочке-туловищу с одной стороны прикрепить заготовку нижнего крыла, а затем сверху - заготовку верхнего кры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756320" y="5877000"/>
            <a:ext cx="3930480" cy="72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3" descr="baboch-02"/>
          <p:cNvPicPr/>
          <p:nvPr/>
        </p:nvPicPr>
        <p:blipFill>
          <a:blip r:embed="rId1"/>
          <a:stretch/>
        </p:blipFill>
        <p:spPr>
          <a:xfrm>
            <a:off x="3780000" y="404640"/>
            <a:ext cx="4968720" cy="532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14440" y="529920"/>
            <a:ext cx="29779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74d26"/>
                </a:solidFill>
                <a:latin typeface="Verdana"/>
              </a:rPr>
              <a:t>3) В такой же последовательности прикрепить заготовки крыльев с другой сторо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756320" y="4220640"/>
            <a:ext cx="3930480" cy="69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2" descr="baboch-03"/>
          <p:cNvPicPr/>
          <p:nvPr/>
        </p:nvPicPr>
        <p:blipFill>
          <a:blip r:embed="rId1"/>
          <a:stretch/>
        </p:blipFill>
        <p:spPr>
          <a:xfrm>
            <a:off x="3492360" y="404640"/>
            <a:ext cx="5256360" cy="5832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14440" y="529920"/>
            <a:ext cx="268920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4) Вторую трубочку нарезать в виде колечек. Из них сделать глаза, усики и элементы украшения крыль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756320" y="4436640"/>
            <a:ext cx="3930480" cy="48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2" descr="baboch-04"/>
          <p:cNvPicPr/>
          <p:nvPr/>
        </p:nvPicPr>
        <p:blipFill>
          <a:blip r:embed="rId1"/>
          <a:stretch/>
        </p:blipFill>
        <p:spPr>
          <a:xfrm>
            <a:off x="3348000" y="404640"/>
            <a:ext cx="5400720" cy="5904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14440" y="529920"/>
            <a:ext cx="247320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74d26"/>
                </a:solidFill>
                <a:latin typeface="Verdana"/>
              </a:rPr>
              <a:t>5) </a:t>
            </a:r>
            <a:r>
              <a:rPr b="1" i="1" lang="en-US" sz="2800" spc="-1" strike="noStrike">
                <a:solidFill>
                  <a:srgbClr val="674d26"/>
                </a:solidFill>
                <a:latin typeface="Verdana"/>
              </a:rPr>
              <a:t>Уложить на листья салата, украсить ягодами или кусочками овощ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756320" y="4292640"/>
            <a:ext cx="3930480" cy="627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2" descr="baboch-05"/>
          <p:cNvPicPr/>
          <p:nvPr/>
        </p:nvPicPr>
        <p:blipFill>
          <a:blip r:embed="rId1"/>
          <a:stretch/>
        </p:blipFill>
        <p:spPr>
          <a:xfrm>
            <a:off x="2916360" y="404640"/>
            <a:ext cx="5832360" cy="5688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алитра вкусных красок салатного художник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мешиванием различных "красок" можно получать множество разных цветов и оттенков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Конечно, диапазон возможных кулинарных "красок" гораздо шире здесь указанных — включайте всё изумительное богатство своей необузданной творческой фантаз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756320" y="530280"/>
            <a:ext cx="3930480" cy="16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2" descr="palitra-kul-01"/>
          <p:cNvPicPr/>
          <p:nvPr/>
        </p:nvPicPr>
        <p:blipFill>
          <a:blip r:embed="rId1"/>
          <a:stretch/>
        </p:blipFill>
        <p:spPr>
          <a:xfrm>
            <a:off x="1763640" y="404640"/>
            <a:ext cx="5688000" cy="5873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14440" y="529920"/>
            <a:ext cx="80899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красный — сладкий перец, помидоры, зерна граната, клюкв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бордовый — вареная свёкл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розовый — сок свеклы или клюквы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ранжевый — морковь, морковный сок, томат-паст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желтый — яичный желток, сладкий перец, зерна кукурузы, окрашенный шафраном рис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зеленый — зелень, сладкий перец, оливки, зеленый горошек, огурцы, протертый через сито отварной шпинат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голубой — тертый яичный белок или рис, окрашенный соком сырой краснокочанной капусты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сиреневый — тертый яичный белок, окрашенный соком сырой свёклы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фиолетовый — краснокочанная капуст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белый — яичный белок, редька, редис, картофель, рис, сметана, творог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черный — оливки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 rot="10800000">
            <a:off x="4756320" y="475920"/>
            <a:ext cx="3930480" cy="54000"/>
          </a:xfrm>
          <a:prstGeom prst="rect">
            <a:avLst/>
          </a:prstGeom>
          <a:noFill/>
          <a:ln w="0">
            <a:noFill/>
          </a:ln>
        </p:spPr>
        <p:txBody>
          <a:bodyPr lIns="182880" tIns="8280" bIns="-37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797000"/>
            <a:ext cx="8183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8d3e"/>
                </a:solidFill>
                <a:latin typeface="Verdana"/>
              </a:rPr>
              <a:t>Заливное из курицы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14080" y="530280"/>
            <a:ext cx="3932280" cy="234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 rot="10800000">
            <a:off x="4756320" y="332280"/>
            <a:ext cx="3930480" cy="19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2" descr="zaliv-kurica-00"/>
          <p:cNvPicPr/>
          <p:nvPr/>
        </p:nvPicPr>
        <p:blipFill>
          <a:blip r:embed="rId1"/>
          <a:stretch/>
        </p:blipFill>
        <p:spPr>
          <a:xfrm>
            <a:off x="1692360" y="476280"/>
            <a:ext cx="6476760" cy="4676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764640"/>
            <a:ext cx="8183520" cy="52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Заливное из курицы, приготовленное в фигурных формочках, сверху слой майонеза с желатином, большое "сердце" из сладкого красного перца, маленькое зеленое "сердце" - из кожуры огурца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 формочки залить майонез с желатином, после его застывания - заливное из курицы. После застывания вынуть из формочек и украсить сверху вырезанными "сердцами"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Чтобы большое "сердце" лучше держалось на желе, перед наложением его нижнюю сторону можно немного подогреть на сухой сковороде до температуры 40-45 гр. С или смазать нижнюю сторону тепловатым желе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"Сердца" удобно вырезать высечкой или по бумажному трафарету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3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8360" y="620280"/>
            <a:ext cx="3930480" cy="21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756320" y="530280"/>
            <a:ext cx="3930480" cy="66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seld-pod-shuboy7"/>
          <p:cNvPicPr/>
          <p:nvPr/>
        </p:nvPicPr>
        <p:blipFill>
          <a:blip r:embed="rId1"/>
          <a:stretch/>
        </p:blipFill>
        <p:spPr>
          <a:xfrm>
            <a:off x="447840" y="620640"/>
            <a:ext cx="8381880" cy="561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3280" y="1844640"/>
            <a:ext cx="8183520" cy="287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74d26"/>
                </a:solidFill>
                <a:latin typeface="Verdan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Сельдь под шубой</a:t>
            </a:r>
            <a:r>
              <a:rPr b="1" i="1" lang="ru-RU" sz="2400" spc="-1" strike="noStrike">
                <a:solidFill>
                  <a:srgbClr val="674d26"/>
                </a:solidFill>
                <a:latin typeface="Verdana"/>
              </a:rPr>
              <a:t>: б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людо это сравнительно молодое, с исторической точки зрения примечательно тем, что его ближайший родственник винегрет, не смотря на французское происхождение названия, один из немногих </a:t>
            </a:r>
            <a:r>
              <a:rPr b="1" i="1" lang="en-US" sz="2400" spc="-1" strike="noStrike" u="sng">
                <a:solidFill>
                  <a:srgbClr val="674d26"/>
                </a:solidFill>
                <a:uFillTx/>
                <a:latin typeface="Verdana"/>
              </a:rPr>
              <a:t>салатов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, включенных в традиционную русскую кухню.</a:t>
            </a:r>
            <a:r>
              <a:rPr b="1" lang="en-US" sz="2400" spc="-1" strike="noStrike">
                <a:solidFill>
                  <a:srgbClr val="674d26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Чтобы привлечь внимание к салату, ему дали особое название и тщательно подобрали ингредиенты.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 Сельдь и картофель – классическая закуска для пролетариев, свекла – красное знамя революции, ШУБА – аббревиатура, расшифровывающаяся как «шовинизму и упадку – бойкот и анафема». </a:t>
            </a:r>
            <a:br>
              <a:rPr sz="2400"/>
            </a:br>
            <a:br>
              <a:rPr sz="2400"/>
            </a:b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Оформление салата под шубой   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фото 2,3,4,5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22160" y="627552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seld-pod-shuboy2"/>
          <p:cNvPicPr/>
          <p:nvPr/>
        </p:nvPicPr>
        <p:blipFill>
          <a:blip r:embed="rId1"/>
          <a:stretch/>
        </p:blipFill>
        <p:spPr>
          <a:xfrm>
            <a:off x="32400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" descr="seld-pod-shuboy3"/>
          <p:cNvPicPr/>
          <p:nvPr/>
        </p:nvPicPr>
        <p:blipFill>
          <a:blip r:embed="rId2"/>
          <a:stretch/>
        </p:blipFill>
        <p:spPr>
          <a:xfrm>
            <a:off x="4932360" y="260280"/>
            <a:ext cx="3887640" cy="3024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seld-pod-shuboy4"/>
          <p:cNvPicPr/>
          <p:nvPr/>
        </p:nvPicPr>
        <p:blipFill>
          <a:blip r:embed="rId3"/>
          <a:stretch/>
        </p:blipFill>
        <p:spPr>
          <a:xfrm>
            <a:off x="324000" y="272880"/>
            <a:ext cx="3960720" cy="3132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Рецепт салата Селедка под шубой"/>
          <p:cNvPicPr/>
          <p:nvPr/>
        </p:nvPicPr>
        <p:blipFill>
          <a:blip r:embed="rId4"/>
          <a:stretch/>
        </p:blipFill>
        <p:spPr>
          <a:xfrm>
            <a:off x="4932360" y="3429000"/>
            <a:ext cx="3887640" cy="3095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604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Дет</a:t>
            </a:r>
            <a:r>
              <a:rPr b="1" i="1" lang="ru-RU" sz="2400" spc="-1" strike="noStrike">
                <a:solidFill>
                  <a:srgbClr val="674d26"/>
                </a:solidFill>
                <a:latin typeface="Verdana"/>
              </a:rPr>
              <a:t>я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м этот салат можно предлагать после 2,5 лет, но только при условии, что майонез вы делаете сами. Его можно и заменить сметаной или классическим йогуртом. Ведь остроты сильной в классической селедке под шубой нет, ни яйцо, ни репчатый лук изначально в рецепт не входили, вкус блюда был «спокойным», нейтральным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-360" y="6419880"/>
            <a:ext cx="889308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4" name="Picture 2" descr="seld-pod-shuboy1"/>
          <p:cNvPicPr/>
          <p:nvPr/>
        </p:nvPicPr>
        <p:blipFill>
          <a:blip r:embed="rId1"/>
          <a:stretch/>
        </p:blipFill>
        <p:spPr>
          <a:xfrm>
            <a:off x="395280" y="0"/>
            <a:ext cx="4253040" cy="3116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seld-pod-shuboy19"/>
          <p:cNvPicPr/>
          <p:nvPr/>
        </p:nvPicPr>
        <p:blipFill>
          <a:blip r:embed="rId2"/>
          <a:stretch/>
        </p:blipFill>
        <p:spPr>
          <a:xfrm>
            <a:off x="4716360" y="0"/>
            <a:ext cx="4016520" cy="3141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35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Для «базового» рецепта нам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понадобятся следующие продукты: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свекла – 1 средний корнеплод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морковь – 2 штучки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картофель – 2 штучки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лук – половинка луковицы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сельдь – 1 рыбина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майонез (сметана, классический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йогурт)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Зелень для украшения</a:t>
            </a:r>
            <a:br>
              <a:rPr sz="1800"/>
            </a:br>
            <a:br>
              <a:rPr sz="2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0" y="6347520"/>
            <a:ext cx="9144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8" name="Picture 2" descr="seld-pod-shuboy6"/>
          <p:cNvPicPr/>
          <p:nvPr/>
        </p:nvPicPr>
        <p:blipFill>
          <a:blip r:embed="rId1"/>
          <a:stretch/>
        </p:blipFill>
        <p:spPr>
          <a:xfrm>
            <a:off x="5219640" y="404640"/>
            <a:ext cx="3413160" cy="3094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seld-pod-shuboy12"/>
          <p:cNvPicPr/>
          <p:nvPr/>
        </p:nvPicPr>
        <p:blipFill>
          <a:blip r:embed="rId2"/>
          <a:stretch/>
        </p:blipFill>
        <p:spPr>
          <a:xfrm>
            <a:off x="468360" y="3645000"/>
            <a:ext cx="4464000" cy="2879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seld-pod-shuboy14"/>
          <p:cNvPicPr/>
          <p:nvPr/>
        </p:nvPicPr>
        <p:blipFill>
          <a:blip r:embed="rId3"/>
          <a:stretch/>
        </p:blipFill>
        <p:spPr>
          <a:xfrm>
            <a:off x="5219640" y="3691080"/>
            <a:ext cx="3456000" cy="2762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Можно менять очередность….</a:t>
            </a:r>
            <a:br>
              <a:rPr sz="2000"/>
            </a:b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А </a:t>
            </a: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так вкуснее! Маленькая импровизация – маленький собственный секрет простого блюда, которое может стать коронным</a:t>
            </a: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.</a:t>
            </a:r>
            <a:br>
              <a:rPr sz="2000"/>
            </a:b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На дно салатницы выкладываем половину всего количества свеклы и распределяем ровным слоем. Смазываем майонезом или сметаной. Для этого очень удобно использовать кондитерский шприц с узкой насадкой, он позволяет более равномерно все распределить и слои тогда не деформируются. Следующий слой – картофель. Половина от общего количества. Промазываем майонезом.</a:t>
            </a:r>
            <a:br>
              <a:rPr sz="2000"/>
            </a:b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Выкладываем половину сельди с луком, майонез или сметану (йогурт). Далее - слой моркови. После этого выкладываем оставшиеся ингредиенты в такой очередности: картофель, селедка с луком, морковка и свекла. Не забываем промазывать каждый слой. Завершающий этап – поверх последнего слоя посыпаем салат свежей зеленью (петрушка, укроп, зеленый лук). 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0" y="6407280"/>
            <a:ext cx="9144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640720" cy="288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Но салат селедка под шубой есть и в вегетарианском варианте – море под шубой заменить яйцо (если вы добавляете его в свой вариант сельди под шубой) на авокадо (перед добавлением его в салат сбрызните кусочки лимонным соком), сельдь на морские водоросли, майонез соевый, дополнительным ингредиентом может стать свежее и кислое зеленое яблоко.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49440" y="6311880"/>
            <a:ext cx="849456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5" name="Picture 2" descr="seld-pod-shuboy101"/>
          <p:cNvPicPr/>
          <p:nvPr/>
        </p:nvPicPr>
        <p:blipFill>
          <a:blip r:embed="rId1"/>
          <a:stretch/>
        </p:blipFill>
        <p:spPr>
          <a:xfrm>
            <a:off x="1258920" y="2997360"/>
            <a:ext cx="6408720" cy="3536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3T14:06:29Z</dcterms:modified>
  <cp:revision>69</cp:revision>
  <dc:subject/>
  <dc:title>Немного из истории самого известного салата 20в и 21в. Любое блюдо можно сделать праздничным, если его оригинально со вкусом оформить и торжественно подать на красиво сервированный стол.   </dc:title>
</cp:coreProperties>
</file>