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46C-C77F-41D9-9A34-85D3DA85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381-4747-4232-B2D7-8F15AA5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7C5-F072-4DC4-99B7-C1834CAE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64A-278C-4FC5-BF90-3BB357ED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02B6-4AE2-4F99-80FF-6C937E17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2843-9FFC-4AB3-B7E7-91EC24A5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DC68-2B6E-435C-9B63-B0F5733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052C-F394-4CFE-AB74-304DC60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5FE-1F23-4E44-B583-C8721AA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08C-4525-4552-94F5-B3B4B8E1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8882-FA37-4910-A881-44C2977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6A0-A0B4-403D-ABBB-8F759875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6C1-F7A8-40BB-8070-0A27420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F3B-5C58-45A0-A59D-A52B5A0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4F2-C449-4BC3-9EEA-3BC28F1D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EA37-9922-4503-8445-60DE9F72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8D1-C8D8-4D7F-A6B5-C3AE2D29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A743-4241-48A8-AE70-ED234582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711F-49FC-4F05-A73D-9EF080A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8FAD-3B55-4676-9B06-E000193F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767D2-3B4B-4208-A4BA-7C1A51B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01AAE-71CB-4D58-8EA8-B0680620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C26-6F07-4222-9D9A-8488ABB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0CE7-6742-4A75-B60F-F1572E8A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5B71-5954-4E06-8CEC-89005D3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4FA7-2B21-403D-8D78-485C3B0E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1216-A396-49DF-B4E2-A44AAD4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293D-F72C-4823-A965-9BDC7DE8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32D8-FAC7-4B45-9C8F-4F18BE09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F275-2C36-4BC7-B962-F42A718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618E-A966-4D85-8268-3CABE93A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CC74-8567-41FF-BCE2-6DD6400B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F7A9-4BE0-4F43-BB7A-2070133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5EB-D28B-48C6-9D56-F931EB3D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5A99-2E18-4B63-BBA7-FBB8FEE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6F8F-3352-49A5-9981-ACFD872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BB85-9C5D-40F6-8F58-E43B12A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1B9B-6BA8-49C0-8CCA-C0A16BF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37CF-7B2B-49D9-A9AE-E8F9E7D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EDAF-5BA9-4FC0-A2BB-A35FF94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0F29-DCF1-4E3F-83CB-857A19BE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004E-F01A-4FFB-BC53-5B2E1420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9B5E-618D-48D5-8E46-6999C210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9A62-5A81-4A74-A97B-CCE54BE2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602-9D24-4C39-AAF0-89E8E2A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0211-3491-4912-A2B6-F58ACE9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F287-FB1A-4772-B030-4D3DAE6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DFDF6-0C98-4C10-B785-8381067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EA15-68BF-42A6-BC79-AA56061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7E44-9C6B-4B80-8EF0-A3D65ED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B857-284D-40B7-B947-9102662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B874-8B3F-4BE2-9950-71B9219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65B6-D8FD-40E4-84EC-71275F21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1BD0-6274-42C6-A9C8-5ACD69E8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AFFD6-5C49-4DE2-A7EA-2FF05DDD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D24-5164-4D62-9D60-95400615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FDE6-27A3-4486-B33F-D3B12DDD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EAD-B39B-46B6-80B8-206F469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44D-8490-4A38-A220-DC75AA2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CA2-A324-4DF9-B6E4-E642AEB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68FA-2993-4AED-ACD4-E68F318106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9861-1C3F-4F9D-9699-38B1050074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214-2112-40C9-97A2-B8945DFD0AC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35B-61B3-4FC9-BA7E-CB4FB017D7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5C3-4FFB-444C-A4AC-3F76D6D8EB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8984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74d26"/>
                </a:solidFill>
                <a:latin typeface="Verdana"/>
              </a:rPr>
              <a:t>Салаты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цель: научить готовить из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повседневных</a:t>
            </a: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родуктов вкусные </a:t>
            </a: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и красивые блюд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учитель технолог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                                                 первой категории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           Никипелова Л.Г.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5640" y="69192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Муниципальное казен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«Средняя общеобразовательная школа №1»  г. Шумих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F:\фото\Изображение 005.jpg"/>
          <p:cNvPicPr/>
          <p:nvPr/>
        </p:nvPicPr>
        <p:blipFill>
          <a:blip r:embed="rId1"/>
          <a:srcRect l="22782" t="4249" r="37476" b="9367"/>
          <a:stretch/>
        </p:blipFill>
        <p:spPr>
          <a:xfrm>
            <a:off x="324000" y="3500280"/>
            <a:ext cx="2160360" cy="2936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При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оформлении салата сельдь под шубой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 немного проявить фантазию: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 классический рецепт оформ</a:t>
            </a:r>
            <a:r>
              <a:rPr b="0" i="1" lang="ru-RU" sz="2000" spc="-1" strike="noStrike">
                <a:solidFill>
                  <a:srgbClr val="674d26"/>
                </a:solidFill>
                <a:latin typeface="Verdana"/>
              </a:rPr>
              <a:t>ить </a:t>
            </a:r>
            <a:r>
              <a:rPr b="0" i="1" lang="en-US" sz="2000" spc="-1" strike="noStrike">
                <a:solidFill>
                  <a:srgbClr val="674d26"/>
                </a:solidFill>
                <a:latin typeface="Verdana"/>
              </a:rPr>
              <a:t>самыми настоящими рыбьими головой и хвостом, сам салат сформировав как тело рыб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seld-pod-shuboy11"/>
          <p:cNvPicPr/>
          <p:nvPr/>
        </p:nvPicPr>
        <p:blipFill>
          <a:blip r:embed="rId1"/>
          <a:stretch/>
        </p:blipFill>
        <p:spPr>
          <a:xfrm>
            <a:off x="395280" y="184464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5940360" y="4149720"/>
            <a:ext cx="2806920" cy="237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Салат Дракоша в виде дракона"/>
          <p:cNvPicPr/>
          <p:nvPr/>
        </p:nvPicPr>
        <p:blipFill>
          <a:blip r:embed="rId3"/>
          <a:stretch/>
        </p:blipFill>
        <p:spPr>
          <a:xfrm>
            <a:off x="5940360" y="1844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3492360" y="2060640"/>
            <a:ext cx="2374920" cy="3960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Рецепт салата Селедка под шубой"/>
          <p:cNvPicPr/>
          <p:nvPr/>
        </p:nvPicPr>
        <p:blipFill>
          <a:blip r:embed="rId5"/>
          <a:stretch/>
        </p:blipFill>
        <p:spPr>
          <a:xfrm>
            <a:off x="395280" y="4076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Перед подачей любой вариант салата выдерживаем в холоде. Чтобы не томиться ожиданием, переключаемся 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на приготовление других блюд</a:t>
            </a:r>
            <a:br>
              <a:rPr sz="2000"/>
            </a:br>
            <a:br>
              <a:rPr sz="2800"/>
            </a:br>
            <a:br>
              <a:rPr sz="28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6383160"/>
            <a:ext cx="914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5" name="Picture 2" descr="Рецепт салата Селедка под шубой"/>
          <p:cNvPicPr/>
          <p:nvPr/>
        </p:nvPicPr>
        <p:blipFill>
          <a:blip r:embed="rId1"/>
          <a:stretch/>
        </p:blipFill>
        <p:spPr>
          <a:xfrm>
            <a:off x="395280" y="455760"/>
            <a:ext cx="3889440" cy="3765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Рецепт салата Селедка под шубой"/>
          <p:cNvPicPr/>
          <p:nvPr/>
        </p:nvPicPr>
        <p:blipFill>
          <a:blip r:embed="rId2"/>
          <a:stretch/>
        </p:blipFill>
        <p:spPr>
          <a:xfrm>
            <a:off x="4716360" y="404640"/>
            <a:ext cx="403236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-602640"/>
            <a:ext cx="777240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нежные «сугробы» 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– это настоящий праздничный салат, имеющий свое определенное предназначение, понятное всем даже невооруженным взглядом. Дети в новогодние праздники не особо охотно кушают праздничные закуски, им по вкусу больше сладкое: торт чак-чак, печенье, пряничные человечки, а вот салат «сугробы» едят с удовольствием, видимо потому, что похож на сказочные декорации и еще – он с вареной колбаской. Да и вкус у сугробов не острый, всего в ме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В принципе, сугробы из снега можно соорудить на любом полюбившемся вашей семье новогоднем салате: с крабовыми палочками, кальмарами, семгой, и т.д. Как правило, все простые рецепты новогодних салатов оказываются в итоге самыми вкусными, «сугробы» как раз из этой сер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</a:t>
            </a:r>
            <a:r>
              <a:rPr b="1" lang="ru-RU" sz="2000" spc="-1" strike="noStrike">
                <a:solidFill>
                  <a:srgbClr val="674d26"/>
                </a:solidFill>
                <a:latin typeface="Verdana"/>
              </a:rPr>
              <a:t> 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92360" y="1571400"/>
            <a:ext cx="3382920" cy="430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428760"/>
            <a:ext cx="460836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 "Сугроб"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2 картофелины (вареные), 2 морковки (вареные), луковица, 300гр вареной колбасы, 250гр сыра (твёрдых сортов), 3 яйца, майонез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Лук режем полукольцами, обжариваем на раст.масле. Колбасу нарезаем тонкой соломкой. Желток отделяем от белка. всё по отдельности трём на тёрке.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укладываем салат слоями: сыр, желток, майонез, картофель, лук, майонез, морковь, майонез, колбаса. </a:t>
            </a:r>
            <a:br>
              <a:rPr sz="1600"/>
            </a:br>
            <a:r>
              <a:rPr b="1" lang="ru-RU" sz="1600" spc="-1" strike="noStrike">
                <a:solidFill>
                  <a:srgbClr val="674d26"/>
                </a:solidFill>
                <a:latin typeface="Verdana"/>
              </a:rPr>
              <a:t>Переворачиваем миску на блюдо, чтобы получилась горка. Обмазываем бока майонезом и посыпаем сверху белк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4" descr="image"/>
          <p:cNvPicPr/>
          <p:nvPr/>
        </p:nvPicPr>
        <p:blipFill>
          <a:blip r:embed="rId1"/>
          <a:stretch/>
        </p:blipFill>
        <p:spPr>
          <a:xfrm>
            <a:off x="5219640" y="1285920"/>
            <a:ext cx="3456000" cy="398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248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алата«Сугробы»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32360" y="5654520"/>
            <a:ext cx="3578400" cy="22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39000"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549000"/>
            <a:ext cx="4176720" cy="5105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Ингредиенты для 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олбаса вареная (без жира)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картофель – 2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яйца куриные – 4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сыр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лук репчатый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орковь – 1 ш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йонез – 200 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Verdana"/>
              </a:rPr>
              <a:t>масло раститель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салат сугробы рецепт с фото"/>
          <p:cNvPicPr/>
          <p:nvPr/>
        </p:nvPicPr>
        <p:blipFill>
          <a:blip r:embed="rId1"/>
          <a:stretch/>
        </p:blipFill>
        <p:spPr>
          <a:xfrm>
            <a:off x="4572000" y="1500120"/>
            <a:ext cx="4214880" cy="495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ецепт салата «Сугробы»:</a:t>
            </a:r>
            <a:br>
              <a:rPr sz="1800"/>
            </a:b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1</a:t>
            </a: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. Лук нарезаем мелкими кусочками, морковку измельчаем на терке для корейской моркови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2. Обжариваем сначала лук на масле, затем добавляем морковь, жарим на среднем огне до готовности, помешивая, чтобы не пригорел лук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3. Яйца отвариваем вкрутую, картошку варим в кожуре до готовност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4. Очищенную картошку измельчаем на крупной терке, а сыр натираем соломкой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5. Яйца режем пополам, вынимаем желток, растираем его и смешиваем с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6. Полученной начинкой фаршируем яичные белки.</a:t>
            </a:r>
            <a:br>
              <a:rPr sz="32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7. Затем выкладываем в салатницу слой обжаренного лука с морковкой, сверху раскладываем колбасу, порезанную тонкой соломкой, смазываем майонезом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8. Далее выкладываем картофель, а сверху укладываем яйца начинкой вниз (белками вверх).</a:t>
            </a:r>
            <a:br>
              <a:rPr sz="1800"/>
            </a:br>
            <a:r>
              <a:rPr b="1" lang="ru-RU" sz="1800" spc="-1" strike="noStrike">
                <a:solidFill>
                  <a:srgbClr val="674d26"/>
                </a:solidFill>
                <a:latin typeface="Verdana"/>
              </a:rPr>
              <a:t>9. После этого готовый салат «сугробы» поливаем майонезом и посыпаем сыром.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38600" y="6240600"/>
            <a:ext cx="2971800" cy="4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-720" bIns="-4536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549360"/>
            <a:ext cx="4032360" cy="5154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Салат "Сугроб здоровья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иле куриное (отварное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омидор (3 шт средних) — 35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Перец болгарский (2 шт средних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ыр твердый (Эдам, Гауда, Тильзитер) — 3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Сухарики (ржаные) — 50-10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Майонез — 6 ст. 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Чеснок (7-8 средних зубчиков) — 15-20 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Салат &quot;Сугроб здоровья&quot;"/>
          <p:cNvPicPr/>
          <p:nvPr/>
        </p:nvPicPr>
        <p:blipFill>
          <a:blip r:embed="rId1"/>
          <a:stretch/>
        </p:blipFill>
        <p:spPr>
          <a:xfrm>
            <a:off x="4716360" y="1341360"/>
            <a:ext cx="3998880" cy="511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551628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Салат «Гнездо глухаря»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2" descr="salat-gnezdo-glukhara-00"/>
          <p:cNvPicPr/>
          <p:nvPr/>
        </p:nvPicPr>
        <p:blipFill>
          <a:blip r:embed="rId1"/>
          <a:stretch/>
        </p:blipFill>
        <p:spPr>
          <a:xfrm>
            <a:off x="3419640" y="449280"/>
            <a:ext cx="5292720" cy="49244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468360" y="549360"/>
            <a:ext cx="28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4d26"/>
                </a:solidFill>
                <a:latin typeface="Arial"/>
              </a:rPr>
              <a:t>Ингредиенты</a:t>
            </a: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: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картофель - 3-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лук репчатый - 2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орковь - 4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яйца - 5-6 шт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ясо курицы отварное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майонез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укроп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Arial"/>
              </a:rPr>
              <a:t>• чес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655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500" spc="-1" strike="noStrike">
                <a:solidFill>
                  <a:srgbClr val="674d26"/>
                </a:solidFill>
                <a:latin typeface="Verdana"/>
              </a:rPr>
              <a:t>        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Приготовление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Картофель и морковь нарезать тонкой соломкой, лук нарезать полукольцам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Овощи поочередно обжарить в небольшом количества масла, выложить на салфетку, чтобы избавиться от лишнего жира. Вареное куриное мясо разобрать на волокн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У вареных вкрутую яиц отделить желтки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Белки нарезать соломкой, смешать с мясом, обжаренными овощи и заправить майонезом. Можно добавить по вкусу мелко порезанный чеснок или горчицу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Выложить на блюдо, сделать в центре углубление и придать форму гнезда. </a:t>
            </a:r>
            <a:br>
              <a:rPr sz="2200"/>
            </a:b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Желтки растереть с майонезом, добавить мелко нашинкованный укроп. Из получившейся пластичной массы сформировать небольшие шарики в виде яиц глухаря и выложить в углубление по центру салата. </a:t>
            </a:r>
            <a:br>
              <a:rPr sz="2200"/>
            </a:br>
            <a:r>
              <a:rPr b="1" i="1" lang="ru-RU" sz="1600" spc="-1" strike="noStrike">
                <a:solidFill>
                  <a:srgbClr val="674d26"/>
                </a:solidFill>
                <a:latin typeface="Verdana"/>
              </a:rPr>
              <a:t> </a:t>
            </a:r>
            <a:r>
              <a:rPr b="1" i="1" lang="en-US" sz="2200" spc="-1" strike="noStrike">
                <a:solidFill>
                  <a:srgbClr val="674d26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6419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Закуски из ломтиков вареной колбасы </a:t>
            </a:r>
            <a:br>
              <a:rPr sz="2800"/>
            </a:b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 1. «Бабочка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0" y="6275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79" name="Picture 2" descr="baboch-00"/>
          <p:cNvPicPr/>
          <p:nvPr/>
        </p:nvPicPr>
        <p:blipFill>
          <a:blip r:embed="rId1"/>
          <a:stretch/>
        </p:blipFill>
        <p:spPr>
          <a:xfrm>
            <a:off x="395280" y="1459080"/>
            <a:ext cx="8424720" cy="5786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674d26"/>
                </a:solidFill>
                <a:latin typeface="Verdana"/>
              </a:rPr>
              <a:t>Немного из истории самого известного салата 20в и 21в.</a:t>
            </a:r>
            <a:br>
              <a:rPr sz="4300"/>
            </a:b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2636640"/>
            <a:ext cx="818352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74d26"/>
                </a:solidFill>
                <a:latin typeface="Verdana"/>
              </a:rPr>
              <a:t>Любое блюдо можно сделать праздничным, если его оригинально со вкусом оформить и торжественно подать на красиво сервированный стол.</a:t>
            </a:r>
            <a:r>
              <a:rPr b="0" i="1" lang="ru-RU" sz="2800" spc="-1" strike="noStrike">
                <a:solidFill>
                  <a:srgbClr val="674d2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Сельдь в автомобиле: из советских не капризных времен прямиком к столу современных «приверед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60624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14080" y="530280"/>
            <a:ext cx="326556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1) Ломтик вареной колбасы сложить в виде веера. В нижней трети сколоть веер зубочисткой. Это крыло бабочки. Их потребуется четыре. </a:t>
            </a: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ва ломтика колбасы свернуть в две трубочки</a:t>
            </a:r>
            <a:r>
              <a:rPr b="0" i="1" lang="en-US" sz="1800" spc="-1" strike="noStrike">
                <a:solidFill>
                  <a:srgbClr val="674d2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756320" y="6092640"/>
            <a:ext cx="3930480" cy="36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2" descr="baboch-01"/>
          <p:cNvPicPr/>
          <p:nvPr/>
        </p:nvPicPr>
        <p:blipFill>
          <a:blip r:embed="rId1"/>
          <a:stretch/>
        </p:blipFill>
        <p:spPr>
          <a:xfrm>
            <a:off x="3851280" y="404640"/>
            <a:ext cx="4897440" cy="5616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627660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080" y="530280"/>
            <a:ext cx="3336840" cy="585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) Собрать фигуру следующим образом: к трубочке-туловищу с одной стороны прикрепить заготовку нижнего крыла, а затем сверху - заготовку верхнего кры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756320" y="5877000"/>
            <a:ext cx="3930480" cy="72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3" descr="baboch-02"/>
          <p:cNvPicPr/>
          <p:nvPr/>
        </p:nvPicPr>
        <p:blipFill>
          <a:blip r:embed="rId1"/>
          <a:stretch/>
        </p:blipFill>
        <p:spPr>
          <a:xfrm>
            <a:off x="3780000" y="404640"/>
            <a:ext cx="4968720" cy="532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14440" y="529920"/>
            <a:ext cx="2977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3) В такой же последовательности прикрепить заготовки крыльев с другой сторо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756320" y="4220640"/>
            <a:ext cx="3930480" cy="69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2" descr="baboch-03"/>
          <p:cNvPicPr/>
          <p:nvPr/>
        </p:nvPicPr>
        <p:blipFill>
          <a:blip r:embed="rId1"/>
          <a:stretch/>
        </p:blipFill>
        <p:spPr>
          <a:xfrm>
            <a:off x="3492360" y="404640"/>
            <a:ext cx="5256360" cy="5832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4440" y="529920"/>
            <a:ext cx="2689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4) Вторую трубочку нарезать в виде колечек. Из них сделать глаза, усики и элементы украшения крыль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56320" y="4436640"/>
            <a:ext cx="3930480" cy="48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2" descr="baboch-04"/>
          <p:cNvPicPr/>
          <p:nvPr/>
        </p:nvPicPr>
        <p:blipFill>
          <a:blip r:embed="rId1"/>
          <a:stretch/>
        </p:blipFill>
        <p:spPr>
          <a:xfrm>
            <a:off x="3348000" y="40464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14440" y="529920"/>
            <a:ext cx="247320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74d26"/>
                </a:solidFill>
                <a:latin typeface="Verdana"/>
              </a:rPr>
              <a:t>5) </a:t>
            </a:r>
            <a:r>
              <a:rPr b="1" i="1" lang="en-US" sz="2800" spc="-1" strike="noStrike">
                <a:solidFill>
                  <a:srgbClr val="674d26"/>
                </a:solidFill>
                <a:latin typeface="Verdana"/>
              </a:rPr>
              <a:t>Уложить на листья салата, украсить ягодами или кусочками овощ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756320" y="4292640"/>
            <a:ext cx="3930480" cy="62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2" descr="baboch-05"/>
          <p:cNvPicPr/>
          <p:nvPr/>
        </p:nvPicPr>
        <p:blipFill>
          <a:blip r:embed="rId1"/>
          <a:stretch/>
        </p:blipFill>
        <p:spPr>
          <a:xfrm>
            <a:off x="2916360" y="404640"/>
            <a:ext cx="5832360" cy="568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алитра вкусных красок салатного художник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иванием различных "красок" можно получать множество разных цветов и оттенков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Конечно, диапазон возможных кулинарных "красок" гораздо шире здесь указанных — включайте всё изумительное богатство своей необузданной творческой фантаз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56320" y="530280"/>
            <a:ext cx="3930480" cy="16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2" descr="palitra-kul-01"/>
          <p:cNvPicPr/>
          <p:nvPr/>
        </p:nvPicPr>
        <p:blipFill>
          <a:blip r:embed="rId1"/>
          <a:stretch/>
        </p:blipFill>
        <p:spPr>
          <a:xfrm>
            <a:off x="1763640" y="404640"/>
            <a:ext cx="5688000" cy="587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14440" y="529920"/>
            <a:ext cx="80899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красный — сладкий перец, помидоры, зерна граната, клюкв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ордовый — вареная свёкл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розовый — сок свеклы или клюкв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ранжевый — морковь, морковный сок, томат-па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желтый — яичный желток, сладкий перец, зерна кукурузы, окрашенный шафраном рис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зеленый — зелень, сладкий перец, оливки, зеленый горошек, огурцы, протертый через сито отварной шпинат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голубой — тертый яичный белок или рис, окрашенный соком сырой краснокочанной капуст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сиреневый — тертый яичный белок, окрашенный соком сырой свёклы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фиолетовый — краснокочанная капуста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белый — яичный белок, редька, редис, картофель, рис, сметана, творог;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черный — оливки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 rot="10800000">
            <a:off x="4756320" y="475920"/>
            <a:ext cx="3930480" cy="54000"/>
          </a:xfrm>
          <a:prstGeom prst="rect">
            <a:avLst/>
          </a:prstGeom>
          <a:noFill/>
          <a:ln w="0">
            <a:noFill/>
          </a:ln>
        </p:spPr>
        <p:txBody>
          <a:bodyPr lIns="182880" tIns="8280" bIns="-37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79700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8d3e"/>
                </a:solidFill>
                <a:latin typeface="Verdana"/>
              </a:rPr>
              <a:t>Заливное из курицы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4080" y="530280"/>
            <a:ext cx="3932280" cy="234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 rot="10800000">
            <a:off x="4756320" y="332280"/>
            <a:ext cx="3930480" cy="19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2" descr="zaliv-kurica-00"/>
          <p:cNvPicPr/>
          <p:nvPr/>
        </p:nvPicPr>
        <p:blipFill>
          <a:blip r:embed="rId1"/>
          <a:stretch/>
        </p:blipFill>
        <p:spPr>
          <a:xfrm>
            <a:off x="1692360" y="476280"/>
            <a:ext cx="6476760" cy="4676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764640"/>
            <a:ext cx="818352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Заливное из курицы, приготовленное в фигурных формочках, сверху слой майонеза с желатином, большое "сердце" из сладкого красного перца, маленькое зеленое "сердце" - из кожуры огурца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 формочки залить майонез с желатином, после его застывания - заливное из курицы. После застывания вынуть из формочек и украсить сверху вырезанными "сердцами"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Чтобы большое "сердце" лучше держалось на желе, перед наложением его нижнюю сторону можно немного подогреть на сухой сковороде до температуры 40-45 гр. С или смазать нижнюю сторону тепловатым желе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"Сердца" удобно вырезать высечкой или по бумажному трафарету.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3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68360" y="620280"/>
            <a:ext cx="3930480" cy="21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756320" y="530280"/>
            <a:ext cx="393048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seld-pod-shuboy7"/>
          <p:cNvPicPr/>
          <p:nvPr/>
        </p:nvPicPr>
        <p:blipFill>
          <a:blip r:embed="rId1"/>
          <a:stretch/>
        </p:blipFill>
        <p:spPr>
          <a:xfrm>
            <a:off x="447840" y="620640"/>
            <a:ext cx="8381880" cy="561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3280" y="1844640"/>
            <a:ext cx="8183520" cy="28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74d26"/>
                </a:solidFill>
                <a:latin typeface="Verdan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Сельдь под шубой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: б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людо это сравнительно молодое, с исторической точки зрения примечательно тем, что его ближайший родственник винегрет, не смотря на французское происхождение названия, один из немногих </a:t>
            </a:r>
            <a:r>
              <a:rPr b="1" i="1" lang="en-US" sz="2400" spc="-1" strike="noStrike" u="sng">
                <a:solidFill>
                  <a:srgbClr val="674d26"/>
                </a:solidFill>
                <a:uFillTx/>
                <a:latin typeface="Verdana"/>
              </a:rPr>
              <a:t>салатов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, включенных в традиционную русскую кухню.</a:t>
            </a:r>
            <a:r>
              <a:rPr b="1" lang="en-US" sz="2400" spc="-1" strike="noStrike">
                <a:solidFill>
                  <a:srgbClr val="674d26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Чтобы привлечь внимание к салату, ему дали особое название и тщательно подобрали ингредиенты.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Сельдь и картофель – классическая закуска для пролетариев, свекла – красное знамя революции, ШУБА – аббревиатура, расшифровывающаяся как «шовинизму и упадку – бойкот и анафема». 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Оформление салата под шубой    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674d26"/>
                </a:solidFill>
                <a:latin typeface="Verdana"/>
              </a:rPr>
              <a:t>фото 2,3,4,5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160" y="62755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seld-pod-shuboy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" descr="seld-pod-shuboy3"/>
          <p:cNvPicPr/>
          <p:nvPr/>
        </p:nvPicPr>
        <p:blipFill>
          <a:blip r:embed="rId2"/>
          <a:stretch/>
        </p:blipFill>
        <p:spPr>
          <a:xfrm>
            <a:off x="4932360" y="26028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seld-pod-shuboy4"/>
          <p:cNvPicPr/>
          <p:nvPr/>
        </p:nvPicPr>
        <p:blipFill>
          <a:blip r:embed="rId3"/>
          <a:stretch/>
        </p:blipFill>
        <p:spPr>
          <a:xfrm>
            <a:off x="324000" y="272880"/>
            <a:ext cx="3960720" cy="3132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Рецепт салата Селедка под шубой"/>
          <p:cNvPicPr/>
          <p:nvPr/>
        </p:nvPicPr>
        <p:blipFill>
          <a:blip r:embed="rId4"/>
          <a:stretch/>
        </p:blipFill>
        <p:spPr>
          <a:xfrm>
            <a:off x="4932360" y="3429000"/>
            <a:ext cx="388764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Дет</a:t>
            </a:r>
            <a:r>
              <a:rPr b="1" i="1" lang="ru-RU" sz="2400" spc="-1" strike="noStrike">
                <a:solidFill>
                  <a:srgbClr val="674d26"/>
                </a:solidFill>
                <a:latin typeface="Verdana"/>
              </a:rPr>
              <a:t>я</a:t>
            </a:r>
            <a:r>
              <a:rPr b="1" i="1" lang="en-US" sz="2400" spc="-1" strike="noStrike">
                <a:solidFill>
                  <a:srgbClr val="674d26"/>
                </a:solidFill>
                <a:latin typeface="Verdana"/>
              </a:rPr>
              <a:t>м этот салат можно предлагать после 2,5 лет, но только при условии, что майонез вы делаете сами. Его можно и заменить сметаной или классическим йогуртом. Ведь остроты сильной в классической селедке под шубой нет, ни яйцо, ни репчатый лук изначально в рецепт не входили, вкус блюда был «спокойным», нейтральным.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-360" y="6419880"/>
            <a:ext cx="889308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4" name="Picture 2" descr="seld-pod-shuboy1"/>
          <p:cNvPicPr/>
          <p:nvPr/>
        </p:nvPicPr>
        <p:blipFill>
          <a:blip r:embed="rId1"/>
          <a:stretch/>
        </p:blipFill>
        <p:spPr>
          <a:xfrm>
            <a:off x="395280" y="0"/>
            <a:ext cx="4253040" cy="3116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seld-pod-shuboy19"/>
          <p:cNvPicPr/>
          <p:nvPr/>
        </p:nvPicPr>
        <p:blipFill>
          <a:blip r:embed="rId2"/>
          <a:stretch/>
        </p:blipFill>
        <p:spPr>
          <a:xfrm>
            <a:off x="4716360" y="0"/>
            <a:ext cx="4016520" cy="3141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35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Для «базового» рецепта нам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понадобятся следующие продукты: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векла – 1 средний корнеплод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орков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картофель – 2 штучки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лук – половинка луковицы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сельдь – 1 рыбина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майонез (сметана, классический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йогурт); </a:t>
            </a:r>
            <a:br>
              <a:rPr sz="1800"/>
            </a:br>
            <a:r>
              <a:rPr b="1" i="1" lang="en-US" sz="1800" spc="-1" strike="noStrike">
                <a:solidFill>
                  <a:srgbClr val="674d26"/>
                </a:solidFill>
                <a:latin typeface="Verdana"/>
              </a:rPr>
              <a:t>Зелень для украшения</a:t>
            </a:r>
            <a:br>
              <a:rPr sz="1800"/>
            </a:br>
            <a:br>
              <a:rPr sz="22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634752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8" name="Picture 2" descr="seld-pod-shuboy6"/>
          <p:cNvPicPr/>
          <p:nvPr/>
        </p:nvPicPr>
        <p:blipFill>
          <a:blip r:embed="rId1"/>
          <a:stretch/>
        </p:blipFill>
        <p:spPr>
          <a:xfrm>
            <a:off x="5219640" y="404640"/>
            <a:ext cx="3413160" cy="3094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seld-pod-shuboy12"/>
          <p:cNvPicPr/>
          <p:nvPr/>
        </p:nvPicPr>
        <p:blipFill>
          <a:blip r:embed="rId2"/>
          <a:stretch/>
        </p:blipFill>
        <p:spPr>
          <a:xfrm>
            <a:off x="468360" y="364500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seld-pod-shuboy14"/>
          <p:cNvPicPr/>
          <p:nvPr/>
        </p:nvPicPr>
        <p:blipFill>
          <a:blip r:embed="rId3"/>
          <a:stretch/>
        </p:blipFill>
        <p:spPr>
          <a:xfrm>
            <a:off x="5219640" y="3691080"/>
            <a:ext cx="3456000" cy="2762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Можно менять очередность….</a:t>
            </a:r>
            <a:br>
              <a:rPr sz="2000"/>
            </a:b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А </a:t>
            </a: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так вкуснее! Маленькая импровизация – маленький собственный секрет простого блюда, которое может стать коронным</a:t>
            </a:r>
            <a:r>
              <a:rPr b="1" i="1" lang="ru-RU" sz="2000" spc="-1" strike="noStrike">
                <a:solidFill>
                  <a:srgbClr val="674d26"/>
                </a:solidFill>
                <a:latin typeface="Verdana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а дно салатницы выкладываем половину всего количества свеклы и распределяем ровным слоем. Смазываем майонезом или сметаной. Для этого очень удобно использовать кондитерский шприц с узкой насадкой, он позволяет более равномерно все распределить и слои тогда не деформируются. Следующий слой – картофель. Половина от общего количества. Промазываем майонезом.</a:t>
            </a:r>
            <a:br>
              <a:rPr sz="2000"/>
            </a:b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Выкладываем половину сельди с луком, майонез или сметану (йогурт). Далее - слой моркови. После этого выкладываем оставшиеся ингредиенты в такой очередности: картофель, селедка с луком, морковка и свекла. Не забываем промазывать каждый слой. Завершающий этап – поверх последнего слоя посыпаем салат свежей зеленью (петрушка, укроп, зеленый лук). 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0" y="6407280"/>
            <a:ext cx="9144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640720" cy="28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74d26"/>
                </a:solidFill>
                <a:latin typeface="Verdana"/>
              </a:rPr>
              <a:t>Но салат селедка под шубой есть и в вегетарианском варианте – море под шубой заменить яйцо (если вы добавляете его в свой вариант сельди под шубой) на авокадо (перед добавлением его в салат сбрызните кусочки лимонным соком), сельдь на морские водоросли, майонез соевый, дополнительным ингредиентом может стать свежее и кислое зеленое яблоко.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49440" y="6311880"/>
            <a:ext cx="849456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5" name="Picture 2" descr="seld-pod-shuboy101"/>
          <p:cNvPicPr/>
          <p:nvPr/>
        </p:nvPicPr>
        <p:blipFill>
          <a:blip r:embed="rId1"/>
          <a:stretch/>
        </p:blipFill>
        <p:spPr>
          <a:xfrm>
            <a:off x="1258920" y="2997360"/>
            <a:ext cx="6408720" cy="3536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3T14:06:29Z</dcterms:modified>
  <cp:revision>69</cp:revision>
  <dc:subject/>
  <dc:title>Немного из истории самого известного салата 20в и 21в. Любое блюдо можно сделать праздничным, если его оригинально со вкусом оформить и торжественно подать на красиво сервированный стол.   </dc:title>
</cp:coreProperties>
</file>