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723-5CBB-43A3-B3C9-D7547A19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9F9-756F-445D-9ADB-C39B9534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B48-CB3B-4F7B-98AD-BF329BCF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7CB-F1CB-4CFA-B173-EE013B39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957-7311-45F2-9623-CD25B32C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439-3CAD-47E6-AE00-D98E85E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95B-36D8-4417-98E2-C95E8B1A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826-4E8C-4E0C-AEB2-68A1238B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0EC-56BF-4253-9B6B-88CC0C6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D9D-C6B2-452E-BEAD-B2699E85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B02-BA28-455D-9824-5547368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133-C931-4C45-BFBE-AE938AD0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AF93-6120-40F8-AF44-9C38856EC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55640" y="59500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692360" y="1700280"/>
            <a:ext cx="655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орцевание на пластилине"</a:t>
            </a:r>
            <a:endParaRPr b="1" i="1" lang="en-US" sz="1800" spc="1" strike="noStrike">
              <a:ln w="2232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071960" y="4000680"/>
            <a:ext cx="37148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Кузнецова Ирина Виктор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46083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цевание начинайте с нижнего ря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ую следующую торцовочку  ставьте рядом с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айтесь размещать торцовочки плотно друг к другу, чтобы не оставалось промежу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435640" y="3284640"/>
            <a:ext cx="2989080" cy="324000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73" name="Picture 8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5435640" y="260280"/>
            <a:ext cx="23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2"/>
          <p:cNvSpPr/>
          <p:nvPr/>
        </p:nvSpPr>
        <p:spPr>
          <a:xfrm>
            <a:off x="-2721960" y="1895760"/>
            <a:ext cx="225792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1280" bIns="160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5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611280" y="476280"/>
            <a:ext cx="209556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3492360" y="549360"/>
            <a:ext cx="226404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Кактус в технике торцевание на пластилине"/>
          <p:cNvPicPr/>
          <p:nvPr/>
        </p:nvPicPr>
        <p:blipFill>
          <a:blip r:embed="rId3"/>
          <a:stretch/>
        </p:blipFill>
        <p:spPr>
          <a:xfrm>
            <a:off x="6156360" y="54936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Кактус в технике торцевание на пластилине"/>
          <p:cNvPicPr/>
          <p:nvPr/>
        </p:nvPicPr>
        <p:blipFill>
          <a:blip r:embed="rId4"/>
          <a:stretch/>
        </p:blipFill>
        <p:spPr>
          <a:xfrm>
            <a:off x="684360" y="364500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Кактус в технике торцевание на пластилине"/>
          <p:cNvPicPr/>
          <p:nvPr/>
        </p:nvPicPr>
        <p:blipFill>
          <a:blip r:embed="rId5"/>
          <a:stretch/>
        </p:blipFill>
        <p:spPr>
          <a:xfrm>
            <a:off x="3492360" y="3573360"/>
            <a:ext cx="230364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Кактус в технике торцевание на пластилине"/>
          <p:cNvPicPr/>
          <p:nvPr/>
        </p:nvPicPr>
        <p:blipFill>
          <a:blip r:embed="rId6"/>
          <a:stretch/>
        </p:blipFill>
        <p:spPr>
          <a:xfrm>
            <a:off x="6156360" y="3500280"/>
            <a:ext cx="23032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000080" y="928800"/>
            <a:ext cx="707220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ить технологию изготовления игрушек способом  торцевания на пластил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85840" y="185724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головы до ног в иголках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не ежик и не ел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214960" y="3143160"/>
            <a:ext cx="27860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2643120" cy="2928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643200" y="928800"/>
            <a:ext cx="235764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00040" y="4000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6500880" y="3929040"/>
            <a:ext cx="235728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6643800" y="928800"/>
            <a:ext cx="2071440" cy="27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6"/>
          <a:stretch/>
        </p:blipFill>
        <p:spPr>
          <a:xfrm>
            <a:off x="3643200" y="407196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какт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5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2428920" y="12142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ого чтобы выполнить игрушку в технике «торцевание на пластилине», необходима цветная гофрированная бумага, стержень или крючок, ножницы, пластили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99160" cy="36957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ылепи горшочек небольш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а(немного больше,чем напёрсток) и вылепи основу д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туса выбранной формы (круглой,вытянутой, приплюснут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Горшочек можно обмотать жгутиком,скрученным из полоски гофрированной бумаги или мож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отать её полос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фрированной бумаги,сложенной вдво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Кактус в технике торцевание на пластилине"/>
          <p:cNvPicPr/>
          <p:nvPr/>
        </p:nvPicPr>
        <p:blipFill>
          <a:blip r:embed="rId1"/>
          <a:stretch/>
        </p:blipFill>
        <p:spPr>
          <a:xfrm>
            <a:off x="4284720" y="620640"/>
            <a:ext cx="352728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Кактус в технике торцевание на пластилине"/>
          <p:cNvPicPr/>
          <p:nvPr/>
        </p:nvPicPr>
        <p:blipFill>
          <a:blip r:embed="rId2"/>
          <a:stretch/>
        </p:blipFill>
        <p:spPr>
          <a:xfrm>
            <a:off x="3924360" y="3500280"/>
            <a:ext cx="2448000" cy="241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3" descr="Кактус в технике торцевание на пластилине"/>
          <p:cNvPicPr/>
          <p:nvPr/>
        </p:nvPicPr>
        <p:blipFill>
          <a:blip r:embed="rId3"/>
          <a:stretch/>
        </p:blipFill>
        <p:spPr>
          <a:xfrm>
            <a:off x="6516720" y="3500280"/>
            <a:ext cx="216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j0210154[1]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j0210154[1]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rt_3_5_clip_image045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ru-RU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6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2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92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72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6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6840" y="620280"/>
            <a:ext cx="4691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у для кактуса нужно хорошо закрепить на горшочке,для этого можно взять половин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уб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ец стержня (тупой конец) поставьте на квадрати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ните квадрат и прокатайте стерж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пальц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ас получится цветная трубочка-торцовоч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5724360" y="404640"/>
            <a:ext cx="2873520" cy="258768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5724360" y="3357720"/>
            <a:ext cx="2874960" cy="2533320"/>
          </a:xfrm>
          <a:prstGeom prst="rect">
            <a:avLst/>
          </a:prstGeom>
          <a:ln w="507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15:40Z</dcterms:created>
  <dc:creator>Загородняя Е.Г</dc:creator>
  <dc:description/>
  <dc:language>en-US</dc:language>
  <cp:lastModifiedBy>Irina</cp:lastModifiedBy>
  <dcterms:modified xsi:type="dcterms:W3CDTF">2011-12-17T11:31:47Z</dcterms:modified>
  <cp:revision>17</cp:revision>
  <dc:subject/>
  <dc:title>Муниципальное общеобразовательное учреждение  Яркульская средняя общеобразовательная школа Купинского района</dc:title>
</cp:coreProperties>
</file>