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3FB-C2CA-4823-9550-04952EF9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1F9-1E6C-4D05-9AB7-5A19776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218-A9CE-4650-BD35-C6AF8F26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6C6-72EF-4D77-B5EF-ED1FD5E2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196-921F-4085-A450-5D1B528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841-AA14-47B0-9A06-6660CD83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5A5-9267-4285-8467-E44AAF5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740-5947-40B8-B89B-F440597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55F-8834-4086-9261-EE1AAE5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A4E-ED72-4D9E-8AE8-05D7994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C35-76B0-4CE3-8775-4F663AA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25E-B819-4D2D-9478-AC1F603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2AE-4292-407B-BC14-9CD571971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564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692360" y="1700280"/>
            <a:ext cx="655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рцевание на пластилине"</a:t>
            </a:r>
            <a:endParaRPr b="1" i="1" lang="en-US" sz="18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071960" y="4000680"/>
            <a:ext cx="37148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Кузнецова Ирина Викт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608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цевание начинайте с нижнего ря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ую следующую торцовочку  ставьте рядом с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айтесь размещать торцовочки плотно друг к другу, чтобы не оставалось промежу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435640" y="3284640"/>
            <a:ext cx="2989080" cy="3240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3" name="Picture 8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5435640" y="260280"/>
            <a:ext cx="23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2"/>
          <p:cNvSpPr/>
          <p:nvPr/>
        </p:nvSpPr>
        <p:spPr>
          <a:xfrm>
            <a:off x="-2721960" y="1895760"/>
            <a:ext cx="225792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1280" bIns="160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611280" y="476280"/>
            <a:ext cx="209556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492360" y="549360"/>
            <a:ext cx="226404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156360" y="54936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Кактус в технике торцевание на пластилине"/>
          <p:cNvPicPr/>
          <p:nvPr/>
        </p:nvPicPr>
        <p:blipFill>
          <a:blip r:embed="rId4"/>
          <a:stretch/>
        </p:blipFill>
        <p:spPr>
          <a:xfrm>
            <a:off x="684360" y="364500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Кактус в технике торцевание на пластилине"/>
          <p:cNvPicPr/>
          <p:nvPr/>
        </p:nvPicPr>
        <p:blipFill>
          <a:blip r:embed="rId5"/>
          <a:stretch/>
        </p:blipFill>
        <p:spPr>
          <a:xfrm>
            <a:off x="3492360" y="3573360"/>
            <a:ext cx="230364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Кактус в технике торцевание на пластилине"/>
          <p:cNvPicPr/>
          <p:nvPr/>
        </p:nvPicPr>
        <p:blipFill>
          <a:blip r:embed="rId6"/>
          <a:stretch/>
        </p:blipFill>
        <p:spPr>
          <a:xfrm>
            <a:off x="6156360" y="3500280"/>
            <a:ext cx="23032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00080" y="928800"/>
            <a:ext cx="70722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ить технологию изготовления игрушек способом  торцевания на пласти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85840" y="185724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головы до ног в иголках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не ежик и не е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214960" y="3143160"/>
            <a:ext cx="27860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643200" y="928800"/>
            <a:ext cx="23576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500880" y="3929040"/>
            <a:ext cx="235728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6643800" y="928800"/>
            <a:ext cx="2071440" cy="27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3643200" y="407196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акт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242892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ого чтобы выполнить игрушку в технике «торцевание на пластилине», необходима цветная гофрированная бумага, стержень или крючок, ножницы, пластили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99160" cy="36957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ылепи горшочек небольш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а(немного больше,чем напёрсток) и вылепи основу д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туса выбранной формы (круглой,вытянутой, приплюснут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Горшочек можно обмотать жгутиком,скрученным из полоски гофрированной бумаги или мож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отать её полос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фрированной бумаги,сложенной вдво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4284720" y="620640"/>
            <a:ext cx="352728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924360" y="3500280"/>
            <a:ext cx="2448000" cy="241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3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516720" y="350028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210154[1]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j0210154[1]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rt_3_5_clip_image045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ru-RU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2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2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72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6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у для кактуса нужно хорошо закрепить на горшочке,для этого можно взять половин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ец стержня (тупой конец) поставьте на квадрати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ните квадрат и прокатайте стерж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пальц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с получится цветная трубочка-торцовоч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2873520" cy="25876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5724360" y="3357720"/>
            <a:ext cx="2874960" cy="25333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15:40Z</dcterms:created>
  <dc:creator>Загородняя Е.Г</dc:creator>
  <dc:description/>
  <dc:language>en-US</dc:language>
  <cp:lastModifiedBy>Irina</cp:lastModifiedBy>
  <dcterms:modified xsi:type="dcterms:W3CDTF">2011-12-17T11:31:47Z</dcterms:modified>
  <cp:revision>17</cp:revision>
  <dc:subject/>
  <dc:title>Муниципальное общеобразовательное учреждение  Яркульская средняя общеобразовательная школа Купинского района</dc:title>
</cp:coreProperties>
</file>