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78C-3876-40E3-8603-88A8A9CE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BD2-0D2D-4679-9F26-58074DD2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8B88-6433-4F6A-824F-340929A8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747-677C-4811-A07D-802D4A5A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A8F4-0AF8-48F4-B3FE-E517D6E5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1DFA-D4C9-4F87-893C-3F902857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7436-3F47-4823-8B8D-F34BEF83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BC3A-D96C-40DF-94E9-5BCE531D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B8E7-941E-497A-B147-2DA1A65B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2AE4-A986-4B1C-B753-2A599FA3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5A99-2197-4180-BE8F-D5947259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3D1-3637-4F76-BCB2-1DBEC93D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C6E5-AAA9-4DB2-8CB9-BC030B26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783A-5F10-4D3E-8538-6E6228B1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9150-98C3-4496-A20A-92FEBC5C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43C1-2248-4564-A4EF-704F8ADF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DA12-B233-4BB6-9A1F-C5DE2CBE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1C9-DA45-4811-9623-FC511FF5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1B8-43D9-42A4-A4E9-F5B9ED65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57A-0CDC-4269-BC59-7211C65E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DDE4-0E6C-42EA-8090-8BFF88A0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D489-24F2-4105-8DB6-3EDA0DFD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AC0-B9FB-4E4D-A6A1-FAA5B65D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96A-AC68-464C-A0CE-7AFB8504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68C9-B4DF-4E09-800B-EBD656760F0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FCD2-A2E8-4536-B1AC-BD7F257F012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4c3aa"/>
                </a:solidFill>
                <a:latin typeface="Arial"/>
              </a:rPr>
              <a:t>Как настроить спутниковую антенну своими руками</a:t>
            </a:r>
            <a:endParaRPr b="0" lang="en-US" sz="60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2087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асстояние до препятствия можно найти по карте, используя масштаб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данном случае расстояние до препятствия </a:t>
            </a:r>
            <a:r>
              <a:rPr b="0" i="1" lang="ru-RU" sz="1400" spc="-1" strike="noStrike" u="sng">
                <a:solidFill>
                  <a:srgbClr val="ffffff"/>
                </a:solidFill>
                <a:uFillTx/>
                <a:latin typeface="Verdana"/>
              </a:rPr>
              <a:t>100 метров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а высота препятствия </a:t>
            </a:r>
            <a:r>
              <a:rPr b="0" i="1" lang="ru-RU" sz="1400" spc="-1" strike="noStrike" u="sng">
                <a:solidFill>
                  <a:srgbClr val="ffffff"/>
                </a:solidFill>
                <a:uFillTx/>
                <a:latin typeface="Verdana"/>
              </a:rPr>
              <a:t>18 метро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гол места рассчитан и равен 26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X –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аксимальная высота препятствия, которая не помешает прохождению сигнала при установке антенны на земл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Verdana"/>
              </a:rPr>
              <a:t>Решение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мем гипотенузу прямоугольного треугольника (направление на спутник) за 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.к. косинус острого угла прямоугольного треугольника есть отношение прилежащего катета к гипотенузе, то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5024160" y="1599840"/>
            <a:ext cx="3284280" cy="2189160"/>
          </a:xfrm>
          <a:prstGeom prst="rect">
            <a:avLst/>
          </a:prstGeom>
          <a:ln w="0">
            <a:noFill/>
          </a:ln>
        </p:spPr>
      </p:pic>
      <p:grpSp>
        <p:nvGrpSpPr>
          <p:cNvPr id="485" name=""/>
          <p:cNvGrpSpPr/>
          <p:nvPr/>
        </p:nvGrpSpPr>
        <p:grpSpPr>
          <a:xfrm>
            <a:off x="2050920" y="188640"/>
            <a:ext cx="4751280" cy="1873080"/>
            <a:chOff x="2050920" y="188640"/>
            <a:chExt cx="4751280" cy="1873080"/>
          </a:xfrm>
        </p:grpSpPr>
        <p:sp>
          <p:nvSpPr>
            <p:cNvPr id="486" name=""/>
            <p:cNvSpPr/>
            <p:nvPr/>
          </p:nvSpPr>
          <p:spPr>
            <a:xfrm flipH="1">
              <a:off x="2050920" y="1864800"/>
              <a:ext cx="475128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2050920" y="188640"/>
              <a:ext cx="4751280" cy="1675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70440" y="1568880"/>
              <a:ext cx="167760" cy="295560"/>
            </a:xfrm>
            <a:custGeom>
              <a:avLst/>
              <a:gdLst/>
              <a:ahLst/>
              <a:rect l="l" t="t" r="r" b="b"/>
              <a:pathLst>
                <a:path w="390" h="720">
                  <a:moveTo>
                    <a:pt x="390" y="0"/>
                  </a:moveTo>
                  <a:cubicBezTo>
                    <a:pt x="225" y="120"/>
                    <a:pt x="60" y="240"/>
                    <a:pt x="30" y="360"/>
                  </a:cubicBezTo>
                  <a:cubicBezTo>
                    <a:pt x="0" y="480"/>
                    <a:pt x="180" y="660"/>
                    <a:pt x="210" y="720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42560" y="1568880"/>
              <a:ext cx="1295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Verdana"/>
                </a:rPr>
                <a:t>угол мес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338560" y="1864800"/>
              <a:ext cx="27356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Verdana"/>
                </a:rPr>
                <a:t>расстояние до препятств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10560" y="681840"/>
              <a:ext cx="244800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ff00"/>
                  </a:solidFill>
                  <a:latin typeface="Verdana"/>
                </a:rPr>
                <a:t>направление на спутни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50920" y="189000"/>
              <a:ext cx="0" cy="167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1476360" y="90792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996840" y="5013360"/>
                <a:ext cx="12448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26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042920" y="5589720"/>
                <a:ext cx="1125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2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352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жно найти используя теорему Пифаго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936720" y="476280"/>
                <a:ext cx="11491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98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900000" y="1197000"/>
                <a:ext cx="12034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1,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900000" y="2255760"/>
                <a:ext cx="27352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6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37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87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0</m:t>
                            </m:r>
                          </m:e>
                        </m:rad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м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684360" y="36450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Вывод: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т.к.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X –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аксимальная высота препятствия, которая не помешает прохождению сигнала при установке антенны на земле на много больше высоты существующего препятствия, то оно не может вызвать помех для приема сигнала, и антенну можно устанавливать на любой удобной высо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Если препятствие мешает приему сигнала то антенну необходимо поднять выше или выбрать другое место для её установки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1280" y="420840"/>
            <a:ext cx="82296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4c3aa"/>
                </a:solidFill>
                <a:latin typeface="Arial"/>
              </a:rPr>
              <a:t>Программа расчёта азимута и угла места (</a:t>
            </a:r>
            <a:r>
              <a:rPr b="0" lang="en-US" sz="3200" spc="-1" strike="noStrike">
                <a:solidFill>
                  <a:srgbClr val="c4c3aa"/>
                </a:solidFill>
                <a:latin typeface="Arial"/>
              </a:rPr>
              <a:t>Turbo Pascal)</a:t>
            </a: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24000" y="1152360"/>
            <a:ext cx="8820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OGRAM ANTENNA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USES CRT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1,g2,V,F,A:REAL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,M,N,O,X,Z:INTEGER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EGIN CLRSCR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VVEDITE DOLGOTU SPUTNIKA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GRADUSY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L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MINUTY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M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1:=(L+(M/60))/57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VVEDITE DOLGOTU MESTA PRIEMA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GRADUSY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N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MINUTY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O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2:=(N+(O/60))/57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VVEDITE SHIROTU MESTA PRIEMA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GRADUSY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X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MINUTY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Z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:=(X+(Z/60))/57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:=ARCTAN((COS(g2-g1)*COS(V)-0.151)/SQRT(1-(COS(g2-g1)*COS(g2-g1)*COS(V)*COS(V)))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:=(3.16+ARCTAN((((SIN(g2-g1))/(COS(g2-g1))))/(SIN(V)))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UGOL MESTA: F=',F:10:2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AZIMUT: A=',A:10:2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F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A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ND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спользование данных формул и программы поможет Вам правильно установить спутниковую антенн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Проект разработали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еник 10 класса «А»  лицея №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околов Владисла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уководител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итель математик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ехова Галина Вячеславо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итель информатик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околова Татьяна Борисо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c3aa"/>
                </a:solidFill>
                <a:latin typeface="Arial"/>
              </a:rPr>
              <a:t>История спутникового телевидения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79280" y="1225440"/>
            <a:ext cx="87854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Впервые применять спутники для передачи телесигналов начали после первых запусков спутников связи. Перспективность его практического применения сразу показалось очевидной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В 1977 году был принят Международный план спутникового ТВ вещания. В нем были указаны позиции спутников на геостационарной орбите, частотные каналы, зоны обслуживания, уровни сигналов и прочие характеристики. План был рассчитан на то, что с помощью спутникового телевидения будут передаваться пять национальных программ в каждой стране, а о международном вещании не шло речи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Во время принятия этого плана технических средств для его реализации не было. Когда они появились, в большинстве развитых стран была создана наземная передающая сеть, обеспечивающая прием двух-четырех национальных программ. Потребности в дальнейшем развитии этой сети не было, поэтому не было смысла в плане для исключительно национального вещания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Примерно в это же время начал расти интерес к программам с узкой целевой аудиторией, например детей, домохозяек, любителей животных, музыки или спорта, рассчитанным на аудиторию нескольких стран. Наиболее подходящими для этого оказались именно спутниковые каналы в сочетании с многоканальными наземными кабелями распределительных сетей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Сначала пытались следить за несанкционированным перехватом информации, и это удавалось. Но постепенно ситуация изменилась из-за развития техники. Пришлось для предотвращения перехвата кодировать сигнал, что также использовали для платных каналов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Начали использовать многолучевые антенны для быстрого перенацеливания на телеспутники. В фокусе антенны помещались несколько входных блоков, благодаря чему была достигнута многолучевость. Такая модификация ухудшила прочие свойства антенны, вследствие чего подобные антенны используются для спутников, видных под небольшим углом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c3aa"/>
                </a:solidFill>
                <a:latin typeface="Arial"/>
              </a:rPr>
              <a:t>Выбор места установки спутниковой антенны</a:t>
            </a:r>
            <a:br>
              <a:rPr sz="3200"/>
            </a:b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выбора места установки антенны необходимо руководствоваться определенными правилами. Все спутники расположены на геостанционарной орбите в направлении с юго-востока по юго-запад. Соответственно Ваши окна должны выходить на юг или юго-запад, в противном случае спутниковая антенна устанавливается на крыше здания. Вам нужно будет проверить, есть ли какие-либо препятствия (чаще всего дома или деревья) на линии, соединяющей антенну и спутник. Для того, чтобы более точно определиться с местом установки нужно рассчитать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угол мест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азимут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Положение спутников над горизонтом"/>
          <p:cNvPicPr/>
          <p:nvPr/>
        </p:nvPicPr>
        <p:blipFill>
          <a:blip r:embed="rId1"/>
          <a:stretch/>
        </p:blipFill>
        <p:spPr>
          <a:xfrm>
            <a:off x="755640" y="3849840"/>
            <a:ext cx="3240000" cy="30081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спутник"/>
          <p:cNvPicPr/>
          <p:nvPr/>
        </p:nvPicPr>
        <p:blipFill>
          <a:blip r:embed="rId2"/>
          <a:stretch/>
        </p:blipFill>
        <p:spPr>
          <a:xfrm>
            <a:off x="4572000" y="4292640"/>
            <a:ext cx="4321080" cy="2076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Расчет угла мест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гол, на который отклоняется от горизонтали линия прямой видимости на спутник вычисляется по формуле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де 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- долгота спутника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- долгота места прием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v - широта места прием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900000" y="2492280"/>
                <a:ext cx="513576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0,15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-co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Расчет азимут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авление, указывающее на спутник в зависимости от расположения места приема рассчитывается по формуле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де 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- долгота спутник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- долгота места прием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v - широта места прием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900000" y="2492280"/>
                <a:ext cx="3816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Расчет угла места и азимута для Солнечногорска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268360" y="3141720"/>
                <a:ext cx="39592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0,15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-co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лнечногорск находится на 56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’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.ш. и 37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°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.д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утник находится на 36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.д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2637000"/>
            <a:ext cx="158436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Дано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36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37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v=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56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Най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F;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1280" y="42210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50920" y="25653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95640" y="250812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а) расчет угла мес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2340000" y="4076640"/>
                <a:ext cx="468144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7</m:t>
                                </m:r>
                                <m:r>
                                  <m:t xml:space="preserve">°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-36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6</m:t>
                                </m:r>
                                <m:r>
                                  <m:t xml:space="preserve">°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12'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-0,15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-co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7</m:t>
                                    </m:r>
                                    <m:r>
                                      <m:t xml:space="preserve">°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36</m:t>
                                    </m:r>
                                    <m:r>
                                      <m:t xml:space="preserve">°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6</m:t>
                                    </m:r>
                                    <m:r>
                                      <m:t xml:space="preserve">°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12'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998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6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-0,15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-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9996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3094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rct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4875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6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2268360" y="6524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б) расчет азимут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042920" y="692280"/>
                <a:ext cx="37450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900000" y="1641600"/>
                <a:ext cx="4465800" cy="33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tg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7</m:t>
                                </m:r>
                                <m:r>
                                  <m:t xml:space="preserve">°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-36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6</m:t>
                                </m:r>
                                <m:r>
                                  <m:t xml:space="preserve">°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'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75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290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0211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1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'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1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68360" y="5373720"/>
            <a:ext cx="83534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Отве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угол места(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F)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равен 26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азимут(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A)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равен 181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362800" cy="559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2" name=""/>
          <p:cNvSpPr/>
          <p:nvPr/>
        </p:nvSpPr>
        <p:spPr>
          <a:xfrm flipH="1">
            <a:off x="3419640" y="2349360"/>
            <a:ext cx="72720" cy="935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6920" y="6165720"/>
            <a:ext cx="10796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30040" y="5950080"/>
            <a:ext cx="37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авление антенны (азиму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92360" y="1125360"/>
            <a:ext cx="716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63640" y="6453360"/>
            <a:ext cx="7164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65680" y="623736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место установки антен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Возможные препятствия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На карте видно, что по направлению антенны есть препятствие – пятиэтажный дом (рис.1). Необходимо убедиться в том, что антенна будет направлена выше этого препятствия, в противном случае это может значительно ухудшить прием сигнал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/>
          <p:nvPr/>
        </p:nvSpPr>
        <p:spPr>
          <a:xfrm>
            <a:off x="2214720" y="6135840"/>
            <a:ext cx="4687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Verdana"/>
              </a:rPr>
              <a:t>Рис.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908000" y="2923920"/>
            <a:ext cx="5301000" cy="3121200"/>
            <a:chOff x="1908000" y="2923920"/>
            <a:chExt cx="5301000" cy="3121200"/>
          </a:xfrm>
        </p:grpSpPr>
        <p:sp>
          <p:nvSpPr>
            <p:cNvPr id="372" name=""/>
            <p:cNvSpPr/>
            <p:nvPr/>
          </p:nvSpPr>
          <p:spPr>
            <a:xfrm>
              <a:off x="6188040" y="4797360"/>
              <a:ext cx="1020960" cy="98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86520" y="5778360"/>
              <a:ext cx="1122480" cy="26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86520" y="5867280"/>
              <a:ext cx="112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86520" y="5956200"/>
              <a:ext cx="112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92880" y="4886280"/>
              <a:ext cx="81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92880" y="4975200"/>
              <a:ext cx="81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04160" y="515448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04160" y="524196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04160" y="533232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986440" y="4173480"/>
              <a:ext cx="1222560" cy="6238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05680" y="4440240"/>
              <a:ext cx="103320" cy="177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086520" y="4260960"/>
              <a:ext cx="11224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94400" y="4618080"/>
              <a:ext cx="7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23080" y="444024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15320" y="4351320"/>
              <a:ext cx="1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6188040" y="4176000"/>
              <a:ext cx="1017360" cy="1869120"/>
              <a:chOff x="6188040" y="4176000"/>
              <a:chExt cx="1017360" cy="1869120"/>
            </a:xfrm>
          </p:grpSpPr>
          <p:sp>
            <p:nvSpPr>
              <p:cNvPr id="388" name=""/>
              <p:cNvSpPr/>
              <p:nvPr/>
            </p:nvSpPr>
            <p:spPr>
              <a:xfrm>
                <a:off x="6188040" y="4797360"/>
                <a:ext cx="204840" cy="98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596280" y="5064480"/>
                <a:ext cx="408240" cy="35640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96280" y="5153760"/>
                <a:ext cx="40824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800760" y="5153760"/>
                <a:ext cx="0" cy="26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289920" y="5777640"/>
                <a:ext cx="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289920" y="5956200"/>
                <a:ext cx="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88040" y="5866920"/>
                <a:ext cx="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92160" y="5866920"/>
                <a:ext cx="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95920" y="586692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00760" y="586692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93680" y="595620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697800" y="595620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94400" y="577764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02640" y="595620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004880" y="586692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107120" y="595620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698520" y="577764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02640" y="577764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107120" y="577764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289920" y="4797360"/>
                <a:ext cx="360" cy="98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388560" y="5064480"/>
                <a:ext cx="81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388560" y="5421240"/>
                <a:ext cx="816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388560" y="5510520"/>
                <a:ext cx="816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388560" y="5599440"/>
                <a:ext cx="816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88560" y="5688000"/>
                <a:ext cx="816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92160" y="515376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92160" y="524304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92160" y="533196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56400" y="4529880"/>
                <a:ext cx="4503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289920" y="4708080"/>
                <a:ext cx="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494400" y="4618800"/>
                <a:ext cx="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596280" y="4618800"/>
                <a:ext cx="36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697800" y="4618800"/>
                <a:ext cx="36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800760" y="4618800"/>
                <a:ext cx="36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902640" y="4618800"/>
                <a:ext cx="36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004880" y="4618800"/>
                <a:ext cx="36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106400" y="4618800"/>
                <a:ext cx="36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6392160" y="4656600"/>
                <a:ext cx="360" cy="14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rot="1800000">
                <a:off x="6792120" y="4173480"/>
                <a:ext cx="109800" cy="44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99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>
                <a:off x="6494040" y="4351320"/>
                <a:ext cx="204120" cy="178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30320" y="4295520"/>
                <a:ext cx="64080" cy="5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 flipH="1">
              <a:off x="3436920" y="4440240"/>
              <a:ext cx="336384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3419640" y="2923920"/>
              <a:ext cx="3363840" cy="1515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68880" y="4173480"/>
              <a:ext cx="119160" cy="266760"/>
            </a:xfrm>
            <a:custGeom>
              <a:avLst/>
              <a:gdLst/>
              <a:ahLst/>
              <a:rect l="l" t="t" r="r" b="b"/>
              <a:pathLst>
                <a:path w="390" h="720">
                  <a:moveTo>
                    <a:pt x="390" y="0"/>
                  </a:moveTo>
                  <a:cubicBezTo>
                    <a:pt x="225" y="120"/>
                    <a:pt x="60" y="240"/>
                    <a:pt x="30" y="360"/>
                  </a:cubicBezTo>
                  <a:cubicBezTo>
                    <a:pt x="0" y="480"/>
                    <a:pt x="180" y="660"/>
                    <a:pt x="210" y="720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44960" y="4100400"/>
              <a:ext cx="124308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Verdana"/>
                </a:rPr>
                <a:t>угол мес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32040" y="4425840"/>
              <a:ext cx="19353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Verdana"/>
                </a:rPr>
                <a:t>расстояние до препятств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65840" y="3370320"/>
              <a:ext cx="1733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ff00"/>
                  </a:solidFill>
                  <a:latin typeface="Verdana"/>
                </a:rPr>
                <a:t>направление на спутни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36920" y="2924280"/>
              <a:ext cx="0" cy="151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08000" y="6045120"/>
              <a:ext cx="53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883120" y="4440240"/>
              <a:ext cx="1800" cy="1604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62480" y="5241960"/>
              <a:ext cx="1506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Verdana"/>
                </a:rPr>
                <a:t>высота расположе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1908000" y="3370320"/>
              <a:ext cx="1528920" cy="2674800"/>
              <a:chOff x="1908000" y="3370320"/>
              <a:chExt cx="1528920" cy="2674800"/>
            </a:xfrm>
          </p:grpSpPr>
          <p:sp>
            <p:nvSpPr>
              <p:cNvPr id="440" name=""/>
              <p:cNvSpPr/>
              <p:nvPr/>
            </p:nvSpPr>
            <p:spPr>
              <a:xfrm>
                <a:off x="1908000" y="3370320"/>
                <a:ext cx="1528920" cy="26748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2621520" y="3548520"/>
                <a:ext cx="611640" cy="267480"/>
                <a:chOff x="2621520" y="3548520"/>
                <a:chExt cx="611640" cy="2674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2621520" y="3548520"/>
                  <a:ext cx="61164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825280" y="354852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029040" y="354852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621520" y="3655440"/>
                  <a:ext cx="203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2621520" y="3994200"/>
                <a:ext cx="611640" cy="267480"/>
                <a:chOff x="2621520" y="3994200"/>
                <a:chExt cx="611640" cy="2674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2621520" y="3994200"/>
                  <a:ext cx="61164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825280" y="399420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029040" y="399420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621520" y="4101120"/>
                  <a:ext cx="203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2621520" y="4440240"/>
                <a:ext cx="611640" cy="267480"/>
                <a:chOff x="2621520" y="4440240"/>
                <a:chExt cx="611640" cy="26748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2621520" y="4440240"/>
                  <a:ext cx="61164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825280" y="444024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029040" y="444024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621520" y="4547160"/>
                  <a:ext cx="203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009880" y="3548520"/>
                <a:ext cx="407520" cy="267480"/>
                <a:chOff x="2009880" y="3548520"/>
                <a:chExt cx="407520" cy="2674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009880" y="3548520"/>
                  <a:ext cx="40752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213640" y="354852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2009880" y="4440240"/>
                <a:ext cx="407520" cy="267480"/>
                <a:chOff x="2009880" y="4440240"/>
                <a:chExt cx="407520" cy="26748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2009880" y="4440240"/>
                  <a:ext cx="40752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213640" y="444024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2009880" y="3994200"/>
                <a:ext cx="407520" cy="267480"/>
                <a:chOff x="2009880" y="3994200"/>
                <a:chExt cx="407520" cy="2674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2009880" y="3994200"/>
                  <a:ext cx="40752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213640" y="399420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1908000" y="5777640"/>
                <a:ext cx="1528920" cy="267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2621520" y="4885920"/>
                <a:ext cx="611640" cy="267480"/>
                <a:chOff x="2621520" y="4885920"/>
                <a:chExt cx="611640" cy="2674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2621520" y="4885920"/>
                  <a:ext cx="61164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825280" y="488592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029040" y="488592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621520" y="4992840"/>
                  <a:ext cx="203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2621520" y="5331960"/>
                <a:ext cx="611640" cy="267480"/>
                <a:chOff x="2621520" y="5331960"/>
                <a:chExt cx="611640" cy="2674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2621520" y="5331960"/>
                  <a:ext cx="61164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825280" y="533196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029040" y="533196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621520" y="5438880"/>
                  <a:ext cx="203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2009880" y="4885920"/>
                <a:ext cx="407520" cy="267480"/>
                <a:chOff x="2009880" y="4885920"/>
                <a:chExt cx="407520" cy="2674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2009880" y="4885920"/>
                  <a:ext cx="40752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213640" y="488592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2009880" y="5331960"/>
                <a:ext cx="407520" cy="267480"/>
                <a:chOff x="2009880" y="5331960"/>
                <a:chExt cx="407520" cy="2674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009880" y="5331960"/>
                  <a:ext cx="40752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213640" y="533196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2" name=""/>
              <p:cNvSpPr/>
              <p:nvPr/>
            </p:nvSpPr>
            <p:spPr>
              <a:xfrm>
                <a:off x="1908000" y="3370320"/>
                <a:ext cx="1528920" cy="88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5:45:00Z</dcterms:created>
  <dc:creator>Vlad</dc:creator>
  <dc:description/>
  <dc:language>en-US</dc:language>
  <cp:lastModifiedBy>Vlad</cp:lastModifiedBy>
  <dcterms:modified xsi:type="dcterms:W3CDTF">2008-01-14T18:02:51Z</dcterms:modified>
  <cp:revision>26</cp:revision>
  <dc:subject/>
  <dc:title>Как настроить спутниковую антенну своими руками.</dc:title>
</cp:coreProperties>
</file>