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586-EA2B-41AB-9639-67C51444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F0A-673B-4B55-A7C7-61B39C72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63D-BB11-48D3-AB99-E318F95A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92F-3FB6-4B0E-BC5D-7DCDD3E8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F119-4048-4187-97C0-CBA0CF0A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9FEA-574B-4D65-9C3D-3F1897F1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601-5769-4981-B170-C2E5446D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ED1B-FAC8-45C4-8D62-D8C680D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7E50-02BE-461A-8F73-561A915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EED4-FF22-45A0-BE2C-1A70F8A7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0ED3-B941-4938-8613-DD3CEC6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7FC-7FD7-446D-A42F-C7A41155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9A33-FC02-49DA-9932-4622FBD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3652-5CE4-41FB-990F-F5F56213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3624-E406-46DD-AC89-7224BAA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0CAB-4D9B-4E0C-BE68-57918F45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3A3C-F2CE-465A-B803-0A6E96C5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590-DFC0-47F3-B315-375E829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5A3-0F61-4605-8B0A-C7D9B7FC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58C-B72D-498B-976B-8AEB7EA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89D-3AD5-4783-85F1-480CC2BB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52E-4EA1-46BB-AED6-19A2204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F41-2579-4060-8AEC-80B7866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2BB-6A0E-48C9-AFE1-79DBE33D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6B4C-E085-45FC-BDFB-34297DBF920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61D-D017-4754-AB0D-DD3689DCD30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4c3aa"/>
                </a:solidFill>
                <a:latin typeface="Arial"/>
              </a:rPr>
              <a:t>Как настроить спутниковую антенну своими руками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08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сстояние до препятствия можно найти по карте, используя масштаб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данном случае расстояние до препятствия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100 метров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а высота препятствия </a:t>
            </a:r>
            <a:r>
              <a:rPr b="0" i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18 метр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гол места рассчитан и равен 26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X –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аксимальная высота препятствия, которая не помешает прохождению сигнала при установке антенны на земл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Решение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м гипотенузу прямоугольного треугольника (направление на спутник) за 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34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.к. косинус острого угла прямоугольного треугольника есть отношение прилежащего катета к гипотенузе, т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2050920" y="188640"/>
            <a:ext cx="4751280" cy="1873080"/>
            <a:chOff x="2050920" y="188640"/>
            <a:chExt cx="4751280" cy="1873080"/>
          </a:xfrm>
        </p:grpSpPr>
        <p:sp>
          <p:nvSpPr>
            <p:cNvPr id="486" name=""/>
            <p:cNvSpPr/>
            <p:nvPr/>
          </p:nvSpPr>
          <p:spPr>
            <a:xfrm flipH="1">
              <a:off x="2050920" y="1864800"/>
              <a:ext cx="475128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050920" y="188640"/>
              <a:ext cx="4751280" cy="1675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70440" y="1568880"/>
              <a:ext cx="167760" cy="295560"/>
            </a:xfrm>
            <a:custGeom>
              <a:avLst/>
              <a:gdLst/>
              <a:ahLst/>
              <a:rect l="l" t="t" r="r" b="b"/>
              <a:pathLst>
                <a:path w="390" h="720">
                  <a:moveTo>
                    <a:pt x="390" y="0"/>
                  </a:moveTo>
                  <a:cubicBezTo>
                    <a:pt x="225" y="120"/>
                    <a:pt x="60" y="240"/>
                    <a:pt x="30" y="360"/>
                  </a:cubicBezTo>
                  <a:cubicBezTo>
                    <a:pt x="0" y="480"/>
                    <a:pt x="180" y="660"/>
                    <a:pt x="210" y="72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2560" y="1568880"/>
              <a:ext cx="1295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</a:rPr>
                <a:t>угол мес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38560" y="1864800"/>
              <a:ext cx="27356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расстояние до препятств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10560" y="681840"/>
              <a:ext cx="24480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Verdana"/>
                </a:rPr>
                <a:t>направление на спут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50920" y="189000"/>
              <a:ext cx="0" cy="167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476360" y="9079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996840" y="5013360"/>
                <a:ext cx="1244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26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2920" y="5589720"/>
                <a:ext cx="1125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35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жно найти используя теорему Пифаг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936720" y="476280"/>
                <a:ext cx="11491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8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900000" y="1197000"/>
                <a:ext cx="1203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1,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00000" y="2255760"/>
                <a:ext cx="27352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37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м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684360" y="3645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Вывод: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т.к.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X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аксимальная высота препятствия, которая не помешает прохождению сигнала при установке антенны на земле на много больше высоты существующего препятствия, то оно не может вызвать помех для приема сигнала, и антенну можно устанавливать на любой удобной выс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Если препятствие мешает приему сигнала то антенну необходимо поднять выше или выбрать другое место для её установки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1280" y="420840"/>
            <a:ext cx="822960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c3aa"/>
                </a:solidFill>
                <a:latin typeface="Arial"/>
              </a:rPr>
              <a:t>Программа расчёта азимута и угла места (</a:t>
            </a:r>
            <a:r>
              <a:rPr b="0" lang="en-US" sz="3200" spc="-1" strike="noStrike">
                <a:solidFill>
                  <a:srgbClr val="c4c3aa"/>
                </a:solidFill>
                <a:latin typeface="Arial"/>
              </a:rPr>
              <a:t>Turbo Pascal)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4000" y="1152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GRAM ANTENNA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USES CR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1,g2,V,F,A:REAL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,M,N,O,X,Z:INTEGER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EGIN CLRSCR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DOLGOTU SPUTNIK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L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M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1:=(L+(M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DOLGOTU MESTA PRIEM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N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O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2:=(N+(O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VVEDITE SHIROTU MESTA PRIEMA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GRADUS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X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MINUTY'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Z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:=(X+(Z/60))/57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:=ARCTAN((COS(g2-g1)*COS(V)-0.151)/SQRT(1-(COS(g2-g1)*COS(g2-g1)*COS(V)*COS(V)))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:=(3.16+ARCTAN((((SIN(g2-g1))/(COS(g2-g1))))/(SIN(V)))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UGOL MESTA: F=',F:10:2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RITELN ('AZIMUT: A=',A:10:2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F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EADLN (A)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пользование данных формул и программы поможет Вам правильно установить спутниковую антенн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Проект разработали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еник 10 класса «А»  лицея №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колов Владисла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уководител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математи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ехова Галина Вячеслав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информати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колова Татьяна Борис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История спутникового телевидения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122544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первые применять спутники для передачи телесигналов начали после первых запусков спутников связи. Перспективность его практического применения сразу показалось очевидной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 1977 году был принят Международный план спутникового ТВ вещания. В нем были указаны позиции спутников на геостационарной орбите, частотные каналы, зоны обслуживания, уровни сигналов и прочие характеристики. План был рассчитан на то, что с помощью спутникового телевидения будут передаваться пять национальных программ в каждой стране, а о международном вещании не шло речи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Во время принятия этого плана технических средств для его реализации не было. Когда они появились, в большинстве развитых стран была создана наземная передающая сеть, обеспечивающая прием двух-четырех национальных программ. Потребности в дальнейшем развитии этой сети не было, поэтому не было смысла в плане для исключительно национального вещания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Примерно в это же время начал расти интерес к программам с узкой целевой аудиторией, например детей, домохозяек, любителей животных, музыки или спорта, рассчитанным на аудиторию нескольких стран. Наиболее подходящими для этого оказались именно спутниковые каналы в сочетании с многоканальными наземными кабелями распределительных сетей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Сначала пытались следить за несанкционированным перехватом информации, и это удавалось. Но постепенно ситуация изменилась из-за развития техники. Пришлось для предотвращения перехвата кодировать сигнал, что также использовали для платных каналов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Verdana"/>
              </a:rPr>
              <a:t>Начали использовать многолучевые антенны для быстрого перенацеливания на телеспутники. В фокусе антенны помещались несколько входных блоков, благодаря чему была достигнута многолучевость. Такая модификация ухудшила прочие свойства антенны, вследствие чего подобные антенны используются для спутников, видных под небольшим углом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c3aa"/>
                </a:solidFill>
                <a:latin typeface="Arial"/>
              </a:rPr>
              <a:t>Выбор места установки спутниковой антенны</a:t>
            </a:r>
            <a:br>
              <a:rPr sz="3200"/>
            </a:b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выбора места установки антенны необходимо руководствоваться определенными правилами. Все спутники расположены на геостанционарной орбите в направлении с юго-востока по юго-запад. Соответственно Ваши окна должны выходить на юг или юго-запад, в противном случае спутниковая антенна устанавливается на крыше здания. Вам нужно будет проверить, есть ли какие-либо препятствия (чаще всего дома или деревья) на линии, соединяющей антенну и спутник. Для того, чтобы более точно определиться с местом установки нужно рассчитать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гол мест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азимут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Положение спутников над горизонтом"/>
          <p:cNvPicPr/>
          <p:nvPr/>
        </p:nvPicPr>
        <p:blipFill>
          <a:blip r:embed="rId1"/>
          <a:stretch/>
        </p:blipFill>
        <p:spPr>
          <a:xfrm>
            <a:off x="755640" y="3849840"/>
            <a:ext cx="3240000" cy="30081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спутник"/>
          <p:cNvPicPr/>
          <p:nvPr/>
        </p:nvPicPr>
        <p:blipFill>
          <a:blip r:embed="rId2"/>
          <a:stretch/>
        </p:blipFill>
        <p:spPr>
          <a:xfrm>
            <a:off x="4572000" y="4292640"/>
            <a:ext cx="432108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асчет угла мес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гол, на который отклоняется от горизонтали линия прямой видимости на спутник вычисляется по формул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спутник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места прием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v - широта места прие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900000" y="2492280"/>
                <a:ext cx="51357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,15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асчет азиму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авление, указывающее на спутник в зависимости от расположения места приема рассчитывается по формуле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спутник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долгота места приема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v - широта места прие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00000" y="2492280"/>
                <a:ext cx="3816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Расчет угла места и азимута для Солнечногорск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268360" y="3141720"/>
                <a:ext cx="3959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0,15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горск находится на 5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’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.ш. и 37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.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утник находится на 3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.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2637000"/>
            <a:ext cx="15843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ано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36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37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v=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56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Най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;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4221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0920" y="25653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250812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а) расчет угла мес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2340000" y="4076640"/>
                <a:ext cx="468144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36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2'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0,15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-co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6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6</m:t>
                                    </m:r>
                                    <m:r>
                                      <m:t xml:space="preserve">°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2'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98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6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0,15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9996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3094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4875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2268360" y="652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б) расчет азимут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042920" y="692280"/>
                <a:ext cx="37450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900000" y="1641600"/>
                <a:ext cx="4465800" cy="33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tg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36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  <m:r>
                                  <m:t xml:space="preserve">°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'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75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290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021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'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68360" y="5373720"/>
            <a:ext cx="8353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гол места(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F)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равен 26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зимут(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A)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равен 18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°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362800" cy="559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2" name=""/>
          <p:cNvSpPr/>
          <p:nvPr/>
        </p:nvSpPr>
        <p:spPr>
          <a:xfrm flipH="1">
            <a:off x="3419640" y="2349360"/>
            <a:ext cx="72720" cy="93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616572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30040" y="5950080"/>
            <a:ext cx="37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авление антенны (азиму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92360" y="1125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63640" y="645336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65680" y="623736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место установки антен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Возможные препятств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 карте видно, что по направлению антенны есть препятствие – пятиэтажный дом (рис.1). Необходимо убедиться в том, что антенна будет направлена выше этого препятствия, в противном случае это может значительно ухудшить прием сигнал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2214720" y="6135840"/>
            <a:ext cx="4687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Рис.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908000" y="2923920"/>
            <a:ext cx="5301000" cy="3121200"/>
            <a:chOff x="1908000" y="2923920"/>
            <a:chExt cx="5301000" cy="3121200"/>
          </a:xfrm>
        </p:grpSpPr>
        <p:sp>
          <p:nvSpPr>
            <p:cNvPr id="372" name=""/>
            <p:cNvSpPr/>
            <p:nvPr/>
          </p:nvSpPr>
          <p:spPr>
            <a:xfrm>
              <a:off x="6188040" y="4797360"/>
              <a:ext cx="1020960" cy="98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86520" y="5778360"/>
              <a:ext cx="112248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86520" y="586728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86520" y="595620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92880" y="488628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92880" y="4975200"/>
              <a:ext cx="81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04160" y="51544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4160" y="524196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4160" y="53323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986440" y="4173480"/>
              <a:ext cx="1222560" cy="6238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05680" y="4440240"/>
              <a:ext cx="103320" cy="17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86520" y="4260960"/>
              <a:ext cx="1122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94400" y="461808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23080" y="4440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15320" y="435132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188040" y="4176000"/>
              <a:ext cx="1017360" cy="1869120"/>
              <a:chOff x="6188040" y="4176000"/>
              <a:chExt cx="1017360" cy="1869120"/>
            </a:xfrm>
          </p:grpSpPr>
          <p:sp>
            <p:nvSpPr>
              <p:cNvPr id="388" name=""/>
              <p:cNvSpPr/>
              <p:nvPr/>
            </p:nvSpPr>
            <p:spPr>
              <a:xfrm>
                <a:off x="6188040" y="4797360"/>
                <a:ext cx="204840" cy="98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96280" y="5064480"/>
                <a:ext cx="408240" cy="35640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96280" y="5153760"/>
                <a:ext cx="4082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00760" y="5153760"/>
                <a:ext cx="0" cy="26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89920" y="577764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89920" y="595620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88040" y="586692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92160" y="586692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9592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0076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368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9780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9440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0264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04880" y="586692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107120" y="595620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9852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0264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07120" y="5777640"/>
                <a:ext cx="3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89920" y="4797360"/>
                <a:ext cx="360" cy="9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8560" y="5064480"/>
                <a:ext cx="81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88560" y="542124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88560" y="551052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388560" y="559944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88560" y="5688000"/>
                <a:ext cx="816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92160" y="51537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92160" y="524304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92160" y="5331960"/>
                <a:ext cx="20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56400" y="4529880"/>
                <a:ext cx="450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89920" y="4708080"/>
                <a:ext cx="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94400" y="4618800"/>
                <a:ext cx="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9628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9780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0076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90264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0488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06400" y="4618800"/>
                <a:ext cx="360" cy="17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6392160" y="4656600"/>
                <a:ext cx="360" cy="14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rot="1800000">
                <a:off x="6792120" y="4173480"/>
                <a:ext cx="109800" cy="44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494040" y="4351320"/>
                <a:ext cx="204120" cy="178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30320" y="4295520"/>
                <a:ext cx="64080" cy="55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H="1">
              <a:off x="3436920" y="4440240"/>
              <a:ext cx="336384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3419640" y="2923920"/>
              <a:ext cx="3363840" cy="1515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68880" y="4173480"/>
              <a:ext cx="119160" cy="266760"/>
            </a:xfrm>
            <a:custGeom>
              <a:avLst/>
              <a:gdLst/>
              <a:ahLst/>
              <a:rect l="l" t="t" r="r" b="b"/>
              <a:pathLst>
                <a:path w="390" h="720">
                  <a:moveTo>
                    <a:pt x="390" y="0"/>
                  </a:moveTo>
                  <a:cubicBezTo>
                    <a:pt x="225" y="120"/>
                    <a:pt x="60" y="240"/>
                    <a:pt x="30" y="360"/>
                  </a:cubicBezTo>
                  <a:cubicBezTo>
                    <a:pt x="0" y="480"/>
                    <a:pt x="180" y="660"/>
                    <a:pt x="210" y="720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44960" y="4100400"/>
              <a:ext cx="1243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</a:rPr>
                <a:t>угол мес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32040" y="4425840"/>
              <a:ext cx="1935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расстояние до препятств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5840" y="3370320"/>
              <a:ext cx="1733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Verdana"/>
                </a:rPr>
                <a:t>направление на спут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36920" y="2924280"/>
              <a:ext cx="0" cy="151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8000" y="6045120"/>
              <a:ext cx="53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83120" y="4440240"/>
              <a:ext cx="1800" cy="1604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62480" y="5241960"/>
              <a:ext cx="1506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Verdana"/>
                </a:rPr>
                <a:t>высота располож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1908000" y="3370320"/>
              <a:ext cx="1528920" cy="2674800"/>
              <a:chOff x="1908000" y="3370320"/>
              <a:chExt cx="1528920" cy="2674800"/>
            </a:xfrm>
          </p:grpSpPr>
          <p:sp>
            <p:nvSpPr>
              <p:cNvPr id="440" name=""/>
              <p:cNvSpPr/>
              <p:nvPr/>
            </p:nvSpPr>
            <p:spPr>
              <a:xfrm>
                <a:off x="1908000" y="3370320"/>
                <a:ext cx="1528920" cy="2674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2621520" y="3548520"/>
                <a:ext cx="611640" cy="267480"/>
                <a:chOff x="2621520" y="3548520"/>
                <a:chExt cx="611640" cy="2674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2621520" y="354852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82528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02904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621520" y="365544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621520" y="3994200"/>
                <a:ext cx="611640" cy="267480"/>
                <a:chOff x="2621520" y="3994200"/>
                <a:chExt cx="61164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621520" y="399420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82528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2904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621520" y="410112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621520" y="4440240"/>
                <a:ext cx="611640" cy="267480"/>
                <a:chOff x="2621520" y="4440240"/>
                <a:chExt cx="611640" cy="267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621520" y="444024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82528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2904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621520" y="454716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009880" y="3548520"/>
                <a:ext cx="407520" cy="267480"/>
                <a:chOff x="2009880" y="3548520"/>
                <a:chExt cx="407520" cy="267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009880" y="354852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213640" y="35485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009880" y="4440240"/>
                <a:ext cx="407520" cy="267480"/>
                <a:chOff x="2009880" y="4440240"/>
                <a:chExt cx="407520" cy="2674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009880" y="444024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213640" y="444024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009880" y="3994200"/>
                <a:ext cx="407520" cy="267480"/>
                <a:chOff x="2009880" y="3994200"/>
                <a:chExt cx="407520" cy="2674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009880" y="399420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213640" y="399420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08000" y="5777640"/>
                <a:ext cx="1528920" cy="267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2621520" y="4885920"/>
                <a:ext cx="611640" cy="267480"/>
                <a:chOff x="2621520" y="4885920"/>
                <a:chExt cx="611640" cy="267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2621520" y="488592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82528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02904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21520" y="499284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621520" y="5331960"/>
                <a:ext cx="611640" cy="267480"/>
                <a:chOff x="2621520" y="5331960"/>
                <a:chExt cx="611640" cy="2674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621520" y="5331960"/>
                  <a:ext cx="61164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82528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02904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21520" y="5438880"/>
                  <a:ext cx="203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009880" y="4885920"/>
                <a:ext cx="407520" cy="267480"/>
                <a:chOff x="2009880" y="4885920"/>
                <a:chExt cx="407520" cy="2674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009880" y="488592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13640" y="488592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009880" y="5331960"/>
                <a:ext cx="407520" cy="267480"/>
                <a:chOff x="2009880" y="5331960"/>
                <a:chExt cx="407520" cy="2674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009880" y="5331960"/>
                  <a:ext cx="407520" cy="267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213640" y="5331960"/>
                  <a:ext cx="360" cy="267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1908000" y="3370320"/>
                <a:ext cx="1528920" cy="88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45:00Z</dcterms:created>
  <dc:creator>Vlad</dc:creator>
  <dc:description/>
  <dc:language>en-US</dc:language>
  <cp:lastModifiedBy>Vlad</cp:lastModifiedBy>
  <dcterms:modified xsi:type="dcterms:W3CDTF">2008-01-14T18:02:51Z</dcterms:modified>
  <cp:revision>26</cp:revision>
  <dc:subject/>
  <dc:title>Как настроить спутниковую антенну своими руками.</dc:title>
</cp:coreProperties>
</file>