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4E2-74BD-4F80-866B-31622EB9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50E-AFD3-44B2-8460-49A73ABA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A5F-1340-48D0-A3AE-B479B11B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C84-7618-4BAC-8A22-6CD2B839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8D0-9F0E-4EE8-A015-D230DEE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899F-8E9B-417E-A110-A7528F67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D682-D950-459F-8DC6-6BDB5E0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016-191B-4966-BDC2-CC95F60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1720-A340-4468-97A0-8196606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9EF7-8D5F-4A68-BCE6-8B55AEB4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72C0-0069-4559-9A41-BA24B17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E1A-0C1F-4C82-A3BE-7CC6A11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3DF7-3AEA-4836-8866-8661FAF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EBB0-1883-40B6-91A6-54F0F85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77D-A6BF-4AA4-9569-6234FE5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D70B-2639-45C6-BBA3-F24A554A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C66-EDFB-4014-8ADD-2E483442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11B-2F16-429D-B843-60A2B322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C55-FBBB-4118-826B-1AAA3EB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B44-C2D5-46A1-BE62-A68B851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B6D-7FC0-4EDC-BFAA-38B92E5A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BB6-1DCB-4C66-9C99-FDE736C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D9A-3C8C-47BE-9196-582F7F8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12A-C79C-4479-A789-0F0926A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0920-D214-4647-A339-AC7611A125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52A-8B44-4FB5-8616-04FE6D60BE0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c3aa"/>
                </a:solidFill>
                <a:latin typeface="Arial"/>
              </a:rPr>
              <a:t>Как настроить спутниковую антенну своими руками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08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сстояние до препятствия можно найти по карте, используя масштаб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данном случае расстояние до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00 мет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а высота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8 метр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гол места рассчитан и равен 26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Решение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м гипотенузу прямоугольного треугольника (направление на спутник) за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.к. косинус острого угла прямоугольного треугольника есть отношение прилежащего катета к гипотенузе, т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2050920" y="188640"/>
            <a:ext cx="4751280" cy="1873080"/>
            <a:chOff x="2050920" y="188640"/>
            <a:chExt cx="4751280" cy="1873080"/>
          </a:xfrm>
        </p:grpSpPr>
        <p:sp>
          <p:nvSpPr>
            <p:cNvPr id="486" name=""/>
            <p:cNvSpPr/>
            <p:nvPr/>
          </p:nvSpPr>
          <p:spPr>
            <a:xfrm flipH="1">
              <a:off x="2050920" y="1864800"/>
              <a:ext cx="475128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050920" y="188640"/>
              <a:ext cx="4751280" cy="1675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70440" y="1568880"/>
              <a:ext cx="167760" cy="2955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2560" y="1568880"/>
              <a:ext cx="1295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38560" y="1864800"/>
              <a:ext cx="2735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0560" y="681840"/>
              <a:ext cx="24480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50920" y="189000"/>
              <a:ext cx="0" cy="167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476360" y="9079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996840" y="5013360"/>
                <a:ext cx="1244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2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2920" y="5589720"/>
                <a:ext cx="1125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35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жно найти используя теорему Пифаг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936720" y="476280"/>
                <a:ext cx="11491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900000" y="1197000"/>
                <a:ext cx="1203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1,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00000" y="2255760"/>
                <a:ext cx="2735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37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м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684360" y="3645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.к.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 на много больше высоты существующего препятствия, то оно не может вызвать помех для приема сигнала, и антенну можно устанавливать на любой удобной выс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Если препятствие мешает приему сигнала то антенну необходимо поднять выше или выбрать другое место для её установки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1280" y="42084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c3aa"/>
                </a:solidFill>
                <a:latin typeface="Arial"/>
              </a:rPr>
              <a:t>Программа расчёта азимута и угла места (</a:t>
            </a:r>
            <a:r>
              <a:rPr b="0" lang="en-US" sz="3200" spc="-1" strike="noStrike">
                <a:solidFill>
                  <a:srgbClr val="c4c3aa"/>
                </a:solidFill>
                <a:latin typeface="Arial"/>
              </a:rPr>
              <a:t>Turbo Pascal)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4000" y="1152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GRAM ANTENNA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SES CR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,g2,V,F,A:REAL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,M,N,O,X,Z:INTEGE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EGIN CLRSC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SPUTNIK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L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M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:=(L+(M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N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O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2:=(N+(O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SHIR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X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Z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:=(X+(Z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:=ARCTAN((COS(g2-g1)*COS(V)-0.151)/SQRT(1-(COS(g2-g1)*COS(g2-g1)*COS(V)*COS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:=(3.16+ARCTAN((((SIN(g2-g1))/(COS(g2-g1))))/(SIN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UGOL MESTA: F=',F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AZIMUT: A=',A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F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A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пользование данных формул и программы поможет Вам правильно установить спутниковую антен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роект разработали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10 класса «А»  лицея №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 Владисл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водите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мате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ехова Галина Вячеслав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нфор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а Татьяна Борис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История спутникового телевидения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22544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первые применять спутники для передачи телесигналов начали после первых запусков спутников связи. Перспективность его практического применения сразу показалось очевидно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 1977 году был принят Международный план спутникового ТВ вещания. В нем были указаны позиции спутников на геостационарной орбите, частотные каналы, зоны обслуживания, уровни сигналов и прочие характеристики. План был рассчитан на то, что с помощью спутникового телевидения будут передаваться пять национальных программ в каждой стране, а о международном вещании не шло речи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о время принятия этого плана технических средств для его реализации не было. Когда они появились, в большинстве развитых стран была создана наземная передающая сеть, обеспечивающая прием двух-четырех национальных программ. Потребности в дальнейшем развитии этой сети не было, поэтому не было смысла в плане для исключительно национального вещания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Примерно в это же время начал расти интерес к программам с узкой целевой аудиторией, например детей, домохозяек, любителей животных, музыки или спорта, рассчитанным на аудиторию нескольких стран. Наиболее подходящими для этого оказались именно спутниковые каналы в сочетании с многоканальными наземными кабелями распределительных сете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Сначала пытались следить за несанкционированным перехватом информации, и это удавалось. Но постепенно ситуация изменилась из-за развития техники. Пришлось для предотвращения перехвата кодировать сигнал, что также использовали для платных каналов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Начали использовать многолучевые антенны для быстрого перенацеливания на телеспутники. В фокусе антенны помещались несколько входных блоков, благодаря чему была достигнута многолучевость. Такая модификация ухудшила прочие свойства антенны, вследствие чего подобные антенны используются для спутников, видных под небольшим углом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c3aa"/>
                </a:solidFill>
                <a:latin typeface="Arial"/>
              </a:rPr>
              <a:t>Выбор места установки спутниковой антенны</a:t>
            </a:r>
            <a:br>
              <a:rPr sz="3200"/>
            </a:b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выбора места установки антенны необходимо руководствоваться определенными правилами. Все спутники расположены на геостанционарной орбите в направлении с юго-востока по юго-запад. Соответственно Ваши окна должны выходить на юг или юго-запад, в противном случае спутниковая антенна устанавливается на крыше здания. Вам нужно будет проверить, есть ли какие-либо препятствия (чаще всего дома или деревья) на линии, соединяющей антенну и спутник. Для того, чтобы более точно определиться с местом установки нужно рассчитать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гол мест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азимут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Положение спутников над горизонтом"/>
          <p:cNvPicPr/>
          <p:nvPr/>
        </p:nvPicPr>
        <p:blipFill>
          <a:blip r:embed="rId1"/>
          <a:stretch/>
        </p:blipFill>
        <p:spPr>
          <a:xfrm>
            <a:off x="755640" y="3849840"/>
            <a:ext cx="3240000" cy="3008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спутник"/>
          <p:cNvPicPr/>
          <p:nvPr/>
        </p:nvPicPr>
        <p:blipFill>
          <a:blip r:embed="rId2"/>
          <a:stretch/>
        </p:blipFill>
        <p:spPr>
          <a:xfrm>
            <a:off x="4572000" y="4292640"/>
            <a:ext cx="43210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угла мес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гол, на который отклоняется от горизонтали линия прямой видимости на спутник вычисля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900000" y="2492280"/>
                <a:ext cx="51357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азиму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, указывающее на спутник в зависимости от расположения места приема рассчитыва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00000" y="2492280"/>
                <a:ext cx="3816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Расчет угла места и азимута для Солнечногорск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268360" y="3141720"/>
                <a:ext cx="3959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горск находится на 5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’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.ш. и 37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утник находится на 3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637000"/>
            <a:ext cx="15843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ано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36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37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v=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5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й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;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4221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0920" y="25653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250812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а) расчет угла мес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340000" y="4076640"/>
                <a:ext cx="4681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2'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2'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9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9996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3094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4875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2268360" y="652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б) расчет азимут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042920" y="692280"/>
                <a:ext cx="37450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900000" y="1641600"/>
                <a:ext cx="446580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g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'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7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29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21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68360" y="5373720"/>
            <a:ext cx="8353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гол места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2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зимут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A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18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362800" cy="559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2" name=""/>
          <p:cNvSpPr/>
          <p:nvPr/>
        </p:nvSpPr>
        <p:spPr>
          <a:xfrm flipH="1">
            <a:off x="3419640" y="2349360"/>
            <a:ext cx="72720" cy="93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616572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30040" y="5950080"/>
            <a:ext cx="37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 антенны (азиму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1125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63640" y="645336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65680" y="62373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место установки антен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Возможные препятств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 карте видно, что по направлению антенны есть препятствие – пятиэтажный дом (рис.1). Необходимо убедиться в том, что антенна будет направлена выше этого препятствия, в противном случае это может значительно ухудшить прием сигна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2214720" y="6135840"/>
            <a:ext cx="468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Рис.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908000" y="2923920"/>
            <a:ext cx="5301000" cy="3121200"/>
            <a:chOff x="1908000" y="2923920"/>
            <a:chExt cx="5301000" cy="3121200"/>
          </a:xfrm>
        </p:grpSpPr>
        <p:sp>
          <p:nvSpPr>
            <p:cNvPr id="372" name=""/>
            <p:cNvSpPr/>
            <p:nvPr/>
          </p:nvSpPr>
          <p:spPr>
            <a:xfrm>
              <a:off x="6188040" y="4797360"/>
              <a:ext cx="1020960" cy="98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6520" y="5778360"/>
              <a:ext cx="112248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6520" y="586728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6520" y="595620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2880" y="488628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92880" y="4975200"/>
              <a:ext cx="81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04160" y="51544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4160" y="524196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4160" y="53323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986440" y="4173480"/>
              <a:ext cx="1222560" cy="623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05680" y="4440240"/>
              <a:ext cx="103320" cy="17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86520" y="4260960"/>
              <a:ext cx="1122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94400" y="46180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23080" y="4440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15320" y="435132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188040" y="4176000"/>
              <a:ext cx="1017360" cy="1869120"/>
              <a:chOff x="6188040" y="4176000"/>
              <a:chExt cx="1017360" cy="1869120"/>
            </a:xfrm>
          </p:grpSpPr>
          <p:sp>
            <p:nvSpPr>
              <p:cNvPr id="388" name=""/>
              <p:cNvSpPr/>
              <p:nvPr/>
            </p:nvSpPr>
            <p:spPr>
              <a:xfrm>
                <a:off x="6188040" y="4797360"/>
                <a:ext cx="204840" cy="98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96280" y="5064480"/>
                <a:ext cx="408240" cy="35640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96280" y="5153760"/>
                <a:ext cx="4082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00760" y="5153760"/>
                <a:ext cx="0" cy="26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89920" y="577764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9920" y="595620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8804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9216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592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0076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368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9780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9440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0264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0488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10712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85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0264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071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89920" y="4797360"/>
                <a:ext cx="360" cy="9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8560" y="5064480"/>
                <a:ext cx="81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88560" y="54212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88560" y="551052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88560" y="55994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88560" y="568800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92160" y="51537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92160" y="524304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92160" y="53319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56400" y="4529880"/>
                <a:ext cx="450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9920" y="470808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94400" y="4618800"/>
                <a:ext cx="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962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978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0076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0264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048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064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392160" y="4656600"/>
                <a:ext cx="36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800000">
                <a:off x="6792120" y="4173480"/>
                <a:ext cx="109800" cy="44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494040" y="4351320"/>
                <a:ext cx="204120" cy="178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30320" y="4295520"/>
                <a:ext cx="64080" cy="5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3436920" y="4440240"/>
              <a:ext cx="33638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3419640" y="2923920"/>
              <a:ext cx="3363840" cy="151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4173480"/>
              <a:ext cx="119160" cy="2667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4960" y="4100400"/>
              <a:ext cx="1243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32040" y="4425840"/>
              <a:ext cx="1935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5840" y="3370320"/>
              <a:ext cx="1733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36920" y="2924280"/>
              <a:ext cx="0" cy="151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8000" y="6045120"/>
              <a:ext cx="53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83120" y="4440240"/>
              <a:ext cx="1800" cy="1604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62480" y="5241960"/>
              <a:ext cx="1506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Verdana"/>
                </a:rPr>
                <a:t>высота располож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908000" y="3370320"/>
              <a:ext cx="1528920" cy="2674800"/>
              <a:chOff x="1908000" y="3370320"/>
              <a:chExt cx="1528920" cy="267480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8000" y="3370320"/>
                <a:ext cx="1528920" cy="2674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2621520" y="3548520"/>
                <a:ext cx="611640" cy="267480"/>
                <a:chOff x="2621520" y="3548520"/>
                <a:chExt cx="611640" cy="2674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621520" y="35485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82528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290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21520" y="36554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621520" y="3994200"/>
                <a:ext cx="611640" cy="267480"/>
                <a:chOff x="2621520" y="3994200"/>
                <a:chExt cx="61164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621520" y="399420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82528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290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621520" y="410112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621520" y="4440240"/>
                <a:ext cx="611640" cy="267480"/>
                <a:chOff x="2621520" y="4440240"/>
                <a:chExt cx="611640" cy="267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621520" y="444024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82528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290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621520" y="454716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009880" y="3548520"/>
                <a:ext cx="407520" cy="267480"/>
                <a:chOff x="2009880" y="3548520"/>
                <a:chExt cx="407520" cy="267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009880" y="35485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136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009880" y="4440240"/>
                <a:ext cx="407520" cy="267480"/>
                <a:chOff x="2009880" y="4440240"/>
                <a:chExt cx="407520" cy="267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009880" y="444024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2136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09880" y="3994200"/>
                <a:ext cx="407520" cy="267480"/>
                <a:chOff x="2009880" y="3994200"/>
                <a:chExt cx="407520" cy="2674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009880" y="399420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136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08000" y="5777640"/>
                <a:ext cx="1528920" cy="267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2621520" y="4885920"/>
                <a:ext cx="611640" cy="267480"/>
                <a:chOff x="2621520" y="4885920"/>
                <a:chExt cx="611640" cy="267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2621520" y="48859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82528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290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21520" y="49928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621520" y="5331960"/>
                <a:ext cx="611640" cy="267480"/>
                <a:chOff x="2621520" y="5331960"/>
                <a:chExt cx="611640" cy="267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21520" y="533196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82528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290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21520" y="543888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009880" y="4885920"/>
                <a:ext cx="407520" cy="267480"/>
                <a:chOff x="2009880" y="4885920"/>
                <a:chExt cx="407520" cy="267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009880" y="48859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136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009880" y="5331960"/>
                <a:ext cx="407520" cy="267480"/>
                <a:chOff x="2009880" y="5331960"/>
                <a:chExt cx="407520" cy="267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009880" y="533196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136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1908000" y="3370320"/>
                <a:ext cx="1528920" cy="88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5:00Z</dcterms:created>
  <dc:creator>Vlad</dc:creator>
  <dc:description/>
  <dc:language>en-US</dc:language>
  <cp:lastModifiedBy>Vlad</cp:lastModifiedBy>
  <dcterms:modified xsi:type="dcterms:W3CDTF">2008-01-14T18:02:51Z</dcterms:modified>
  <cp:revision>26</cp:revision>
  <dc:subject/>
  <dc:title>Как настроить спутниковую антенну своими руками.</dc:title>
</cp:coreProperties>
</file>