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4B2-7DA5-4246-AF62-706CDBD5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21B-919C-4EAA-A7CA-C910A8AF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FAD-3755-40A3-BF52-80DB06AF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57D-82A1-452F-9EBE-7311AAAE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357-B2AA-48C1-85E4-5708028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FF3-913D-4162-AF33-E9DBC25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D99-EF92-4C89-ADB5-64D11904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C56-5860-4596-86DC-B428292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F97-33E0-46B2-8F84-15118CC0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A47-9745-4C89-8AF8-15BADFC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7E9-F6BA-476C-B7C7-DEC5E21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947-9338-4BF5-AAD0-04A97BB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F40-02F5-4D4E-9526-96BCF82F6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6"/>
          <p:cNvPicPr/>
          <p:nvPr/>
        </p:nvPicPr>
        <p:blipFill>
          <a:blip r:embed="rId1"/>
          <a:stretch/>
        </p:blipFill>
        <p:spPr>
          <a:xfrm>
            <a:off x="3276720" y="2708280"/>
            <a:ext cx="3081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372360" y="3141720"/>
            <a:ext cx="27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2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3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4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5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3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867280" y="1273320"/>
            <a:ext cx="32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651640" y="3195720"/>
            <a:ext cx="34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8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364000" y="51181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0"/>
          <p:cNvPicPr/>
          <p:nvPr/>
        </p:nvPicPr>
        <p:blipFill>
          <a:blip r:embed="rId1"/>
          <a:stretch/>
        </p:blipFill>
        <p:spPr>
          <a:xfrm>
            <a:off x="34920" y="-14292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00720" y="-50760"/>
            <a:ext cx="2843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3-01-11T14:28:38Z</dcterms:modified>
  <cp:revision>13</cp:revision>
  <dc:subject/>
  <dc:title>Слайд 1</dc:title>
</cp:coreProperties>
</file>