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297-4FF6-4797-9FC8-076BFD74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AE0-8AFD-413A-AAC5-A12266D6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6E9-DDE5-40B1-B9A5-3E57F22B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4C1-5A1F-4A53-AC61-B1E0266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3BA-87A3-438E-9682-FD118EA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A7D-36D8-4186-9499-EE11FBC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0C2-5B04-4E63-8D46-53ED857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6D5-A272-42CA-8D1A-BB121D7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292-F2FB-4384-9A39-16B86220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227-F4EF-4775-AF6A-50B3EDD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A31-A9B4-4D1A-A73B-C1FBF96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5B0-5B0C-4549-B184-416609C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5B9-3E0D-4698-B30B-43882FF1F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6"/>
          <p:cNvPicPr/>
          <p:nvPr/>
        </p:nvPicPr>
        <p:blipFill>
          <a:blip r:embed="rId1"/>
          <a:stretch/>
        </p:blipFill>
        <p:spPr>
          <a:xfrm>
            <a:off x="3276720" y="2708280"/>
            <a:ext cx="3081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372360" y="3141720"/>
            <a:ext cx="27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2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3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4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5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3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867280" y="1273320"/>
            <a:ext cx="32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651640" y="3195720"/>
            <a:ext cx="34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8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364000" y="51181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0"/>
          <p:cNvPicPr/>
          <p:nvPr/>
        </p:nvPicPr>
        <p:blipFill>
          <a:blip r:embed="rId1"/>
          <a:stretch/>
        </p:blipFill>
        <p:spPr>
          <a:xfrm>
            <a:off x="34920" y="-14292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00720" y="-50760"/>
            <a:ext cx="2843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3-01-11T14:28:38Z</dcterms:modified>
  <cp:revision>13</cp:revision>
  <dc:subject/>
  <dc:title>Слайд 1</dc:title>
</cp:coreProperties>
</file>