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3D0-5995-4332-805D-D3CC37E6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F6F-FE96-448F-B070-3BAC132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F9C-134B-4F5C-91A4-CAB17F11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B92-1724-4766-AFDB-26FFDBC3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2D2-98CB-4802-B3D5-BC6174C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C3B-4A19-4B18-95EB-AEAAF0BC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71D-8C2D-44AD-859A-CA45883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50B-9308-4656-A43A-31EFF42E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CD1-241F-45CB-ABAB-2FA48489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525-AC55-4EFC-824F-C5D7275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E42-E370-4E65-8772-BAE0A02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F0C-299B-48B5-BD7F-7650E58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E822-CCD4-4E86-8A39-2F574A833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6"/>
          <p:cNvPicPr/>
          <p:nvPr/>
        </p:nvPicPr>
        <p:blipFill>
          <a:blip r:embed="rId1"/>
          <a:stretch/>
        </p:blipFill>
        <p:spPr>
          <a:xfrm>
            <a:off x="3276720" y="2708280"/>
            <a:ext cx="3081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372360" y="3141720"/>
            <a:ext cx="27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2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3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4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5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3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5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867280" y="1273320"/>
            <a:ext cx="32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6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651640" y="3195720"/>
            <a:ext cx="34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8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364000" y="51181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0"/>
          <p:cNvPicPr/>
          <p:nvPr/>
        </p:nvPicPr>
        <p:blipFill>
          <a:blip r:embed="rId1"/>
          <a:stretch/>
        </p:blipFill>
        <p:spPr>
          <a:xfrm>
            <a:off x="34920" y="-14292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00720" y="-50760"/>
            <a:ext cx="28432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3-01-11T14:28:38Z</dcterms:modified>
  <cp:revision>13</cp:revision>
  <dc:subject/>
  <dc:title>Слайд 1</dc:title>
</cp:coreProperties>
</file>