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976-A8B9-4A8D-87F6-C1E0509C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40B-5927-42B9-9AAC-0C6D990B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641-EBB8-49CB-8586-A56EE387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DFF-811A-4D41-9956-3A48231D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9FFD-42A7-4C42-AF39-FD857547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D114-CF5D-4BB9-858F-60C6CE5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5221-43E7-499C-8213-65BD0E6F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AAD7-26F8-4739-8B57-DD9A5D0E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C6F6-096A-41E6-86FE-28CB1CD1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9CFD-7999-4A41-9D50-1987A798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3A09-5EFA-47B9-B193-06350DA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0CF-6B02-4113-A8DA-8F5E0476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C7E2-3FF2-4775-9B31-848467FC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0D65-36CB-4BFF-AC24-82112AA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3821-9EB3-48DF-B2F3-E272F06E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7226-6126-4983-BE60-61812EB4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2F76-375B-4AA5-944E-A72C4C09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8A55-C6F6-40EE-AC60-813160BA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7C73-08FC-4107-9D6A-EC4B8164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FA9C2-7902-46DE-8B83-D1DC21B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8FD2-FBB8-4B33-B120-7D5044A8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7BE8-CF1C-4F37-99B4-E824DCFC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4CF-FB88-47AF-9F50-AD9728FF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48FC-B3BF-423C-89B2-D481EDBB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2525-B0AA-4F44-9C50-607D270B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5C9C-004E-418C-8312-0447556E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9EC7-6BC2-4C48-8B1F-D37E1815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225B-4D78-44B9-B683-6288D0FF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A851-30BD-4F2C-B9CE-87E72E4C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3F19-6FBD-4E77-9CD4-89215809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EF7E-D208-44A5-9FF5-D5F3A513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93B13-19E4-43F6-AE39-00B53C46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42B0-7A09-43D0-B384-BC87EE60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5A1-6004-4133-8420-D11E1534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652F-6C7A-45D0-977F-DDD94239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C71F-F326-43FC-82AD-FA6A0201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C000F-2907-4D50-B9BE-C79A538C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4392-DDD0-48D3-9EAA-14B64C25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3CF7-3719-416E-BD06-0BABEFF8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A3A26-7A41-46FC-A95E-93BE558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55EA5-C17F-458F-9D1D-32054FDA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949B5-ED01-41B8-B35B-A3FF77FC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779F5-01F9-4E5F-A9CC-F0D73359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DFC61-E5E4-496B-8556-D98C6ED7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64D-17F3-447B-8AE7-33427235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CDB30-9CAA-42DB-A891-D40451EA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CE810-750E-49DB-AE97-BDD9338C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98810-D4E9-4CEB-A433-6457116E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A4334-F3FD-4586-8E6A-E7EDCFA4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CD2D-46A7-45F4-B5DA-464DA0F2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AEAE1-DE75-479C-BD20-927EDE1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B50B0-4A2B-4FF0-8EEE-7FBE4BDB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1431-753A-4583-81F3-4B411BEB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3B41D-38B9-47EA-B409-671A1442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CBEA9-8996-4E85-8FDE-A6072796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268-BD05-47B9-8907-216CB25E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65564-4806-41C3-94AF-A3F3F007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452A4-2A20-4AFF-BA82-74E3A3CD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D2789-BCB4-4E9A-B5A9-A5337625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C0E05-295A-4DC4-8C0F-8830B40E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481E0-E713-4771-86E0-20C8AA28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E331-17F9-42F1-A4CC-B3832784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4743-1E3B-4C3A-A3BB-8B71D357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C3373-D9BC-4F1A-B546-D29D9506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C2E57-CB44-4162-AFD6-B2EB0802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3A761-F75E-4440-9BE0-66AB1950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B83-336C-4767-AA80-CF906459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CC33B-67DA-49E2-A3C4-73027E2A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C6385-3A17-49CC-8034-AB9371F5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04134-97C8-45BA-96BD-CD4F194D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39E53-3131-4394-9A8C-DD717524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317B8-4170-4C24-886F-F064365E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70C7F-EBA6-4E89-A828-237EB7BA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8E26D-473E-4225-AC05-AD7C7448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80735-908F-4738-B6C0-F94B0A8B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14124-E94A-473E-A6F1-E00B38E0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E6CF-1A12-4667-B38B-9D98B1D5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BEB-C8A0-4353-8A73-5EB7D120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C92B4-E5F6-471F-A4BE-05354D7B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B8AA9-5324-4C05-89D8-FF0048E6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717B1-28F3-4471-9620-88307D4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A5364-FDE1-438B-A481-219FBD40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885DB-123C-437E-BDD5-FCCA7E61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7691D-A7CA-478E-850E-2C7EAD5F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E3F9A-A0D9-4021-AA4C-B4E52DBB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CE78C-2E93-4676-8535-6E366276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1E84B-B264-48A5-9BE1-A0D987FE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2C5E6-7DAA-4F42-8D72-194FB162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D88-093B-46E4-96F6-7565F664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9CA69-46D4-4F8E-A471-EDD558F6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43DAD-8D97-4BCC-AF82-5D09771F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771CB-EA0D-4B8C-8E3E-465CAF48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10584-7445-40F2-AB03-5A1FAC79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B6EE7-F287-4759-A37B-4461EF9D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D2764-5724-420B-86F6-47EA58A0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A77A4-03FC-4030-A94C-5C30B6BB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3561-B739-4058-8D96-AF55A77776C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4E72-FE4A-467D-BFE3-0ABD4FD5912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E08B-94BB-4F97-A3D9-166FCA1CFE3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1C69-328E-44E0-9484-18AA1DF7553F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DA95-0948-4065-867D-212683CD781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0BEE-1978-45B0-A831-7752756190E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F1C7-0804-4509-B66F-54F1E26C9A0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C7C0-FAFE-4044-8730-404FA731012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40000" y="3860640"/>
            <a:ext cx="38336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Из истории сонета.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987560" cy="2592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6443640" y="692280"/>
            <a:ext cx="2052720" cy="2798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1582560" cy="2160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4"/>
          <a:stretch/>
        </p:blipFill>
        <p:spPr>
          <a:xfrm>
            <a:off x="4500720" y="189000"/>
            <a:ext cx="1528560" cy="2365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5"/>
          <a:stretch/>
        </p:blipFill>
        <p:spPr>
          <a:xfrm>
            <a:off x="2556000" y="1268280"/>
            <a:ext cx="1670040" cy="2160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"/>
          <p:cNvPicPr/>
          <p:nvPr/>
        </p:nvPicPr>
        <p:blipFill>
          <a:blip r:embed="rId6"/>
          <a:stretch/>
        </p:blipFill>
        <p:spPr>
          <a:xfrm>
            <a:off x="2556000" y="4076640"/>
            <a:ext cx="15094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53"/>
                </a:solidFill>
                <a:latin typeface="Cambria"/>
              </a:rPr>
              <a:t>Гумилёв Николай Степанович. Сонет.</a:t>
            </a: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549000"/>
            <a:ext cx="4041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нквиста́дор в панцире железн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вышел в путь 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сел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д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отдыхая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остном са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наклоняясь к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пастям и безднам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ою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бе смутном и беззвезд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ет туман… но я смеюсь и жд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р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ак всегд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мою звез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, конквистадор в панцире железн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если в этом мире не да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ковать последнее звен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ходит, я зову любую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с нею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уду битьс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кон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, может быть, рукою мертве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лилию добуду голубу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исп.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quistador —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воеватель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голубая лилия-символ меч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ихотворение сюжетно связано со Средневековьем. Как образ голубой лилии соотносится с содержание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преобладающих в Средневековье чёрном и красном синий цвет считался презираемым(здесь- протес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ие завершённые картины дан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- картина пути, сада жизни с радостями и опасностя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- картина неба и звезды(расширение масштабов до вселенно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- картина конца, смер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- «сонетный замок»(картина борьбы, вызова судьбе, меч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нете есть отступление от нормы. Какое? Для чег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тор(параллелизм)- усиление мысли автора: вызов, б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21608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mbria"/>
              </a:rPr>
              <a:t>И.Северянин. Бунин.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692280"/>
            <a:ext cx="404172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его стихах 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селая кап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осы гор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естящие слюдо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пета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резой молодо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снь солнышк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И вешних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д куп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зрач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тих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 северный апр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он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ж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точною водо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плит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уденою звездо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ем есть какой-т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дрый, трезвый хм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ют усадеб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р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стоп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аг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диночеств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р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Ружье. Собака. Серая 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уша и воздух скованы в кристалл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мин. Вино. Перо и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ягкой ста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чужденн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щин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тор пытается представить образ Бунина через его творчество. Каким основным приёмом он пользуется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грывание основных тем и образов Бунина(усадьба ,листопад, женщина ,камин, собака, вино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ими средствами выразительности пользуется авто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тафора, сравнение, эпитет, оксюморон, олицетворение, синтаксический параллелизм, однородные члены предложения, звукопись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автор передаёт чёткость и лаконизм стиля Бунин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тафора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уша и воздух скованы в кристалл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1028880" cy="142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7451640" y="4437000"/>
            <a:ext cx="1268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mbria"/>
              </a:rPr>
              <a:t>У.Шекспир Сонет 130. (перевод С.Маршака)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692280"/>
            <a:ext cx="404172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е глаза на звезд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ж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льз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ста кораллами назва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елоснежна плеч открытых кож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ной проволок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ьется пряд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амасской розой, алой или бел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льзя сравни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тенок этих ще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ело пахнет так, как пахнет тел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к фиалки нежный лепест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ешь в ней совершенных лини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го света на че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ю я, как шествуют богин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лая ступает по зем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а уступит тем едва л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сравненьях пышных оболга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неты Шекспира- одно из вершинных достижений лирики.  В книге З.Т.Гражданской «От Шекспира до Шоу» написано,  что « сохранилось 154 сонета Шекспира. Первые 126  посвящены другу поэта последние 28 – возлюбленной, смуглой черноволосой да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верочная работ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следите, в чём поэт точно следует требованиям к сонету, а в чём от них отступае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219640" y="422100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7308720" y="422100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Ключ.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ступления от нор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еты Шекспира отличаются формой построения от сонетов итальянских поэтов (3 строфы в форме катрена с перекрёстной рифмовкой и последние 2 строки связаны парной рифмовко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549000"/>
            <a:ext cx="40417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блюде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14 стр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перекрёстная рифмовка катре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основные принципы построения соне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верждение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Героиня не совершенн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ровержение(Она не богиня, а земная женщин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бъяснение(Героиня всё-таки прекрасна для поэт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«сонетный зам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стихотворный размер- 5-стопный ям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Сонет — стихотворение из 14 строк, обладающее канонической системой рифмовки и строгими стилистическими законами.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-14 стр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трен: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язка 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               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        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трен: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                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         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цет: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цет: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вяз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                     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                  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«сонетный замок»(самое важ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жд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- 5(6)-стопный ямб.                   Каждая строфа- завершённая карт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53"/>
                </a:solidFill>
                <a:latin typeface="Cambria"/>
              </a:rPr>
              <a:t>Основные принципы построения сонета: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549000"/>
            <a:ext cx="40417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верждение(тезис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овержение(анти-тезис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ъяснение, указание противоречия(синтез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вод(развязка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32120" y="475920"/>
            <a:ext cx="4041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.С.Пушкин Мадон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множеством картин старинных мастеро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расить я всегда желал свою обитель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б суеверно им дивился посетитель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имая важному сужденью знаток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ростом углу моем, средь медленных трудов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 картины я желал быть вечно зритель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: чтоб на меня с холста, как с облаков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чистая и наш божественный спаситель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на с величием, он с разумом в очах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зирали, кроткие, во славе и в лучах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и, без ангелов, под пальмою Сио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нились мои желания. Творе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бя мне ниспослал, тебя, моя Мадон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тейшей прелести чистейший образец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21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60280"/>
            <a:ext cx="8229600" cy="58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пре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на переносы и на повторение  слов в одном и том же значении (не    считая союзов и предлогов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ведени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хотворный перенос- несовпадение синтаксического и ритмического членения стихового отрезка с вытекающим отсюда разрывом синтаксического ряда и перенесением части его в следующий ритмический отрезок; например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«В ней вкус был образованный — о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Читала сочиненья Эмина...» (Пушкин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и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«Никто мне не скажет: Куда 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Поехал, куда загадал?» (Фе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нос особенным образом выделяет слова, несущие основную смысловую нагрузку, содействует созданию взволнованной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А.С.Пушкин. Сонет(1830)-каждая строфа-этап в истории сонета.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ровый Дант не презирал сонет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нем жар любви Петрарка изливал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у его любил творец Макбет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м скорбну мысль Камоэнс облека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7960" y="1268280"/>
            <a:ext cx="3019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онет возник в Италии в 13 век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нте Алигьери(1265-1321)-сонеты Беатрич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ацвета достиг в творчестве  Ф.Петрарки (1304–1374), популярность которого способствовала распространению сонета в Европе(сонеты Лауре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ильям Шекспир(1564-1616)- 154 сонет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Луиш ди Камоэнс(1524(5)-1580)-португальский поэт эпохи Возрожде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7740720" y="1268280"/>
            <a:ext cx="1095480" cy="1428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3851280" y="256536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3"/>
          <a:stretch/>
        </p:blipFill>
        <p:spPr>
          <a:xfrm>
            <a:off x="7524720" y="386064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4"/>
          <a:stretch/>
        </p:blipFill>
        <p:spPr>
          <a:xfrm>
            <a:off x="3708360" y="4941720"/>
            <a:ext cx="1057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53568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 наши дни пленяет он поэ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рдсворт его орудием избра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вдали от суетного све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ы он рисует иде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рдсворт Уильям (1770-1850)- английский поэт-романти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2693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6100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сенью гор Тавриды отдаленн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вец Литвы в размер его стеснен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и мечты мгновенно заключ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дам Мицкевич(1798-1859)- польский поэт-романти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019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53568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нас еще его не знали дев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для него уж Дельвиг забыва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кзаметра священные напе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львиг Антон(1798- 1831)- поэт, друг Пушки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екзаметр- античный стихотворный разме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25257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К.Бальмонт. Хвала сонету.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0920" y="549000"/>
            <a:ext cx="4248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лю тебя, законченность сонет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надменною твое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от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равильну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т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илуэ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авицы изысканно-прост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й стан воздушный, с грудью молод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анит сиянье матового свет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волне волос недвижно-золот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ьей пышностью она полуоде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, истинный сонет таков, как 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стическая радость крас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иногда он мстит своим напе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 однажды в сердце пораж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нет несущий смерть, горящий гнево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лодный, острый, меткий, как кинж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32120" y="620640"/>
            <a:ext cx="404172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хотворение называется «Хвала сонету».Какой образ помогает поэту воздать хвал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акие качества сонета указывает авто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в разме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5-стопный ям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01636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7:05:58Z</dcterms:created>
  <dc:creator>j</dc:creator>
  <dc:description/>
  <dc:language>en-US</dc:language>
  <cp:lastModifiedBy>j</cp:lastModifiedBy>
  <dcterms:modified xsi:type="dcterms:W3CDTF">2012-01-06T02:52:53Z</dcterms:modified>
  <cp:revision>28</cp:revision>
  <dc:subject/>
  <dc:title>Из истории сонета.</dc:title>
</cp:coreProperties>
</file>