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E21-8996-498F-8600-9A615A13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362-7A4D-4E9B-8C41-6E83A15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12E-7BDC-4E81-A763-17C0A9E0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F34-36F9-4B3D-B333-01A7F26D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EEB8-ABDB-42F8-9515-48B13D8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C8E-B29E-420E-916F-6B1C298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D45-3919-469A-A7BE-A756C2BD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EDD1-D113-4740-A66E-782C8CF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8625-AD4A-4A74-ACDF-57268125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D0D0-3121-4992-A80B-3591D710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45D-4F73-4EBA-BF3D-8FE588B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B3F-9A9A-437D-9B7B-24D49213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EE51-A79E-41B7-B5A1-A79A883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5EA5-389E-49FA-BFC3-EE8C460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DF79-4EC3-4B46-9923-BFDBD30E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CE8D-FC54-4095-A5D0-6D853F4F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0A77-295E-4ADD-AFEC-A8861862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F6C8-2BF1-49C4-BDE8-A3E85C61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1B89-6FB7-46D7-8327-08D977F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531F-ACAF-44CE-9D8F-D517C9C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A8C9-8B84-41AE-B636-F63BF38F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3E78-BE25-4204-862D-02EEC47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EF9-1D09-4F1A-A844-B4E805A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AEBB-1765-410D-8778-EAE45890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013A-EB02-4884-A4EC-B221467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3BCB-5E09-4250-BC9C-AA16C9E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CDF6-33CA-421E-A7C1-12FB7F0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7FF6-969A-425F-BD3F-0B752229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2A1E-2B78-47C2-8FC6-EEDAB257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CE82-7BCD-4C47-9D57-FA2D0C44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028E-0F86-47B1-9016-84A4BED1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2EDF-C464-48C8-8DC4-835EB8A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65EA-AA5B-48E8-BA44-6F3D9B0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505-459C-46C5-B607-39C16C7A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BF35-5F6B-4A24-A600-588329C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D8C5-FC70-44AE-A491-CCE7B6AA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2BA4-7136-4234-8A0F-36B3E49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BA84-AD1F-4F83-AFDB-D055803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0243-1F9E-45CE-8C91-525AFDB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5466-0A89-4114-8B6A-CA50042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883C-7D56-479B-B363-B93B4A5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4E98-1A57-4016-9C59-A211BD48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A5D7-4996-4B6F-99A7-E3A59867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4AAF-B5A8-4E70-9298-0F04A136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F83-140E-4FB9-AF8D-431A060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6FC0-210B-4654-BF90-B7B6FE5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789E-054C-43B4-9C54-CA26A5E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1890-7136-4617-915A-F6DFD2A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8DB5-48FD-411C-AE0A-0EEC6F7C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587D-307F-461F-B0C9-6815F4AE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9144-89E3-417F-8556-923D0FF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0812-D1D9-4A92-9482-4D70CAC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B1EB-F2B8-462E-AFDC-680022F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3291-07B9-4E28-A3F5-34E9F20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A8CE-0027-4E0F-8370-C3954A7F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1ED-B287-4B46-A254-9333E752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BA9F-3A72-4CA6-AE82-17E92DB6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B2DD-E53E-456B-8704-3651DEE6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8442-B02D-4133-99C5-DA62D57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3C633-1ABA-44D5-B246-280B981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7E7F-D452-4A67-AA7B-6883BF9C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88D57-19FF-48DD-ABA8-FF904771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A8D6-EAFB-478E-A585-8A8E5E84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7CAC3-D701-4455-84C5-8813633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227F0-9B10-48C8-9746-0450B7BF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FC68-36B0-4408-9AE4-2EF342D4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39B-D31C-401E-9A2D-027386B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01D0-4F4C-468C-836F-BCBFD53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FD52-BC99-468D-9156-6EF0236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AC732-100B-4CF3-BE4A-4445DE2B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0808F-53F4-4BDF-AD85-70368F77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982A-DBD6-4348-AD40-302421AE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BBCA-4ABF-48D8-A37B-4A32A9CA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09E6-3E89-4ABD-A703-F140D2CA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7891-A7E2-4E99-9E97-5A6055C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C97A-33DF-409F-A8CD-501B4B7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0882-76BA-4985-AD6A-15AE4AB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4A0-00A8-49C8-BC28-4BEE2AD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790E-EEAA-468C-97CA-EAC651C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5754-5BFD-4CF5-9894-9BCB0BFA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A21B8-E9EC-4FFF-873C-3FAE250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11DB-2648-4F61-A895-D6998E73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32BD-70D6-481F-993A-FA6537FC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A3427-B885-4877-899C-0D8C970B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47EA-5C40-4CD1-96E8-528E480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EF03-2E8C-43DC-A039-77EE5B95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C3E18-D98D-474E-A9FB-6C2DC8B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F85D-5C73-42DC-919C-BD2B64F9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5D6-A8C9-4070-AB4F-5BA036E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6C20B-8753-49E5-8498-5746AAD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C5859-241C-4466-8A65-AF5D7DE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0E59-5603-4953-AE24-86181EB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C11B-7E16-474B-B346-C7DE073A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A371-FFA4-4779-8A70-A0C8540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5A4D-5030-4E91-AC65-9226B390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D89D-007B-42DC-94EF-AD7507E8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8D48-0F9F-43A0-AFA6-F44376E5A36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DD7-8B13-46CC-85DD-3B40D4BDE31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33F-55D1-4088-ACB7-8DAD9B5D1DA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620-1979-40EA-A086-4ECDEFD44D4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51D-D5B6-4BF1-AC7E-D28E5A88875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3BD-1812-480A-858E-4B088C6D887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893-C21E-4AE6-8FF5-7E526AD7CA8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80F-086F-4CF1-8976-F0C0A4BD25D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40000" y="3860640"/>
            <a:ext cx="3833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Из истории сонета.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987560" cy="259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6443640" y="692280"/>
            <a:ext cx="2052720" cy="2798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582560" cy="216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4"/>
          <a:stretch/>
        </p:blipFill>
        <p:spPr>
          <a:xfrm>
            <a:off x="4500720" y="189000"/>
            <a:ext cx="1528560" cy="2365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5"/>
          <a:stretch/>
        </p:blipFill>
        <p:spPr>
          <a:xfrm>
            <a:off x="2556000" y="1268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6"/>
          <a:stretch/>
        </p:blipFill>
        <p:spPr>
          <a:xfrm>
            <a:off x="2556000" y="4076640"/>
            <a:ext cx="15094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53"/>
                </a:solidFill>
                <a:latin typeface="Cambria"/>
              </a:rPr>
              <a:t>Гумилёв Николай Степанович. Сонет.</a:t>
            </a: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54900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квиста́дор в панцире железн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ышел в путь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тдыха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остном са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клоняясь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пастям и бездна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ою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бе смутном и беззвез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туман… но я смеюсь и ж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ак всегд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мою звез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конквистадор в панцире желез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сли в этом мире не да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ковать последнее зве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ходит, я зову любую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с не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ду бить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кон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, может быть, рукою мертве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лилию добуду голубу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сп.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quistador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оеват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голубая лилия-символ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ихотворение сюжетно связано со Средневековьем. Как образ голубой лилии соотносится с содержание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реобладающих в Средневековье чёрном и красном синий цвет считался презираемым(здесь- прот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е завершённые картины дан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- картина пути, сада жизни с радостями и опасност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- картина неба и звезды(расширение масштабов до вселенн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- картина конца, смер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- «сонетный замок»(картина борьбы, вызова судьбе,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нете есть отступление от нормы. Какое? Для чег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(параллелизм)- усиление мысли автора: вызов, б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216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И.Северянин. Бунин.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его стихах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ая кап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осы гор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естящие слю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пет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езой молодо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нь солныш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 вешни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 куп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зрач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тих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северный апр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н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ж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точною во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ли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уденою звез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есть какой-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дрый, трезвый х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ют усадеб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стоп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иноче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р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ужье. Собака. Серая 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ин. Вино. Перо и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ягкой с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чужде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 пытается представить образ Бунина через его творчество. Каким основным приёмом он пользуетс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грывание основных тем и образов Бунина(усадьба ,листопад, женщина ,камин, собака, вино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ми средствами выразительности пользуется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, сравнение, эпитет, оксюморон, олицетворение, синтаксический параллелизм, однородные члены предложения, звукопись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автор передаёт чёткость и лаконизм стиля Бунин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1028880" cy="142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7451640" y="4437000"/>
            <a:ext cx="1268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У.Шекспир Сонет 130. (перевод С.Маршака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е глаза на звез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ж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ста кораллами назва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лоснежна плеч открытых кож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ой проволок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ся пря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масской розой, алой или бел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сравни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тенок этих щ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ело пахнет так, как пахнет тел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к фиалки нежный лепест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ешь в ней совершенных лин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го света на че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ю я, как шествуют бог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лая ступает по зем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а уступит тем едва 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равненьях пышных оболг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неты Шекспира- одно из вершинных достижений лирики.  В книге З.Т.Гражданской «От Шекспира до Шоу» написано,  что « сохранилось 154 сонета Шекспира. Первые 126  посвящены другу поэта последние 28 – возлюбленной, смуглой черноволосой да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верочная рабо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следите, в чём поэт точно следует требованиям к сонету, а в чём от них отступае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Ключ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ступления от н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еты Шекспира отличаются формой построения от сонетов итальянских поэтов (3 строфы в форме катрена с перекрёстной рифмовкой и последние 2 строки связаны парной рифмов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блюд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перекрёстная рифмовка катре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сновные принципы построения со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Героиня не совершен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овержение(Она не богиня, а земная женщи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бъяснение(Героиня всё-таки прекрасна для поэт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«сонетный зам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стихотворный размер- 5-стопный ям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Сонет — стихотворение из 14 строк, обладающее канонической системой рифмовки и строгими стилистическими законами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-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язка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я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                    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  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«сонетный замок»(самое важ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жд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- 5(6)-стопный ямб.                   Каждая строфа- завершённая карт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Cambria"/>
              </a:rPr>
              <a:t>Основные принципы построения сонета: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ение(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овержение(анти-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ъяснение, указание противоречия(синтез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вод(развязк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32120" y="47592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С.Пушкин Мадон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множеством картин старинных мастеро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асить я всегда желал свою об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 суеверно им дивился посет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имая важному сужденью знато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м углу моем, средь медленных труд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картины я желал быть вечно зр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: чтоб на меня с холста, как с облак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чистая и наш божественный спаситель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а с величием, он с разумом в очах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ирали, кроткие, во славе и в лучах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и, без ангелов, под пальмою Сио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нились мои желания. Творе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бя мне ниспослал, тебя, моя Мадон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тейшей прелести чистейший образец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21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6028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р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 переносы и на повторение  слов в одном и том же значении (не    считая союзов и предлог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веден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отворный перенос- несовпадение синтаксического и ритмического членения стихового отрезка с вытекающим отсюда разрывом синтаксического ряда и перенесением части его в следующий ритмический отрезок; наприме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В ней вкус был образованный — 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Читала сочиненья Эмина...» (Пушкин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и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Никто мне не скажет: Куда 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Поехал, куда загадал?» (Фе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нос особенным образом выделяет слова, несущие основную смысловую нагрузку, содействует созданию взволнован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А.С.Пушкин. Сонет(1830)-каждая строфа-этап в истории сонета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овый Дант не презирал сон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ем жар любви Петрарка изливал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у его любил творец Макб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 скорбну мысль Камоэнс облек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7960" y="1268280"/>
            <a:ext cx="301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онет возник в Италии в 13 век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те Алигьери(1265-1321)-сонеты Беатрич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цвета достиг в творчестве  Ф.Петрарки (1304–1374), популярность которого способствовала распространению сонета в Европе(сонеты Лаур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ильям Шекспир(1564-1616)- 154 сонет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уиш ди Камоэнс(1524(5)-1580)-португальский поэт эпохи Возрожд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740720" y="126828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7524720" y="386064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057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 наши дни пленяет он поэ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рдсворт его орудием избр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вдали от суетного с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ы он рисует иде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рдсворт Уильям (1770-1850)- англий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693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610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сенью гор Тавриды отдален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вец Литвы в размер его стесн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 мечты мгновенно заключ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дам Мицкевич(1798-1859)- поль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019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ас еще его не знали дев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для него уж Дельвиг забыва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кзаметра священные напе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львиг Антон(1798- 1831)- поэт, друг Пушки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кзаметр- античный стихотворный разме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2525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К.Бальмонт. Хвала сонету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920" y="549000"/>
            <a:ext cx="4248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лю тебя, законченность сон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адменною твое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от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равильну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луэ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авицы изысканно-прос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й стан воздушный, с грудью молод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т сиянье матового св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волне волос недвижно-золо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ьей пышностью она полуод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, истинный сонет таков, как 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стическая радость крас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ногда он мстит своим напе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однажды в сердце пораж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нет несущий смерть, горящий гнев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лодный, острый, меткий, как кинж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32120" y="620640"/>
            <a:ext cx="40417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ение называется «Хвала сонету».Какой образ помогает поэту воздать хвал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кие качества сонета указывает авт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 разм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5-стопный ям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01636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7:05:58Z</dcterms:created>
  <dc:creator>j</dc:creator>
  <dc:description/>
  <dc:language>en-US</dc:language>
  <cp:lastModifiedBy>j</cp:lastModifiedBy>
  <dcterms:modified xsi:type="dcterms:W3CDTF">2012-01-06T02:52:53Z</dcterms:modified>
  <cp:revision>28</cp:revision>
  <dc:subject/>
  <dc:title>Из истории сонета.</dc:title>
</cp:coreProperties>
</file>