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B77-0D69-4B54-B376-870A7089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EA6-2049-44FF-AD6E-1F952E84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160-ADA2-4B3B-B70C-044159D4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FD9-A2D7-4FE5-B025-10F25DE8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E47F-2E81-40B5-8B0D-7A10CF4D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3289-AA74-48FF-8FC4-6D0ABF62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DBE3-B94A-4549-86DF-D3BD0B40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915C-DDC5-412B-A2F9-262E00A9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EF55-F15E-4C79-A4E8-765C0657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B508-195E-4218-BF93-3F3CF946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E662-2B2F-46AF-9B06-02BE804B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0AA-D8D5-4B60-8E76-2EBA1041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1E1E-C267-482C-8900-531C7DB7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B2AF-BC6E-48ED-8A73-F0F6BB30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9E0E-3577-4519-B52F-073FF14D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BBC0-2F00-4456-894E-112C8BEF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10DA-46E6-4258-B606-7B85A526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685A-0E7B-41FB-8496-F61CFC34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A691F-7419-42A6-A5CF-9CCBFC8A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D320-951F-4CAF-9077-6727A8AB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6E542-3FDC-49DE-AD89-356A5E37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419AE-F2FC-4971-89C9-397EC94D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BC3-8532-41EA-BA6A-DF2DDF34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DAC8E-88AE-4759-8585-9D67088D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8B2A-A473-4233-98D7-6C7373E8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2DF9-8238-47CC-986F-D812124C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9743-2FE0-44FF-86AB-B11C557B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043A6-BE71-4995-8B17-38E7D248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BDE9-F2C9-4891-9EB9-40683CAD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E80C-DAA4-4A16-A0A5-68B5E980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90276-CAF3-45E0-8934-0EBF3A96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B8EAB-95F0-4DE6-98F1-C8635BDE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7115F-D583-434F-A210-0DE67C11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557C-99F8-4A39-AC90-A284B6EB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9114C-7D34-4145-8849-BDBCE037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A96EE-68E0-46BC-BB28-B4E86766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4D716-32E1-453D-9C8A-5F6C702B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AA65E-78CF-45EE-B3DE-634EAD29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A230A-E4A7-4C09-9C73-C73083B5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9CDF9-5EA3-422A-87C6-B7D43A3E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CF7E7-27E8-42BA-8D6D-A86B8A98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C04C5-AEF8-4BBE-9B76-89AE9D08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7FF14-9DDA-46DE-8538-829FE6AF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F4B10-6311-4866-A1FB-158DE62A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E56-A8D6-4A9E-86CD-4695AC4F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3B80E-351F-4FE1-AF30-CA4582FB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F3F46-ECD7-48FF-BC71-70E34734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AB728-DB3F-46D7-B00A-93A3F278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DD2CC-4925-4687-B3BF-329ACF65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D4BF5-31BC-4262-97B8-9FE6BCAA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B3122-5D56-4A2E-957C-3B3586C8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111E2-2B90-4023-92EE-5F478798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6B90F-C461-4E3C-8712-CBAD2710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7EED4-ECC0-42DC-8B36-C963796A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5D056-45E7-4A72-91EF-CB06926B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A5B-D921-41C1-B9D0-1ABC7F21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826C4-58B9-4B5D-BE4F-EDE36577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419D2-733D-4CA3-B825-F8D576CF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5B3E2-D063-40E0-8F3C-4B17CF90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0552A-759B-48F6-A8E8-FB08C0A9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CA707-E5E0-4333-89A5-95A7FF3A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56FC7-01EE-4D67-BD52-94B19804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3E999-3166-417F-9A55-89E3D035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C40A1-906E-4121-93F8-BA1DCF45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27A9F-62C7-44FC-B582-5DB90312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B5BF4-6F76-4A05-A3C3-05F7E674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404-48D1-492E-8D68-C7C0D127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85F79-F8B3-4B51-A6A6-B912973D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904E0-58EA-4E1E-A6A4-765475CF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B88B2-F4A4-4DD1-84F8-FC651CA9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2D654-1465-4D9D-98C3-B34C0239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5BE5D-52FA-4B73-8B7F-A889999E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D7255-C0B5-497C-8202-07F6EC92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24BDD-8F39-4123-A4F0-661BE2C3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E93B5-5D7F-4CC2-9CF8-4B600742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2E8DB-7BC8-4BFE-80C5-D119A773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D7860-11CD-4569-8A29-CA443538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71F0-F996-4F05-85EC-61318AD3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595CD-CC1F-4FAF-87FB-53E5B8AA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4F3D5-2449-4370-BD14-4AE56D09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4CF92-A3E3-4506-BE0A-0AB5A133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61E76-8CE3-4C59-ACBC-DFB8DDD6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ECBB-59F8-4D3F-92DB-3F9B3538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A42B9-EDE6-440A-A3F7-ED5A4CD1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8C02C-F551-438F-89A4-F3634ACD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7D81C-924D-46F7-9ADE-DD65D2FE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40F19-DB5A-436D-BD60-899AC69F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8ADFA-5B68-4C0C-A9F8-38F12BE6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899-5A00-4CF5-ADC2-7BA909D3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1F48D-B6F8-4186-8F1C-41257B16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71AF4-017A-4C10-9E2A-120DC55D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D30CD-1DC1-48EC-8369-0C4ECE22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14D4A-C967-48DC-A340-3C303805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A5448-ADBF-40CB-A6B2-C2E8C44F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05C4A-0227-4482-81DA-B3907CC9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61FCC-F6BF-4810-AFCE-E6AC6D7D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8123-891A-4B78-811B-89C2C2B5AE36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067C-CE16-43C2-B0C1-31590D8C925C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33B9-8655-4C76-B2E2-A35D5E36C77C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AE1F-76A4-4749-8A33-432E8BB1C92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C940-2AEC-4E4C-ABE9-EF8D4166E48F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FBC1-BC83-42C3-B98C-0356FE7FB3B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150B-D4F9-4C66-8A7A-C994EE41DC4E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c1c8"/>
            </a:gs>
            <a:gs pos="100000">
              <a:srgbClr val="d5ef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9E2A-3B91-45D2-A1FA-331A5EF597A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40000" y="3860640"/>
            <a:ext cx="38336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Из истории сонета.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987560" cy="2592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2"/>
          <a:stretch/>
        </p:blipFill>
        <p:spPr>
          <a:xfrm>
            <a:off x="6443640" y="692280"/>
            <a:ext cx="2052720" cy="2798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3"/>
          <a:stretch/>
        </p:blipFill>
        <p:spPr>
          <a:xfrm>
            <a:off x="468360" y="3284640"/>
            <a:ext cx="1582560" cy="2160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"/>
          <p:cNvPicPr/>
          <p:nvPr/>
        </p:nvPicPr>
        <p:blipFill>
          <a:blip r:embed="rId4"/>
          <a:stretch/>
        </p:blipFill>
        <p:spPr>
          <a:xfrm>
            <a:off x="4500720" y="189000"/>
            <a:ext cx="1528560" cy="2365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"/>
          <p:cNvPicPr/>
          <p:nvPr/>
        </p:nvPicPr>
        <p:blipFill>
          <a:blip r:embed="rId5"/>
          <a:stretch/>
        </p:blipFill>
        <p:spPr>
          <a:xfrm>
            <a:off x="2556000" y="1268280"/>
            <a:ext cx="1670040" cy="2160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"/>
          <p:cNvPicPr/>
          <p:nvPr/>
        </p:nvPicPr>
        <p:blipFill>
          <a:blip r:embed="rId6"/>
          <a:stretch/>
        </p:blipFill>
        <p:spPr>
          <a:xfrm>
            <a:off x="2556000" y="4076640"/>
            <a:ext cx="15094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53"/>
                </a:solidFill>
                <a:latin typeface="Cambria"/>
              </a:rPr>
              <a:t>Гумилёв Николай Степанович. Сонет.</a:t>
            </a:r>
            <a:endParaRPr b="0" lang="en-US" sz="1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549000"/>
            <a:ext cx="4041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нквиста́дор в панцире железн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вышел в путь 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сел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д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отдыхая 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достном са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наклоняясь к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пастям и безднам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ою 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бе смутном и беззвездн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тет туман… но я смеюсь и жд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р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как всегд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мою звез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, конквистадор в панцире железн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если в этом мире не да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ковать последнее звен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мер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иходит, я зову любую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с нею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уду битьс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конц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, может быть, рукою мертвец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лилию добуду голубу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исп. </a:t>
            </a: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nquistador —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воеватель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голубая лилия-символ мечт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32120" y="549360"/>
            <a:ext cx="404172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ихотворение сюжетно связано со Средневековьем. Как образ голубой лилии соотносится с содержание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преобладающих в Средневековье чёрном и красном синий цвет считался презираемым(здесь- протес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ие завершённые картины даны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- картина пути, сада жизни с радостями и опасностя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- картина неба и звезды(расширение масштабов до вселенной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- картина конца, смер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- «сонетный замок»(картина борьбы, вызова судьбе, мечт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сонете есть отступление от нормы. Какое? Для чего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тор(параллелизм)- усиление мысли автора: вызов, бо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21608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Cambria"/>
              </a:rPr>
              <a:t>И.Северянин. Бунин.</a:t>
            </a:r>
            <a:endParaRPr b="0" lang="en-US" sz="2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692280"/>
            <a:ext cx="404172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его стихах 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селая капе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осы гор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лестящие слюдо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спета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резой молодою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снь солнышк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И вешних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д купе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зраче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тих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к северный апре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он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жи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точною водо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плитс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уденою звездо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ем есть какой-т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одрый, трезвый хме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ют усадеб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ор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стоп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лаг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диночеств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р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Ружье. Собака. Серая 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уша и воздух скованы в кристалл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мин. Вино. Перо и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ягкой стал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чужденно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нщин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32120" y="549360"/>
            <a:ext cx="404172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тор пытается представить образ Бунина через его творчество. Каким основным приёмом он пользуется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ыгрывание основных тем и образов Бунина(усадьба ,листопад, женщина ,камин, собака, вино…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ими средствами выразительности пользуется автор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тафора, сравнение, эпитет, оксюморон, олицетворение, синтаксический параллелизм, однородные члены предложения, звукопись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автор передаёт чёткость и лаконизм стиля Бунин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тафора(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уша и воздух скованы в кристалл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5076720" y="4581360"/>
            <a:ext cx="1028880" cy="14288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7451640" y="4437000"/>
            <a:ext cx="1268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64653"/>
                </a:solidFill>
                <a:latin typeface="Cambria"/>
              </a:rPr>
              <a:t>У.Шекспир Сонет 130. (перевод С.Маршака)</a:t>
            </a:r>
            <a:endParaRPr b="0" lang="en-US" sz="2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692280"/>
            <a:ext cx="4041720" cy="54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е глаза на звезд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хож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льз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ста кораллами назват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елоснежна плеч открытых кож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ной проволоко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ьется пряд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дамасской розой, алой или бел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льзя сравнит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тенок этих ще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тело пахнет так, как пахнет тел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ак фиалки нежный лепесто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ешь в ней совершенных лини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го света на чел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ю я, как шествуют богин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лая ступает по земл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 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на уступит тем едва л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сравненьях пышных оболга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32120" y="549360"/>
            <a:ext cx="404172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неты Шекспира- одно из вершинных достижений лирики.  В книге З.Т.Гражданской «От Шекспира до Шоу» написано,  что « сохранилось 154 сонета Шекспира. Первые 126  посвящены другу поэта последние 28 – возлюбленной, смуглой черноволосой дам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верочная работ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следите, в чём поэт точно следует требованиям к сонету, а в чём от них отступает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5219640" y="422100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7308720" y="4221000"/>
            <a:ext cx="1123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Ключ.</a:t>
            </a: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32120" y="549360"/>
            <a:ext cx="404172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ступления от нор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еты Шекспира отличаются формой построения от сонетов итальянских поэтов (3 строфы в форме катрена с перекрёстной рифмовкой и последние 2 строки связаны парной рифмовко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549000"/>
            <a:ext cx="404172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блюден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14 стр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перекрёстная рифмовка катре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основные принципы построения соне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тверждение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Героиня не совершенна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провержение(Она не богиня, а земная женщина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бъяснение(Героиня всё-таки прекрасна для поэта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«сонетный зам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стихотворный размер- 5-стопный ям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Сонет — стихотворение из 14 строк, обладающее канонической системой рифмовки и строгими стилистическими законами.</a:t>
            </a: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-14 стр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трен: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язка 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                 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                 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трен: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                  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                  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цет: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рцет: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звяз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                     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                     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«сонетный замок»(самое важ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жд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р- 5(6)-стопный ямб.                   Каждая строфа- завершённая карт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4653"/>
                </a:solidFill>
                <a:latin typeface="Cambria"/>
              </a:rPr>
              <a:t>Основные принципы построения сонета:</a:t>
            </a: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549000"/>
            <a:ext cx="404172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тверждение(тезис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овержение(анти-тезис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ъяснение, указание противоречия(синтез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вод(развязка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32120" y="475920"/>
            <a:ext cx="4041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.С.Пушкин Мадонн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множеством картин старинных мастеров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расить я всегда желал свою обитель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тоб суеверно им дивился посетитель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имая важному сужденью знаток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простом углу моем, средь медленных трудов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й картины я желал быть вечно зритель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ой: чтоб на меня с холста, как с облаков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чистая и наш божественный спаситель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на с величием, он с разумом в очах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зирали, кроткие, во славе и в лучах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дни, без ангелов, под пальмою Сион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нились мои желания. Творец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бя мне ниспослал, тебя, моя Мадонна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стейшей прелести чистейший образец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321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260280"/>
            <a:ext cx="8229600" cy="58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пре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на переносы и на повторение  слов в одном и том же значении (не    считая союзов и предлогов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сведени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хотворный перенос- несовпадение синтаксического и ритмического членения стихового отрезка с вытекающим отсюда разрывом синтаксического ряда и перенесением части его в следующий ритмический отрезок; например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«В ней вкус был образованный — о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Читала сочиненья Эмина...» (Пушкин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и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«Никто мне не скажет: Куда т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Поехал, куда загадал?» (Фет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нос особенным образом выделяет слова, несущие основную смысловую нагрузку, содействует созданию взволнованной р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53"/>
                </a:solidFill>
                <a:latin typeface="Cambria"/>
              </a:rPr>
              <a:t>А.С.Пушкин. Сонет(1830)-каждая строфа-этап в истории сонета.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ровый Дант не презирал сонет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нем жар любви Петрарка изливал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у его любил творец Макбет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м скорбну мысль Камоэнс облека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47960" y="1268280"/>
            <a:ext cx="30193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онет возник в Италии в 13 век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анте Алигьери(1265-1321)-сонеты Беатрич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ацвета достиг в творчестве  Ф.Петрарки (1304–1374), популярность которого способствовала распространению сонета в Европе(сонеты Лауре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ильям Шекспир(1564-1616)- 154 сонет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Луиш ди Камоэнс(1524(5)-1580)-португальский поэт эпохи Возрожде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7740720" y="1268280"/>
            <a:ext cx="1095480" cy="1428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3851280" y="256536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3"/>
          <a:stretch/>
        </p:blipFill>
        <p:spPr>
          <a:xfrm>
            <a:off x="7524720" y="386064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"/>
          <p:cNvPicPr/>
          <p:nvPr/>
        </p:nvPicPr>
        <p:blipFill>
          <a:blip r:embed="rId4"/>
          <a:stretch/>
        </p:blipFill>
        <p:spPr>
          <a:xfrm>
            <a:off x="3708360" y="4941720"/>
            <a:ext cx="1057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53568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в наши дни пленяет он поэт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рдсворт его орудием избра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вдали от суетного све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ды он рисует иде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рдсворт Уильям (1770-1850)- английский поэт-романтик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5580000" y="1989000"/>
            <a:ext cx="2693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26100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 сенью гор Тавриды отдаленн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вец Литвы в размер его стесненн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и мечты мгновенно заключ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дам Мицкевич(1798-1859)- польский поэт-романтик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3019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53568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нас еще его не знали девы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для него уж Дельвиг забыва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кзаметра священные напе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ельвиг Антон(1798- 1831)- поэт, друг Пушкин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екзаметр- античный стихотворный размер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25257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64653"/>
                </a:solidFill>
                <a:latin typeface="Cambria"/>
              </a:rPr>
              <a:t>К.Бальмонт. Хвала сонету.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50920" y="549000"/>
            <a:ext cx="4248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юблю тебя, законченность сонет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надменною твое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асот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правильну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ет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илуэ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савицы изысканно-прост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й стан воздушный, с грудью молод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анит сиянье матового свет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волне волос недвижно-золот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ьей пышностью она полуоде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, истинный сонет таков, как 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стическая радость красо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 иногда он мстит своим напе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 однажды в сердце пораж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нет несущий смерть, горящий гнево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олодный, острый, меткий, как кинж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32120" y="620640"/>
            <a:ext cx="404172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ихотворение называется «Хвала сонету».Какой образ помогает поэту воздать хвал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акие качества сонета указывает авто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ов разме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5-стопный ям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5724360" y="2997360"/>
            <a:ext cx="201636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7:05:58Z</dcterms:created>
  <dc:creator>j</dc:creator>
  <dc:description/>
  <dc:language>en-US</dc:language>
  <cp:lastModifiedBy>j</cp:lastModifiedBy>
  <dcterms:modified xsi:type="dcterms:W3CDTF">2012-01-06T02:52:53Z</dcterms:modified>
  <cp:revision>28</cp:revision>
  <dc:subject/>
  <dc:title>Из истории сонета.</dc:title>
</cp:coreProperties>
</file>