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3D8-7899-42B0-9130-F5A63447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7D49-3A62-4509-B90F-51D89077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4BBD2-E437-429A-9E0F-80558B87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5C5BB-4106-4CF3-96C9-22B4B59C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B936F-3C5F-4081-A09B-4F24C87F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D6636-9ECF-4D14-9D85-D506A633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3FB8A-A6D0-41F1-AA40-348F340E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2B0AC-4C8A-4DDF-9016-A1422089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34F2D-072A-4435-B50A-6D6E82A4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2CE73-89B6-41B5-9CBE-6BCAF038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88942-6201-4D3E-8BB1-6E40265B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812F8-76AF-4640-9CF8-C861FE87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32D6-60DF-4F71-B569-486539D6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9F37D-F551-499A-AE33-38CB32F4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CB6FE-9764-4D4A-85C5-8D4A05EE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6B41A-B471-497C-AB4C-32598267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587FC-8144-47CE-8B77-39C710E2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BE279-90E1-4C2D-AA3A-9FB1EA6C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ECEAB-5056-4F81-8ACB-2B38F2B3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0BA92-F65B-411F-9622-7830B309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0B57A-D964-426B-B7BB-5F7B6565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9E01D-A76C-4D5D-A023-D0E5F889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606D6-3150-4F37-B7D9-8583BA3FD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E4E3-1E7D-4E2F-8B03-8373DFB5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54AFB-2047-4179-9F55-0F051A55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82CCC-7021-4587-BEDD-0EFE297A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2F683-E03E-4DEB-A3B7-39DBB318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DBCA8-1B51-4329-90E1-50C7517A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C4202-996A-4447-B756-6D608AB8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5D8F8-3FE8-40D2-B8BC-C716C297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40B23-36FF-4D75-B8DF-BBACDF29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CBC5A-84BE-4FA0-BB47-932EEADA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29B07-A74F-457C-B945-1FB11EBB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B1466-D83E-43A9-BFC1-1996B159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FF13-989B-4680-8D30-4179388F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01468-4E34-4003-ABEA-E6306D40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AA56C-81B1-4DB7-B1A2-A0167806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A9CD6-B8A6-48C1-964B-906AAEA0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FF0AE-2629-4C74-ABB5-8331DB3A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F7DAE-1BC1-40FF-989A-CDA9F89C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ED026-F3D1-4644-824D-222F54DB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8A875-6F89-4DA4-BB7B-D1CA66C1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FB3F7-27E0-414C-9A10-D80016EF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BDC54-4A5E-40E7-99B7-371DD723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2679A-B38B-44E4-A77F-95F831AF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5D40-C6EE-4ED1-8D2B-FF833830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78A18-451E-4291-9D45-997C294E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3B1E4-2184-4862-8780-01948231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6A16B-C0DE-43F2-AE23-1CA8A894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CA797-3BAB-40E5-A30C-45AAD6D5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24CE9-5CD2-4605-B28B-D10690F2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6D2A01-10E2-4BE3-9EF5-C6B9570D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C6B92-EBD4-4800-B013-0E0A2192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B6A24-66E8-4DA3-A25D-3621BAF6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0A9822-0E9C-4BBE-86FE-8958127A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229BB7-D707-475E-B147-A6DEFC2D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FD20-1CF8-4FF9-941D-8F701AD2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C2D628-A3F0-4268-BCB3-2097599F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9178B3-53E4-48A8-B99B-43D3DBF4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52F7C7-D583-4482-9C3E-B2BC7D12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061C7D-15AF-4527-BC4F-83B87A5B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947F6-9500-45BE-BA90-CE36EC4E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916B12-0C86-4572-BE70-12F9CF1E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9C96CE-D3B6-4CC3-A6ED-20BCBE13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008F39-5157-4E1F-B692-4625286D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7E9D69-9292-4541-A648-6783BAF1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C09C34-5FF2-4B58-A900-3DBDBE0C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E777-97E2-48B4-BD8F-AD6319D8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E5539B-B2D8-4CAD-A570-5A24424A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748AA3-2FFD-48ED-868C-F66EFC30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1617BD-5611-4945-90BF-E2414B6D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8CB05C-8CEC-41DD-ABBA-4DF49779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CE5B65-7B94-493E-9859-BF599B9C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823799-EF8D-4B9B-90E4-1D52CA16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25717C-2B3B-4A71-BD83-A623B8C1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3C1E3E-EDA3-4A7E-9BCB-FC15092E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B79036-9AB8-4062-9CDF-C4BA928B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672561-F531-4676-8CA5-F9DE2C8C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0714-B04D-4829-97D1-8B5C4445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CB6B06-CBAD-4C86-AF04-AAAD32C8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D9BD65-D256-4AB1-B77A-29417D45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07933F-64A8-4A81-9EFA-C3148B46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4214D0-4FE8-47AB-A5DE-D38972AE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11F8A1-1284-4763-B7C3-CEAB8208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885F73-8367-4A55-A63D-96BA57DD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DC2774-62DF-48BD-8CD3-10DEE143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DEF94E-66A8-4BA7-BA53-D2EE7A6A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3B2653-9221-4FAE-9CA6-69D24F81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F19985-E10F-43E3-A93E-91B7650C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53BD-02AA-494D-AE66-C7A0D1FF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E10ECC-E83D-4D90-AC74-A478BCE4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853966-2E03-4536-9A9B-84D6B4DA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A9044B-E433-402E-8E71-FCB3D4C4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1F1AD0-C829-420B-9C34-9CACEA0A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87C634-2CC6-44E8-BEB3-037BAD7D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C00249-F16D-4A7D-8F2D-4C4957C0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EC5AE2-54E3-4C1F-BC66-D779F398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8516C5-9813-4CF8-8769-C37C7D3C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604B00-4BA3-468E-9655-294B00E3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0B994C-FD06-4398-91DA-38F47A64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5B2F-7C25-4361-B800-1395F59B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66B2EF-44CA-41C8-A54B-D3132405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A0394B-283A-4A00-A25A-DB028CCD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5941F0-4A0F-445F-AF63-38523A17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9D0C77-7961-496A-8CC2-9FBFB85C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881D37-21D7-4610-B26A-043E9623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57277E-F96A-40E7-A1D3-69749A6E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D067C5-A27E-4173-A878-0EDED779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DB8847-7821-44C6-A841-0D0F79B1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2A3295-5D58-4ECE-AD1E-9D216F2D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322982-7F05-4C08-A897-53473371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789C-2389-4C36-B645-DCC72E88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4DD8-1302-4B8A-8442-3386A193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071113-A1F5-4382-AC6D-53958597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9B6509-4358-4F31-9E43-9C483862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3A2513-534B-4B24-B3B8-3DF6247B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5A5B91-1446-4F1B-AE66-394F5BAA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137E33-DAB6-45AD-9923-24F77163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3AC0C5-5485-4440-B295-66EC6830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550DAB-51E0-464C-AB1B-8E17F0BD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7D120C-971F-4C29-8F57-D1275709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F093D8-4081-4C2F-9E03-20C07FAE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4D586F-CA18-4119-9E08-16BD1C7F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126B-FB21-44A3-973A-70F990BA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85085B-22F7-4E10-9BDE-E05F61E9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34C0ED-104A-4894-9F28-7C79EDC9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8792BC-4D8A-4863-8A4D-57CFB2AB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946EF5-6712-44CD-B3A4-8BDCE591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05FA96-59CD-4B0A-8B98-A2B28879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580949-62ED-4C56-B5FB-53952F5B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320BA8-D603-45B3-AB31-1ABC5754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527D2A-145E-482B-87EF-000EBEBE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E2E868-A379-4EDE-A8C3-B8C89D27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D5C586-38BA-4505-8286-333529F0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BA20-F182-4D08-8D54-74F6C991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D58B95-8220-4033-A57A-0EFE44AD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266F77-9772-4EE1-B0E0-A1032640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599F86-A464-4E78-8240-082D8B4E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6DF823-7F2A-4AA6-8CE0-DB76C0A8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027CB7-BFF6-4FD9-B39B-C97C72AE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1EB695-C37C-4D50-B3E9-49915EA5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70A926-E953-491C-9462-6E75D6CC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CB24BF-4315-4FA8-895E-97F25832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B62597-3C79-403E-9C29-1446AE4F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73EAF5-F55C-4D94-940C-C10A0B58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9EFA-FEE3-4EEF-85A3-7AA94D72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041BEE-FD25-4A55-9CB7-1ECA8E0D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F7C995-4232-4489-9632-03782D61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1E3441-6E29-43A5-BCA6-B2565F28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502A04-38EE-4235-9E99-966D32A4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FCF656-B65A-4AA0-855C-A7315D20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52D7D0-0063-4295-A2C0-9403DF40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D97134-523E-45C8-9BA0-B69D1E9D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011570-2121-4F56-B7A1-BB8525B3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CB0C14-8E96-4AB0-9938-64EF5B80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515BD9-3989-4F94-83BA-FA334FFD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7AC3-33BA-45F3-BEAA-422343DE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335B94-FFD7-414A-9FC8-AED66185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88F8E9-C13A-4311-8E9E-7F25D438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C12897-003E-4567-A4B3-3B18B2B9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9A4784-FB12-44BA-A69B-A14BD13D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BFB5B1-D75F-4A7C-86C7-07B4D467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BF6D7C-E016-4720-8FD1-E5340FA9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FD1C33-2E2C-45DD-BAE1-0B5E78DC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A02E3F-5CC4-4805-A8D8-4EA00D87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0D8D07-C739-4296-99E0-2716AEFC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314369-8EF2-41B6-98D2-F324422D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CB653-99E9-4210-A263-AF75DB43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F7E0DE-66DA-461D-B80F-7198C314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1FAAAD-E35B-4BF7-AE68-C815E553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67E0E4-75C9-471D-B581-A8CDF3E7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C225AF-B415-4CA7-8036-DCDFD967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C0581D-6781-4890-A9E4-421713A0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4B837C-0D45-45AD-838E-8DFB5D6C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6860BF-0C3D-404D-881B-A243CBE8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362147-4DAE-4B48-84D1-F20A4D80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54722E-C3ED-4C3C-8D03-C21E8C9B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F04E8F-67AC-4A9D-A8CF-05230373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4B85C-BBF4-4575-A607-D3AC5850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22BC7F-01C8-4681-9A3F-A9A034A0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4A8EBA-2297-4A01-BA69-71C71DD0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B778F0-8438-45DF-85AD-205EB40E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2EC31F-B0DA-441C-9D03-B4DF6C76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93B9F2-BF79-4E88-B195-3190118D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A045A-D827-4F21-A3FC-E92DAD6C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F32B8-6977-44FB-A013-C3FF4714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37D4C-150F-4FF6-BC24-4A495318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4674-C439-4651-BA57-88EC59F3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C01E9-4C8C-48E8-9BD7-672F40A3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4F0AB-C095-4D11-9020-BC7DA47C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02B5C-BEA8-4F75-B9D4-99D9387B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4EDDB-1320-44D4-B499-1A04FC87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14700-8C39-4B34-9C56-AFE37390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4FEF3-6F61-4DB5-91C1-2ECCF96F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77FD0-AA1C-4B37-87BA-A6F295AA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34F16-8CA1-49C3-A3DC-4B6C59DB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CDF4F-A15B-45B8-8961-A8F9F1B2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696E6-D01F-450F-8C84-B4090F26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9005-89B1-4A79-9134-6610DBA5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9C5F9-0ACD-4628-BE69-745D9A93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DA106-8B6A-4854-8DC5-A7E13B87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93E88-69F5-4DDA-A115-C3DE4A9E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D0946-DE05-4417-87BF-88888AA9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365ED-4871-4088-83E3-3D285ACB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D5DF4-7A77-46FC-A7F0-C86507FA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5F344-8C63-4223-939D-9343B9C0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8ED7C-A82B-4C37-A4A6-B55803A1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42836-E826-4171-9CB1-FB0A12CD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1E8C1-59F7-49F7-B8F8-BE59A959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FA1D-F58B-412D-B406-D512A9D0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BDEA2-8B85-473C-AA33-AA5CFD53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6BF3B-2120-4172-8170-4EAE465A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135D0-474C-4342-A6B7-A621FF45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199EA-FDF2-4060-BEC4-4AA378C9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0DC7B-6D22-4F58-808B-1EB4CEBF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FF76A-8C54-4C59-91B1-B5AA880B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BCB14-22A6-4BB1-870D-56E9A57D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66F7F-15A0-4AD5-A846-415CD325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C925C-0095-46B4-AFAC-367E55F2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CED68-83BB-4923-BC2B-CCCE7DB1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B720-F6BC-40A4-8568-7DF2726B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7A292-96F8-4EF5-911D-8497E119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C1F47-C5DA-4FBD-988D-E86D49A3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CA86C-BD31-4687-9ABB-40C51753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3BF7F-7639-4FD9-A4FE-33FA6911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78162-D8D7-47F4-97AE-6885914D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46EE9-9E5E-4F63-9BDB-A8AFA86B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694FE-BC42-43EC-841A-6FDD4ECB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933FD-D75B-4D78-9EE8-29888F18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BFB83-DA42-455B-870C-AFD140A4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8D9FB-E5D6-4FC7-87A1-1723B2FC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0FCB-265B-4D55-B9FC-9A61DD0D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214B7-8363-4F4E-AB39-745BD086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28FE1-9850-445E-ADD9-CFA1EC32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B8C5B-8CEF-4B32-BBB3-DEC6D86D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7E81B-D008-4581-ADED-159348D2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56147-299F-4815-A58E-62F8077C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FD429-3037-4D60-9567-D1E6A95E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AB887-F111-4A81-B5F5-94415EF4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57796-3945-40CD-84E7-AD97A7CD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5DDB6-5EED-4233-98DB-2CBFEA62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A103B-7AE1-4B1E-B95B-502BA55B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DB2A-C200-43FC-8E6D-48F979F8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D0DC6-C761-449C-9815-06C07D82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B0C19-E6C3-410A-8238-BAB9DD8A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8CC9B-B3B6-47AB-9091-3FDBA719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A85B5-3D3F-4322-9D03-90BEB99D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3B567-D8AF-4210-A731-EEB02899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A3DC6-8247-42ED-84A5-666A50BB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84E50-383E-4F22-B936-0687F4E6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6638A-4F5E-49AF-AB8E-35A832E9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B90DF-3C5E-4EFD-B37B-D2423B91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D9941-FE7B-416E-B225-A0284C97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60BF-C2CE-4279-BB90-87A9469F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6E72A-3E13-4C94-9522-34EC436C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7A45D-C946-41CB-923F-6DDFD0F0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A5639-0ED0-451A-B75F-F425C908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08873-EACB-45FD-9943-3190CF08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A21AA-041E-434E-8B0D-08653902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78D28-B60C-4E46-8B5E-22118A82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F22A4-5B76-4B15-8B37-7B0555DF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8DD22-8669-483E-95C4-6E4A8643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28C30-A5B0-4332-BCB5-1E33A24B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54F37-52B0-4DC3-8273-9FEA205A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45.xml"/><Relationship Id="rId35" Type="http://schemas.openxmlformats.org/officeDocument/2006/relationships/slideLayout" Target="../slideLayouts/slideLayout146.xml"/><Relationship Id="rId36" Type="http://schemas.openxmlformats.org/officeDocument/2006/relationships/slideLayout" Target="../slideLayouts/slideLayout147.xml"/><Relationship Id="rId37" Type="http://schemas.openxmlformats.org/officeDocument/2006/relationships/slideLayout" Target="../slideLayouts/slideLayout148.xml"/><Relationship Id="rId38" Type="http://schemas.openxmlformats.org/officeDocument/2006/relationships/slideLayout" Target="../slideLayouts/slideLayout149.xml"/><Relationship Id="rId39" Type="http://schemas.openxmlformats.org/officeDocument/2006/relationships/slideLayout" Target="../slideLayouts/slideLayout150.xml"/><Relationship Id="rId40" Type="http://schemas.openxmlformats.org/officeDocument/2006/relationships/slideLayout" Target="../slideLayouts/slideLayout151.xml"/><Relationship Id="rId41" Type="http://schemas.openxmlformats.org/officeDocument/2006/relationships/slideLayout" Target="../slideLayouts/slideLayout152.xml"/><Relationship Id="rId42" Type="http://schemas.openxmlformats.org/officeDocument/2006/relationships/slideLayout" Target="../slideLayouts/slideLayout153.xml"/><Relationship Id="rId43" Type="http://schemas.openxmlformats.org/officeDocument/2006/relationships/slideLayout" Target="../slideLayouts/slideLayout154.xml"/><Relationship Id="rId44" Type="http://schemas.openxmlformats.org/officeDocument/2006/relationships/slideLayout" Target="../slideLayouts/slideLayout155.xml"/><Relationship Id="rId4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57.xml"/><Relationship Id="rId32" Type="http://schemas.openxmlformats.org/officeDocument/2006/relationships/slideLayout" Target="../slideLayouts/slideLayout158.xml"/><Relationship Id="rId33" Type="http://schemas.openxmlformats.org/officeDocument/2006/relationships/slideLayout" Target="../slideLayouts/slideLayout159.xml"/><Relationship Id="rId34" Type="http://schemas.openxmlformats.org/officeDocument/2006/relationships/slideLayout" Target="../slideLayouts/slideLayout160.xml"/><Relationship Id="rId35" Type="http://schemas.openxmlformats.org/officeDocument/2006/relationships/slideLayout" Target="../slideLayouts/slideLayout161.xml"/><Relationship Id="rId36" Type="http://schemas.openxmlformats.org/officeDocument/2006/relationships/slideLayout" Target="../slideLayouts/slideLayout162.xml"/><Relationship Id="rId37" Type="http://schemas.openxmlformats.org/officeDocument/2006/relationships/slideLayout" Target="../slideLayouts/slideLayout163.xml"/><Relationship Id="rId38" Type="http://schemas.openxmlformats.org/officeDocument/2006/relationships/slideLayout" Target="../slideLayouts/slideLayout164.xml"/><Relationship Id="rId39" Type="http://schemas.openxmlformats.org/officeDocument/2006/relationships/slideLayout" Target="../slideLayouts/slideLayout165.xml"/><Relationship Id="rId40" Type="http://schemas.openxmlformats.org/officeDocument/2006/relationships/slideLayout" Target="../slideLayouts/slideLayout166.xml"/><Relationship Id="rId41" Type="http://schemas.openxmlformats.org/officeDocument/2006/relationships/slideLayout" Target="../slideLayouts/slideLayout167.xml"/><Relationship Id="rId42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C678-F1C9-4F16-9E33-EB86EA939B6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4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3BCF-C371-4AC4-80B9-55D45D1567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781E-8308-4B89-ADA4-26BC49C75E2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ftr" idx="3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F18E-D7E6-4EA5-B8EB-8524EF31C42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7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7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7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8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9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1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5F9F-0ACF-459D-AB2F-682C83BEC6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4"/>
    <p:sldLayoutId id="2147483806" r:id="rId35"/>
    <p:sldLayoutId id="2147483807" r:id="rId36"/>
    <p:sldLayoutId id="2147483808" r:id="rId37"/>
    <p:sldLayoutId id="2147483809" r:id="rId38"/>
    <p:sldLayoutId id="2147483810" r:id="rId39"/>
    <p:sldLayoutId id="2147483811" r:id="rId40"/>
    <p:sldLayoutId id="2147483812" r:id="rId41"/>
    <p:sldLayoutId id="2147483813" r:id="rId42"/>
    <p:sldLayoutId id="2147483814" r:id="rId43"/>
    <p:sldLayoutId id="2147483815" r:id="rId44"/>
    <p:sldLayoutId id="2147483816" r:id="rId4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7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7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7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8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9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1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9D75-EDD6-46A3-A632-6732E5FC37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1"/>
    <p:sldLayoutId id="2147483819" r:id="rId32"/>
    <p:sldLayoutId id="2147483820" r:id="rId33"/>
    <p:sldLayoutId id="2147483821" r:id="rId34"/>
    <p:sldLayoutId id="2147483822" r:id="rId35"/>
    <p:sldLayoutId id="2147483823" r:id="rId36"/>
    <p:sldLayoutId id="2147483824" r:id="rId37"/>
    <p:sldLayoutId id="2147483825" r:id="rId38"/>
    <p:sldLayoutId id="2147483826" r:id="rId39"/>
    <p:sldLayoutId id="2147483827" r:id="rId40"/>
    <p:sldLayoutId id="2147483828" r:id="rId41"/>
    <p:sldLayoutId id="2147483829" r:id="rId42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6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dt" idx="4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ftr" idx="4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2FD6-656D-4D9E-A274-5E63CCC18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1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dt" idx="4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ftr" idx="4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sldNum" idx="4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5E03-028E-4338-8AA3-02C9FE664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6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6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7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dt" idx="4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9E8B-4AC8-42DA-94D4-EB2DAB9E19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5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5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6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dt" idx="5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D91A-56CE-44A9-B53B-D978B39CFC1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24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25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DF6C-4100-47AB-9C9B-2A9618FACC9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685B-513A-40D2-A593-FA63651086F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2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33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157D-5A35-4247-8728-0A2944624B1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 type="dt" idx="6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7558-1A66-48D7-B844-E3414B2CD7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3115-F861-4EE3-AFDF-25C01D7E06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0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12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0244-F218-4564-BA8B-51E2611D85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57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59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63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A54A-7E2D-4378-93C8-A7B4B5DE26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06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1ADC-29C5-4AEC-B46A-A3B9249211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251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1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2FC0-EB48-47F9-9025-6D845C60EC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BE94-729E-480E-BC91-47FBABFE6F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301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1CFD-5D79-484C-99A6-3DF3922193D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48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CCAC-7430-43C5-B0F2-C4A9FCD055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4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755640" y="1557360"/>
            <a:ext cx="77724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Script MT Bold"/>
              </a:rPr>
              <a:t>Исследовательские задания для учащихся на уроках математики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91440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«Исследование взаимного расположения графиков обратной пропорциональности 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3" name=""/>
          <p:cNvGrpSpPr/>
          <p:nvPr/>
        </p:nvGrpSpPr>
        <p:grpSpPr>
          <a:xfrm>
            <a:off x="0" y="0"/>
            <a:ext cx="7812000" cy="6669000"/>
            <a:chOff x="0" y="0"/>
            <a:chExt cx="7812000" cy="6669000"/>
          </a:xfrm>
        </p:grpSpPr>
        <p:pic>
          <p:nvPicPr>
            <p:cNvPr id="1514" name="" descr=""/>
            <p:cNvPicPr/>
            <p:nvPr/>
          </p:nvPicPr>
          <p:blipFill>
            <a:blip r:embed="rId1"/>
            <a:stretch/>
          </p:blipFill>
          <p:spPr>
            <a:xfrm>
              <a:off x="0" y="76320"/>
              <a:ext cx="7812000" cy="65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4089240" y="2854440"/>
              <a:ext cx="4399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049560" y="2546280"/>
              <a:ext cx="4413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089240" y="231840"/>
              <a:ext cx="439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33400" y="260640"/>
              <a:ext cx="1820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1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у =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у =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у =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9" name=""/>
                <p:cNvSpPr txBox="1"/>
                <p:nvPr/>
              </p:nvSpPr>
              <p:spPr>
                <a:xfrm>
                  <a:off x="1663560" y="0"/>
                  <a:ext cx="29556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0" name=""/>
                <p:cNvSpPr txBox="1"/>
                <p:nvPr/>
              </p:nvSpPr>
              <p:spPr>
                <a:xfrm>
                  <a:off x="1663560" y="849240"/>
                  <a:ext cx="623880" cy="77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1" name=""/>
                <p:cNvSpPr txBox="1"/>
                <p:nvPr/>
              </p:nvSpPr>
              <p:spPr>
                <a:xfrm>
                  <a:off x="1763640" y="1628640"/>
                  <a:ext cx="37476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758880" y="2349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«Дробно-линейные функции и построение графиков 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3" name=""/>
          <p:cNvGrpSpPr/>
          <p:nvPr/>
        </p:nvGrpSpPr>
        <p:grpSpPr>
          <a:xfrm>
            <a:off x="0" y="0"/>
            <a:ext cx="7740360" cy="6857640"/>
            <a:chOff x="0" y="0"/>
            <a:chExt cx="7740360" cy="6857640"/>
          </a:xfrm>
        </p:grpSpPr>
        <p:pic>
          <p:nvPicPr>
            <p:cNvPr id="1524" name="" descr=""/>
            <p:cNvPicPr/>
            <p:nvPr/>
          </p:nvPicPr>
          <p:blipFill>
            <a:blip r:embed="rId1"/>
            <a:srcRect l="16430" t="0" r="16430" b="0"/>
            <a:stretch/>
          </p:blipFill>
          <p:spPr>
            <a:xfrm>
              <a:off x="0" y="0"/>
              <a:ext cx="774036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5" name=""/>
            <p:cNvSpPr/>
            <p:nvPr/>
          </p:nvSpPr>
          <p:spPr>
            <a:xfrm>
              <a:off x="5529600" y="2533320"/>
              <a:ext cx="46800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6ff66"/>
                  </a:solidFill>
                  <a:latin typeface="Arial"/>
                  <a:ea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980520" y="2021760"/>
              <a:ext cx="46800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422600" y="2752920"/>
              <a:ext cx="468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20680" y="741240"/>
              <a:ext cx="3125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у = 1/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у = 1/(х -2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у = 1 + 1/(х -2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9144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«Сдвиг графика функции у=ах</a:t>
            </a:r>
            <a:r>
              <a:rPr b="1" i="1" lang="en-US" sz="4000" spc="-1" strike="noStrike" baseline="30000">
                <a:solidFill>
                  <a:srgbClr val="ffffb7"/>
                </a:solidFill>
                <a:latin typeface="Arial Black"/>
              </a:rPr>
              <a:t>2</a:t>
            </a: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 вдоль осей координат 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0" name=""/>
          <p:cNvGrpSpPr/>
          <p:nvPr/>
        </p:nvGrpSpPr>
        <p:grpSpPr>
          <a:xfrm>
            <a:off x="0" y="-2520"/>
            <a:ext cx="8167680" cy="6860520"/>
            <a:chOff x="0" y="-2520"/>
            <a:chExt cx="8167680" cy="6860520"/>
          </a:xfrm>
        </p:grpSpPr>
        <p:grpSp>
          <p:nvGrpSpPr>
            <p:cNvPr id="1531" name=""/>
            <p:cNvGrpSpPr/>
            <p:nvPr/>
          </p:nvGrpSpPr>
          <p:grpSpPr>
            <a:xfrm>
              <a:off x="1081080" y="401760"/>
              <a:ext cx="7086600" cy="6456240"/>
              <a:chOff x="1081080" y="401760"/>
              <a:chExt cx="7086600" cy="6456240"/>
            </a:xfrm>
          </p:grpSpPr>
          <p:pic>
            <p:nvPicPr>
              <p:cNvPr id="153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1080" y="401760"/>
                <a:ext cx="7086600" cy="645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3" name=""/>
              <p:cNvSpPr/>
              <p:nvPr/>
            </p:nvSpPr>
            <p:spPr>
              <a:xfrm>
                <a:off x="4738680" y="29160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624200" y="38304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624200" y="4516200"/>
                <a:ext cx="45720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624200" y="47448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624200" y="52020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ff"/>
                    </a:solidFill>
                    <a:latin typeface="Arial"/>
                  </a:rPr>
                  <a:t>5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624200" y="5887800"/>
                <a:ext cx="5713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9" name=""/>
            <p:cNvSpPr/>
            <p:nvPr/>
          </p:nvSpPr>
          <p:spPr>
            <a:xfrm>
              <a:off x="0" y="-2520"/>
              <a:ext cx="806616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Сдвиг графика функции 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y</a:t>
              </a:r>
              <a:r>
                <a:rPr b="1" lang="ru-RU" sz="2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=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ax</a:t>
              </a:r>
              <a:r>
                <a:rPr b="1" lang="ru-RU" sz="2800" spc="-1" strike="noStrike" baseline="30000">
                  <a:solidFill>
                    <a:srgbClr val="ffff00"/>
                  </a:solidFill>
                  <a:latin typeface="Arial"/>
                  <a:ea typeface="Times New Roman"/>
                </a:rPr>
                <a:t>2</a:t>
              </a:r>
              <a:r>
                <a:rPr b="1" lang="ru-RU" sz="2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 вдоль оси оу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) у=0,5х2 ;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2)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 у = 0,5х2 +1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3)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 у = 0,5х2+2;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) у = 0,5х2+4;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) у = 0,5х2-1;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) у = 0,5х2-3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1116000" y="90792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ahoma"/>
              </a:rPr>
              <a:t>Задача - исследование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1042560" y="1989000"/>
            <a:ext cx="8101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ahoma"/>
              </a:rPr>
              <a:t>График функции у=ах</a:t>
            </a:r>
            <a:r>
              <a:rPr b="0" i="1" lang="ru-RU" sz="6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ru-RU" sz="66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i="1" lang="en-US" sz="6600" spc="-1" strike="noStrike">
                <a:solidFill>
                  <a:srgbClr val="ffffff"/>
                </a:solidFill>
                <a:latin typeface="Tahoma"/>
              </a:rPr>
              <a:t>bx+c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263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Исследуйте, как влияет на график изменение одного из коэффициентов а,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b 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и с в уравнении параболы. Для этого:</a:t>
            </a:r>
            <a:br>
              <a:rPr sz="2900"/>
            </a:b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1)в одной системе координат начертите параболы у=х</a:t>
            </a:r>
            <a:r>
              <a:rPr b="0" lang="ru-RU" sz="29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-4х+с для с=0;1;2;4 и с=-1;-2;-4;</a:t>
            </a:r>
            <a:br>
              <a:rPr sz="2900"/>
            </a:b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2) в одной системе координат начертите параболы у=х</a:t>
            </a:r>
            <a:r>
              <a:rPr b="0" lang="ru-RU" sz="29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+b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х+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 для 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=0;1;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;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 и с=-1;-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;-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;</a:t>
            </a:r>
            <a:br>
              <a:rPr sz="2900"/>
            </a:b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) в одной системе координат начертите параболы у=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0" lang="ru-RU" sz="29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+4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-5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 для 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0,5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;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;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2;3.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)в одной системе координат начертите параболы у=х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4х+с для с=0;1;2;4 и с=-1;-2;-4;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4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2) в одной системе координат начертите параболы у=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+b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х+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для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0;1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и с=-1;-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;-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;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6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5 </a:t>
            </a:r>
            <a:r>
              <a:rPr b="0" lang="ru-RU" sz="4800" spc="-1" strike="noStrike">
                <a:solidFill>
                  <a:srgbClr val="ffff99"/>
                </a:solidFill>
                <a:latin typeface="Arial"/>
              </a:rPr>
              <a:t>класс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subTitle"/>
          </p:nvPr>
        </p:nvSpPr>
        <p:spPr>
          <a:xfrm>
            <a:off x="755640" y="2852640"/>
            <a:ext cx="7632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unga"/>
              </a:rPr>
              <a:t>«Изменение суммы и разности натуральных чисел»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1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) в одной системе координат начертите параболы у=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+4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5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для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0,5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;3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8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аблица 1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92" name=""/>
          <p:cNvGraphicFramePr/>
          <p:nvPr/>
        </p:nvGraphicFramePr>
        <p:xfrm>
          <a:off x="1432080" y="2154240"/>
          <a:ext cx="7338960" cy="3492360"/>
        </p:xfrm>
        <a:graphic>
          <a:graphicData uri="http://schemas.openxmlformats.org/drawingml/2006/table">
            <a:tbl>
              <a:tblPr/>
              <a:tblGrid>
                <a:gridCol w="1807920"/>
                <a:gridCol w="792360"/>
                <a:gridCol w="947520"/>
                <a:gridCol w="947880"/>
                <a:gridCol w="947880"/>
                <a:gridCol w="949320"/>
                <a:gridCol w="94608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лагаем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лагаем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 класс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92000" y="3211920"/>
            <a:ext cx="835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99"/>
                </a:solidFill>
                <a:uFillTx/>
                <a:latin typeface="Comic Sans MS"/>
              </a:rPr>
              <a:t>«Делимость произведения»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ыяснить делится ли следующие  произведения на 5: </a:t>
            </a:r>
            <a:br>
              <a:rPr sz="3600"/>
            </a:br>
            <a:br>
              <a:rPr sz="40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6" name=""/>
          <p:cNvSpPr/>
          <p:nvPr/>
        </p:nvSpPr>
        <p:spPr>
          <a:xfrm>
            <a:off x="826920" y="3222360"/>
            <a:ext cx="69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25 •  13;     в) 339 •  25;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76 •  20;      г) 1237 •  5235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линна окруж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8" name=""/>
          <p:cNvSpPr/>
          <p:nvPr/>
        </p:nvSpPr>
        <p:spPr>
          <a:xfrm>
            <a:off x="1908000" y="2852640"/>
            <a:ext cx="3024360" cy="2881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659640" y="2421000"/>
            <a:ext cx="136836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250920" y="5589720"/>
            <a:ext cx="1008000" cy="934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1" name=""/>
          <p:cNvGraphicFramePr/>
          <p:nvPr/>
        </p:nvGraphicFramePr>
        <p:xfrm>
          <a:off x="468360" y="304920"/>
          <a:ext cx="8141760" cy="5790960"/>
        </p:xfrm>
        <a:graphic>
          <a:graphicData uri="http://schemas.openxmlformats.org/drawingml/2006/table">
            <a:tbl>
              <a:tblPr/>
              <a:tblGrid>
                <a:gridCol w="1792080"/>
                <a:gridCol w="997920"/>
                <a:gridCol w="1005840"/>
                <a:gridCol w="1087920"/>
                <a:gridCol w="1084320"/>
                <a:gridCol w="1087560"/>
                <a:gridCol w="1086120"/>
              </a:tblGrid>
              <a:tr h="193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, длина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-т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,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метр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3" name=""/>
              <p:cNvSpPr txBox="1"/>
              <p:nvPr/>
            </p:nvSpPr>
            <p:spPr>
              <a:xfrm>
                <a:off x="1042920" y="4292640"/>
                <a:ext cx="71604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7 класс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95280" y="1699560"/>
            <a:ext cx="828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Script MT Bold"/>
              </a:rPr>
              <a:t>«Исследование зависимости расстояния от времени и условия построения графиков данной зависимости»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/>
          <p:nvPr/>
        </p:nvSpPr>
        <p:spPr>
          <a:xfrm>
            <a:off x="3976560" y="358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2700360" y="692280"/>
            <a:ext cx="6106680" cy="6165360"/>
            <a:chOff x="2700360" y="692280"/>
            <a:chExt cx="6106680" cy="6165360"/>
          </a:xfrm>
        </p:grpSpPr>
        <p:pic>
          <p:nvPicPr>
            <p:cNvPr id="1508" name="" descr=""/>
            <p:cNvPicPr/>
            <p:nvPr/>
          </p:nvPicPr>
          <p:blipFill>
            <a:blip r:embed="rId1"/>
            <a:stretch/>
          </p:blipFill>
          <p:spPr>
            <a:xfrm>
              <a:off x="2700360" y="781560"/>
              <a:ext cx="6106680" cy="60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9" name=""/>
            <p:cNvSpPr/>
            <p:nvPr/>
          </p:nvSpPr>
          <p:spPr>
            <a:xfrm>
              <a:off x="3216960" y="692280"/>
              <a:ext cx="58860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(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км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082000" y="4200480"/>
              <a:ext cx="588240" cy="11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(ч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84360" y="836640"/>
            <a:ext cx="1657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Script MT Bold"/>
              </a:rPr>
              <a:t>V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=3 </a:t>
            </a: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км/ч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8:15:20Z</dcterms:created>
  <dc:creator>Серега</dc:creator>
  <dc:description/>
  <dc:language>en-US</dc:language>
  <cp:lastModifiedBy>Серега</cp:lastModifiedBy>
  <dcterms:modified xsi:type="dcterms:W3CDTF">2007-03-26T09:59:03Z</dcterms:modified>
  <cp:revision>5</cp:revision>
  <dc:subject/>
  <dc:title>Исследовательские задания для учащихся на уроках математики </dc:title>
</cp:coreProperties>
</file>