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692-8C00-4BB2-AA0C-174A6D74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B2A-79A6-456D-9D60-28E4F0FC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6CF5D-44FC-49F6-B8F1-DE19755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D0065-E4B2-44F0-A9C9-6863F799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DF315-CC7A-4F0A-A86D-7466011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7F1C-8FC7-4A86-8136-9C9D8A4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CC221-25C4-4504-AC4F-36D2795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E9D7-BD97-4AFA-B370-3383C5C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F627-785E-4DEF-A1E6-1FBE8180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334C-3989-4667-BE5D-C2AE844F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1F0F3-31CA-4B2A-8D5B-80E09422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95218-DB90-44AF-80A6-81B0B40E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CDC-E406-4855-9391-3B0EC26D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D6A7-AC35-4A67-9BD5-D7288D6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FA88A-CEA8-41E9-A939-4E14FDD1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63C69-0706-4202-A642-F0301CC0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F396D-E2D1-430C-9785-19F0BDB0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C5BAB-6FDF-4D9C-983F-61A3B892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91B5E-AF57-49BD-B50E-1757B76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BFCD0-02B6-41A6-8403-F690ADE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4F553-9652-4B44-8AB7-C8E7EBB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88893-19ED-4A15-A938-1F39303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1110F-B313-49D7-B09B-B8BF3DDE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1E3-94DA-4DFE-A5FE-56120BBF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D7625-5404-46D6-A48A-EDE910C0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2875-5DD8-4032-B35E-BDF7A6B3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F4D2B-EF4E-4F07-AC69-CD4BE9D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1B5FE-E82C-4EB6-B0DA-E0EE8BE6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5A082-8F35-4611-BDF8-3A5223C2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0E89-1FCF-42D2-BFFD-1172034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D6C09-10A9-4AB2-89D6-1EA40BF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65B9-1BA0-4A4A-A699-A6FCCE9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0C0E-0156-4C76-A614-C6A3A84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29EB-C1D1-465D-9C77-50DCE04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4BF6-1436-4579-AFAF-0E33CF8A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F77D-3828-4A1C-9199-3BFE2B0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1CF6-F9D0-439E-94C3-A6F43A5B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93FE-FDCE-458F-85FF-B987067D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06097-4BE7-44B8-8ADA-77B9A428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D943D-0E1E-4CB1-A8FE-0C3F05B8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4611F-D863-4E62-9EDF-ACEBBD9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A4DA-950C-47AD-A791-47AC607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214AC-337A-48E2-9F5A-AC0F3500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BE8DF-6FEE-4A6B-B4FA-742E73C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D0C5E-DDBC-476E-9E28-F6D14E3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B4F-A414-401F-A0E5-BF480FD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376E2-FFD3-4881-BA23-599788C5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1E2FE-7D64-4815-BF85-618E98A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7417C-C90B-4741-9252-E54A5909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E4515-09A3-46F8-8CFC-386C9099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1F3D-DF8B-4F0E-BD15-5588B1B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73ED8-FF5D-45DB-BD86-8552F04B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84615-7FAF-46B0-917E-B8BAF61F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0B9F8-EE3D-40E2-AEE0-47055E60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09B19-4AD8-4C13-970D-AC6EBD74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21FCD-656E-4EAD-888D-47C820E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84CA-7FDF-4D40-A6C9-07E46D0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F0F16-AA71-4B9F-90F1-EA244AFA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51D0F-E3B6-46F9-91E2-78132AA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979ED-80CA-47BA-9BAD-6325BFD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80397-60C9-4409-8C7A-6FAC558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5C2C9-9F24-4D47-B8C9-351C900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CB767-71CF-4A76-BAF2-DF1D0DEE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D7771-00AC-46FC-9C97-FB962811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BD3A8-0705-49AC-BF19-7791CEB7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3617C-2978-49D7-8504-D2E0A5B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EF2D5-5258-4B1B-9862-49E4046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4929-55AE-46BD-995E-6591B48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D0142-DFFE-4D6D-8CBC-FC24DA7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2A52C-80A5-4AA4-945F-07A0487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9074-7578-4992-85BB-1FD7C08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4BD46-D72C-4EFE-9345-E4AC64E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32E7B-D894-4E85-9A7A-9F86BA6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4B77A-04D2-4E0E-8D43-E6FAB07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35224-332B-4DB2-B4D9-E4A0094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B2823-084C-4A1A-A54E-52B93856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AFD2A-03D5-459B-A00B-A950C570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262C0-54D4-4DAF-BBA8-65069CCF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A19D-984D-4B64-9E38-A307C71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BB53B-3D8E-4D00-8EC8-179D8389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3824C-2E5B-4B7D-A6F7-F1003A9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43769-E02A-47E4-A99C-FE7CD0D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429FD-2156-4D3D-A964-E3FC0FDC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ED9E0-D172-473B-A84D-E8A13B65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91B58-889C-4777-9C78-8716069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BA05E-3066-4077-96F3-504B0A4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E7A27-DF66-4F0A-92AA-3CDA472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E08A3-2B07-4B6C-B2DD-72329050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3659C-688A-4711-9305-10F31E3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3B1-BDCD-4F02-B73B-A2EB68B1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7E887-148B-4D72-B003-860B5808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51100-0BEB-4DA6-9DC3-BF3C368C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75855-0496-463D-A4D0-F805B603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1D2CF-C98E-4C8F-89BC-00D3F522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48BED-1819-4765-B321-91DFFFBE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B9A34-331D-4207-8D14-D20BFF9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C974A-E11F-4AF9-A947-6F40A1AA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8F17E-65D1-4A6F-B9D6-E5E0D40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7E524-BD81-4DE8-8C65-28B51CC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16CB0-BD56-4E36-90B3-58B4CFC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F8C-9569-46CA-9D13-0AE2BD2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64F76-364F-4CC4-B0D3-CE27636B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0322A-2341-446E-8000-62C41069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81FEE-DAF2-4020-AA39-858F5CD5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E6AC5-2AB8-4320-A118-E3EF65AC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60CA6-B7AA-4D00-B584-3047778B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2BFC7-1B9D-419C-BC46-31E9AAF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D2B1C-E1C7-4C66-9BE7-009B94A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A333E-E1AE-4091-911E-107C524F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83322-F5D0-49FE-B558-DEECEB3A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835E9-36FD-478D-A918-ECD851A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E33-922B-4D92-AAD3-201B0DD0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5C55-3425-4B9A-BBED-625E9CE8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9193D-4344-45E0-A4E0-87DA1CEB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166CE-46C2-4BDC-B2E5-E0A3A41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CA351-0816-4E16-8DE7-D14F246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1513F-21A8-4202-ADA7-05772FCE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B76D6-7D33-4813-8568-D925F27F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79A13-9F7F-4962-BDF2-1B2ED4D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D7A99-61B1-496C-B3E7-C4AE911E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63CF5-922F-4DC3-A0AE-8354F2B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8DB33B-BF5F-46EE-B603-D726868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6E604-0AC7-4545-B644-46E6DECB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2D17-C3C5-4EFC-8DFF-474576C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0188E-2564-4B46-B6BC-D5FD939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D95CA-BBCF-4823-9B42-086C7CF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AD91A-35EE-435A-80CA-1160327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E07BA-9127-4C42-9925-1DE72864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61E94-A549-44F1-84CF-BD83B4F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A2A2A-2BF0-440E-98E7-95841D6D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82B9F-5A07-4064-8C03-6445B7D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F0053-B5F3-41AD-B2CE-AE2C93CB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556D8-926F-4F87-86BC-DDDEC9A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28A0F-E57B-4CFB-977C-1418826B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197-24F1-4033-8134-6CF0348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000B3-7B7F-48EF-B604-B549B4A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3A4DE-26D3-4624-8504-C29A6DB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8DC56-30DF-4746-A83F-95B09D7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CC5F6-3D9A-4306-85F5-75F2857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44F5F-6E0C-402B-AFE3-3CE955C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6D584-ABB3-4CD9-A2C5-2F88C3B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95B011-9ED1-43E6-A99D-0BEE6E4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918F3-97D9-49BA-BA3B-994D92C0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40209-5DBE-478F-9871-886A43B8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8FFB0-6D96-4898-BFD4-AB2D194B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8401-D6E8-47D0-8C41-B01366EC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9EC22-866F-43B9-9607-7268C132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07E65-4841-44C8-9834-C5F56EE9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363DE-5961-4588-A96C-760D20D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46966-FB26-4767-B85E-97C3167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35D11-5121-4C4F-8AA6-AB977D4C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A0B93-AECA-4353-BDD1-E27AB5C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2B120-BD40-497C-9E56-81AF84A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C541B-1284-472B-9F3C-713708A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E4CB0-F329-4C0A-B7B2-B639226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A95CB-3997-43D2-872D-3AC11B7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DCB0-AAA3-405C-8F42-4E4C77B2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46AB3-A6BC-4F50-BA7F-F9CA3F2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8DD8D-8CE4-4443-992C-E9324666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CF781-6CE4-4905-AB9B-AEA37ECB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4BAE8-026E-4FCE-8AB1-1EE6CA97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80D22-E994-4EE1-9511-D7609CB1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8B55C-D690-45F8-B838-E9CB4ED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4E023-FEFC-4B5F-ACBD-BF35686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EE25D-5AF9-40EC-A8C0-84C00AB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4BA61-638D-4C6A-A399-D9F9AA9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0BB23-0D12-462E-BE76-C5E81C9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C1DB-740C-418C-B223-E099C7DF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52312-A95B-4586-A307-3758056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8311C-1E6A-49D3-8BB8-E5C415A3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FDABB-CB3E-4E18-8F8D-E28D797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5D8C5-CBC3-4374-A397-5A917CA2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7A092-ABA6-4C77-8DF6-D897415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4E694-BCC7-4E7D-B3DC-F93BEC62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44C30D-B83E-41E0-852B-96C6B413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CB835-7842-4C84-AC8C-98C38CF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1A3325-8BF8-4451-8587-14D26E9A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D52412-7FAD-43BE-806A-2E76682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D351-1614-4FC1-B508-E773A73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AB6C6A-838D-4034-841E-342AACE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0B3B9-0D01-4124-A05C-3226E39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734D8-CE05-4632-9F35-DB8D94C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552256-9AFE-4FD0-86BF-9F2C149A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556938-3570-4344-B4EA-2A026FDA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75DE-426E-429F-9F50-80272FC8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8EFA-260B-4531-A823-9EA9FD6D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B11A-899B-41A7-A6D8-8764EA4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292-1401-4C61-96DC-C611922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C66B-EE9B-4AD9-8B5A-E7730E3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F8C6-332F-4E11-A48F-BCF114F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B6E6-DFC7-4144-B0F2-BA73A58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DCE6-6AD5-47FD-AB8C-6772E4A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9C0C-18CD-47B0-82BF-4F35195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6B8C-CC27-41BE-A2C4-1E8EA786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CFA9-B4D1-43C3-B1AB-D520E59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6E75-A56D-4572-B7B5-EE46C4D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871B-575F-4B65-8907-45BF8F3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35C2-5CB6-4922-AB54-3C1D146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543-A17C-4626-8BBE-8418026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DDF0-8F65-4A73-8495-D28E402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58A5-4D1D-4F56-9E4D-A1ACE54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C656-6FD4-4497-8E7B-D6D1144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BC80-8D40-4372-98D5-D0C83C2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6F847-5D57-439D-A203-6A9A269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DEAA-0B33-42ED-85DD-8DCC9FD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BEAF-2A24-468A-8D94-CBABB053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777C-37E8-40EC-9340-7D08FD25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A1C7-23BD-4E7A-96F5-1819FE48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2F64-D5D9-4F74-812A-55FDA007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4FF-F234-49EA-85AC-CEB8CC09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0E968-D431-4FC3-8427-D3443AA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CCF4-9868-478D-B843-F8FED3C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C33A-25BD-443F-9A53-E6B9FC5D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06AF-819C-49A9-BE47-3CE1A19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E0A9-E872-4416-AB9B-0438DBC0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056E-FAF3-408D-8D54-EF8AE6E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103B-4C66-40C2-B6B1-FF36B7A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9B2D-B44F-47F9-95AB-1EBA0BF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9A90-B288-48FE-A5B6-FF5EAD1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ADD9-3458-4749-8343-9EE5D16F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0F9-7BA5-4A0A-8EAA-04AA37A3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E67B-2350-4F53-B199-EE5B2656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CB29-9357-4567-9EAE-3DDA11F2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CA0D-A646-4146-8E9D-9EF3A126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DC74-E0EB-4990-A423-6C20721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7B16-1C92-44FD-AD14-2746CC1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A0909-65BA-4457-9F0E-4AD69FD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4F74-6925-4397-B289-F2DE0A8A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48AE-12F0-4E32-9B9E-B459271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229F-7833-41BC-93BF-876EE18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EE69-69AA-4507-AFA4-6F02A81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047-543B-456E-8315-66423E42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0869E-589C-458A-B2B5-846373F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14C2-1B9F-4A47-8711-B6434D08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C648-D5D7-46C1-9920-34170B64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58A8-8632-4507-B10C-19860A78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F29E-40EE-4F01-9433-22F05AE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9285B-1BF9-49B5-9003-9865548C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4984-0F9F-49A7-91B2-FFFA1235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A647-7FD2-4A9C-8098-109C3DE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9A62-FDEA-4060-B43C-25DDB2E7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39A1B-DB21-4B2A-A020-8374B36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43A-C5BC-4F1B-83E5-4A315F7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F17D-BE71-4DD6-A069-244531E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F1B9-A473-446C-8D4E-02022E5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CD27-DFF4-42A9-B10D-90286A2C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34D5-3956-4A80-8F2C-F64738C6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6191-9091-42CA-A3F9-523C5F88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AA09-4C79-4D94-837C-D4AF2412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EF148-3BE6-4C60-8A1B-C6B8CF3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B2A7-95A3-47B7-865F-812B833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F136C-ADDD-4552-A14D-C6F36FD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185E-DCCA-49A4-A900-A22E0B7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071-6AC8-4979-99B4-DE7E493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8B3A8-4720-43F6-B6C4-EFDDDF5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54868-F45B-49C1-BDA0-087F1FB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78F1-F251-4E6F-9EE4-3A48C5F4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B9707-7A68-4728-AE1B-58601F4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371A-DF07-4846-9C83-6F578EC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C71D-6E36-4B84-9DE2-24F45017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7A34-88B0-4922-959A-5155DE8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AF2C8-FC96-4C83-BA31-D955BB0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7E4F-58CA-4C88-9A3F-96752E4D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4C55F-9776-4A34-9652-81D6100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CEF-9BF9-4A4D-91B9-D49AD1B993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F37-486D-4DB3-8599-AA2DD139F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C04-8F41-4E68-82EB-5B56FEB37F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47A2-9192-47CE-84DE-ACCA942BC2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EDA8-5A34-40C5-AA28-BCE8F50E0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CBCF-6F67-408D-ADA1-CC6C0C8A8E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6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CE0-1455-428C-A58E-1C0E91583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1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A91-6E60-457E-B66D-91785C79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7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F9A-6D2F-4B03-8215-CC685BF935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dt" idx="5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55C-7DBA-4E4D-B53A-CAC5655085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4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A90-A30E-4A40-B8AD-17C14B9145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BAE-2BCC-4B28-823F-4D44F8C6CE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9639-B27D-4D0E-87B6-50E5F6E656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79E2-5CE4-42B7-859F-530E112CBF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4038-3E0F-4907-A253-4CECF8D8C5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C32-FA00-4E7C-AF22-F91A71E99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F5B-E458-4313-8790-0F13A2AECD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8FBF-8DD5-4643-9B54-9A5309F1E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5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9C4-F797-43EC-B46E-CCBA5A15F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C246-5906-4DFC-B24E-372F1C14D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1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D038-9647-43C2-B062-3A8F2E934C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48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E3AD-7CDC-44DD-BE8D-A33BA8D785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Script MT Bold"/>
              </a:rPr>
              <a:t>Исследовательские задания для учащихся на уроках математики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«Исследование взаимного расположения графиков обратной пропорциональности 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"/>
          <p:cNvGrpSpPr/>
          <p:nvPr/>
        </p:nvGrpSpPr>
        <p:grpSpPr>
          <a:xfrm>
            <a:off x="0" y="0"/>
            <a:ext cx="7812000" cy="6669000"/>
            <a:chOff x="0" y="0"/>
            <a:chExt cx="7812000" cy="6669000"/>
          </a:xfrm>
        </p:grpSpPr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7812000" cy="65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4089240" y="2854440"/>
              <a:ext cx="439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49560" y="2546280"/>
              <a:ext cx="441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89240" y="231840"/>
              <a:ext cx="43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33400" y="260640"/>
              <a:ext cx="182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 =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9" name=""/>
                <p:cNvSpPr txBox="1"/>
                <p:nvPr/>
              </p:nvSpPr>
              <p:spPr>
                <a:xfrm>
                  <a:off x="1663560" y="0"/>
                  <a:ext cx="29556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0" name=""/>
                <p:cNvSpPr txBox="1"/>
                <p:nvPr/>
              </p:nvSpPr>
              <p:spPr>
                <a:xfrm>
                  <a:off x="1663560" y="849240"/>
                  <a:ext cx="6238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1" name=""/>
                <p:cNvSpPr txBox="1"/>
                <p:nvPr/>
              </p:nvSpPr>
              <p:spPr>
                <a:xfrm>
                  <a:off x="1763640" y="1628640"/>
                  <a:ext cx="3747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75888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Дробно-линейные функции и построение графиков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"/>
          <p:cNvGrpSpPr/>
          <p:nvPr/>
        </p:nvGrpSpPr>
        <p:grpSpPr>
          <a:xfrm>
            <a:off x="0" y="0"/>
            <a:ext cx="7740360" cy="6857640"/>
            <a:chOff x="0" y="0"/>
            <a:chExt cx="7740360" cy="6857640"/>
          </a:xfrm>
        </p:grpSpPr>
        <p:pic>
          <p:nvPicPr>
            <p:cNvPr id="1524" name="" descr=""/>
            <p:cNvPicPr/>
            <p:nvPr/>
          </p:nvPicPr>
          <p:blipFill>
            <a:blip r:embed="rId1"/>
            <a:srcRect l="16430" t="0" r="16430" b="0"/>
            <a:stretch/>
          </p:blipFill>
          <p:spPr>
            <a:xfrm>
              <a:off x="0" y="0"/>
              <a:ext cx="774036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>
              <a:off x="5529600" y="253332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ff66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980520" y="2021760"/>
              <a:ext cx="468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422600" y="2752920"/>
              <a:ext cx="468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0680" y="741240"/>
              <a:ext cx="3125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у = 1 + 1/(х -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«Сдвиг графика функции у=ах</a:t>
            </a:r>
            <a:r>
              <a:rPr b="1" i="1" lang="en-US" sz="4000" spc="-1" strike="noStrike" baseline="30000">
                <a:solidFill>
                  <a:srgbClr val="ffffb7"/>
                </a:solidFill>
                <a:latin typeface="Arial Black"/>
              </a:rPr>
              <a:t>2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 вдоль осей координат 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-2520"/>
            <a:ext cx="8167680" cy="6860520"/>
            <a:chOff x="0" y="-2520"/>
            <a:chExt cx="8167680" cy="6860520"/>
          </a:xfrm>
        </p:grpSpPr>
        <p:grpSp>
          <p:nvGrpSpPr>
            <p:cNvPr id="1531" name=""/>
            <p:cNvGrpSpPr/>
            <p:nvPr/>
          </p:nvGrpSpPr>
          <p:grpSpPr>
            <a:xfrm>
              <a:off x="1081080" y="401760"/>
              <a:ext cx="7086600" cy="6456240"/>
              <a:chOff x="1081080" y="401760"/>
              <a:chExt cx="7086600" cy="6456240"/>
            </a:xfrm>
          </p:grpSpPr>
          <p:pic>
            <p:nvPicPr>
              <p:cNvPr id="15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1080" y="401760"/>
                <a:ext cx="7086600" cy="64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4738680" y="2916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624200" y="38304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624200" y="4516200"/>
                <a:ext cx="457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624200" y="4744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624200" y="52020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5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624200" y="5887800"/>
                <a:ext cx="5713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0" y="-2520"/>
              <a:ext cx="806616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двиг графика функции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y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=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ax</a:t>
              </a:r>
              <a:r>
                <a:rPr b="1" lang="ru-RU" sz="2800" spc="-1" strike="noStrike" baseline="30000">
                  <a:solidFill>
                    <a:srgbClr val="ffff00"/>
                  </a:solidFill>
                  <a:latin typeface="Arial"/>
                  <a:ea typeface="Times New Roman"/>
                </a:rPr>
                <a:t>2</a:t>
              </a:r>
              <a:r>
                <a:rPr b="1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вдоль оси о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=0,5х2 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 +1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)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у = 0,5х2+2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+4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1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 у = 0,5х2-3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Задача - исследовани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График функции у=ах</a:t>
            </a:r>
            <a:r>
              <a:rPr b="0" i="1" lang="ru-RU" sz="6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bx+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263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сследуйте, как влияет на график изменение одного из коэффициентов а,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 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и с в уравнении параболы. Для этого: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1)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-4х+с для с=0;1;2;4 и с=-1;-2;-4;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2) в одной системе координат начертите параболы у=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0;1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и с=-1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-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2900"/>
            </a:b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) в одной системе координат начертите параболы у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ru-RU" sz="29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+4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 для 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0,5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ru-RU" sz="2900" spc="-1" strike="noStrike">
                <a:solidFill>
                  <a:srgbClr val="ff0000"/>
                </a:solidFill>
                <a:latin typeface="Tahoma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2;3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)в одной системе координат начертите параболы у=х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4х+с для с=0;1;2;4 и с=-1;-2;-4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) в одной системе координат начертите параболы у=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0;1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с=-1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5 </a:t>
            </a: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класс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unga"/>
              </a:rPr>
              <a:t>«Изменение суммы и разности натуральных чисел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в одной системе координат начертите параболы у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,5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;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аблица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1432080" y="2154240"/>
          <a:ext cx="7338960" cy="3492360"/>
        </p:xfrm>
        <a:graphic>
          <a:graphicData uri="http://schemas.openxmlformats.org/drawingml/2006/table">
            <a:tbl>
              <a:tblPr/>
              <a:tblGrid>
                <a:gridCol w="1807920"/>
                <a:gridCol w="792360"/>
                <a:gridCol w="947520"/>
                <a:gridCol w="947880"/>
                <a:gridCol w="947880"/>
                <a:gridCol w="949320"/>
                <a:gridCol w="946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лагаем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92000" y="3211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99"/>
                </a:solidFill>
                <a:uFillTx/>
                <a:latin typeface="Comic Sans MS"/>
              </a:rPr>
              <a:t>«Делимость произведения»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яснить делится ли следующие  произведения на 5: </a:t>
            </a: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826920" y="322236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25 •  13;     в) 339 •  25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76 •  20;      г) 1237 •  5235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линна окруж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>
            <a:off x="1908000" y="2852640"/>
            <a:ext cx="3024360" cy="288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659640" y="2421000"/>
            <a:ext cx="13683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50920" y="5589720"/>
            <a:ext cx="1008000" cy="934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1" name=""/>
          <p:cNvGraphicFramePr/>
          <p:nvPr/>
        </p:nvGraphicFramePr>
        <p:xfrm>
          <a:off x="468360" y="304920"/>
          <a:ext cx="8141760" cy="5790960"/>
        </p:xfrm>
        <a:graphic>
          <a:graphicData uri="http://schemas.openxmlformats.org/drawingml/2006/table">
            <a:tbl>
              <a:tblPr/>
              <a:tblGrid>
                <a:gridCol w="1792080"/>
                <a:gridCol w="997920"/>
                <a:gridCol w="1005840"/>
                <a:gridCol w="1087920"/>
                <a:gridCol w="1084320"/>
                <a:gridCol w="1087560"/>
                <a:gridCol w="1086120"/>
              </a:tblGrid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, длина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-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1042920" y="4292640"/>
                <a:ext cx="7160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95280" y="16995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Script MT Bold"/>
              </a:rPr>
              <a:t>«Исследование зависимости расстояния от времени и условия построения графиков данной зависимост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976560" y="35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2700360" y="692280"/>
            <a:ext cx="6106680" cy="6165360"/>
            <a:chOff x="2700360" y="692280"/>
            <a:chExt cx="6106680" cy="6165360"/>
          </a:xfrm>
        </p:grpSpPr>
        <p:pic>
          <p:nvPicPr>
            <p:cNvPr id="1508" name="" descr=""/>
            <p:cNvPicPr/>
            <p:nvPr/>
          </p:nvPicPr>
          <p:blipFill>
            <a:blip r:embed="rId1"/>
            <a:stretch/>
          </p:blipFill>
          <p:spPr>
            <a:xfrm>
              <a:off x="2700360" y="781560"/>
              <a:ext cx="6106680" cy="60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3216960" y="692280"/>
              <a:ext cx="5886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(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м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82000" y="4200480"/>
              <a:ext cx="58824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(ч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84360" y="836640"/>
            <a:ext cx="165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=3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15:20Z</dcterms:created>
  <dc:creator>Серега</dc:creator>
  <dc:description/>
  <dc:language>en-US</dc:language>
  <cp:lastModifiedBy>Серега</cp:lastModifiedBy>
  <dcterms:modified xsi:type="dcterms:W3CDTF">2007-03-26T09:59:03Z</dcterms:modified>
  <cp:revision>5</cp:revision>
  <dc:subject/>
  <dc:title>Исследовательские задания для учащихся на уроках математики </dc:title>
</cp:coreProperties>
</file>