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A1B-334E-46A2-8431-8CF3AB39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AE3B-E253-4DEE-870E-8CF2E589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619E0-94A3-4B27-A3C7-30A2908D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09D7E-0028-4899-BC40-CFF87565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F52D4-B7D7-47C6-B708-D7CA0C99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27B77-78E1-41FA-B2DB-89B95D20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DA754-BC88-4B70-A0F3-E4C8E182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9B2DC-7E99-443F-B60E-FC6C1793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35184-1176-48A0-8303-1E29AA98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21E3A-614F-48B7-AF5D-1736E1AF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98BE4-7DF4-4832-BD7C-8C014F48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C1036-685F-4F17-8006-27376F83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0FE0-F3C3-4FD3-8F7A-E1964A3A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24ACE-78BF-4755-8186-89688FDC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A5459-1009-46A6-BEE8-FBC126EC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9E195-61EE-4F8C-BBD6-1759406E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C08A8-65E4-4E18-90AE-60BF8FE3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8C8D8-6720-47C8-A72E-A502F38D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1CCCB-9CA1-4BB4-B108-1AB95421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02DAF-2632-4084-9F6B-C4F4BD42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3538A-A14F-45C9-9D72-127E7814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31E53-4E91-4607-AA1E-AF06A836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C84B6-EAD1-41F3-AC20-CE13B9C7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D12-D7F4-4E8C-99B1-DF43C753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FE521-9900-4A96-99A7-B6D11A44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0220B-C0C7-4C72-A4E1-961FA140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63845-274A-4102-B500-A31AC5B8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19911-8551-43BC-8B68-9A5B0F89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62955-3D08-40B1-88D7-55B6AFF6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BB0CB-20AA-46CF-8F89-1AB3D1B3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A812C-E90E-49CA-81D1-CCCE14BA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A7B43-3BB9-4993-837F-E4B75C27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CD54B-5EE1-4E43-82D6-E9E95A43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85449-4264-4B6E-AC45-3B1F96AB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6BAC-E4CD-47A0-93AF-800A4AEB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5F651-1B94-4C43-9D39-897578FE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635DB-611C-4093-88B5-5C28451F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A2C51-C17D-42FF-8845-B09A7F3F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0BA97-D0B1-47D4-849B-DB994A39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57329-6432-451A-AA2B-054AF649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5E88C-7583-4315-9C90-CFD5C297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1129A-5D6A-45D4-B19E-787160AC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6E1F9-1D9A-4FE9-9354-3C650C9B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3C4D4-F56A-4754-AF9B-5EC5E7C4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BB98B-64D8-422E-A834-24F19D6F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4DE0-06D6-47ED-A239-5F449F86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76246-2425-478B-AB5F-CA9FACE9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A9606-834C-4A4A-A951-8AD6AAA7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0FD7E-7169-4570-87B3-0A43DE87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B425A-2E60-45EF-8BAC-135A8EF4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695EF-536B-42C9-B981-4263F4C1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3C468-1230-435B-A8ED-3FA5EFCB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38253-ED99-4434-A573-48D2D95F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1C838-0D67-472F-BE3E-E5B282FC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D9C636-B765-4D1D-9042-CF17B0EF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72DB4-2EE3-448E-8C57-02350CB3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BB02-E55A-4559-8074-CD6F242B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42C6EC-F0C1-4C63-B307-B57364E9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56AC6-CC69-461D-9660-0AED96B7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9113D5-6C99-46CF-AC72-6897ECD9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D17F2-2796-48E8-910C-801C84B9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8A56D-51D3-4FC5-8384-ED8D84B6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73B1F-AF89-4F9B-86E3-51845337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092B67-EAC7-4C6A-A5A1-340DE6CA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3967B-6A1B-4314-9EA9-0B56F313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6862F-006C-4C49-B13A-8E80B2A9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D6DF64-1C6F-4DF8-B40B-16792E22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2BD8-DCF6-41A8-AFD1-7F5D0760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54AD08-7E5C-4FFE-8FFA-86728BB4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8B588-721C-44E3-862D-9EE32A6E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B409BB-431E-45E2-9189-688B4E8F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CB14F-9219-41C8-A27F-CE90F6DA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4DF45E-AE3F-4E32-BF90-56B8C528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80A491-EC23-41D6-B652-340BCD27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D533BA-BA0D-493E-9F8F-E1656774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4EC9A5-EBA3-4AA5-BB64-3AC3C1B0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A26697-1F86-4CF9-8BD3-5A911DC6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C40C85-B1D5-4FAD-8C23-458BA8F9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A2D5-0490-46D6-AABE-766215F5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0F2DC2-A090-4E7F-AF93-3AC07516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75EEF8-7A3C-44D6-90E7-AC10DCE9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2B4D96-CB5A-4028-B076-AB3AB2A6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57B999-86B6-4ACC-8F1E-68DF14A0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969A17-39E5-4712-B2C6-C73CFD87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401275-15BF-43D1-9598-3CE719E3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B2CE38-7B39-4155-89E3-8A2415D4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E75ECB-B089-4322-825B-B9AEA1C7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BCBE9A-70B7-481F-9CC8-E71259EF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69A266-9F57-4C08-97B5-84ABA087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CC63-D80D-4D64-81FD-42876758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3C65A1-4999-4F31-ADDF-550A281B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D0E30A-E837-4AA6-B1E5-47D9D830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C76969-042D-4728-95E0-60AB2700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5FC0F-4BA3-4464-9254-1988BEA8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5DBD90-9002-4E70-B290-35D5D365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344709-3DDC-4956-981D-CB7CB1E0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F7B396-6CDE-4D86-B809-317BA91F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080372-11C0-4C3C-B127-2F35FBC9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C85C5B-F157-4CB9-9465-25B400E6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183A87-AE79-4B95-83CC-0F3F44CF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CBE4-1562-42CD-8C26-CAAAC218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606A6F-F533-4CD7-A178-AAE7CEB7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F0584C-A78A-4356-81C0-DA3DAB62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43FA1A-84BC-4A43-974D-52A4E077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05C94B-15D6-4B89-A717-37DE683D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D24CD1-0DB4-4995-8174-276544FA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4FE592-B927-4BBA-86F5-0C35225B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C0E376-A3EE-4020-810B-1EC7DF0D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CEEBB5-B723-4BA2-A6F7-EED9A888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AB7310-318A-4371-9599-FF54E60E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F29229-B4AD-40E7-B37A-17A11713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00C9-E2D4-4396-8D5F-F4983A5D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F36B-AA83-49BF-B05E-390C63F6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2F9372-85A7-47A4-94D0-DD9C080B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806B3B-A40D-4C45-BF55-A2A0B86F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84590B-5713-4436-9474-162A635F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12FC9C-334E-4815-AC7E-9115ECE4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EF0613-A644-4863-866B-A8DB5FC9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D9EBF9-4D4A-44DA-9528-96369407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C88DCB-FC05-4EBE-A37B-E4EB97B3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60F28C-C5CA-4567-B33A-2F2606D1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837640-5F04-40A1-910F-BAF8CB9E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B96EB1-F3C2-4E7E-98C0-FE8A10AF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4AF4-7FF4-41DC-A0EE-C7FF33DA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E7E83E-5138-416C-AE7F-8D7F1A55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10C3A5-BE18-4F3C-98EC-DA3A32C0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EA1B94-3B86-4225-A091-4AD786DB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EAA2BF-929B-4007-8520-5C22674D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887FE1-5250-49C5-A85E-DA4B00E0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027E61-A23B-487A-B7B0-D2D9DE39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C75F6E-F74E-4896-A11E-9018E9D9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41757B-47EF-4307-AE4B-7B9C9B37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CE1F2D-A969-4AB9-ACF1-DCF1EE38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DF6C40-768F-4558-AF5F-71039F3A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DC13-F8C5-4AAC-BE41-D40393DF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1DD0AD-4D6B-4CC2-9F97-D3AFDADD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8A51D5-118A-4FC6-94DF-945613CB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D10E92-7EFC-42EC-ADBB-0EFA8B4C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0E4624-7B5F-49DD-B3FD-A1018823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5773BC-A4CC-41D6-900C-2B0426C0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5CCC61-4121-4E18-A419-DD2ADD09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6FBDD8-DC99-4047-A7F0-1E55A2B9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8E1AD0-979B-430E-81FC-950B5AB2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CCAF92-192B-4760-A87D-36E1EC51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014722-D14F-479C-B54F-9D56211D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AC45-2320-48AD-AF8C-05D75790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253AC9-1973-45C4-ABCA-0ADFC467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852D24-8849-45B6-9E34-1CDFA270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2AD5C9-C044-420A-BC39-149AB045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037386-733E-4F51-A968-8C4F706F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A8B420-9227-4FE4-86ED-BC84ACED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121903-39D4-4857-AA4C-42C4A9D4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D55FB6-9BCF-4A15-9574-7C782481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1FE6AC-E401-4620-B56E-ABD8355E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581484-748D-439D-8B15-01E69996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DB9433-B01E-4A37-A17A-FFFD54BB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2434-C40C-4C45-944F-A368A560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3F6D78-BE08-42A3-B7F8-05E496A4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586C3F-BDF3-417C-ABE2-A0C250B7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0ACE19-2C2C-4B50-8375-4FC25AE3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27F01E-8DDA-4062-A500-113685DF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D11007-604F-4355-89CE-5C8FB595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9BFAC1-8011-4067-BF35-564AA250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695AA9-64FB-4769-AB5A-C2BAAF1E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F5EE1F-C25B-4EEC-B2C8-6149EC04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AE67EB-7D61-41AD-ADDD-F1C0D646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C91985-7D2E-4141-AAEB-AE197C73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03CEF-10E8-4085-9EB0-9CA77AE2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513890-7673-4EFF-B950-2C75CB55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ED577D-3CAD-4382-8591-4CA409B0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79FF14-BC6D-41FC-9683-A4168FA7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D7AC1E-53A5-4101-A73F-67A4F689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98DD5F-6685-45D0-AFBE-8CF5404F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508EC0-18D3-4A27-BD65-77CE0F76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4143B3-FE0D-416C-83DE-0A4E1C00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42D09B-AFB5-487D-97CE-E7D9F3B0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E37EE5-887F-469E-BE2E-AE93AF42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889BE3-8A74-4BEE-A131-B67CBDF5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C8893-2DD3-4B79-9D4F-CC7B1D6F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A94BAB-3221-49C4-BAB8-B7A54E73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6D6E52-3AD0-4919-AD20-2A5BEB11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47D2E9-B4C1-46A7-8331-F1977896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78E98E-1A9B-4F7B-83EA-C0A5B031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E75F06-C9DF-4C83-B088-46607F89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0A73E-AA39-4B36-B551-9DB98E99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BE0E9-0161-4935-A561-1A9807ED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19C81-3135-4F43-A2F7-F325505A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1DCD-7797-4873-B8C2-F9D53338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FBEED-731C-4D31-9FDA-5BC0FBCD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26B58-4559-4139-B1A3-7F17586E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54B10-84C9-4554-951F-A7A70EC1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6AD8A-EDEF-4AB7-AFCD-41DC716F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6BC0E-6A8A-4293-972E-EF50A613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EA549-CBAC-41DB-ABD2-79588893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3374A-B3C9-44F6-8626-540C7E5E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6E0FB-3051-4F12-8EE9-905E5851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F0F8A-C4C8-4924-8827-C3431AD8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5341B-FB8F-42C8-ABFD-1216A349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FB7-5648-4F71-B5A1-21B6F7A2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49A90-407C-4C98-A162-DA6EA337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D7CBB-C47B-44FA-9609-4ECD4189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B02C3-04B7-49A0-A6E0-E0826C73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99046-9824-4C2F-B51F-A649115B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77A1F-176E-44EE-BC51-B7E25ACA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5A95B-5A00-4071-BBD6-78CF66F6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C9F52-63B2-4E99-B2FA-8317BA30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B8FBB-09E1-4675-9489-4A7F1649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01D68-99B2-483C-BE3F-2E8A8BB3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F768B-534C-4262-948A-857BB5F4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613-239D-4854-ABE3-385DB97F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EBBA2-E7B3-441B-99E7-09799FB0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89B5F-B3A1-4B52-84E0-07E67516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A623B-A533-4AA5-A921-DB957ECA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C41D3-0584-49BF-97E9-FB01D22F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F61A5-9E53-49F7-93D6-777C4447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AF8C5-F396-47E7-8C34-185CCD77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912D9-F9B3-4564-81D4-40C59595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B09DD-274D-485C-95A5-65E3E60D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6F9CB-4652-49A7-90B7-03BEDD5D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5E7B6-FCEE-4220-BEBE-532AD30D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00DA-3679-46F4-B283-4D6FAB3E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B4B0C-C109-44C0-B6A2-26617738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E6BFB-BA5F-4306-8C83-B69F9051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2CA4A-9928-4C32-938F-3DEB6B3D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3B661-3797-4822-A974-44FE0B3D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7E89A-FAD4-414C-BC98-A6F0A83B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9C80C-E2EB-49D5-A131-D564EDFD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BBA46-23B2-4F23-B7FE-AA102341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956F0-C749-4CFC-AD4F-D7045DA2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25154-1F67-44AF-8FD6-A1FE08C2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1FE70-4031-426A-8322-3BBFBBC7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FA5E-40BE-4189-91D2-8773A2CF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EC3D9-EF77-4DDC-84A3-BFEC4EDF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86F5D-8EF9-4E36-AA00-A8BEA22E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6CDB8-F1E9-40CB-8EB1-36EF7162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9683D-61AB-4817-B71B-16D8ACEA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46F0A-A62C-4211-8E4D-06F09A92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EF091-1CBE-4B1B-A324-0404B2A5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1DBD1-C6F9-424E-ADF8-4DDB3FD1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D6DC5-F637-46C7-BF85-E2B72C8A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1B4C1-7B97-477D-8C78-DC74D1DD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90B2C-1A36-4E0F-96B4-BE97F27C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98D-0E25-4473-948F-BE0545FC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7FB9C-9132-4A23-A96D-C9EAF2F7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91649-163D-4C4A-A81F-744B43B0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ABB14-295E-40C4-A79D-6B123B8D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88A40-F692-42DA-A4D1-2309F9C4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A0000-7321-490E-A1FF-A9F23FFA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EA7A7-55D6-42F8-9B34-11ED497A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7024F-DD0F-4D86-AED2-041C463C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C5156-81DB-4840-9B25-F713A0EC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83E01-EE00-468E-874E-A2EDC59A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52F2B-39D3-4300-9A8F-8CD402A9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7D0-B627-4287-9AE1-54330B8D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F1D25-008C-4BFD-8BCE-706DFABE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8115A-3B8B-4C7D-BAB1-B60CA735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361AB-5B41-40B4-8656-4B55ADE7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75DC7-FCE9-4E14-BEE0-5BFD046A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6C17F-AAD5-45AB-B7CC-0E3CE16E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B3877-8730-4CA2-B3FF-0224783D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9F009-1446-4E56-97BC-F7654E94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6C321-CCAA-431E-AC46-85EAB2CA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64CD8-C07E-4E12-8815-97A5680F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D2573-A902-4295-9C68-B0AEB958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57.xml"/><Relationship Id="rId32" Type="http://schemas.openxmlformats.org/officeDocument/2006/relationships/slideLayout" Target="../slideLayouts/slideLayout158.xml"/><Relationship Id="rId33" Type="http://schemas.openxmlformats.org/officeDocument/2006/relationships/slideLayout" Target="../slideLayouts/slideLayout159.xml"/><Relationship Id="rId34" Type="http://schemas.openxmlformats.org/officeDocument/2006/relationships/slideLayout" Target="../slideLayouts/slideLayout160.xml"/><Relationship Id="rId35" Type="http://schemas.openxmlformats.org/officeDocument/2006/relationships/slideLayout" Target="../slideLayouts/slideLayout161.xml"/><Relationship Id="rId36" Type="http://schemas.openxmlformats.org/officeDocument/2006/relationships/slideLayout" Target="../slideLayouts/slideLayout162.xml"/><Relationship Id="rId37" Type="http://schemas.openxmlformats.org/officeDocument/2006/relationships/slideLayout" Target="../slideLayouts/slideLayout163.xml"/><Relationship Id="rId38" Type="http://schemas.openxmlformats.org/officeDocument/2006/relationships/slideLayout" Target="../slideLayouts/slideLayout164.xml"/><Relationship Id="rId39" Type="http://schemas.openxmlformats.org/officeDocument/2006/relationships/slideLayout" Target="../slideLayouts/slideLayout165.xml"/><Relationship Id="rId40" Type="http://schemas.openxmlformats.org/officeDocument/2006/relationships/slideLayout" Target="../slideLayouts/slideLayout166.xml"/><Relationship Id="rId41" Type="http://schemas.openxmlformats.org/officeDocument/2006/relationships/slideLayout" Target="../slideLayouts/slideLayout167.xml"/><Relationship Id="rId4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03A6-D548-4FBD-B7D0-59CBB9F130E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4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1A15-1284-4607-8550-BBA6E7EFA1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BCE2-14A3-4D55-874A-08B4AC0888B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ftr" idx="3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C5C2-00CF-417D-96A9-96CE267FE91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7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7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7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8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9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1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84A5-C713-4069-B030-BE9354B009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7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7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7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8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9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1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AE02-702E-4F58-B739-B1D2812990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1"/>
    <p:sldLayoutId id="2147483819" r:id="rId32"/>
    <p:sldLayoutId id="2147483820" r:id="rId33"/>
    <p:sldLayoutId id="2147483821" r:id="rId34"/>
    <p:sldLayoutId id="2147483822" r:id="rId35"/>
    <p:sldLayoutId id="2147483823" r:id="rId36"/>
    <p:sldLayoutId id="2147483824" r:id="rId37"/>
    <p:sldLayoutId id="2147483825" r:id="rId38"/>
    <p:sldLayoutId id="2147483826" r:id="rId39"/>
    <p:sldLayoutId id="2147483827" r:id="rId40"/>
    <p:sldLayoutId id="2147483828" r:id="rId41"/>
    <p:sldLayoutId id="2147483829" r:id="rId4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6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347F-31F2-4C01-A2E3-570BDF3E7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1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dt" idx="4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ftr" idx="4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sldNum" idx="4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8BB7-6BEF-4BE9-A9FE-283D900F3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6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6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7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dt" idx="4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34EE-0A79-49E0-841C-9B533C293A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5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5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6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dt" idx="5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EFB7-CC01-4DFD-A65C-EEE0DE84DE4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24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25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F9BA-6A01-4030-8350-430F95161EF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B309-20FD-4B75-8F42-C2A4072610E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2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33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8FD1-48C9-41DB-98BF-961328012D4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 type="dt" idx="6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098B-DC8A-46D9-8041-B934096567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C4DF-EF39-4212-81EA-93425867D6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0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2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489E-0F98-4662-8FC8-AE95C24117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5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6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908E-DC43-475C-945D-7A57BC40D5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06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43D3-C46C-4739-953D-282D09DF11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251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0B7F-BA50-40D0-B5F5-A0F264320C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E022-643E-418C-99FB-75AB2A2BBA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301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3A5C-70C3-48FE-A9F4-D817C2066A9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48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91AC-F070-4385-A5F3-22C3D5E670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4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755640" y="1557360"/>
            <a:ext cx="77724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Script MT Bold"/>
              </a:rPr>
              <a:t>Исследовательские задания для учащихся на уроках математики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1440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«Исследование взаимного расположения графиков обратной пропорциональности 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3" name=""/>
          <p:cNvGrpSpPr/>
          <p:nvPr/>
        </p:nvGrpSpPr>
        <p:grpSpPr>
          <a:xfrm>
            <a:off x="0" y="0"/>
            <a:ext cx="7812000" cy="6669000"/>
            <a:chOff x="0" y="0"/>
            <a:chExt cx="7812000" cy="6669000"/>
          </a:xfrm>
        </p:grpSpPr>
        <p:pic>
          <p:nvPicPr>
            <p:cNvPr id="1514" name="" descr=""/>
            <p:cNvPicPr/>
            <p:nvPr/>
          </p:nvPicPr>
          <p:blipFill>
            <a:blip r:embed="rId1"/>
            <a:stretch/>
          </p:blipFill>
          <p:spPr>
            <a:xfrm>
              <a:off x="0" y="76320"/>
              <a:ext cx="7812000" cy="65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4089240" y="2854440"/>
              <a:ext cx="4399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049560" y="2546280"/>
              <a:ext cx="4413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089240" y="231840"/>
              <a:ext cx="439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33400" y="260640"/>
              <a:ext cx="1820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1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у =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у =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у =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9" name=""/>
                <p:cNvSpPr txBox="1"/>
                <p:nvPr/>
              </p:nvSpPr>
              <p:spPr>
                <a:xfrm>
                  <a:off x="1663560" y="0"/>
                  <a:ext cx="29556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0" name=""/>
                <p:cNvSpPr txBox="1"/>
                <p:nvPr/>
              </p:nvSpPr>
              <p:spPr>
                <a:xfrm>
                  <a:off x="1663560" y="849240"/>
                  <a:ext cx="623880" cy="77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1" name=""/>
                <p:cNvSpPr txBox="1"/>
                <p:nvPr/>
              </p:nvSpPr>
              <p:spPr>
                <a:xfrm>
                  <a:off x="1763640" y="1628640"/>
                  <a:ext cx="37476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758880" y="2349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«Дробно-линейные функции и построение графиков 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3" name=""/>
          <p:cNvGrpSpPr/>
          <p:nvPr/>
        </p:nvGrpSpPr>
        <p:grpSpPr>
          <a:xfrm>
            <a:off x="0" y="0"/>
            <a:ext cx="7740360" cy="6857640"/>
            <a:chOff x="0" y="0"/>
            <a:chExt cx="7740360" cy="6857640"/>
          </a:xfrm>
        </p:grpSpPr>
        <p:pic>
          <p:nvPicPr>
            <p:cNvPr id="1524" name="" descr=""/>
            <p:cNvPicPr/>
            <p:nvPr/>
          </p:nvPicPr>
          <p:blipFill>
            <a:blip r:embed="rId1"/>
            <a:srcRect l="16430" t="0" r="16430" b="0"/>
            <a:stretch/>
          </p:blipFill>
          <p:spPr>
            <a:xfrm>
              <a:off x="0" y="0"/>
              <a:ext cx="774036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>
              <a:off x="5529600" y="2533320"/>
              <a:ext cx="46800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6ff66"/>
                  </a:solidFill>
                  <a:latin typeface="Arial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980520" y="2021760"/>
              <a:ext cx="46800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422600" y="2752920"/>
              <a:ext cx="468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20680" y="741240"/>
              <a:ext cx="3125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у = 1/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у = 1/(х -2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у = 1 + 1/(х -2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9144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«Сдвиг графика функции у=ах</a:t>
            </a:r>
            <a:r>
              <a:rPr b="1" i="1" lang="en-US" sz="4000" spc="-1" strike="noStrike" baseline="30000">
                <a:solidFill>
                  <a:srgbClr val="ffffb7"/>
                </a:solidFill>
                <a:latin typeface="Arial Black"/>
              </a:rPr>
              <a:t>2</a:t>
            </a: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 вдоль осей координат 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0" name=""/>
          <p:cNvGrpSpPr/>
          <p:nvPr/>
        </p:nvGrpSpPr>
        <p:grpSpPr>
          <a:xfrm>
            <a:off x="0" y="-2520"/>
            <a:ext cx="8167680" cy="6860520"/>
            <a:chOff x="0" y="-2520"/>
            <a:chExt cx="8167680" cy="6860520"/>
          </a:xfrm>
        </p:grpSpPr>
        <p:grpSp>
          <p:nvGrpSpPr>
            <p:cNvPr id="1531" name=""/>
            <p:cNvGrpSpPr/>
            <p:nvPr/>
          </p:nvGrpSpPr>
          <p:grpSpPr>
            <a:xfrm>
              <a:off x="1081080" y="401760"/>
              <a:ext cx="7086600" cy="6456240"/>
              <a:chOff x="1081080" y="401760"/>
              <a:chExt cx="7086600" cy="6456240"/>
            </a:xfrm>
          </p:grpSpPr>
          <p:pic>
            <p:nvPicPr>
              <p:cNvPr id="153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1080" y="401760"/>
                <a:ext cx="7086600" cy="645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3" name=""/>
              <p:cNvSpPr/>
              <p:nvPr/>
            </p:nvSpPr>
            <p:spPr>
              <a:xfrm>
                <a:off x="4738680" y="2916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624200" y="38304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624200" y="4516200"/>
                <a:ext cx="45720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624200" y="47448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624200" y="52020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ff"/>
                    </a:solidFill>
                    <a:latin typeface="Arial"/>
                  </a:rPr>
                  <a:t>5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624200" y="5887800"/>
                <a:ext cx="5713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9" name=""/>
            <p:cNvSpPr/>
            <p:nvPr/>
          </p:nvSpPr>
          <p:spPr>
            <a:xfrm>
              <a:off x="0" y="-2520"/>
              <a:ext cx="806616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Сдвиг графика функции 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y</a:t>
              </a:r>
              <a:r>
                <a:rPr b="1" lang="ru-RU" sz="2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=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ax</a:t>
              </a:r>
              <a:r>
                <a:rPr b="1" lang="ru-RU" sz="2800" spc="-1" strike="noStrike" baseline="30000">
                  <a:solidFill>
                    <a:srgbClr val="ffff00"/>
                  </a:solidFill>
                  <a:latin typeface="Arial"/>
                  <a:ea typeface="Times New Roman"/>
                </a:rPr>
                <a:t>2</a:t>
              </a:r>
              <a:r>
                <a:rPr b="1" lang="ru-RU" sz="2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вдоль оси оу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) у=0,5х2 ;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2)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у = 0,5х2 +1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3)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у = 0,5х2+2;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) у = 0,5х2+4;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) у = 0,5х2-1;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) у = 0,5х2-3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1116000" y="90792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ahoma"/>
              </a:rPr>
              <a:t>Задача - исследование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1042560" y="1989000"/>
            <a:ext cx="8101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ahoma"/>
              </a:rPr>
              <a:t>График функции у=ах</a:t>
            </a:r>
            <a:r>
              <a:rPr b="0" i="1" lang="ru-RU" sz="6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ru-RU" sz="66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i="1" lang="en-US" sz="6600" spc="-1" strike="noStrike">
                <a:solidFill>
                  <a:srgbClr val="ffffff"/>
                </a:solidFill>
                <a:latin typeface="Tahoma"/>
              </a:rPr>
              <a:t>bx+c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263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Исследуйте, как влияет на график изменение одного из коэффициентов а,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b 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и с в уравнении параболы. Для этого:</a:t>
            </a:r>
            <a:br>
              <a:rPr sz="2900"/>
            </a:b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1)в одной системе координат начертите параболы у=х</a:t>
            </a:r>
            <a:r>
              <a:rPr b="0" lang="ru-RU" sz="29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-4х+с для с=0;1;2;4 и с=-1;-2;-4;</a:t>
            </a:r>
            <a:br>
              <a:rPr sz="2900"/>
            </a:b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2) в одной системе координат начертите параболы у=х</a:t>
            </a:r>
            <a:r>
              <a:rPr b="0" lang="ru-RU" sz="29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+b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х+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 для 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=0;1;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;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 и с=-1;-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;-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;</a:t>
            </a:r>
            <a:br>
              <a:rPr sz="2900"/>
            </a:b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) в одной системе координат начертите параболы у=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0" lang="ru-RU" sz="29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+4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-5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 для 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0,5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;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;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2;3.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)в одной системе координат начертите параболы у=х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4х+с для с=0;1;2;4 и с=-1;-2;-4;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4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2) в одной системе координат начертите параболы у=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+b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х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для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0;1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и с=-1;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;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;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6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5 </a:t>
            </a: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класс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632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unga"/>
              </a:rPr>
              <a:t>«Изменение суммы и разности натуральных чисел»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) в одной системе координат начертите параболы у=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+4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5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для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,5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;3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аблица 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92" name=""/>
          <p:cNvGraphicFramePr/>
          <p:nvPr/>
        </p:nvGraphicFramePr>
        <p:xfrm>
          <a:off x="1432080" y="2154240"/>
          <a:ext cx="7338960" cy="3492360"/>
        </p:xfrm>
        <a:graphic>
          <a:graphicData uri="http://schemas.openxmlformats.org/drawingml/2006/table">
            <a:tbl>
              <a:tblPr/>
              <a:tblGrid>
                <a:gridCol w="1807920"/>
                <a:gridCol w="792360"/>
                <a:gridCol w="947520"/>
                <a:gridCol w="947880"/>
                <a:gridCol w="947880"/>
                <a:gridCol w="949320"/>
                <a:gridCol w="9460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лагаем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лагаем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 класс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92000" y="3211920"/>
            <a:ext cx="835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99"/>
                </a:solidFill>
                <a:uFillTx/>
                <a:latin typeface="Comic Sans MS"/>
              </a:rPr>
              <a:t>«Делимость произведения»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ыяснить делится ли следующие  произведения на 5: </a:t>
            </a:r>
            <a:br>
              <a:rPr sz="3600"/>
            </a:br>
            <a:br>
              <a:rPr sz="40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6" name=""/>
          <p:cNvSpPr/>
          <p:nvPr/>
        </p:nvSpPr>
        <p:spPr>
          <a:xfrm>
            <a:off x="826920" y="322236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25 •  13;     в) 339 •  25;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76 •  20;      г) 1237 •  5235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линна окруж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8" name=""/>
          <p:cNvSpPr/>
          <p:nvPr/>
        </p:nvSpPr>
        <p:spPr>
          <a:xfrm>
            <a:off x="1908000" y="2852640"/>
            <a:ext cx="3024360" cy="2881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659640" y="2421000"/>
            <a:ext cx="136836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50920" y="5589720"/>
            <a:ext cx="1008000" cy="934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1" name=""/>
          <p:cNvGraphicFramePr/>
          <p:nvPr/>
        </p:nvGraphicFramePr>
        <p:xfrm>
          <a:off x="468360" y="304920"/>
          <a:ext cx="8141760" cy="5790960"/>
        </p:xfrm>
        <a:graphic>
          <a:graphicData uri="http://schemas.openxmlformats.org/drawingml/2006/table">
            <a:tbl>
              <a:tblPr/>
              <a:tblGrid>
                <a:gridCol w="1792080"/>
                <a:gridCol w="997920"/>
                <a:gridCol w="1005840"/>
                <a:gridCol w="1087920"/>
                <a:gridCol w="1084320"/>
                <a:gridCol w="1087560"/>
                <a:gridCol w="1086120"/>
              </a:tblGrid>
              <a:tr h="193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, длина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-т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,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метр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1042920" y="4292640"/>
                <a:ext cx="7160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7 класс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95280" y="1699560"/>
            <a:ext cx="82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Script MT Bold"/>
              </a:rPr>
              <a:t>«Исследование зависимости расстояния от времени и условия построения графиков данной зависимости»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/>
          <p:nvPr/>
        </p:nvSpPr>
        <p:spPr>
          <a:xfrm>
            <a:off x="3976560" y="358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2700360" y="692280"/>
            <a:ext cx="6106680" cy="6165360"/>
            <a:chOff x="2700360" y="692280"/>
            <a:chExt cx="6106680" cy="6165360"/>
          </a:xfrm>
        </p:grpSpPr>
        <p:pic>
          <p:nvPicPr>
            <p:cNvPr id="1508" name="" descr=""/>
            <p:cNvPicPr/>
            <p:nvPr/>
          </p:nvPicPr>
          <p:blipFill>
            <a:blip r:embed="rId1"/>
            <a:stretch/>
          </p:blipFill>
          <p:spPr>
            <a:xfrm>
              <a:off x="2700360" y="781560"/>
              <a:ext cx="6106680" cy="60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9" name=""/>
            <p:cNvSpPr/>
            <p:nvPr/>
          </p:nvSpPr>
          <p:spPr>
            <a:xfrm>
              <a:off x="3216960" y="692280"/>
              <a:ext cx="58860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(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м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082000" y="4200480"/>
              <a:ext cx="588240" cy="11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(ч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84360" y="836640"/>
            <a:ext cx="1657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Script MT Bold"/>
              </a:rPr>
              <a:t>V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=3 </a:t>
            </a: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км/ч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8:15:20Z</dcterms:created>
  <dc:creator>Серега</dc:creator>
  <dc:description/>
  <dc:language>en-US</dc:language>
  <cp:lastModifiedBy>Серега</cp:lastModifiedBy>
  <dcterms:modified xsi:type="dcterms:W3CDTF">2007-03-26T09:59:03Z</dcterms:modified>
  <cp:revision>5</cp:revision>
  <dc:subject/>
  <dc:title>Исследовательские задания для учащихся на уроках математики </dc:title>
</cp:coreProperties>
</file>