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8BC-9E1A-45C0-8015-0AC69AC9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38D-EBCE-4464-985A-48F0FE9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390-7BC6-4DFE-BA2D-9C92447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88F-6C46-44AB-A7EA-C93B942F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BB84-7AF9-402A-927A-CED64969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0921-F56C-4B4F-BAAF-9BC1BEE5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A3D6-24F8-410C-B4C5-8C66AC5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C265-D167-481A-9B9A-E624DD2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AC7F-2946-4A92-8967-AE412ED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FFC-4977-4E0D-869C-047AB1BA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7F0A-606D-4F92-AB85-24851ED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069-9994-4A87-87CB-3CAC062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C4C1-2DCC-42A5-A5FE-32E84F5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3DE-1060-478F-8CF4-9CB35F5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02D-BE49-4F2D-8F2C-CA7DCD1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8A5-A3D7-4602-AD68-E591EED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69CF-EB9A-49A2-BF6F-410EACB3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C59-9734-4F91-826A-55A4B56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4A4-07CC-4A4D-8FEE-4E6DBAC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890-435C-45FD-92B3-177DB54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DED-0B5C-47EA-9AA2-7CB537C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7A1-2F9B-4E3C-8DD6-02CA57EA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34-C6CC-4181-915F-A11BF8F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234-52EB-4F0C-B975-6A5FD7C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FCA-4BA2-4AF8-A3E0-EA2AA4AD91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B8D-DA28-46A6-AD14-D2F8DDA7F4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848720" cy="5545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35280" y="259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ественная обработка дер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408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26520" y="47520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нчарное ремесло. Пос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329080" cy="5195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297160" y="260280"/>
            <a:ext cx="42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нчарное реме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грушки для детей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769080" cy="5616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206880" y="3592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зоплет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971640" y="941400"/>
            <a:ext cx="6985080" cy="5740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844720" y="25920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узнечное ремес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87640" y="2592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качество и выши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392360" cy="4680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975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37:05Z</dcterms:created>
  <dc:creator>ВИДУТА</dc:creator>
  <dc:description/>
  <dc:language>en-US</dc:language>
  <cp:lastModifiedBy>ВИДУТА</cp:lastModifiedBy>
  <dcterms:modified xsi:type="dcterms:W3CDTF">2011-01-19T18:17:39Z</dcterms:modified>
  <cp:revision>2</cp:revision>
  <dc:subject/>
  <dc:title>Слайд 1</dc:title>
</cp:coreProperties>
</file>