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CBC-92C6-4704-9FBD-3C7EF5D3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321-BE1B-4EAB-BF9B-E08DEF6E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9E0-D4E0-4B5A-9564-4352ADE6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F21-1D52-458C-BA45-3A47E81F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F4B4-29FA-4FE1-A3E4-CAD4656A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4E1C-0ED1-4B59-9B4D-D7909DA4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F895-2B40-43AE-BBF3-96688C0C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11AD-6EF3-45D6-9CCE-6B9ED9A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A355-1FAE-452D-BB2C-5BAD91C2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DEDB-0A8F-4C91-88D0-04AFA41F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0C3B-906F-4F10-81EF-4B1CF37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72C-54C5-4B7D-B7CC-1DBD54CA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BD95-292E-4853-B96E-94D974B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256C-D4A8-4807-9327-C83AD498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BA60-C650-4074-8833-B9014D7A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A0EE-BD3E-40D3-9EF9-2513081C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9935-8D61-45DD-B48D-94312723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1DF-CDDC-4F01-A98C-44540F20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B80-5677-4AC2-8546-1050EE3D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3B6-7ABB-4069-B174-65196C4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EDE-CA14-4761-AE44-A7E0EFE8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8A8-1465-4BFD-8AEE-9FED2D6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ECF-7561-4AC7-B285-75AAE35B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875-496B-448A-9F35-9EAEA238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47AD-BB53-4032-B99B-146B54F4DC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9E40-BA4B-452E-A531-BD86EF2EBF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848720" cy="5545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35280" y="2592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дожественная обработка дер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54086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126520" y="47520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нчарное ремесло. Посу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329080" cy="5195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297160" y="260280"/>
            <a:ext cx="426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нчарное реме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грушки для дете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769080" cy="5616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206880" y="3592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зоплет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71640" y="941400"/>
            <a:ext cx="6985080" cy="5740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844720" y="25920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узнечное ремесл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987640" y="2592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качество и выши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392360" cy="4680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97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7:37:05Z</dcterms:created>
  <dc:creator>ВИДУТА</dc:creator>
  <dc:description/>
  <dc:language>en-US</dc:language>
  <cp:lastModifiedBy>ВИДУТА</cp:lastModifiedBy>
  <dcterms:modified xsi:type="dcterms:W3CDTF">2011-01-19T18:17:39Z</dcterms:modified>
  <cp:revision>2</cp:revision>
  <dc:subject/>
  <dc:title>Слайд 1</dc:title>
</cp:coreProperties>
</file>