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CEF-87AF-4F5E-B230-A88C37FE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E81-B98E-4A0B-90B4-FFB7C5ED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0DF-598B-46C2-87BA-2C49C404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861-0408-439F-9F03-1A5D05EB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B7AA-EBD6-4C17-92C6-882E0753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950-03FA-45F0-AFAC-F16C4635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32FC-203B-4FEF-8937-5271D23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39CB-DF6B-4526-8A17-403FE9D7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5C20-3F8C-4C65-BFEC-6EEA34D4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FC83-9090-452A-8DA2-251DD698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EFBA-84F3-4F7B-93C8-003E531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8F9-BA39-4F59-B760-D0AD6A8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B705-0710-4FA9-9255-A0B608A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ADE9-48D7-4128-B866-67CA740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CB9-198D-4CE4-A97A-C2FAF24A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CD8E-E368-4891-A51F-048AADA5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4C4A-DF65-42B5-AA01-978A7752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CC5-ACC9-46BE-BEB3-9D83FE7C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1CC-9DAE-44F7-9A40-8A2540AC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C26-6509-4E2C-94BF-C621E73D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58E-048E-431B-B6AF-503F0FB3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8F6-B965-4F4F-B102-4328833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981-4A6B-4915-815F-935F114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21E-A24E-45AC-BD13-7B62909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780-4987-4552-A8DA-27C1E2B3F0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2A9-E872-4CED-8EF9-834920BDC0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5545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35280" y="2592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ественная обработка дер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408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26520" y="47520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нчарное ремесло. Пос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329080" cy="5195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297160" y="260280"/>
            <a:ext cx="426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нчарное реме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грушки для дет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769080" cy="5616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206880" y="3592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зоплет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71640" y="941400"/>
            <a:ext cx="6985080" cy="5740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844720" y="25920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узнечное ремесл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987640" y="2592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качество и выши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392360" cy="4680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97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7:37:05Z</dcterms:created>
  <dc:creator>ВИДУТА</dc:creator>
  <dc:description/>
  <dc:language>en-US</dc:language>
  <cp:lastModifiedBy>ВИДУТА</cp:lastModifiedBy>
  <dcterms:modified xsi:type="dcterms:W3CDTF">2011-01-19T18:17:39Z</dcterms:modified>
  <cp:revision>2</cp:revision>
  <dc:subject/>
  <dc:title>Слайд 1</dc:title>
</cp:coreProperties>
</file>