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8D8-05CB-4501-8859-E98011AC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7EC-F6FE-4525-966A-349E40BE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B26-9E01-4BE6-A0C8-8846C083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916-E36C-4135-9D4B-19DDB5E3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9E3A-844D-4202-8EAD-DAEF1617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8E97-4FAD-4248-9E0B-458F4F6F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4D2-8654-4C71-A5D5-6A71A09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5D9-10BE-430D-B5C7-23E23363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2F60-75B5-47BC-86E4-59AC325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D87E-9238-42F5-9CE1-D5861BAF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ED47-0AC1-4304-BA2F-79EC260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A5B-72B4-4DBD-A5CC-C08738E8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4F6-D4D0-4FC5-B19D-A7546862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08B3-08CE-4AF5-97F9-2A901333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5CC-C887-49F2-86D0-0A87CC6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139-5B30-40B5-85AA-10CC6A3B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B95A-96F2-4BF3-9269-C2E9F325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3A-DBB8-4A0D-B570-E9BB1ADE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A2F-92F2-481C-967D-C17DE96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8C8-819D-43BA-A4DD-C5045B18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317-B4D1-4B50-A978-84F92D6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B7F-3E91-4317-AA40-9E75255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9D-570A-4B42-890C-FCC25AF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71A-C845-44AB-AEE1-0EBF82E1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2E1-A925-40FB-85A5-D4E1CBB3C0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B000-C06E-4812-ACB2-4D5C60BB3D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Инструменты русского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народного оркест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алалай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99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вые название “балалайка” встречается в письменных памятниках времен Петра Велик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715 г., при праздновании устроенной по приказу царя шуточной свадьбы в числе инструментов упоминается и балала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3757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4220640"/>
            <a:ext cx="87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реев сконструировал целое семейство балалаек, выступление которых состоялось в 1888г. в Петербурге. Затем сформировал Великорусский оркестр, первое выступление которого состоялось в 1897 году в зале Дворянского собрания. С этих пор народные инструменты стали распространяться с необычайной быстротой по всей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753080" cy="399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1763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рмонь        и      баян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95520" cy="468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895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ян – это разновидность хроматических гармоник, своим появлением обязан мастеру Стерлигову и назван в честь сказителя Боя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544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528720" cy="317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115920"/>
            <a:ext cx="29527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ществует несколько разновидностей гармоник. Тульские гармошки были с одним рядом кнопок на правой и левой руке (одноряд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ие имеют в конструкции колокольчики.   Вятские кустари добавили ряд кнопо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 перечисленные инструменты назывались – тальянки. Они на разжим и сжим издавали разные зв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300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52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48000" y="333360"/>
            <a:ext cx="3995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широкое распространение получили “выборные” баяны. Особенность их в том, что в левой клавиатуре нет готовых аккордов. Это расширяет музыкальные исполнительские возможности инстру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3168720" cy="297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6083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ухов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81440" y="5300640"/>
            <a:ext cx="9325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жо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ставляет собой конической формы прямую трубу с пятью отверстиями сверху и одну снизу. Изготовляют рожок из березы, клена и можжевельника. Звук у рожка сильный, но мягкий, диапазон немного больше окта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12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е письменные свидетельства о рожке появляются во II половине XVIII века в описаниях музыкальных инструментов Тучкова, Штелина, Гасри. Впервые рожок подробно исследован Н.Привалов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XIX в. Были успешные выступления хора рожечников под управлением Н.Кондратьева из Владимирской области. В настоящее время рожки вводятся в состав оркестра русских народных инструмен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40892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алей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духовой тростевой инструмент, представляет собой короткую деревянную трубку с 3-7 боковыми отверстиями. Жалейка бывает одинарная и двойна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28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3716280"/>
            <a:ext cx="446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4797360"/>
            <a:ext cx="83516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инарная жалейка представляет собой небольшую трубочку из ивы длиной от 10 до 20 см, на нижний конец надет раструб из бересты или из коровьего р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Русские народные инструменты можно классифицировать под общепринятую систему деления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нные (домра, гусли, балалай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невматические язычковые (баян,   гармош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ховые (рожки, жалейка, свирель, кувиклы, варга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дарные (ложки, бубен, трещотки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бр жалейки печальный пронзительный и жалостливый. Поэтому некоторые исследователи связывают название инструмента с “желями” или “жалениями” - поминальным обря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войная жалейка состоит из двух одинаковых по длине трубочек, вставленных в один общий раст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470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ир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47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ирель похожа  на продольную флейту, состоящий из двух не скрепленных между собой деревянных трубок разной длины. По преданию, на свирели играл сын славянской богини любви Лады – Лель. Он делал себе весной свирель из прутиков бере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343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333000"/>
            <a:ext cx="4114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.И.Привалов закрепил название “свирель” за парной флейтой, так называли этот инструмент на Смоленщине. В первые годы ХХ века В.Андреев ввел в свой оркестр свирели, снабженные клапанной механ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786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а на свирел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5661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337440" cy="434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403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продукция М.Врубеля “Пан”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381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четко показан инструмент “флейта Пана”, на котором играл бог лесов Пан. Известна она в народе как кувиклы, которая представляет собой набор пустотелых трубок различной длины и диаметра с открытым верхним концом и закрытым нижн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4998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176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увик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475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готовляется из камыша, бамбука, дном служит узел ствола. Комплект кувикл обычно состоят из 3-5 трубок одинакового диаметра, но разной длины (от 100 до 160 мм). Верхние концы инструмента располагаются на одной ли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41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арг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4365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– (от лат. “organism – музыкальный инструмент) древнейший музыкальный инструмент. История варгана уходит в глубь веков. Полагают, что родоначальником варгана был лук. Достаточно было согнуть лук и смертоносное оружие превращалось в музыкальный инстру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508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диции игры на варгане существовали вплоть до 30 годов ХХ века. Во времена сталинизма варган был запрещен как вредный пережиток прошлого, в частности из-за связи с шаманизм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4788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был распространен и в Европе, но к концу ХХ века искусство варганной игры потеряло свою актуальность. Это было вызвано тем, что в 1821 г. немецкий мастер Ф.Бушман из нескольких маленьких варганов, настроенных на разную высоту звучания, сконструировал губную гармошку. Ну а когда губную гармошку снабдили мехами, миру предстал аккордеон и ба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356360" cy="3919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32360" y="4797360"/>
            <a:ext cx="4032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онце ХХ века интерес к варганной музыке стал расти, с возрождением  этнических культур. Первый варганный фестиваль состоялся в 1984 г. в С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Струнны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4508640"/>
            <a:ext cx="88567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усли – народный музыкальный инструмент. Существует несколько версий происхождения версий этого слова. По одной из них славянское слово “гусли” выражает совокупность струн. “Гусль” (гусли) в смысле струны происходит, очевидно, от старославянского (гудеть). Гудением в старину называли именно звук стру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5687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ДАРН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248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ожки – ударный инструмент, представляющий собой деревянные ложки, к рукоятке которой привязывали бубенчики В игровой комплект ложек могут входить 2, 3 или 4 ложки среднего размера и одна большой величины. От того, что размеры разные, возникает впечатление чередования звуков по выс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267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181440" y="333360"/>
            <a:ext cx="5257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ществует множество приемов игры на ложках. Обычно в игре одного исполнителя используются три ложки. Две из них закладываются между пальцами левой руки, третья берется в правую. Первые две служат как бы двойной “наковальней” по которой бьют третьей ложкой. Бьют скользящим ударом с одной чашки на другую. Получается все время многозвучный ажурный Ритмический рису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495600" cy="23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2762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581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бен – музыкальный ударный инструмент в виде деревянного обруча, с натянутой на одной стороне кожаной мембраной. В прорезях обруча парами прикрепляются тонкие пластинки, на них подвешиваются бубенчики. На нем играют, встряхивая его в воздухе, ударяя по его коже ладон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7911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328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бен известен восточным славянам с древнейших времен. Особенно широко они применялись в ратном деле и у скоморохов. В прежние времена бубном называли ударные инструменты, на которых натянута ко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933640" cy="351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49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щотки – ударный музыкальный инструмент, заменяющий хлопки в ладоши. Письменных свидетельств упоминания в древней Руси этого инструмента нет. При археологических раскопках в Новгороде в 1992 году были найдены две дощечки, которые, по предположению В. И. Поведкина, входили в комплект древних новгородских трещоток в ХII ве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467160" cy="2667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41964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181080" y="47592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оят трещотки из набора 18-20 - тонких дощечек длиной 16 – 18 см, сделанных обычно из дуба, соединенных между собой веревкой, продетой в отверстия в верхней части дощечек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того, чтобы дощечки вплотную прикасались друг к другу, между ними вверху вставлялись небольшие пластинки из дерева шириной 2 с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ещотку берут за концы в обе руки, плавным движением платины ударяются друг о друга издавая сухой щелкающий звук. Широкое применение получили в оркестрах русских народных инструментах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52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ьте кроссвор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44000" cy="44658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62120"/>
                <a:gridCol w="747720"/>
                <a:gridCol w="749160"/>
                <a:gridCol w="749520"/>
                <a:gridCol w="747720"/>
                <a:gridCol w="747720"/>
                <a:gridCol w="747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евнерусские гусли по преданиям имели горизонтальное положение, их обычно сравнивали с лежачей арфой. На гуслях играли богатыри Добрыня Никитич и Соловей Будимирович и новгородский гость Са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музыкальной культурой духовенства связаны гусли – псалтырь (шлемовидные). Была распространена среди скоморохов, в XVII веке после указа Алексея Михайловича “Об исправлении нравов и уничтожений суеверий” почти исчез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XX века музыканты – конструкторы Смоленский и Привалов усовершенствовали гусли. Инструмент приобрел треугольную форму, количество струн стола постоянным 12-13. В 1914г. Н.Фомин сконструировал так называемые “клавишные” гусли. Они снабжены одноактавной клавиатурой фортепианного образца. Одной рукой набирают любой аккорд, а другой проводят по струнам плектором из твердой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лавишные гус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459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омра                         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6920" y="3860640"/>
            <a:ext cx="6697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мин “домбра” тюркского происхождения. Предком домры явился египетский инструмент “пандура”, проникший к нам через Персию, торговавшей с Закавказьем. В Европе она получила название “лютня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2590920" cy="549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95640" y="274680"/>
            <a:ext cx="2808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Лют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062520" cy="547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0"/>
            <a:ext cx="51134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менно она стала родоначальницей мандолины, гитары, виолы. В древних записях домра фигурирует как атрибут скомороха. Само слово “скоморох” происходит от арабского “maskhora” - смех, насмеш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ле гонений (1648) на скоморохов инструменты погрузили и свезли за Москву-реку и там сожг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5:57:11Z</dcterms:created>
  <dc:creator>Alina</dc:creator>
  <dc:description/>
  <dc:language>en-US</dc:language>
  <cp:lastModifiedBy>Alina</cp:lastModifiedBy>
  <dcterms:modified xsi:type="dcterms:W3CDTF">2009-04-15T16:22:01Z</dcterms:modified>
  <cp:revision>4</cp:revision>
  <dc:subject/>
  <dc:title>Инструменты русского  народного оркестра</dc:title>
</cp:coreProperties>
</file>