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E03-4A7D-4E9E-B46C-98368D43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EDA-18BA-4DE1-AE4F-086F27D6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CFD-42D3-4333-A06C-38EC4151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44E-BE08-4BDA-A9DC-D2A17D30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BB4F-E986-4AFD-8E15-9F89AC3C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E866-088A-4DF5-B1E4-1E3795B0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A307-57BD-48C3-94C1-02C96BF6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ED98-7BBE-4DAD-A603-A7CD515F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3230-F11C-4521-8955-1AB23B9B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87C5-E7A4-4135-BCAF-FE064980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C3C7-820B-43A5-846E-344780BC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177-25A2-4682-9549-16DFEE5D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D8B7-B562-4B7E-B7A8-D91DE89E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DF51-C690-4E1E-B0FB-F587D7C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2A15-D144-4265-8996-E6D326E3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EA31-962E-4636-B1F5-53C4AE46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AF89-3066-4E0A-B3B5-C50CF952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2CE-BF5E-4F38-A09E-5D5DF4F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01B-25E3-4DB0-9F14-E53C8DFD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8AA-7E8A-4837-9457-ECB796BF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084-16A8-407A-9B59-1BC5900D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B22-62F4-478D-91B7-252C21F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9EB-FB5C-40C2-860A-E671939D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0BF-3AC4-4D53-9C16-BAD6AF9D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C14C-192D-4E8D-8B14-45F0B96B45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7D6E-CFDE-40ED-BDC9-78551221E0F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Инструменты русского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народного оркестр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алалай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399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первые название “балалайка” встречается в письменных памятниках времен Петра Велико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715 г., при праздновании устроенной по приказу царя шуточной свадьбы в числе инструментов упоминается и балалай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3757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4220640"/>
            <a:ext cx="8712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реев сконструировал целое семейство балалаек, выступление которых состоялось в 1888г. в Петербурге. Затем сформировал Великорусский оркестр, первое выступление которого состоялось в 1897 году в зале Дворянского собрания. С этих пор народные инструменты стали распространяться с необычайной быстротой по всей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753080" cy="399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1763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армонь        и      баян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95520" cy="468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4895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5013360"/>
            <a:ext cx="89647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ян – это разновидность хроматических гармоник, своим появлением обязан мастеру Стерлигову и назван в честь сказителя Боя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2544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16360" y="1700280"/>
            <a:ext cx="3528720" cy="3173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2000" y="115920"/>
            <a:ext cx="29527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ществует несколько разновидностей гармоник. Тульские гармошки были с одним рядом кнопок на правой и левой руке (однорядк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ратовские имеют в конструкции колокольчики.   Вятские кустари добавили ряд кнопо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 перечисленные инструменты назывались – тальянки. Они на разжим и сжим издавали разные зв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5184720" cy="300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52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148000" y="333360"/>
            <a:ext cx="3995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широкое распространение получили “выборные” баяны. Особенность их в том, что в левой клавиатуре нет готовых аккордов. Это расширяет музыкальные исполнительские возможности инструмен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3168720" cy="297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46083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уховы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81440" y="5300640"/>
            <a:ext cx="9325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жо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едставляет собой конической формы прямую трубу с пятью отверстиями сверху и одну снизу. Изготовляют рожок из березы, клена и можжевельника. Звук у рожка сильный, но мягкий, диапазон немного больше октав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912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ые письменные свидетельства о рожке появляются во II половине XVIII века в описаниях музыкальных инструментов Тучкова, Штелина, Гасри. Впервые рожок подробно исследован Н.Привалов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онце XIX в. Были успешные выступления хора рожечников под управлением Н.Кондратьева из Владимирской области. В настоящее время рожки вводятся в состав оркестра русских народных инструмен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40892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Жалей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духовой тростевой инструмент, представляет собой короткую деревянную трубку с 3-7 боковыми отверстиями. Жалейка бывает одинарная и двойна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128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3716280"/>
            <a:ext cx="446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4797360"/>
            <a:ext cx="83516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динарная жалейка представляет собой небольшую трубочку из ивы длиной от 10 до 20 см, на нижний конец надет раструб из бересты или из коровьего р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Русские народные инструменты можно классифицировать под общепринятую систему деления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унные (домра, гусли, балалай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невматические язычковые (баян,   гармош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уховые (рожки, жалейка, свирель, кувиклы, варга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дарные (ложки, бубен, трещотки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49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бр жалейки печальный пронзительный и жалостливый. Поэтому некоторые исследователи связывают название инструмента с “желями” или “жалениями” - поминальным обряд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войная жалейка состоит из двух одинаковых по длине трубочек, вставленных в один общий раст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470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ир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47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ирель похожа  на продольную флейту, состоящий из двух не скрепленных между собой деревянных трубок разной длины. По преданию, на свирели играл сын славянской богини любви Лады – Лель. Он делал себе весной свирель из прутиков бере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3343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00720" y="333000"/>
            <a:ext cx="4114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.И.Привалов закрепил название “свирель” за парной флейтой, так называли этот инструмент на Смоленщине. В первые годы ХХ века В.Андреев ввел в свой оркестр свирели, снабженные клапанной механи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7860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62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гра на свирел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00000" y="566100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6337440" cy="4349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2403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епродукция М.Врубеля “Пан”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3816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четко показан инструмент “флейта Пана”, на котором играл бог лесов Пан. Известна она в народе как кувиклы, которая представляет собой набор пустотелых трубок различной длины и диаметра с открытым верхним концом и закрытым нижн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67280" y="981000"/>
            <a:ext cx="4998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176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увик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4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211280" y="333000"/>
            <a:ext cx="4475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готовляется из камыша, бамбука, дном служит узел ствола. Комплект кувикл обычно состоят из 3-5 трубок одинакового диаметра, но разной длины (от 100 до 160 мм). Верхние концы инструмента располагаются на одной ли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41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арга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4365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рган – (от лат. “organism – музыкальный инструмент) древнейший музыкальный инструмент. История варгана уходит в глубь веков. Полагают, что родоначальником варгана был лук. Достаточно было согнуть лук и смертоносное оружие превращалось в музыкальный инстру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508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адиции игры на варгане существовали вплоть до 30 годов ХХ века. Во времена сталинизма варган был запрещен как вредный пережиток прошлого, в частности из-за связи с шаманизм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4788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рган был распространен и в Европе, но к концу ХХ века искусство варганной игры потеряло свою актуальность. Это было вызвано тем, что в 1821 г. немецкий мастер Ф.Бушман из нескольких маленьких варганов, настроенных на разную высоту звучания, сконструировал губную гармошку. Ну а когда губную гармошку снабдили мехами, миру предстал аккордеон и ба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356360" cy="3919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32360" y="4797360"/>
            <a:ext cx="4032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конце ХХ века интерес к варганной музыке стал расти, с возрождением  этнических культур. Первый варганный фестиваль состоялся в 1984 г. в СШ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Струнны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4508640"/>
            <a:ext cx="885672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усли – народный музыкальный инструмент. Существует несколько версий происхождения версий этого слова. По одной из них славянское слово “гусли” выражает совокупность струн. “Гусль” (гусли) в смысле струны происходит, очевидно, от старославянского (гудеть). Гудением в старину называли именно звук стру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45687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ДАРНЫ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248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ожки – ударный инструмент, представляющий собой деревянные ложки, к рукоятке которой привязывали бубенчики В игровой комплект ложек могут входить 2, 3 или 4 ложки среднего размера и одна большой величины. От того, что размеры разные, возникает впечатление чередования звуков по выс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42674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181440" y="333360"/>
            <a:ext cx="5257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ществует множество приемов игры на ложках. Обычно в игре одного исполнителя используются три ложки. Две из них закладываются между пальцами левой руки, третья берется в правую. Первые две служат как бы двойной “наковальней” по которой бьют третьей ложкой. Бьют скользящим ударом с одной чашки на другую. Получается все время многозвучный ажурный Ритмический рисун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495600" cy="2314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2762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581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бен – музыкальный ударный инструмент в виде деревянного обруча, с натянутой на одной стороне кожаной мембраной. В прорезях обруча парами прикрепляются тонкие пластинки, на них подвешиваются бубенчики. На нем играют, встряхивая его в воздухе, ударяя по его коже ладон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7911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3280" y="189000"/>
            <a:ext cx="45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бен известен восточным славянам с древнейших времен. Особенно широко они применялись в ратном деле и у скоморохов. В прежние времена бубном называли ударные инструменты, на которых натянута кож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933640" cy="351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4033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49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щотки – ударный музыкальный инструмент, заменяющий хлопки в ладоши. Письменных свидетельств упоминания в древней Руси этого инструмента нет. При археологических раскопках в Новгороде в 1992 году были найдены две дощечки, которые, по предположению В. И. Поведкина, входили в комплект древних новгородских трещоток в ХII ве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467160" cy="2667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341964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181080" y="47592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стоят трещотки из набора 18-20 - тонких дощечек длиной 16 – 18 см, сделанных обычно из дуба, соединенных между собой веревкой, продетой в отверстия в верхней части дощечек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того, чтобы дощечки вплотную прикасались друг к другу, между ними вверху вставлялись небольшие пластинки из дерева шириной 2 с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ещотку берут за концы в обе руки, плавным движением платины ударяются друг о друга издавая сухой щелкающий звук. Широкое применение получили в оркестрах русских народных инструментах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404640"/>
            <a:ext cx="3524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ставьте кроссвор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44000" cy="44658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62120"/>
                <a:gridCol w="747720"/>
                <a:gridCol w="749160"/>
                <a:gridCol w="749520"/>
                <a:gridCol w="747720"/>
                <a:gridCol w="747720"/>
                <a:gridCol w="747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евнерусские гусли по преданиям имели горизонтальное положение, их обычно сравнивали с лежачей арфой. На гуслях играли богатыри Добрыня Никитич и Соловей Будимирович и новгородский гость Са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музыкальной культурой духовенства связаны гусли – псалтырь (шлемовидные). Была распространена среди скоморохов, в XVII веке после указа Алексея Михайловича “Об исправлении нравов и уничтожений суеверий” почти исчез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чале XX века музыканты – конструкторы Смоленский и Привалов усовершенствовали гусли. Инструмент приобрел треугольную форму, количество струн стола постоянным 12-13. В 1914г. Н.Фомин сконструировал так называемые “клавишные” гусли. Они снабжены одноактавной клавиатурой фортепианного образца. Одной рукой набирают любой аккорд, а другой проводят по струнам плектором из твердой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лавишные гус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2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459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омра                         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26920" y="3860640"/>
            <a:ext cx="6697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мин “домбра” тюркского происхождения. Предком домры явился египетский инструмент “пандура”, проникший к нам через Персию, торговавшей с Закавказьем. В Европе она получила название “лютня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2590920" cy="549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4825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95640" y="274680"/>
            <a:ext cx="2808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Лют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062520" cy="547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0"/>
            <a:ext cx="51134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менно она стала родоначальницей мандолины, гитары, виолы. В древних записях домра фигурирует как атрибут скомороха. Само слово “скоморох” происходит от арабского “maskhora” - смех, насмешк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сле гонений (1648) на скоморохов инструменты погрузили и свезли за Москву-реку и там сожг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5:57:11Z</dcterms:created>
  <dc:creator>Alina</dc:creator>
  <dc:description/>
  <dc:language>en-US</dc:language>
  <cp:lastModifiedBy>Alina</cp:lastModifiedBy>
  <dcterms:modified xsi:type="dcterms:W3CDTF">2009-04-15T16:22:01Z</dcterms:modified>
  <cp:revision>4</cp:revision>
  <dc:subject/>
  <dc:title>Инструменты русского  народного оркестра</dc:title>
</cp:coreProperties>
</file>