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rsk.sibnovosti.ru/pictures/0037/4538/gershwin_1__thumb_main.jpg?1234520819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jplus.ru/img/v/a/vaya_vaya/Gershwin3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ssets.sheetmusicplus.com/product/Look-Inside/covers/1770318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21214200">
            <a:off x="1979280" y="2204640"/>
            <a:ext cx="3529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Джорд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 rot="21215400">
            <a:off x="5003640" y="2133720"/>
            <a:ext cx="273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Гершв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 advTm="7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4176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Самым удачным их шоу было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«Of Thee I Sing»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1931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; за него они получили Пулитцеровскую премию, впервые присуждённую музыкальной постановке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5" name="" descr="Картинка 324 из 3367"/>
          <p:cNvPicPr/>
          <p:nvPr/>
        </p:nvPicPr>
        <p:blipFill>
          <a:blip r:embed="rId1"/>
          <a:stretch/>
        </p:blipFill>
        <p:spPr>
          <a:xfrm>
            <a:off x="4716360" y="1484280"/>
            <a:ext cx="3926160" cy="3330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549000"/>
            <a:ext cx="561492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 начале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1937 год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у него обнаружились симптомы опухоли головного мозга. Гершвина помещают в Лебенен-клинику, где он умер утром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11 июля 1937 год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, не приходя в сознание после операции по удалению опухоли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амой масштабной и амбициозной работой в биографии Гершвина стала «фольклорная» опера «Porgy and Bess»,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1935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, поставленная по роману Дюбоса Хейворда, принимавшего участие и в написании либретто для оперы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7" name="" descr="Картинка 345 из 3367"/>
          <p:cNvPicPr/>
          <p:nvPr/>
        </p:nvPicPr>
        <p:blipFill>
          <a:blip r:embed="rId1"/>
          <a:stretch/>
        </p:blipFill>
        <p:spPr>
          <a:xfrm>
            <a:off x="6156360" y="549360"/>
            <a:ext cx="240984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124000" y="2205000"/>
            <a:ext cx="5759640" cy="22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3357720"/>
            <a:ext cx="8136000" cy="27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Джордж Гершвин(1899-1937) родился 26 сентября 1898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года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 в нью-йоркском квартале Бруклин, в семье еврейских эмигрантов из Росси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0" name="" descr="Картинка 151 из 33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476280"/>
            <a:ext cx="5184720" cy="2916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991280" cy="605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Его отец был родом из Санкт-Петербурга. Настоящие имя и фамилия композитора — Янкель Гершовиц. С детства впитывавший джазовую культуру (говорят, что впервые Гершвин услышал джазовую музыку в 6 лет), он был любителем джазовых концертов и в 12 лет начал самостоятельно учиться играть на фортепиано.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647640"/>
            <a:ext cx="4897440" cy="616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Много позже, став прославленным композитором, Гершвин не переставал учиться, совершенствовать свою технику. Во время таких занятий он познакомился с уникальными американскими композиторами тех лет — Генри Кауэллом, Уоллингфордом Риггером и русским профессором Джозефом Шиллингером (последний примечателен тем, что подходил к процессу сочинения музыки с математических позиций, пытаясь разработать универсальный алгоритм)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476280"/>
            <a:ext cx="385452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475308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 Rounded MT Bold"/>
              </a:rPr>
              <a:t>В 1914 </a:t>
            </a: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году</a:t>
            </a:r>
            <a:r>
              <a:rPr b="0" i="1" lang="en-US" sz="2800" spc="-1" strike="noStrike">
                <a:solidFill>
                  <a:srgbClr val="000000"/>
                </a:solidFill>
                <a:latin typeface="Arial Rounded MT Bold"/>
              </a:rPr>
              <a:t> Гершвин начал профессионально заниматься музыкой, работая аккомпаниатором в компании Джерома Ремика. Уже через два года было выпущено первое авторское произведение молодого Гершвина — «When You Want 'Em You Can’t Get 'Em»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" descr="Файл:George Gershwin 1937.jpg"/>
          <p:cNvPicPr/>
          <p:nvPr/>
        </p:nvPicPr>
        <p:blipFill>
          <a:blip r:embed="rId1"/>
          <a:stretch/>
        </p:blipFill>
        <p:spPr>
          <a:xfrm>
            <a:off x="4788000" y="476280"/>
            <a:ext cx="388116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3.33333E-006 C 0.00226 -0.01504 0.00921 -0.02199 0.01893 -0.0287 C 0.04098 -0.02754 0.04497 -0.03518 0.05469 -0.01759 C 0.05504 -0.01597 0.05539 -0.01435 0.05591 -0.01273 C 0.0566 -0.01111 0.05782 -0.00972 0.05834 -0.0081 C 0.06025 -0.00231 0.06112 0.00648 0.06181 0.0125 C 0.06147 0.02037 0.06147 0.02847 0.0606 0.03634 C 0.05782 0.06111 0.03421 0.07338 0.01893 0.07917 C 0.0099 0.07871 0.000699999999999999 0.07871 -0.00833 0.07778 C -0.01249 0.07732 -0.01909 0.06968 -0.01909 0.06968 C -0.02239 0.06343 -0.0243 0.05695 -0.02742 0.0507 C -0.02656 0.02014 -0.02794 -0.0037 -0.01544 -0.0287 C -0.01353 -0.04004 -0.00833 -0.04653 -0.00364 -0.05555 C 0.004 -0.06991 -0.00659 -0.05486 0.00226 -0.06666 C 0.00417 -0.07453 0.00869 -0.08148 0.01303 -0.0875 C 0.01581 -0.09768 0.02119 -0.10787 0.02501 -0.11759 C 0.02779 -0.12453 0.02831 -0.13264 0.03091 -0.13981 C 0.03126 -0.14352 0.0316 -0.14722 0.03213 -0.15092 C 0.03247 -0.15301 0.03299 -0.15509 0.03334 -0.15717 C 0.03421 -0.16412 0.0356 -0.17778 0.0356 -0.17778 C 0.0349 -0.19861 0.04029 -0.21666 0.02501 -0.22384 C 0.01581 -0.22222 0.00956 -0.22569 0.00469 -0.21597 C 0.00244 -0.21134 0.00122 -0.2 0.00122 -0.2 C 0.00157 -0.18796 0.00157 -0.17569 0.00226 -0.16366 C 0.00261 -0.15648 0.00539 -0.14977 0.00713 -0.14305 C 0.00851 -0.13796 0.00869 -0.13241 0.00956 -0.12708 C 0.01008 -0.12315 0.01216 -0.11991 0.01303 -0.11597 C 0.01581 -0.10278 0.01789 -0.08842 0.02258 -0.07639 C 0.02344 -0.06875 0.02431 -0.06134 0.02622 -0.05416 C 0.02692 -0.04259 0.02831 -0.03217 0.02969 -0.02083 C 0.03022 0.0088 0.02831 0.03079 0.03334 0.05695 C 0.03421 0.06968 0.0349 0.08241 0.03681 0.09514 C 0.03612 0.1257 0.04376 0.17871 0.01424 0.18889 C 0.0106 0.18843 0.00695 0.18843 0.00348 0.18727 C -0.00138 0.18565 -0.00451 0.17847 -0.00833 0.17454 C -0.00867 0.17292 -0.00902 0.1713 -0.00954 0.16968 C -0.01024 0.16806 -0.01145 0.1669 -0.01197 0.16505 C -0.01319 0.16088 -0.0144 0.15232 -0.0144 0.15232 C -0.01336 0.12732 -0.01892 0.1169 -0.00242 0.1206 C 0.00313 0.12523 0.00157 0.12709 0.00348 0.13472 C 0.00313 0.13681 0.00383 0.14028 0.00226 0.14121 C -0.00242 0.14445 -0.00451 0.13797 -0.00607 0.13472 C -0.00555 0.11528 -0.00867 0.0838 0.00122 0.06505 C 0.00331 0.05556 0.00574 0.04607 0.00713 0.03634 C 0.00799 0.03009 0.00956 0.01736 0.00956 0.01736 C 0.00834 0.00162 0.01042 -0.00162 6.66667E-006 0.00139 C -0.00034 -0.00023 -0.00138 -0.00162 -0.00121 -0.00324 C -0.00103 -0.00509 0.00053 -0.00995 0.00122 -0.0081 C 0.00209 -0.00555 0.00035 -0.00278 6.66667E-006 -3.33333E-006 Z">
                                      <p:cBhvr>
                                        <p:cTn id="3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Картинка 170 из 33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76280"/>
            <a:ext cx="4483080" cy="5977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603360"/>
            <a:ext cx="3743280" cy="792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Несмотря на то, что оно не пользовалось особым успехом публики, Гершвин привлек внимание некоторых известных бродвейских продюсеров и режиссёров. В те годы Гершвин, занимаясь фортепиано, гармонией и оркестровкой, подрабатывал пианистом в ресторанах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Зигмунд Ромберг с радостью включил музыку Гершвина в свою оперетту «The Passing Show of 1916».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newsflash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3238560" cy="555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 1918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1919 </a:t>
            </a:r>
            <a:r>
              <a:rPr b="1" i="1" lang="en-US" sz="2400" spc="-1" strike="noStrike">
                <a:solidFill>
                  <a:srgbClr val="000000"/>
                </a:solidFill>
                <a:latin typeface="Arial Rounded MT Bold"/>
              </a:rPr>
              <a:t>год</a:t>
            </a: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 на Бродвее появилось много произведений Гершвина: «Swanee» вошла в мюзикл «Синбад» и имела ошеломляющий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успех в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17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исполнении Эла Джолсона. А постановка «La, La Lucille» 1919 года была полностью основана на сочинениях Гершвина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9" name="" descr="Картинка 204 из 3367"/>
          <p:cNvPicPr/>
          <p:nvPr/>
        </p:nvPicPr>
        <p:blipFill>
          <a:blip r:embed="rId1"/>
          <a:stretch/>
        </p:blipFill>
        <p:spPr>
          <a:xfrm>
            <a:off x="4140360" y="907920"/>
            <a:ext cx="4572000" cy="424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518472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1920—1924 годах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Джордж Гершвин создавал по нескольку десятков произведений для «George White’s Scandals», а в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1922 году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написал даже настоящую оперу — «Blue Monday» (известную как «135th Street»), после премьеры которой был приглашен в джаз-бэнд Пола Уайтмена в качестве композитора. Именно для Уайтмена Джордж сочинил настоящую жемчужину своего творчества — «Rhapsody in Blue» («Рапсодия в блюзовых тонах»)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" name="" descr="Картинка 275 из 3367"/>
          <p:cNvPicPr/>
          <p:nvPr/>
        </p:nvPicPr>
        <p:blipFill>
          <a:blip r:embed="rId1"/>
          <a:stretch/>
        </p:blipFill>
        <p:spPr>
          <a:xfrm>
            <a:off x="5580000" y="476280"/>
            <a:ext cx="3141720" cy="5977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4392360" cy="555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1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1924 году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Гершвин создал мюзикл «Lady, Be Good!», который стал первым настоящим успехом композитора на Бродвее. В этой постановке Гершвин впервые работал со своим братом Айрой Гершвином, который писал все тексты. Следующее десятилетие этот творческий союз был самым продуктивным и востребованным на Бродвее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3" name="" descr="Картинка 291 из 3367"/>
          <p:cNvPicPr/>
          <p:nvPr/>
        </p:nvPicPr>
        <p:blipFill>
          <a:blip r:embed="rId1"/>
          <a:stretch/>
        </p:blipFill>
        <p:spPr>
          <a:xfrm>
            <a:off x="5076720" y="476280"/>
            <a:ext cx="366084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7 C -0.0019 0.00972 -0.00381 0.01643 -0.00711 0.02523 C -0.01041 0.03379 -0.01579 0.04028 -0.01909 0.04907 C -0.021 0.0544 -0.02621 0.06111 -0.02621 0.06667 L -0.08576 0.00625 L -0.04409 -0.29051 L -0.02378 0.27616 L 0.00365 -0.01435 L -2.77778E-006 3.7037E-007 Z">
                                      <p:cBhvr>
                                        <p:cTn id="68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0:27:44Z</dcterms:created>
  <dc:creator>ARMEN</dc:creator>
  <dc:description/>
  <dc:language>en-US</dc:language>
  <cp:lastModifiedBy>ARMEN</cp:lastModifiedBy>
  <dcterms:modified xsi:type="dcterms:W3CDTF">2011-02-13T12:39:52Z</dcterms:modified>
  <cp:revision>3</cp:revision>
  <dc:subject/>
  <dc:title>Слайд 1</dc:title>
</cp:coreProperties>
</file>