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17.png" ContentType="image/png"/>
  <Override PartName="/ppt/media/image23.gif" ContentType="image/gif"/>
  <Override PartName="/ppt/media/image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1.png" ContentType="image/png"/>
  <Override PartName="/ppt/media/image3.gif" ContentType="image/gif"/>
  <Override PartName="/ppt/media/image5.gif" ContentType="image/gif"/>
  <Override PartName="/ppt/media/image14.jpeg" ContentType="image/jpeg"/>
  <Override PartName="/ppt/media/image33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9.jpeg" ContentType="image/jpeg"/>
  <Override PartName="/ppt/media/image1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16.gif" ContentType="image/gif"/>
  <Override PartName="/ppt/media/image32.gif" ContentType="image/gif"/>
  <Override PartName="/ppt/media/image19.jpeg" ContentType="image/jpeg"/>
  <Override PartName="/ppt/media/image2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E45-599C-4BF1-B3C0-B3B56386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91D-1691-45E6-BE31-1E17C5C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B6D-1546-461A-9A0F-E0DC1459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023-206F-4EE3-B62F-93477F27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7DF-B56A-4C8C-86A6-2EBDECE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120-5A00-4217-97F3-9A25F618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B9E-742D-407A-8A60-80BB9E1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4B0-F9F7-475F-8160-55A48AB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27A-F6E7-429A-839D-A193371B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BBA-C32B-4670-8ABD-4C7F6F0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C36-E3E3-4583-8DF0-2A3E324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6B7-8B45-44BA-A280-41A5D33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F2A1-CB72-4627-A10D-4A4DCBDA8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0/Physical_World_Map_2004-04-01.jpe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pitzbergen.ru/maps/world/Contur-World-Map.gif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85716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</a:rPr>
              <a:t>Географические кар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571320"/>
            <a:ext cx="784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71760" y="1928880"/>
            <a:ext cx="595620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зависимости от той или иной проекции меридианы и параллели, образующие картографическую сетку, принимают самый различный вид: они могут изображаться в виде то прямых, то кривых линий. Сеть параллелей и меридианов — это основа, каркас любой карты, которая затем наполняется географическим содержанием. Рисунок 2 на с. 8 учебника наглядно показывает, как по-разному выглядит сеть меридианов и параллелей в разных картографических проек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Картинка 2 из 10"/>
          <p:cNvPicPr/>
          <p:nvPr/>
        </p:nvPicPr>
        <p:blipFill>
          <a:blip r:embed="rId1"/>
          <a:stretch/>
        </p:blipFill>
        <p:spPr>
          <a:xfrm>
            <a:off x="0" y="2571840"/>
            <a:ext cx="5716440" cy="42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а 1 из 10"/>
          <p:cNvPicPr/>
          <p:nvPr/>
        </p:nvPicPr>
        <p:blipFill>
          <a:blip r:embed="rId2"/>
          <a:stretch/>
        </p:blipFill>
        <p:spPr>
          <a:xfrm>
            <a:off x="5643720" y="2428920"/>
            <a:ext cx="33336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ущность картографических проекций хорошо отражена в четверостишиях картографа А. В. Гедыми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зучая суть проекц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адо помнить положение: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С переходом сферы в плоскость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Неизбежны искаж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Карты вовсе не безгрешны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И в пределах разных норм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Нарушают верность лини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      Площадей, углов и ф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Картинка 372 из 533"/>
          <p:cNvPicPr/>
          <p:nvPr/>
        </p:nvPicPr>
        <p:blipFill>
          <a:blip r:embed="rId1"/>
          <a:stretch/>
        </p:blipFill>
        <p:spPr>
          <a:xfrm>
            <a:off x="228600" y="5429160"/>
            <a:ext cx="1771560" cy="1266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391 из 533"/>
          <p:cNvPicPr/>
          <p:nvPr/>
        </p:nvPicPr>
        <p:blipFill>
          <a:blip r:embed="rId2"/>
          <a:stretch/>
        </p:blipFill>
        <p:spPr>
          <a:xfrm>
            <a:off x="6858000" y="1111320"/>
            <a:ext cx="1928880" cy="122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Картинка 445 из 533"/>
          <p:cNvPicPr/>
          <p:nvPr/>
        </p:nvPicPr>
        <p:blipFill>
          <a:blip r:embed="rId3"/>
          <a:stretch/>
        </p:blipFill>
        <p:spPr>
          <a:xfrm>
            <a:off x="6929280" y="4786200"/>
            <a:ext cx="1847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показывают на тематических картах различные по своему характеру события и явления? Картографы придумали много разных способов картографического изображения. Основные способы представлены на рисунке 3 учебника. Анализируя карты атласа и рисунок 3 учебника, учащиеся заполняют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2643120"/>
          <a:ext cx="8501040" cy="4071960"/>
        </p:xfrm>
        <a:graphic>
          <a:graphicData uri="http://schemas.openxmlformats.org/drawingml/2006/table">
            <a:tbl>
              <a:tblPr/>
              <a:tblGrid>
                <a:gridCol w="4251240"/>
                <a:gridCol w="4249800"/>
              </a:tblGrid>
              <a:tr h="8650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картографического изобра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кар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е 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23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енный 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2056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96880"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46800" rIns="468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46.gif"/>
          <p:cNvPicPr/>
          <p:nvPr/>
        </p:nvPicPr>
        <p:blipFill>
          <a:blip r:embed="rId1"/>
          <a:stretch/>
        </p:blipFill>
        <p:spPr>
          <a:xfrm>
            <a:off x="8143920" y="612468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Географическая ка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енное изображение поверхности Земли или ее частей на поверхности при помощи условных знаков. Иногда для удобства использования карты объединяются в атлас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4005360"/>
            <a:ext cx="381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помощи масштаба измерьте расстояние между Москвой  и Берлином на физической карте полушарий, на физической карте России. Сравните получившиеся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Файл:Physical World Map 2004-04-01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3357720"/>
            <a:ext cx="388764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643280" y="59500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ая карта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лассификация к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9284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ы делят на группы по какому-либо одному признаку (рис. 4 учебника). Например, карты атласа можно разделить по охвату территории на такие группы: мировые карты и карты полушарий, изображающие поверхность всего земного шара; карты отдельных материков, океанов и их частей; карты стран и их частей; карты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Картинка 8 из 124381"/>
          <p:cNvPicPr/>
          <p:nvPr/>
        </p:nvPicPr>
        <p:blipFill>
          <a:blip r:embed="rId1"/>
          <a:stretch/>
        </p:blipFill>
        <p:spPr>
          <a:xfrm>
            <a:off x="2000160" y="4011480"/>
            <a:ext cx="5251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572436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на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справочные — предназначены для выполнения научных исследований и получения максимально полной информ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-образовательные — предназначены для популяризации знаний, ид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 — используются в качестве наглядных пособий для изучения географии, истории, геологии и других дисципли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ие — отображают объекты и условия, необходимые для решения каких-либо технических зад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ские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Контур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а 8 из 59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66517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7172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 •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знакомить учащихся со способами изображения земной поверхност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Обобщить знания о плане и карте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Сформировать знания о картографической проекц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• Продолжить формирование умений работать с кар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Картинка 258 из 301"/>
          <p:cNvPicPr/>
          <p:nvPr/>
        </p:nvPicPr>
        <p:blipFill>
          <a:blip r:embed="rId1"/>
          <a:stretch/>
        </p:blipFill>
        <p:spPr>
          <a:xfrm>
            <a:off x="7858080" y="285840"/>
            <a:ext cx="1085760" cy="84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6 из 8135"/>
          <p:cNvPicPr/>
          <p:nvPr/>
        </p:nvPicPr>
        <p:blipFill>
          <a:blip r:embed="rId2"/>
          <a:stretch/>
        </p:blipFill>
        <p:spPr>
          <a:xfrm>
            <a:off x="4429080" y="435780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 изучить § 3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ответить на вопросы 1—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 выполнить задания 4 и 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Картинка 446 из 533"/>
          <p:cNvPicPr/>
          <p:nvPr/>
        </p:nvPicPr>
        <p:blipFill>
          <a:blip r:embed="rId1"/>
          <a:stretch/>
        </p:blipFill>
        <p:spPr>
          <a:xfrm>
            <a:off x="500040" y="50004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а 85 из 625"/>
          <p:cNvPicPr/>
          <p:nvPr/>
        </p:nvPicPr>
        <p:blipFill>
          <a:blip r:embed="rId2"/>
          <a:stretch/>
        </p:blipFill>
        <p:spPr>
          <a:xfrm>
            <a:off x="5715000" y="3195720"/>
            <a:ext cx="30798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Проверка домашнего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Назовите источники географической информации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Что такое географическая карта?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Проверка описаний выбранных фотограф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0 из 510"/>
          <p:cNvPicPr/>
          <p:nvPr/>
        </p:nvPicPr>
        <p:blipFill>
          <a:blip r:embed="rId1"/>
          <a:stretch/>
        </p:blipFill>
        <p:spPr>
          <a:xfrm>
            <a:off x="6786720" y="4143240"/>
            <a:ext cx="206676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424 из 533"/>
          <p:cNvPicPr/>
          <p:nvPr/>
        </p:nvPicPr>
        <p:blipFill>
          <a:blip r:embed="rId2"/>
          <a:stretch/>
        </p:blipFill>
        <p:spPr>
          <a:xfrm>
            <a:off x="3929040" y="4857840"/>
            <a:ext cx="1000080" cy="1114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5+.gif"/>
          <p:cNvPicPr/>
          <p:nvPr/>
        </p:nvPicPr>
        <p:blipFill>
          <a:blip r:embed="rId3"/>
          <a:stretch/>
        </p:blipFill>
        <p:spPr>
          <a:xfrm>
            <a:off x="1285920" y="4572000"/>
            <a:ext cx="457200" cy="1685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trust-problem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Географическая карта — величайшее творение человечества. Она служит замечательным средством познания и преобразования окружающего мира. К ней обращаются инженеры и исследователи, геологи и агрономы, ученые и военные, и каждый находит нужные ответы на свои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48 из 8135"/>
          <p:cNvPicPr/>
          <p:nvPr/>
        </p:nvPicPr>
        <p:blipFill>
          <a:blip r:embed="rId1"/>
          <a:stretch/>
        </p:blipFill>
        <p:spPr>
          <a:xfrm>
            <a:off x="1714680" y="3214800"/>
            <a:ext cx="6095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-36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сключительно важна роль карты в обучении географии. Карты содержат богатейшую информацию о нашей планете. По ним можно изучать взаимное расположение материков и кварталы городов, транспортные потоки между странами и маршруты перелета птиц. На некоторых картах можно увидеть дно океана, строение земной коры, ледниковые покровы прошлого и даже заглянуть в 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56.radikal.ru/i154/1001/6a/44c3dd2f8fb4.gif"/>
          <p:cNvPicPr/>
          <p:nvPr/>
        </p:nvPicPr>
        <p:blipFill>
          <a:blip r:embed="rId1"/>
          <a:stretch/>
        </p:blipFill>
        <p:spPr>
          <a:xfrm>
            <a:off x="7858080" y="428760"/>
            <a:ext cx="112392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496 из 1134"/>
          <p:cNvPicPr/>
          <p:nvPr/>
        </p:nvPicPr>
        <p:blipFill>
          <a:blip r:embed="rId2"/>
          <a:stretch/>
        </p:blipFill>
        <p:spPr>
          <a:xfrm>
            <a:off x="5000760" y="4286160"/>
            <a:ext cx="3628800" cy="241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65 из 1045"/>
          <p:cNvPicPr/>
          <p:nvPr/>
        </p:nvPicPr>
        <p:blipFill>
          <a:blip r:embed="rId3"/>
          <a:stretch/>
        </p:blipFill>
        <p:spPr>
          <a:xfrm>
            <a:off x="428760" y="4070520"/>
            <a:ext cx="41608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йденные археологами примитивные рисунки местности на камнях, бересте, дереве и даже на куске бивня мамонта, возраст которых достигает около 15 тысячелетий, свидетельствуют о том, что зарождение карты уходит в далекое прошл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Картинка 9 из 8135"/>
          <p:cNvPicPr/>
          <p:nvPr/>
        </p:nvPicPr>
        <p:blipFill>
          <a:blip r:embed="rId1"/>
          <a:stretch/>
        </p:blipFill>
        <p:spPr>
          <a:xfrm>
            <a:off x="1714680" y="2190600"/>
            <a:ext cx="6095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амое верное представление о взаимном расположении материков и океанов, рек и гор дает глобус. На карте же земная поверхность изображена с искажениями, так как нельзя выпуклую поверхность без разрывов наложить на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19 из 8135"/>
          <p:cNvPicPr/>
          <p:nvPr/>
        </p:nvPicPr>
        <p:blipFill>
          <a:blip r:embed="rId1"/>
          <a:stretch/>
        </p:blipFill>
        <p:spPr>
          <a:xfrm>
            <a:off x="3286080" y="2857680"/>
            <a:ext cx="557208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Картинка 340 из 533"/>
          <p:cNvPicPr/>
          <p:nvPr/>
        </p:nvPicPr>
        <p:blipFill>
          <a:blip r:embed="rId2"/>
          <a:stretch/>
        </p:blipFill>
        <p:spPr>
          <a:xfrm>
            <a:off x="1000080" y="3286080"/>
            <a:ext cx="14288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к же перейти от глобуса к карте, как перенести сферическую поверхность Земли на плоскость? На помощь приходит градусная сеть. (Вспомните: что называется градусной сетью?) С ее помощью по клеткам можно перенести с глобуса контуры материков, реки, города и другие точки по их географическим координ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а 337 из 533"/>
          <p:cNvPicPr/>
          <p:nvPr/>
        </p:nvPicPr>
        <p:blipFill>
          <a:blip r:embed="rId1"/>
          <a:stretch/>
        </p:blipFill>
        <p:spPr>
          <a:xfrm>
            <a:off x="357120" y="32148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351 из 533"/>
          <p:cNvPicPr/>
          <p:nvPr/>
        </p:nvPicPr>
        <p:blipFill>
          <a:blip r:embed="rId2"/>
          <a:stretch/>
        </p:blipFill>
        <p:spPr>
          <a:xfrm>
            <a:off x="3429000" y="3214800"/>
            <a:ext cx="39956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     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артографические проекции различаются по построению. В зависимости от способов переноса градусной сети с глобуса на плоскость карты бывают следующие проекции: азимутальные, цилиндрические, кон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Картинка 7 из 10"/>
          <p:cNvPicPr/>
          <p:nvPr/>
        </p:nvPicPr>
        <p:blipFill>
          <a:blip r:embed="rId1"/>
          <a:stretch/>
        </p:blipFill>
        <p:spPr>
          <a:xfrm>
            <a:off x="642960" y="2857680"/>
            <a:ext cx="773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51:41Z</dcterms:created>
  <dc:creator>911</dc:creator>
  <dc:description/>
  <dc:language>en-US</dc:language>
  <cp:lastModifiedBy>User</cp:lastModifiedBy>
  <dcterms:modified xsi:type="dcterms:W3CDTF">2011-09-07T14:08:04Z</dcterms:modified>
  <cp:revision>10</cp:revision>
  <dc:subject/>
  <dc:title>Географическая карта</dc:title>
</cp:coreProperties>
</file>