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gif" ContentType="image/gif"/>
  <Override PartName="/ppt/media/image17.png" ContentType="image/png"/>
  <Override PartName="/ppt/media/image23.gif" ContentType="image/gif"/>
  <Override PartName="/ppt/media/image6.gif" ContentType="image/gif"/>
  <Override PartName="/ppt/media/image11.gif" ContentType="image/gif"/>
  <Override PartName="/ppt/media/image26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1.png" ContentType="image/png"/>
  <Override PartName="/ppt/media/image3.gif" ContentType="image/gif"/>
  <Override PartName="/ppt/media/image5.gif" ContentType="image/gif"/>
  <Override PartName="/ppt/media/image14.jpeg" ContentType="image/jpeg"/>
  <Override PartName="/ppt/media/image33.jpeg" ContentType="image/jpeg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9.jpeg" ContentType="image/jpeg"/>
  <Override PartName="/ppt/media/image1.jpeg" ContentType="image/jpeg"/>
  <Override PartName="/ppt/media/image15.gif" ContentType="image/gif"/>
  <Override PartName="/ppt/media/image18.png" ContentType="image/png"/>
  <Override PartName="/ppt/media/image28.jpeg" ContentType="image/jpeg"/>
  <Override PartName="/ppt/media/image16.gif" ContentType="image/gif"/>
  <Override PartName="/ppt/media/image32.gif" ContentType="image/gif"/>
  <Override PartName="/ppt/media/image19.jpeg" ContentType="image/jpeg"/>
  <Override PartName="/ppt/media/image20.jpeg" ContentType="image/jpeg"/>
  <Override PartName="/ppt/media/image2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D46-EBA3-40EA-9777-4362AC22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A47-8CB4-4B36-9289-495E9E02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D81-7266-4CBC-8524-1F92AC11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8B2-DE20-4225-B3DD-6313D451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DB4-3310-4D70-9F18-C1BCAA56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878-1A88-4365-9DF5-E356E746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81B-4FBC-45C9-86A7-64EA24D5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B88-93F6-44A6-817C-B8BFDB88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6A1-DADE-4F85-BCB2-962E5A37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CB0-E844-497E-B84B-FD910FD7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1B1-506D-41FD-B974-B9835F58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24C-8FFA-4E18-BF6B-FC86003A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4B15-DB1C-4361-8371-5815FC616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b/b0/Physical_World_Map_2004-04-01.jpeg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pitzbergen.ru/maps/world/Contur-World-Map.gif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86439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Segoe Script"/>
              </a:rPr>
              <a:t>Географические кар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571320"/>
            <a:ext cx="7848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графия 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71760" y="1928880"/>
            <a:ext cx="595620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      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 зависимости от той или иной проекции меридианы и параллели, образующие картографическую сетку, принимают самый различный вид: они могут изображаться в виде то прямых, то кривых линий. Сеть параллелей и меридианов — это основа, каркас любой карты, которая затем наполняется географическим содержанием. Рисунок 2 на с. 8 учебника наглядно показывает, как по-разному выглядит сеть меридианов и параллелей в разных картографических проек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Картинка 2 из 10"/>
          <p:cNvPicPr/>
          <p:nvPr/>
        </p:nvPicPr>
        <p:blipFill>
          <a:blip r:embed="rId1"/>
          <a:stretch/>
        </p:blipFill>
        <p:spPr>
          <a:xfrm>
            <a:off x="0" y="2571840"/>
            <a:ext cx="5716440" cy="428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Картинка 1 из 10"/>
          <p:cNvPicPr/>
          <p:nvPr/>
        </p:nvPicPr>
        <p:blipFill>
          <a:blip r:embed="rId2"/>
          <a:stretch/>
        </p:blipFill>
        <p:spPr>
          <a:xfrm>
            <a:off x="5643720" y="2428920"/>
            <a:ext cx="33336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ущность картографических проекций хорошо отражена в четверостишиях картографа А. В. Гедыми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зучая суть проекций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Надо помнить положение: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С переходом сферы в плоскость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Неизбежны искажени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      Карты вовсе не безгрешны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      И в пределах разных норм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      Нарушают верность линий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      Площадей, углов и фор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Картинка 372 из 533"/>
          <p:cNvPicPr/>
          <p:nvPr/>
        </p:nvPicPr>
        <p:blipFill>
          <a:blip r:embed="rId1"/>
          <a:stretch/>
        </p:blipFill>
        <p:spPr>
          <a:xfrm>
            <a:off x="228600" y="5429160"/>
            <a:ext cx="1771560" cy="1266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Картинка 391 из 533"/>
          <p:cNvPicPr/>
          <p:nvPr/>
        </p:nvPicPr>
        <p:blipFill>
          <a:blip r:embed="rId2"/>
          <a:stretch/>
        </p:blipFill>
        <p:spPr>
          <a:xfrm>
            <a:off x="6858000" y="1111320"/>
            <a:ext cx="1928880" cy="122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Картинка 445 из 533"/>
          <p:cNvPicPr/>
          <p:nvPr/>
        </p:nvPicPr>
        <p:blipFill>
          <a:blip r:embed="rId3"/>
          <a:stretch/>
        </p:blipFill>
        <p:spPr>
          <a:xfrm>
            <a:off x="6929280" y="4786200"/>
            <a:ext cx="1847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же показывают на тематических картах различные по своему характеру события и явления? Картографы придумали много разных способов картографического изображения. Основные способы представлены на рисунке 3 учебника. Анализируя карты атласа и рисунок 3 учебника, учащиеся заполняют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57120" y="2643120"/>
          <a:ext cx="8501040" cy="4071960"/>
        </p:xfrm>
        <a:graphic>
          <a:graphicData uri="http://schemas.openxmlformats.org/drawingml/2006/table">
            <a:tbl>
              <a:tblPr/>
              <a:tblGrid>
                <a:gridCol w="4251240"/>
                <a:gridCol w="4249800"/>
              </a:tblGrid>
              <a:tr h="86508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 картографического изобра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кар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236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236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ные 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236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ли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236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енный ф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056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е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9688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и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8" descr="46.gif"/>
          <p:cNvPicPr/>
          <p:nvPr/>
        </p:nvPicPr>
        <p:blipFill>
          <a:blip r:embed="rId1"/>
          <a:stretch/>
        </p:blipFill>
        <p:spPr>
          <a:xfrm>
            <a:off x="8143920" y="6124680"/>
            <a:ext cx="6094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Географическая кар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ьшенное изображение поверхности Земли или ее частей на поверхности при помощи условных знаков. Иногда для удобства использования карты объединяются в атлас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9640" y="4005360"/>
            <a:ext cx="381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№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 помощи масштаба измерьте расстояние между Москвой  и Берлином на физической карте полушарий, на физической карте России. Сравните получившиеся результ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Файл:Physical World Map 2004-04-01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3357720"/>
            <a:ext cx="3887640" cy="2868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643280" y="595008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ая карта 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Классификация к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928440"/>
            <a:ext cx="91440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арты делят на группы по какому-либо одному признаку (рис. 4 учебника). Например, карты атласа можно разделить по охвату территории на такие группы: мировые карты и карты полушарий, изображающие поверхность всего земного шара; карты отдельных материков, океанов и их частей; карты стран и их частей; карты городов и рай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Картинка 8 из 124381"/>
          <p:cNvPicPr/>
          <p:nvPr/>
        </p:nvPicPr>
        <p:blipFill>
          <a:blip r:embed="rId1"/>
          <a:stretch/>
        </p:blipFill>
        <p:spPr>
          <a:xfrm>
            <a:off x="2000160" y="4011480"/>
            <a:ext cx="52516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8"/>
          <p:cNvSpPr/>
          <p:nvPr/>
        </p:nvSpPr>
        <p:spPr>
          <a:xfrm>
            <a:off x="5724360" y="386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84358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назнач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справочные — предназначены для выполнения научных исследований и получения максимально полной информ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о-образовательные — предназначены для популяризации знаний, ид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е — используются в качестве наглядных пособий для изучения географии, истории, геологии и других дисципли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ие — отображают объекты и условия, необходимые для решения каких-либо технических зада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ристские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Контурная к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Картинка 8 из 59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484280"/>
            <a:ext cx="665172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07172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 •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знакомить учащихся со способами изображения земной поверхности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• Обобщить знания о плане и карте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• Сформировать знания о картографической проекции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• Продолжить формирование умений работать с кар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Картинка 258 из 301"/>
          <p:cNvPicPr/>
          <p:nvPr/>
        </p:nvPicPr>
        <p:blipFill>
          <a:blip r:embed="rId1"/>
          <a:stretch/>
        </p:blipFill>
        <p:spPr>
          <a:xfrm>
            <a:off x="7858080" y="285840"/>
            <a:ext cx="1085760" cy="84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Картинка 6 из 8135"/>
          <p:cNvPicPr/>
          <p:nvPr/>
        </p:nvPicPr>
        <p:blipFill>
          <a:blip r:embed="rId2"/>
          <a:stretch/>
        </p:blipFill>
        <p:spPr>
          <a:xfrm>
            <a:off x="4429080" y="435780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 изучить § 3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ответить на вопросы 1—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 выполнить задания 4 и 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Картинка 446 из 533"/>
          <p:cNvPicPr/>
          <p:nvPr/>
        </p:nvPicPr>
        <p:blipFill>
          <a:blip r:embed="rId1"/>
          <a:stretch/>
        </p:blipFill>
        <p:spPr>
          <a:xfrm>
            <a:off x="500040" y="500040"/>
            <a:ext cx="100008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Картинка 85 из 625"/>
          <p:cNvPicPr/>
          <p:nvPr/>
        </p:nvPicPr>
        <p:blipFill>
          <a:blip r:embed="rId2"/>
          <a:stretch/>
        </p:blipFill>
        <p:spPr>
          <a:xfrm>
            <a:off x="5715000" y="3195720"/>
            <a:ext cx="307980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Проверка домашнего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    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Назовите источники географической информации.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Что такое географическая карта?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Проверка описаний выбранных фотограф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Картинка 0 из 510"/>
          <p:cNvPicPr/>
          <p:nvPr/>
        </p:nvPicPr>
        <p:blipFill>
          <a:blip r:embed="rId1"/>
          <a:stretch/>
        </p:blipFill>
        <p:spPr>
          <a:xfrm>
            <a:off x="6786720" y="4143240"/>
            <a:ext cx="2066760" cy="2571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Картинка 424 из 533"/>
          <p:cNvPicPr/>
          <p:nvPr/>
        </p:nvPicPr>
        <p:blipFill>
          <a:blip r:embed="rId2"/>
          <a:stretch/>
        </p:blipFill>
        <p:spPr>
          <a:xfrm>
            <a:off x="3929040" y="4857840"/>
            <a:ext cx="1000080" cy="11142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5+.gif"/>
          <p:cNvPicPr/>
          <p:nvPr/>
        </p:nvPicPr>
        <p:blipFill>
          <a:blip r:embed="rId3"/>
          <a:stretch/>
        </p:blipFill>
        <p:spPr>
          <a:xfrm>
            <a:off x="1285920" y="4572000"/>
            <a:ext cx="457200" cy="1685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trust-problem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Географическая карта — величайшее творение человечества. Она служит замечательным средством познания и преобразования окружающего мира. К ней обращаются инженеры и исследователи, геологи и агрономы, ученые и военные, и каждый находит нужные ответы на свои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Картинка 48 из 8135"/>
          <p:cNvPicPr/>
          <p:nvPr/>
        </p:nvPicPr>
        <p:blipFill>
          <a:blip r:embed="rId1"/>
          <a:stretch/>
        </p:blipFill>
        <p:spPr>
          <a:xfrm>
            <a:off x="1714680" y="3214800"/>
            <a:ext cx="60958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-360"/>
            <a:ext cx="91440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сключительно важна роль карты в обучении географии. Карты содержат богатейшую информацию о нашей планете. По ним можно изучать взаимное расположение материков и кварталы городов, транспортные потоки между странами и маршруты перелета птиц. На некоторых картах можно увидеть дно океана, строение земной коры, ледниковые покровы прошлого и даже заглянуть в буду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s56.radikal.ru/i154/1001/6a/44c3dd2f8fb4.gif"/>
          <p:cNvPicPr/>
          <p:nvPr/>
        </p:nvPicPr>
        <p:blipFill>
          <a:blip r:embed="rId1"/>
          <a:stretch/>
        </p:blipFill>
        <p:spPr>
          <a:xfrm>
            <a:off x="7858080" y="428760"/>
            <a:ext cx="1123920" cy="95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артинка 496 из 1134"/>
          <p:cNvPicPr/>
          <p:nvPr/>
        </p:nvPicPr>
        <p:blipFill>
          <a:blip r:embed="rId2"/>
          <a:stretch/>
        </p:blipFill>
        <p:spPr>
          <a:xfrm>
            <a:off x="5000760" y="4286160"/>
            <a:ext cx="3628800" cy="2419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Картинка 65 из 1045"/>
          <p:cNvPicPr/>
          <p:nvPr/>
        </p:nvPicPr>
        <p:blipFill>
          <a:blip r:embed="rId3"/>
          <a:stretch/>
        </p:blipFill>
        <p:spPr>
          <a:xfrm>
            <a:off x="428760" y="4070520"/>
            <a:ext cx="41608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йденные археологами примитивные рисунки местности на камнях, бересте, дереве и даже на куске бивня мамонта, возраст которых достигает около 15 тысячелетий, свидетельствуют о том, что зарождение карты уходит в далекое прошл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Картинка 9 из 8135"/>
          <p:cNvPicPr/>
          <p:nvPr/>
        </p:nvPicPr>
        <p:blipFill>
          <a:blip r:embed="rId1"/>
          <a:stretch/>
        </p:blipFill>
        <p:spPr>
          <a:xfrm>
            <a:off x="1714680" y="2190600"/>
            <a:ext cx="60958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амое верное представление о взаимном расположении материков и океанов, рек и гор дает глобус. На карте же земная поверхность изображена с искажениями, так как нельзя выпуклую поверхность без разрывов наложить на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Картинка 19 из 8135"/>
          <p:cNvPicPr/>
          <p:nvPr/>
        </p:nvPicPr>
        <p:blipFill>
          <a:blip r:embed="rId1"/>
          <a:stretch/>
        </p:blipFill>
        <p:spPr>
          <a:xfrm>
            <a:off x="3286080" y="2857680"/>
            <a:ext cx="5572080" cy="3809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Картинка 340 из 533"/>
          <p:cNvPicPr/>
          <p:nvPr/>
        </p:nvPicPr>
        <p:blipFill>
          <a:blip r:embed="rId2"/>
          <a:stretch/>
        </p:blipFill>
        <p:spPr>
          <a:xfrm>
            <a:off x="1000080" y="3286080"/>
            <a:ext cx="142884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-36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ак же перейти от глобуса к карте, как перенести сферическую поверхность Земли на плоскость? На помощь приходит градусная сеть. (Вспомните: что называется градусной сетью?) С ее помощью по клеткам можно перенести с глобуса контуры материков, реки, города и другие точки по их географическим координа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Картинка 337 из 533"/>
          <p:cNvPicPr/>
          <p:nvPr/>
        </p:nvPicPr>
        <p:blipFill>
          <a:blip r:embed="rId1"/>
          <a:stretch/>
        </p:blipFill>
        <p:spPr>
          <a:xfrm>
            <a:off x="357120" y="3214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Картинка 351 из 533"/>
          <p:cNvPicPr/>
          <p:nvPr/>
        </p:nvPicPr>
        <p:blipFill>
          <a:blip r:embed="rId2"/>
          <a:stretch/>
        </p:blipFill>
        <p:spPr>
          <a:xfrm>
            <a:off x="3429000" y="3214800"/>
            <a:ext cx="399564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артографические проекции различаются по построению. В зависимости от способов переноса градусной сети с глобуса на плоскость карты бывают следующие проекции: азимутальные, цилиндрические, кониче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Картинка 7 из 10"/>
          <p:cNvPicPr/>
          <p:nvPr/>
        </p:nvPicPr>
        <p:blipFill>
          <a:blip r:embed="rId1"/>
          <a:stretch/>
        </p:blipFill>
        <p:spPr>
          <a:xfrm>
            <a:off x="642960" y="2857680"/>
            <a:ext cx="7738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7:51:41Z</dcterms:created>
  <dc:creator>911</dc:creator>
  <dc:description/>
  <dc:language>en-US</dc:language>
  <cp:lastModifiedBy>User</cp:lastModifiedBy>
  <dcterms:modified xsi:type="dcterms:W3CDTF">2011-09-07T14:08:04Z</dcterms:modified>
  <cp:revision>10</cp:revision>
  <dc:subject/>
  <dc:title>Географическая карта</dc:title>
</cp:coreProperties>
</file>