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216-D1DE-46AF-A599-5AE4B909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EFC-B4E0-47F4-8136-BB716890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DDD-EFA5-461C-ADE9-015C70BD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39C-F524-46FD-8C0B-2B4DECFE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809-2994-424B-990D-4ADCDFF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3F6-F5A3-428B-A658-A1D102E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16D-3943-41D5-881B-DF7F4767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76C-CA15-497E-8E9B-A230B6F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E3F-13B4-4B73-9331-E94ECF5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F46-F573-4732-BBB4-D49CECD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804-2349-47C2-A864-6657666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148-4CCF-4F2A-A5AE-84660320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6186-E08C-49FF-AC6B-6D9417456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скрипичный"/>
          <p:cNvPicPr/>
          <p:nvPr/>
        </p:nvPicPr>
        <p:blipFill>
          <a:blip r:embed="rId1"/>
          <a:stretch/>
        </p:blipFill>
        <p:spPr>
          <a:xfrm>
            <a:off x="971640" y="0"/>
            <a:ext cx="7756560" cy="645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956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ЕЛИКИЕ ЛЮДИ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ЕМЛИ ЧУВАШ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Чебоксары.mp3" descr=""/>
          <p:cNvPicPr/>
          <p:nvPr/>
        </p:nvPicPr>
        <p:blipFill>
          <a:blip r:embed="rId2"/>
          <a:stretch/>
        </p:blipFill>
        <p:spPr>
          <a:xfrm>
            <a:off x="179280" y="605628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21"/>
          <p:cNvGrpSpPr/>
          <p:nvPr/>
        </p:nvGrpSpPr>
        <p:grpSpPr>
          <a:xfrm>
            <a:off x="2184120" y="2627640"/>
            <a:ext cx="3191040" cy="3979080"/>
            <a:chOff x="2184120" y="2627640"/>
            <a:chExt cx="3191040" cy="3979080"/>
          </a:xfrm>
        </p:grpSpPr>
        <p:pic>
          <p:nvPicPr>
            <p:cNvPr id="46" name="Picture 16" descr="P1040769"/>
            <p:cNvPicPr/>
            <p:nvPr/>
          </p:nvPicPr>
          <p:blipFill>
            <a:blip r:embed="rId2"/>
            <a:stretch/>
          </p:blipFill>
          <p:spPr>
            <a:xfrm rot="21580200">
              <a:off x="2195640" y="2901960"/>
              <a:ext cx="3152160" cy="34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AutoShape 12"/>
            <p:cNvSpPr/>
            <p:nvPr/>
          </p:nvSpPr>
          <p:spPr>
            <a:xfrm rot="21580200">
              <a:off x="2195280" y="2636640"/>
              <a:ext cx="3168360" cy="3960720"/>
            </a:xfrm>
            <a:custGeom>
              <a:avLst/>
              <a:gdLst>
                <a:gd name="textAreaLeft" fmla="*/ 219960 w 3168360"/>
                <a:gd name="textAreaRight" fmla="*/ 2948400 w 3168360"/>
                <a:gd name="textAreaTop" fmla="*/ 275400 h 3960720"/>
                <a:gd name="textAreaBottom" fmla="*/ 3685320 h 3960720"/>
              </a:gdLst>
              <a:ahLst/>
              <a:rect l="textAreaLeft" t="textAreaTop" r="textAreaRight" b="textAreaBottom"/>
              <a:pathLst>
                <a:path w="21600" h="27603">
                  <a:moveTo>
                    <a:pt x="0" y="0"/>
                  </a:moveTo>
                  <a:lnTo>
                    <a:pt x="0" y="27000"/>
                  </a:lnTo>
                  <a:lnTo>
                    <a:pt x="21600" y="270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498"/>
                  </a:lnTo>
                  <a:lnTo>
                    <a:pt x="20098" y="25498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8"/>
          <p:cNvGrpSpPr/>
          <p:nvPr/>
        </p:nvGrpSpPr>
        <p:grpSpPr>
          <a:xfrm>
            <a:off x="179280" y="189000"/>
            <a:ext cx="2279520" cy="2665080"/>
            <a:chOff x="179280" y="189000"/>
            <a:chExt cx="2279520" cy="2665080"/>
          </a:xfrm>
        </p:grpSpPr>
        <p:pic>
          <p:nvPicPr>
            <p:cNvPr id="49" name="Picture 9" descr="школа1"/>
            <p:cNvPicPr/>
            <p:nvPr/>
          </p:nvPicPr>
          <p:blipFill>
            <a:blip r:embed="rId3"/>
            <a:stretch/>
          </p:blipFill>
          <p:spPr>
            <a:xfrm>
              <a:off x="442080" y="430920"/>
              <a:ext cx="1904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utoShape 17"/>
            <p:cNvSpPr/>
            <p:nvPr/>
          </p:nvSpPr>
          <p:spPr>
            <a:xfrm>
              <a:off x="179280" y="189000"/>
              <a:ext cx="2279520" cy="2665080"/>
            </a:xfrm>
            <a:custGeom>
              <a:avLst/>
              <a:gdLst>
                <a:gd name="textAreaLeft" fmla="*/ 158400 w 2279520"/>
                <a:gd name="textAreaRight" fmla="*/ 2121120 w 2279520"/>
                <a:gd name="textAreaTop" fmla="*/ 185040 h 2665080"/>
                <a:gd name="textAreaBottom" fmla="*/ 2480040 h 2665080"/>
              </a:gdLst>
              <a:ahLst/>
              <a:rect l="textAreaLeft" t="textAreaTop" r="textAreaRight" b="textAreaBottom"/>
              <a:pathLst>
                <a:path w="21600" h="27426">
                  <a:moveTo>
                    <a:pt x="0" y="0"/>
                  </a:moveTo>
                  <a:lnTo>
                    <a:pt x="0" y="25255"/>
                  </a:lnTo>
                  <a:lnTo>
                    <a:pt x="21600" y="25255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753"/>
                  </a:lnTo>
                  <a:lnTo>
                    <a:pt x="20098" y="23753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5435640" y="450864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УЛАКОВ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56000" y="333360"/>
            <a:ext cx="56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Шумерля, Чуваш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 «Б» класс МОУ «СОШ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скрипичный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36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11280" y="5229360"/>
            <a:ext cx="6337080" cy="1198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ндрей Петрович Гал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очерк о композито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1258920" y="1052640"/>
            <a:ext cx="4608000" cy="3960360"/>
            <a:chOff x="1258920" y="1052640"/>
            <a:chExt cx="4608000" cy="3960360"/>
          </a:xfrm>
        </p:grpSpPr>
        <p:pic>
          <p:nvPicPr>
            <p:cNvPr id="56" name="Picture 8" descr="DSC03150"/>
            <p:cNvPicPr/>
            <p:nvPr/>
          </p:nvPicPr>
          <p:blipFill>
            <a:blip r:embed="rId2"/>
            <a:stretch/>
          </p:blipFill>
          <p:spPr>
            <a:xfrm>
              <a:off x="1485000" y="1233000"/>
              <a:ext cx="4153680" cy="37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AutoShape 9"/>
            <p:cNvSpPr/>
            <p:nvPr/>
          </p:nvSpPr>
          <p:spPr>
            <a:xfrm rot="5400000">
              <a:off x="1582560" y="728640"/>
              <a:ext cx="3960360" cy="4608000"/>
            </a:xfrm>
            <a:custGeom>
              <a:avLst/>
              <a:gdLst>
                <a:gd name="textAreaLeft" fmla="*/ 275760 w 3960360"/>
                <a:gd name="textAreaRight" fmla="*/ 3684600 w 3960360"/>
                <a:gd name="textAreaTop" fmla="*/ 319680 h 4608000"/>
                <a:gd name="textAreaBottom" fmla="*/ 4288320 h 4608000"/>
              </a:gdLst>
              <a:ahLst/>
              <a:rect l="textAreaLeft" t="textAreaTop" r="textAreaRight" b="textAreaBottom"/>
              <a:pathLst>
                <a:path w="29943" h="21600">
                  <a:moveTo>
                    <a:pt x="0" y="0"/>
                  </a:moveTo>
                  <a:lnTo>
                    <a:pt x="0" y="25132"/>
                  </a:lnTo>
                  <a:lnTo>
                    <a:pt x="21600" y="2513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630"/>
                  </a:lnTo>
                  <a:lnTo>
                    <a:pt x="20098" y="2363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79280" y="423360"/>
            <a:ext cx="374508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гда Андрею исполнился 1 г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его родители приех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город Шумер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780000" y="5097600"/>
            <a:ext cx="251928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тот д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льчик унаслед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 прабабу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 маминой ли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310320" y="1619280"/>
            <a:ext cx="3268800" cy="4771800"/>
            <a:chOff x="310320" y="1619280"/>
            <a:chExt cx="3268800" cy="4771800"/>
          </a:xfrm>
        </p:grpSpPr>
        <p:pic>
          <p:nvPicPr>
            <p:cNvPr id="62" name="Picture 3" descr="P1050593"/>
            <p:cNvPicPr/>
            <p:nvPr/>
          </p:nvPicPr>
          <p:blipFill>
            <a:blip r:embed="rId2"/>
            <a:stretch/>
          </p:blipFill>
          <p:spPr>
            <a:xfrm>
              <a:off x="451080" y="1878120"/>
              <a:ext cx="2900880" cy="42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AutoShape 7"/>
            <p:cNvSpPr/>
            <p:nvPr/>
          </p:nvSpPr>
          <p:spPr>
            <a:xfrm rot="21580200">
              <a:off x="323640" y="1628280"/>
              <a:ext cx="3241440" cy="4753080"/>
            </a:xfrm>
            <a:custGeom>
              <a:avLst/>
              <a:gdLst>
                <a:gd name="textAreaLeft" fmla="*/ 225360 w 3241440"/>
                <a:gd name="textAreaRight" fmla="*/ 3016080 w 3241440"/>
                <a:gd name="textAreaTop" fmla="*/ 330840 h 4753080"/>
                <a:gd name="textAreaBottom" fmla="*/ 4422240 h 4753080"/>
              </a:gdLst>
              <a:ahLst/>
              <a:rect l="textAreaLeft" t="textAreaTop" r="textAreaRight" b="textAreaBottom"/>
              <a:pathLst>
                <a:path w="21600" h="32176">
                  <a:moveTo>
                    <a:pt x="0" y="0"/>
                  </a:moveTo>
                  <a:lnTo>
                    <a:pt x="0" y="31670"/>
                  </a:lnTo>
                  <a:lnTo>
                    <a:pt x="21600" y="3167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30168"/>
                  </a:lnTo>
                  <a:lnTo>
                    <a:pt x="20098" y="30168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0"/>
          <p:cNvGrpSpPr/>
          <p:nvPr/>
        </p:nvGrpSpPr>
        <p:grpSpPr>
          <a:xfrm>
            <a:off x="6436080" y="3853800"/>
            <a:ext cx="2391480" cy="2665080"/>
            <a:chOff x="6436080" y="3853800"/>
            <a:chExt cx="2391480" cy="2665080"/>
          </a:xfrm>
        </p:grpSpPr>
        <p:pic>
          <p:nvPicPr>
            <p:cNvPr id="65" name="Picture 4" descr="P1050600"/>
            <p:cNvPicPr/>
            <p:nvPr/>
          </p:nvPicPr>
          <p:blipFill>
            <a:blip r:embed="rId3"/>
            <a:stretch/>
          </p:blipFill>
          <p:spPr>
            <a:xfrm>
              <a:off x="6653160" y="4076640"/>
              <a:ext cx="21556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9"/>
            <p:cNvSpPr/>
            <p:nvPr/>
          </p:nvSpPr>
          <p:spPr>
            <a:xfrm rot="21580200">
              <a:off x="6443640" y="3860280"/>
              <a:ext cx="2376360" cy="2651400"/>
            </a:xfrm>
            <a:custGeom>
              <a:avLst/>
              <a:gdLst>
                <a:gd name="textAreaLeft" fmla="*/ 164880 w 2376360"/>
                <a:gd name="textAreaRight" fmla="*/ 2211480 w 2376360"/>
                <a:gd name="textAreaTop" fmla="*/ 183960 h 2651400"/>
                <a:gd name="textAreaBottom" fmla="*/ 2467440 h 2651400"/>
              </a:gdLst>
              <a:ahLst/>
              <a:rect l="textAreaLeft" t="textAreaTop" r="textAreaRight" b="textAreaBottom"/>
              <a:pathLst>
                <a:path w="21600" h="23393">
                  <a:moveTo>
                    <a:pt x="0" y="0"/>
                  </a:moveTo>
                  <a:lnTo>
                    <a:pt x="0" y="24096"/>
                  </a:lnTo>
                  <a:lnTo>
                    <a:pt x="21600" y="24096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2594"/>
                  </a:lnTo>
                  <a:lnTo>
                    <a:pt x="20098" y="22594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скрипичный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694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439800" y="2276640"/>
            <a:ext cx="17658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- Баян куп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458280" y="396720"/>
            <a:ext cx="2755080" cy="3473640"/>
            <a:chOff x="458280" y="396720"/>
            <a:chExt cx="2755080" cy="3473640"/>
          </a:xfrm>
        </p:grpSpPr>
        <p:pic>
          <p:nvPicPr>
            <p:cNvPr id="70" name="Picture 8" descr="P1050592"/>
            <p:cNvPicPr/>
            <p:nvPr/>
          </p:nvPicPr>
          <p:blipFill>
            <a:blip r:embed="rId2"/>
            <a:stretch/>
          </p:blipFill>
          <p:spPr>
            <a:xfrm>
              <a:off x="674280" y="561960"/>
              <a:ext cx="2336760" cy="31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9"/>
            <p:cNvSpPr/>
            <p:nvPr/>
          </p:nvSpPr>
          <p:spPr>
            <a:xfrm rot="21580200">
              <a:off x="468000" y="404640"/>
              <a:ext cx="2735280" cy="3457800"/>
            </a:xfrm>
            <a:custGeom>
              <a:avLst/>
              <a:gdLst>
                <a:gd name="textAreaLeft" fmla="*/ 190440 w 2735280"/>
                <a:gd name="textAreaRight" fmla="*/ 2544840 w 2735280"/>
                <a:gd name="textAreaTop" fmla="*/ 240480 h 3457800"/>
                <a:gd name="textAreaBottom" fmla="*/ 3217320 h 3457800"/>
              </a:gdLst>
              <a:ahLst/>
              <a:rect l="textAreaLeft" t="textAreaTop" r="textAreaRight" b="textAreaBottom"/>
              <a:pathLst>
                <a:path w="21600" h="26772">
                  <a:moveTo>
                    <a:pt x="0" y="0"/>
                  </a:moveTo>
                  <a:lnTo>
                    <a:pt x="0" y="27304"/>
                  </a:lnTo>
                  <a:lnTo>
                    <a:pt x="21600" y="27304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802"/>
                  </a:lnTo>
                  <a:lnTo>
                    <a:pt x="20098" y="25802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2329560" y="2916000"/>
            <a:ext cx="2972160" cy="3675960"/>
            <a:chOff x="2329560" y="2916000"/>
            <a:chExt cx="2972160" cy="3675960"/>
          </a:xfrm>
        </p:grpSpPr>
        <p:pic>
          <p:nvPicPr>
            <p:cNvPr id="73" name="Picture 4" descr="P1050606"/>
            <p:cNvPicPr/>
            <p:nvPr/>
          </p:nvPicPr>
          <p:blipFill>
            <a:blip r:embed="rId3"/>
            <a:stretch/>
          </p:blipFill>
          <p:spPr>
            <a:xfrm>
              <a:off x="2592000" y="3180960"/>
              <a:ext cx="2552040" cy="32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11"/>
            <p:cNvSpPr/>
            <p:nvPr/>
          </p:nvSpPr>
          <p:spPr>
            <a:xfrm rot="21580200">
              <a:off x="2340000" y="2924280"/>
              <a:ext cx="2951280" cy="3659040"/>
            </a:xfrm>
            <a:custGeom>
              <a:avLst/>
              <a:gdLst>
                <a:gd name="textAreaLeft" fmla="*/ 204480 w 2951280"/>
                <a:gd name="textAreaRight" fmla="*/ 2746800 w 2951280"/>
                <a:gd name="textAreaTop" fmla="*/ 253800 h 3659040"/>
                <a:gd name="textAreaBottom" fmla="*/ 3405240 h 3659040"/>
              </a:gdLst>
              <a:ahLst/>
              <a:rect l="textAreaLeft" t="textAreaTop" r="textAreaRight" b="textAreaBottom"/>
              <a:pathLst>
                <a:path w="21600" h="26108">
                  <a:moveTo>
                    <a:pt x="0" y="0"/>
                  </a:moveTo>
                  <a:lnTo>
                    <a:pt x="0" y="26782"/>
                  </a:lnTo>
                  <a:lnTo>
                    <a:pt x="21600" y="2678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280"/>
                  </a:lnTo>
                  <a:lnTo>
                    <a:pt x="20098" y="2528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скрипичный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694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067280" y="2079000"/>
            <a:ext cx="417672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льчик слышал му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 всем. Он мог часами сидеть и слушать мелодии любимых авт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211640" y="4960440"/>
            <a:ext cx="4751280" cy="1465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его доме мы нашли огр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личество грампластинок различного жанра и содержания. В детстве очень любил Андрей слушать музыку, особенно классическую, любил слушать Бетхов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250560" y="260280"/>
            <a:ext cx="3671640" cy="2808360"/>
            <a:chOff x="250560" y="260280"/>
            <a:chExt cx="3671640" cy="2808360"/>
          </a:xfrm>
        </p:grpSpPr>
        <p:pic>
          <p:nvPicPr>
            <p:cNvPr id="79" name="Picture 2" descr="P1050596"/>
            <p:cNvPicPr/>
            <p:nvPr/>
          </p:nvPicPr>
          <p:blipFill>
            <a:blip r:embed="rId2"/>
            <a:stretch/>
          </p:blipFill>
          <p:spPr>
            <a:xfrm>
              <a:off x="387360" y="327960"/>
              <a:ext cx="339984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7"/>
            <p:cNvSpPr/>
            <p:nvPr/>
          </p:nvSpPr>
          <p:spPr>
            <a:xfrm rot="5400000">
              <a:off x="682200" y="-171360"/>
              <a:ext cx="2808360" cy="3671640"/>
            </a:xfrm>
            <a:custGeom>
              <a:avLst/>
              <a:gdLst>
                <a:gd name="textAreaLeft" fmla="*/ 194400 w 2808360"/>
                <a:gd name="textAreaRight" fmla="*/ 2613960 w 2808360"/>
                <a:gd name="textAreaTop" fmla="*/ 254520 h 3671640"/>
                <a:gd name="textAreaBottom" fmla="*/ 3417120 h 3671640"/>
              </a:gdLst>
              <a:ahLst/>
              <a:rect l="textAreaLeft" t="textAreaTop" r="textAreaRight" b="textAreaBottom"/>
              <a:pathLst>
                <a:path w="28440" h="21600">
                  <a:moveTo>
                    <a:pt x="0" y="0"/>
                  </a:moveTo>
                  <a:lnTo>
                    <a:pt x="0" y="28242"/>
                  </a:lnTo>
                  <a:lnTo>
                    <a:pt x="21600" y="2824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6740"/>
                  </a:lnTo>
                  <a:lnTo>
                    <a:pt x="20098" y="2674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250560" y="3645000"/>
            <a:ext cx="3887640" cy="2879640"/>
            <a:chOff x="250560" y="3645000"/>
            <a:chExt cx="3887640" cy="2879640"/>
          </a:xfrm>
        </p:grpSpPr>
        <p:pic>
          <p:nvPicPr>
            <p:cNvPr id="82" name="Picture 4" descr="P1050607"/>
            <p:cNvPicPr/>
            <p:nvPr/>
          </p:nvPicPr>
          <p:blipFill>
            <a:blip r:embed="rId3"/>
            <a:stretch/>
          </p:blipFill>
          <p:spPr>
            <a:xfrm>
              <a:off x="387720" y="3965040"/>
              <a:ext cx="3476520" cy="24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9"/>
            <p:cNvSpPr/>
            <p:nvPr/>
          </p:nvSpPr>
          <p:spPr>
            <a:xfrm rot="5400000">
              <a:off x="754560" y="3141000"/>
              <a:ext cx="2879640" cy="3887640"/>
            </a:xfrm>
            <a:custGeom>
              <a:avLst/>
              <a:gdLst>
                <a:gd name="textAreaLeft" fmla="*/ 200160 w 2879640"/>
                <a:gd name="textAreaRight" fmla="*/ 2679480 w 2879640"/>
                <a:gd name="textAreaTop" fmla="*/ 270360 h 3887640"/>
                <a:gd name="textAreaBottom" fmla="*/ 3617280 h 3887640"/>
              </a:gdLst>
              <a:ahLst/>
              <a:rect l="textAreaLeft" t="textAreaTop" r="textAreaRight" b="textAreaBottom"/>
              <a:pathLst>
                <a:path w="27368" h="21600">
                  <a:moveTo>
                    <a:pt x="0" y="0"/>
                  </a:moveTo>
                  <a:lnTo>
                    <a:pt x="0" y="29161"/>
                  </a:lnTo>
                  <a:lnTo>
                    <a:pt x="21600" y="29161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7659"/>
                  </a:lnTo>
                  <a:lnTo>
                    <a:pt x="20098" y="27659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79280" y="3160800"/>
            <a:ext cx="5148360" cy="1739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Служба в армии была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посвящена му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ержант Галкин много играл на фортепиа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аствовал в конкурсах солдатской пес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часто завоевывал призов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чем заслужил почет и уважение товари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627280" y="5392440"/>
            <a:ext cx="403236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.А. Ходяше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ыл любимым учител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 наставником еще в т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чинающего компози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899640" y="189000"/>
            <a:ext cx="3311640" cy="2808360"/>
            <a:chOff x="899640" y="189000"/>
            <a:chExt cx="3311640" cy="2808360"/>
          </a:xfrm>
        </p:grpSpPr>
        <p:pic>
          <p:nvPicPr>
            <p:cNvPr id="88" name="Picture 3" descr="P1050603"/>
            <p:cNvPicPr/>
            <p:nvPr/>
          </p:nvPicPr>
          <p:blipFill>
            <a:blip r:embed="rId2"/>
            <a:stretch/>
          </p:blipFill>
          <p:spPr>
            <a:xfrm>
              <a:off x="1180800" y="469080"/>
              <a:ext cx="281772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7"/>
            <p:cNvSpPr/>
            <p:nvPr/>
          </p:nvSpPr>
          <p:spPr>
            <a:xfrm rot="5400000">
              <a:off x="1151280" y="-62640"/>
              <a:ext cx="2808360" cy="3311640"/>
            </a:xfrm>
            <a:custGeom>
              <a:avLst/>
              <a:gdLst>
                <a:gd name="textAreaLeft" fmla="*/ 194760 w 2808360"/>
                <a:gd name="textAreaRight" fmla="*/ 2613600 w 2808360"/>
                <a:gd name="textAreaTop" fmla="*/ 229680 h 3311640"/>
                <a:gd name="textAreaBottom" fmla="*/ 3081960 h 3311640"/>
              </a:gdLst>
              <a:ahLst/>
              <a:rect l="textAreaLeft" t="textAreaTop" r="textAreaRight" b="textAreaBottom"/>
              <a:pathLst>
                <a:path w="25387" h="21600">
                  <a:moveTo>
                    <a:pt x="0" y="0"/>
                  </a:moveTo>
                  <a:lnTo>
                    <a:pt x="0" y="25471"/>
                  </a:lnTo>
                  <a:lnTo>
                    <a:pt x="21600" y="25471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969"/>
                  </a:lnTo>
                  <a:lnTo>
                    <a:pt x="20098" y="23969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6795360" y="3709800"/>
            <a:ext cx="2175840" cy="2962080"/>
            <a:chOff x="6795360" y="3709800"/>
            <a:chExt cx="2175840" cy="2962080"/>
          </a:xfrm>
        </p:grpSpPr>
        <p:pic>
          <p:nvPicPr>
            <p:cNvPr id="91" name="Picture 5" descr="ходяшев"/>
            <p:cNvPicPr/>
            <p:nvPr/>
          </p:nvPicPr>
          <p:blipFill>
            <a:blip r:embed="rId3"/>
            <a:stretch/>
          </p:blipFill>
          <p:spPr>
            <a:xfrm>
              <a:off x="6926760" y="3956400"/>
              <a:ext cx="1898640" cy="265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9"/>
            <p:cNvSpPr/>
            <p:nvPr/>
          </p:nvSpPr>
          <p:spPr>
            <a:xfrm rot="21580200">
              <a:off x="6803640" y="3715920"/>
              <a:ext cx="2158920" cy="2949480"/>
            </a:xfrm>
            <a:custGeom>
              <a:avLst/>
              <a:gdLst>
                <a:gd name="textAreaLeft" fmla="*/ 150480 w 2158920"/>
                <a:gd name="textAreaRight" fmla="*/ 2008440 w 2158920"/>
                <a:gd name="textAreaTop" fmla="*/ 204480 h 2949480"/>
                <a:gd name="textAreaBottom" fmla="*/ 2745000 h 2949480"/>
              </a:gdLst>
              <a:ahLst/>
              <a:rect l="textAreaLeft" t="textAreaTop" r="textAreaRight" b="textAreaBottom"/>
              <a:pathLst>
                <a:path w="21600" h="29346">
                  <a:moveTo>
                    <a:pt x="0" y="0"/>
                  </a:moveTo>
                  <a:lnTo>
                    <a:pt x="0" y="29509"/>
                  </a:lnTo>
                  <a:lnTo>
                    <a:pt x="21600" y="29509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8007"/>
                  </a:lnTo>
                  <a:lnTo>
                    <a:pt x="20098" y="28007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24000" y="3630600"/>
            <a:ext cx="8496000" cy="262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аиболее известные произведения А. Галк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Легенда», «Offertorium», «Пассакалия», «Симфониетт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Музыка для камерного оркестра», одночасный струнный «Квартет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лет «Пюрнеске», музыка к спектаклям: «Как Пукане друга нашл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Улап», «Сказка о мертвой царевне и семи богатырях», «Кот в сапогах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юзикл «Серенький козлик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260640"/>
            <a:ext cx="8583480" cy="2780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з интервью с А. П. Галкиным я узнала, что в настоящее время он занят работой над кантатой в нескольких частях в вокально-хоровом жанре. Это произведение будет представлено зрителю в ближайшее время на творческом вечере поэтессы Ирины Ивано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вопрос: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Что бы Вы хотели написать для души, будь у Вас больше свободного времени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ответил: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Хочется создать симфоническое произвед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067280" y="1628640"/>
            <a:ext cx="507672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память о нашей встре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Андрей Петрович Галкин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арил мне диск с его произведе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котором поставил свой автогра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611280" y="4941720"/>
            <a:ext cx="79930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144720" y="741960"/>
            <a:ext cx="4389120" cy="3862440"/>
            <a:chOff x="144720" y="741960"/>
            <a:chExt cx="4389120" cy="3862440"/>
          </a:xfrm>
        </p:grpSpPr>
        <p:pic>
          <p:nvPicPr>
            <p:cNvPr id="100" name="Picture 5" descr="P1050702"/>
            <p:cNvPicPr/>
            <p:nvPr/>
          </p:nvPicPr>
          <p:blipFill>
            <a:blip r:embed="rId2"/>
            <a:stretch/>
          </p:blipFill>
          <p:spPr>
            <a:xfrm rot="21064200">
              <a:off x="696600" y="1360080"/>
              <a:ext cx="333324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8"/>
            <p:cNvSpPr/>
            <p:nvPr/>
          </p:nvSpPr>
          <p:spPr>
            <a:xfrm rot="4804800">
              <a:off x="718560" y="728640"/>
              <a:ext cx="3241080" cy="3889080"/>
            </a:xfrm>
            <a:custGeom>
              <a:avLst/>
              <a:gdLst>
                <a:gd name="textAreaLeft" fmla="*/ 224280 w 3241080"/>
                <a:gd name="textAreaRight" fmla="*/ 3016800 w 3241080"/>
                <a:gd name="textAreaTop" fmla="*/ 270360 h 3889080"/>
                <a:gd name="textAreaBottom" fmla="*/ 3618720 h 3889080"/>
              </a:gdLst>
              <a:ahLst/>
              <a:rect l="textAreaLeft" t="textAreaTop" r="textAreaRight" b="textAreaBottom"/>
              <a:pathLst>
                <a:path w="26237" h="21600">
                  <a:moveTo>
                    <a:pt x="0" y="0"/>
                  </a:moveTo>
                  <a:lnTo>
                    <a:pt x="0" y="25916"/>
                  </a:lnTo>
                  <a:lnTo>
                    <a:pt x="21600" y="25916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4414"/>
                  </a:lnTo>
                  <a:lnTo>
                    <a:pt x="20098" y="24414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8:25Z</dcterms:created>
  <dc:creator>Борькина</dc:creator>
  <dc:description/>
  <dc:language>en-US</dc:language>
  <cp:lastModifiedBy>Коля</cp:lastModifiedBy>
  <dcterms:modified xsi:type="dcterms:W3CDTF">2013-03-20T19:07:05Z</dcterms:modified>
  <cp:revision>13</cp:revision>
  <dc:subject/>
  <dc:title>Слайд 1</dc:title>
</cp:coreProperties>
</file>