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B7F-6034-48F0-A307-1C9EAB98E6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F1E-4761-42D6-9512-9EAFF360DDF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A9B9-FD6C-40F6-9253-1BBD70B7378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31C6-BB11-4B26-8936-0CA82E68EB9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EFA-C59B-422A-AB74-9A60F9AD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FC3-3AE2-4AEC-ACC0-F3DF51F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02B-07DA-4D90-B982-12FA9B54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902-3C2A-44F6-9ECA-F3A2AA03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2AE-C920-4D31-A5CB-01AEE6E6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2C97-ABEE-467F-8DBC-8EBEB2F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7312-1519-43E8-AAA4-91835F07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ACF-453B-407A-9B84-FEDECFB9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9CEA-989B-4AE9-A67E-C1685807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CDBE-365D-4D94-9D59-F612F9ED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690-4DCF-4916-BCA0-C8AB159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4B0-BBF7-4964-836F-517184B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C8D-195C-4599-8FB7-7AD7548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07F9-9604-4909-87D4-21F5CEF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277-C2E5-46F3-AF79-3FFFCC1F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CC7-C589-4591-9148-70CBE1AE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8C97-4DB9-4819-B058-23B419D1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FCC8-EB58-4274-9A14-B5355F94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5C647-5A4B-4919-B73B-67910810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2903-E218-4E91-8017-8B2B42B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3238-D906-43E6-BD69-B1CD2694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3F3C-7DF6-470D-8936-B07749E3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2AB-35CF-4397-AC9B-CA993063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12A3-D545-45C9-B8F5-1E40F2AF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9D75-BD23-4DD7-A7EB-26B695D3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F97D-712D-4375-A5C3-6907730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CB733-727A-4B16-9F75-985752AF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6B20-A7F7-46F3-ABAB-C9B84B1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9E3D-E2E4-48B6-83FF-C7BF9195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C06F-63B0-440E-9F1E-E649F48C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0165-1960-47EC-BDD4-56609D4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21C3A-C3EB-4D4A-887E-1FAC58C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A5CE-D3A0-40B8-834A-2D7C89E3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672-B162-4EC4-A751-F776F6C3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C30A-29BF-46DE-9466-17CF8A04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F6022-3C51-432E-BDE6-EA1C8DCD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2A66-F636-4258-8345-ACAB8BF7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8DEA-85B5-4E80-B827-5DE87A1C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36659-5448-4CCB-9E85-419DBA7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CA51-60E1-4A17-9B32-485C55DF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39E3-3A7F-498E-9B8E-22CCC424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AD74-5938-4782-A0C1-3F10B082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08E6-451A-4B8B-8CC3-E1DABE26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239-6BD1-46ED-B95A-1841DFE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7350-2782-4BAD-BA2A-18F3781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FF2-1C04-47A8-A973-5583BC8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033-5DB0-4670-8EDE-68BF2C4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3ED-CA94-4966-9EF0-7F7983D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695-ABFC-498F-8A86-2A942443D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5646-39BC-44AC-BEA8-2269FAC69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AC55-6CF2-4E9C-896F-988CC2E6A5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647D-2B99-4DE0-8EA5-6F96D9FE7F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50000"/>
              </a:lnSpc>
              <a:buClr>
                <a:srgbClr val="b9efe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b9efee"/>
                </a:solidFill>
                <a:latin typeface="Times New Roman"/>
              </a:rPr>
              <a:t>АДАПТИВНАЯ ФИЗИЧЕСКАЯ КУЛЬТУРА </a:t>
            </a:r>
            <a:br>
              <a:rPr sz="2800"/>
            </a:b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  ДОУ  </a:t>
            </a:r>
            <a:r>
              <a:rPr b="1" lang="en-US" sz="2400" spc="-1" strike="noStrike">
                <a:solidFill>
                  <a:srgbClr val="b9efee"/>
                </a:solidFill>
                <a:latin typeface="Times New Roman"/>
              </a:rPr>
              <a:t>IV </a:t>
            </a:r>
            <a:r>
              <a:rPr b="1" lang="ru-RU" sz="2400" spc="-1" strike="noStrike">
                <a:solidFill>
                  <a:srgbClr val="b9efee"/>
                </a:solidFill>
                <a:latin typeface="Times New Roman"/>
              </a:rPr>
              <a:t>ВИДА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4098960" y="43369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714680" y="2571840"/>
            <a:ext cx="6072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Использование оптической коррекции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на занятиях АФК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оценке пригодности ребенка к занятиям физической культурой ключевым вопросом является возможность пользования оптическ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 большинстве случаев АФК могут допускаться очки (желательно с пластмассовыми линзами, гибкими проволочными заушниками и резинкой, охватывающей затылок) или контактные линз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Чаще всего дети с близорукостью выключаются из общей физической подготовки, что недопустимо, так как именно АФК является одним из мощных факторов профилактики близорукости, ее прогрессирования и осложнений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близорукости основным фактором, определяющим решением не допуска к занятиям является наличие осложнений: кровоизлияний в глазу, центральной или периферической витреохориоретинальной дистрофии, отслойки сетчатки и д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1800" spc="-1" strike="noStrike">
                <a:solidFill>
                  <a:srgbClr val="f70707"/>
                </a:solidFill>
                <a:latin typeface="Garamond"/>
              </a:rPr>
              <a:t>При обострениях воспалительных заболеваний, прогрессирующем снижении зрительных функций необходимо постараться выяснить, связано ли ухудшение с занятиями физической культурой и при наличии малейшего подозрения на такое влияние, занятия следует отменить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Тест по ЗДПО с «гусеницей-пирамидкой»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214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полнительно в ДОУ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 IV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вида тифлопедагогами проводится тест по ЗДПО два раза в год (сентябрь, май),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зволяющий объединить большое количество оценочных методик по развитию зрительно-двигательных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ункций и ориентировке в пространств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357120" y="3500280"/>
            <a:ext cx="4040280" cy="3030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3280" y="4500720"/>
            <a:ext cx="421488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ЗДП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 – это т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акая ориентировка, в которой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функции зрения играют существенную роль в координированном движении, а значит, при ее проведении можно ясно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видеть и достоверно констатировать трудности действий ребенка в трехмерном пространстве. Это возможно, если соединить воедино движение в пространстве и развитие зрительного анализатора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4572000" y="1071720"/>
            <a:ext cx="4143240" cy="29289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2374560" y="29160"/>
            <a:ext cx="43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ДПО с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усеницей-пирамидко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5"/>
          <p:cNvSpPr/>
          <p:nvPr/>
        </p:nvSpPr>
        <p:spPr>
          <a:xfrm>
            <a:off x="0" y="51577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токол результатов по ЗДПО с «гусеницей-пирамидкой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У № 724      Группа № 4  (младшая)                                              Возраст детей 3 – 4 года                                                                                 Дата проведения ___________г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Таблица 8" descr=""/>
          <p:cNvPicPr/>
          <p:nvPr/>
        </p:nvPicPr>
        <p:blipFill>
          <a:blip r:embed="rId1"/>
          <a:stretch/>
        </p:blipFill>
        <p:spPr>
          <a:xfrm>
            <a:off x="139680" y="1500120"/>
            <a:ext cx="89377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108000" y="478620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Адаптивная физическая культура как средство реабилитации  детей с нарушением зрения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929120" y="1357200"/>
            <a:ext cx="4071960" cy="3571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2499840"/>
            <a:ext cx="840096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... зрячий избалован зрением в деле познания формы, величины, положения и передвижения окружающих его предметов, поэтому он не развивает дра­гоценной способности руки давать ему те же самые показания, а слепой к этому вынужден», - писал великий физиолог И.М. Сечен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357120" y="135720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Организационно-методические рекомендации обучения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детей дошкольного возраста с нарушением зрения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  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42960" y="1571760"/>
            <a:ext cx="758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Занятия АФК являются необходимой составной частью превентивных, реабилитационных и лечебных мероприятий для детей с поражением зрения. Представляется очевидным, что значение физкультурных занятий для детей с нарушением зрения даже более важно и необходимо, чем для лиц с нормальным зрение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фтальмологические рекомендации для детей, имеющих зрительную патологию, должны ориентировать педагогов на допустимость определенных видов нагрузки, а не на какой-либо конкретный вид двигательной деятельности с учетом направленности  коррекционно-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7080" indent="-307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епременное условие для  занятий  физической культурой детей с нарушением зрения  -  это  четкое определение  противопоказаний,   систематический   врачебный   контроль за состоянием органа зр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108000" y="57340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Техника безопасности 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на занятиях физической культурой в ДОУ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Garamond"/>
              </a:rPr>
              <a:t>и организации медицинского контрол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1. ТРЕБОВАНИЯ К  УСЛОВИЯМ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ЗАНЯТИЙ ДОШКОЛЬНИКОВ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Любая деятельность, а особенно физическая, может осуществляться лишь под непосредственным контролем и наблюдением со стороны взросл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спортивном зале и на спортивной площадке должны быть созданы условия, обеспечивающие охрану жизни и здоровья детей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се оборудование: гимнастическая стенка, комплексы, лесенки должны быть надежно закреплены; всевозможное оборудование, пособия, предметы убранства должны устанавливаться и размещаться с учетом их полной безопасности и устойчивости, исключающей возможность падени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нвентарь, используемый детьми, необходимо располагать на высоте, не превышающей уровня их груд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Помещение, в котором организуется физкультурная деятельность, должно быть чистым, светлым, хорошо проветриваемым. Освещенность должна соответствовать установленным санитарно-гигиеническим норма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Запрещается перенос детьми тяжестей весом более 2-2,5кг. (для ребенка старшего дошкольного возраст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3880" y="85716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2. ТРЕБОВАНИЯ К ОБОРУДОВАНИЮ И МАТЕРИАЛАМ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71320" y="499680"/>
            <a:ext cx="81435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Оборудование, которым пользуются дети, должно по своим размерам соответствовать их возрастным показател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В пользование детям даются только исправные и безопасные предмет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Запрещается использование в работе оборудования и инвентаря, предназначенных для взрослых; нецелесообразно, педагогически неоправданно и опасно применение предметов, выпускаемых промышленностью для игровой деятельности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4. Все оборудование и инструменты должны быть аккуратно, удобно и рационально размещены, содержаться в чистом, исправном состоянии. Все колющие, режущие предметы должны храниться в недоступном для детей мест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2357280" y="3357720"/>
            <a:ext cx="47149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48"/>
          <p:cNvSpPr/>
          <p:nvPr/>
        </p:nvSpPr>
        <p:spPr>
          <a:xfrm>
            <a:off x="6084720" y="1890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3.  ВРАЧЕБНЫЙ КОНТРОЛЬ ЗА ФИЗИЧЕСКИМ ВОСПИТАНИЕМ В ДЕТСКОМ САДУ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004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1. Врачебный контроль осуществляется медицинским персоналом детского сада. Основная задача врачебного контроля заключается в содействии укреплению здоровья детей, совершенствованию физического и нервно-психического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2. Медицинский контроль включает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врачебные обследования, оценку состояния здоровья, физического развития детей в процессе занят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медико-педагогические наблюдения за проведением различных форм физического воспитания, контроль за содержанием, методикой проведения физкультурного занятия, соответствия возрастным возможностям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санитарный надзор за местами проведения занятий, закаливающих мероприятий, за гигиеническим состоянием оборудования, инвентаря, а также костюма и обуви занимающихся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анитарно-просветительную работу среди персонала и родителей дошкольного учреж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рганизация медицинского контроля предусматривает совместную работу медицинской сестры, заведующего, старшего воспитател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3. Врачебное обследование и оценка состояния здоровья детей осуществляются врачом при ежегодных углубленных медицинских осмотрах. Для более точной оценки необходимо иметь характеристику развития движений каждого ребенка. Оценка состояния здоровья дается на момент обследова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Группы здоровья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288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ВАЯ ГРУППА - объединяет здоровых детей, не имеющих отклонений в развитии по всем выбранным для оценки признакам здоровья, не болевших или редко болевших в период наблюд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ТОРАЯ ГРУППА - здоровые дети, имеющие биологический или социальный анализ, некоторые функциональные измен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ТЬЯ ГРУППА - объединяет больных детей с наличием хронических заболеван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ТВЕРТАЯ ГРУППА - дети с хроническими заболеваниями, врожденными пороками развития в состоянии субкомпенсац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ЯТАЯ ГРУППА - дети, больные тяжелыми хроническими заболеваниями, с тяжелыми врожденными пороками разви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71680" y="285840"/>
            <a:ext cx="81151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дико-педагогические наблюдения включают оценку соответствия содержания и методики проведения различных форм физического воспитания возрастным и функциональным возможностям детей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Врач, медицинская сестра, заведующий, старший воспитатель осуществляя медико-педагогический контроль,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ны предварительно познакомиться с конспектом, составленным воспитателем. Для оценки правильности построения физкультурного занятия следует пользоваться методом индивидуального хронометража. При проведении хронометража определяется также двигательная активность детей, общая и моторная плотность заня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определении общей плотности занятия учитывается время, затрачиваемое на выполнение движений, показ и объяснения воспитателя, перестроения, расстановку, уборку спортивного инвентаря, за вычетом времени, затраченного на простои детей, неоправданные ожидания, восстановление нарушенной дисциплины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едставляет собой отношение полезного времени к общей продолжительности всего занятия, выраженное в процентах. Общая плотность должна составлять не менее 80-90%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Моторная плотнос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характеризуется отношением времени, непосредственно затраченного ребенком на выполнение движений, ко времени всего занятия, выраженным в процента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достаточной двигательной актив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на должна составлять не менее 70-85%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медико-педагогическом контроле важное место должно быть уделено наблюдениям за осуществлением общего двигательного режима в детском учреждении. Двигательный режим включает всю динамическую деятельность детей, как организованные формы работы, так и самостоятельную двигательную деятельность.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Общий двигательный режим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лжен являться средством укрепления здоровья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96640" indent="-296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Коррекционные цели и задачи 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Garamond"/>
              </a:rPr>
              <a:t>адаптивной физической культуры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71680" y="1285920"/>
            <a:ext cx="82864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Цель: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авлена на восстановление, замещение и компенсацию нарушенных функций, совершенствование мышечно-суставного чувства, развитие самостоятельного и качественного выполнения двигательных действий, максимальное возможное уменьшение степени ограничений жизнедеятельности,  подготовка к социальной интеграции.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990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Достижение соответствующего возрасту уровня физической подготовленности, развития физических качеств, ориентировки в  пространстве и  координации движений и др.;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Применение специальных  средств и методов, способствующих  повышению функциональных возможностей, развивающих  зрение и зрительно-двигательную ориентировку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реодоление недостатков, возникающих на фоне зрительной патологии при овладении движ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Активизация и упражнение зрительных функций в тесной взаимосвязи с лечебно-восстановительной работой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40"/>
          <p:cNvSpPr/>
          <p:nvPr/>
        </p:nvSpPr>
        <p:spPr>
          <a:xfrm>
            <a:off x="6156360" y="404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вигательный режим ГОУ д/с № 724 компенсирующего вида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для всех возрастных групп</a:t>
            </a:r>
            <a:br>
              <a:rPr sz="1800"/>
            </a:b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4200" y="928800"/>
          <a:ext cx="8786880" cy="5762520"/>
        </p:xfrm>
        <a:graphic>
          <a:graphicData uri="http://schemas.openxmlformats.org/drawingml/2006/table">
            <a:tbl>
              <a:tblPr/>
              <a:tblGrid>
                <a:gridCol w="493920"/>
                <a:gridCol w="3198600"/>
                <a:gridCol w="1273320"/>
                <a:gridCol w="1274760"/>
                <a:gridCol w="1244520"/>
                <a:gridCol w="130176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культурно-оздоровительные  мероприятия в режиме дн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ладш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шая 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отовитель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Самостоятельная двигательная деятельность в помещении д/с и на прогулке (утро/вечер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Ежедневно  Характер и продолжительность зависят от индивидуальных данных и потребностей де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тренняя гимнасти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Коррекционная глазная гимнастика (2 раза в день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ур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3 раза в неделю: 2 занятия в физкультурном зале и 1 занятие на улиц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Музыкальные зан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(2 занятия в неделю в музы-кальном зале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Двигательная разминка (до 10 мин.)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Физкультминут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Упражнения для глаз на снятие зрительного утомл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Подвижные игры и физические упражнения на прогулке. Игры и упражнения на развитие ЗДПО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Физические упражнения  после дневного сн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Корригирующая гимнастика на развитие м/м рук и проф.плоскостопия (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 р/день)</a:t>
                      </a:r>
                      <a:r>
                        <a:rPr b="0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,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7 мин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Двигательная активность детей за неделю в организационных формах деятельност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4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25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8ч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1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9ч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50 ми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Организация физического воспитания детей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в семье и ДОУ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Чрезвычайно важна в воспитании детей роль здорового образа жизни семь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лементарные знания о слагаемых здорового образа жизни (рациональное питание, соблюдение режима труда и отдыха, достаточная двигательная активность, использование закаливающих средств, умение правильно, без нервного напряжения организовать своё поведение) доступны уже самым маленьким детя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 конкретных примерах надо убеждать родителей, что любой ребёнок, даже родившийся ослабленным, может и должен стать физически крепким, гармонически развитым, если приложить к этому усил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6560" indent="-286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Такое построение работы требует от педагогов постоянного самообразования и самосовершенствова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14200" y="2333520"/>
            <a:ext cx="42814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лассификация упражнений и игр для коррекции нарушений зрительной функции у детей с косоглазием и амблиопией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непрерывное слежение глазами за движениями предме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брасывание мяча в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етание в цел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Следи за маятником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Подбрось кольцо и поймай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лежение за мигающими лампочками на световом линейном табло (справа – налево; слева – направо; снизу – вверх; сверху – вниз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баскетбол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Настольный теннис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в ограниченном пространств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ольцеброс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расслабить конвергенцию, развивать направление взора ребенка вдаль и вверх (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жги фонари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вверх воздушный шар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йди шар (большой, маленьки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дбрось мяч и пойма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дальше бросит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остань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Чей мяч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усилить аккомодацию, развивать направление взора вблизь и вниз (расходящиеся косоглази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строй пирамидк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яч об по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оставь рисунок на пол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ы «Ближе – дальш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катывание мяча друг друг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еренеси предмет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то больше собере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Цель: закрепить бинокулярное зрение, выработать стереоскопическое ви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пади в ворот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бей кегл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брось кольц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день шарики на стержен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ород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Игра «Кольцеброс» (напольный, настольны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собенности физического развития детей,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меющих зрительную патологию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тклонения выражаются в отставании в росте и массе тела, жизненной емкости легких, объеме грудной клетки, в значительном ослаблении  мышц, в нарушении осанки, позы, искривлении позвоночника, плоскостопи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Снижается двигательная активность, что отрицательно сказывается на формировании двигательного анализатор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ипичные нарушения движений тесно связаны с особенностями их психического и интеллектуального развития. Такие недостатки ярче всего проявляются в тех двигательных действиях, которые требуют значительного нервного напряжения и умственной работы. Нарушения развития моторики обнаруживаются, прежде всего, при выполнении дифференцированных и точных движ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рительные нарушения отрицательно сказываются на развитии быстроты движения. Выраженное отставание отмечается в беге, прыжках с места, координации точности движений, причем на всех этапах развития, что связано с пространственно-ориентировочной недостаточ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вижения у детей с нарушением зрения замедлены, угловаты, неловки и неритмичны. Мимика и жестикуляция отличаются бедностью, однообразием и невыразительностью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896280" y="3245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аблица 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68360" y="549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24000" y="213372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Педагогические особенности физического воспитания детей с нарушением зрения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86160" y="1856880"/>
            <a:ext cx="4400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Физическое воспитание детей с нарушением зрения так же направлено на улучшение деятельности всех органов и систем, укрепление здоровья и формирование двигательных качеств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Достигается это путем организации коррекционно-направленных занятий, предусматривающих развитие  пространственно-ориентировочной деятельности, двигательной сферы, способности ощущать и оценивать быстроту движений, их амплитуду, степень напряженности и расслабления мышц, что является основной частью адаптивной физической культуры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Picture 126" descr="C:\Documents and Settings\Ирина\Мои документы\Фото физ. зан\S5000059.JPG"/>
          <p:cNvPicPr/>
          <p:nvPr/>
        </p:nvPicPr>
        <p:blipFill>
          <a:blip r:embed="rId1"/>
          <a:stretch/>
        </p:blipFill>
        <p:spPr>
          <a:xfrm>
            <a:off x="457200" y="2357280"/>
            <a:ext cx="40384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Общие реабилитационно-педагогические методы 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(Беккер К.Л., 1975)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28800" y="114300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имуляция  – метод систематического применения отличных от нормы форм деятельности для всестороннего развития лич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мпенсация – метод формирования заменител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коррекция – метод устранения наруш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активизация – метод устранения задержек и приближения отклонений к норм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крепление – метод сохранения достигнутого уровн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Методы, применяемые в ДОУ  </a:t>
            </a:r>
            <a:r>
              <a:rPr b="1" i="1" lang="en-US" sz="2000" spc="-1" strike="noStrike">
                <a:solidFill>
                  <a:srgbClr val="f70707"/>
                </a:solidFill>
                <a:latin typeface="Garamond"/>
              </a:rPr>
              <a:t>IV </a:t>
            </a:r>
            <a:r>
              <a:rPr b="1" i="1" lang="ru-RU" sz="2000" spc="-1" strike="noStrike">
                <a:solidFill>
                  <a:srgbClr val="f70707"/>
                </a:solidFill>
                <a:latin typeface="Garamond"/>
              </a:rPr>
              <a:t>вида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дачу материала малыми порц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ксимальную расчлененность и развернутость сложных понятий и действ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оянную опору на чувственный опыт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buClr>
                <a:srgbClr val="f707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уководство действиями учащихся до совместного выполнения их педагогом и воспитанник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 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роцессе  АФК необходим индивидуальный и дифференцированный подход к детям, учитывающий клинические формы и характер нарушений зрения, аномалии развития, тяжесть зрительной патологии, а также систематический контроль за динамикой физического развития и двигательных способностей воспитанников, степенью исправления двигательных нарушений 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Обучение и воспитание двигательных качеств базируется на системе методических принципов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доступности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ребует соблюдения следующих правил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знать возрастные особенности занимающихся детей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изучать и учитывать индивидуальные особенности занимающихся дете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соблюдать правило: «от простого к сложному, от известного к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известному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Garamond"/>
              </a:rPr>
              <a:t>Принцип наглядности</a:t>
            </a:r>
            <a:r>
              <a:rPr b="0" lang="ru-RU" sz="16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еспечивается  демонстрацией отдельных упражнений при технике отдельных элементов в возможно более совершенном исполне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определить, какая педагогическая задача должна быть решена средствами наглядност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организовать восприятие движений с помощью разных органов чувств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рименяя средства наглядности, учитывать зрительные возможности детей, их предыдущий двигательный опыт и знание занимающихся физическими упражнениями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использовать непосредственную и опосредованную демонстрацию как средство исправления двигательных ошибок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системати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 систематических занятиях дети с нарушением зрения достаточно эффективно осваивают навыки, а также получают оптимальную, функциональную подготовку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0240" indent="-30024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прочности.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) не переходить к изучению нового упражнения, пока не будут основательно освоено старое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б) включать в занятие ранее изученные упражнения в новых сочетаниях и вариантах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) повышать интенсивность и длительность выполнения освоенных упражнений;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г) систематически вести учет физической подготовленности и оценивать достижения детей, проводить контрольные занятия, соревнования и выступлен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     </a:t>
            </a:r>
            <a:r>
              <a:rPr b="1" lang="ru-RU" sz="1600" spc="-1" strike="noStrike">
                <a:solidFill>
                  <a:srgbClr val="f70707"/>
                </a:solidFill>
                <a:latin typeface="Garamond"/>
              </a:rPr>
              <a:t>Принцип дифференциально-интегральных оптимум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именение физических нагрузок различного содержания в профилактических и коррекционных целях должно строиться на основе глубокого знания специалистом функционального состояния зрительного аппарата, нервно-мышечной системы, учитывать клинические формы и характер нарушений зрения, аномалий развития, тяжесть зрительной патологии, а также динамику физического развития и двигательных способностей детей. Знание закономерностей функционирования и развития в условиях двигательной деятельности обеспечит применение оптимальных, локальных и интегральных физических нагруз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707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71"/>
          <p:cNvSpPr/>
          <p:nvPr/>
        </p:nvSpPr>
        <p:spPr>
          <a:xfrm>
            <a:off x="6443640" y="26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0707"/>
                </a:solidFill>
                <a:latin typeface="Garamond"/>
              </a:rPr>
              <a:t>«Здоровье - это состояние полного физического, духовного и социального благополучия» (ВОЗ).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85520" y="1642680"/>
            <a:ext cx="7443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Для того чтобы снизить заболеваемость в дошкольных учреждениях  и сохранить здоровье детей, в качестве первоочередных мер, необходимо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квалификацию педагогов в вопросах культуры здоровь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ормализовать учебную нагрузку с учетом физиологических требований СанПин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нее вовлекать родителей и общественность в дело повышения здоровья воспитанник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овысить двигательную активность детей на занятиях по физическому воспитанию и в самостоятельной деятельности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а всех занятиях проводить физкультминутки, в которые вводить элементы лечебной физкультур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вести систематическую работу по профилактике близорук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бучать детей, педагогов, родителей здоровому образу жизн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Активизировать работу психолога детского сад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Задача специалистов ДОУ - сформировать культуру  здорового образа жизни и гармонично развитого человека у дет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При офтальмологическом обследовании воспитанников с целью определения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Garamond"/>
              </a:rPr>
              <a:t> группы физической подготовки:</a:t>
            </a:r>
            <a:br>
              <a:rPr sz="20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строту зрения монокулярно и бинокулярно без коррекции и с оптимальной коррекцией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ефракцию (в пограничных случаях в условиях атропиновой циклоплегии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бинокулярного зрения с помощью цвето-тес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ояние защитного аппарата, сред и глазного д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и показаниях проводят дополнительные исследования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ле зрения, биомикроскопию, ультразвуковую биометрию, КЧСМ, тонометри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4714920" y="1643040"/>
            <a:ext cx="38577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1:06:38Z</dcterms:created>
  <dc:creator>Дмитрий</dc:creator>
  <dc:description/>
  <dc:language>en-US</dc:language>
  <cp:lastModifiedBy>GEG</cp:lastModifiedBy>
  <dcterms:modified xsi:type="dcterms:W3CDTF">2010-11-18T07:35:54Z</dcterms:modified>
  <cp:revision>144</cp:revision>
  <dc:subject/>
  <dc:title>   ОЗДОРОВИТЕЛЬНАЯ ФИЗИЧЕСКАЯ КУЛЬТУРА В  ДОШКОЛЬНЫХ  ОБРАЗОВАТЕЛЬНЫХ УЧРЕЖДЕНИЯХ РАЗНОГО ВИДА      13.00.04. – Теория и методика физического воспитания, спортивной тренировки, оздоровительной и адаптивной физической культуры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00000000000010250300207f7000400038000</vt:lpwstr>
  </property>
</Properties>
</file>