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C00-FE59-47B0-9AF8-B2D4CD855A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ECB1-F1EA-4AA7-BEA1-E5084119DAA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D1A-984A-4674-9DB9-76E9BA256AA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2CE7-8C6D-4B65-8359-DC442C4DE3C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4BD-706E-48E9-A823-8E685795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EF1-76DA-4202-9567-101BB66F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573-36E3-423A-8090-791F5861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3CB-B1C3-4DF5-AD98-C650C05A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C406-C961-4FE3-94A0-2EF6A5A6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388F-91CB-4C46-B738-9D3AA8DC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4F4C-6C8C-4EBD-BDE6-B48833B8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C836-3490-4BFD-9954-C05FDBE4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7643-32C5-41A4-B272-71B10703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5587-2930-4877-A599-A8782FFB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9A5-3E7E-4F48-BBE3-EB23672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6AC-46BB-4B2E-A091-6C62330B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9781-2997-4F15-9265-092B2F2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7DC4-2A8B-4BA0-AD7B-1313CB8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31A9-E4C4-4134-89BD-372BD2E7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816D-8BAF-44A5-8591-4DDC7993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4086-F17D-4CE2-9EF3-5364AC60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B04F-B829-4E85-A00B-D24E1D49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78E9-7535-40B4-93F5-4414B9F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F456-3A02-4346-B6F1-A0CA4C09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C273-FD59-4717-A67E-52CC73F3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144A5-7953-4A21-9EFE-FC052294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022-0DF2-4D93-A83D-ADFCAD98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EBC8-764C-456C-8BE9-02FE62C2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B66D-1B9C-428E-90FD-56D359A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65E0-9C0A-480A-B098-10803BA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3B08-F287-4881-8E36-E8262168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9D45-35A5-4142-B3FF-DF7AE39F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12D7-8D72-42C3-94E5-7F0DC325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3CBE-E841-4734-A383-292A7B82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90E6-A3DB-4558-B64A-09ED42BE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7764-64D6-406F-9A05-FDB06987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FFE3-08C7-44FC-B637-AED4441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B0E-268E-421E-8434-E36ED4A6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FF837-91AA-47B8-ADF5-D3F0426E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E4474-7BAB-48AF-AF13-2E644D8B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5F53-E454-493F-B4F6-63F2F5CE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CC4A-6994-47F8-84D1-18AC75FE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D2AC-6694-4ED2-9001-CD100C2C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A51E-FA7B-4FFD-AA3F-9BFC20AE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8EF6-CE6B-4E38-812A-FEDE119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0DCD3-2CF5-4D86-8C93-8829F858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DEB0-E958-4123-A538-0B7CEFE1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236-5C13-4358-9FB6-DA4BF186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50C-89F4-4EC2-A0A2-DE60FD0B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4AD-F44D-49FE-B58C-F80DD1B5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3B2-A788-4568-BCE0-7D6D3A56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2D7-2FD0-4C15-803B-D51DF04E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81CA-9D19-4CAA-9D2F-7A3B66D627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BE8F-68A2-45C9-8C3C-9233E22B8E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E15-28EF-4DD0-9628-E012242BCA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D912-8E9F-4D2E-B760-68E5A2630E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256536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50000"/>
              </a:lnSpc>
              <a:buClr>
                <a:srgbClr val="b9efe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800" spc="-1" strike="noStrike">
                <a:solidFill>
                  <a:srgbClr val="b9efee"/>
                </a:solidFill>
                <a:latin typeface="Times New Roman"/>
              </a:rPr>
              <a:t>АДАПТИВНАЯ ФИЗИЧЕСКАЯ КУЛЬТУРА </a:t>
            </a:r>
            <a:br>
              <a:rPr sz="2800"/>
            </a:br>
            <a:r>
              <a:rPr b="1" lang="ru-RU" sz="2400" spc="-1" strike="noStrike">
                <a:solidFill>
                  <a:srgbClr val="b9efee"/>
                </a:solidFill>
                <a:latin typeface="Times New Roman"/>
              </a:rPr>
              <a:t>В  ДОУ  </a:t>
            </a:r>
            <a:r>
              <a:rPr b="1" lang="en-US" sz="2400" spc="-1" strike="noStrike">
                <a:solidFill>
                  <a:srgbClr val="b9efee"/>
                </a:solidFill>
                <a:latin typeface="Times New Roman"/>
              </a:rPr>
              <a:t>IV </a:t>
            </a:r>
            <a:r>
              <a:rPr b="1" lang="ru-RU" sz="2400" spc="-1" strike="noStrike">
                <a:solidFill>
                  <a:srgbClr val="b9efee"/>
                </a:solidFill>
                <a:latin typeface="Times New Roman"/>
              </a:rPr>
              <a:t>ВИДА</a:t>
            </a: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4098960" y="43369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714680" y="2571840"/>
            <a:ext cx="6072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Использование оптической коррекции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на занятиях АФК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оценке пригодности ребенка к занятиям физической культурой ключевым вопросом является возможность пользования оптической коррекци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большинстве случаев АФК могут допускаться очки (желательно с пластмассовыми линзами, гибкими проволочными заушниками и резинкой, охватывающей затылок) или контактные линз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Чаще всего дети с близорукостью выключаются из общей физической подготовки, что недопустимо, так как именно АФК является одним из мощных факторов профилактики близорукости, ее прогрессирования и осложнений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близорукости основным фактором, определяющим решением не допуска к занятиям является наличие осложнений: кровоизлияний в глазу, центральной или периферической витреохориоретинальной дистрофии, отслойки сетчатки и д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70707"/>
                </a:solidFill>
                <a:latin typeface="Garamond"/>
              </a:rPr>
              <a:t>При обострениях воспалительных заболеваний, прогрессирующем снижении зрительных функций необходимо постараться выяснить, связано ли ухудшение с занятиями физической культурой и при наличии малейшего подозрения на такое влияние, занятия следует отмени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Тест по ЗДПО с «гусеницей-пирамидкой»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214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полнительно в ДОУ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IV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вида тифлопедагогами проводится тест по ЗДПО два раза в год (сентябрь, май)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зволяющий объединить большое количество оценочных методик по развитию зрительно-двигательных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ункций и ориентировке в пространств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357120" y="3500280"/>
            <a:ext cx="4040280" cy="3030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3280" y="4500720"/>
            <a:ext cx="42148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ЗДП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 – это т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акая ориентировка, в которой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функции зрения играют существенную роль в координированном движении, а значит, при ее проведении можно ясно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видеть и достоверно констатировать трудности действий ребенка в трехмерном пространстве. Это возможно, если соединить воедино движение в пространстве и развитие зрительного анализатора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572000" y="1071720"/>
            <a:ext cx="4143240" cy="2928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2374560" y="29160"/>
            <a:ext cx="43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ДПО с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усеницей-пирамидко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0" y="51577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токол результатов по ЗДПО с «гусеницей-пирамидкой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ОУ № 724      Группа № 4  (младшая)                                              Возраст детей 3 – 4 года                                                                                 Дата проведения ___________г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Таблица 8" descr=""/>
          <p:cNvPicPr/>
          <p:nvPr/>
        </p:nvPicPr>
        <p:blipFill>
          <a:blip r:embed="rId1"/>
          <a:stretch/>
        </p:blipFill>
        <p:spPr>
          <a:xfrm>
            <a:off x="139680" y="1500120"/>
            <a:ext cx="8937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5"/>
          <p:cNvSpPr/>
          <p:nvPr/>
        </p:nvSpPr>
        <p:spPr>
          <a:xfrm>
            <a:off x="108000" y="478620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Адаптивная физическая культура как средство реабилитации  детей с нарушением зрения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929120" y="1357200"/>
            <a:ext cx="4071960" cy="3571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7120" y="2499840"/>
            <a:ext cx="840096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... зрячий избалован зрением в деле познания формы, величины, положения и передвижения окружающих его предметов, поэтому он не развивает дра­гоценной способности руки давать ему те же самые показания, а слепой к этому вынужден», - писал великий физиолог И.М. Сечен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2"/>
          <a:stretch/>
        </p:blipFill>
        <p:spPr>
          <a:xfrm>
            <a:off x="357120" y="135720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Организационно-методические рекомендации обучения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 детей дошкольного возраста с нарушением зрения 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  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42960" y="1571760"/>
            <a:ext cx="758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Занятия АФК являются необходимой составной частью превентивных, реабилитационных и лечебных мероприятий для детей с поражением зрения. Представляется очевидным, что значение физкультурных занятий для детей с нарушением зрения даже более важно и необходимо, чем для лиц с нормальным зрение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фтальмологические рекомендации для детей, имеющих зрительную патологию, должны ориентировать педагогов на допустимость определенных видов нагрузки, а не на какой-либо конкретный вид двигательной деятельности с учетом направленности  коррекционно-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епременное условие для  занятий  физической культурой детей с нарушением зрения  -  это  четкое определение  противопоказаний,   систематический   врачебный   контроль за состоянием органа зр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5"/>
          <p:cNvSpPr/>
          <p:nvPr/>
        </p:nvSpPr>
        <p:spPr>
          <a:xfrm>
            <a:off x="108000" y="573408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Техника безопасности 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на занятиях физической культурой в ДОУ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и организации медицинского контрол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1. ТРЕБОВАНИЯ К  УСЛОВИЯМ ОРГАНИЗА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ЗАНЯТИЙ ДОШКОЛЬНИКОВ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Любая деятельность, а особенно физическая, может осуществляться лишь под непосредственным контролем и наблюдением со стороны взросл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В спортивном зале и на спортивной площадке должны быть созданы условия, обеспечивающие охрану жизни и здоровья детей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все оборудование: гимнастическая стенка, комплексы, лесенки должны быть надежно закреплены; всевозможное оборудование, пособия, предметы убранства должны устанавливаться и размещаться с учетом их полной безопасности и устойчивости, исключающей возможность паде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инвентарь, используемый детьми, необходимо располагать на высоте, не превышающей уровня их груд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Помещение, в котором организуется физкультурная деятельность, должно быть чистым, светлым, хорошо проветриваемым. Освещенность должна соответствовать установленным санитарно-гигиеническим норма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4. Запрещается перенос детьми тяжестей весом более 2-2,5кг. (для ребенка старшего дошкольного возраст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3880" y="85716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2. ТРЕБОВАНИЯ К ОБОРУДОВАНИЮ И МАТЕРИАЛАМ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71320" y="499680"/>
            <a:ext cx="81435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Оборудование, которым пользуются дети, должно по своим размерам соответствовать их возрастным показателя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В пользование детям даются только исправные и безопасные предме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Запрещается использование в работе оборудования и инвентаря, предназначенных для взрослых; нецелесообразно, педагогически неоправданно и опасно применение предметов, выпускаемых промышленностью для игровой деятельности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4. Все оборудование и инструменты должны быть аккуратно, удобно и рационально размещены, содержаться в чистом, исправном состоянии. Все колющие, режущие предметы должны храниться в недоступном для детей мест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2357280" y="3357720"/>
            <a:ext cx="47149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48"/>
          <p:cNvSpPr/>
          <p:nvPr/>
        </p:nvSpPr>
        <p:spPr>
          <a:xfrm>
            <a:off x="6084720" y="1890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3.  ВРАЧЕБНЫЙ КОНТРОЛЬ ЗА ФИЗИЧЕСКИМ ВОСПИТАНИЕМ В ДЕТСКОМ САДУ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 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004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Врачебный контроль осуществляется медицинским персоналом детского сада. Основная задача врачебного контроля заключается в содействии укреплению здоровья детей, совершенствованию физического и нервно-психического разви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Медицинский контроль включает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врачебные обследования, оценку состояния здоровья, физического развития детей в процессе занят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медико-педагогические наблюдения за проведением различных форм физического воспитания, контроль за содержанием, методикой проведения физкультурного занятия, соответствия возрастным возможностям дет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 санитарный надзор за местами проведения занятий, закаливающих мероприятий, за гигиеническим состоянием оборудования, инвентаря, а также костюма и обуви занимающихс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) санитарно-просветительную работу среди персонала и родителей дошкольного учрежд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рганизация медицинского контроля предусматривает совместную работу медицинской сестры, заведующего, старшего воспитател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Врачебное обследование и оценка состояния здоровья детей осуществляются врачом при ежегодных углубленных медицинских осмотрах. Для более точной оценки необходимо иметь характеристику развития движений каждого ребенка. Оценка состояния здоровья дается на момент обследова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Группы здоровья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ЕРВАЯ ГРУППА - объединяет здоровых детей, не имеющих отклонений в развитии по всем выбранным для оценки признакам здоровья, не болевших или редко болевших в период наблюд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ТОРАЯ ГРУППА - здоровые дети, имеющие биологический или социальный анализ, некоторые функциональные измен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РЕТЬЯ ГРУППА - объединяет больных детей с наличием хронических заболеван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ЧЕТВЕРТАЯ ГРУППА - дети с хроническими заболеваниями, врожденными пороками развития в состоянии субкомпенсаци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ЯТАЯ ГРУППА - дети, больные тяжелыми хроническими заболеваниями, с тяжелыми врожденными пороками разви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71680" y="285840"/>
            <a:ext cx="81151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едико-педагогические наблюдения включают оценку соответствия содержания и методики проведения различных форм физического воспитания возрастным и функциональным возможностям детей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Врач, медицинская сестра, заведующий, старший воспитатель осуществляя медико-педагогический контроль,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лжны предварительно познакомиться с конспектом, составленным воспитателем. Для оценки правильности построения физкультурного занятия следует пользоваться методом индивидуального хронометража. При проведении хронометража определяется также двигательная активность детей, общая и моторная плотность заня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определении общей плотности занятия учитывается время, затрачиваемое на выполнение движений, показ и объяснения воспитателя, перестроения, расстановку, уборку спортивного инвентаря, за вычетом времени, затраченного на простои детей, неоправданные ожидания, восстановление нарушенной дисциплины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Общая плотность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едставляет собой отношение полезного времени к общей продолжительности всего занятия, выраженное в процентах. Общая плотность должна составлять не менее 80-90%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Моторная плотность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характеризуется отношением времени, непосредственно затраченного ребенком на выполнение движений, ко времени всего занятия, выраженным в процента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достаточной двигательной активности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на должна составлять не менее 70-85%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медико-педагогическом контроле важное место должно быть уделено наблюдениям за осуществлением общего двигательного режима в детском учреждении. Двигательный режим включает всю динамическую деятельность детей, как организованные формы работы, так и самостоятельную двигательную деятельность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Общий двигательный режим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лжен являться средством укрепления здоровья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aramond"/>
              </a:rPr>
              <a:t>Коррекционные цели и задачи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Garamond"/>
              </a:rPr>
              <a:t>адаптивной физической культуры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71680" y="1285920"/>
            <a:ext cx="82864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Цель: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авлена на восстановление, замещение и компенсацию нарушенных функций, совершенствование мышечно-суставного чувства, развитие самостоятельного и качественного выполнения двигательных действий, максимальное возможное уменьшение степени ограничений жизнедеятельности,  подготовка к социальной интеграции.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Достижение соответствующего возрасту уровня физической подготовленности, развития физических качеств, ориентировки в  пространстве и  координации движений и др.;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Применение специальных  средств и методов, способствующих  повышению функциональных возможностей, развивающих  зрение и зрительно-двигательную ориентировку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реодоление недостатков, возникающих на фоне зрительной патологии при овладении движениям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Активизация и упражнение зрительных функций в тесной взаимосвязи с лечебно-восстановительной работой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40"/>
          <p:cNvSpPr/>
          <p:nvPr/>
        </p:nvSpPr>
        <p:spPr>
          <a:xfrm>
            <a:off x="6156360" y="404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Двигательный режим ГОУ д/с № 724 компенсирующего вида 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для всех возрастных групп</a:t>
            </a:r>
            <a:br>
              <a:rPr sz="18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4200" y="928800"/>
          <a:ext cx="8786880" cy="5762520"/>
        </p:xfrm>
        <a:graphic>
          <a:graphicData uri="http://schemas.openxmlformats.org/drawingml/2006/table">
            <a:tbl>
              <a:tblPr/>
              <a:tblGrid>
                <a:gridCol w="493920"/>
                <a:gridCol w="3198600"/>
                <a:gridCol w="1273320"/>
                <a:gridCol w="1274760"/>
                <a:gridCol w="1244520"/>
                <a:gridCol w="130176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урно-оздоровительные  мероприятия в режиме дн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ая 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отовите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Самостоятельная двигательная деятельность в помещении д/с и на прогулке (утро/вечер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Ежедневно  Характер и продолжительность зависят от индивидуальных данных и потребностей дет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Утренняя гимнасти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Коррекционная глазная гимнастика (2 раза в день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Физкультурные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(3 раза в неделю: 2 занятия в физкультурном зале и 1 занятие на улице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Музыкальные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(2 занятия в неделю в музы-кальном зале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Двигательная разминка (до 10 мин.)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Физкультминут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 мин.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Упражнения для глаз на снятие зрительного утомл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Подвижные игры и физические упражнения на прогулке. Игры и упражнения на развитие ЗДПО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Физические упражнения  после дневного сн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Корригирующая гимнастика на развитие м/м рук и проф.плоскостопия (</a:t>
                      </a: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 р/день)</a:t>
                      </a: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,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7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Двигательная активность детей за неделю в организационных формах деятельност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4ч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9ч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50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Организация физического воспитания детей</a:t>
            </a: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в семье и ДОУ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Чрезвычайно важна в воспитании детей роль здорового образа жизни семь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лементарные знания о слагаемых здорового образа жизни (рациональное питание, соблюдение режима труда и отдыха, достаточная двигательная активность, использование закаливающих средств, умение правильно, без нервного напряжения организовать своё поведение) доступны уже самым маленьким детя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 конкретных примерах надо убеждать родителей, что любой ребёнок, даже родившийся ослабленным, может и должен стать физически крепким, гармонически развитым, если приложить к этому усили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акое построение работы требует от педагогов постоянного самообразования и самосовершенствовани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14200" y="2333520"/>
            <a:ext cx="42814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лассификация упражнений и игр для коррекции нарушений зрительной функции у детей с косоглазием и амблиопией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непрерывное слежение глазами за движениями предме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абрасывание мяча в кольц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етание в цел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Следи за маятником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Подбрось кольцо и поймай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лежение за мигающими лампочками на световом линейном табло (справа – налево; слева – направо; снизу – вверх; сверху – вниз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Настольный баскетбол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Настольный теннис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катывание мяча в ограниченном пространств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ольцеброс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расслабить конвергенцию, развивать направление взора ребенка вдаль и вверх (сходящиеся косоглази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ажги фонари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дбрось вверх воздушный ша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йди шар (большой, маленьки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дбрось мяч и пойма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то дальше бросит предм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стань предм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Чей мяч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усилить аккомодацию, развивать направление взора вблизь и вниз (расходящиеся косоглази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строй пирамид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яч об по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оставь рисунок на пол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Игры «Ближе – дальше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катывание мяча друг друг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еренеси предм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то больше собере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закрепить бинокулярное зрение, выработать стереоскопическое ви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пади в ворот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бей кегл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брось кольц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день шарики на стержен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ород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Игра «Кольцеброс» (напольный, настольны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собенности физического развития детей, 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имеющих зрительную патологию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тклонения выражаются в отставании в росте и массе тела, жизненной емкости легких, объеме грудной клетки, в значительном ослаблении  мышц, в нарушении осанки, позы, искривлении позвоночника, плоскостопи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нижается двигательная активность, что отрицательно сказывается на формировании двигательного анализатор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ипичные нарушения движений тесно связаны с особенностями их психического и интеллектуального развития. Такие недостатки ярче всего проявляются в тех двигательных действиях, которые требуют значительного нервного напряжения и умственной работы. Нарушения развития моторики обнаруживаются, прежде всего, при выполнении дифференцированных и точных движени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рительные нарушения отрицательно сказываются на развитии быстроты движения. Выраженное отставание отмечается в беге, прыжках с места, координации точности движений, причем на всех этапах развития, что связано с пространственно-ориентировочной недостаточ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вижения у детей с нарушением зрения замедлены, угловаты, неловки и неритмичны. Мимика и жестикуляция отличаются бедностью, однообразием и невыразительностью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896280" y="3245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аблица 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68360" y="54936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324000" y="213372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Педагогические особенности физического воспитания детей с нарушением зрения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86160" y="1856880"/>
            <a:ext cx="4400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изическое воспитание детей с нарушением зрения так же направлено на улучшение деятельности всех органов и систем, укрепление здоровья и формирование двигательных качеств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стигается это путем организации коррекционно-направленных занятий, предусматривающих развитие  пространственно-ориентировочной деятельности, двигательной сферы, способности ощущать и оценивать быстроту движений, их амплитуду, степень напряженности и расслабления мышц, что является основной частью адаптивной физической культуры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8" name="Picture 126" descr="C:\Documents and Settings\Ирина\Мои документы\Фото физ. зан\S5000059.JPG"/>
          <p:cNvPicPr/>
          <p:nvPr/>
        </p:nvPicPr>
        <p:blipFill>
          <a:blip r:embed="rId1"/>
          <a:stretch/>
        </p:blipFill>
        <p:spPr>
          <a:xfrm>
            <a:off x="457200" y="2357280"/>
            <a:ext cx="40384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Общие реабилитационно-педагогические методы 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(Беккер К.Л., 1975)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28800" y="1143000"/>
            <a:ext cx="750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тимуляция  – метод систематического применения отличных от нормы форм деятельности для всестороннего развития личност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мпенсация – метод формирования заменител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ррекция – метод устранения наруш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ктивизация – метод устранения задержек и приближения отклонений к норм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дкрепление – метод сохранения достигнутого уровн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000" spc="-1" strike="noStrike">
                <a:solidFill>
                  <a:srgbClr val="f70707"/>
                </a:solidFill>
                <a:latin typeface="Garamond"/>
              </a:rPr>
              <a:t>Методы, применяемые в ДОУ  </a:t>
            </a:r>
            <a:r>
              <a:rPr b="1" i="1" lang="en-US" sz="2000" spc="-1" strike="noStrike">
                <a:solidFill>
                  <a:srgbClr val="f70707"/>
                </a:solidFill>
                <a:latin typeface="Garamond"/>
              </a:rPr>
              <a:t>IV </a:t>
            </a:r>
            <a:r>
              <a:rPr b="1" i="1" lang="ru-RU" sz="2000" spc="-1" strike="noStrike">
                <a:solidFill>
                  <a:srgbClr val="f70707"/>
                </a:solidFill>
                <a:latin typeface="Garamond"/>
              </a:rPr>
              <a:t>вида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0707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дачу материала малыми порциям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ксимальную расчлененность и развернутость сложных понятий и действ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тоянную опору на чувственный опыт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уководство действиями учащихся до совместного выполнения их педагогом и воспитаннико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 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процессе  АФК необходим индивидуальный и дифференцированный подход к детям, учитывающий клинические формы и характер нарушений зрения, аномалии развития, тяжесть зрительной патологии, а также систематический контроль за динамикой физического развития и двигательных способностей воспитанников, степенью исправления двигательных нарушений 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Обучение и воспитание двигательных качеств базируется на системе методических принципов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ринцип доступности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ребует соблюдения следующих правил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знать возрастные особенности занимающихся детей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изучать и учитывать индивидуальные особенности занимающихся дет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соблюдать правило: «от простого к сложному, от известного к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еизвестному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ринцип наглядности</a:t>
            </a:r>
            <a:r>
              <a:rPr b="0" lang="ru-RU" sz="1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беспечивается  демонстрацией отдельных упражнений при технике отдельных элементов в возможно более совершенном исполнени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авил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определить, какая педагогическая задача должна быть решена средствами наглядност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организовать восприятие движений с помощью разных органов чувств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 применяя средства наглядности, учитывать зрительные возможности детей, их предыдущий двигательный опыт и знание занимающихся физическими упражнениям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) использовать непосредственную и опосредованную демонстрацию как средство исправления двигательных ошибок у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Принцип систематичности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систематических занятиях дети с нарушением зрения достаточно эффективно осваивают навыки, а также получают оптимальную, функциональную подготовку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Принцип прочности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авил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не переходить к изучению нового упражнения, пока не будут основательно освоено старо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включать в занятие ранее изученные упражнения в новых сочетаниях и вариантах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 повышать интенсивность и длительность выполнения освоенных упражн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) систематически вести учет физической подготовленности и оценивать достижения детей, проводить контрольные занятия, соревнования и выступл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   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Принцип дифференциально-интегральных оптимум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менение физических нагрузок различного содержания в профилактических и коррекционных целях должно строиться на основе глубокого знания специалистом функционального состояния зрительного аппарата, нервно-мышечной системы, учитывать клинические формы и характер нарушений зрения, аномалий развития, тяжесть зрительной патологии, а также динамику физического развития и двигательных способностей детей. Знание закономерностей функционирования и развития в условиях двигательной деятельности обеспечит применение оптимальных, локальных и интегральных физических нагрузок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71"/>
          <p:cNvSpPr/>
          <p:nvPr/>
        </p:nvSpPr>
        <p:spPr>
          <a:xfrm>
            <a:off x="6443640" y="26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0707"/>
                </a:solidFill>
                <a:latin typeface="Garamond"/>
              </a:rPr>
              <a:t>«Здоровье - это состояние полного физического, духовного и социального благополучия» (ВОЗ).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85520" y="1642680"/>
            <a:ext cx="7443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ля того чтобы снизить заболеваемость в дошкольных учреждениях  и сохранить здоровье детей, в качестве первоочередных мер, необходимо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высить квалификацию педагогов в вопросах культуры здоровь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ормализовать учебную нагрузку с учетом физиологических требований СанПин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ктивнее вовлекать родителей и общественность в дело повышения здоровья воспитанник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высить двигательную активность детей на занятиях по физическому воспитанию и в самостоятельной деятельност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 всех занятиях проводить физкультминутки, в которые вводить элементы лечебной физкульту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еобходимо вести систематическую работу по профилактике близорукост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бучать детей, педагогов, родителей здоровому образу жизн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ктивизировать работу психолога детского сад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адача специалистов ДОУ - сформировать культуру  здорового образа жизни и гармонично развитого человека у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При офтальмологическом обследовании воспитанников с целью определения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 группы физической подготовки:</a:t>
            </a:r>
            <a:br>
              <a:rPr sz="20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строту зрения монокулярно и бинокулярно без коррекции и с оптимальной коррекци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ефракцию (в пограничных случаях в условиях атропиновой циклоплегии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Состояние бинокулярного зрения с помощью цвето-тест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Состояние защитного аппарата, сред и глазного д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показаниях проводят дополнительные исследования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оле зрения, биомикроскопию, ультразвуковую биометрию, КЧСМ, тонометри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4714920" y="1643040"/>
            <a:ext cx="38577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1:06:38Z</dcterms:created>
  <dc:creator>Дмитрий</dc:creator>
  <dc:description/>
  <dc:language>en-US</dc:language>
  <cp:lastModifiedBy>GEG</cp:lastModifiedBy>
  <dcterms:modified xsi:type="dcterms:W3CDTF">2010-11-18T07:35:54Z</dcterms:modified>
  <cp:revision>144</cp:revision>
  <dc:subject/>
  <dc:title>   ОЗДОРОВИТЕЛЬНАЯ ФИЗИЧЕСКАЯ КУЛЬТУРА В  ДОШКОЛЬНЫХ  ОБРАЗОВАТЕЛЬНЫХ УЧРЕЖДЕНИЯХ РАЗНОГО ВИДА      13.00.04. – Теория и методика физического воспитания, спортивной тренировки, оздоровительной и адаптивной физической культуры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00000000000010250300207f7000400038000</vt:lpwstr>
  </property>
</Properties>
</file>