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A2E-C649-4788-B490-2E2230955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62F-DC60-48C4-8AE2-781CDCBB87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236-9661-4B6B-A86E-68EF0AA8D0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281-D2AA-4A2D-BFF3-1300D90354E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2D8-D833-45DA-BEB7-B71FDD01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2D0-1EF0-463E-97B7-00475E4B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7F7-ECC2-4633-9761-2CF6BA84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488-B02A-459F-A194-E9B97F33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0FE9-19DC-4AC9-B685-320DD71A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23C-AE74-4656-8E49-D3C0FF13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47A-1B95-43F6-A97B-AB235017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997-7952-40F9-9A88-8DF66AA1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9344-0035-4AF8-9736-712197D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AA4-D152-4A40-836C-04503BDC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4527-07E0-4639-B910-9448B64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C6A-286C-4DF1-BB2B-3141BB2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4B48-8ACF-4870-899A-1F30343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F337-38D5-48B1-A3D3-5CF1266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16F-BB50-455C-AEF9-00615AD6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C36F-FBA5-4E64-8F46-8AD866B6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F7C7-7626-4342-A5F0-C474178F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C8E2-0114-48D5-9B86-72725D2D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477C-70EC-4BE1-96EB-EB52E8E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7725-6B26-409B-ADC1-75AAACF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C716-77DB-418D-8227-7C3DB2C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B731-67DE-4296-BE65-AFB1A2A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D06-3A14-4128-9BFE-41EF5A1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3450-0108-473D-B546-464168F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1A86-3E7D-4B02-B72A-2916F89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2D9B-D6B0-4772-AE23-F04C88F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A176-96FA-4F20-B871-B3C9085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F5A6-5E01-461C-A217-73D81D96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3279-41D6-4B3A-988C-F131C127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157C-B18D-4A1C-90AB-285ADB45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10E6-B4A2-436C-873F-B687B5E8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CA83-19FB-4752-A94F-D3A8275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BF34E-16F5-4B8C-980C-F99FD08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52E-E3F7-488D-A4DE-EC050569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EADA-F3A1-4DA8-8F67-CB7D22C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A3AC-11D9-419F-93B1-FA9059B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3AD4-415B-494A-93C2-FEAAB859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BE20-4D12-4E4F-8A18-053AC65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CC2B-AE50-47E2-A82C-49253BE0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CABC-2FC7-406B-BFB5-CCA2EAB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BF16-B943-4C1D-BF29-BCE26FD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6A7D-422A-4B3F-8C3C-7B1152BD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2770C-06EE-4161-AB49-EFB73692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51D-F063-4CFE-A0B0-EEC0C43B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8AB-E3B9-4091-A91C-B9D9CE9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CA5-C50C-4692-A751-73344B9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3C6-255C-4DD8-910C-BE72A61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71C-E4F0-48CA-B2C4-82D13A6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4468-92FC-4771-96EB-28EE937D89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B58-4F76-4A1E-B072-E3D21858E1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D401-A1A5-426F-8E88-021DB1C804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106-154D-46C5-9483-199D804F86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50000"/>
              </a:lnSpc>
              <a:buClr>
                <a:srgbClr val="b9efe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b9efee"/>
                </a:solidFill>
                <a:latin typeface="Times New Roman"/>
              </a:rPr>
              <a:t>АДАПТИВНАЯ ФИЗИЧЕСКАЯ КУЛЬТУРА </a:t>
            </a:r>
            <a:br>
              <a:rPr sz="2800"/>
            </a:b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  ДОУ  </a:t>
            </a:r>
            <a:r>
              <a:rPr b="1" lang="en-US" sz="2400" spc="-1" strike="noStrike">
                <a:solidFill>
                  <a:srgbClr val="b9efee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ИДА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098960" y="43369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714680" y="2571840"/>
            <a:ext cx="6072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Использование оптической коррекции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на занятиях АФК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оценке пригодности ребенка к занятиям физической культурой ключевым вопросом является возможность пользования оптическ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большинстве случаев АФК могут допускаться очки (желательно с пластмассовыми линзами, гибкими проволочными заушниками и резинкой, охватывающей затылок) или контактные линз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Чаще всего дети с близорукостью выключаются из общей физической подготовки, что недопустимо, так как именно АФК является одним из мощных факторов профилактики близорукости, ее прогрессирования и осложнений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близорукости основным фактором, определяющим решением не допуска к занятиям является наличие осложнений: кровоизлияний в глазу, центральной или периферической витреохориоретинальной дистрофии, отслойки сетчатки и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70707"/>
                </a:solidFill>
                <a:latin typeface="Garamond"/>
              </a:rPr>
              <a:t>При обострениях воспалительных заболеваний, прогрессирующем снижении зрительных функций необходимо постараться выяснить, связано ли ухудшение с занятиями физической культурой и при наличии малейшего подозрения на такое влияние, занятия следует отмени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Тест по ЗДПО с «гусеницей-пирамидкой»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полнительно в ДОУ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IV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вида тифлопедагогами проводится тест по ЗДПО два раза в год (сентябрь, май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зволяющий объединить большое количество оценочных методик по развитию зрительно-двигательных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ункций и ориентировке в пространств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3280" y="4500720"/>
            <a:ext cx="42148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ЗДП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 – это т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акая ориентировка, в которой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функции зрения играют существенную роль в координированном движении, а значит, при ее проведении можно ясно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видеть и достоверно констатировать трудности действий ребенка в трехмерном пространстве. Это возможно, если соединить воедино движение в пространстве и развитие зрительного анализатора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572000" y="1071720"/>
            <a:ext cx="4143240" cy="2928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2374560" y="29160"/>
            <a:ext cx="43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ДПО с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усеницей-пирамидко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0" y="5157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токол результатов по ЗДПО с «гусеницей-пирамидкой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У № 724      Группа № 4  (младшая)                                              Возраст детей 3 – 4 года                                                                                 Дата проведения ___________г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Таблица 8" descr=""/>
          <p:cNvPicPr/>
          <p:nvPr/>
        </p:nvPicPr>
        <p:blipFill>
          <a:blip r:embed="rId1"/>
          <a:stretch/>
        </p:blipFill>
        <p:spPr>
          <a:xfrm>
            <a:off x="139680" y="1500120"/>
            <a:ext cx="8937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108000" y="47862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Адаптивная физическая культура как средство реабилитации  детей с нарушением зрения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929120" y="135720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2499840"/>
            <a:ext cx="840096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... зрячий избалован зрением в деле познания формы, величины, положения и передвижения окружающих его предметов, поэтому он не развивает дра­гоценной способности руки давать ему те же самые показания, а слепой к этому вынужден», - писал великий физиолог И.М. Сечен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Организационно-методические рекомендации обучения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детей дошкольного возраста с нарушением зрения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 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42960" y="1571760"/>
            <a:ext cx="758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Занятия АФК являются необходимой составной частью превентивных, реабилитационных и лечебных мероприятий для детей с поражением зрения. Представляется очевидным, что значение физкультурных занятий для детей с нарушением зрения даже более важно и необходимо, чем для лиц с нормальным зрение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фтальмологические рекомендации для детей, имеющих зрительную патологию, должны ориентировать педагогов на допустимость определенных видов нагрузки, а не на какой-либо конкретный вид двигательной деятельности с учетом направленности  коррекционно-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епременное условие для  занятий  физической культурой детей с нарушением зрения  -  это  четкое определение  противопоказаний,   систематический   врачебный   контроль за состоянием органа з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108000" y="57340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Техника безопасности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на занятиях физической культурой в ДОУ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и организации медицинского контрол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. ТРЕБОВАНИЯ К  УСЛОВИЯМ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ЗАНЯТИЙ ДОШКОЛЬНИКОВ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Любая деятельность, а особенно физическая, может осуществляться лишь под непосредственным контролем и наблюдением со стороны взросл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спортивном зале и на спортивной площадке должны быть созданы условия, обеспечивающие охрану жизни и здоровья детей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се оборудование: гимнастическая стенка, комплексы, лесенки должны быть надежно закреплены; всевозможное оборудование, пособия, предметы убранства должны устанавливаться и размещаться с учетом их полной безопасности и устойчивости, исключающей возможность паде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нвентарь, используемый детьми, необходимо располагать на высоте, не превышающей уровня их груд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Помещение, в котором организуется физкультурная деятельность, должно быть чистым, светлым, хорошо проветриваемым. Освещенность должна соответствовать установленным санитарно-гигиеническим норм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Запрещается перенос детьми тяжестей весом более 2-2,5кг. (для ребенка старшего дошкольного возраст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3880" y="85716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. ТРЕБОВАНИЯ К ОБОРУДОВАНИЮ И МАТЕРИАЛАМ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71320" y="499680"/>
            <a:ext cx="8143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Оборудование, которым пользуются дети, должно по своим размерам соответствовать их возрастным показател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пользование детям даются только исправные и безопасные предме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Запрещается использование в работе оборудования и инвентаря, предназначенных для взрослых; нецелесообразно, педагогически неоправданно и опасно применение предметов, выпускаемых промышленностью для игровой деятельности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Все оборудование и инструменты должны быть аккуратно, удобно и рационально размещены, содержаться в чистом, исправном состоянии. Все колющие, режущие предметы должны храниться в недоступном для детей мест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2357280" y="3357720"/>
            <a:ext cx="47149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48"/>
          <p:cNvSpPr/>
          <p:nvPr/>
        </p:nvSpPr>
        <p:spPr>
          <a:xfrm>
            <a:off x="6084720" y="1890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.  ВРАЧЕБНЫЙ КОНТРОЛЬ ЗА ФИЗИЧЕСКИМ ВОСПИТАНИЕМ В ДЕТСКОМ САДУ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004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Врачебный контроль осуществляется медицинским персоналом детского сада. Основная задача врачебного контроля заключается в содействии укреплению здоровья детей, совершенствованию физического и нервно-психического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Медицинский контроль включает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рачебные обследования, оценку состояния здоровья, физического развития детей в процессе занят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медико-педагогические наблюдения за проведением различных форм физического воспитания, контроль за содержанием, методикой проведения физкультурного занятия, соответствия возрастным возможностям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санитарный надзор за местами проведения занятий, закаливающих мероприятий, за гигиеническим состоянием оборудования, инвентаря, а также костюма и обуви занимающихс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анитарно-просветительную работу среди персонала и родителей дошкольного учреж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рганизация медицинского контроля предусматривает совместную работу медицинской сестры, заведующего, старшего воспитател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Врачебное обследование и оценка состояния здоровья детей осуществляются врачом при ежегодных углубленных медицинских осмотрах. Для более точной оценки необходимо иметь характеристику развития движений каждого ребенка. Оценка состояния здоровья дается на момент обследов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Группы здоровья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ВАЯ ГРУППА - объединяет здоровых детей, не имеющих отклонений в развитии по всем выбранным для оценки признакам здоровья, не болевших или редко болевших в период наблю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ТОРАЯ ГРУППА - здоровые дети, имеющие биологический или социальный анализ, некоторые функциональные измен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ТЬЯ ГРУППА - объединяет больных детей с наличием хронических заболеван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ТВЕРТАЯ ГРУППА - дети с хроническими заболеваниями, врожденными пороками развития в состоянии субкомпенсац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ЯТАЯ ГРУППА - дети, больные тяжелыми хроническими заболеваниями, с тяжелыми врожденными пороками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71680" y="285840"/>
            <a:ext cx="81151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дико-педагогические наблюдения включают оценку соответствия содержания и методики проведения различных форм физического воспитания возрастным и функциональным возможностям детей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Врач, медицинская сестра, заведующий, старший воспитатель осуществляя медико-педагогический контроль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ны предварительно познакомиться с конспектом, составленным воспитателем. Для оценки правильности построения физкультурного занятия следует пользоваться методом индивидуального хронометража. При проведении хронометража определяется также двигательная активность детей, общая и моторная плотность заня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определении общей плотности занятия учитывается время, затрачиваемое на выполнение движений, показ и объяснения воспитателя, перестроения, расстановку, уборку спортивного инвентаря, за вычетом времени, затраченного на простои детей, неоправданные ожидания, восстановление нарушенной дисциплины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едставляет собой отношение полезного времени к общей продолжительности всего занятия, выраженное в процентах. Общая плотность должна составлять не менее 80-90%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Моторн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характеризуется отношением времени, непосредственно затраченного ребенком на выполнение движений, ко времени всего занятия, выраженным в процен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достаточной двигательной актив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на должна составлять не менее 70-85%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медико-педагогическом контроле важное место должно быть уделено наблюдениям за осуществлением общего двигательного режима в детском учреждении. Двигательный режим включает всю динамическую деятельность детей, как организованные формы работы, так и самостоятельную двигательную деятельность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ий двигательный режим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ен являться средством укрепления здоровья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Коррекционные 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адаптивной физической культуры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71680" y="1285920"/>
            <a:ext cx="82864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Цель: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авлена на восстановление, замещение и компенсацию нарушенных функций, совершенствование мышечно-суставного чувства, развитие самостоятельного и качественного выполнения двигательных действий, максимальное возможное уменьшение степени ограничений жизнедеятельности,  подготовка к социальной интеграции.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Достижение соответствующего возрасту уровня физической подготовленности, развития физических качеств, ориентировки в  пространстве и  координации движений и др.;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Применение специальных  средств и методов, способствующих  повышению функциональных возможностей, развивающих  зрение и зрительно-двигательную ориентировку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реодоление недостатков, возникающих на фоне зрительной патологии при овладении движ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Активизация и упражнение зрительных функций в тесной взаимосвязи с лечебно-восстановительной работой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40"/>
          <p:cNvSpPr/>
          <p:nvPr/>
        </p:nvSpPr>
        <p:spPr>
          <a:xfrm>
            <a:off x="6156360" y="40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вигательный режим ГОУ д/с № 724 компенсирующего вида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ля всех возрастных групп</a:t>
            </a:r>
            <a:br>
              <a:rPr sz="18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4200" y="928800"/>
          <a:ext cx="8786880" cy="5762520"/>
        </p:xfrm>
        <a:graphic>
          <a:graphicData uri="http://schemas.openxmlformats.org/drawingml/2006/table">
            <a:tbl>
              <a:tblPr/>
              <a:tblGrid>
                <a:gridCol w="493920"/>
                <a:gridCol w="3198600"/>
                <a:gridCol w="1273320"/>
                <a:gridCol w="1274760"/>
                <a:gridCol w="1244520"/>
                <a:gridCol w="1301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урно-оздоровительные  мероприятия в режиме дн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отови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Самостоятельная двигательная деятельность в помещении д/с и на прогулке (утро/вечер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Ежедневно  Характер и продолжительность зависят от индивидуальных данных и потребностей де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тренняя гимнасти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Коррекционная глазная гимнастика (2 раза в день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ур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3 раза в неделю: 2 занятия в физкультурном зале и 1 занятие на улиц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узыкаль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2 занятия в неделю в музы-кальном зал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Двигательная разминка (до 10 мин.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минут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пражнения для глаз на снятие зрительного утомл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Подвижные игры и физические упражнения на прогулке. Игры и упражнения на развитие ЗДП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Физические упражнения  после дневного сн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Корригирующая гимнастика на развитие м/м рук и проф.плоскостопия (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р/день)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Двигательная активность детей за неделю в организационных формах деятельност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4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9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Организация физического воспитания детей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в семье и ДОУ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Чрезвычайно важна в воспитании детей роль здорового образа жизни семь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лементарные знания о слагаемых здорового образа жизни (рациональное питание, соблюдение режима труда и отдыха, достаточная двигательная активность, использование закаливающих средств, умение правильно, без нервного напряжения организовать своё поведение) доступны уже самым маленьким дет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конкретных примерах надо убеждать родителей, что любой ребёнок, даже родившийся ослабленным, может и должен стать физически крепким, гармонически развитым, если приложить к этому усил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кое построение работы требует от педагогов постоянного самообразования и самосовершенствова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14200" y="2333520"/>
            <a:ext cx="42814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лассификация упражнений и игр для коррекции нарушений зрительной функции у детей с косоглазием и амблиопие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непрерывное слежение глазами за движениями предме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брасывание мяча в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тание в цел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Следи за маятником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Подбрось кольцо и поймай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лежение за мигающими лампочками на световом линейном табло (справа – налево; слева – направо; снизу – вверх; сверху – вниз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баскетбол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теннис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в ограниченном пространств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ольцеброс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расслабить конвергенцию, развивать направление взора ребенка вдаль и вверх (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жги фонари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вверх воздушный ша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йди шар (большой, маленьки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мяч и пойма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дальше бросит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стань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й мяч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усилить аккомодацию, развивать направление взора вблизь и вниз (ра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строй пирамид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яч об по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оставь рисунок на пол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ы «Ближе – дальш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друг друг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енеси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больше собер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закрепить бинокулярное зрение, выработать стереоскопическое ви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пади в ворот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бей кегл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брось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день шарики на стержен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род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а «Кольцеброс» (напольный, настольны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собенности физического развития детей,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меющих зрительную патологию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тклонения выражаются в отставании в росте и массе тела, жизненной емкости легких, объеме грудной клетки, в значительном ослаблении  мышц, в нарушении осанки, позы, искривлении позвоночника, плоскостоп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нижается двигательная активность, что отрицательно сказывается на формировании двигательного анализатор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ипичные нарушения движений тесно связаны с особенностями их психического и интеллектуального развития. Такие недостатки ярче всего проявляются в тех двигательных действиях, которые требуют значительного нервного напряжения и умственной работы. Нарушения развития моторики обнаруживаются, прежде всего, при выполнении дифференцированных и точных движ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рительные нарушения отрицательно сказываются на развитии быстроты движения. Выраженное отставание отмечается в беге, прыжках с места, координации точности движений, причем на всех этапах развития, что связано с пространственно-ориентировочной недостаточ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вижения у детей с нарушением зрения замедлены, угловаты, неловки и неритмичны. Мимика и жестикуляция отличаются бедностью, однообразием и невыразительностью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896280" y="3245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блица 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68360" y="549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24000" y="213372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Педагогические особенности физического воспитания детей с нарушением зрения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86160" y="1856880"/>
            <a:ext cx="4400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зическое воспитание детей с нарушением зрения так же направлено на улучшение деятельности всех органов и систем, укрепление здоровья и формирование двигательных качеств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стигается это путем организации коррекционно-направленных занятий, предусматривающих развитие  пространственно-ориентировочной деятельности, двигательной сферы, способности ощущать и оценивать быстроту движений, их амплитуду, степень напряженности и расслабления мышц, что является основной частью адаптивной физической культур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Picture 126" descr="C:\Documents and Settings\Ирина\Мои документы\Фото физ. зан\S5000059.JPG"/>
          <p:cNvPicPr/>
          <p:nvPr/>
        </p:nvPicPr>
        <p:blipFill>
          <a:blip r:embed="rId1"/>
          <a:stretch/>
        </p:blipFill>
        <p:spPr>
          <a:xfrm>
            <a:off x="457200" y="2357280"/>
            <a:ext cx="40384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Общие реабилитационно-педагогические методы 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(Беккер К.Л., 1975)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28800" y="114300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имуляция  – метод систематического применения отличных от нормы форм деятельности для всестороннего развития лич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мпенсация – метод формирования заменител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ррекция – метод устранения наруш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ктивизация – метод устранения задержек и приближения отклонений к норм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крепление – метод сохранения достигнутого уровн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Методы, применяемые в ДОУ  </a:t>
            </a:r>
            <a:r>
              <a:rPr b="1" i="1" lang="en-US" sz="2000" spc="-1" strike="noStrike">
                <a:solidFill>
                  <a:srgbClr val="f70707"/>
                </a:solidFill>
                <a:latin typeface="Garamond"/>
              </a:rPr>
              <a:t>IV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вида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ачу материала малыми порц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ксимальную расчлененность и развернутость сложных понятий и действ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оянную опору на чувственный опыт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уководство действиями учащихся до совместного выполнения их педагогом и воспитанник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 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роцессе  АФК необходим индивидуальный и дифференцированный подход к детям, учитывающий клинические формы и характер нарушений зрения, аномалии развития, тяжесть зрительной патологии, а также систематический контроль за динамикой физического развития и двигательных способностей воспитанников, степенью исправления двигательных нарушений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Обучение и воспитание двигательных качеств базируется на системе методических принципов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доступ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бует соблюдения следующих прави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знать возрастные особенности занимающихся детей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зучать и учитывать индивидуальные особенности занимающихся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соблюдать правило: «от простого к сложному, от известного к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известному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наглядности</a:t>
            </a: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еспечивается  демонстрацией отдельных упражнений при технике отдельных элементов в возможно более совершенном исполне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определить, какая педагогическая задача должна быть решена средствами нагляд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организовать восприятие движений с помощью разных органов чувств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рименяя средства наглядности, учитывать зрительные возможности детей, их предыдущий двигательный опыт и знание занимающихся физическими упражн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использовать непосредственную и опосредованную демонстрацию как средство исправления двигательных ошибок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системати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систематических занятиях дети с нарушением зрения достаточно эффективно осваивают навыки, а также получают оптимальную, функциональную подготовку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про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не переходить к изучению нового упражнения, пока не будут основательно освоено старо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включать в занятие ранее изученные упражнения в новых сочетаниях и вариант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овышать интенсивность и длительность выполнения освоенных упражн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истематически вести учет физической подготовленности и оценивать достижения детей, проводить контрольные занятия, соревнования и выступл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дифференциально-интегральных оптимум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менение физических нагрузок различного содержания в профилактических и коррекционных целях должно строиться на основе глубокого знания специалистом функционального состояния зрительного аппарата, нервно-мышечной системы, учитывать клинические формы и характер нарушений зрения, аномалий развития, тяжесть зрительной патологии, а также динамику физического развития и двигательных способностей детей. Знание закономерностей функционирования и развития в условиях двигательной деятельности обеспечит применение оптимальных, локальных и интегральных физических нагруз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71"/>
          <p:cNvSpPr/>
          <p:nvPr/>
        </p:nvSpPr>
        <p:spPr>
          <a:xfrm>
            <a:off x="644364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0707"/>
                </a:solidFill>
                <a:latin typeface="Garamond"/>
              </a:rPr>
              <a:t>«Здоровье - это состояние полного физического, духовного и социального благополучия» (ВОЗ).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85520" y="1642680"/>
            <a:ext cx="74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ля того чтобы снизить заболеваемость в дошкольных учреждениях  и сохранить здоровье детей, в качестве первоочередных мер, необходимо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квалификацию педагогов в вопросах культуры здоровь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ормализовать учебную нагрузку с учетом физиологических требований СанПин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нее вовлекать родителей и общественность в дело повышения здоровья воспитанник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двигательную активность детей на занятиях по физическому воспитанию и в самостоятельной деятельност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 всех занятиях проводить физкультминутки, в которые вводить элементы лечебной физкульту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вести систематическую работу по профилактике близорук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учать детей, педагогов, родителей здоровому образу жизн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изировать работу психолога детского сад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дача специалистов ДОУ - сформировать культуру  здорового образа жизни и гармонично развитого человека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При офтальмологическом обследовании воспитанников с целью определения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 группы физической подготовки:</a:t>
            </a:r>
            <a:br>
              <a:rPr sz="2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строту зрения монокулярно и бинокулярно без коррекции и с оптимальн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ефракцию (в пограничных случаях в условиях атропиновой циклоплегии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бинокулярного зрения с помощью цвето-тес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защитного аппарата, сред и глазного д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оказаниях проводят дополнительные исследования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ле зрения, биомикроскопию, ультразвуковую биометрию, КЧСМ, тонометр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06:38Z</dcterms:created>
  <dc:creator>Дмитрий</dc:creator>
  <dc:description/>
  <dc:language>en-US</dc:language>
  <cp:lastModifiedBy>GEG</cp:lastModifiedBy>
  <dcterms:modified xsi:type="dcterms:W3CDTF">2010-11-18T07:35:54Z</dcterms:modified>
  <cp:revision>144</cp:revision>
  <dc:subject/>
  <dc:title>   ОЗДОРОВИТЕЛЬНАЯ ФИЗИЧЕСКАЯ КУЛЬТУРА В  ДОШКОЛЬНЫХ  ОБРАЗОВАТЕЛЬНЫХ УЧРЕЖДЕНИЯХ РАЗНОГО ВИДА      13.00.04. – Теория и методика физического воспитания, спортивной тренировки, оздоровительной и адаптивной физической культуры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00000000000010250300207f7000400038000</vt:lpwstr>
  </property>
</Properties>
</file>