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8A0E-429A-4BA0-A89F-CA0A68977C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941-15BA-485A-ADC4-8A2840A30F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7A93-01F4-4798-B910-B7C5CD934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222-945E-4021-A361-134110E042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AB47-B704-49F1-9CD8-869A9B0778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5DD0-87AD-40A5-A0B5-ACED13ADEA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0B2D-15F9-43C3-9B15-6701E1D581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20AA-7324-4BE9-8ABB-EA82E09D1C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D2C9-746B-4CF0-B3FB-CF8E92BC64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D85-815D-4B2C-9E03-3464CD6830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450A-E4B5-49CD-B1AB-275AE0DBCD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CF8E-4DFB-4E0C-92C4-0AAE19FC3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A363-72E7-4B96-A3B8-FE9E2A627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45EE-EF56-4FE0-A3CB-81D3B0269A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F1DF-143E-4220-A6E4-D52D7291E6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1204-A798-49CA-81B7-CA9FDB4ED2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B8B-5EB1-4E2F-AD19-A6FDB913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6D2-C151-4EC6-89CE-FA9F2951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D76-73A8-41A2-9294-7F897D82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1BA-F03C-485F-B42E-8936AD1B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863A-1DFF-4407-8436-F689578B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6B70-8FF9-47DE-AB18-399BBA4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409E-0100-4D2A-A5F9-20DD5F90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6F4-F9E2-4964-BEC6-7711C81A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8CAA-75AD-4E92-8481-864743B9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F1B9-45D8-4E9E-ABAC-CE35CA94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39B7-59B7-487D-BD95-4A60307A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035-485E-4721-8646-93CF205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FCFC-3D01-46B9-BCE5-BC956453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CA57-06A1-4FD4-87B7-63E3BE07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F11F-DACE-4F4D-AEB9-131048F7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8AE9-1757-42EB-9E99-851A438E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E36A-2353-40CA-9BBD-8A303EF5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444F-D2E6-497C-AA93-89537D2F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975E-C5DE-4E73-A9F6-A5C9FE02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99CA-F69A-4BD5-8DCF-EBE14D08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439B-D571-40DD-8943-3ACFEEE4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9FB7-C53A-44E4-B752-478DF3FB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444-38D2-4D17-942D-B71DDE2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845F-414C-4024-B370-DC4F0C17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4B0B-C0BE-48AB-A040-F1A6E1F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B3EB-DAE8-4EA2-8E29-F5AD80B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39C43-5AE1-4AE4-A58D-206BC650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F0013-F8FC-4531-9D1D-69FDD39E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BBD4-92AB-44BB-A4E2-AF56E600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6DB2-038D-4420-A887-6A079B65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59C2-3CEB-4F40-B2A9-7A31DB9A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D0CC1-E9BE-48D2-9FCB-6E9A1C2B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405F-29DD-408B-92AD-DF0125B6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36B-5DC2-4900-946C-76D575BD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511F4-BCB3-4671-84C2-DE4F2CFF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F84C2-11B5-4A03-83C5-81F7C0FC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14BD-5154-45D3-939A-933249BE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EE56-BCD0-485D-B089-FC62ED1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58BF-68A3-4BB0-91F9-120F7ED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1CE2-A65D-45B9-AAC0-1EB6EE1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390A-BA6E-4F27-A2C8-42E9D0DF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2D94-7A24-4082-9843-34C6C3F2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F2F4-C198-49F0-9864-C983DCF5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02EA-1BE5-49A5-86E6-903DC929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3E0-674C-4A1F-915B-3BC448A5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21E8B-D9E4-4770-859C-4DE5E08D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4002A-F9F9-44B5-A356-7CFF4EAB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853B-57EE-4AED-BB68-A8F871A3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2E18-8CD9-4867-9500-1FA5D16E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96591-03C6-4B4A-8883-A3D5A947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4FE30-D124-4D7D-808E-2BD45FEE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0A781-3676-456A-A41A-59AFF9F2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EBA7D-5C6D-4A26-B318-29C93073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16CA0-5BC0-43D4-BBB0-971C589E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79E63-E851-4A61-91B4-E3ED401C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5D9-4A96-4F0C-992B-3AAF214A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E01DF-87AF-4C8E-A30A-033D6B1C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83F52-48C4-403A-8373-7154C2AC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B553-C960-4E60-9130-93A40269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6921B-4715-4179-AA86-18B0E774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7D44F-7FE5-46DE-860B-798B0DE5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899CF-2044-4ABB-8249-C166DEA8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CC66-2214-48EE-A5DA-66C566D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0AF9-B5B6-4ABD-88D2-D6F0903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F543B-9B21-417F-BAD4-F5447963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EEEB8-73EB-492A-9998-A69A72A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652-65BD-468A-8820-D81247D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58B59-3344-4D75-8E18-7EE1FE2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C8DB-BC6B-40CF-B403-D1DB6CFB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7DDF2-1A4E-489F-A036-A5133A87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6126E-2B83-4023-A4FB-AE6F4485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F3DDD-12AD-4D30-B5AB-14CAFD0F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9E53A-254A-46BD-9E41-674C7D60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177DA-943E-412C-ABFF-D40E4409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2C22F-2CC6-454A-85D5-2E9D5A9E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F8D88-AB9C-45F4-B27D-C9B3828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81E6B-24B1-4D4D-B47E-C2976FE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2C3-3B21-46F9-B5DE-EA734A3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E0A9F-D98E-4098-A015-5D90BB0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2D41B-3A41-4A4C-90F0-BE11B8C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EA06-5592-4FBE-98DF-6D4EC93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75A8C-4C5E-4506-B741-1F02CCA9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E4E9F-BF42-4FC4-B577-C141E697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A238-18E0-4B74-BBA8-9899ED01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4D3CB-E044-4464-BCF0-F1CC8BF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AFF0-E685-443D-A966-C07F3DC5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DB181-712A-4AEE-B4FB-2DCCA3A2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F4A7E-0CEE-4728-BBEA-745D60B9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C7F-217F-4337-A4BA-2205CDA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A645-2C89-4CE7-94FD-63107C93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32F7B-4048-4F67-B842-6E87727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9621-F285-431D-9E08-E865461F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64EDC-83EC-42B3-BF5E-720C08F9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C2158-97C3-4027-A348-FC0E8918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BF685-4EEB-4E3A-85BD-7AC879A0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18A08-7B76-4216-922A-01232DD6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7899-66B5-4251-B3AA-B552EE147F8C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63D9-AAA2-46AB-A874-B074F9D0CDF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EDD4-B7DF-4A9F-9857-A69570C4AB54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B658-2C33-4ABB-BDC3-D62ECA41A59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6308-90FD-4EDA-A370-8DB7F8B293FF}" type="datetime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96A6-54D0-42C4-A96D-C704A38AEECF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4E85-8A1A-4A17-9291-780600FE5965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8952-8D09-4848-99A3-12372A3C97D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8BF8-0C77-49C4-B553-C84885A21C43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F033-1023-4AD6-8957-C47E71A3922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A415-71C0-43AD-BCD3-1194F517645E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0DEE-4709-4BEB-BC72-02AFA4AB9D5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D2FF-A5C9-4138-A137-F251BB197266}" type="datetime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D58B-F7F3-42B9-8B99-541F0C0D1DBF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5ED4-2058-4DB9-8972-9DAAD9C0BF14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A37D-04E3-4F08-9158-DD3B0D6DE64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27.png"/><Relationship Id="rId7" Type="http://schemas.openxmlformats.org/officeDocument/2006/relationships/image" Target="../media/image32.png"/><Relationship Id="rId8" Type="http://schemas.openxmlformats.org/officeDocument/2006/relationships/image" Target="../media/image24.png"/><Relationship Id="rId9" Type="http://schemas.openxmlformats.org/officeDocument/2006/relationships/image" Target="../media/image23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Общие сведения о сечениях и разрезах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Arial"/>
                <a:ea typeface="Arial"/>
              </a:rPr>
              <a:t>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77CF-DCC2-4CEA-BF7C-B096E85AD78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0" y="115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4"/>
          <p:cNvSpPr/>
          <p:nvPr/>
        </p:nvSpPr>
        <p:spPr>
          <a:xfrm>
            <a:off x="468360" y="134136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изображение фигуры, получающейся при мысленном рассечении предмета плоск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чении показываю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лько т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получ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екущей плос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. 188. Чертеж с сечением"/>
          <p:cNvPicPr/>
          <p:nvPr/>
        </p:nvPicPr>
        <p:blipFill>
          <a:blip r:embed="rId1"/>
          <a:stretch/>
        </p:blipFill>
        <p:spPr>
          <a:xfrm>
            <a:off x="2093760" y="3141720"/>
            <a:ext cx="4810320" cy="3171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СЕЧЕ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08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0968-36F6-4B25-AB41-D5BCAFB9254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ИДЕЯ ОБРАЗОВАНИЯ РАЗРЕЗА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2619360" cy="2438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5" descr=""/>
          <p:cNvPicPr/>
          <p:nvPr/>
        </p:nvPicPr>
        <p:blipFill>
          <a:blip r:embed="rId2"/>
          <a:stretch/>
        </p:blipFill>
        <p:spPr>
          <a:xfrm>
            <a:off x="642960" y="2143080"/>
            <a:ext cx="2330280" cy="2808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3429000" y="2143080"/>
            <a:ext cx="2495520" cy="2857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"/>
          <p:cNvPicPr/>
          <p:nvPr/>
        </p:nvPicPr>
        <p:blipFill>
          <a:blip r:embed="rId4"/>
          <a:stretch/>
        </p:blipFill>
        <p:spPr>
          <a:xfrm>
            <a:off x="6357960" y="2428920"/>
            <a:ext cx="2314440" cy="2343240"/>
          </a:xfrm>
          <a:prstGeom prst="rect">
            <a:avLst/>
          </a:prstGeom>
          <a:ln w="0">
            <a:noFill/>
          </a:ln>
        </p:spPr>
      </p:pic>
      <p:sp>
        <p:nvSpPr>
          <p:cNvPr id="415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C0A-9340-4F00-A17A-161A0C9302B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РАЗРЕЗ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3346200" cy="2571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5214960" y="1370160"/>
            <a:ext cx="2708280" cy="3887640"/>
          </a:xfrm>
          <a:prstGeom prst="rect">
            <a:avLst/>
          </a:prstGeom>
          <a:ln w="0">
            <a:noFill/>
          </a:ln>
        </p:spPr>
      </p:pic>
      <p:sp>
        <p:nvSpPr>
          <p:cNvPr id="420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AA2E-2AE1-42EE-AE7F-1E0D616DF29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609480" y="119700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е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зображение предмета, мысленно рассеченной одной или несколькими плоск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разрезе показывают то, что получа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секущей плоск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о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расположено за 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ажно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рез располагают на месте соответствующего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РАЗРЕЗ</a:t>
            </a: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24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7A6-B96F-46C8-992A-65691E1FBEE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F:\иНТЕРНЕТ РЕСУРСЫ Тангаева, Зыктина\image261.jpg"/>
          <p:cNvPicPr/>
          <p:nvPr/>
        </p:nvPicPr>
        <p:blipFill>
          <a:blip r:embed="rId1"/>
          <a:stretch/>
        </p:blipFill>
        <p:spPr>
          <a:xfrm>
            <a:off x="900000" y="1260360"/>
            <a:ext cx="7056720" cy="49881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Arial"/>
              </a:rPr>
              <a:t>ДЛЯ ЧЕГО И КАК ШТРИХУЮТ ФИГУРЫ СЕЧЕНИЯ?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69F0-CEB8-429D-B512-F8BDC3A6717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928960" y="1357200"/>
            <a:ext cx="1243080" cy="714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2928960" y="2286000"/>
            <a:ext cx="1214280" cy="6872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3"/>
          <a:stretch/>
        </p:blipFill>
        <p:spPr>
          <a:xfrm>
            <a:off x="2928960" y="3214800"/>
            <a:ext cx="1214280" cy="728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4"/>
          <a:stretch/>
        </p:blipFill>
        <p:spPr>
          <a:xfrm>
            <a:off x="2928960" y="4143240"/>
            <a:ext cx="1214280" cy="695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"/>
          <p:cNvPicPr/>
          <p:nvPr/>
        </p:nvPicPr>
        <p:blipFill>
          <a:blip r:embed="rId5"/>
          <a:stretch/>
        </p:blipFill>
        <p:spPr>
          <a:xfrm>
            <a:off x="2928960" y="5072040"/>
            <a:ext cx="1236600" cy="714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"/>
          <p:cNvPicPr/>
          <p:nvPr/>
        </p:nvPicPr>
        <p:blipFill>
          <a:blip r:embed="rId6"/>
          <a:stretch/>
        </p:blipFill>
        <p:spPr>
          <a:xfrm>
            <a:off x="4643280" y="1357200"/>
            <a:ext cx="1239840" cy="7146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"/>
          <p:cNvPicPr/>
          <p:nvPr/>
        </p:nvPicPr>
        <p:blipFill>
          <a:blip r:embed="rId7"/>
          <a:stretch/>
        </p:blipFill>
        <p:spPr>
          <a:xfrm>
            <a:off x="4643280" y="2286000"/>
            <a:ext cx="1214640" cy="744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"/>
          <p:cNvPicPr/>
          <p:nvPr/>
        </p:nvPicPr>
        <p:blipFill>
          <a:blip r:embed="rId8"/>
          <a:stretch/>
        </p:blipFill>
        <p:spPr>
          <a:xfrm>
            <a:off x="4643280" y="3214800"/>
            <a:ext cx="1214640" cy="693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"/>
          <p:cNvPicPr/>
          <p:nvPr/>
        </p:nvPicPr>
        <p:blipFill>
          <a:blip r:embed="rId9"/>
          <a:stretch/>
        </p:blipFill>
        <p:spPr>
          <a:xfrm>
            <a:off x="4643280" y="5072040"/>
            <a:ext cx="1214640" cy="728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3" descr=""/>
          <p:cNvPicPr/>
          <p:nvPr/>
        </p:nvPicPr>
        <p:blipFill>
          <a:blip r:embed="rId10"/>
          <a:stretch/>
        </p:blipFill>
        <p:spPr>
          <a:xfrm>
            <a:off x="4643280" y="41432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3"/>
          <p:cNvSpPr/>
          <p:nvPr/>
        </p:nvSpPr>
        <p:spPr>
          <a:xfrm>
            <a:off x="214200" y="1357200"/>
            <a:ext cx="250056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ы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таллы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ь  естественный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амика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тон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4"/>
          <p:cNvSpPr/>
          <p:nvPr/>
        </p:nvSpPr>
        <p:spPr>
          <a:xfrm>
            <a:off x="6072120" y="1285920"/>
            <a:ext cx="285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          Стек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         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        Гру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          Пес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       Дере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ИЗОБРАЖЕНИЕ МАТЕРИАЛОВ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94C8-EB9B-4BB5-AAEB-5D0C41DFA71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2643120" y="28584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"/>
          <p:cNvSpPr/>
          <p:nvPr/>
        </p:nvSpPr>
        <p:spPr>
          <a:xfrm>
            <a:off x="500040" y="1071720"/>
            <a:ext cx="8143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расс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одошли к зданию Дома творчества, который построен из та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ельных материалов, как                      ,                    ,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овсем недавно строители снимали здесь            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или  для фундамента                   , теперь убирают мус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ользованный  материал                    ,                    ,                    .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ке перед дворцом – фонтан, уже заполненный                   . Ско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Дома творчества.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4214880" y="2071800"/>
            <a:ext cx="833400" cy="500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"/>
          <p:cNvPicPr/>
          <p:nvPr/>
        </p:nvPicPr>
        <p:blipFill>
          <a:blip r:embed="rId2"/>
          <a:stretch/>
        </p:blipFill>
        <p:spPr>
          <a:xfrm>
            <a:off x="5500800" y="2071800"/>
            <a:ext cx="873000" cy="5000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"/>
          <p:cNvPicPr/>
          <p:nvPr/>
        </p:nvPicPr>
        <p:blipFill>
          <a:blip r:embed="rId3"/>
          <a:stretch/>
        </p:blipFill>
        <p:spPr>
          <a:xfrm>
            <a:off x="6786720" y="2071800"/>
            <a:ext cx="857160" cy="514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4"/>
          <a:stretch/>
        </p:blipFill>
        <p:spPr>
          <a:xfrm>
            <a:off x="642960" y="2643120"/>
            <a:ext cx="868320" cy="500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5"/>
          <a:stretch/>
        </p:blipFill>
        <p:spPr>
          <a:xfrm>
            <a:off x="6715080" y="2714760"/>
            <a:ext cx="874800" cy="500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3357720" y="3429000"/>
            <a:ext cx="865080" cy="500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3" descr=""/>
          <p:cNvPicPr/>
          <p:nvPr/>
        </p:nvPicPr>
        <p:blipFill>
          <a:blip r:embed="rId7"/>
          <a:stretch/>
        </p:blipFill>
        <p:spPr>
          <a:xfrm>
            <a:off x="3929040" y="4071960"/>
            <a:ext cx="857160" cy="507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8"/>
          <a:stretch/>
        </p:blipFill>
        <p:spPr>
          <a:xfrm>
            <a:off x="5143680" y="4071960"/>
            <a:ext cx="882360" cy="500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9"/>
          <a:stretch/>
        </p:blipFill>
        <p:spPr>
          <a:xfrm>
            <a:off x="6572160" y="4071960"/>
            <a:ext cx="870120" cy="500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"/>
          <p:cNvPicPr/>
          <p:nvPr/>
        </p:nvPicPr>
        <p:blipFill>
          <a:blip r:embed="rId10"/>
          <a:stretch/>
        </p:blipFill>
        <p:spPr>
          <a:xfrm>
            <a:off x="6572160" y="4643280"/>
            <a:ext cx="857520" cy="525600"/>
          </a:xfrm>
          <a:prstGeom prst="rect">
            <a:avLst/>
          </a:prstGeom>
          <a:ln w="0">
            <a:noFill/>
          </a:ln>
        </p:spPr>
      </p:pic>
      <p:sp>
        <p:nvSpPr>
          <p:cNvPr id="45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927B-3941-468D-9579-0624386D552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60" name="Picture 5" descr="Рис. 189. Штриховка сечений (для металлов и твердых сплавов)"/>
          <p:cNvPicPr/>
          <p:nvPr/>
        </p:nvPicPr>
        <p:blipFill>
          <a:blip r:embed="rId1"/>
          <a:stretch/>
        </p:blipFill>
        <p:spPr>
          <a:xfrm>
            <a:off x="3276720" y="1557360"/>
            <a:ext cx="5202000" cy="37688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"/>
          <p:cNvSpPr/>
          <p:nvPr/>
        </p:nvSpPr>
        <p:spPr>
          <a:xfrm>
            <a:off x="468360" y="1413000"/>
            <a:ext cx="266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нанесение штриховки на плоскость размером 70 х 50 и 50 х 85. Между линиями штриховки расстояние  2 мм и 1 мм соответственно. Наклон 45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8351-D200-4D36-983D-DBA31F153EE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65" name="TextBox 2"/>
          <p:cNvSpPr/>
          <p:nvPr/>
        </p:nvSpPr>
        <p:spPr>
          <a:xfrm>
            <a:off x="539640" y="1413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ик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ая тетр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5813-08EB-4787-89EB-3D0852B5E0E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3199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ПРИМЕРЫ ИСПОЛЬЗОВАНИЯ ИЗОБРАЖЕНИЙ, РАСКРЫВАЮЩИХ ВНУТРЕННЕЕ СТРОЕ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87280" y="2421000"/>
            <a:ext cx="671544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ашиностроения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естествознания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5E3D-809D-447F-86DC-577C8997111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3199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ПРИМЕРЫ ИСПОЛЬЗОВАНИЯ ИЗОБРАЖЕНИЙ, РАСКРЫВАЮЩИХ ВНУТРЕННЕЕ СТРОЕ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87280" y="2421000"/>
            <a:ext cx="671544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ашиностроения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естествознания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7B17-22F8-4387-968E-FDB788566F47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В ОБЛАСТИ МЕДИЦИНЫ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6300720" y="1617840"/>
            <a:ext cx="2357640" cy="2454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3" name="Picture 2" descr="F:\иНТЕРНЕТ РЕСУРСЫ Тангаева, Зыктина\713245337.jpg"/>
          <p:cNvPicPr/>
          <p:nvPr/>
        </p:nvPicPr>
        <p:blipFill>
          <a:blip r:embed="rId2"/>
          <a:stretch/>
        </p:blipFill>
        <p:spPr>
          <a:xfrm>
            <a:off x="3059280" y="3357720"/>
            <a:ext cx="2714400" cy="284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4" name="Picture 2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00200" cy="2440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75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9D6A-3228-4257-BDC6-FE58DDA5A0E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1071720" y="1628640"/>
            <a:ext cx="2949480" cy="191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8" name="Picture 6" descr=""/>
          <p:cNvPicPr/>
          <p:nvPr/>
        </p:nvPicPr>
        <p:blipFill>
          <a:blip r:embed="rId2"/>
          <a:stretch/>
        </p:blipFill>
        <p:spPr>
          <a:xfrm>
            <a:off x="6199200" y="1487520"/>
            <a:ext cx="17193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9" name="Picture 3" descr=""/>
          <p:cNvPicPr/>
          <p:nvPr/>
        </p:nvPicPr>
        <p:blipFill>
          <a:blip r:embed="rId3"/>
          <a:srcRect l="2372" t="0" r="0" b="0"/>
          <a:stretch/>
        </p:blipFill>
        <p:spPr>
          <a:xfrm>
            <a:off x="1071720" y="3857760"/>
            <a:ext cx="2947680" cy="148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0" name="Picture 3" descr=""/>
          <p:cNvPicPr/>
          <p:nvPr/>
        </p:nvPicPr>
        <p:blipFill>
          <a:blip r:embed="rId4"/>
          <a:stretch/>
        </p:blipFill>
        <p:spPr>
          <a:xfrm>
            <a:off x="5364000" y="3857760"/>
            <a:ext cx="2554560" cy="1571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В ОБЛАСТИ БИОЛОГИИ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9D74-AA01-4A6E-85DA-A1E8F40FEA2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3254400" y="1986120"/>
            <a:ext cx="2548080" cy="248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95280" y="1986120"/>
            <a:ext cx="1940040" cy="3135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6516720" y="1986120"/>
            <a:ext cx="2000160" cy="315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Arial"/>
              </a:rPr>
              <a:t>В ОБЛАСТИ МАШИНОСТРОЕНИЯ И ТЕХНОЛОГИИ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88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5EA5-3BEF-4713-874A-431C0D12299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F:\иНТЕРНЕТ РЕСУРСЫ Тангаева, Зыктина\8321.jpg"/>
          <p:cNvPicPr/>
          <p:nvPr/>
        </p:nvPicPr>
        <p:blipFill>
          <a:blip r:embed="rId1"/>
          <a:stretch/>
        </p:blipFill>
        <p:spPr>
          <a:xfrm>
            <a:off x="5276880" y="2409840"/>
            <a:ext cx="3357360" cy="273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91" name="Picture 3" descr="F:\иНТЕРНЕТ РЕСУРСЫ Тангаева, Зыктина\Stratovolcano-drawing.jpg"/>
          <p:cNvPicPr/>
          <p:nvPr/>
        </p:nvPicPr>
        <p:blipFill>
          <a:blip r:embed="rId2"/>
          <a:stretch/>
        </p:blipFill>
        <p:spPr>
          <a:xfrm>
            <a:off x="395280" y="2421000"/>
            <a:ext cx="3976560" cy="2714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Arial"/>
              </a:rPr>
              <a:t>В ОБЛАСТИ ЕСТЕСТВОЗНАНИЯ И КУЛЬТУРЫ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93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74E7-57D5-4AC0-8DCE-AE276CC3F62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500040" y="2928960"/>
          <a:ext cx="8215200" cy="2822400"/>
        </p:xfrm>
        <a:graphic>
          <a:graphicData uri="http://schemas.openxmlformats.org/drawingml/2006/table">
            <a:tbl>
              <a:tblPr/>
              <a:tblGrid>
                <a:gridCol w="500040"/>
                <a:gridCol w="4977000"/>
                <a:gridCol w="2738160"/>
              </a:tblGrid>
              <a:tr h="114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ера  профессиональной деятельности, а также жизни и быта человека, где используются теоретические и практические знания о сече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55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</a:tr>
            </a:tbl>
          </a:graphicData>
        </a:graphic>
      </p:graphicFrame>
      <p:sp>
        <p:nvSpPr>
          <p:cNvPr id="396" name="TextBox 5"/>
          <p:cNvSpPr/>
          <p:nvPr/>
        </p:nvSpPr>
        <p:spPr>
          <a:xfrm>
            <a:off x="785880" y="128592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аналогичные примеры использования изображений, раскрывающих внутреннее строение и подробности форм различ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УПРАЖНЕНИЕ № 1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98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B08E-8F68-4AB4-94A1-2C214A3D7FA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ИДЕЯ ОБРАЗОВАНИЯ СЕЧЕНИЯ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1"/>
          <a:srcRect l="68659" t="0" r="18225" b="76584"/>
          <a:stretch/>
        </p:blipFill>
        <p:spPr>
          <a:xfrm rot="1771800">
            <a:off x="7031160" y="4049280"/>
            <a:ext cx="642960" cy="579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Рис. 187. Выявление формы предмета с помощью секущих плоскостей"/>
          <p:cNvPicPr/>
          <p:nvPr/>
        </p:nvPicPr>
        <p:blipFill>
          <a:blip r:embed="rId2"/>
          <a:stretch/>
        </p:blipFill>
        <p:spPr>
          <a:xfrm>
            <a:off x="900000" y="1476360"/>
            <a:ext cx="6875640" cy="4554720"/>
          </a:xfrm>
          <a:prstGeom prst="rect">
            <a:avLst/>
          </a:prstGeom>
          <a:ln w="0">
            <a:noFill/>
          </a:ln>
        </p:spPr>
      </p:pic>
      <p:sp>
        <p:nvSpPr>
          <p:cNvPr id="403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83A5-2628-4088-AA6B-DC02CAB4A12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2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2:45:37Z</dcterms:created>
  <dc:creator/>
  <dc:description/>
  <dc:language>en-US</dc:language>
  <cp:lastModifiedBy>user</cp:lastModifiedBy>
  <dcterms:modified xsi:type="dcterms:W3CDTF">2013-09-08T13:37:45Z</dcterms:modified>
  <cp:revision>78</cp:revision>
  <dc:subject/>
  <dc:title>Слайд 1</dc:title>
</cp:coreProperties>
</file>