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E30-F02E-4E38-AF64-053AF95DA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7AF-38E5-4C6A-9724-CBC256E62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ECB-0A9D-4882-95F8-C3FA989D7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37D-8619-4101-BA7B-CF12C2943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84C-6736-4022-B0E8-FAC91EFF82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2FA-19DC-412A-BBE7-C33A079CD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15C-5A1C-482A-A48D-6785BDF1D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3DD-0968-4B70-A576-C3DB088C3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633-DE79-4B3A-A4C5-21574B2F8F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6AE-1C88-4E1C-96A0-09BA92B10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5781-7945-4C62-BCF4-EB60AF6280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9355-62BF-4FC9-9622-8D0EE07D8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4EF-9E65-47CF-ACD0-215C0DF5B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D6E-DAD8-4C32-BF3B-3E16E2425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49B-B4B4-4B77-8FAC-D58B8FB74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3E8-E335-406B-B1A9-1803B0EDFA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658-97CA-4B11-962A-D7894457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138-FABE-496C-9F89-4B80B88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C65-36A2-4F5B-8E8F-9931D47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07E-F8C5-4FA2-9EBC-80DA7515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DC39-423C-424D-B3B1-1ABB3084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0C47-B772-40C2-A0B4-4561333A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1367-CB95-4F2D-A7A5-926AA93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2DB1-3E83-4361-95A5-C52A30EB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E96-1E55-4C1B-8697-C23B94A5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9E93-87DB-43A9-A45E-CB484C8E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E31C-2674-4531-B8C9-ECE9071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AFE-BDB0-4E8F-8A1E-72295C4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4E2-58A9-4B00-9389-DA98761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CB5-7109-447B-9C8A-3B3DC19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D0B-A8C8-4EBB-A317-80B1649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88F3-0B7B-4DEA-8B7B-3C5C05D0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EB7-86F1-4C52-9D32-4D1022C9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1EA9-AE43-4D92-BAAD-1BEE540F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4350-EE24-40AB-84DE-D48B4C9E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3737-1410-424B-BDD6-D8B4107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2109-BAE2-4AEA-9616-3C4E2E6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FA26-84A5-4935-A5F9-9D5F999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6F2-5EB9-4C7F-B463-20E77BC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87F8-5BE1-4253-B442-DE31A11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D491-6876-4222-BA7A-01F31EA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F5A7-4432-4131-A8B5-9379CF3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4586-8B6F-42E6-9AB2-E648402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78D5-F781-4DDE-8326-B5685AF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BC54-28D3-48A8-8B3B-EEC8AEB5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224E-4566-44EF-8F38-04DB61CD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2B43-9ACF-431D-9201-59F644F3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CB32-2836-4D37-9169-0578A17B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D2FF-0ACE-4CCA-A4F2-D6D0F7E4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173-4010-4593-9E77-30804316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612E-D830-4297-8337-3E1FE92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F3FC-7EFB-48F9-8708-A073E39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E88D-F983-4B2D-AE91-337B567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3A2D-5034-40EA-83E3-31A5363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6FE03-62C2-49A0-A50D-67F0575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685A-8504-4CE4-ABC7-884B5FA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1C80-201C-4B82-8612-274EDB3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75E7-67FF-4FDE-9D23-4F266B44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90DA-368A-446E-AB2C-1F1B8F91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914A-E687-4124-9BC0-89149085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2FE-0853-4D41-873A-8CF9E433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4A8B-06DB-438C-80DD-19E247D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488E-BE51-41B8-8B64-47418254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59CA-75F3-4AC7-940A-15871A3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02BB-70AE-44DC-AF76-9E34D4B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838C-2004-469B-96E6-364AC1D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242A-68F3-41B2-A78B-63E62AB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EE0C6-847A-430F-B269-8B2BD3E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9974-A140-4308-820A-59FD2EA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DDC5-A42E-4402-9713-794EADF7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7B11-489C-46A8-B906-F158470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3AC-346D-461C-8FD8-D168D74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1D24-1BA5-4238-8890-3A61A689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92CC-AB94-4A1C-9D1A-52F6CA67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E578-05E1-4828-A9F8-90C55FC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CB45-DF13-4316-B748-0C84A375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3F2F-4A53-4EED-8EFC-A2221F9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CE46-E13B-489E-B3D6-D2D14D5B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CC1B-0D04-401F-9ED3-6407853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A5B3-56D7-4BE0-B534-9798BD5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14D5-47C8-48AF-9B2E-F695A09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25DC-457E-4ED4-AC05-C85919B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6B4-0BA0-43B7-98D2-872871F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3471-0C36-418C-B4C8-230206A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0BFD-C792-4799-873B-9E7C30E3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37DF-A823-41C7-BD76-A82E8FA0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C51A5-15E3-4393-940F-97AAC17D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AAB2B-7ACC-4DC5-82BA-14854C6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6A119-B790-47F3-903F-0EEC7D9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BADF-7ECE-4076-A37E-5A4BDA2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2C5E-BAA2-4AD7-B583-46BEA80A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35D7-C118-47DF-A6DB-A5B8B89B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1EDB-0B12-4C2D-B02F-D587F24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D17-C34D-4B2D-AD39-CA0BFC9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ED66A-3C14-4B5B-9AE6-F64115D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DD38-D821-41A5-BC78-5F2FD87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FCF2-A002-4BB1-89E9-8E429E8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8D115-3B45-4DC6-B2F3-60435355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A559-F0DC-4D3F-9F15-05DCB600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93FF-F4A7-41A0-9DE8-05B06C1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B58B-52F8-472D-AD6C-8E9F797F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20BC2-0C72-4918-944B-426EBB8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4E684-BB5B-4BD4-A69C-FE6680F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E4577-298C-4951-AAC2-EB74A6DE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EAF-829F-4AFB-A25C-F3D0A78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9D1D7-3C16-44D3-817D-5B0D0BF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8B68E-FB04-4A1D-B3F8-114CF55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1447-3F56-4A38-9142-8F1D371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4FD6-7ACE-4733-BF13-F39C84A5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CB7FE-5EF4-45D2-91A8-8D46FCFD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F1DB-704F-4BB0-910E-966567BD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513A-B8C6-4963-99F0-1B184D5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CE1-2443-490F-AFEC-5151900833B8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CD18-62FF-4C06-A88B-9EEBDF19611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C12C-EF7F-4F41-A584-0EA41908D3A8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53F6-99F5-49CB-8359-A2B863A21D0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B84-F5DC-4992-A028-63DA1156F281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9EB-BFA9-409E-BD6B-E6297A2563B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965B-CE8E-4AFF-9138-0651A08CDAAF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C9C-CA68-444F-BD71-7D982C12CFB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64B4-522C-4951-A182-76F056077E99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3D8-46DE-4FC5-86B7-2090728EBDD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F9C-43FD-4C29-A1E0-9C500D599FB5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29A-A7F1-40CE-9856-581023DC2D8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D08-8819-47DD-B7E3-C86E91C6C8B0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E40-C503-4185-94CE-9C9C6F15D055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2826-2816-4A71-A863-5F6909C11803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0A7-85B4-4464-B7F3-593A4DBFC7B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27.png"/><Relationship Id="rId7" Type="http://schemas.openxmlformats.org/officeDocument/2006/relationships/image" Target="../media/image32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Общие сведения о сечениях и разрезах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Arial"/>
                <a:ea typeface="Arial"/>
              </a:rPr>
              <a:t>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F55D-B1E3-4F0E-95D2-51EBB2BA234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0" y="115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468360" y="134136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изображение фигуры, получающейся при мысленном рассечении предмета плоск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чении пок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получ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екущей плос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. 188. Чертеж с сечением"/>
          <p:cNvPicPr/>
          <p:nvPr/>
        </p:nvPicPr>
        <p:blipFill>
          <a:blip r:embed="rId1"/>
          <a:stretch/>
        </p:blipFill>
        <p:spPr>
          <a:xfrm>
            <a:off x="2093760" y="3141720"/>
            <a:ext cx="4810320" cy="3171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СЕЧ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3AE4-5F6B-4663-ADA7-4AC7E525128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РАЗРЕЗ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619360" cy="2438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5" descr=""/>
          <p:cNvPicPr/>
          <p:nvPr/>
        </p:nvPicPr>
        <p:blipFill>
          <a:blip r:embed="rId2"/>
          <a:stretch/>
        </p:blipFill>
        <p:spPr>
          <a:xfrm>
            <a:off x="642960" y="2143080"/>
            <a:ext cx="2330280" cy="2808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3429000" y="2143080"/>
            <a:ext cx="2495520" cy="2857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4"/>
          <a:stretch/>
        </p:blipFill>
        <p:spPr>
          <a:xfrm>
            <a:off x="6357960" y="2428920"/>
            <a:ext cx="2314440" cy="234324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371-5DFE-4B3B-8D08-515BEC1632A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346200" cy="25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5214960" y="1370160"/>
            <a:ext cx="2708280" cy="3887640"/>
          </a:xfrm>
          <a:prstGeom prst="rect">
            <a:avLst/>
          </a:prstGeom>
          <a:ln w="0">
            <a:noFill/>
          </a:ln>
        </p:spPr>
      </p:pic>
      <p:sp>
        <p:nvSpPr>
          <p:cNvPr id="420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8F3-133F-4F42-A7F2-B473F013E50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609480" y="11970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ображение предмета, мысленно рассеченной одной или несколькими плоск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азрезе показывают то, что получ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екущей плос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расположено за 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ез располагают на месте соответствующе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33CD-4B12-4729-B37D-E3016209DBF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F:\иНТЕРНЕТ РЕСУРСЫ Тангаева, Зыктина\image261.jpg"/>
          <p:cNvPicPr/>
          <p:nvPr/>
        </p:nvPicPr>
        <p:blipFill>
          <a:blip r:embed="rId1"/>
          <a:stretch/>
        </p:blipFill>
        <p:spPr>
          <a:xfrm>
            <a:off x="900000" y="1260360"/>
            <a:ext cx="7056720" cy="49881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ДЛЯ ЧЕГО И КАК ШТРИХУЮТ ФИГУРЫ СЕЧЕНИЯ?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AB3-D16D-4311-9F96-05CB84FB71A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1243080" cy="714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1214280" cy="687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3"/>
          <a:stretch/>
        </p:blipFill>
        <p:spPr>
          <a:xfrm>
            <a:off x="2928960" y="3214800"/>
            <a:ext cx="1214280" cy="728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4"/>
          <a:stretch/>
        </p:blipFill>
        <p:spPr>
          <a:xfrm>
            <a:off x="2928960" y="4143240"/>
            <a:ext cx="1214280" cy="695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5"/>
          <a:stretch/>
        </p:blipFill>
        <p:spPr>
          <a:xfrm>
            <a:off x="2928960" y="5072040"/>
            <a:ext cx="1236600" cy="71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6"/>
          <a:stretch/>
        </p:blipFill>
        <p:spPr>
          <a:xfrm>
            <a:off x="4643280" y="1357200"/>
            <a:ext cx="1239840" cy="714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4643280" y="2286000"/>
            <a:ext cx="1214640" cy="744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"/>
          <p:cNvPicPr/>
          <p:nvPr/>
        </p:nvPicPr>
        <p:blipFill>
          <a:blip r:embed="rId8"/>
          <a:stretch/>
        </p:blipFill>
        <p:spPr>
          <a:xfrm>
            <a:off x="4643280" y="3214800"/>
            <a:ext cx="1214640" cy="693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9"/>
          <a:stretch/>
        </p:blipFill>
        <p:spPr>
          <a:xfrm>
            <a:off x="4643280" y="5072040"/>
            <a:ext cx="1214640" cy="728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"/>
          <p:cNvPicPr/>
          <p:nvPr/>
        </p:nvPicPr>
        <p:blipFill>
          <a:blip r:embed="rId10"/>
          <a:stretch/>
        </p:blipFill>
        <p:spPr>
          <a:xfrm>
            <a:off x="4643280" y="41432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14200" y="1357200"/>
            <a:ext cx="250056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ы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таллы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 естественный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амика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он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"/>
          <p:cNvSpPr/>
          <p:nvPr/>
        </p:nvSpPr>
        <p:spPr>
          <a:xfrm>
            <a:off x="6072120" y="1285920"/>
            <a:ext cx="285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          Стек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         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        Гру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          Пе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       Дер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ЗОБРАЖЕНИЕ МАТЕРИАЛОВ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D188-B086-48AE-BDC1-748D3B16F40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2643120" y="2858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500040" y="1071720"/>
            <a:ext cx="8143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расс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дошли к зданию Дома творчества, который построен из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ных материалов, как                      ,                    ,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всем недавно строители снимали здесь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или  для фундамента                   , теперь убирают мус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ользованный  материал                    ,                    ,                    .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ке перед дворцом – фонтан, уже заполненный                   . Ско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Дома творчества.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833400" cy="500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873000" cy="500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"/>
          <p:cNvPicPr/>
          <p:nvPr/>
        </p:nvPicPr>
        <p:blipFill>
          <a:blip r:embed="rId3"/>
          <a:stretch/>
        </p:blipFill>
        <p:spPr>
          <a:xfrm>
            <a:off x="6786720" y="2071800"/>
            <a:ext cx="857160" cy="514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4"/>
          <a:stretch/>
        </p:blipFill>
        <p:spPr>
          <a:xfrm>
            <a:off x="642960" y="2643120"/>
            <a:ext cx="868320" cy="500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5"/>
          <a:stretch/>
        </p:blipFill>
        <p:spPr>
          <a:xfrm>
            <a:off x="6715080" y="2714760"/>
            <a:ext cx="874800" cy="500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3357720" y="3429000"/>
            <a:ext cx="865080" cy="500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7"/>
          <a:stretch/>
        </p:blipFill>
        <p:spPr>
          <a:xfrm>
            <a:off x="3929040" y="4071960"/>
            <a:ext cx="857160" cy="507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8"/>
          <a:stretch/>
        </p:blipFill>
        <p:spPr>
          <a:xfrm>
            <a:off x="5143680" y="4071960"/>
            <a:ext cx="882360" cy="500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9"/>
          <a:stretch/>
        </p:blipFill>
        <p:spPr>
          <a:xfrm>
            <a:off x="6572160" y="4071960"/>
            <a:ext cx="870120" cy="500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"/>
          <p:cNvPicPr/>
          <p:nvPr/>
        </p:nvPicPr>
        <p:blipFill>
          <a:blip r:embed="rId10"/>
          <a:stretch/>
        </p:blipFill>
        <p:spPr>
          <a:xfrm>
            <a:off x="6572160" y="4643280"/>
            <a:ext cx="857520" cy="52560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C39-5AB3-4215-B14E-343F1B381AA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60" name="Picture 5" descr="Рис. 189. Штриховка сечений (для металлов и твердых сплавов)"/>
          <p:cNvPicPr/>
          <p:nvPr/>
        </p:nvPicPr>
        <p:blipFill>
          <a:blip r:embed="rId1"/>
          <a:stretch/>
        </p:blipFill>
        <p:spPr>
          <a:xfrm>
            <a:off x="3276720" y="1557360"/>
            <a:ext cx="5202000" cy="37688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"/>
          <p:cNvSpPr/>
          <p:nvPr/>
        </p:nvSpPr>
        <p:spPr>
          <a:xfrm>
            <a:off x="468360" y="1413000"/>
            <a:ext cx="266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нанесение штриховки на плоскость размером 70 х 50 и 50 х 85. Между линиями штриховки расстояние  2 мм и 1 мм соответственно. Наклон 45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337C-4DE6-4CB6-A484-7908F8194A9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539640" y="141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2711-22A9-487A-AC9D-9B7BE17D61D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6937-9FC8-4B7B-9D9D-1771632E4BE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327B-8133-4626-9AF4-E9088240FC4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МЕДИЦИНЫ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300720" y="1617840"/>
            <a:ext cx="2357640" cy="245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3" name="Picture 2" descr="F:\иНТЕРНЕТ РЕСУРСЫ Тангаева, Зыктина\713245337.jpg"/>
          <p:cNvPicPr/>
          <p:nvPr/>
        </p:nvPicPr>
        <p:blipFill>
          <a:blip r:embed="rId2"/>
          <a:stretch/>
        </p:blipFill>
        <p:spPr>
          <a:xfrm>
            <a:off x="3059280" y="3357720"/>
            <a:ext cx="2714400" cy="284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00200" cy="244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5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992B-AE20-455F-9812-C08D3D44B59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071720" y="1628640"/>
            <a:ext cx="2949480" cy="19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6199200" y="1487520"/>
            <a:ext cx="17193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9" name="Picture 3" descr=""/>
          <p:cNvPicPr/>
          <p:nvPr/>
        </p:nvPicPr>
        <p:blipFill>
          <a:blip r:embed="rId3"/>
          <a:srcRect l="2372" t="0" r="0" b="0"/>
          <a:stretch/>
        </p:blipFill>
        <p:spPr>
          <a:xfrm>
            <a:off x="1071720" y="3857760"/>
            <a:ext cx="2947680" cy="14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0" name="Picture 3" descr=""/>
          <p:cNvPicPr/>
          <p:nvPr/>
        </p:nvPicPr>
        <p:blipFill>
          <a:blip r:embed="rId4"/>
          <a:stretch/>
        </p:blipFill>
        <p:spPr>
          <a:xfrm>
            <a:off x="5364000" y="3857760"/>
            <a:ext cx="2554560" cy="1571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БИОЛОГИИ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76A-C458-4AF8-B420-45C7B2DC33D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254400" y="1986120"/>
            <a:ext cx="2548080" cy="248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95280" y="1986120"/>
            <a:ext cx="1940040" cy="313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516720" y="1986120"/>
            <a:ext cx="2000160" cy="315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МАШИНОСТРОЕНИЯ И ТЕХНОЛОГИИ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89D0-DCD3-4D56-847A-2490A2155C8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F:\иНТЕРНЕТ РЕСУРСЫ Тангаева, Зыктина\8321.jpg"/>
          <p:cNvPicPr/>
          <p:nvPr/>
        </p:nvPicPr>
        <p:blipFill>
          <a:blip r:embed="rId1"/>
          <a:stretch/>
        </p:blipFill>
        <p:spPr>
          <a:xfrm>
            <a:off x="5276880" y="2409840"/>
            <a:ext cx="3357360" cy="27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91" name="Picture 3" descr="F:\иНТЕРНЕТ РЕСУРСЫ Тангаева, Зыктина\Stratovolcano-drawing.jpg"/>
          <p:cNvPicPr/>
          <p:nvPr/>
        </p:nvPicPr>
        <p:blipFill>
          <a:blip r:embed="rId2"/>
          <a:stretch/>
        </p:blipFill>
        <p:spPr>
          <a:xfrm>
            <a:off x="395280" y="2421000"/>
            <a:ext cx="3976560" cy="27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ЕСТЕСТВОЗНАНИЯ И КУЛЬТУРЫ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CA5A-80F5-4159-A446-4A4970088D8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00040" y="2928960"/>
          <a:ext cx="8215200" cy="2822400"/>
        </p:xfrm>
        <a:graphic>
          <a:graphicData uri="http://schemas.openxmlformats.org/drawingml/2006/table">
            <a:tbl>
              <a:tblPr/>
              <a:tblGrid>
                <a:gridCol w="500040"/>
                <a:gridCol w="4977000"/>
                <a:gridCol w="2738160"/>
              </a:tblGrid>
              <a:tr h="114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 профессиональной деятельности, а также жизни и быта человека, где используются теоретические и практические знания о сече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</a:tbl>
          </a:graphicData>
        </a:graphic>
      </p:graphicFrame>
      <p:sp>
        <p:nvSpPr>
          <p:cNvPr id="396" name="TextBox 5"/>
          <p:cNvSpPr/>
          <p:nvPr/>
        </p:nvSpPr>
        <p:spPr>
          <a:xfrm>
            <a:off x="785880" y="12859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аналогичные примеры использования изображений, раскрывающих внутреннее строение и подробности форм различ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УПРАЖНЕНИЕ № 1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370-4DE0-4EE6-BD1B-E6C9E7F84F8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СЕЧЕНИЯ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rcRect l="68659" t="0" r="18225" b="76584"/>
          <a:stretch/>
        </p:blipFill>
        <p:spPr>
          <a:xfrm rot="1771800">
            <a:off x="7031160" y="4049280"/>
            <a:ext cx="642960" cy="579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Рис. 187. Выявление формы предмета с помощью секущих плоскостей"/>
          <p:cNvPicPr/>
          <p:nvPr/>
        </p:nvPicPr>
        <p:blipFill>
          <a:blip r:embed="rId2"/>
          <a:stretch/>
        </p:blipFill>
        <p:spPr>
          <a:xfrm>
            <a:off x="900000" y="1476360"/>
            <a:ext cx="6875640" cy="4554720"/>
          </a:xfrm>
          <a:prstGeom prst="rect">
            <a:avLst/>
          </a:prstGeom>
          <a:ln w="0">
            <a:noFill/>
          </a:ln>
        </p:spPr>
      </p:pic>
      <p:sp>
        <p:nvSpPr>
          <p:cNvPr id="40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03D-916A-4435-9F3F-7ED1ABD24A3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2:45:37Z</dcterms:created>
  <dc:creator/>
  <dc:description/>
  <dc:language>en-US</dc:language>
  <cp:lastModifiedBy>user</cp:lastModifiedBy>
  <dcterms:modified xsi:type="dcterms:W3CDTF">2013-09-08T13:37:45Z</dcterms:modified>
  <cp:revision>78</cp:revision>
  <dc:subject/>
  <dc:title>Слайд 1</dc:title>
</cp:coreProperties>
</file>