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6B0-7FCF-4740-8688-B170F076DB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AB1F-8712-47D6-9218-441BA6F718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C8B-944A-43DA-8610-D8ED14D82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AC7-8B8A-4296-99AF-4A80C27EB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4013-76D1-465A-BAAB-35CE952E92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AAB-E261-4D80-A5AD-78F441A4D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ACBE-3479-4099-8047-371B000D3A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621-BA6D-4027-9452-05FFBA514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163-71EE-47EE-BD74-F786BC185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14C-75D6-40D7-A0F3-00F198C8D3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FEB-DB6A-4D92-B8C4-016E71B91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149B-F563-4748-B629-9C19FB73E1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C99-BE3E-4C22-A7C2-CC1B778DE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3854-53E9-44AD-BAFB-94F528B32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5F6-F1D0-4683-A0D4-2A9F63AFD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C71-14CD-48C3-9D7D-BE962CB1E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795-9248-4691-A832-FDB6271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645-2411-4FC8-B237-435BE81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322-E557-43C5-A0AE-C38EE052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2D2-2AF0-4032-B97E-149857B9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878-B253-4610-80BD-ADFDF9C7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19F-7E44-4C08-A38C-27BDABD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143F-AF32-48DA-9D44-14824E6E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1166-E9B7-4643-9B9E-2D13F06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07B1-C16A-46EB-8E6F-1647799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92FB-89CD-4F64-B1BC-AE08971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FE07-2621-45B7-9E8D-5418B03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232-E29B-42BA-B1B2-B75C8429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D58F-3F2C-4AC0-8A8A-BE29888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7263-2882-4ED0-B0B6-B213104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FB1-FB62-4AFA-AA5D-1F11A3DF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FC5-A0C0-478D-A325-015B658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7104-41F8-4B27-AEAD-91DFA128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FA5D-9189-4E02-A8B6-244233DB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D148-F008-4896-AFC9-CFAE45A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FAE6-043C-40D0-A19C-EDD20870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EDE3-D0DC-4F3A-883E-17732F65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73A3-0574-40B0-B902-DCFBA78A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B5C-7A53-420F-9E55-1B31C5B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79F9-1BB8-4652-BC09-9983A903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BEFA-0BE3-4398-A40F-8918261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C2FA-C75F-4882-9F90-176BF0E2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047F-1B7C-4989-A15D-E369599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36C5-F1E0-4E1E-93D2-2FE72751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6A2A-9A1C-4BC6-B7F8-61E47860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4BF7-BF83-4ABD-82AC-B7B02AF9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8767-2268-498A-9AE6-1BB31762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C4E1-390F-4F1C-8856-1031993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00C22-2CF1-4029-922F-5D86A737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886-975F-46C1-B652-9536BE00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10B8-94A8-40B0-8428-596A47D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D7BC-50F5-4AA5-ACDF-F275FC5C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BA48-92CE-4DE0-914D-4E39832C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D3B81-B9BD-42E5-BF04-DE90DA1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D59F-61E0-410F-98E1-7D979EA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E8E4-E457-447F-9048-FE25796F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7D5F-8975-4F69-9563-A1289FF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2185-5432-4F4D-ADED-0C93676A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6912-E937-45A8-B1D9-6D28AB42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E69E-651B-4169-BE03-38E3196A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E07-78DB-43FF-8B21-080D9E4C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124B-108F-4FCD-91E9-6373A24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585E-4402-4F66-8677-AD0CC75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EFCD-62D9-4287-983C-2CF8906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6A64-548C-48BF-991D-4E2926D7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5756-6E45-4263-9BD2-0CB5185C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23AE-534F-4533-8D32-B3A4178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9924-8D24-4F5E-B461-D8C413B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C50D-C8B4-414B-8D15-AD07DE0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42A21-6643-49ED-A9F4-F8AD63F6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85D9-D3A8-41B8-94AE-DA2D212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EF1-43BC-4C63-9F7F-46DC8B27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52EF-7101-4E26-BDF3-81D08F6E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64C7-C76B-43CC-8C2F-60B0045B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0EAC-6446-485E-A68F-14E60DE9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A89A-14F0-4E57-895F-F30CDB1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708B-7EF5-4AC4-A2FD-1943213C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24A0-2C1C-425B-A71F-D31E492A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90F65-FB03-4747-A256-F277F68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F7CDF-A1B7-4775-8378-9CBE521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A785-DD74-401A-A414-813AD60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EB973-AD4C-45D8-9BC3-F6B2197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429-118B-4C71-B5BC-6914FA5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EFAE-60D9-43FE-957E-9CAB48B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4C22-04D6-47AA-941B-F5DBDBC7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FBDE-760B-47E0-AEA0-AED7719A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A4A5-7829-4AD9-8677-FF47920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0CD0D-2D63-4E13-9A8A-8A2C79C5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BB36-C726-4D65-86DC-3D65B007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3EA4-331C-4047-ACC7-EF3F430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A469-DD69-4AFE-9071-8AC6B7E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FCAC-F9E8-4F04-AD54-602E19C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D744-5EF2-4821-8D4B-07B0F13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713-811E-4424-9A6A-062A606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72B60-31BE-4392-B265-E638D17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7A68-D4DB-4274-9962-ADE1385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FC307-0EB5-424F-B539-917B88D8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F2C4-94ED-48D8-B66F-D3680C60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9B32A-E4B3-4461-8F9E-D22B7EB1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6694D-1423-4CBB-9FDA-B2BCBE27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69B4-EC1F-42CD-A0B3-8CBE625F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2761-2BBC-4D46-B44C-C38426BF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207C2-B48A-4615-A264-3D6032E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DB1D-1282-4171-A79E-7AB3709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65B-C1CE-403F-818E-AAE7DC73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2CF81-1974-4B05-8BCC-884BABE1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3672-4202-4290-8D83-9FC6338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405B-BECF-41EA-BBB9-72B628D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04A3D-AED8-4114-840D-17B6ED9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352C-A2F8-4E61-95F1-0F639DF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7E90-07FC-449E-987A-EB1E2AE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E7867-2940-48F4-9EE9-C24A8AD3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0B73-BA92-4258-A066-C34F5DD19E0A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3C8-D9C0-4984-BA5E-23186F167C0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3AA-F9E1-46D9-8E2A-0DB9907AD452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0E58-32B8-404C-8EAE-A5EC632DAA5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BA97-2153-404B-8AF6-E2BE77D6370E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45C-184A-4196-BC2D-B301AC27930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B023-2430-4ACE-A1E7-21BBF959FEDC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FC66-C3DC-45AE-9212-19127121C1D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E5EC-E15D-4E59-B21B-C7CDC47A3A8A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4ADF-D9A0-455C-BE26-AB1D44230AD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23E5-E54C-4F27-9B85-D2E7541ACF1D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846-F374-4024-8739-69DD4D2865B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1CFF-9CF6-4795-A758-BB274D3E7C70}" type="datetime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3BA4-C357-4B96-AA3A-9EDE72069332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DCB-BAB3-40C6-800C-0468811A32D1}" type="datetime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D5AD-43CC-4358-83B6-E441A498FE4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27.png"/><Relationship Id="rId7" Type="http://schemas.openxmlformats.org/officeDocument/2006/relationships/image" Target="../media/image32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Общие сведения о сечениях и разрезах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Arial"/>
                <a:ea typeface="Arial"/>
              </a:rPr>
              <a:t>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D17-18C0-485D-8663-6DCA95B4F766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0" y="115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468360" y="134136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изображение фигуры, получающейся при мысленном рассечении предмета плоск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чении показыв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т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получа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екущей плос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. 188. Чертеж с сечением"/>
          <p:cNvPicPr/>
          <p:nvPr/>
        </p:nvPicPr>
        <p:blipFill>
          <a:blip r:embed="rId1"/>
          <a:stretch/>
        </p:blipFill>
        <p:spPr>
          <a:xfrm>
            <a:off x="2093760" y="3141720"/>
            <a:ext cx="4810320" cy="3171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СЕЧ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E846-1405-4FEC-A05A-12D0853D8F47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РАЗРЕЗ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619360" cy="2438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5" descr=""/>
          <p:cNvPicPr/>
          <p:nvPr/>
        </p:nvPicPr>
        <p:blipFill>
          <a:blip r:embed="rId2"/>
          <a:stretch/>
        </p:blipFill>
        <p:spPr>
          <a:xfrm>
            <a:off x="642960" y="2143080"/>
            <a:ext cx="2330280" cy="2808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3429000" y="2143080"/>
            <a:ext cx="2495520" cy="2857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"/>
          <p:cNvPicPr/>
          <p:nvPr/>
        </p:nvPicPr>
        <p:blipFill>
          <a:blip r:embed="rId4"/>
          <a:stretch/>
        </p:blipFill>
        <p:spPr>
          <a:xfrm>
            <a:off x="6357960" y="2428920"/>
            <a:ext cx="2314440" cy="234324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4FA-7391-43E0-9B8C-AACB1984E46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346200" cy="2571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5214960" y="1370160"/>
            <a:ext cx="2708280" cy="3887640"/>
          </a:xfrm>
          <a:prstGeom prst="rect">
            <a:avLst/>
          </a:prstGeom>
          <a:ln w="0">
            <a:noFill/>
          </a:ln>
        </p:spPr>
      </p:pic>
      <p:sp>
        <p:nvSpPr>
          <p:cNvPr id="420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1367-C898-44CB-8C3F-2304EE6389F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609480" y="1197000"/>
            <a:ext cx="8001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ображение предмета, мысленно рассеченной одной или несколькими плоск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азрезе показывают то, что получ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 секущей плос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то расположено за 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ез располагают на месте соответствующе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РАЗРЕЗ</a:t>
            </a: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740-099F-4B66-9544-C99185DC9C3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F:\иНТЕРНЕТ РЕСУРСЫ Тангаева, Зыктина\image261.jpg"/>
          <p:cNvPicPr/>
          <p:nvPr/>
        </p:nvPicPr>
        <p:blipFill>
          <a:blip r:embed="rId1"/>
          <a:stretch/>
        </p:blipFill>
        <p:spPr>
          <a:xfrm>
            <a:off x="900000" y="1260360"/>
            <a:ext cx="7056720" cy="49881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ДЛЯ ЧЕГО И КАК ШТРИХУЮТ ФИГУРЫ СЕЧЕНИЯ?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881-5DE2-4516-8667-3443A29EE0B1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1243080" cy="7146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1214280" cy="687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"/>
          <p:cNvPicPr/>
          <p:nvPr/>
        </p:nvPicPr>
        <p:blipFill>
          <a:blip r:embed="rId3"/>
          <a:stretch/>
        </p:blipFill>
        <p:spPr>
          <a:xfrm>
            <a:off x="2928960" y="3214800"/>
            <a:ext cx="1214280" cy="728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"/>
          <p:cNvPicPr/>
          <p:nvPr/>
        </p:nvPicPr>
        <p:blipFill>
          <a:blip r:embed="rId4"/>
          <a:stretch/>
        </p:blipFill>
        <p:spPr>
          <a:xfrm>
            <a:off x="2928960" y="4143240"/>
            <a:ext cx="1214280" cy="695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5"/>
          <a:stretch/>
        </p:blipFill>
        <p:spPr>
          <a:xfrm>
            <a:off x="2928960" y="5072040"/>
            <a:ext cx="1236600" cy="714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6"/>
          <a:stretch/>
        </p:blipFill>
        <p:spPr>
          <a:xfrm>
            <a:off x="4643280" y="1357200"/>
            <a:ext cx="1239840" cy="7146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4643280" y="2286000"/>
            <a:ext cx="1214640" cy="744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"/>
          <p:cNvPicPr/>
          <p:nvPr/>
        </p:nvPicPr>
        <p:blipFill>
          <a:blip r:embed="rId8"/>
          <a:stretch/>
        </p:blipFill>
        <p:spPr>
          <a:xfrm>
            <a:off x="4643280" y="3214800"/>
            <a:ext cx="1214640" cy="693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2" descr=""/>
          <p:cNvPicPr/>
          <p:nvPr/>
        </p:nvPicPr>
        <p:blipFill>
          <a:blip r:embed="rId9"/>
          <a:stretch/>
        </p:blipFill>
        <p:spPr>
          <a:xfrm>
            <a:off x="4643280" y="5072040"/>
            <a:ext cx="1214640" cy="728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"/>
          <p:cNvPicPr/>
          <p:nvPr/>
        </p:nvPicPr>
        <p:blipFill>
          <a:blip r:embed="rId10"/>
          <a:stretch/>
        </p:blipFill>
        <p:spPr>
          <a:xfrm>
            <a:off x="4643280" y="4143240"/>
            <a:ext cx="1214640" cy="720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3"/>
          <p:cNvSpPr/>
          <p:nvPr/>
        </p:nvSpPr>
        <p:spPr>
          <a:xfrm>
            <a:off x="214200" y="1357200"/>
            <a:ext cx="250056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ы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таллы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 естественный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амика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он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4"/>
          <p:cNvSpPr/>
          <p:nvPr/>
        </p:nvSpPr>
        <p:spPr>
          <a:xfrm>
            <a:off x="6072120" y="1285920"/>
            <a:ext cx="285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          Стек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         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        Гру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          Пес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       Дер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ЗОБРАЖЕНИЕ МАТЕРИАЛОВ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82CF-21F2-424E-A3BC-ED8DA311E45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2643120" y="2858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"/>
          <p:cNvSpPr/>
          <p:nvPr/>
        </p:nvSpPr>
        <p:spPr>
          <a:xfrm>
            <a:off x="500040" y="1071720"/>
            <a:ext cx="8143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расс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дошли к зданию Дома творчества, который построен из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тельных материалов, как                      ,                    ,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Совсем недавно строители снимали здесь          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или  для фундамента                   , теперь убирают мус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ользованный  материал                    ,                    ,                    .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ке перед дворцом – фонтан, уже заполненный                   . Ско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Дома творчества.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833400" cy="500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873000" cy="500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"/>
          <p:cNvPicPr/>
          <p:nvPr/>
        </p:nvPicPr>
        <p:blipFill>
          <a:blip r:embed="rId3"/>
          <a:stretch/>
        </p:blipFill>
        <p:spPr>
          <a:xfrm>
            <a:off x="6786720" y="2071800"/>
            <a:ext cx="857160" cy="514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4"/>
          <a:stretch/>
        </p:blipFill>
        <p:spPr>
          <a:xfrm>
            <a:off x="642960" y="2643120"/>
            <a:ext cx="868320" cy="500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5"/>
          <a:stretch/>
        </p:blipFill>
        <p:spPr>
          <a:xfrm>
            <a:off x="6715080" y="2714760"/>
            <a:ext cx="874800" cy="500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3357720" y="3429000"/>
            <a:ext cx="865080" cy="500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7"/>
          <a:stretch/>
        </p:blipFill>
        <p:spPr>
          <a:xfrm>
            <a:off x="3929040" y="4071960"/>
            <a:ext cx="857160" cy="507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8"/>
          <a:stretch/>
        </p:blipFill>
        <p:spPr>
          <a:xfrm>
            <a:off x="5143680" y="4071960"/>
            <a:ext cx="882360" cy="500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9"/>
          <a:stretch/>
        </p:blipFill>
        <p:spPr>
          <a:xfrm>
            <a:off x="6572160" y="4071960"/>
            <a:ext cx="870120" cy="5000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"/>
          <p:cNvPicPr/>
          <p:nvPr/>
        </p:nvPicPr>
        <p:blipFill>
          <a:blip r:embed="rId10"/>
          <a:stretch/>
        </p:blipFill>
        <p:spPr>
          <a:xfrm>
            <a:off x="6572160" y="4643280"/>
            <a:ext cx="857520" cy="52560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028C-FBDA-42E0-94FA-9C32B8675F9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60" name="Picture 5" descr="Рис. 189. Штриховка сечений (для металлов и твердых сплавов)"/>
          <p:cNvPicPr/>
          <p:nvPr/>
        </p:nvPicPr>
        <p:blipFill>
          <a:blip r:embed="rId1"/>
          <a:stretch/>
        </p:blipFill>
        <p:spPr>
          <a:xfrm>
            <a:off x="3276720" y="1557360"/>
            <a:ext cx="5202000" cy="37688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"/>
          <p:cNvSpPr/>
          <p:nvPr/>
        </p:nvSpPr>
        <p:spPr>
          <a:xfrm>
            <a:off x="468360" y="1413000"/>
            <a:ext cx="266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нанесение штриховки на плоскость размером 70 х 50 и 50 х 85. Между линиями штриховки расстояние  2 мм и 1 мм соответственно. Наклон 45 град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799-DFF9-4C85-8781-86B653C3541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539640" y="141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ик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тетр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6101-079C-400F-8CC1-4513EA12D5F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9AA-4F42-4BAB-BC8D-0AA891F2679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3199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ПРИМЕРЫ ИСПОЛЬЗОВАНИЯ ИЗОБРАЖЕНИЙ, РАСКРЫВАЮЩИХ ВНУТРЕННЕЕ СТРОЕНИЕ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87280" y="2421000"/>
            <a:ext cx="671544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машиностроения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ласти естествознания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B1B-EDE2-4CAC-8E74-764004071BF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МЕДИЦИНЫ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300720" y="1617840"/>
            <a:ext cx="2357640" cy="2454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3" name="Picture 2" descr="F:\иНТЕРНЕТ РЕСУРСЫ Тангаева, Зыктина\713245337.jpg"/>
          <p:cNvPicPr/>
          <p:nvPr/>
        </p:nvPicPr>
        <p:blipFill>
          <a:blip r:embed="rId2"/>
          <a:stretch/>
        </p:blipFill>
        <p:spPr>
          <a:xfrm>
            <a:off x="3059280" y="3357720"/>
            <a:ext cx="2714400" cy="284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00200" cy="244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75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E316-247A-4566-AA52-2937E191C4C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1071720" y="1628640"/>
            <a:ext cx="2949480" cy="19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8" name="Picture 6" descr=""/>
          <p:cNvPicPr/>
          <p:nvPr/>
        </p:nvPicPr>
        <p:blipFill>
          <a:blip r:embed="rId2"/>
          <a:stretch/>
        </p:blipFill>
        <p:spPr>
          <a:xfrm>
            <a:off x="6199200" y="1487520"/>
            <a:ext cx="17193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9" name="Picture 3" descr=""/>
          <p:cNvPicPr/>
          <p:nvPr/>
        </p:nvPicPr>
        <p:blipFill>
          <a:blip r:embed="rId3"/>
          <a:srcRect l="2372" t="0" r="0" b="0"/>
          <a:stretch/>
        </p:blipFill>
        <p:spPr>
          <a:xfrm>
            <a:off x="1071720" y="3857760"/>
            <a:ext cx="2947680" cy="14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0" name="Picture 3" descr=""/>
          <p:cNvPicPr/>
          <p:nvPr/>
        </p:nvPicPr>
        <p:blipFill>
          <a:blip r:embed="rId4"/>
          <a:stretch/>
        </p:blipFill>
        <p:spPr>
          <a:xfrm>
            <a:off x="5364000" y="3857760"/>
            <a:ext cx="2554560" cy="1571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В ОБЛАСТИ БИОЛОГИИ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5EC-D912-4880-9AF2-3530232C13D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254400" y="1986120"/>
            <a:ext cx="2548080" cy="248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395280" y="1986120"/>
            <a:ext cx="1940040" cy="3135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6516720" y="1986120"/>
            <a:ext cx="2000160" cy="315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МАШИНОСТРОЕНИЯ И ТЕХНОЛОГИИ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8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451E-27CB-47C6-96B8-0DBC301CEE1D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F:\иНТЕРНЕТ РЕСУРСЫ Тангаева, Зыктина\8321.jpg"/>
          <p:cNvPicPr/>
          <p:nvPr/>
        </p:nvPicPr>
        <p:blipFill>
          <a:blip r:embed="rId1"/>
          <a:stretch/>
        </p:blipFill>
        <p:spPr>
          <a:xfrm>
            <a:off x="5276880" y="2409840"/>
            <a:ext cx="3357360" cy="273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91" name="Picture 3" descr="F:\иНТЕРНЕТ РЕСУРСЫ Тангаева, Зыктина\Stratovolcano-drawing.jpg"/>
          <p:cNvPicPr/>
          <p:nvPr/>
        </p:nvPicPr>
        <p:blipFill>
          <a:blip r:embed="rId2"/>
          <a:stretch/>
        </p:blipFill>
        <p:spPr>
          <a:xfrm>
            <a:off x="395280" y="2421000"/>
            <a:ext cx="3976560" cy="2714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Arial"/>
              </a:rPr>
              <a:t>В ОБЛАСТИ ЕСТЕСТВОЗНАНИЯ И КУЛЬТУРЫ</a:t>
            </a:r>
            <a:endParaRPr b="0" lang="en-US" sz="29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EB2-1E86-44E1-9F0C-0997E39F6BEE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500040" y="2928960"/>
          <a:ext cx="8215200" cy="2822400"/>
        </p:xfrm>
        <a:graphic>
          <a:graphicData uri="http://schemas.openxmlformats.org/drawingml/2006/table">
            <a:tbl>
              <a:tblPr/>
              <a:tblGrid>
                <a:gridCol w="500040"/>
                <a:gridCol w="4977000"/>
                <a:gridCol w="2738160"/>
              </a:tblGrid>
              <a:tr h="114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ера  профессиональной деятельности, а также жизни и быта человека, где используются теоретические и практические знания о сече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55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dfe6ed"/>
                    </a:solidFill>
                  </a:tcPr>
                </a:tc>
              </a:tr>
            </a:tbl>
          </a:graphicData>
        </a:graphic>
      </p:graphicFrame>
      <p:sp>
        <p:nvSpPr>
          <p:cNvPr id="396" name="TextBox 5"/>
          <p:cNvSpPr/>
          <p:nvPr/>
        </p:nvSpPr>
        <p:spPr>
          <a:xfrm>
            <a:off x="785880" y="12859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аналогичные примеры использования изображений, раскрывающих внутреннее строение и подробности форм различ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УПРАЖНЕНИЕ № 1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98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146E-12A4-4FB6-A5F8-BB63BA31A61A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Arial"/>
              </a:rPr>
              <a:t>ИДЕЯ ОБРАЗОВАНИЯ СЕЧЕНИЯ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1"/>
          <a:srcRect l="68659" t="0" r="18225" b="76584"/>
          <a:stretch/>
        </p:blipFill>
        <p:spPr>
          <a:xfrm rot="1771800">
            <a:off x="7031160" y="4049280"/>
            <a:ext cx="642960" cy="5796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Рис. 187. Выявление формы предмета с помощью секущих плоскостей"/>
          <p:cNvPicPr/>
          <p:nvPr/>
        </p:nvPicPr>
        <p:blipFill>
          <a:blip r:embed="rId2"/>
          <a:stretch/>
        </p:blipFill>
        <p:spPr>
          <a:xfrm>
            <a:off x="900000" y="1476360"/>
            <a:ext cx="6875640" cy="4554720"/>
          </a:xfrm>
          <a:prstGeom prst="rect">
            <a:avLst/>
          </a:prstGeom>
          <a:ln w="0">
            <a:noFill/>
          </a:ln>
        </p:spPr>
      </p:pic>
      <p:sp>
        <p:nvSpPr>
          <p:cNvPr id="403" name="Номер слайда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EDC-6C94-4884-8BCB-B7E3C78A696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0" y="6515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Черчение, 9 класс. Ванина Т.А.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2:45:37Z</dcterms:created>
  <dc:creator/>
  <dc:description/>
  <dc:language>en-US</dc:language>
  <cp:lastModifiedBy>user</cp:lastModifiedBy>
  <dcterms:modified xsi:type="dcterms:W3CDTF">2013-09-08T13:37:45Z</dcterms:modified>
  <cp:revision>78</cp:revision>
  <dc:subject/>
  <dc:title>Слайд 1</dc:title>
</cp:coreProperties>
</file>