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7862C-0B91-4D6D-9549-1B01D53C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56744-8F8E-46DA-91F2-844AE86A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B8E9B-072E-4A02-82A7-E849D8B9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DDE9C-2367-41B0-A04C-30B02062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B6AD-274C-4E3F-9DB5-ABBB6E35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5AFF-7574-4F48-8D09-6BE4D581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54A7-C77D-463C-8246-C0D47634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6FCD-44E8-416F-94D1-D6407079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49FA-561C-47B8-AADA-0F789A65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4BA7-9507-4759-BDE2-5D2C68F0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D1FD-8A86-46F2-B53E-9B71184E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74853-39BC-4BDD-A3AA-C0358734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F30B-7A5D-4E9A-AC8D-A81F3210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7A8D-A575-4408-815B-2FA729D4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A65D-B53D-455A-B254-1233040B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96B9-7FA2-4D6E-8F0E-042C9DE1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85FB-1C7D-4E10-9C07-FF361569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9CDFE-50D9-43D0-891E-2087A294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48429-280E-47B7-89FC-64807562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5719C-F671-44DC-BAD0-13B560BA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C4E7B-2E69-458A-9E6E-D99886BD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646E3-6450-468F-AFD6-B19BD5DC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557BB-BA90-4A55-A53E-D0093E98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466D5-8E8E-4473-8302-90D157FE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DF5D-91C7-41FD-AA42-36EC12DA8083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33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9FFF-6F25-448D-B537-6485768A546C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ff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1916280"/>
            <a:ext cx="7777080" cy="23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ционально -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осударственное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стройство.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35280" y="3933720"/>
            <a:ext cx="3687840" cy="29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C6C664B-8724-4993-8506-9EFC0A9DCA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сновные тенденции национальных взаимоотношений в мире: объединение и отделение нац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такое централизованное государство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очему и как происходит распад национальных государств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новные тенденции национальных взаимоотношений в мир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2565360"/>
            <a:ext cx="3456000" cy="2448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ъединение на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2708280"/>
            <a:ext cx="3456000" cy="2448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деление на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(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сепаратизм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916360" y="1916280"/>
            <a:ext cx="151272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1916280"/>
            <a:ext cx="143964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5445000"/>
            <a:ext cx="3240360" cy="9367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здание централизован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судар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9640" y="501336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48360" y="6021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Дале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епаратизм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емление к отделению, обособле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3860640"/>
            <a:ext cx="2664000" cy="16560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рный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4005360"/>
            <a:ext cx="2664000" cy="16556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енный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411280" y="2492280"/>
            <a:ext cx="187344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2492280"/>
            <a:ext cx="2158920" cy="151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2920" y="587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Наза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Централизованное государств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ечный этап исторически длительного процесса. Они имеют большие размеры, многочисленное население, хорошо вооружены, у них чётко организованный и разветвлённый аппарат государственного упра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ржа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мпе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4653000"/>
            <a:ext cx="142920" cy="1152360"/>
          </a:xfrm>
          <a:custGeom>
            <a:avLst/>
            <a:gdLst>
              <a:gd name="textAreaLeft" fmla="*/ 0 w 142920"/>
              <a:gd name="textAreaRight" fmla="*/ 51480 w 14292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16360" y="486900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циональные государ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новные формы национально-государственного устройств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28640"/>
          <a:ext cx="8229600" cy="494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9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нитарное государ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ая структура государственного аппарата. Глава государства распространяет свою власть на территорию всей страны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Все территориальные единицы имеют одинаковый статус по отношению к центральным органам. Административно-территориальные единицы не обладают политической самостоятельностью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Единое гражданство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Единая система прав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Единая судебная систем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Одноканальная система налогов: они поступают в центр, а оттуда уже распределяются в разные регионы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0" y="148428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457200" y="765000"/>
          <a:ext cx="8229600" cy="624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24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тивное государство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Каждая федерация обладает уникальными особенностями – существует два уровня государственного аппарата: федеральный (союзный) и республиканский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двойное гражданство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Двухканальная система налогов: федеральные и налоги субъекта федераци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395280" y="333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468360" y="907920"/>
          <a:ext cx="8229600" cy="4969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9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федеративное государство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Объединение государств на договорной основе. Для достижения определённых целей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Субъекты конфедерации являются полностью самостоятельными государствам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468360" y="476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457200" y="976320"/>
          <a:ext cx="8229600" cy="299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9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ружество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Объединение государств, в основе которого могут быть общие язык, права и т.д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68360" y="476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4869000"/>
            <a:ext cx="8820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ведите примеры государст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 форме НГ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9:36:47Z</dcterms:created>
  <dc:creator>Родионова</dc:creator>
  <dc:description/>
  <dc:language>en-US</dc:language>
  <cp:lastModifiedBy>Родионова</cp:lastModifiedBy>
  <dcterms:modified xsi:type="dcterms:W3CDTF">2009-09-22T10:04:33Z</dcterms:modified>
  <cp:revision>3</cp:revision>
  <dc:subject/>
  <dc:title>9 класс</dc:title>
</cp:coreProperties>
</file>