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24C4A6-C0A0-497D-AD2E-EE922DCB9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528B0E-E5CA-475B-86AC-CE722670D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81405E-4AE7-4ECB-B894-088E07B3F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57BD4E-B1B5-4FF6-93CD-B4AD32FC1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2C2A0-F6F8-48F9-BA92-4310E08AD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BBB5B-F238-443D-BC6E-BB7DCEA2C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91AA6-B02C-4A89-A94D-AD75BFFB9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662A3-B4E2-4069-BF41-D8B005D36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C21C3-DF53-48E8-BB4D-71B4009EA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2A865-6522-43D8-A0A5-0FCF89A47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7B237-A6E1-4B4E-A954-0F8D77FD3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39F1D5-B45A-4701-8C8C-D70F334F0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7D08F-18C9-4F10-913B-FA8CEDC0D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93827-5474-41C5-BB31-1FC034EFC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32D62-1352-4069-8156-B10EF2B1D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3AD4C-76D0-4A56-A912-CC2607D8F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4968B-4389-4FA8-9058-181B407C7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C0ABD8-CDDB-40BC-8D5E-FCB9A4123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4F9801-0B2F-43F4-93A9-61CC0A73C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5D2222-6677-4F34-9375-925A60371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D8B73E-B69E-48B7-872B-FD400A9D4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A0ABB7-135F-41DF-BF97-4F41FF664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6FFC24-40ED-4922-A64F-D03A88A5A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97BEAE-2445-45BB-8A6F-ED6664AA4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1AF8E-0F5E-4991-8D02-50C7A4999C2E}" type="slidenum">
              <a:rPr b="0" lang="en-US" sz="12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66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33ff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66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33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33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33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33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33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8271B-A014-4DA2-95C4-239308E690FD}" type="slidenum">
              <a:rPr b="0" lang="en-US" sz="12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66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33ff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77724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9 класс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11280" y="1916280"/>
            <a:ext cx="7777080" cy="230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ff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Национально - </a:t>
            </a:r>
            <a:endParaRPr b="0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ffff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ff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государственное</a:t>
            </a:r>
            <a:endParaRPr b="0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ffff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ff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устройство.</a:t>
            </a:r>
            <a:endParaRPr b="0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ffff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635280" y="3933720"/>
            <a:ext cx="3687840" cy="2924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42AB7118-6014-490B-B1B4-C74817AAFD3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План урока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901"/>
              </a:spcBef>
              <a:buClr>
                <a:srgbClr val="0066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Основные тенденции национальных взаимоотношений в мире: объединение и отделение наций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901"/>
              </a:spcBef>
              <a:buClr>
                <a:srgbClr val="0066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Что такое централизованное государство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901"/>
              </a:spcBef>
              <a:buClr>
                <a:srgbClr val="0066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Почему и как происходит распад национальных государств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Основные тенденции национальных взаимоотношений в мире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4000" y="2565360"/>
            <a:ext cx="3456000" cy="2448000"/>
          </a:xfrm>
          <a:prstGeom prst="ellipse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бъединение нац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2360" y="2708280"/>
            <a:ext cx="3456000" cy="2448000"/>
          </a:xfrm>
          <a:prstGeom prst="ellipse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тделение нац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"/>
                <a:hlinkClick r:id="rId1" action="ppaction://hlinksldjump"/>
              </a:rPr>
              <a:t>(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сепаратизм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2916360" y="1916280"/>
            <a:ext cx="151272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427640" y="1916280"/>
            <a:ext cx="1439640" cy="865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39640" y="5445000"/>
            <a:ext cx="3240360" cy="936720"/>
          </a:xfrm>
          <a:prstGeom prst="rect">
            <a:avLst/>
          </a:prstGeom>
          <a:solidFill>
            <a:srgbClr val="66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оздание централизованны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государст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979640" y="5013360"/>
            <a:ext cx="360360" cy="431640"/>
          </a:xfrm>
          <a:prstGeom prst="downArrow">
            <a:avLst>
              <a:gd name="adj1" fmla="val 50000"/>
              <a:gd name="adj2" fmla="val 29945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948360" y="602136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"/>
                <a:hlinkClick r:id="rId3" action="ppaction://hlinksldjump"/>
              </a:rPr>
              <a:t>Далее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Сепаратизм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тремление к отделению, обособлению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55640" y="3860640"/>
            <a:ext cx="2664000" cy="1656000"/>
          </a:xfrm>
          <a:prstGeom prst="rect">
            <a:avLst/>
          </a:prstGeom>
          <a:solidFill>
            <a:srgbClr val="66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Мирный способ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219640" y="4005360"/>
            <a:ext cx="2664000" cy="1655640"/>
          </a:xfrm>
          <a:prstGeom prst="rect">
            <a:avLst/>
          </a:prstGeom>
          <a:solidFill>
            <a:srgbClr val="66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оенный способ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2411280" y="2492280"/>
            <a:ext cx="1873440" cy="1368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284720" y="2492280"/>
            <a:ext cx="2158920" cy="1513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042920" y="587700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"/>
                <a:hlinkClick r:id="rId1" action="ppaction://hlinksldjump"/>
              </a:rPr>
              <a:t>Назад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Централизованное государство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онечный этап исторически длительного процесса. Они имеют большие размеры, многочисленное население, хорошо вооружены, у них чётко организованный и разветвлённый аппарат государственного управлени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Держав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мпер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700360" y="4653000"/>
            <a:ext cx="142920" cy="1152360"/>
          </a:xfrm>
          <a:custGeom>
            <a:avLst/>
            <a:gdLst>
              <a:gd name="textAreaLeft" fmla="*/ 0 w 142920"/>
              <a:gd name="textAreaRight" fmla="*/ 51480 w 14292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916360" y="4869000"/>
            <a:ext cx="568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Национальные государств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Основные формы национально-государственного устройства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457200" y="1628640"/>
          <a:ext cx="8229600" cy="49435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494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нитарное государств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Единая структура государственного аппарата. Глава государства распространяет свою власть на территорию всей страны;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Все территориальные единицы имеют одинаковый статус по отношению к центральным органам. Административно-территориальные единицы не обладают политической самостоятельностью;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Единое гражданство;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Единая система права;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Единая судебная система;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Одноканальная система налогов: они поступают в центр, а оттуда уже распределяются в разные регионы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2" name=""/>
          <p:cNvSpPr/>
          <p:nvPr/>
        </p:nvSpPr>
        <p:spPr>
          <a:xfrm>
            <a:off x="0" y="1484280"/>
            <a:ext cx="3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3" name=""/>
          <p:cNvGraphicFramePr/>
          <p:nvPr/>
        </p:nvGraphicFramePr>
        <p:xfrm>
          <a:off x="457200" y="765000"/>
          <a:ext cx="8229600" cy="62406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624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Федеративное государство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Каждая федерация обладает уникальными особенностями – существует два уровня государственного аппарата: федеральный (союзный) и республиканский;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двойное гражданство;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Двухканальная система налогов: федеральные и налоги субъекта федерации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4" name=""/>
          <p:cNvSpPr/>
          <p:nvPr/>
        </p:nvSpPr>
        <p:spPr>
          <a:xfrm>
            <a:off x="395280" y="333360"/>
            <a:ext cx="64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468360" y="907920"/>
          <a:ext cx="8229600" cy="49690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496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нфедеративное государство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Объединение государств на договорной основе. Для достижения определённых целей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Субъекты конфедерации являются полностью самостоятельными государствами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6" name=""/>
          <p:cNvSpPr/>
          <p:nvPr/>
        </p:nvSpPr>
        <p:spPr>
          <a:xfrm>
            <a:off x="468360" y="476280"/>
            <a:ext cx="43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7" name=""/>
          <p:cNvGraphicFramePr/>
          <p:nvPr/>
        </p:nvGraphicFramePr>
        <p:xfrm>
          <a:off x="457200" y="976320"/>
          <a:ext cx="8229600" cy="29955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299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одружество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Объединение государств, в основе которого могут быть общие язык, права и т.д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8" name=""/>
          <p:cNvSpPr/>
          <p:nvPr/>
        </p:nvSpPr>
        <p:spPr>
          <a:xfrm>
            <a:off x="468360" y="47628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4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24000" y="4869000"/>
            <a:ext cx="882000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Приведите примеры государств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по форме НГУ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2T09:36:47Z</dcterms:created>
  <dc:creator>Родионова</dc:creator>
  <dc:description/>
  <dc:language>en-US</dc:language>
  <cp:lastModifiedBy>Родионова</cp:lastModifiedBy>
  <dcterms:modified xsi:type="dcterms:W3CDTF">2009-09-22T10:04:33Z</dcterms:modified>
  <cp:revision>3</cp:revision>
  <dc:subject/>
  <dc:title>9 класс</dc:title>
</cp:coreProperties>
</file>