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410A22-A189-4C7F-80E8-D159D87CC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A6BECC-2B4C-4732-AB99-317767CA6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0965F8-AA78-4841-9F81-AE11E7667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36341E-6A35-4F6E-B60B-A8E9F13D8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D4075-0A4D-4E0A-9D0C-424ABDDB5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C3063-0542-4E3D-B5F9-402E979A5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F3BE2-B1D8-451C-B7F7-3810F8E48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FAD90-47D2-4126-A315-2DF047E95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457F4-CB95-4EF8-9077-67EB689AF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EC6DA-50F3-4EF6-B711-CDD93B709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95614-112A-4D0C-826C-C448D8D73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62A912-E707-4233-8698-B0D01EB2A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3B9AD-1197-483F-B0EB-88760C446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4165E-F0CF-4F59-A80C-133D90C87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78534-445D-4FAE-8019-8F0E03038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0E36C-F46E-4B1C-AEE8-C36810B5F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B943E-022F-4878-A15A-220DB42C0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3DD148-B964-421D-BE69-6E8011355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DB9F9B-BACC-4891-AFB4-BB4AA3CF2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2FB49E-9AE8-4496-92DD-1742E8BEB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973CD4-BEFC-4825-B15C-096BDD9A4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A29E4D-6959-484C-948A-0449552C6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9D94F7-62DB-4B2F-95AD-DDD565DA2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5F39A8-9891-4062-8571-48882F6DD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3CBBB-6CAC-4543-A2F1-30C5F4BF3403}" type="slidenum">
              <a:rPr b="0" lang="en-US" sz="12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66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33ff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66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33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33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33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33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33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0A782-937C-4E03-86DE-150003911581}" type="slidenum">
              <a:rPr b="0" lang="en-US" sz="12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66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33ff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77724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9 класс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11280" y="1916280"/>
            <a:ext cx="7777080" cy="230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ff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Национально - </a:t>
            </a:r>
            <a:endParaRPr b="0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ffff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ff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государственное</a:t>
            </a:r>
            <a:endParaRPr b="0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ffff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ff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устройство.</a:t>
            </a:r>
            <a:endParaRPr b="0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ffff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635280" y="3933720"/>
            <a:ext cx="3687840" cy="2924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7FE53353-010E-46CE-B437-5CE60A3C7FF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План урока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901"/>
              </a:spcBef>
              <a:buClr>
                <a:srgbClr val="0066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Основные тенденции национальных взаимоотношений в мире: объединение и отделение наций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901"/>
              </a:spcBef>
              <a:buClr>
                <a:srgbClr val="0066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Что такое централизованное государство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901"/>
              </a:spcBef>
              <a:buClr>
                <a:srgbClr val="0066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Почему и как происходит распад национальных государств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Основные тенденции национальных взаимоотношений в мире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4000" y="2565360"/>
            <a:ext cx="3456000" cy="2448000"/>
          </a:xfrm>
          <a:prstGeom prst="ellipse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бъединение нац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2360" y="2708280"/>
            <a:ext cx="3456000" cy="2448000"/>
          </a:xfrm>
          <a:prstGeom prst="ellipse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тделение нац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"/>
                <a:hlinkClick r:id="rId1" action="ppaction://hlinksldjump"/>
              </a:rPr>
              <a:t>(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сепаратизм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2916360" y="1916280"/>
            <a:ext cx="151272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427640" y="1916280"/>
            <a:ext cx="1439640" cy="865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39640" y="5445000"/>
            <a:ext cx="3240360" cy="936720"/>
          </a:xfrm>
          <a:prstGeom prst="rect">
            <a:avLst/>
          </a:prstGeom>
          <a:solidFill>
            <a:srgbClr val="66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оздание централизованны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государст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979640" y="5013360"/>
            <a:ext cx="360360" cy="431640"/>
          </a:xfrm>
          <a:prstGeom prst="downArrow">
            <a:avLst>
              <a:gd name="adj1" fmla="val 50000"/>
              <a:gd name="adj2" fmla="val 29945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948360" y="602136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"/>
                <a:hlinkClick r:id="rId3" action="ppaction://hlinksldjump"/>
              </a:rPr>
              <a:t>Далее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Сепаратизм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тремление к отделению, обособлению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55640" y="3860640"/>
            <a:ext cx="2664000" cy="1656000"/>
          </a:xfrm>
          <a:prstGeom prst="rect">
            <a:avLst/>
          </a:prstGeom>
          <a:solidFill>
            <a:srgbClr val="66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Мирный способ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219640" y="4005360"/>
            <a:ext cx="2664000" cy="1655640"/>
          </a:xfrm>
          <a:prstGeom prst="rect">
            <a:avLst/>
          </a:prstGeom>
          <a:solidFill>
            <a:srgbClr val="66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оенный способ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2411280" y="2492280"/>
            <a:ext cx="1873440" cy="1368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284720" y="2492280"/>
            <a:ext cx="2158920" cy="1513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042920" y="587700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"/>
                <a:hlinkClick r:id="rId1" action="ppaction://hlinksldjump"/>
              </a:rPr>
              <a:t>Назад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Централизованное государство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онечный этап исторически длительного процесса. Они имеют большие размеры, многочисленное население, хорошо вооружены, у них чётко организованный и разветвлённый аппарат государственного управлени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Держав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мпер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700360" y="4653000"/>
            <a:ext cx="142920" cy="1152360"/>
          </a:xfrm>
          <a:custGeom>
            <a:avLst/>
            <a:gdLst>
              <a:gd name="textAreaLeft" fmla="*/ 0 w 142920"/>
              <a:gd name="textAreaRight" fmla="*/ 51480 w 14292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916360" y="4869000"/>
            <a:ext cx="568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Национальные государств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Основные формы национально-государственного устройства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457200" y="1628640"/>
          <a:ext cx="8229600" cy="49435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494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нитарное государств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Единая структура государственного аппарата. Глава государства распространяет свою власть на территорию всей страны;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Все территориальные единицы имеют одинаковый статус по отношению к центральным органам. Административно-территориальные единицы не обладают политической самостоятельностью;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Единое гражданство;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Единая система права;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Единая судебная система;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Одноканальная система налогов: они поступают в центр, а оттуда уже распределяются в разные регионы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2" name=""/>
          <p:cNvSpPr/>
          <p:nvPr/>
        </p:nvSpPr>
        <p:spPr>
          <a:xfrm>
            <a:off x="0" y="1484280"/>
            <a:ext cx="3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3" name=""/>
          <p:cNvGraphicFramePr/>
          <p:nvPr/>
        </p:nvGraphicFramePr>
        <p:xfrm>
          <a:off x="457200" y="765000"/>
          <a:ext cx="8229600" cy="62406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624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Федеративное государство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Каждая федерация обладает уникальными особенностями – существует два уровня государственного аппарата: федеральный (союзный) и республиканский;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двойное гражданство;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Двухканальная система налогов: федеральные и налоги субъекта федерации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4" name=""/>
          <p:cNvSpPr/>
          <p:nvPr/>
        </p:nvSpPr>
        <p:spPr>
          <a:xfrm>
            <a:off x="395280" y="333360"/>
            <a:ext cx="64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468360" y="907920"/>
          <a:ext cx="8229600" cy="49690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496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нфедеративное государство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Объединение государств на договорной основе. Для достижения определённых целей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Субъекты конфедерации являются полностью самостоятельными государствами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6" name=""/>
          <p:cNvSpPr/>
          <p:nvPr/>
        </p:nvSpPr>
        <p:spPr>
          <a:xfrm>
            <a:off x="468360" y="476280"/>
            <a:ext cx="43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7" name=""/>
          <p:cNvGraphicFramePr/>
          <p:nvPr/>
        </p:nvGraphicFramePr>
        <p:xfrm>
          <a:off x="457200" y="976320"/>
          <a:ext cx="8229600" cy="29955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299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одружество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Объединение государств, в основе которого могут быть общие язык, права и т.д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8" name=""/>
          <p:cNvSpPr/>
          <p:nvPr/>
        </p:nvSpPr>
        <p:spPr>
          <a:xfrm>
            <a:off x="468360" y="47628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4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24000" y="4869000"/>
            <a:ext cx="882000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Приведите примеры государств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по форме НГУ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2T09:36:47Z</dcterms:created>
  <dc:creator>Родионова</dc:creator>
  <dc:description/>
  <dc:language>en-US</dc:language>
  <cp:lastModifiedBy>Родионова</cp:lastModifiedBy>
  <dcterms:modified xsi:type="dcterms:W3CDTF">2009-09-22T10:04:33Z</dcterms:modified>
  <cp:revision>3</cp:revision>
  <dc:subject/>
  <dc:title>9 класс</dc:title>
</cp:coreProperties>
</file>