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A8D-B587-415F-9166-61EAC1C7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B44-8D10-40FE-B718-FE3680A5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35C-91F7-411D-AC3B-624F3E92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08D-93D9-4A13-9550-D9D670A4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C814-F843-4DBD-8796-BC0257F6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DD21-A19E-466B-B0B4-73E667C0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41BB-C378-4AE3-B68F-F0135FAB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1D3-65E5-4EB1-A24B-6C7FA568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A30-A012-4311-8D39-510F37F8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3511-57C7-4D34-A24D-0A3B25B2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D95A-C844-4AC1-9EA7-D6C1811F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8DC-D011-40A1-ABE7-D134E13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E026-3E1B-4BDA-932D-F84984D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3DA-AAF3-45E4-8A8A-B3583611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E72-C75E-438B-AC74-CE442C1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B3D-687F-4CA0-AC81-8B439A8D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E816-E580-40A6-A152-1BA82420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820-C3F4-429B-8D7B-988AEB87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C96-0841-48BD-A614-9E010158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291-7E96-4250-8F78-F8BD2EB5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451-08B4-46F4-9D74-902EF7CB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C45-7DE4-41B6-9E01-7F39998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6D8-1D65-4290-A7BE-EFDC3A3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C61-810E-4EF9-BA73-A5FA478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DFA8-7020-46A8-A705-EC27D8B5F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0326-9F85-45B0-A503-1FF7912B60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Brush Script MT"/>
              </a:rPr>
              <a:t>Пальчиковая гимнасти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 flipH="1">
            <a:off x="4724280" y="2971800"/>
            <a:ext cx="4114800" cy="289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нению учены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льчиковая гимнасти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ирует рабо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евых зон в к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вного моз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P3160002"/>
          <p:cNvPicPr/>
          <p:nvPr/>
        </p:nvPicPr>
        <p:blipFill>
          <a:blip r:embed="rId1"/>
          <a:stretch/>
        </p:blipFill>
        <p:spPr>
          <a:xfrm>
            <a:off x="533520" y="2362320"/>
            <a:ext cx="40384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Упражнения с предмета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685800" y="2286000"/>
            <a:ext cx="312408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5029200" y="2362320"/>
            <a:ext cx="297180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685800" y="4648320"/>
            <a:ext cx="2971800" cy="175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4648320" y="4495680"/>
            <a:ext cx="312408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764280" y="4724280"/>
            <a:ext cx="150372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ь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н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838080" y="2514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неный каранда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4955760" y="24382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572000" y="26668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105520" y="4495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533412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5257800" y="4572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 flipH="1">
            <a:off x="5637960" y="5410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5181480" y="47242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495288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5105520" y="4648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4952880" y="44956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1" descr="File0001"/>
          <p:cNvPicPr/>
          <p:nvPr/>
        </p:nvPicPr>
        <p:blipFill>
          <a:blip r:embed="rId1"/>
          <a:stretch/>
        </p:blipFill>
        <p:spPr>
          <a:xfrm>
            <a:off x="1752480" y="2971800"/>
            <a:ext cx="930240" cy="1003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2" descr="File0002"/>
          <p:cNvPicPr/>
          <p:nvPr/>
        </p:nvPicPr>
        <p:blipFill>
          <a:blip r:embed="rId2"/>
          <a:stretch/>
        </p:blipFill>
        <p:spPr>
          <a:xfrm>
            <a:off x="5715000" y="2971800"/>
            <a:ext cx="1554120" cy="1042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3" descr="File0004"/>
          <p:cNvPicPr/>
          <p:nvPr/>
        </p:nvPicPr>
        <p:blipFill>
          <a:blip r:embed="rId3"/>
          <a:stretch/>
        </p:blipFill>
        <p:spPr>
          <a:xfrm>
            <a:off x="2286000" y="4952880"/>
            <a:ext cx="112716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4" descr="File0003"/>
          <p:cNvPicPr/>
          <p:nvPr/>
        </p:nvPicPr>
        <p:blipFill>
          <a:blip r:embed="rId4"/>
          <a:stretch/>
        </p:blipFill>
        <p:spPr>
          <a:xfrm>
            <a:off x="51055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5"/>
          <p:cNvSpPr/>
          <p:nvPr/>
        </p:nvSpPr>
        <p:spPr>
          <a:xfrm>
            <a:off x="4876920" y="464832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опед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етка «Ежик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ПЕСКОТЕРАПИЯ</a:t>
            </a: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SAND-PLAU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1760" y="39621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сочная грам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исьмена на пе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сочная грам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0516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психо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ают,  что пес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лощает негативн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ю  челове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билизирует 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е состоя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7" descr="P3160003"/>
          <p:cNvPicPr/>
          <p:nvPr/>
        </p:nvPicPr>
        <p:blipFill>
          <a:blip r:embed="rId1"/>
          <a:stretch/>
        </p:blipFill>
        <p:spPr>
          <a:xfrm>
            <a:off x="609480" y="2133720"/>
            <a:ext cx="4343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Пальчиковая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гимнастика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с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элементами</a:t>
            </a:r>
            <a:r>
              <a:rPr b="1" i="1" lang="ru-RU" sz="4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c00ff"/>
                </a:solidFill>
                <a:latin typeface="Times New Roman"/>
              </a:rPr>
              <a:t>логоритми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3" descr="P3160005"/>
          <p:cNvPicPr/>
          <p:nvPr/>
        </p:nvPicPr>
        <p:blipFill>
          <a:blip r:embed="rId1"/>
          <a:stretch/>
        </p:blipFill>
        <p:spPr>
          <a:xfrm>
            <a:off x="1523880" y="21337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AdverGothic"/>
              </a:rPr>
              <a:t>Теневой театр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File0007"/>
          <p:cNvPicPr/>
          <p:nvPr/>
        </p:nvPicPr>
        <p:blipFill>
          <a:blip r:embed="rId1"/>
          <a:stretch/>
        </p:blipFill>
        <p:spPr>
          <a:xfrm>
            <a:off x="609480" y="2209680"/>
            <a:ext cx="2590920" cy="254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File0005"/>
          <p:cNvPicPr/>
          <p:nvPr/>
        </p:nvPicPr>
        <p:blipFill>
          <a:blip r:embed="rId2"/>
          <a:stretch/>
        </p:blipFill>
        <p:spPr>
          <a:xfrm>
            <a:off x="3657600" y="2743200"/>
            <a:ext cx="1919160" cy="2897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File0006"/>
          <p:cNvPicPr/>
          <p:nvPr/>
        </p:nvPicPr>
        <p:blipFill>
          <a:blip r:embed="rId3"/>
          <a:stretch/>
        </p:blipFill>
        <p:spPr>
          <a:xfrm>
            <a:off x="6019920" y="2209680"/>
            <a:ext cx="2666880" cy="2556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838080" y="5486400"/>
            <a:ext cx="25146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Коз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581280" y="5715000"/>
            <a:ext cx="198144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Зайч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248520" y="5181480"/>
            <a:ext cx="7596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019920" y="4876920"/>
            <a:ext cx="259056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Птич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ff"/>
                </a:solidFill>
                <a:latin typeface="Times New Roman"/>
              </a:rPr>
              <a:t>Расскажи стихи рукам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3" descr="File0008"/>
          <p:cNvPicPr/>
          <p:nvPr/>
        </p:nvPicPr>
        <p:blipFill>
          <a:blip r:embed="rId1"/>
          <a:stretch/>
        </p:blipFill>
        <p:spPr>
          <a:xfrm>
            <a:off x="609480" y="2133720"/>
            <a:ext cx="3657600" cy="2760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File0009"/>
          <p:cNvPicPr/>
          <p:nvPr/>
        </p:nvPicPr>
        <p:blipFill>
          <a:blip r:embed="rId2"/>
          <a:stretch/>
        </p:blipFill>
        <p:spPr>
          <a:xfrm>
            <a:off x="4724280" y="2133720"/>
            <a:ext cx="4038840" cy="27493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514600" y="49402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а поляне дом сто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Ну а к дому путь закры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Мы ворота открыва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 этот домик приглаша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5:51:46Z</dcterms:created>
  <dc:creator>12</dc:creator>
  <dc:description/>
  <dc:language>en-US</dc:language>
  <cp:lastModifiedBy>WIN7XP</cp:lastModifiedBy>
  <dcterms:modified xsi:type="dcterms:W3CDTF">2009-07-24T09:19:19Z</dcterms:modified>
  <cp:revision>7</cp:revision>
  <dc:subject/>
  <dc:title>Пальчиковая гимнастика</dc:title>
</cp:coreProperties>
</file>