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DD7-F817-4F11-8B8D-14EDE2E1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F44-281A-4B07-9588-966809E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7C7-4433-45E8-B7E1-5D4BF83E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AF0-E42A-4B83-8F03-705B2C3D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F165-34A5-452F-94FE-4A4BDBAD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81F8-A0F4-42C9-B81B-CB9C44B4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8311-EE5C-4FF4-8582-A8B104CC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5E81-7ECA-4B5F-8235-C0720DB7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4611-AF91-443C-A289-E931E29E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5E31-CE8E-458B-BE35-760C0DD0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38E1-62DE-4BEA-AC52-C9F20B4A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932-AB80-4026-9448-F55B70A2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42D5-9D7A-4365-8661-84635E43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0C70-A003-496D-AB08-3D46EB8A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7E86-6FE3-4464-91E8-B13B83E0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B857-6305-4E35-80E6-F2872361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376E-3553-4F43-98D2-8DA755B2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FF6-560F-408F-A30A-0858537D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6BE-4FD3-4E79-82FF-E2F0A1B2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240-7F68-407D-B442-31CC3C09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41C-71BA-4387-A3C6-1BAF798F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E79-FD34-4880-BD2C-95B97E71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6B8-6BC2-4EFB-8436-145B419E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F74-150D-44BC-B165-9629655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7D9B-02FA-4C82-863E-43FA1CE443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5D99-B70E-4658-8F0C-2164F6E406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Brush Script MT"/>
              </a:rPr>
              <a:t>Пальчиковая гимнасти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 flipH="1">
            <a:off x="4724280" y="2971800"/>
            <a:ext cx="4114800" cy="289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мнению учены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ьчиковая гимнасти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изирует рабо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евых зон в ко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овного моз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P3160002"/>
          <p:cNvPicPr/>
          <p:nvPr/>
        </p:nvPicPr>
        <p:blipFill>
          <a:blip r:embed="rId1"/>
          <a:stretch/>
        </p:blipFill>
        <p:spPr>
          <a:xfrm>
            <a:off x="533520" y="2362320"/>
            <a:ext cx="40384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Упражнения с предмета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85800" y="2286000"/>
            <a:ext cx="3124080" cy="175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5029200" y="2362320"/>
            <a:ext cx="2971800" cy="1828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685800" y="4648320"/>
            <a:ext cx="2971800" cy="175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4648320" y="4495680"/>
            <a:ext cx="3124080" cy="1828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764280" y="4724280"/>
            <a:ext cx="150372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ь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щеп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838080" y="2514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неный каранда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4955760" y="24382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ушка из-под ни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4572000" y="26668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105520" y="4495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5334120" y="4572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5257800" y="4572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2"/>
          <p:cNvSpPr/>
          <p:nvPr/>
        </p:nvSpPr>
        <p:spPr>
          <a:xfrm flipH="1">
            <a:off x="5637960" y="5410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5181480" y="4724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9528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5105520" y="4648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5105520" y="4648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4952880" y="44956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1" descr="File0001"/>
          <p:cNvPicPr/>
          <p:nvPr/>
        </p:nvPicPr>
        <p:blipFill>
          <a:blip r:embed="rId1"/>
          <a:stretch/>
        </p:blipFill>
        <p:spPr>
          <a:xfrm>
            <a:off x="1752480" y="2971800"/>
            <a:ext cx="930240" cy="1003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2" descr="File0002"/>
          <p:cNvPicPr/>
          <p:nvPr/>
        </p:nvPicPr>
        <p:blipFill>
          <a:blip r:embed="rId2"/>
          <a:stretch/>
        </p:blipFill>
        <p:spPr>
          <a:xfrm>
            <a:off x="5715000" y="2971800"/>
            <a:ext cx="1554120" cy="1042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3" descr="File0004"/>
          <p:cNvPicPr/>
          <p:nvPr/>
        </p:nvPicPr>
        <p:blipFill>
          <a:blip r:embed="rId3"/>
          <a:stretch/>
        </p:blipFill>
        <p:spPr>
          <a:xfrm>
            <a:off x="2286000" y="4952880"/>
            <a:ext cx="112716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4" descr="File0003"/>
          <p:cNvPicPr/>
          <p:nvPr/>
        </p:nvPicPr>
        <p:blipFill>
          <a:blip r:embed="rId4"/>
          <a:stretch/>
        </p:blipFill>
        <p:spPr>
          <a:xfrm>
            <a:off x="51055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5"/>
          <p:cNvSpPr/>
          <p:nvPr/>
        </p:nvSpPr>
        <p:spPr>
          <a:xfrm>
            <a:off x="4876920" y="4648320"/>
            <a:ext cx="2666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опед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етка «Ежи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СКОТЕРАПИЯ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SAND-PLAU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39621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сочная грам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сьмена на пес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сочная грамма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0516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психо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ают,  что пе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лощает негативн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ию  челове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билизирует 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ое состоя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7" descr="P3160003"/>
          <p:cNvPicPr/>
          <p:nvPr/>
        </p:nvPicPr>
        <p:blipFill>
          <a:blip r:embed="rId1"/>
          <a:stretch/>
        </p:blipFill>
        <p:spPr>
          <a:xfrm>
            <a:off x="609480" y="2133720"/>
            <a:ext cx="4343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Пальчиковая</a:t>
            </a: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гимнастика</a:t>
            </a: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с </a:t>
            </a: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элементами</a:t>
            </a: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логоритми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3" descr="P3160005"/>
          <p:cNvPicPr/>
          <p:nvPr/>
        </p:nvPicPr>
        <p:blipFill>
          <a:blip r:embed="rId1"/>
          <a:stretch/>
        </p:blipFill>
        <p:spPr>
          <a:xfrm>
            <a:off x="1523880" y="21337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dverGothic"/>
              </a:rPr>
              <a:t>Теневой театр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File0007"/>
          <p:cNvPicPr/>
          <p:nvPr/>
        </p:nvPicPr>
        <p:blipFill>
          <a:blip r:embed="rId1"/>
          <a:stretch/>
        </p:blipFill>
        <p:spPr>
          <a:xfrm>
            <a:off x="609480" y="2209680"/>
            <a:ext cx="2590920" cy="2540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File0005"/>
          <p:cNvPicPr/>
          <p:nvPr/>
        </p:nvPicPr>
        <p:blipFill>
          <a:blip r:embed="rId2"/>
          <a:stretch/>
        </p:blipFill>
        <p:spPr>
          <a:xfrm>
            <a:off x="3657600" y="2743200"/>
            <a:ext cx="1919160" cy="2897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File0006"/>
          <p:cNvPicPr/>
          <p:nvPr/>
        </p:nvPicPr>
        <p:blipFill>
          <a:blip r:embed="rId3"/>
          <a:stretch/>
        </p:blipFill>
        <p:spPr>
          <a:xfrm>
            <a:off x="6019920" y="2209680"/>
            <a:ext cx="2666880" cy="2556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838080" y="5486400"/>
            <a:ext cx="2514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581280" y="5715000"/>
            <a:ext cx="19814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Зайч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6248520" y="5181480"/>
            <a:ext cx="7596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6019920" y="4876920"/>
            <a:ext cx="25905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Птич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ff"/>
                </a:solidFill>
                <a:latin typeface="Times New Roman"/>
              </a:rPr>
              <a:t>Расскажи стихи рука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3" descr="File0008"/>
          <p:cNvPicPr/>
          <p:nvPr/>
        </p:nvPicPr>
        <p:blipFill>
          <a:blip r:embed="rId1"/>
          <a:stretch/>
        </p:blipFill>
        <p:spPr>
          <a:xfrm>
            <a:off x="609480" y="2133720"/>
            <a:ext cx="3657600" cy="2760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File0009"/>
          <p:cNvPicPr/>
          <p:nvPr/>
        </p:nvPicPr>
        <p:blipFill>
          <a:blip r:embed="rId2"/>
          <a:stretch/>
        </p:blipFill>
        <p:spPr>
          <a:xfrm>
            <a:off x="4724280" y="2133720"/>
            <a:ext cx="4038840" cy="27493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2514600" y="49402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На поляне дом сто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Ну а к дому путь закры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Мы ворота открыва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В этот домик приглаша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5:51:46Z</dcterms:created>
  <dc:creator>12</dc:creator>
  <dc:description/>
  <dc:language>en-US</dc:language>
  <cp:lastModifiedBy>WIN7XP</cp:lastModifiedBy>
  <dcterms:modified xsi:type="dcterms:W3CDTF">2009-07-24T09:19:19Z</dcterms:modified>
  <cp:revision>7</cp:revision>
  <dc:subject/>
  <dc:title>Пальчиковая гимнастика</dc:title>
</cp:coreProperties>
</file>