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D2B-69DE-45C8-A965-64D568C5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8F1-4545-414C-B6B1-1DFF79BD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0AF-678B-453B-88EB-0CB3FB85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225-F247-4293-8F35-AD097C6C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DFF4-A874-4B9B-83CD-8656F174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7C02-4195-4617-88B9-771DD49C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9350-9525-49C6-AFCF-1414915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0EA-7F5D-43F5-92B4-3FEFA9BA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C17-4E7B-4641-B479-E7701C5B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145D-6C93-4519-9157-47ABC49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C458-E12A-431E-8191-AD035D6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B58-77C8-4A60-9992-65D6BDC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7368-C430-47E7-9551-5CF0C6B3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BA44-D5B4-4871-9BC8-609244A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B9F3-C833-4539-9463-C4254EE9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9D9-8351-45AF-A519-5208B0C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0E72-66BB-403D-9D85-3E2619F8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29B-BC4B-4E79-AA3B-6F8C339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195-0A83-4453-B4E7-17E3AE9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140-0DDF-4C5D-AD54-298638C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E82-E03B-4131-9749-07B97F7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19B-6D0A-4AF7-95C2-A374FA35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4BC-1D19-407F-9AC5-BCEAC3F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DE9-D8E6-44A4-84F6-B8F6933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EF8-F208-468A-8B9C-249480443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4765-7A73-4D00-A9A1-405561FC5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Brush Script MT"/>
              </a:rPr>
              <a:t>Пальчиковая гимнасти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 flipH="1">
            <a:off x="4724280" y="2971800"/>
            <a:ext cx="4114800" cy="289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нению учены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ирует рабо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евых зон в к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P3160002"/>
          <p:cNvPicPr/>
          <p:nvPr/>
        </p:nvPicPr>
        <p:blipFill>
          <a:blip r:embed="rId1"/>
          <a:stretch/>
        </p:blipFill>
        <p:spPr>
          <a:xfrm>
            <a:off x="533520" y="2362320"/>
            <a:ext cx="40384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Упражнения с предмета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2286000"/>
            <a:ext cx="312408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029200" y="2362320"/>
            <a:ext cx="297180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85800" y="4648320"/>
            <a:ext cx="297180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4648320" y="4495680"/>
            <a:ext cx="312408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64280" y="4724280"/>
            <a:ext cx="15037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ь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838080" y="2514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еный каранда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955760" y="24382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572000" y="2666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105520" y="4495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533412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525780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 flipH="1">
            <a:off x="5637960" y="5410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5181480" y="4724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9528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4952880" y="44956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1" descr="File0001"/>
          <p:cNvPicPr/>
          <p:nvPr/>
        </p:nvPicPr>
        <p:blipFill>
          <a:blip r:embed="rId1"/>
          <a:stretch/>
        </p:blipFill>
        <p:spPr>
          <a:xfrm>
            <a:off x="1752480" y="2971800"/>
            <a:ext cx="930240" cy="1003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2" descr="File0002"/>
          <p:cNvPicPr/>
          <p:nvPr/>
        </p:nvPicPr>
        <p:blipFill>
          <a:blip r:embed="rId2"/>
          <a:stretch/>
        </p:blipFill>
        <p:spPr>
          <a:xfrm>
            <a:off x="5715000" y="2971800"/>
            <a:ext cx="1554120" cy="1042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3" descr="File0004"/>
          <p:cNvPicPr/>
          <p:nvPr/>
        </p:nvPicPr>
        <p:blipFill>
          <a:blip r:embed="rId3"/>
          <a:stretch/>
        </p:blipFill>
        <p:spPr>
          <a:xfrm>
            <a:off x="2286000" y="4952880"/>
            <a:ext cx="112716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4" descr="File0003"/>
          <p:cNvPicPr/>
          <p:nvPr/>
        </p:nvPicPr>
        <p:blipFill>
          <a:blip r:embed="rId4"/>
          <a:stretch/>
        </p:blipFill>
        <p:spPr>
          <a:xfrm>
            <a:off x="51055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5"/>
          <p:cNvSpPr/>
          <p:nvPr/>
        </p:nvSpPr>
        <p:spPr>
          <a:xfrm>
            <a:off x="4876920" y="464832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опед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етка «Еж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СКОТЕРАПИЯ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SAND-PLAU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39621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сочная грам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сьмена на пе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сочная грам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0516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психо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ают,  что п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лощает негатив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ю  челове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билизирует 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состоя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P3160003"/>
          <p:cNvPicPr/>
          <p:nvPr/>
        </p:nvPicPr>
        <p:blipFill>
          <a:blip r:embed="rId1"/>
          <a:stretch/>
        </p:blipFill>
        <p:spPr>
          <a:xfrm>
            <a:off x="609480" y="21337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Пальчиковая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гимнастика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с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элементами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логоритм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3" descr="P3160005"/>
          <p:cNvPicPr/>
          <p:nvPr/>
        </p:nvPicPr>
        <p:blipFill>
          <a:blip r:embed="rId1"/>
          <a:stretch/>
        </p:blipFill>
        <p:spPr>
          <a:xfrm>
            <a:off x="1523880" y="21337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dverGothic"/>
              </a:rPr>
              <a:t>Теневой теат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File0007"/>
          <p:cNvPicPr/>
          <p:nvPr/>
        </p:nvPicPr>
        <p:blipFill>
          <a:blip r:embed="rId1"/>
          <a:stretch/>
        </p:blipFill>
        <p:spPr>
          <a:xfrm>
            <a:off x="609480" y="2209680"/>
            <a:ext cx="2590920" cy="254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0005"/>
          <p:cNvPicPr/>
          <p:nvPr/>
        </p:nvPicPr>
        <p:blipFill>
          <a:blip r:embed="rId2"/>
          <a:stretch/>
        </p:blipFill>
        <p:spPr>
          <a:xfrm>
            <a:off x="3657600" y="2743200"/>
            <a:ext cx="1919160" cy="289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ile0006"/>
          <p:cNvPicPr/>
          <p:nvPr/>
        </p:nvPicPr>
        <p:blipFill>
          <a:blip r:embed="rId3"/>
          <a:stretch/>
        </p:blipFill>
        <p:spPr>
          <a:xfrm>
            <a:off x="6019920" y="2209680"/>
            <a:ext cx="2666880" cy="2556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838080" y="5486400"/>
            <a:ext cx="2514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581280" y="5715000"/>
            <a:ext cx="19814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248520" y="5181480"/>
            <a:ext cx="7596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019920" y="4876920"/>
            <a:ext cx="25905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ти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Times New Roman"/>
              </a:rPr>
              <a:t>Расскажи стихи рука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3" descr="File0008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2760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File0009"/>
          <p:cNvPicPr/>
          <p:nvPr/>
        </p:nvPicPr>
        <p:blipFill>
          <a:blip r:embed="rId2"/>
          <a:stretch/>
        </p:blipFill>
        <p:spPr>
          <a:xfrm>
            <a:off x="4724280" y="2133720"/>
            <a:ext cx="4038840" cy="27493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514600" y="4940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а поляне дом сто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у а к дому путь закры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Мы ворота открыва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 этот домик приглаша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51:46Z</dcterms:created>
  <dc:creator>12</dc:creator>
  <dc:description/>
  <dc:language>en-US</dc:language>
  <cp:lastModifiedBy>WIN7XP</cp:lastModifiedBy>
  <dcterms:modified xsi:type="dcterms:W3CDTF">2009-07-24T09:19:19Z</dcterms:modified>
  <cp:revision>7</cp:revision>
  <dc:subject/>
  <dc:title>Пальчиковая гимнастика</dc:title>
</cp:coreProperties>
</file>