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25.png" ContentType="image/png"/>
  <Override PartName="/ppt/media/image1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6AEB-A3BA-425E-8025-95C4A63387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4793-3421-459D-85B5-9AD4293667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DAF3-748B-4991-BC01-F80CFD7C9A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8D93-A558-4C3B-B1B1-8C2BCFABE3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7A6D-25D6-47B2-91B8-12611CF07B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519-9337-496F-B70A-841622BF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E40-0901-4B70-8232-F352701C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8C5-78A1-4637-94A9-2EDA3DA9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3B7-C2E9-4071-8DD1-2880CE76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7DA-D3A7-44CC-8531-BA14264A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3D0-0F15-45A2-99FC-5F5BA584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775-B79A-4BA2-B64A-C468445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C6D-4D2A-498B-B9C2-4478FFF7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B9C-5290-4198-A60B-3386FA0B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B4C-C043-4AEC-A807-105438C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136-C6AC-4127-A373-8FC666C1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47D-1799-45BD-A596-C2B8697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BE1C-B939-44C1-8ADF-E842870122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762120"/>
            <a:ext cx="838224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оение пищеварительн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сте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2602080" y="380880"/>
            <a:ext cx="2819160" cy="609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3"/>
          <p:cNvSpPr/>
          <p:nvPr/>
        </p:nvSpPr>
        <p:spPr>
          <a:xfrm>
            <a:off x="4343400" y="8380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83640" y="3049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а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343400" y="17524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184720" y="121932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нт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5105520" y="23623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793480" y="190512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с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4038480" y="3657600"/>
            <a:ext cx="1062000" cy="228600"/>
          </a:xfrm>
          <a:prstGeom prst="leftArrow">
            <a:avLst>
              <a:gd name="adj1" fmla="val 50000"/>
              <a:gd name="adj2" fmla="val 1161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107320" y="32148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ль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7" descr="C:\11\имени-1.JPG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3840" y="2362320"/>
            <a:ext cx="8896320" cy="2133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2057400" y="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стоянные зубы (32ш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7164720" y="2286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ЕРХ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7658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508880" y="640080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ИЖ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505320" y="1600200"/>
            <a:ext cx="2209680" cy="3505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582360" y="60958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ЦЫ –4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2971800" y="2209680"/>
            <a:ext cx="533520" cy="27432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5638680" y="2209680"/>
            <a:ext cx="533520" cy="266724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58680" y="6094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ЫКИ –2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4495680" y="510552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3"/>
          <p:cNvSpPr/>
          <p:nvPr/>
        </p:nvSpPr>
        <p:spPr>
          <a:xfrm rot="1500000">
            <a:off x="3429000" y="12193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 rot="20100000">
            <a:off x="5486400" y="121896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981080" y="1752480"/>
            <a:ext cx="1067040" cy="350532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6172200" y="1752480"/>
            <a:ext cx="1066680" cy="350532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990720" y="571500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4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638680" y="5638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4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0" y="76212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6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6477120" y="76212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6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0" y="1676520"/>
            <a:ext cx="1981080" cy="35049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2362320" y="5257800"/>
            <a:ext cx="228600" cy="507960"/>
          </a:xfrm>
          <a:prstGeom prst="upArrow">
            <a:avLst>
              <a:gd name="adj1" fmla="val 50000"/>
              <a:gd name="adj2" fmla="val 5555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3"/>
          <p:cNvSpPr/>
          <p:nvPr/>
        </p:nvSpPr>
        <p:spPr>
          <a:xfrm>
            <a:off x="6629400" y="5257800"/>
            <a:ext cx="228600" cy="507960"/>
          </a:xfrm>
          <a:prstGeom prst="upArrow">
            <a:avLst>
              <a:gd name="adj1" fmla="val 50000"/>
              <a:gd name="adj2" fmla="val 5555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7162920" y="1752480"/>
            <a:ext cx="1981080" cy="35053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914400" y="1523880"/>
            <a:ext cx="228600" cy="471600"/>
          </a:xfrm>
          <a:prstGeom prst="downArrow">
            <a:avLst>
              <a:gd name="adj1" fmla="val 50000"/>
              <a:gd name="adj2" fmla="val 51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8077320" y="1600200"/>
            <a:ext cx="228600" cy="471600"/>
          </a:xfrm>
          <a:prstGeom prst="downArrow">
            <a:avLst>
              <a:gd name="adj1" fmla="val 50000"/>
              <a:gd name="adj2" fmla="val 51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4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3040" y="304920"/>
            <a:ext cx="3759480" cy="64008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/>
          <p:cNvSpPr/>
          <p:nvPr/>
        </p:nvSpPr>
        <p:spPr>
          <a:xfrm rot="600000">
            <a:off x="3123720" y="190512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 rot="21000000">
            <a:off x="3200400" y="228600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200400" y="213372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194000" y="19051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е корен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194000" y="114300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ые корен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 rot="21000000">
            <a:off x="2895480" y="1447920"/>
            <a:ext cx="1067040" cy="152280"/>
          </a:xfrm>
          <a:prstGeom prst="leftArrow">
            <a:avLst>
              <a:gd name="adj1" fmla="val 50000"/>
              <a:gd name="adj2" fmla="val 175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2819520" y="1371600"/>
            <a:ext cx="1066680" cy="152280"/>
          </a:xfrm>
          <a:prstGeom prst="left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295280" y="-76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ы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1"/>
          <p:cNvSpPr/>
          <p:nvPr/>
        </p:nvSpPr>
        <p:spPr>
          <a:xfrm rot="21000000">
            <a:off x="2437920" y="533160"/>
            <a:ext cx="111240" cy="780840"/>
          </a:xfrm>
          <a:prstGeom prst="downArrow">
            <a:avLst>
              <a:gd name="adj1" fmla="val 50000"/>
              <a:gd name="adj2" fmla="val 1754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2"/>
          <p:cNvSpPr/>
          <p:nvPr/>
        </p:nvSpPr>
        <p:spPr>
          <a:xfrm rot="600000">
            <a:off x="1600200" y="533520"/>
            <a:ext cx="111240" cy="780840"/>
          </a:xfrm>
          <a:prstGeom prst="downArrow">
            <a:avLst>
              <a:gd name="adj1" fmla="val 50000"/>
              <a:gd name="adj2" fmla="val 1754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29528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2057400" y="4876920"/>
            <a:ext cx="111240" cy="949320"/>
          </a:xfrm>
          <a:prstGeom prst="upArrow">
            <a:avLst>
              <a:gd name="adj1" fmla="val 50000"/>
              <a:gd name="adj2" fmla="val 2133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 rot="300000">
            <a:off x="2209320" y="4876920"/>
            <a:ext cx="76320" cy="949320"/>
          </a:xfrm>
          <a:prstGeom prst="upArrow">
            <a:avLst>
              <a:gd name="adj1" fmla="val 50000"/>
              <a:gd name="adj2" fmla="val 310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 rot="21360000">
            <a:off x="1980720" y="4876920"/>
            <a:ext cx="111240" cy="949320"/>
          </a:xfrm>
          <a:prstGeom prst="upArrow">
            <a:avLst>
              <a:gd name="adj1" fmla="val 50000"/>
              <a:gd name="adj2" fmla="val 2133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21000000">
            <a:off x="1828440" y="4876920"/>
            <a:ext cx="111240" cy="949320"/>
          </a:xfrm>
          <a:prstGeom prst="upArrow">
            <a:avLst>
              <a:gd name="adj1" fmla="val 50000"/>
              <a:gd name="adj2" fmla="val 2133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257800" y="2895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цы – 4*2=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257800" y="3505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ыки – 2*2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4191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ые коренные – 4*2=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4114800" y="4876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е коренные – 6*2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4952880" y="5638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того=8+4+8+12=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936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828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5680" y="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Функции зуб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762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езцы - режу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Клыки – разрыв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Большие и малые коренные – перемалыв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90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33520" y="2590920"/>
            <a:ext cx="7467480" cy="759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05320" y="3124080"/>
            <a:ext cx="476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езцы, клык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имеют по одному кор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1365840" y="55627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Большие коренные зубы – по 2-3 корня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7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19320" y="2819520"/>
            <a:ext cx="1612800" cy="154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28600" y="4952880"/>
            <a:ext cx="10288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a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800600" y="304920"/>
            <a:ext cx="4343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рото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л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исходи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евание 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ачи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юн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7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914400" y="380880"/>
            <a:ext cx="4083120" cy="57913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4800600" y="4419720"/>
            <a:ext cx="289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зуется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щево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м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48320" y="914400"/>
            <a:ext cx="3301920" cy="507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2"/>
          <a:stretch/>
        </p:blipFill>
        <p:spPr>
          <a:xfrm>
            <a:off x="609480" y="914400"/>
            <a:ext cx="4025880" cy="5079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946120" y="44280"/>
            <a:ext cx="212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ще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6629400" y="1219320"/>
            <a:ext cx="152280" cy="2057400"/>
          </a:xfrm>
          <a:prstGeom prst="downArrow">
            <a:avLst>
              <a:gd name="adj1" fmla="val 50000"/>
              <a:gd name="adj2" fmla="val 33776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06760" y="5241960"/>
            <a:ext cx="303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лот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2-14см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7"/>
          <p:cNvSpPr/>
          <p:nvPr/>
        </p:nvSpPr>
        <p:spPr>
          <a:xfrm>
            <a:off x="4648320" y="3505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щев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762440" y="0"/>
            <a:ext cx="438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ищевод 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мышечная труб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25 см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440400" y="251460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685800" y="304920"/>
            <a:ext cx="3162240" cy="61722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3"/>
          <p:cNvSpPr/>
          <p:nvPr/>
        </p:nvSpPr>
        <p:spPr>
          <a:xfrm rot="19740000">
            <a:off x="1980720" y="1218960"/>
            <a:ext cx="228600" cy="787320"/>
          </a:xfrm>
          <a:prstGeom prst="downArrow">
            <a:avLst>
              <a:gd name="adj1" fmla="val 50000"/>
              <a:gd name="adj2" fmla="val 8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2680" y="76212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730400" y="304920"/>
            <a:ext cx="421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форме желудок похо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бычий рог или крюч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мкость  около  2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пища задерж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перемешив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440400" y="251460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5546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800600" y="380880"/>
            <a:ext cx="4343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лудочный 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баты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очислен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лез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изистой обол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кв.мм содерж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оло 100 желе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фермент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ляная кисло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из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838080" y="609480"/>
            <a:ext cx="3416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172200" y="2514600"/>
            <a:ext cx="2703600" cy="4343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4495680" y="0"/>
            <a:ext cx="464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ончательное переваривание пищ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всас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т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ществ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0"/>
            <a:ext cx="35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нкая 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63560" y="6156360"/>
            <a:ext cx="44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лина около  4,5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 rot="1920000">
            <a:off x="7619760" y="617184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8600" y="914400"/>
            <a:ext cx="42163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5181480" y="781200"/>
            <a:ext cx="39625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щеварительный тра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ка достигает в длин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8-12 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520" y="228600"/>
            <a:ext cx="4628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6964920" y="0"/>
            <a:ext cx="21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=1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,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733920" y="5621400"/>
            <a:ext cx="533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токи печени впадают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енадцатиперстную киш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457200" y="838080"/>
            <a:ext cx="2781360" cy="5042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2"/>
          <a:stretch/>
        </p:blipFill>
        <p:spPr>
          <a:xfrm>
            <a:off x="3733920" y="1828800"/>
            <a:ext cx="50799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0" y="0"/>
            <a:ext cx="57769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068480" y="1093680"/>
            <a:ext cx="20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чен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668560" y="3581280"/>
            <a:ext cx="34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желудоч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еле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= 60-70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191120" y="54864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венадцатиперст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 rot="3300000">
            <a:off x="4736160" y="2959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 rot="8040000">
            <a:off x="3059280" y="5731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010280" y="0"/>
            <a:ext cx="2133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0" y="404640"/>
            <a:ext cx="7010280" cy="62042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"/>
          <p:cNvSpPr/>
          <p:nvPr/>
        </p:nvSpPr>
        <p:spPr>
          <a:xfrm>
            <a:off x="7086600" y="37339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410080" y="1981080"/>
            <a:ext cx="1752840" cy="228600"/>
          </a:xfrm>
          <a:prstGeom prst="leftArrow">
            <a:avLst>
              <a:gd name="adj1" fmla="val 50000"/>
              <a:gd name="adj2" fmla="val 19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5943600" y="55627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78168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400800" y="42670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джелудоч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еле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334120" y="59119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венадцатиперстная ки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762840" y="0"/>
            <a:ext cx="37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лстая 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056280" y="0"/>
            <a:ext cx="3087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лина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5 – 2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-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080" y="5943600"/>
            <a:ext cx="647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сасывание воды, образование кал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09480" y="685800"/>
            <a:ext cx="4178520" cy="5079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095880" y="213372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191120" y="762120"/>
            <a:ext cx="4495680" cy="392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4345920" y="4800600"/>
            <a:ext cx="200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леп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4648320" y="3886200"/>
            <a:ext cx="304560" cy="838080"/>
          </a:xfrm>
          <a:prstGeom prst="upArrow">
            <a:avLst>
              <a:gd name="adj1" fmla="val 50000"/>
              <a:gd name="adj2" fmla="val 687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0040" y="4191120"/>
            <a:ext cx="271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ппендик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8-15 см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914400"/>
            <a:ext cx="38102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09480" y="1295280"/>
            <a:ext cx="35053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РОТОВАЯ ПОЛ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2286000"/>
            <a:ext cx="17528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ГЛО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3124080"/>
            <a:ext cx="1981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ПИЩЕВ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09480" y="4038480"/>
            <a:ext cx="20574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ЖЕЛУД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09480" y="4952880"/>
            <a:ext cx="23623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КИШЕЧ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320" y="34128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ищеварительный кан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867280" y="1371600"/>
            <a:ext cx="27432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СЛЮ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867280" y="2362320"/>
            <a:ext cx="274320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ЕЧ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867280" y="3352680"/>
            <a:ext cx="27432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ЖЕЛУ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952880" y="4343400"/>
            <a:ext cx="3657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ПОДЖЕЛУДО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93600" y="341280"/>
            <a:ext cx="45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ecff"/>
                </a:solidFill>
                <a:uFillTx/>
                <a:latin typeface="Times New Roman"/>
              </a:rPr>
              <a:t>Пищеварительные желе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608040" y="22860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юсть новорожден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562720" y="1725480"/>
            <a:ext cx="3276360" cy="34459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остях челю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ны развивающие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рез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6 месяц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520" y="1066680"/>
            <a:ext cx="5079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4160" y="990720"/>
            <a:ext cx="5079960" cy="5448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911880" y="0"/>
            <a:ext cx="45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убы 5-летнего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62720" y="1336680"/>
            <a:ext cx="3411360" cy="30801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ый набор из 20 молочных зуб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ны формирующие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оян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беих челюст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685800" y="4419720"/>
            <a:ext cx="3048120" cy="1904760"/>
          </a:xfrm>
          <a:prstGeom prst="pie">
            <a:avLst/>
          </a:prstGeom>
          <a:solidFill>
            <a:srgbClr val="ff0000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9480" y="1447920"/>
            <a:ext cx="2210040" cy="1981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/>
          <p:cNvSpPr/>
          <p:nvPr/>
        </p:nvSpPr>
        <p:spPr>
          <a:xfrm rot="1380000">
            <a:off x="2958840" y="3110040"/>
            <a:ext cx="2209680" cy="417240"/>
          </a:xfrm>
          <a:prstGeom prst="leftArrow">
            <a:avLst>
              <a:gd name="adj1" fmla="val 50000"/>
              <a:gd name="adj2" fmla="val 132399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9"/>
          <p:cNvSpPr/>
          <p:nvPr/>
        </p:nvSpPr>
        <p:spPr>
          <a:xfrm rot="19680000">
            <a:off x="3581280" y="4419360"/>
            <a:ext cx="1905120" cy="417240"/>
          </a:xfrm>
          <a:prstGeom prst="leftArrow">
            <a:avLst>
              <a:gd name="adj1" fmla="val 50000"/>
              <a:gd name="adj2" fmla="val 114150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910440" y="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убы взрослого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257800" y="925560"/>
            <a:ext cx="3639960" cy="478656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к 20 г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ет в норме в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2 постоянных зуб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ключая зубы мудр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5% людей вооб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меют зуб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др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7840" y="762120"/>
            <a:ext cx="50799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2362320" y="1066680"/>
            <a:ext cx="3162240" cy="507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096960" y="1371600"/>
            <a:ext cx="17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ро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250320" y="228600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ей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72920" y="347328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5257800" y="36576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5334120" y="2514600"/>
            <a:ext cx="761760" cy="304920"/>
          </a:xfrm>
          <a:prstGeom prst="leftArrow">
            <a:avLst>
              <a:gd name="adj1" fmla="val 50000"/>
              <a:gd name="adj2" fmla="val 6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5334120" y="1600200"/>
            <a:ext cx="761760" cy="304920"/>
          </a:xfrm>
          <a:prstGeom prst="leftArrow">
            <a:avLst>
              <a:gd name="adj1" fmla="val 50000"/>
              <a:gd name="adj2" fmla="val 6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824480" y="0"/>
            <a:ext cx="57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нешнее строение зу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838080"/>
            <a:ext cx="547344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525680" y="228600"/>
            <a:ext cx="57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оперечный разрез зуб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021720" y="114300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м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326640" y="190512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с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82680" y="182880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нт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2000" y="4068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л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43200" y="609480"/>
            <a:ext cx="3659040" cy="5461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6398640" y="22096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с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886920" y="604980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744280" y="5973840"/>
            <a:ext cx="10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220400" y="4876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ртер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84160" y="53352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а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337480" y="99072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т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732680" y="161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ль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56:04Z</dcterms:created>
  <dc:creator>кирилл</dc:creator>
  <dc:description/>
  <dc:language>en-US</dc:language>
  <cp:lastModifiedBy>COMP</cp:lastModifiedBy>
  <dcterms:modified xsi:type="dcterms:W3CDTF">2011-09-26T16:22:17Z</dcterms:modified>
  <cp:revision>67</cp:revision>
  <dc:subject/>
  <dc:title>Презентация PowerPoint</dc:title>
</cp:coreProperties>
</file>