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18B-77B0-40C9-B090-2D9D3C7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AFB-3A50-4FC8-B5B1-7D45468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5A4-CC9C-4AA6-88B3-83C55AB6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E47-8B28-4C6D-A801-1FBF5E8B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3FAB-FFC7-4E66-8E1C-756C85AF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A04E-526B-4A6A-8F1F-94A7DDE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75A-6CC7-4AF1-8F14-9FD4DC3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DF2-3AE4-4464-8CB5-E89432B1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68D-EE8B-44B8-A835-317E841E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A883-4372-4150-9550-627914E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AD6-8EA9-47BF-B6DC-6F8E833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A17-CD3D-4EBA-82C0-CA468C6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4B2-9742-4390-B1A9-BE69ABD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75D-A098-4842-9BC2-AEEB754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376F-A28F-4387-86EB-32BD91C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E11B-951B-457F-8567-6E0F89A6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FA10-E20A-4F0A-B89B-FC47CA8A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5BEE-10A6-4B62-A846-5C00F579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B9A7-B62F-4FF8-9324-809E46B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EADA-FCE0-47DD-96C0-75C16D7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803A-FBE1-41B8-94D0-30C25BC0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2EC3-7F14-4B14-A5EF-AD415D9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773-DAF6-4ADD-A7E8-D8230BF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6F07-185E-4087-A573-15D6F488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657F-2E63-4DC1-B121-648C6CC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11E0-0E31-49FE-842C-EA7A563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46B4-AA51-4C8A-AA6F-86ACA99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B95D-A98B-4B87-9377-7403C63A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E465-6FF9-4EC4-A951-9F6E1DB3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F1A8-805A-44FC-B63E-A1223FFE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DE3-F8E0-434B-9732-D116764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2E0-EBEA-453B-BADF-93E51A3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4C7-BAD6-4778-B79B-AE4296B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6DD-D95B-4F5A-9265-B9C6039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424-4CD0-475B-B535-DBCA4F4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851-CEFE-443E-935E-69F2AFB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CDEE-4BEF-400E-8BBA-0E3F4A162A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B7AD-703B-4D60-8C7E-B06B76E762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2B7B-EF14-462D-B551-15631F2F8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134136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Palatino Linotype"/>
              </a:rPr>
              <a:t>Графический способ решения 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386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Выполнили: учителя математики МОУ «СОШ п. Тепличный» Кукушкина О.С. , Петрова Н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3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43280" y="1052640"/>
                <a:ext cx="2016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68360" y="1773360"/>
            <a:ext cx="73436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первого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второго уравнения                является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, полученная из графика функции у=х смещением на 2 вверх по оси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 4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635280" y="1052640"/>
                <a:ext cx="2232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59280" y="2676600"/>
                <a:ext cx="1730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37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99442d"/>
                </a:solidFill>
                <a:latin typeface="Verdana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является </a:t>
            </a:r>
            <a:r>
              <a:rPr b="0" lang="ru-RU" sz="3200" spc="-1" strike="noStrike">
                <a:solidFill>
                  <a:srgbClr val="660000"/>
                </a:solidFill>
                <a:latin typeface="Verdana"/>
              </a:rPr>
              <a:t>окружность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с центром в начале координат и радиусом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16360" y="4149720"/>
                <a:ext cx="1873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50d28"/>
                </a:solidFill>
                <a:latin typeface="Palatino Linotype"/>
              </a:rPr>
              <a:t>Закрепление материал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3, 234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на доске с провер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8(а, б)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самостоятельно с последующей провер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5640" cy="3012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Times New Roman"/>
              </a:rPr>
              <a:t>ИТАК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ется графиком уравнения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ют решением системы уравнений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Сколько решений системы уравнений второй степени может бы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Приведите свои примеры, когда решений 1, 2, 3, 4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Palatino Linotype"/>
              </a:rPr>
              <a:t>Домашнее задание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№ </a:t>
            </a: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Принести цирку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592800" cy="41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683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ыразить переменную 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через переменную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определите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уравн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+х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5х-у=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ху=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-4=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824360" cy="431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Garamond"/>
              </a:rPr>
              <a:t>Решите систему уравнений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2708280"/>
                <a:ext cx="292428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940360" y="2708280"/>
                <a:ext cx="28177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873440" cy="235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cc"/>
                </a:solidFill>
                <a:latin typeface="Courier New"/>
              </a:rPr>
              <a:t>Примеры уравнений с двумя переменным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2х+3у=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ху=-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00720" y="3633840"/>
                <a:ext cx="40924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075040" cy="384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графиком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 уравнения с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двумя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еременными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называется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множество точек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ординатной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лоскости,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708244"/>
                </a:solidFill>
                <a:latin typeface="Times New Roman"/>
              </a:rPr>
              <a:t>координаты</a:t>
            </a:r>
            <a:r>
              <a:rPr b="1" i="1" lang="en-US" sz="2800" spc="-1" strike="noStrike" u="sng">
                <a:solidFill>
                  <a:srgbClr val="66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торы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08244"/>
                </a:solidFill>
                <a:latin typeface="Times New Roman"/>
              </a:rPr>
              <a:t>обращают уравнение в верное равен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0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0066"/>
                </a:solidFill>
                <a:uFillTx/>
                <a:latin typeface="Monotype Corsiva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54720" y="215100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7417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42d"/>
                </a:solidFill>
                <a:latin typeface="Bookman Old Style"/>
              </a:rPr>
              <a:t>Графиком уравнений с двумя переменными может бы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ряма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араб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93372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48960" y="3284640"/>
            <a:ext cx="1929600" cy="1366200"/>
            <a:chOff x="4548960" y="3284640"/>
            <a:chExt cx="1929600" cy="1366200"/>
          </a:xfrm>
        </p:grpSpPr>
        <p:sp>
          <p:nvSpPr>
            <p:cNvPr id="157" name=""/>
            <p:cNvSpPr/>
            <p:nvPr/>
          </p:nvSpPr>
          <p:spPr>
            <a:xfrm flipV="1">
              <a:off x="5504040" y="3284640"/>
              <a:ext cx="0" cy="134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76760" y="4038480"/>
              <a:ext cx="175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0320" y="3871800"/>
              <a:ext cx="0" cy="16632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4040" y="3871800"/>
              <a:ext cx="206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04040" y="3284640"/>
              <a:ext cx="206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07360" y="4038480"/>
              <a:ext cx="3110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97760" y="378756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1280" y="393192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91280" y="4074840"/>
              <a:ext cx="4586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7360" y="4071960"/>
              <a:ext cx="871200" cy="57888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512000">
              <a:off x="4571280" y="3399840"/>
              <a:ext cx="871560" cy="57924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5280" y="4003560"/>
              <a:ext cx="355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0080" y="3315960"/>
              <a:ext cx="412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00720" y="2060640"/>
            <a:ext cx="1366920" cy="1539720"/>
            <a:chOff x="6300720" y="2060640"/>
            <a:chExt cx="1366920" cy="1539720"/>
          </a:xfrm>
        </p:grpSpPr>
        <p:sp>
          <p:nvSpPr>
            <p:cNvPr id="171" name=""/>
            <p:cNvSpPr/>
            <p:nvPr/>
          </p:nvSpPr>
          <p:spPr>
            <a:xfrm>
              <a:off x="6300720" y="2924280"/>
              <a:ext cx="1366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680160" y="2122560"/>
              <a:ext cx="0" cy="1233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2360" y="2349360"/>
              <a:ext cx="725400" cy="1251000"/>
            </a:xfrm>
            <a:custGeom>
              <a:avLst/>
              <a:gdLst/>
              <a:ahLst/>
              <a:rect l="l" t="t" r="r" b="b"/>
              <a:pathLst>
                <a:path w="457" h="788">
                  <a:moveTo>
                    <a:pt x="0" y="754"/>
                  </a:moveTo>
                  <a:cubicBezTo>
                    <a:pt x="23" y="651"/>
                    <a:pt x="92" y="249"/>
                    <a:pt x="130" y="127"/>
                  </a:cubicBezTo>
                  <a:cubicBezTo>
                    <a:pt x="168" y="5"/>
                    <a:pt x="192" y="0"/>
                    <a:pt x="226" y="20"/>
                  </a:cubicBezTo>
                  <a:cubicBezTo>
                    <a:pt x="260" y="40"/>
                    <a:pt x="296" y="121"/>
                    <a:pt x="334" y="249"/>
                  </a:cubicBezTo>
                  <a:cubicBezTo>
                    <a:pt x="372" y="377"/>
                    <a:pt x="432" y="676"/>
                    <a:pt x="457" y="788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1560" y="2060640"/>
              <a:ext cx="442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4280" y="263700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9920" y="292428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05560" y="285264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24720" y="292428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96360" y="1125360"/>
            <a:ext cx="1252440" cy="1476360"/>
            <a:chOff x="7596360" y="1125360"/>
            <a:chExt cx="1252440" cy="1476360"/>
          </a:xfrm>
        </p:grpSpPr>
        <p:sp>
          <p:nvSpPr>
            <p:cNvPr id="180" name=""/>
            <p:cNvSpPr/>
            <p:nvPr/>
          </p:nvSpPr>
          <p:spPr>
            <a:xfrm flipV="1">
              <a:off x="8123400" y="1196640"/>
              <a:ext cx="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6360" y="1987560"/>
              <a:ext cx="11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3400" y="1197000"/>
              <a:ext cx="131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3480" y="1987560"/>
              <a:ext cx="265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7680" y="196992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1640" y="172404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91640" y="1987560"/>
              <a:ext cx="198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667640" y="1413000"/>
              <a:ext cx="1008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67680" y="1125360"/>
              <a:ext cx="4366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2360" y="112536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564000" y="4221000"/>
            <a:ext cx="1160280" cy="1441080"/>
            <a:chOff x="3564000" y="4221000"/>
            <a:chExt cx="1160280" cy="1441080"/>
          </a:xfrm>
        </p:grpSpPr>
        <p:sp>
          <p:nvSpPr>
            <p:cNvPr id="191" name=""/>
            <p:cNvSpPr/>
            <p:nvPr/>
          </p:nvSpPr>
          <p:spPr>
            <a:xfrm>
              <a:off x="4441680" y="4948200"/>
              <a:ext cx="27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108320" y="4360680"/>
              <a:ext cx="0" cy="1301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64000" y="5092560"/>
              <a:ext cx="1160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08320" y="4361040"/>
              <a:ext cx="138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6200" y="507672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86900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3680" y="5092560"/>
              <a:ext cx="204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294080"/>
              <a:ext cx="3445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0360" y="4221000"/>
              <a:ext cx="2062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0000" y="4726080"/>
              <a:ext cx="649080" cy="6476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627280" y="1844640"/>
            <a:ext cx="4608720" cy="0"/>
          </a:xfrm>
          <a:prstGeom prst="line">
            <a:avLst/>
          </a:prstGeom>
          <a:ln w="57240">
            <a:solidFill>
              <a:srgbClr val="cc0000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2852640"/>
            <a:ext cx="3313080" cy="0"/>
          </a:xfrm>
          <a:prstGeom prst="line">
            <a:avLst/>
          </a:prstGeom>
          <a:ln w="57240">
            <a:solidFill>
              <a:srgbClr val="660000"/>
            </a:solidFill>
            <a:prstDash val="lgDash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3716280"/>
            <a:ext cx="1512720" cy="0"/>
          </a:xfrm>
          <a:prstGeom prst="line">
            <a:avLst/>
          </a:prstGeom>
          <a:ln w="57240">
            <a:solidFill>
              <a:srgbClr val="660066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4653000"/>
            <a:ext cx="576360" cy="0"/>
          </a:xfrm>
          <a:prstGeom prst="line">
            <a:avLst/>
          </a:prstGeom>
          <a:ln w="57240">
            <a:solidFill>
              <a:srgbClr val="33ccff"/>
            </a:solidFill>
            <a:prstDash val="lgDashDot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464328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Задача №1решить графически систему уравнений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 яв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параб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етви которой направлены 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является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прямая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, полученная из графика функции у=х смещением на 1 вверх по оси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076720" y="1844640"/>
                <a:ext cx="2519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65360" y="1220760"/>
                <a:ext cx="1401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378320" y="2924280"/>
                <a:ext cx="16095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Задача №2 Решить графически систему уравнений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00480" y="3467160"/>
                <a:ext cx="152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916360" y="1125360"/>
                <a:ext cx="2522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39640" y="2060640"/>
            <a:ext cx="748836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перв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окружность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с центром в точке (3,2) и радиусом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втор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проходящая через начало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Построим графики для каждого из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392360" y="487440"/>
            <a:ext cx="3721320" cy="5884920"/>
            <a:chOff x="4392360" y="487440"/>
            <a:chExt cx="3721320" cy="5884920"/>
          </a:xfrm>
        </p:grpSpPr>
        <p:sp>
          <p:nvSpPr>
            <p:cNvPr id="221" name=""/>
            <p:cNvSpPr/>
            <p:nvPr/>
          </p:nvSpPr>
          <p:spPr>
            <a:xfrm flipH="1">
              <a:off x="4392360" y="487440"/>
              <a:ext cx="34920" cy="58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1413000"/>
              <a:ext cx="2448000" cy="223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2708280"/>
              <a:ext cx="58716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24720" y="1628640"/>
              <a:ext cx="5889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50920" y="486900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Ответ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442d"/>
                </a:solidFill>
                <a:latin typeface="Verdana"/>
              </a:rPr>
              <a:t>А(1,5;0,7), В(5,1;2,5),</a:t>
            </a:r>
            <a:r>
              <a:rPr b="0" lang="en-US" sz="1800" spc="-1" strike="noStrike">
                <a:solidFill>
                  <a:srgbClr val="99442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9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90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38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5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567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26560" y="476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26560" y="709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26560" y="944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26560" y="1179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26560" y="1881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26560" y="21160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26560" y="1413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26560" y="1628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26560" y="23511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26560" y="25844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26560" y="28195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26560" y="30528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826560" y="3348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26560" y="3581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26560" y="38149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6560" y="4049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26560" y="43419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26560" y="45766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26560" y="48117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26560" y="50450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26560" y="52801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26560" y="55134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26560" y="57484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26560" y="59832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26560" y="6218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26560" y="6451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27640" y="476280"/>
            <a:ext cx="0" cy="597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357192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92360" y="1916280"/>
            <a:ext cx="684036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5928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6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651640" y="907920"/>
                <a:ext cx="228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81010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40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8000" y="3716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8456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0560" y="680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87640" y="4146480"/>
                <a:ext cx="10540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148360" y="3141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8720" y="2205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7:29Z</dcterms:created>
  <dc:creator>Nata</dc:creator>
  <dc:description/>
  <dc:language>en-US</dc:language>
  <cp:lastModifiedBy>Nata</cp:lastModifiedBy>
  <dcterms:modified xsi:type="dcterms:W3CDTF">2009-03-26T18:36:05Z</dcterms:modified>
  <cp:revision>37</cp:revision>
  <dc:subject/>
  <dc:title>Графический способ решения систем уравнений</dc:title>
</cp:coreProperties>
</file>