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7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82C-B58F-4D32-B7CB-4920DEAD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4D68-BEB3-4089-94C4-8A3EB35B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779-B701-4297-BD17-A4B086A9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9758-4EB4-4260-956A-298BED4B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8F4F-E49C-43D1-930D-577060F6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07AE-11B5-4798-9751-818CCDCD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6E14-C4D7-450F-8C49-6FB0F056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DFD6-F0C8-4402-9085-B3BB6845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DE48-20EC-4A26-B9A4-C61C626E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593C-515D-4FC4-B01A-DB1EDCB8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DCB8-AB50-40E8-AD64-81A08068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5D58-E4A6-495B-85B5-7F0548BF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C626-A353-4DBE-BE92-5306221D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0755-1AD5-4FD3-A644-2F095DF0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ED07-8ED9-4446-84A4-A09A32D8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27CF-3152-4BB6-962F-3507880B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6381-3A46-4552-B9C9-5F4D44A5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16787-040F-4E66-91E4-73B50FBE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5C818-FF9B-409E-9011-7BC806C2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8DD29-2BC3-4C40-B073-FAB3A963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91E92-F274-4CB4-B2AA-175B3291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9715C-B22A-4E1B-A090-947EC7DD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0E07-6190-42D2-9C3C-5AF3981E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4C7BD-8FFE-4B7A-8349-5B37D701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F43D6-0C96-456D-9EF8-E0F5C3A6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79DB2-2927-4A7F-A561-0A6115D8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6A332-F74A-4DD9-8D39-0D076DF8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9B771-A97C-4493-8F49-A9CA937D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7B6DB-81A4-4724-8823-7B7A640D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A2444-664F-4646-B8B6-7452A346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AAAA-E9AF-4C92-A524-66251770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2D6-D521-4CD5-A102-74D1366A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C8D1-11E2-43D0-B4C9-A7A7B81F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610-9F69-4E9C-98AE-CEDF6DB1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3EA-4684-4B72-94B1-EE2399B4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0D55-BE16-4DDF-AB30-E24820A2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6583-9FF3-4B41-84BE-5B289D2B23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3157-E802-4027-A1E5-65AF4E9ADEA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8CA5-E8E4-4790-8918-67292A5ED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16000" y="1341360"/>
            <a:ext cx="67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99"/>
                </a:solidFill>
                <a:latin typeface="Palatino Linotype"/>
              </a:rPr>
              <a:t>Графический способ решения уравне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3860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Выполнили: учителя математики МОУ «СОШ п. Тепличный» Кукушкина О.С. , Петрова Н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442d"/>
                </a:solidFill>
                <a:latin typeface="Times New Roman"/>
              </a:rPr>
              <a:t>Задача №3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Решить графически систему уравнений 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843280" y="1052640"/>
                <a:ext cx="201600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ху</m:t>
                            </m:r>
                            <m:r>
                              <m:t xml:space="preserve">=</m:t>
                            </m:r>
                            <m:r>
                              <m:t xml:space="preserve">6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468360" y="1773360"/>
            <a:ext cx="734364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Графиком первого уравнения                 является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 u="sng">
                <a:solidFill>
                  <a:srgbClr val="996633"/>
                </a:solidFill>
                <a:uFillTx/>
                <a:latin typeface="Verdana"/>
                <a:hlinkClick r:id="rId1" action="ppaction://hlinksldjump"/>
              </a:rPr>
              <a:t>гипербол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ветви которой расположены в </a:t>
            </a:r>
            <a:r>
              <a:rPr b="0" lang="en-US" sz="3200" spc="-1" strike="noStrike">
                <a:solidFill>
                  <a:srgbClr val="993300"/>
                </a:solidFill>
                <a:latin typeface="Verdana"/>
              </a:rPr>
              <a:t>I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 и </a:t>
            </a:r>
            <a:r>
              <a:rPr b="0" lang="en-US" sz="3200" spc="-1" strike="noStrike">
                <a:solidFill>
                  <a:srgbClr val="993300"/>
                </a:solidFill>
                <a:latin typeface="Verdana"/>
              </a:rPr>
              <a:t>III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Графиком второго уравнения                является </a:t>
            </a:r>
            <a:r>
              <a:rPr b="0" lang="ru-RU" sz="3200" spc="-1" strike="noStrike" u="sng">
                <a:solidFill>
                  <a:srgbClr val="996633"/>
                </a:solidFill>
                <a:uFillTx/>
                <a:latin typeface="Verdana"/>
                <a:hlinkClick r:id="rId2" action="ppaction://hlinksldjump"/>
              </a:rPr>
              <a:t>прямая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, полученная из графика функции у=х смещением на 2 вверх по оси 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442d"/>
                </a:solidFill>
                <a:latin typeface="Times New Roman"/>
              </a:rPr>
              <a:t>Задача № 4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Решить графически систему уравнений 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635280" y="1052640"/>
                <a:ext cx="22320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ху</m:t>
                            </m:r>
                            <m:r>
                              <m:t xml:space="preserve">=</m:t>
                            </m:r>
                            <m:r>
                              <m:t xml:space="preserve">6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859280" y="2676600"/>
                <a:ext cx="17305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ху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0" y="2637000"/>
            <a:ext cx="79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Графиком уравнения                 является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99442d"/>
                </a:solidFill>
                <a:latin typeface="Verdana"/>
              </a:rPr>
              <a:t>гипербол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ветви которой расположены в </a:t>
            </a:r>
            <a:r>
              <a:rPr b="0" lang="en-US" sz="3200" spc="-1" strike="noStrike">
                <a:solidFill>
                  <a:srgbClr val="993300"/>
                </a:solidFill>
                <a:latin typeface="Verdana"/>
              </a:rPr>
              <a:t>I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 и </a:t>
            </a:r>
            <a:r>
              <a:rPr b="0" lang="en-US" sz="3200" spc="-1" strike="noStrike">
                <a:solidFill>
                  <a:srgbClr val="993300"/>
                </a:solidFill>
                <a:latin typeface="Verdana"/>
              </a:rPr>
              <a:t>III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Графиком уравнения                является </a:t>
            </a:r>
            <a:r>
              <a:rPr b="0" lang="ru-RU" sz="3200" spc="-1" strike="noStrike">
                <a:solidFill>
                  <a:srgbClr val="660000"/>
                </a:solidFill>
                <a:latin typeface="Verdana"/>
              </a:rPr>
              <a:t>окружность</a:t>
            </a: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 с центром в начале координат и радиусом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Verdana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716360" y="4149720"/>
                <a:ext cx="1873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50d28"/>
                </a:solidFill>
                <a:latin typeface="Palatino Linotype"/>
              </a:rPr>
              <a:t>Закрепление материал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Palatino Linotype"/>
              </a:rPr>
              <a:t>№ </a:t>
            </a:r>
            <a:r>
              <a:rPr b="1" lang="en-US" sz="3600" spc="-1" strike="noStrike">
                <a:solidFill>
                  <a:srgbClr val="ff9966"/>
                </a:solidFill>
                <a:latin typeface="Palatino Linotype"/>
              </a:rPr>
              <a:t>233, 234-</a:t>
            </a:r>
            <a:r>
              <a:rPr b="1" lang="en-US" sz="2800" spc="-1" strike="noStrike">
                <a:solidFill>
                  <a:srgbClr val="ff9966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Palatino Linotype"/>
              </a:rPr>
              <a:t>на доске с проверк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66"/>
                </a:solidFill>
                <a:latin typeface="Palatino Linotype"/>
              </a:rPr>
              <a:t>№ </a:t>
            </a:r>
            <a:r>
              <a:rPr b="1" lang="en-US" sz="3600" spc="-1" strike="noStrike">
                <a:solidFill>
                  <a:srgbClr val="ff9966"/>
                </a:solidFill>
                <a:latin typeface="Palatino Linotype"/>
              </a:rPr>
              <a:t>238(а, б)-</a:t>
            </a:r>
            <a:r>
              <a:rPr b="1" lang="en-US" sz="2800" spc="-1" strike="noStrike">
                <a:solidFill>
                  <a:srgbClr val="ff9966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Palatino Linotype"/>
              </a:rPr>
              <a:t>самостоятельно с последующей проверк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095640" cy="3012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ff"/>
                </a:solidFill>
                <a:latin typeface="Times New Roman"/>
              </a:rPr>
              <a:t>ИТАК…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Bookman Old Style"/>
              </a:rPr>
              <a:t>Что называется графиком уравнения с двумя переменным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Bookman Old Style"/>
              </a:rPr>
              <a:t>Что называют решением системы уравнений с двумя переменным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Bookman Old Style"/>
              </a:rPr>
              <a:t>Сколько решений системы уравнений второй степени может бы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Bookman Old Style"/>
              </a:rPr>
              <a:t>Приведите свои примеры, когда решений 1, 2, 3, 4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99"/>
                </a:solidFill>
                <a:latin typeface="Palatino Linotype"/>
              </a:rPr>
              <a:t>Домашнее задание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00"/>
                </a:solidFill>
                <a:latin typeface="Times New Roman"/>
              </a:rPr>
              <a:t>№ </a:t>
            </a:r>
            <a:r>
              <a:rPr b="1" i="1" lang="en-US" sz="4000" spc="-1" strike="noStrike">
                <a:solidFill>
                  <a:srgbClr val="993300"/>
                </a:solidFill>
                <a:latin typeface="Times New Roman"/>
              </a:rPr>
              <a:t>2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00"/>
                </a:solidFill>
                <a:latin typeface="Times New Roman"/>
              </a:rPr>
              <a:t>2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00"/>
                </a:solidFill>
                <a:latin typeface="Times New Roman"/>
              </a:rPr>
              <a:t>24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00"/>
                </a:solidFill>
                <a:latin typeface="Times New Roman"/>
              </a:rPr>
              <a:t>Принести циркул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Monotype Corsiva"/>
              </a:rPr>
              <a:t>Спасибо за внимание!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3592800" cy="4176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36831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Выразить переменную 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через переменную 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и определите, чт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представляет соб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уравн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у+х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5х-у=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ху=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у-4=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95640" y="1989000"/>
            <a:ext cx="4824360" cy="4319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cc"/>
                </a:solidFill>
                <a:latin typeface="Garamond"/>
              </a:rPr>
              <a:t>Решите систему уравнений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2708280"/>
                <a:ext cx="2924280" cy="20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940360" y="2708280"/>
                <a:ext cx="281772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х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708360" y="4005360"/>
            <a:ext cx="1873440" cy="2359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cc"/>
                </a:solidFill>
                <a:latin typeface="Courier New"/>
              </a:rPr>
              <a:t>Примеры уравнений с двумя переменным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Monotype Corsiva"/>
              </a:rPr>
              <a:t>2х+3у=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0" i="1" lang="en-US" sz="6000" spc="-1" strike="noStrike">
                <a:solidFill>
                  <a:srgbClr val="000000"/>
                </a:solidFill>
                <a:latin typeface="Monotype Corsiva"/>
              </a:rPr>
              <a:t>ху=-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500720" y="3633840"/>
                <a:ext cx="409248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2075040" cy="384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996633"/>
                </a:solidFill>
                <a:latin typeface="Times New Roman"/>
              </a:rPr>
              <a:t>графиком</a:t>
            </a:r>
            <a:r>
              <a:rPr b="1" lang="en-US" sz="2800" spc="-1" strike="noStrike">
                <a:solidFill>
                  <a:srgbClr val="99442d"/>
                </a:solidFill>
                <a:latin typeface="Times New Roman"/>
              </a:rPr>
              <a:t> уравнения с</a:t>
            </a:r>
            <a:r>
              <a:rPr b="1" lang="en-US" sz="2800" spc="-1" strike="noStrike">
                <a:solidFill>
                  <a:srgbClr val="9999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6633"/>
                </a:solidFill>
                <a:latin typeface="Times New Roman"/>
              </a:rPr>
              <a:t>двумя</a:t>
            </a: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442d"/>
                </a:solidFill>
                <a:latin typeface="Times New Roman"/>
              </a:rPr>
              <a:t>переменными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442d"/>
                </a:solidFill>
                <a:latin typeface="Times New Roman"/>
              </a:rPr>
              <a:t>называется</a:t>
            </a:r>
            <a:r>
              <a:rPr b="1" lang="en-US" sz="2800" spc="-1" strike="noStrike">
                <a:solidFill>
                  <a:srgbClr val="9999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3300"/>
                </a:solidFill>
                <a:latin typeface="Times New Roman"/>
              </a:rPr>
              <a:t>множество точек</a:t>
            </a:r>
            <a:r>
              <a:rPr b="1" lang="en-US" sz="2800" spc="-1" strike="noStrike">
                <a:solidFill>
                  <a:srgbClr val="9999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442d"/>
                </a:solidFill>
                <a:latin typeface="Times New Roman"/>
              </a:rPr>
              <a:t>координатной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442d"/>
                </a:solidFill>
                <a:latin typeface="Times New Roman"/>
              </a:rPr>
              <a:t>плоскости,</a:t>
            </a:r>
            <a:r>
              <a:rPr b="1" lang="en-US" sz="2800" spc="-1" strike="noStrike">
                <a:solidFill>
                  <a:srgbClr val="9999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708244"/>
                </a:solidFill>
                <a:latin typeface="Times New Roman"/>
              </a:rPr>
              <a:t>координаты</a:t>
            </a:r>
            <a:r>
              <a:rPr b="1" i="1" lang="en-US" sz="2800" spc="-1" strike="noStrike" u="sng">
                <a:solidFill>
                  <a:srgbClr val="66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99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442d"/>
                </a:solidFill>
                <a:latin typeface="Times New Roman"/>
              </a:rPr>
              <a:t>которых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708244"/>
                </a:solidFill>
                <a:latin typeface="Times New Roman"/>
              </a:rPr>
              <a:t>обращают уравнение в верное равен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40464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660066"/>
                </a:solidFill>
                <a:uFillTx/>
                <a:latin typeface="Monotype Corsiva"/>
              </a:rPr>
              <a:t>Опреде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454720" y="2151000"/>
            <a:ext cx="2425680" cy="3657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741708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442d"/>
                </a:solidFill>
                <a:latin typeface="Bookman Old Style"/>
              </a:rPr>
              <a:t>Графиком уравнений с двумя переменными может быт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442d"/>
                </a:solidFill>
                <a:latin typeface="Monotype Corsiva"/>
              </a:rPr>
              <a:t>Прямая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442d"/>
                </a:solidFill>
                <a:latin typeface="Monotype Corsiva"/>
              </a:rPr>
              <a:t>Парабо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442d"/>
                </a:solidFill>
                <a:latin typeface="Monotype Corsiva"/>
              </a:rPr>
              <a:t>Гиперб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442d"/>
                </a:solidFill>
                <a:latin typeface="Monotype Corsiva"/>
              </a:rPr>
              <a:t>Окруж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442d"/>
                </a:solidFill>
                <a:latin typeface="Monotype Corsiv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16720" y="3933720"/>
            <a:ext cx="414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48960" y="3284640"/>
            <a:ext cx="1929600" cy="1366200"/>
            <a:chOff x="4548960" y="3284640"/>
            <a:chExt cx="1929600" cy="1366200"/>
          </a:xfrm>
        </p:grpSpPr>
        <p:sp>
          <p:nvSpPr>
            <p:cNvPr id="157" name=""/>
            <p:cNvSpPr/>
            <p:nvPr/>
          </p:nvSpPr>
          <p:spPr>
            <a:xfrm flipV="1">
              <a:off x="5504040" y="3284640"/>
              <a:ext cx="0" cy="1341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76760" y="4038480"/>
              <a:ext cx="175896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10320" y="3871800"/>
              <a:ext cx="0" cy="166320"/>
            </a:xfrm>
            <a:prstGeom prst="line">
              <a:avLst/>
            </a:prstGeom>
            <a:ln w="316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04040" y="3871800"/>
              <a:ext cx="206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04040" y="3284640"/>
              <a:ext cx="20628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07360" y="4038480"/>
              <a:ext cx="31104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97760" y="3787560"/>
              <a:ext cx="3096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1280" y="3931920"/>
              <a:ext cx="3096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91280" y="4074840"/>
              <a:ext cx="45864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07360" y="4071960"/>
              <a:ext cx="871200" cy="578880"/>
            </a:xfrm>
            <a:custGeom>
              <a:avLst/>
              <a:gdLst/>
              <a:ahLst/>
              <a:rect l="l" t="t" r="r" b="b"/>
              <a:pathLst>
                <a:path w="1514" h="1245">
                  <a:moveTo>
                    <a:pt x="0" y="1245"/>
                  </a:moveTo>
                  <a:cubicBezTo>
                    <a:pt x="43" y="1072"/>
                    <a:pt x="6" y="390"/>
                    <a:pt x="258" y="195"/>
                  </a:cubicBezTo>
                  <a:cubicBezTo>
                    <a:pt x="510" y="0"/>
                    <a:pt x="1252" y="98"/>
                    <a:pt x="1514" y="73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0512000">
              <a:off x="4571280" y="3399840"/>
              <a:ext cx="871560" cy="579240"/>
            </a:xfrm>
            <a:custGeom>
              <a:avLst/>
              <a:gdLst/>
              <a:ahLst/>
              <a:rect l="l" t="t" r="r" b="b"/>
              <a:pathLst>
                <a:path w="1514" h="1245">
                  <a:moveTo>
                    <a:pt x="0" y="1245"/>
                  </a:moveTo>
                  <a:cubicBezTo>
                    <a:pt x="43" y="1072"/>
                    <a:pt x="6" y="390"/>
                    <a:pt x="258" y="195"/>
                  </a:cubicBezTo>
                  <a:cubicBezTo>
                    <a:pt x="510" y="0"/>
                    <a:pt x="1252" y="98"/>
                    <a:pt x="1514" y="73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75280" y="4003560"/>
              <a:ext cx="3556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80080" y="3315960"/>
              <a:ext cx="4129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300720" y="2060640"/>
            <a:ext cx="1366920" cy="1539720"/>
            <a:chOff x="6300720" y="2060640"/>
            <a:chExt cx="1366920" cy="1539720"/>
          </a:xfrm>
        </p:grpSpPr>
        <p:sp>
          <p:nvSpPr>
            <p:cNvPr id="171" name=""/>
            <p:cNvSpPr/>
            <p:nvPr/>
          </p:nvSpPr>
          <p:spPr>
            <a:xfrm>
              <a:off x="6300720" y="2924280"/>
              <a:ext cx="1366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680160" y="2122560"/>
              <a:ext cx="0" cy="1233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72360" y="2349360"/>
              <a:ext cx="725400" cy="1251000"/>
            </a:xfrm>
            <a:custGeom>
              <a:avLst/>
              <a:gdLst/>
              <a:ahLst/>
              <a:rect l="l" t="t" r="r" b="b"/>
              <a:pathLst>
                <a:path w="457" h="788">
                  <a:moveTo>
                    <a:pt x="0" y="754"/>
                  </a:moveTo>
                  <a:cubicBezTo>
                    <a:pt x="23" y="651"/>
                    <a:pt x="92" y="249"/>
                    <a:pt x="130" y="127"/>
                  </a:cubicBezTo>
                  <a:cubicBezTo>
                    <a:pt x="168" y="5"/>
                    <a:pt x="192" y="0"/>
                    <a:pt x="226" y="20"/>
                  </a:cubicBezTo>
                  <a:cubicBezTo>
                    <a:pt x="260" y="40"/>
                    <a:pt x="296" y="121"/>
                    <a:pt x="334" y="249"/>
                  </a:cubicBezTo>
                  <a:cubicBezTo>
                    <a:pt x="372" y="377"/>
                    <a:pt x="432" y="676"/>
                    <a:pt x="457" y="788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21560" y="2060640"/>
              <a:ext cx="4428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34280" y="2637000"/>
              <a:ext cx="3096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49920" y="2924280"/>
              <a:ext cx="3096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05560" y="2852640"/>
              <a:ext cx="3096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524720" y="2924280"/>
            <a:ext cx="414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596360" y="1125360"/>
            <a:ext cx="1252440" cy="1476360"/>
            <a:chOff x="7596360" y="1125360"/>
            <a:chExt cx="1252440" cy="1476360"/>
          </a:xfrm>
        </p:grpSpPr>
        <p:sp>
          <p:nvSpPr>
            <p:cNvPr id="180" name=""/>
            <p:cNvSpPr/>
            <p:nvPr/>
          </p:nvSpPr>
          <p:spPr>
            <a:xfrm flipV="1">
              <a:off x="8123400" y="1196640"/>
              <a:ext cx="0" cy="140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96360" y="1987560"/>
              <a:ext cx="112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23400" y="1197000"/>
              <a:ext cx="1317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583480" y="1987560"/>
              <a:ext cx="2653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67680" y="1969920"/>
              <a:ext cx="1983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91640" y="1724040"/>
              <a:ext cx="1983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91640" y="1987560"/>
              <a:ext cx="198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7667640" y="1413000"/>
              <a:ext cx="100800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67680" y="1125360"/>
              <a:ext cx="4366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72360" y="1125360"/>
              <a:ext cx="216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564000" y="4221000"/>
            <a:ext cx="1160280" cy="1441080"/>
            <a:chOff x="3564000" y="4221000"/>
            <a:chExt cx="1160280" cy="1441080"/>
          </a:xfrm>
        </p:grpSpPr>
        <p:sp>
          <p:nvSpPr>
            <p:cNvPr id="191" name=""/>
            <p:cNvSpPr/>
            <p:nvPr/>
          </p:nvSpPr>
          <p:spPr>
            <a:xfrm>
              <a:off x="4441680" y="4948200"/>
              <a:ext cx="274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108320" y="4360680"/>
              <a:ext cx="0" cy="1301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64000" y="5092560"/>
              <a:ext cx="11602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08320" y="4361040"/>
              <a:ext cx="1382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6200" y="5076720"/>
              <a:ext cx="2048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4360" y="4869000"/>
              <a:ext cx="2048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73680" y="5092560"/>
              <a:ext cx="204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6200" y="4294080"/>
              <a:ext cx="3445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40360" y="4221000"/>
              <a:ext cx="20628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0066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80000" y="4726080"/>
              <a:ext cx="649080" cy="64764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627280" y="1844640"/>
            <a:ext cx="4608720" cy="0"/>
          </a:xfrm>
          <a:prstGeom prst="line">
            <a:avLst/>
          </a:prstGeom>
          <a:ln w="57240">
            <a:solidFill>
              <a:srgbClr val="cc0000"/>
            </a:solidFill>
            <a:prstDash val="lgDash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71640" y="2852640"/>
            <a:ext cx="3313080" cy="0"/>
          </a:xfrm>
          <a:prstGeom prst="line">
            <a:avLst/>
          </a:prstGeom>
          <a:ln w="57240">
            <a:solidFill>
              <a:srgbClr val="660000"/>
            </a:solidFill>
            <a:prstDash val="lgDashDot"/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43280" y="3716280"/>
            <a:ext cx="1512720" cy="0"/>
          </a:xfrm>
          <a:prstGeom prst="line">
            <a:avLst/>
          </a:prstGeom>
          <a:ln w="57240">
            <a:solidFill>
              <a:srgbClr val="660066"/>
            </a:solidFill>
            <a:prstDash val="lgDash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32000" y="4653000"/>
            <a:ext cx="576360" cy="0"/>
          </a:xfrm>
          <a:prstGeom prst="line">
            <a:avLst/>
          </a:prstGeom>
          <a:ln w="57240">
            <a:solidFill>
              <a:srgbClr val="33ccff"/>
            </a:solidFill>
            <a:prstDash val="lgDashDot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firstslide"/>
          </p:cNvPr>
          <p:cNvSpPr/>
          <p:nvPr/>
        </p:nvSpPr>
        <p:spPr>
          <a:xfrm>
            <a:off x="4643280" y="602136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602136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Задач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58920" y="602136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дача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40000" y="60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дача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19640" y="602136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адача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98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Задача №1решить графически систему уравнений: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Графиком уравнения                 являе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996633"/>
                </a:solidFill>
                <a:uFillTx/>
                <a:latin typeface="Times New Roman"/>
                <a:hlinkClick r:id="rId1" action="ppaction://hlinksldjump"/>
              </a:rPr>
              <a:t>парабо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ветви которой направлены ввер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Графиком уравнения                является </a:t>
            </a:r>
            <a:r>
              <a:rPr b="0" lang="ru-RU" sz="2800" spc="-1" strike="noStrike" u="sng">
                <a:solidFill>
                  <a:srgbClr val="996633"/>
                </a:solidFill>
                <a:uFillTx/>
                <a:latin typeface="Times New Roman"/>
                <a:hlinkClick r:id="rId2" action="ppaction://hlinksldjump"/>
              </a:rPr>
              <a:t>прямая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, полученная из графика функции у=х смещением на 1 вверх по оси 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076720" y="1844640"/>
                <a:ext cx="25196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465360" y="1220760"/>
                <a:ext cx="14018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378320" y="2924280"/>
                <a:ext cx="16095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" dur="2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Задача №2 Решить графически систему уравнений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400480" y="3467160"/>
                <a:ext cx="1522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916360" y="1125360"/>
                <a:ext cx="2522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у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539640" y="2060640"/>
            <a:ext cx="7488360" cy="46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Графиком первого уравнения является 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Verdana"/>
                <a:hlinkClick r:id="rId1" action="ppaction://hlinksldjump"/>
              </a:rPr>
              <a:t>окружность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Verdana"/>
              </a:rPr>
              <a:t> с центром в точке (3,2) и радиусом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Графиком второго уравнения является 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Verdana"/>
                <a:hlinkClick r:id="rId2" action="ppaction://hlinksldjump"/>
              </a:rPr>
              <a:t>прямая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Verdana"/>
              </a:rPr>
              <a:t> проходящая через начало коорд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Построим графики для каждого из у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4392360" y="487440"/>
            <a:ext cx="3721320" cy="5884920"/>
            <a:chOff x="4392360" y="487440"/>
            <a:chExt cx="3721320" cy="5884920"/>
          </a:xfrm>
        </p:grpSpPr>
        <p:sp>
          <p:nvSpPr>
            <p:cNvPr id="221" name=""/>
            <p:cNvSpPr/>
            <p:nvPr/>
          </p:nvSpPr>
          <p:spPr>
            <a:xfrm flipH="1">
              <a:off x="4392360" y="487440"/>
              <a:ext cx="34920" cy="58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3640" y="1413000"/>
              <a:ext cx="2448000" cy="223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8000" y="2708280"/>
              <a:ext cx="58716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0066"/>
                  </a:solidFill>
                  <a:latin typeface="Tahom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24720" y="1628640"/>
              <a:ext cx="58896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0066"/>
                  </a:solidFill>
                  <a:latin typeface="Tahom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50920" y="4869000"/>
            <a:ext cx="288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Verdana"/>
              </a:rPr>
              <a:t>Ответ</a:t>
            </a:r>
            <a:r>
              <a:rPr b="0" lang="en-US" sz="2800" spc="-1" strike="noStrike">
                <a:solidFill>
                  <a:srgbClr val="33ccff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442d"/>
                </a:solidFill>
                <a:latin typeface="Verdana"/>
              </a:rPr>
              <a:t>А(1,5;0,7), В(5,1;2,5),</a:t>
            </a:r>
            <a:r>
              <a:rPr b="0" lang="en-US" sz="1800" spc="-1" strike="noStrike">
                <a:solidFill>
                  <a:srgbClr val="99442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8728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6364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2728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1636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4000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364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9092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8000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6728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2908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1636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9128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164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3892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2764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1528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0400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9128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8036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6764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95672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44000" y="476280"/>
            <a:ext cx="0" cy="590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826560" y="47628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826560" y="70956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26560" y="94464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826560" y="117936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826560" y="188136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26560" y="211608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826560" y="141300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826560" y="162864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826560" y="235116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26560" y="258444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26560" y="281952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826560" y="305280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826560" y="334800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826560" y="358128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826560" y="381492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826560" y="404964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826560" y="434196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826560" y="457668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826560" y="481176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826560" y="504504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826560" y="528012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826560" y="551340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826560" y="574848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26560" y="598320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826560" y="621828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826560" y="6451560"/>
            <a:ext cx="7488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427640" y="476280"/>
            <a:ext cx="0" cy="597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3571920"/>
            <a:ext cx="734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692360" y="1916280"/>
            <a:ext cx="6840360" cy="27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59280" y="357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67280" y="2852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645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5651640" y="907920"/>
                <a:ext cx="2286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8101080" y="3716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27640" y="40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8000" y="37162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84560" y="658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00560" y="680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987640" y="4146480"/>
                <a:ext cx="10540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5148360" y="314172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08720" y="220500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5:27:29Z</dcterms:created>
  <dc:creator>Nata</dc:creator>
  <dc:description/>
  <dc:language>en-US</dc:language>
  <cp:lastModifiedBy>Nata</cp:lastModifiedBy>
  <dcterms:modified xsi:type="dcterms:W3CDTF">2009-03-26T18:36:05Z</dcterms:modified>
  <cp:revision>37</cp:revision>
  <dc:subject/>
  <dc:title>Графический способ решения систем уравнений</dc:title>
</cp:coreProperties>
</file>