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D70-51A3-43ED-97A8-062D6F4E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B4D-B855-4094-9386-0DC5E32B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4DC-BCC9-498D-830D-52238100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47F-0014-4152-AB59-1F9DF934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F387-2720-4287-92D6-46AF6783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CF5D-A940-43FF-B47D-932854FE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6FAE-C251-4C89-8DA0-3426886E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11F8-EDA2-40F0-84B4-6707F70F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6A6A-DEBE-4A7C-A36F-08F660CB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A7D4-78DE-4D93-A221-B302124F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4460-916E-4716-9AA1-A6D38D2E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E65-659B-4B45-AEA9-7A6A641F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8F91-FB9C-4958-BC4E-E1D842B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93A3-2527-4E8E-8534-9B5D25A2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8296-B517-4CCB-A43C-9ABDE226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C3C9-CA55-4CC4-A5D3-4014D601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B9A8-3A26-49E8-9629-B3E91C8E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4E2-69F9-4441-B596-83DDEB98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FC6-7E38-4549-A444-E14BFD7E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B44-3C61-4C06-8CC2-6E9C699C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F66-636B-41FB-BD30-3BABA90B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B43-4B9F-49C7-9D90-10303ECF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1D8-D3F2-439A-8070-7746F744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CB3-3CBE-4FC0-BF59-2407D35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b5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5498-7A8C-43C5-8D52-C8C2700F5FDB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8AB5-5156-4B29-B171-6FFCACAE4B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264d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2e5c00"/>
                </a:gs>
                <a:gs pos="100000">
                  <a:srgbClr val="3a74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010F-3732-4935-B108-3DE7AEBAB1DB}" type="datetime">
              <a:rPr b="0" lang="ru-RU" sz="1200" spc="-1" strike="noStrike">
                <a:solidFill>
                  <a:srgbClr val="ffffff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ACA-4E20-4C1F-9CA4-8C89363D55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Шведов Виктор Валентинович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читель физической культуры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МОУ СОШ №4 г. Минья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Зимние виды спорта в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Челябинской 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0" i="1" lang="ru-RU" sz="5400" spc="-1" strike="noStrike">
                <a:solidFill>
                  <a:srgbClr val="0000ff"/>
                </a:solidFill>
                <a:latin typeface="Tahoma"/>
              </a:rPr>
              <a:t>Горные лыжи</a:t>
            </a: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78D-A45E-48E9-8E3D-4ED81BE7A13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5DB4E-1571-4705-AC31-833642A5E6CD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34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38188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77724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реди советских горнолыжников особо отличились своими достижениями в разные годы В. Мель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. Андреев, А. Жиров,  В. Макеев.  Среди женщин лучшими были Е. Сидорова, С. Корзухи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. Мерку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084-788A-478D-A8CF-99CC4B28457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34CE2-AFE6-495F-902D-65A46A22E75D}" type="datetime1">
              <a:rPr lang="en-US"/>
              <a:t>07/28/26</a:t>
            </a:fld>
          </a:p>
        </p:txBody>
      </p:sp>
    </p:spTree>
  </p:cSld>
  <p:transition spd="med" advTm="6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1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рные лыжи сегод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рнолыжный центр "Аджигардак" расположен в западных отрогах Южного Урала, возле города Аша в изумительной по красоте местности, среди живописных лес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86200" cy="253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25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753-4526-4CF6-96CB-A8F46C781C7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7E94E-353C-49A1-980E-F49397C2A85D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Script MT Bold"/>
              </a:rPr>
              <a:t>Склоны одноименной горы превращены в отличные трассы для отдыха на горных лыжах. С 1982 г. в Аше работает спортивная детско-юношеская школа олимпийского резерва. В течение зимнего сезона школой проводится на склонах комплекса "Аджигардак" соревнования и старты среди разных возрастных групп, главным из которых является Первенство России "Олимпийские надежды"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77120" cy="43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374-E9B5-46D7-954F-AA887E22095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70BA9-55E5-4A66-9A4F-351878B03F3A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Аджигардаке самые разнообразные трассы - для начинающих, средней и повышенной труд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2666880" cy="177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124080" y="20574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48520" y="1752480"/>
            <a:ext cx="161280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295280" y="3962520"/>
            <a:ext cx="1579680" cy="2361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200400" y="4343400"/>
            <a:ext cx="2666880" cy="17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296-6ACC-4385-9499-2B699F60B5D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B87F2-4488-4FAB-AAEF-A5B86B303080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228600" y="2282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ссы подарят гостям всю гамму снежных ощущений: от спокойного и безопасного катания до головокружительно быстрых спусков по целине. Любителей острых ощущений здесь ждут трамплины для прыжков на лыжах и сноуборде, освещаемая трас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071880" cy="4495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2971800" cy="200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19320" y="4343400"/>
            <a:ext cx="2971800" cy="20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7F6-DAED-4EC4-8CC1-A1BFFE422DE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D3827-C378-4A68-99E1-2C25DEE9F00D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cript MT Bold"/>
              </a:rPr>
              <a:t>«Горные лыжи сами по себе не являются счастьем, но вполне могут его заменит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Скорость и сила, Скорость и воля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Скорость и отвага – вот что такое,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                 </a:t>
            </a: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горные лыж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Script MT Bold"/>
              </a:rPr>
              <a:t>Жан-Клод Килл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BDE-BB80-4C02-BE55-6DF9B45F2F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F10F9-6F55-46F2-AD10-7244870EDD3B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2860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Script MT Bold"/>
              </a:rPr>
              <a:t>где и когда появил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cript MT Bold"/>
              </a:rPr>
              <a:t>ГОРНОЛЫЖНЫЙ СПОРТ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14440" y="17521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Script MT Bold"/>
              </a:rPr>
              <a:t>Впервые соревнования по горным лыжам прошли в Норвегии в 1879 году. Соревновались жители городка Телемаркен, расположенного у горных склонов, где проводились соревнования, и спортсмены из столицы. Кстати, в то время она называлась не Осло, а Христиания. После этого катание на лыжах с горных склонов получило распространение не только в Европе, но и в Америке. Первые официальные соревнования горнолыжников прошли в 1931 году в Швейцарии, где состоялся чемпионат мир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83212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727-B5C6-4D0E-9BFB-7717CF0B5C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6064C-32D4-493C-B4B3-CDF577DF81FB}" type="datetime1">
              <a:rPr lang="en-US"/>
              <a:t>07/28/26</a:t>
            </a:fld>
          </a:p>
        </p:txBody>
      </p:sp>
    </p:spTree>
  </p:cSld>
  <p:transition spd="med" advTm="15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162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Script MT Bold"/>
              </a:rPr>
              <a:t>В 1936 году горнолыжный спорт был включен в программу Олимпийских иг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4D2-7F43-461F-84AC-74592425C60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BCB84-4420-4973-B971-D1890A1F1E37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0"/>
            <a:ext cx="6858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cript MT Bold"/>
              </a:rPr>
              <a:t>Одна из составляющих лыжного спорта, заключающаяся в спуске с гор по специальным трассам. Развит в Австрии, Швейцарии, Франции, Италии, Германии, США, Канаде, Норвегии, Шве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019920" cy="406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30F-BC39-463B-ACC2-560C7F2BE45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04D0E-4B9E-476C-8C18-C7C310AA53D1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Script MT Bold"/>
              </a:rPr>
              <a:t>На современном этапе включает 5 спортивных дисциплин: слалом, гигантский слалом, супергигантский слалом, скоростной спуск, альпийское двоеборь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40080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7A7-F0B6-470F-AF1A-FD66533258F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38774-7305-4D04-A612-1A3AF77F9EF9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В программу зимних Олимпийских игр горнолыжный спорт был введен в 1936 году. На чемпионатах мира (они проводятся раз в 4 года) программа шире – добавляется альпийское троеборье. Победитель в нем определяется по наименьшей сумме очков, набранных в слаломе, слаломе-гиганте и скоростном спус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553440" cy="44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147-5490-441E-A2BD-BA77A78ECA9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458D7-4CE6-472F-B85A-FF5A74A737C8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 время спуска с гор спортсмены должны преодолеть специальные трассы, размеченные воротами и флажками. Результаты определяются по сумме времени, показанного в двух попытках на различных трассах — в слаломе и в одной попытке — по другим дисциплин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2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802-D81B-4D02-B923-F44C76175D6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E3EF7-243B-4CD5-98FF-F8B44A8293A4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14800" cy="274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7086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cript MT Bold"/>
              </a:rPr>
              <a:t>Каждая страна может быть представлена 14 спортсменами (не более 8 человек одного пола), а также не более чем 4 участниками в каждой дисциплине горнолыжного спорта. Отбор для участия в зимних Олимпийских играх осуществляется по результатам выступления спортсменов в чемпионатах мира и этапах Кубка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BBF-C7B7-4D57-938C-AB9F36AB30F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4A716-53EF-4E70-8D51-75591091EA55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Script MT Bold"/>
              </a:rPr>
              <a:t>Советские горнолыжники вышли на международную арену в 1948 году. А в 1956 году на зимних Олимпийских играх в Кортино д’Ампецо москвичка Евгения Сидорова завоевала бронзовую медаль в специальном слаломе. На Олимпийских играх в Лиллехаммере в 1994 году Светлана Гладышева выиграла серебряную меда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cript MT Bol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25640" cy="127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1904760" cy="125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876920" y="228600"/>
            <a:ext cx="1904760" cy="127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3B1-4701-4EBF-894F-68210E02E9C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4F542-5EEF-4F0B-90AE-1CB63D28FE3B}" type="datetime1">
              <a:rPr lang="en-US"/>
              <a:t>07/28/26</a:t>
            </a:fld>
          </a:p>
        </p:txBody>
      </p:sp>
    </p:spTree>
  </p:cSld>
  <p:transition spd="med" advTm="6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0-10-12T09:43:2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