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BBA-CB92-4112-B013-60B055BA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831-AD11-4129-8C10-DAE87179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C48-5313-447A-83DE-D04355F7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03F-76B3-46C1-8C34-D6AA48ED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D1E2-1060-4821-B7BA-C8871092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039C-B5D3-4701-BE75-5A260FFD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6BAA-F0BA-482D-9721-9C8AA0BA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9F0D-91DB-434A-B4D5-E768879E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046A-2D31-4D3C-B78E-ACC41964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45CA-5D11-4D7C-8C86-750505CF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B135-CAC1-4737-ACB2-7FFE5897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A5C-5607-45D4-B438-4D842C2F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30DA-F1C6-474E-8E2C-6B32CAAD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6218-1694-4B3C-A6B1-AE63C67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F300-F772-4E38-B9E4-84D5DCB7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C4F8-481A-4426-8A15-33C3D93B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10B6-067C-491A-B8BB-4FE939B8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A15-ABEB-4C03-B850-3F77C336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618-F536-4589-8198-E6F93F61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CBA-4982-4C43-8041-6D87E9FD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415-AFE3-4B46-BB39-FD691B5E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AD3-748D-4020-A6F5-038E15AF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8F1-8259-4D33-B21A-CFABC451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36E-2940-45C9-9B2A-35ED09CA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2b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3a74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D896-71E3-400F-A938-A6398C72CF10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1558-E076-4D12-86FB-D54F03706B7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264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3a74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00F8-026E-482E-B004-02387A25EAC3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AB18-733D-44C6-878F-A369FE06492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Шведов Виктор Валентинович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Учитель физической культуры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МОУ СОШ №4 г. Минья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Зимние виды спорта в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Челябинской обла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i="1" lang="ru-RU" sz="5400" spc="-1" strike="noStrike">
                <a:solidFill>
                  <a:srgbClr val="0000ff"/>
                </a:solidFill>
                <a:latin typeface="Tahoma"/>
              </a:rPr>
              <a:t>Горные лыжи</a:t>
            </a: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80F-0040-4848-8019-2A421404746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DD8C9-D4A4-4296-AE46-39DDB7F40B41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34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777240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реди советских горнолыжников особо отличились своими достижениями в разные годы В. Мельни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. Андреев, А. Жиров,  В. Макеев.  Среди женщин лучшими были Е. Сидорова, С. Корзухи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. Мерку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C5C-9B6D-4779-A1FC-86921E52EB29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6E5CF-580B-4BCE-9B92-1362CB7D2B5F}" type="datetime1">
              <a:rPr lang="en-US"/>
              <a:t>07/29/26</a:t>
            </a:fld>
          </a:p>
        </p:txBody>
      </p:sp>
    </p:spTree>
  </p:cSld>
  <p:transition spd="med" advTm="6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1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рные лыжи сегод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46483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рнолыжный центр "Аджигардак" расположен в западных отрогах Южного Урала, возле города Аша в изумительной по красоте местности, среди живописных лес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86200" cy="253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25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2CC-33AE-4E02-AC20-AED5BDC6C2D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E2605-10F1-4A1F-94A9-FFFBA5DC188E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cript MT Bold"/>
              </a:rPr>
              <a:t>Склоны одноименной горы превращены в отличные трассы для отдыха на горных лыжах. С 1982 г. в Аше работает спортивная детско-юношеская школа олимпийского резерва. В течение зимнего сезона школой проводится на склонах комплекса "Аджигардак" соревнования и старты среди разных возрастных групп, главным из которых является Первенство России "Олимпийские надежды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477120" cy="43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C81-10B2-4F3B-A5BE-67462ADF4FB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CFED6-F909-459A-9ADA-09D2B169C04A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Аджигардаке самые разнообразные трассы - для начинающих, средней и повышенной тру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666880" cy="177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48520" y="1752480"/>
            <a:ext cx="161280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295280" y="3962520"/>
            <a:ext cx="1579680" cy="2361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200400" y="4343400"/>
            <a:ext cx="2666880" cy="17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3CB-EDD2-4B37-A69C-F68BEF0199D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4782B-8C0E-449B-AA10-A43705B76712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228600" y="2282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ссы подарят гостям всю гамму снежных ощущений: от спокойного и безопасного катания до головокружительно быстрых спусков по целине. Любителей острых ощущений здесь ждут трамплины для прыжков на лыжах и сноуборде, освещаемая трас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071880" cy="4495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2971800" cy="2004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422-E660-445B-8217-D590F18A322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7DE96-55A6-4FF3-B354-A5629BF5EB3B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cript MT Bold"/>
              </a:rPr>
              <a:t>«Горные лыжи сами по себе не являются счастьем, но вполне могут его заменить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Скорость и сила, Скорость и воля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Скорость и отвага – вот что такое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                 </a:t>
            </a: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горные лыж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Жан-Клод Килл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753-2E2A-49A6-B4F6-7C7D0FF20D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4CE5C-9B64-447D-88EC-01F290D8C204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286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cript MT Bold"/>
              </a:rPr>
              <a:t>где и когда появил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cript MT Bold"/>
              </a:rPr>
              <a:t>ГОРНОЛЫЖНЫЙ СПОР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14440" y="17521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Script MT Bold"/>
              </a:rPr>
              <a:t>Впервые соревнования по горным лыжам прошли в Норвегии в 1879 году. Соревновались жители городка Телемаркен, расположенного у горных склонов, где проводились соревнования, и спортсмены из столицы. Кстати, в то время она называлась не Осло, а Христиания. После этого катание на лыжах с горных склонов получило распространение не только в Европе, но и в Америке. Первые официальные соревнования горнолыжников прошли в 1931 году в Швейцарии, где состоялся чемпионат мир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83212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672-F5D7-4EE6-B58B-6145F0D0E9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54A95-382E-4A2B-99E1-4C1F23F3C8BA}" type="datetime1">
              <a:rPr lang="en-US"/>
              <a:t>07/29/26</a:t>
            </a:fld>
          </a:p>
        </p:txBody>
      </p:sp>
    </p:spTree>
  </p:cSld>
  <p:transition spd="med" advTm="15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162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cript MT Bold"/>
              </a:rPr>
              <a:t>В 1936 году горнолыжный спорт был включен в программу Олимпийских иг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5B0-8700-4FAD-8EED-471D6DBAE22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FF416-430D-4301-AF9D-BE1AAA05E072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0"/>
            <a:ext cx="6858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cript MT Bold"/>
              </a:rPr>
              <a:t>Одна из составляющих лыжного спорта, заключающаяся в спуске с гор по специальным трассам. Развит в Австрии, Швейцарии, Франции, Италии, Германии, США, Канаде, Норвегии, Шве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019920" cy="40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7DE-BEEA-4920-9799-8CB60D330835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92833-AAE2-4C4E-8FB4-C369E2F42F6B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Script MT Bold"/>
              </a:rPr>
              <a:t>На современном этапе включает 5 спортивных дисциплин: слалом, гигантский слалом, супергигантский слалом, скоростной спуск, альпийское двоебор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40080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07C-D9E4-4BED-B5CC-8A641616CF3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D0D52-F6C5-4026-BAD4-AA01ED2FA3FE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cript MT Bold"/>
              </a:rPr>
              <a:t>В программу зимних Олимпийских игр горнолыжный спорт был введен в 1936 году. На чемпионатах мира (они проводятся раз в 4 года) программа шире – добавляется альпийское троеборье. Победитель в нем определяется по наименьшей сумме очков, набранных в слаломе, слаломе-гиганте и скоростном спус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553440" cy="44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0F4-6816-4A9B-9DA8-EC08166B950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05EFB-02ED-4AB1-82E2-1AEA5D305CD8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 время спуска с гор спортсмены должны преодолеть специальные трассы, размеченные воротами и флажками. Результаты определяются по сумме времени, показанного в двух попытках на различных трассах — в слаломе и в одной попытке — по другим дисциплин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324480" cy="42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3A0-811A-4FE2-B474-89BFA73D974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0C90D-EBD1-4897-99E9-0A949CDEA1B7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14800" cy="274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cript MT Bold"/>
              </a:rPr>
              <a:t>Каждая страна может быть представлена 14 спортсменами (не более 8 человек одного пола), а также не более чем 4 участниками в каждой дисциплине горнолыжного спорта. Отбор для участия в зимних Олимпийских играх осуществляется по результатам выступления спортсменов в чемпионатах мира и этапах Кубка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A40-B950-4D21-85CD-524410F3253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4639C-203C-4197-AE8F-C662E5ABE4C0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Script MT Bold"/>
              </a:rPr>
              <a:t>Советские горнолыжники вышли на международную арену в 1948 году. А в 1956 году на зимних Олимпийских играх в Кортино д’Ампецо москвичка Евгения Сидорова завоевала бронзовую медаль в специальном слаломе. На Олимпийских играх в Лиллехаммере в 1994 году Светлана Гладышева выиграла серебряную меда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cript MT Bol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25640" cy="127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1904760" cy="125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876920" y="228600"/>
            <a:ext cx="1904760" cy="127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44B-80E8-4C08-B318-B06C3616373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6E762-45F2-4586-B17D-FF0BA8548835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0-10-12T09:43:2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