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AAF-EAFD-480D-81F2-BD7D2514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123-8902-4F40-ABB8-DF53D11F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CA6-D1FE-4DD1-AEB4-6A48DA5F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384-2DE0-4106-A91E-CD419A26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E5AD-739B-480F-A6FD-F985CDC3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3E21-2ABF-46FF-8C6D-2851A839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4E33-1418-4E4F-8D05-8A45F2C7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F563-3731-4A56-87FC-9D6FB6EB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BE01-463B-4AC5-AD3B-8FB85A98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0DA3-9693-4BFA-A468-771304EA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59A4-F97C-47CE-A1AC-8B5EEC8C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A56-2AAB-43FF-8DFD-BDC33590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85CA-672E-4D0A-8C25-3B46B10F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A928-2A31-4FD9-8C69-68555055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AF0E-B0DF-40E5-A455-6DFC637C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7299-19FD-4EFC-9B15-DEA81B90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EEED-CABE-438C-8182-EA5A2C5D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70F-323A-4424-A326-538B20AB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C4D-3B6A-44FF-8CC3-CC3C33E3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99C-58C4-4E0D-9C38-D47F9C09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3D2-BA84-4E74-A7F7-2FADDBA7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A5A-699A-46C0-ADA3-5E330F9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D1F-2071-49B7-AADB-3F85EFD9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8DC-DEFB-41B4-A8C3-CB7C9657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2b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3a74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3846-B8A0-408D-A9AB-9098D0981B84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D521-6290-4BE0-B9CD-AA45FA8E130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264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3a74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5AAD-7C23-484D-8923-4A5555DEEF55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6CD4-8CF6-45DC-91A5-93A47E38271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6390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Шведов Виктор Валентинович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Учитель физической культуры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МОУ СОШ №4 г. Минья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Зимние виды спорта в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Челябинской облас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i="1" lang="ru-RU" sz="5400" spc="-1" strike="noStrike">
                <a:solidFill>
                  <a:srgbClr val="0000ff"/>
                </a:solidFill>
                <a:latin typeface="Tahoma"/>
              </a:rPr>
              <a:t>Горные лыжи</a:t>
            </a: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5C9-AF60-4825-94FB-E3F7D0DB1A3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15BF7-2EE0-4FF4-B4C8-E2FC65F776A3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34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777240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реди советских горнолыжников особо отличились своими достижениями в разные годы В. Мельни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. Андреев, А. Жиров,  В. Макеев.  Среди женщин лучшими были Е. Сидорова, С. Корзухи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. Мерку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6AE-3552-48D3-B2EA-93F9C4A0267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FE595-68CA-447C-A2B9-C337FFBD4197}" type="datetime1">
              <a:rPr lang="en-US"/>
              <a:t>07/29/26</a:t>
            </a:fld>
          </a:p>
        </p:txBody>
      </p:sp>
    </p:spTree>
  </p:cSld>
  <p:transition spd="med" advTm="6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1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орные лыжи сегодн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46483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рнолыжный центр "Аджигардак" расположен в западных отрогах Южного Урала, возле города Аша в изумительной по красоте местности, среди живописных лес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86200" cy="253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25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E04-8F52-4A56-AC7C-FD02FC6CA2A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94B8C-D903-4B87-84C9-5529D2C2AE5D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cript MT Bold"/>
              </a:rPr>
              <a:t>Склоны одноименной горы превращены в отличные трассы для отдыха на горных лыжах. С 1982 г. в Аше работает спортивная детско-юношеская школа олимпийского резерва. В течение зимнего сезона школой проводится на склонах комплекса "Аджигардак" соревнования и старты среди разных возрастных групп, главным из которых является Первенство России "Олимпийские надежды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477120" cy="435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C91-AB60-4D31-A524-EACC82EBA89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374ED-BF61-4C97-BD52-B6AA16E6146D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Аджигардаке самые разнообразные трассы - для начинающих, средней и повышенной труд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666880" cy="1770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095880" y="434340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248520" y="1752480"/>
            <a:ext cx="161280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295280" y="3962520"/>
            <a:ext cx="1579680" cy="2361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200400" y="4343400"/>
            <a:ext cx="2666880" cy="177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2EE-AC08-40C8-A119-FCBDBF2BA0D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2E719-B881-4347-87C7-9B68E319CC18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228600" y="2282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ссы подарят гостям всю гамму снежных ощущений: от спокойного и безопасного катания до головокружительно быстрых спусков по целине. Любителей острых ощущений здесь ждут трамплины для прыжков на лыжах и сноуборде, освещаемая трас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071880" cy="4495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2971800" cy="2004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62A-24DD-4D55-9365-6554AA43EFF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0CA29-8D54-44F3-B3A4-A332C0259510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cript MT Bold"/>
              </a:rPr>
              <a:t>«Горные лыжи сами по себе не являются счастьем, но вполне могут его заменить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Скорость и сила, Скорость и воля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Скорость и отвага – вот что такое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                 </a:t>
            </a: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горные лыжи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Жан-Клод Килл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34B-BE41-4F16-8473-C0D2D434B1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AC4D5-8F8D-488A-AFFD-B567612A1BF6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286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cript MT Bold"/>
              </a:rPr>
              <a:t>где и когда появилс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cript MT Bold"/>
              </a:rPr>
              <a:t>ГОРНОЛЫЖНЫЙ СПОР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14440" y="17521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Script MT Bold"/>
              </a:rPr>
              <a:t>Впервые соревнования по горным лыжам прошли в Норвегии в 1879 году. Соревновались жители городка Телемаркен, расположенного у горных склонов, где проводились соревнования, и спортсмены из столицы. Кстати, в то время она называлась не Осло, а Христиания. После этого катание на лыжах с горных склонов получило распространение не только в Европе, но и в Америке. Первые официальные соревнования горнолыжников прошли в 1931 году в Швейцарии, где состоялся чемпионат мир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283212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843-4920-474C-851B-DD4A719CB6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1339D-EA50-42A2-B3CC-FE4C7485377F}" type="datetime1">
              <a:rPr lang="en-US"/>
              <a:t>07/29/26</a:t>
            </a:fld>
          </a:p>
        </p:txBody>
      </p:sp>
    </p:spTree>
  </p:cSld>
  <p:transition spd="med" advTm="15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162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Script MT Bold"/>
              </a:rPr>
              <a:t>В 1936 году горнолыжный спорт был включен в программу Олимпийских иг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1992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F7E-0639-4735-BD5C-64F5D8191F9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DB59C-9890-4FB4-8722-834A39CAF013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0"/>
            <a:ext cx="6858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cript MT Bold"/>
              </a:rPr>
              <a:t>Одна из составляющих лыжного спорта, заключающаяся в спуске с гор по специальным трассам. Развит в Австрии, Швейцарии, Франции, Италии, Германии, США, Канаде, Норвегии, Шве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019920" cy="406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2C0-BB02-4830-9904-8A5DA873F8B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6CEEE-2057-4D79-99C8-BA412A356579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Script MT Bold"/>
              </a:rPr>
              <a:t>На современном этапе включает 5 спортивных дисциплин: слалом, гигантский слалом, супергигантский слалом, скоростной спуск, альпийское двоебор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40080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828-15A6-4BA4-9B85-C63CE20F228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C2D31-A903-49B8-B3F8-B7B7962111B6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cript MT Bold"/>
              </a:rPr>
              <a:t>В программу зимних Олимпийских игр горнолыжный спорт был введен в 1936 году. На чемпионатах мира (они проводятся раз в 4 года) программа шире – добавляется альпийское троеборье. Победитель в нем определяется по наименьшей сумме очков, набранных в слаломе, слаломе-гиганте и скоростном спус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553440" cy="444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F6F-A307-4204-AF72-EDDC64872061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0E66B-BAA7-4317-A295-A06A6E159208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 время спуска с гор спортсмены должны преодолеть специальные трассы, размеченные воротами и флажками. Результаты определяются по сумме времени, показанного в двух попытках на различных трассах — в слаломе и в одной попытке — по другим дисциплин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324480" cy="42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32B-31DB-4AC5-A7A7-7C780C56EDB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0C33A-1F3D-494B-8630-D901D90C873A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14800" cy="2745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cript MT Bold"/>
              </a:rPr>
              <a:t>Каждая страна может быть представлена 14 спортсменами (не более 8 человек одного пола), а также не более чем 4 участниками в каждой дисциплине горнолыжного спорта. Отбор для участия в зимних Олимпийских играх осуществляется по результатам выступления спортсменов в чемпионатах мира и этапах Кубка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3A5-E8DB-45A3-B244-1CF86373059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3ADFC-BA14-4217-BFC3-B0A187015208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Script MT Bold"/>
              </a:rPr>
              <a:t>Советские горнолыжники вышли на международную арену в 1948 году. А в 1956 году на зимних Олимпийских играх в Кортино д’Ампецо москвичка Евгения Сидорова завоевала бронзовую медаль в специальном слаломе. На Олимпийских играх в Лиллехаммере в 1994 году Светлана Гладышева выиграла серебряную меда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cript MT Bol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25640" cy="127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1904760" cy="125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876920" y="228600"/>
            <a:ext cx="1904760" cy="127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16E-78AD-4CB9-B392-1F1F2E519AC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10F10-3B7B-4BB9-8251-38AC0F2198EB}" type="datetime1">
              <a:rPr lang="en-US"/>
              <a:t>07/29/26</a:t>
            </a:fld>
          </a:p>
        </p:txBody>
      </p:sp>
    </p:spTree>
  </p:cSld>
  <p:transition spd="med" advTm="6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0-10-12T09:43:2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