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17D-E185-4221-A83D-B8BB25CD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EB4-A570-49F6-9197-DC90D6B3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1AB-BB68-4AB2-B178-6B885BA4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DDB-2333-432E-8349-DF1F7762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D55D-3822-4DF7-B30D-7DFC94A9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3E9E-21D7-4908-9E37-AA8BCC2D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A958-71C3-4D5C-AC9C-B517B00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0DB0-2DBF-4980-9598-30AF3460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62AC-34F9-41BA-A620-82E85FAA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BA47-8E65-4F9C-93D6-6825CFFB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F088-792B-4A3B-AA8E-7EFB4935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943-ADF9-4D17-9474-849B8779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BE8B-6486-4774-9017-21EE15B8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31A2-BC86-4252-A5F6-85A92C7A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8BD8-EA4B-4C87-933D-25058B7B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5F65-DA00-4D38-B869-F9E9EA58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7AEE-43AF-4A1B-8954-E46EB7B0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CD9-5280-456A-B525-96533365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E7E-512F-45D9-96F1-80938CB9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6FE-2E9B-4D58-B887-90CCF1A8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84A-1C4B-4549-87EE-F85F19C6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54D-F54F-412F-9BC5-7E2DCA6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8CC-04F9-4585-9C8D-5D84688D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587-3694-4E28-87EB-85A81A3F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F57D-37DE-4FFD-A670-2714E4574CC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58D6-765B-4720-A099-7944C00EB07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omi.ws/woodwind/rus-horn/" TargetMode="External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Жалейка.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313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8920" y="522000"/>
            <a:ext cx="40388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В ряде областей жалейку, как и владимирский 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Verdana"/>
                <a:hlinkClick r:id="rId2"/>
              </a:rPr>
              <a:t>рожок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Verdana"/>
              </a:rPr>
              <a:t>, называют «пастушеским рожком». В результате, когда в письменном источнике говорится о «пастушеском рожке» мы не можем точно знать о каком инструменте идёт речь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Жалейка бывает двух разновидностей — одинарная и двойная (двухствольчатая). Одинарная жалейка представляет собой небольшую трубочку из ивы или бузины длиной от 10 до 20 см, в верхний конец которой вставлен пищик с одинарным язычком из камыша или гусиного пера, а на нижний надет раструб из коровьего рога или из бересты. Язычок иногда надрезают на самой трубочке. На стволе есть от 3 до 7 игровых отверстий, благодаря чему можно менять высоту звука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Жалейки из эбонита"/>
          <p:cNvPicPr/>
          <p:nvPr/>
        </p:nvPicPr>
        <p:blipFill>
          <a:blip r:embed="rId1"/>
          <a:stretch/>
        </p:blipFill>
        <p:spPr>
          <a:xfrm>
            <a:off x="4643280" y="2133720"/>
            <a:ext cx="41767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322200"/>
            <a:ext cx="403848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Verdana"/>
              </a:rPr>
              <a:t>В 1900 г. В. В. Андреев ввел в состав своего оркестра жалейку усовершенствованного образца, названную им брёлкой. Своим внешним видом эта жалейка похожа на народную, она имеет двойной язычок гобойного типа. Кроме обычных игровых отверстий, у нее есть дополнительные, с клапанами, которые позволяют получить хроматический звукоря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Брёлка"/>
          <p:cNvPicPr/>
          <p:nvPr/>
        </p:nvPicPr>
        <p:blipFill>
          <a:blip r:embed="rId1"/>
          <a:stretch/>
        </p:blipFill>
        <p:spPr>
          <a:xfrm>
            <a:off x="4859280" y="1916280"/>
            <a:ext cx="22734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Когда-то жалейка была широко распространена по России, Белоруссии, Украине и Литве. Сейчас её можно увидеть, пожалуй, только в оркестрах русских народных инструмент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Жалейки из клёна"/>
          <p:cNvPicPr/>
          <p:nvPr/>
        </p:nvPicPr>
        <p:blipFill>
          <a:blip r:embed="rId1"/>
          <a:stretch/>
        </p:blipFill>
        <p:spPr>
          <a:xfrm>
            <a:off x="3708360" y="2492280"/>
            <a:ext cx="50040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0:31:10Z</dcterms:created>
  <dc:creator>татьяна</dc:creator>
  <dc:description/>
  <dc:language>en-US</dc:language>
  <cp:lastModifiedBy>татьяна</cp:lastModifiedBy>
  <dcterms:modified xsi:type="dcterms:W3CDTF">2012-11-20T14:54:26Z</dcterms:modified>
  <cp:revision>2</cp:revision>
  <dc:subject/>
  <dc:title>Жалейка.</dc:title>
</cp:coreProperties>
</file>