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137-F97A-45E0-B3FB-0B3CF3C4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6F2-F7E4-4C40-BEB4-B8985E3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D6A-F1EE-4F29-9F17-2BC4CF82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279-AB77-419E-9B8D-F9396574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826C-C311-42AE-BFC0-2ACBA0D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58AF-E285-45CA-A776-A4364A02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AF02-B6C3-4183-9AED-47D6FC26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DF72-F852-4923-95E7-7E627DD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6E3-08D3-4083-8A2C-7230A41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BD60-EF23-42FA-9E87-CA1C4951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C1F5-2202-4B82-9561-ED80CC18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79D-0307-4D0B-88F6-B5EC943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6DD9-8340-4FD9-970C-375B25F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40AE-09E3-4E4B-8CCE-700340E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4F35-42A3-43B6-9856-D15B63D7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0DEA-BBED-464F-92C8-55002929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5ED6-5DFB-49BB-9323-6DF309FE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B2A-F85E-44BE-8E06-FBB29405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165-16DB-4C40-A2DD-FE807166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A6C-0822-4DF1-949E-D12C0D4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07C-F766-4AD3-A1C2-30D9517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9F0-0194-48AE-AD1A-714D95C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E6F-0F9E-446D-805D-B1C9B05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6E3-BAEF-4574-A12A-16456C2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4E0-4A16-4986-863C-2D7A41B85F2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F64-9B6E-4DF3-81C9-B154E87DDB4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omi.ws/woodwind/rus-horn/" TargetMode="External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Жалейка.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313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522000"/>
            <a:ext cx="40388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В ряде областей жалейку, как и владимирский 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  <a:hlinkClick r:id="rId2"/>
              </a:rPr>
              <a:t>рожок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Verdana"/>
              </a:rPr>
              <a:t>, называют «пастушеским рожком». В результате, когда в письменном источнике говорится о «пастушеском рожке» мы не можем точно знать о каком инструменте идёт речь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Verdana"/>
              </a:rPr>
              <a:t>Жалейка бывает двух разновидностей — одинарная и двойная (двухствольчатая). Одинарная жалейка представляет собой небольшую трубочку из ивы или бузины длиной от 10 до 20 см, в верхний конец которой вставлен пищик с одинарным язычком из камыша или гусиного пера, а на нижний надет раструб из коровьего рога или из бересты. Язычок иногда надрезают на самой трубочке. На стволе есть от 3 до 7 игровых отверстий, благодаря чему можно менять высоту звука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Жалейки из эбонита"/>
          <p:cNvPicPr/>
          <p:nvPr/>
        </p:nvPicPr>
        <p:blipFill>
          <a:blip r:embed="rId1"/>
          <a:stretch/>
        </p:blipFill>
        <p:spPr>
          <a:xfrm>
            <a:off x="4643280" y="2133720"/>
            <a:ext cx="4176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322200"/>
            <a:ext cx="403848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Verdana"/>
              </a:rPr>
              <a:t>В 1900 г. В. В. Андреев ввел в состав своего оркестра жалейку усовершенствованного образца, названную им брёлкой. Своим внешним видом эта жалейка похожа на народную, она имеет двойной язычок гобойного типа. Кроме обычных игровых отверстий, у нее есть дополнительные, с клапанами, которые позволяют получить хроматический звукоря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Брёлка"/>
          <p:cNvPicPr/>
          <p:nvPr/>
        </p:nvPicPr>
        <p:blipFill>
          <a:blip r:embed="rId1"/>
          <a:stretch/>
        </p:blipFill>
        <p:spPr>
          <a:xfrm>
            <a:off x="4859280" y="1916280"/>
            <a:ext cx="22734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Verdana"/>
              </a:rPr>
              <a:t>Когда-то жалейка была широко распространена по России, Белоруссии, Украине и Литве. Сейчас её можно увидеть, пожалуй, только в оркестрах русских народных инструментов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Жалейки из клёна"/>
          <p:cNvPicPr/>
          <p:nvPr/>
        </p:nvPicPr>
        <p:blipFill>
          <a:blip r:embed="rId1"/>
          <a:stretch/>
        </p:blipFill>
        <p:spPr>
          <a:xfrm>
            <a:off x="3708360" y="2492280"/>
            <a:ext cx="5004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0:31:10Z</dcterms:created>
  <dc:creator>татьяна</dc:creator>
  <dc:description/>
  <dc:language>en-US</dc:language>
  <cp:lastModifiedBy>татьяна</cp:lastModifiedBy>
  <dcterms:modified xsi:type="dcterms:W3CDTF">2012-11-20T14:54:26Z</dcterms:modified>
  <cp:revision>2</cp:revision>
  <dc:subject/>
  <dc:title>Жалейка.</dc:title>
</cp:coreProperties>
</file>