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F34-D62C-4F63-9182-350C93E1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A4C-CFBA-4D82-88B0-9B7220B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B44-F119-4DD6-87CB-DE09AD4D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3EA-3A4B-466B-8C42-8DB94521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9AC9-2C75-46FD-BA8D-34BE4881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0C87-BF86-48FA-9E78-D8F08010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6EB3-6304-47E3-BCFC-B311C6B8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9D93-6B5A-4BA2-A1A5-0FF4DB48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3016-ECC8-48CD-A3F1-6AFAB411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7603-C5D2-4637-805C-3D6171D2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351B-1F5A-4B71-A9A9-9F77C81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507-E081-4AFD-9C44-E0952809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F0A-34FB-46D3-83D0-FE847C1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E0C8-4800-4B1C-BFC2-1C9078CF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92E7-088D-4CA9-9BF4-AB9898D3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9594-0560-451F-A0D2-F558F1E2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C3A8-D897-491B-9139-73B414CD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12C-C7C6-4AA9-85FD-A424AB39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4CA-0C40-4857-9020-F4300F79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CD3-FFB9-4158-91F9-E16C4321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610-173F-4064-B454-D6F14054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5BC-0868-4AEF-A04D-444F64C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D14-980E-43C7-8CB9-A96FFADC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2FE-E284-4D03-ACEF-2975FA1C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D3E-93FB-4FB3-A569-B32DCD1109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18FF-A19F-4E2A-86DF-0FA4B10D85F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omi.ws/woodwind/rus-horn/" TargetMode="External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Жалейка.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313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8920" y="522000"/>
            <a:ext cx="40388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В ряде областей жалейку, как и владимирский 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Verdana"/>
                <a:hlinkClick r:id="rId2"/>
              </a:rPr>
              <a:t>рожок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Verdana"/>
              </a:rPr>
              <a:t>, называют «пастушеским рожком». В результате, когда в письменном источнике говорится о «пастушеском рожке» мы не можем точно знать о каком инструменте идёт речь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Жалейка бывает двух разновидностей — одинарная и двойная (двухствольчатая). Одинарная жалейка представляет собой небольшую трубочку из ивы или бузины длиной от 10 до 20 см, в верхний конец которой вставлен пищик с одинарным язычком из камыша или гусиного пера, а на нижний надет раструб из коровьего рога или из бересты. Язычок иногда надрезают на самой трубочке. На стволе есть от 3 до 7 игровых отверстий, благодаря чему можно менять высоту звука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Жалейки из эбонита"/>
          <p:cNvPicPr/>
          <p:nvPr/>
        </p:nvPicPr>
        <p:blipFill>
          <a:blip r:embed="rId1"/>
          <a:stretch/>
        </p:blipFill>
        <p:spPr>
          <a:xfrm>
            <a:off x="4643280" y="2133720"/>
            <a:ext cx="41767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322200"/>
            <a:ext cx="403848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Verdana"/>
              </a:rPr>
              <a:t>В 1900 г. В. В. Андреев ввел в состав своего оркестра жалейку усовершенствованного образца, названную им брёлкой. Своим внешним видом эта жалейка похожа на народную, она имеет двойной язычок гобойного типа. Кроме обычных игровых отверстий, у нее есть дополнительные, с клапанами, которые позволяют получить хроматический звукоря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Брёлка"/>
          <p:cNvPicPr/>
          <p:nvPr/>
        </p:nvPicPr>
        <p:blipFill>
          <a:blip r:embed="rId1"/>
          <a:stretch/>
        </p:blipFill>
        <p:spPr>
          <a:xfrm>
            <a:off x="4859280" y="1916280"/>
            <a:ext cx="22734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Когда-то жалейка была широко распространена по России, Белоруссии, Украине и Литве. Сейчас её можно увидеть, пожалуй, только в оркестрах русских народных инструмент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Жалейки из клёна"/>
          <p:cNvPicPr/>
          <p:nvPr/>
        </p:nvPicPr>
        <p:blipFill>
          <a:blip r:embed="rId1"/>
          <a:stretch/>
        </p:blipFill>
        <p:spPr>
          <a:xfrm>
            <a:off x="3708360" y="2492280"/>
            <a:ext cx="50040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0:31:10Z</dcterms:created>
  <dc:creator>татьяна</dc:creator>
  <dc:description/>
  <dc:language>en-US</dc:language>
  <cp:lastModifiedBy>татьяна</cp:lastModifiedBy>
  <dcterms:modified xsi:type="dcterms:W3CDTF">2012-11-20T14:54:26Z</dcterms:modified>
  <cp:revision>2</cp:revision>
  <dc:subject/>
  <dc:title>Жалейка.</dc:title>
</cp:coreProperties>
</file>