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05B-D689-46B8-A337-2379EF1E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0AF-F7AB-4B14-A96C-44423790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CD2-8BD3-466D-9B0A-9ADF7527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BFE-A940-47A4-944A-DA5AC9D8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3DC2-AAA4-46CC-B56C-5A604A18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FB69-CC5D-4C4B-9F96-1D9DA2DA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7921-F7A9-48D8-991F-02E24F04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5903-F2B9-4051-8B9E-7F5F054A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9D5E-F4FC-4AE4-87C4-71F653B4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2448-540F-4ED0-8AA8-6A8B8991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B2CD-FD4A-4732-ABA8-FD9017C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964-1966-4AA1-B46C-16FB2176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1508-4B47-4400-9091-D9790E5C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148F-6AF1-4BC6-8D9D-F86FB516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2A99-AC9C-4BD5-ADBC-4CD263A3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A3C6-1853-4C30-A613-2401AB0F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0E03-67AE-4C3E-BA58-063E163D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DC6-A0EB-4B09-A5FA-4FC17F24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AB0-2C9F-4C79-BC5A-3C9383E4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06F-C85E-46F4-B856-76296669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CC9-2C83-424C-B326-80F1B2E5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76E-7823-42DF-BB1B-07B39123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7E3-6F52-444D-963C-C9DB3527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B60-9624-4B5E-BEFA-C231E226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58BB-7F12-4E8F-B933-2D7F677224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05C5-BC46-4763-8D72-8836420A3C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4.focus.de/img/gen/J/r/HBJr9ubB_Pxgen_r_1100x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rishna.com.ua/components/com_datsogallery/img_pictures/1E72E6314E5A-27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ka.proshin.ru/wp-content/uploads/koleso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005.radikal.ru/0712/b6/ded29c39a73a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baze.biathlonrus.com/upload/iblock/c80/c80e1009049d7c757d5ac33fd25b5160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к физической культуры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9 клас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: Физические качества и их разв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Оборнева Е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Возраст и пол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Естественным путем гибкость увеличивается в среднем до 10 – 12 лет, затем стабилизируются и с 25 – 30 лет начинает постепенно снижаться. Оптимальным возрастом совершенствования гибкости является период с 8 до 14 лет. С помощью систематических занятий ее можно увеличить на 30 – 40 %.    У женщин гибкость больше, чем у мужчин, примерно на 20 – 30 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 60 – летнего возраста происходит ее заметное снижение, но этого можно          избежать, регулярно выполняя    упражнения на растягивание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8" descr="old_woman"/>
          <p:cNvPicPr/>
          <p:nvPr/>
        </p:nvPicPr>
        <p:blipFill>
          <a:blip r:embed="rId1"/>
          <a:stretch/>
        </p:blipFill>
        <p:spPr>
          <a:xfrm>
            <a:off x="7391520" y="4572000"/>
            <a:ext cx="1752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Упражнения на растягив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1. Наклон вперед из исходного положения – сидя, руки вперё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1,2,3 – наклон вперед, 4 – исход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2. Наклон вперед из исходного положения – широкая стойка, руки на пояс. 1,2,3 – наклон вперед, 4 – исход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3. Перекат с правой  ноги на левую из исходного положения - сед на правой ноге, левая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строта – способность совершать движения с определенной скоростью, обусловленная способностью мышц преодолеть сопротивление с большим ускорением, и определяется скоростью дви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41101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ормами проявления быстроты являю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Время двигательной реак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одиночного движ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тота движе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3645000"/>
            <a:ext cx="30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296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ажнения на быстрот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1052640"/>
            <a:ext cx="763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И. п. стоя на расстоянии 2-3 м от стены с баскетбольным мячом в руках вверху за голов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быстром темпе делайте броски двумя руками из-за головы с последующей ловлей мя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Выполнение то же, но из положения низкого се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Выполнение то же, но из положения стоя на колен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344664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И. п. сидя на полу, ноги врозь, лицом к стенке на расстоянии 2 м, мяч перед грудью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аксимально быстром темпе выполняйте броски от гру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 То же, стоя на колен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 То же, лёжа на животе на расстоянии 1 м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овкость – способность быстро и легко овладевать новыми движениями, осознанно выполнять движения, быстро перестраивать двигательную деятельность в соответствии с требованиями меняющейся обстановки и всегда находить оптимальное реш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Картинка 3 из 498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4508640"/>
            <a:ext cx="1436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развивать лов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ение привычных упражнений из непривычных исходных положений (бросок баскетбольного мяча из положения сидя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ркальное выполнение упражнен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ложнение условий выполнения обычных упражнен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енение скорости и темпа движен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енение пространственных границ выполнения упражнений (уменьшение размеров поля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ражнения на лов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И. п. основная стой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йте в ходьбе хлопки руками спереди и сзади под каждый ша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И. п. основная стой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дьбе на каждый шаг выполняйте симметричные движения руками: вперёд, в стороны, вверх, вниз, наза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И. п. основная стой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йте с правой руки на 16 счётов поочерёдное передвижение рук на пояс, плечи, вверх, два хлопка с последующим возвращением обратно с двумя хлопками о бёд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И. п. упор присев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йте прыжок-падение вперёд на руки с отведением правой (левой) ноги вверх-назад и сгибанием рук в локтевых суставах. Затем вернитесь в и. 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ражнения на лов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И. п. лёжа на животе, мяч в обеих руках вперед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брасывайте и ловите мяч двумя ру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И. п. лёжа на животе, мяч в одной руке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брасывайте мяч верхом из руки в руку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 И. п. лёжа на животе, мяч в обеих руках вперед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брасывайте мяч вверх с последующим хлопком ладонями о п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. И. п. стоя в основной стойке, мяч в одной руке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брасывайте мяч вверх из-под левой или правой ноги одной рукой и ловите его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ординация -  способность управлять своими движениями в пространстве и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Картинка 16 из 496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860640"/>
            <a:ext cx="3835440" cy="2216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87520" y="3933720"/>
            <a:ext cx="1488960" cy="223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711840" y="3860640"/>
            <a:ext cx="1629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55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 физическими качествами понимают социально обусловленные совокупности биологических и психических свойств человека, выражающие его физическую готовность осуществлять активную двигательную активнос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ст на координац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Закройте глаза и в положении стоя сдвиньте носки и пя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Сидя на стуле, поднимите правую ногу и вращайте ею по часовой стрелке. Одновременно с этим нарисуйте правой рукой в воздухе букву "б", начиная с кон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Положите руку на живот и гладьте его по часовой стрелке. В то же время правой рукой постукивайте себя по голо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ражнения на координац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анспор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анспорте, вместо того, чтобы искать свободное место, останьтесь стоять, расставив ноги на уровне плеч и стараясь не держаться за поруч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тремя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ржась руками, поднимитесь и спуститесь со стремянки. Когда почувствуете себя уверенно, попытайтесь сделать тоже самое без помощи рук. Сначала приставляйте одну ногу к другой, а потом ставьте их на каждую ступ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я на пол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ьмите в обе руки по яблоку, по очереди подкиньте их и, главное, поймайте. Чтобы усложнить задачу, подбросьте оба яблока одновременно, поймав каждое сначала тойже рукой, которая кидала, а потом накре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узком бордю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йдите неподалеку от дома невысокий и достаточно узкий бордюр и проходите по нему каждый день, пока не добьетесь "кашачьей" г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носливость – это сопротивляемость утомлению при спортивной двигательной деятельности, т.е.  Способность человека противостоять утомлению при физической нагруз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Картинка 9 из 427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149720"/>
            <a:ext cx="1854360" cy="2565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732720" y="4149720"/>
            <a:ext cx="1920600" cy="25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Картинка 6 из 4275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4076640"/>
            <a:ext cx="38336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вынослив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ая – способность спортсмена продолжительное время выполнять различные по характеру виды упражн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ростная -  способность человека выполнять упражнение  высокой интенсивности в течении заданного време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вынослив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Силовая – способность преодолевать заданное силовое напряжение в течении определенного време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пециальная – к определенному виду спортив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а – способность преодолевать внешние сопротивления преимущественно за счет мышечной деятельности или же противодействовать внешним сил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пражнение для развития си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Стоя на расстоянии двух шагов от стула и опираясь руками о его сиденье, сгибайте и разгибайте руки сколько смож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пражнение для развития си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Лежа на спине и вытянув руки вдоль туловища, поднимайте ноги. Не сгибая в коленях, до прямого угла, а затем медленно опускай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пражнение для развития си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Выполните максимальное количество приседаний, не отрывая пятки от пола и вытянув руки впере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изическое качество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ибкость – способность человека выполнять упражнение с наибольшей амплитудой движения в суставах, обусловленная функциональными свойствами опорно-двигательного аппар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c1acb5cea76adbc66a7de2922d4c4c02"/>
          <p:cNvPicPr/>
          <p:nvPr/>
        </p:nvPicPr>
        <p:blipFill>
          <a:blip r:embed="rId1"/>
          <a:stretch/>
        </p:blipFill>
        <p:spPr>
          <a:xfrm>
            <a:off x="395280" y="4653000"/>
            <a:ext cx="1619280" cy="2047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gibkost2"/>
          <p:cNvPicPr/>
          <p:nvPr/>
        </p:nvPicPr>
        <p:blipFill>
          <a:blip r:embed="rId2"/>
          <a:stretch/>
        </p:blipFill>
        <p:spPr>
          <a:xfrm>
            <a:off x="5867280" y="4581360"/>
            <a:ext cx="32767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4400" spc="-1" strike="noStrike" u="sng">
                <a:solidFill>
                  <a:srgbClr val="66ffff"/>
                </a:solidFill>
                <a:uFillTx/>
                <a:latin typeface="Arial"/>
              </a:rPr>
              <a:t>1. Активная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гибкость проявляется за счет собственных мышечных усилий человека( наклон вперед, назад, мах ногой и др.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gibkost1"/>
          <p:cNvPicPr/>
          <p:nvPr/>
        </p:nvPicPr>
        <p:blipFill>
          <a:blip r:embed="rId1"/>
          <a:stretch/>
        </p:blipFill>
        <p:spPr>
          <a:xfrm>
            <a:off x="7356600" y="3505320"/>
            <a:ext cx="1787400" cy="33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81185762b3e7487d2349a844ff46c49"/>
          <p:cNvPicPr/>
          <p:nvPr/>
        </p:nvPicPr>
        <p:blipFill>
          <a:blip r:embed="rId2"/>
          <a:stretch/>
        </p:blipFill>
        <p:spPr>
          <a:xfrm>
            <a:off x="0" y="4419720"/>
            <a:ext cx="19699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600" spc="-1" strike="noStrike" u="sng">
                <a:solidFill>
                  <a:srgbClr val="66ff33"/>
                </a:solidFill>
                <a:uFillTx/>
                <a:latin typeface="Arial"/>
              </a:rPr>
              <a:t>2. Пассивная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86d1ec"/>
                </a:solidFill>
                <a:latin typeface="Arial"/>
              </a:rPr>
              <a:t>гибкость реализуется в результате взаимодействия мышечных усилий и внешних сил.  Например, партнер помогает своему товарищу отвести руки до упора назад. Поэтому пассивная гибкость всегда больше активной. Разница в этих формах гибкости является потенциальным резервом для развития активной гибкости. В результате прироста активной гибкости существующая разница уменьшае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0:33:44Z</dcterms:created>
  <dc:creator>User</dc:creator>
  <dc:description/>
  <dc:language>en-US</dc:language>
  <cp:lastModifiedBy>User</cp:lastModifiedBy>
  <dcterms:modified xsi:type="dcterms:W3CDTF">2011-02-15T19:18:54Z</dcterms:modified>
  <cp:revision>11</cp:revision>
  <dc:subject/>
  <dc:title>Слайд 1</dc:title>
</cp:coreProperties>
</file>