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6557-26DE-4F7C-B831-9A5C3E2F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A38-C0D5-4EDC-8878-F2612622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158-4FF1-4A12-9F27-5FB78318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93C-5669-45FE-8312-F54FAF8B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168B-6B61-4A80-9312-06ACFEB8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F498-0E08-4804-AE4E-D3B5E031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771A-82AA-49CC-84B9-F5DCA360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095E-344A-4061-9379-AC3225A5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B548-3BC3-4A42-B05D-1D317DB9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490D-EE36-4B2E-A807-A6B42351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237F-B3CF-4EEE-AE08-1756DB6A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DEF4-58E1-428E-8408-B35E743F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C278-957E-44F5-8F7E-C998AA9F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42D9-5A44-4F25-9A1A-5FBDEACA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0FC9-1F1F-4A57-AAB8-9A1723A4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386C-3683-42CE-BDD6-1A844E27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7995-23D2-4751-A72D-3FFA8E3E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66CF-55B0-438D-A717-ABDFCACE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082-6499-419A-B20C-1983EAB1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0A8-182A-4D21-BFBF-D47FBC62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269-291B-43A3-9A98-D771494D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A528-0B0C-4D70-89EA-25D0C9F1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0473-D401-4616-850D-194E85F7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1B6-43F9-433C-B4AF-BB569A72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D620-65B2-4EE7-A3B1-71692BC772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8964-16F9-4B84-A74F-1428A39490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4.focus.de/img/gen/J/r/HBJr9ubB_Pxgen_r_1100xA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krishna.com.ua/components/com_datsogallery/img_pictures/1E72E6314E5A-27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vika.proshin.ru/wp-content/uploads/koleso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005.radikal.ru/0712/b6/ded29c39a73a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hyperlink" Target="http://baze.biathlonrus.com/upload/iblock/c80/c80e1009049d7c757d5ac33fd25b5160.jpg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рок физической культуры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 9 класс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а: Физические качества и их развит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: Оборнева Е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001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Возраст и пол челове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Естественным путем гибкость увеличивается в среднем до 10 – 12 лет, затем стабилизируются и с 25 – 30 лет начинает постепенно снижаться. Оптимальным возрастом совершенствования гибкости является период с 8 до 14 лет. С помощью систематических занятий ее можно увеличить на 30 – 40 %.    У женщин гибкость больше, чем у мужчин, примерно на 20 – 30 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 60 – летнего возраста происходит ее заметное снижение, но этого можно          избежать, регулярно выполняя    упражнения на растягивание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8" descr="old_woman"/>
          <p:cNvPicPr/>
          <p:nvPr/>
        </p:nvPicPr>
        <p:blipFill>
          <a:blip r:embed="rId1"/>
          <a:stretch/>
        </p:blipFill>
        <p:spPr>
          <a:xfrm>
            <a:off x="7391520" y="4572000"/>
            <a:ext cx="17524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Упражнения на растягив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1. Наклон вперед из исходного положения – сидя, руки вперё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1,2,3 – наклон вперед, 4 – исходное поло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2. Наклон вперед из исходного положения – широкая стойка, руки на пояс. 1,2,3 – наклон вперед, 4 – исходное поло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3. Перекат с правой  ноги на левую из исходного положения - сед на правой ноге, левая в стор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еское каче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ыстрота – способность совершать движения с определенной скоростью, обусловленная способностью мышц преодолеть сопротивление с большим ускорением, и определяется скоростью дви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03640" y="4076640"/>
            <a:ext cx="41101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ормами проявления быстроты являют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Время двигательной реак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мя одиночного движ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астота движен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3645000"/>
            <a:ext cx="3095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22960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пражнения на быстрот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1052640"/>
            <a:ext cx="7632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И. п. стоя на расстоянии 2-3 м от стены с баскетбольным мячом в руках вверху за голов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быстром темпе делайте броски двумя руками из-за головы с последующей ловлей мяч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Выполнение то же, но из положения низкого се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Выполнение то же, но из положения стоя на колен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4360" y="344664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 И. п. сидя на полу, ноги врозь, лицом к стенке на расстоянии 2 м, мяч перед грудью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максимально быстром темпе выполняйте броски от гру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 То же, стоя на колен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 То же, лёжа на животе на расстоянии 1 м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еское каче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овкость – способность быстро и легко овладевать новыми движениями, осознанно выполнять движения, быстро перестраивать двигательную деятельность в соответствии с требованиями меняющейся обстановки и всегда находить оптимальное реш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Картинка 3 из 4981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80360" y="4508640"/>
            <a:ext cx="1436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 развивать ловк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полнение привычных упражнений из непривычных исходных положений (бросок баскетбольного мяча из положения сидя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еркальное выполнение упражнений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ложнение условий выполнения обычных упражнений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менение скорости и темпа движений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менение пространственных границ выполнения упражнений (уменьшение размеров поля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пражнения на ловк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И. п. основная стойк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йте в ходьбе хлопки руками спереди и сзади под каждый ша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И. п. основная стойк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ходьбе на каждый шаг выполняйте симметричные движения руками: вперёд, в стороны, вверх, вниз, наза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И. п. основная стойк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йте с правой руки на 16 счётов поочерёдное передвижение рук на пояс, плечи, вверх, два хлопка с последующим возвращением обратно с двумя хлопками о бёд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И. п. упор присев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йте прыжок-падение вперёд на руки с отведением правой (левой) ноги вверх-назад и сгибанием рук в локтевых суставах. Затем вернитесь в и. 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пражнения на ловк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И. п. лёжа на животе, мяч в обеих руках впереди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брасывайте и ловите мяч двумя ру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 И. п. лёжа на животе, мяч в одной руке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брасывайте мяч верхом из руки в руку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 И. п. лёжа на животе, мяч в обеих руках впереди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брасывайте мяч вверх с последующим хлопком ладонями о п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. И. п. стоя в основной стойке, мяч в одной руке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брасывайте мяч вверх из-под левой или правой ноги одной рукой и ловите его друг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еское каче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ординация -  способность управлять своими движениями в пространстве и време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Картинка 16 из 4960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860640"/>
            <a:ext cx="3835440" cy="2216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587520" y="3933720"/>
            <a:ext cx="1488960" cy="2232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6711840" y="3860640"/>
            <a:ext cx="1629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55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д физическими качествами понимают социально обусловленные совокупности биологических и психических свойств человека, выражающие его физическую готовность осуществлять активную двигательную активнос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ест на координаци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Закройте глаза и в положении стоя сдвиньте носки и пят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Сидя на стуле, поднимите правую ногу и вращайте ею по часовой стрелке. Одновременно с этим нарисуйте правой рукой в воздухе букву "б", начиная с кон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Положите руку на живот и гладьте его по часовой стрелке. В то же время правой рукой постукивайте себя по голо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пражнения на координаци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ранспор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ранспорте, вместо того, чтобы искать свободное место, останьтесь стоять, расставив ноги на уровне плеч и стараясь не держаться за поруч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стремян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ржась руками, поднимитесь и спуститесь со стремянки. Когда почувствуете себя уверенно, попытайтесь сделать тоже самое без помощи рук. Сначала приставляйте одну ногу к другой, а потом ставьте их на каждую ступе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я на пол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ьмите в обе руки по яблоку, по очереди подкиньте их и, главное, поймайте. Чтобы усложнить задачу, подбросьте оба яблока одновременно, поймав каждое сначала тойже рукой, которая кидала, а потом накре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узком бордю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йдите неподалеку от дома невысокий и достаточно узкий бордюр и проходите по нему каждый день, пока не добьетесь "кашачьей" г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еское каче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носливость – это сопротивляемость утомлению при спортивной двигательной деятельности, т.е.  Способность человека противостоять утомлению при физической нагруз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Картинка 9 из 427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149720"/>
            <a:ext cx="1854360" cy="2565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732720" y="4149720"/>
            <a:ext cx="1920600" cy="2562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Картинка 6 из 4275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56000" y="4076640"/>
            <a:ext cx="38336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иды вынослив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ая – способность спортсмена продолжительное время выполнять различные по характеру виды упражн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ростная -  способность человека выполнять упражнение  высокой интенсивности в течении заданного време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иды вынослив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Силовая – способность преодолевать заданное силовое напряжение в течении определенного време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Специальная – к определенному виду спортивн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еское каче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ла – способность преодолевать внешние сопротивления преимущественно за счет мышечной деятельности или же противодействовать внешним сил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пражнение для развития си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Стоя на расстоянии двух шагов от стула и опираясь руками о его сиденье, сгибайте и разгибайте руки сколько сможе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пражнение для развития си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Лежа на спине и вытянув руки вдоль туловища, поднимайте ноги. Не сгибая в коленях, до прямого угла, а затем медленно опускай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пражнение для развития си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Выполните максимальное количество приседаний, не отрывая пятки от пола и вытянув руки впере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43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изическое качество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ибкость – способность человека выполнять упражнение с наибольшей амплитудой движения в суставах, обусловленная функциональными свойствами опорно-двигательного аппара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c1acb5cea76adbc66a7de2922d4c4c02"/>
          <p:cNvPicPr/>
          <p:nvPr/>
        </p:nvPicPr>
        <p:blipFill>
          <a:blip r:embed="rId1"/>
          <a:stretch/>
        </p:blipFill>
        <p:spPr>
          <a:xfrm>
            <a:off x="395280" y="4653000"/>
            <a:ext cx="1619280" cy="2047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gibkost2"/>
          <p:cNvPicPr/>
          <p:nvPr/>
        </p:nvPicPr>
        <p:blipFill>
          <a:blip r:embed="rId2"/>
          <a:stretch/>
        </p:blipFill>
        <p:spPr>
          <a:xfrm>
            <a:off x="5867280" y="4581360"/>
            <a:ext cx="32767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10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4400" spc="-1" strike="noStrike" u="sng">
                <a:solidFill>
                  <a:srgbClr val="66ffff"/>
                </a:solidFill>
                <a:uFillTx/>
                <a:latin typeface="Arial"/>
              </a:rPr>
              <a:t>1. Активная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гибкость проявляется за счет собственных мышечных усилий человека( наклон вперед, назад, мах ногой и др.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6" descr="gibkost1"/>
          <p:cNvPicPr/>
          <p:nvPr/>
        </p:nvPicPr>
        <p:blipFill>
          <a:blip r:embed="rId1"/>
          <a:stretch/>
        </p:blipFill>
        <p:spPr>
          <a:xfrm>
            <a:off x="7356600" y="3505320"/>
            <a:ext cx="1787400" cy="3352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081185762b3e7487d2349a844ff46c49"/>
          <p:cNvPicPr/>
          <p:nvPr/>
        </p:nvPicPr>
        <p:blipFill>
          <a:blip r:embed="rId2"/>
          <a:stretch/>
        </p:blipFill>
        <p:spPr>
          <a:xfrm>
            <a:off x="0" y="4419720"/>
            <a:ext cx="19699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3600" spc="-1" strike="noStrike" u="sng">
                <a:solidFill>
                  <a:srgbClr val="66ff33"/>
                </a:solidFill>
                <a:uFillTx/>
                <a:latin typeface="Arial"/>
              </a:rPr>
              <a:t>2. Пассивная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86d1ec"/>
                </a:solidFill>
                <a:latin typeface="Arial"/>
              </a:rPr>
              <a:t>гибкость реализуется в результате взаимодействия мышечных усилий и внешних сил.  Например, партнер помогает своему товарищу отвести руки до упора назад. Поэтому пассивная гибкость всегда больше активной. Разница в этих формах гибкости является потенциальным резервом для развития активной гибкости. В результате прироста активной гибкости существующая разница уменьшаетс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0:33:44Z</dcterms:created>
  <dc:creator>User</dc:creator>
  <dc:description/>
  <dc:language>en-US</dc:language>
  <cp:lastModifiedBy>User</cp:lastModifiedBy>
  <dcterms:modified xsi:type="dcterms:W3CDTF">2011-02-15T19:18:54Z</dcterms:modified>
  <cp:revision>11</cp:revision>
  <dc:subject/>
  <dc:title>Слайд 1</dc:title>
</cp:coreProperties>
</file>