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0C5-D369-4D4E-923E-1A3A6C2D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CC2-A67B-4ECA-A0E3-858BB656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C02-85E0-4C00-9F07-4F297D95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34D-2F36-415C-AE9D-DAAF288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31B0-15A4-48AE-A0F1-1C401861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2696-3CD2-4697-91C8-6604361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2198-4067-4D5F-9416-4F628E58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2A0A-AEEE-45F6-9D10-4A28053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2B9-FC38-4F6C-8D2F-FF4CF083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4A3F-5CD5-4D28-B286-F4EE778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4FCC-F04B-4B7C-A92A-85DBF30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28F-C57B-4E9F-A1D4-53A743C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E192-FDD1-4CD5-AEC8-330CCF6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2639-CF74-48DE-A129-A291D04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5FEB-05C4-43FE-9F69-4E31E96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233-AB67-4EBD-AD3C-5BE584DD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2A8-A117-4297-AC74-ACB8DBBC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8BE-07E2-4DC4-B482-E8A69D4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51C-3568-4432-A777-6D52126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631-5E44-406C-AFD3-295BC85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DC3-91EC-4FAC-9236-D4B37BDE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3B4-3B01-4915-9640-67459ED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691-6133-4F29-827F-1C7D278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BCB-7E80-49D3-8AEF-F2D778C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339-971D-4D2C-9257-6805C8233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9C4-C0E7-4A5C-8EFA-B67937D28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4.focus.de/img/gen/J/r/HBJr9ubB_Pxgen_r_1100x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rishna.com.ua/components/com_datsogallery/img_pictures/1E72E6314E5A-27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ka.proshin.ru/wp-content/uploads/koleso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05.radikal.ru/0712/b6/ded29c39a73a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baze.biathlonrus.com/upload/iblock/c80/c80e1009049d7c757d5ac33fd25b5160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к физической культур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9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Физические качества и их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Оборнева Е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Возраст и пол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Естественным путем гибкость увеличивается в среднем до 10 – 12 лет, затем стабилизируются и с 25 – 30 лет начинает постепенно снижаться. Оптимальным возрастом совершенствования гибкости является период с 8 до 14 лет. С помощью систематических занятий ее можно увеличить на 30 – 40 %.    У женщин гибкость больше, чем у мужчин, примерно на 20 – 30 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 60 – летнего возраста происходит ее заметное снижение, но этого можно          избежать, регулярно выполняя    упражнения на растягивани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old_woman"/>
          <p:cNvPicPr/>
          <p:nvPr/>
        </p:nvPicPr>
        <p:blipFill>
          <a:blip r:embed="rId1"/>
          <a:stretch/>
        </p:blipFill>
        <p:spPr>
          <a:xfrm>
            <a:off x="7391520" y="457200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Упражнения на растягив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. Наклон вперед из исходного положения – сидя, руки вперё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2. Наклон вперед из исходного положения – широкая стойка, руки на пояс. 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3. Перекат с правой  ноги на левую из исходного положения - сед на правой ноге, левая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строта – способность совершать движения с определенной скоростью, обусловленная способностью мышц преодолеть сопротивление с большим ускорением, и определяется скоростью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4110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рмами проявления быстроты являю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ремя двигательной реа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одиночно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ота движ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64500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ения на быстрот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052640"/>
            <a:ext cx="763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И. п. стоя на расстоянии 2-3 м от стены с баскетбольным мячом в руках вверху за голо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быстром темпе делайте броски двумя руками из-за головы с последующей ловлей мя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Выполнение то же, но из положения низкого 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Выполнение то же, но из положения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44664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И. п. сидя на полу, ноги врозь, лицом к стенке на расстоянии 2 м, мяч перед грудью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ксимально быстром темпе выполняйте броски от гру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То же,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 То же, лёжа на животе на расстоянии 1 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овкость – способность быстро и легко овладевать новыми движениями, осознанно выполнять движения, быстро перестраивать двигательную деятельность в соответствии с требованиями меняющейся обстановки и всегда находить оптимальное ре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Картинка 3 из 49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4508640"/>
            <a:ext cx="1436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развивать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ение привычных упражнений из непривычных исходных положений (бросок баскетбольного мяча из положения сидя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ркальное выполнение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жнение условий выполнения обычных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скорости и темпа движ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пространственных границ выполнения упражнений (уменьшение размеров пол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в ходьбе хлопки руками спереди и сзади под каждый ша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ьбе на каждый шаг выполняйте симметричные движения руками: вперёд, в стороны, вверх, вниз, наз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с правой руки на 16 счётов поочерёдное передвижение рук на пояс, плечи, вверх, два хлопка с последующим возвращением обратно с двумя хлопками о бё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И. п. упор присе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прыжок-падение вперёд на руки с отведением правой (левой) ноги вверх-назад и сгибанием рук в локтевых суставах. Затем вернитесь в и. 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и ловите мяч двумя ру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И. п. лёжа на живот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брасывайте мяч верхом из руки в руку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с последующим хлопком ладонями о 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И. п. стоя в основной стойк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из-под левой или правой ноги одной рукой и ловите его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ординация -  способность управлять своими движениями в пространстве 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Картинка 16 из 496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860640"/>
            <a:ext cx="3835440" cy="2216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7520" y="3933720"/>
            <a:ext cx="148896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711840" y="3860640"/>
            <a:ext cx="1629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 физическими качествами понимают социально обусловленные совокупности биологических и психических свойств человека, выражающие его физическую готовность осуществлять активную двигательную активно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ст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Закройте глаза и в положении стоя сдвиньте носки и пя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идя на стуле, поднимите правую ногу и вращайте ею по часовой стрелке. Одновременно с этим нарисуйте правой рукой в воздухе букву "б", начиная с ко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оложите руку на живот и гладьте его по часовой стрелке. В то же время правой рукой постукивайте себя по гол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, вместо того, чтобы искать свободное место, останьтесь стоять, расставив ноги на уровне плеч и стараясь не держаться за поруч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тремя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жась руками, поднимитесь и спуститесь со стремянки. Когда почувствуете себя уверенно, попытайтесь сделать тоже самое без помощи рук. Сначала приставляйте одну ногу к другой, а потом ставьте их на каждую ступ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я на по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ьмите в обе руки по яблоку, по очереди подкиньте их и, главное, поймайте. Чтобы усложнить задачу, подбросьте оба яблока одновременно, поймав каждое сначала тойже рукой, которая кидала, а потом накре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узком бордю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неподалеку от дома невысокий и достаточно узкий бордюр и проходите по нему каждый день, пока не добьетесь "кашачьей" 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носливость – это сопротивляемость утомлению при спортивной двигательной деятельности, т.е.  Способность человека противостоять утомлению при физической нагруз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9 из 427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49720"/>
            <a:ext cx="18543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920600" cy="25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Картинка 6 из 4275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4076640"/>
            <a:ext cx="3833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– способность спортсмена продолжительное время выполнять различные по характеру виды упражн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ная -  способность человека выполнять упражнение  высокой интенсивности в течении зада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Силовая – способность преодолевать заданное силовое напряжение в течении определе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пециальная – к определенному виду спортив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 – способность преодолевать внешние сопротивления преимущественно за счет мышечной деятельности или же противодействовать внешним сил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тоя на расстоянии двух шагов от стула и опираясь руками о его сиденье, сгибайте и разгибайте руки сколько смож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Лежа на спине и вытянув руки вдоль туловища, поднимайте ноги. Не сгибая в коленях, до прямого угла, а затем медленно опуск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Выполните максимальное количество приседаний, не отрывая пятки от пола и вытянув руки впер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ое качество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ость – способность человека выполнять упражнение с наибольшей амплитудой движения в суставах, обусловленная функциональными свойствами опорно-двигательного аппар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1acb5cea76adbc66a7de2922d4c4c02"/>
          <p:cNvPicPr/>
          <p:nvPr/>
        </p:nvPicPr>
        <p:blipFill>
          <a:blip r:embed="rId1"/>
          <a:stretch/>
        </p:blipFill>
        <p:spPr>
          <a:xfrm>
            <a:off x="395280" y="4653000"/>
            <a:ext cx="1619280" cy="204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gibkost2"/>
          <p:cNvPicPr/>
          <p:nvPr/>
        </p:nvPicPr>
        <p:blipFill>
          <a:blip r:embed="rId2"/>
          <a:stretch/>
        </p:blipFill>
        <p:spPr>
          <a:xfrm>
            <a:off x="5867280" y="4581360"/>
            <a:ext cx="3276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1. Активная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ибкость проявляется за счет собственных мышечных усилий человека( наклон вперед, назад, мах ногой и др.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gibkost1"/>
          <p:cNvPicPr/>
          <p:nvPr/>
        </p:nvPicPr>
        <p:blipFill>
          <a:blip r:embed="rId1"/>
          <a:stretch/>
        </p:blipFill>
        <p:spPr>
          <a:xfrm>
            <a:off x="7356600" y="3505320"/>
            <a:ext cx="178740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81185762b3e7487d2349a844ff46c49"/>
          <p:cNvPicPr/>
          <p:nvPr/>
        </p:nvPicPr>
        <p:blipFill>
          <a:blip r:embed="rId2"/>
          <a:stretch/>
        </p:blipFill>
        <p:spPr>
          <a:xfrm>
            <a:off x="0" y="44197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600" spc="-1" strike="noStrike" u="sng">
                <a:solidFill>
                  <a:srgbClr val="66ff33"/>
                </a:solidFill>
                <a:uFillTx/>
                <a:latin typeface="Arial"/>
              </a:rPr>
              <a:t>2. Пассивна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гибкость реализуется в результате взаимодействия мышечных усилий и внешних сил.  Например, партнер помогает своему товарищу отвести руки до упора назад. Поэтому пассивная гибкость всегда больше активной. Разница в этих формах гибкости является потенциальным резервом для развития активной гибкости. В результате прироста активной гибкости существующая разница уменьшае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33:44Z</dcterms:created>
  <dc:creator>User</dc:creator>
  <dc:description/>
  <dc:language>en-US</dc:language>
  <cp:lastModifiedBy>User</cp:lastModifiedBy>
  <dcterms:modified xsi:type="dcterms:W3CDTF">2011-02-15T19:18:54Z</dcterms:modified>
  <cp:revision>11</cp:revision>
  <dc:subject/>
  <dc:title>Слайд 1</dc:title>
</cp:coreProperties>
</file>