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E62-5C72-40BE-9E3F-AE03D630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C5A-92BE-4275-9529-7BDF2FC4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F83-E604-4DAE-9682-EE798EAF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4BB-93BE-48FA-AD55-AF8909C9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8FE4-DFF0-4A81-8564-FBF7F1A0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0A23-9EC4-46E0-8E27-EC2EE738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82E1-23F7-4690-9B29-C6C0E88F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5BB-6716-4F3B-B6ED-91B64AFB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7642-C2C2-42FE-A836-D9AD5276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CFE9-C770-4434-B050-A5B7AF4F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6F47-0D6E-4C1A-8F90-88BA6A05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4FF-5BE8-462A-BD3D-F817355A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0565-1F67-4EEA-AAF6-73F0F5BC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2D2F-2C96-4DAE-8BF6-470FAB4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3891-1361-4D43-BF4C-4ECBCED9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59D1-FCB1-49F4-87FA-FC47C790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88B-241C-47DC-9A5A-12616627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3F2-4D46-408E-B4AF-DEEA283D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1AD-B7BC-442A-9BF3-42BB8F24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EC5-9A59-4D04-9ADA-5437CF6E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064-E2F1-4587-8AC9-7C0946AA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4B4-41CE-4536-A1AF-2E0A05EC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2F0-5DAB-48FE-AD67-83BAFA44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F88-E2B1-4DD5-9165-4F18BC1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C327-A2DE-4019-8A6D-54D03A315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C6BA-F6C1-43AD-B27A-BD3442A18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Tsvetaev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to.mail.ru/mail/sadob/7/40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&#1052;&#1072;&#1088;&#1080;&#1085;&#1072;_&#1062;&#1074;&#1077;&#1090;&#1072;&#1077;&#1074;&#1072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456840"/>
            <a:ext cx="5562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Анализ стихотворения М.Цветаевой «Рябину рубили…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8954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« Я не верю стихам, которые льются. Рвутся – да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533520"/>
            <a:ext cx="2209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352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ябин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уби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орькою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Первая микротема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: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рябина фото"/>
          <p:cNvPicPr/>
          <p:nvPr/>
        </p:nvPicPr>
        <p:blipFill>
          <a:blip r:embed="rId1"/>
          <a:stretch/>
        </p:blipFill>
        <p:spPr>
          <a:xfrm>
            <a:off x="152280" y="304920"/>
            <a:ext cx="2381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1760" y="6858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 Всё сосредоточенно на действии, действующее лицо «намеренно» устранено из речи, намеренно представлено как неизвестное, неопределённое.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. М. Пешков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655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як дом мне чужд, всяк храм мне пус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 всё – равно, и всё – еди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о если по дороге – ку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таёт, особенно – рябин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рябина"/>
          <p:cNvPicPr/>
          <p:nvPr/>
        </p:nvPicPr>
        <p:blipFill>
          <a:blip r:embed="rId1"/>
          <a:stretch/>
        </p:blipFill>
        <p:spPr>
          <a:xfrm>
            <a:off x="152280" y="1522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Контекстуальные синонимы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ябина – Россия, Род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676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торая микротема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038120" y="220932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ябина 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орька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Ветвь, Попов Николай Евгеньевич, фото Ветвь"/>
          <p:cNvPicPr/>
          <p:nvPr/>
        </p:nvPicPr>
        <p:blipFill>
          <a:blip r:embed="rId1"/>
          <a:stretch/>
        </p:blipFill>
        <p:spPr>
          <a:xfrm>
            <a:off x="228600" y="22860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Именительный падеж существительного без связки выражает наибольшее постоянство отношений двух понятий – неизменный, вневременный характер связи между ними.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А.Н.Гвозде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ретья микротема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80920" y="2362320"/>
            <a:ext cx="403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ябина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едым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пусками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Рябина, Попов Николай Евгеньевич, фото Рябина"/>
          <p:cNvPicPr/>
          <p:nvPr/>
        </p:nvPicPr>
        <p:blipFill>
          <a:blip r:embed="rId1"/>
          <a:stretch/>
        </p:blipFill>
        <p:spPr>
          <a:xfrm>
            <a:off x="152280" y="228600"/>
            <a:ext cx="2438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428640" y="380520"/>
            <a:ext cx="5715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олото моих воло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Тихо переходит в седос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не жалейте! всё сбылос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сё в груди слилось и спелось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пеплы сокровищ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трат, обид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пеплы, пред кои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 прах – грани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95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477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Четвёртая микротема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724280" y="2666520"/>
            <a:ext cx="3276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ябин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усска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Ворона на дереве"/>
          <p:cNvPicPr/>
          <p:nvPr/>
        </p:nvPicPr>
        <p:blipFill>
          <a:blip r:embed="rId1"/>
          <a:stretch/>
        </p:blipFill>
        <p:spPr>
          <a:xfrm>
            <a:off x="228600" y="304920"/>
            <a:ext cx="2743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уби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орько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а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орьк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а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ед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пусками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усская.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3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Марина Цветаева в 1924-м год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8240" y="358092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Рябина – судьбина (горькая) – судьбина (русска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Ягоды рябины - макро"/>
          <p:cNvPicPr/>
          <p:nvPr/>
        </p:nvPicPr>
        <p:blipFill>
          <a:blip r:embed="rId1"/>
          <a:stretch/>
        </p:blipFill>
        <p:spPr>
          <a:xfrm>
            <a:off x="3429000" y="838080"/>
            <a:ext cx="2590920" cy="2438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5715000"/>
            <a:ext cx="678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Рябина на фоне голубого неба"/>
          <p:cNvPicPr/>
          <p:nvPr/>
        </p:nvPicPr>
        <p:blipFill>
          <a:blip r:embed="rId1"/>
          <a:stretch/>
        </p:blipFill>
        <p:spPr>
          <a:xfrm>
            <a:off x="2438280" y="5335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Марина – рябина – судьб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742840" y="12193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то создан из камня, кто создан из глины,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 я серебрюсь и сверкаю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е дело – измена, мне имя - Марин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Я – бренная пена морска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3814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мелое порывистое дробление фразы на отдельные смысловые куски ради почти телеграфной сжатости, когда опускается всё понятное само собой и остаются только самые необходимые акценты мысли, - становится особой приметой её стиля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. Рождествен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114800" y="228240"/>
            <a:ext cx="5029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расною ки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ябина зажг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адали лист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роди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рили сотн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локо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ень был субботни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оанн Богос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не и доны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очется грыз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Жаркой ряб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орькую ки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Фото: рябина"/>
          <p:cNvPicPr/>
          <p:nvPr/>
        </p:nvPicPr>
        <p:blipFill>
          <a:blip r:embed="rId1"/>
          <a:stretch/>
        </p:blipFill>
        <p:spPr>
          <a:xfrm>
            <a:off x="228600" y="3049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57400" cy="228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23520" y="16761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Рябина навсегда вошла в геральдику её поэзии. Пылающая и горькая, на излёте осени, в преддверии зимы – она стала символом судьбы, тоже переходной и горькой, пылающей творчеством и уходящей в зиму забвения.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А.И.Павл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«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оэт – романтик, она любит яркую и динамичную метафору, развёртывающуюся подобно пружине … она … любила уточнение, растолкование, последовательное обнажение существа, сердцевины :Цветаева – поэт синонимики.» </a:t>
            </a:r>
            <a:br>
              <a:rPr sz="3600"/>
            </a:br>
            <a:r>
              <a:rPr b="1" i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    А.И. Павловский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08-10-21T09:55:4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