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3F9-3CC3-4CB1-AD72-62104379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86C-2718-4544-B9AE-C7D3514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001-7786-4421-A611-EB0F43B8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BF2-80EB-48AB-BD98-0F9BA4C9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D337-AAE9-4B13-BE42-0F4F50FD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B89-FA41-4FCB-B634-EF967C5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A06-E5F5-427C-A59E-1258D8B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E851-97DD-47C7-9218-670C061E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AE38-0F2E-454F-B55F-4DFCBDD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A06B-485B-4CFB-A30D-E89F5E9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4FF3-B73E-49B8-9705-BBF0AB5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68A-50C8-49F0-863E-FADEB18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0E45-D10F-4EAB-9B1C-1BD202B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D968-B461-46C9-A5DF-D045ACF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7BB1-D9BF-46DA-BF93-EB326CC6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5FA9-99AC-4117-B513-06361B4E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F47-9326-4B2F-B4DB-45DE7D8F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AF-D9F7-4822-9A44-84F5AD1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FF0-1627-482C-887F-12F515B0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463-BF50-41DF-B454-2C81267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0EB-9261-42BF-B644-2C9DD9A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2C2-409B-4B0B-836C-599CD10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B23-BD8F-4C8B-8006-E1A1E95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C8C-6EC6-4CF6-83E1-3AD136D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0417-B0BD-4D31-A07D-716A9EBF8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A310-D90D-42A0-A8A7-253F5933A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svetaev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.mail.ru/mail/sadob/7/40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52;&#1072;&#1088;&#1080;&#1085;&#1072;_&#1062;&#1074;&#1077;&#1090;&#1072;&#1077;&#1074;&#1072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456840"/>
            <a:ext cx="5562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Анализ стихотворения М.Цветаевой «Рябину рубили…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95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« Я не верю стихам, которые льются. Рвутся – д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33520"/>
            <a:ext cx="2209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352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ервая микротема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: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рябина фото"/>
          <p:cNvPicPr/>
          <p:nvPr/>
        </p:nvPicPr>
        <p:blipFill>
          <a:blip r:embed="rId1"/>
          <a:stretch/>
        </p:blipFill>
        <p:spPr>
          <a:xfrm>
            <a:off x="152280" y="304920"/>
            <a:ext cx="2381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1760" y="685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 Всё сосредоточенно на действии, действующее лицо «намеренно» устранено из речи, намеренно представлено как неизвестное, неопределённое.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. М. Пешков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655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як дом мне чужд, всяк храм мне пус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всё – равно, и всё – еди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о если по дороге – ку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таёт, особенно – рябин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рябина"/>
          <p:cNvPicPr/>
          <p:nvPr/>
        </p:nvPicPr>
        <p:blipFill>
          <a:blip r:embed="rId1"/>
          <a:stretch/>
        </p:blipFill>
        <p:spPr>
          <a:xfrm>
            <a:off x="152280" y="152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онтекстуальные синонимы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 Россия, Род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тор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038120" y="220932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Ветвь, Попов Николай Евгеньевич, фото Ветвь"/>
          <p:cNvPicPr/>
          <p:nvPr/>
        </p:nvPicPr>
        <p:blipFill>
          <a:blip r:embed="rId1"/>
          <a:stretch/>
        </p:blipFill>
        <p:spPr>
          <a:xfrm>
            <a:off x="228600" y="2286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Именительный падеж существительного без связки выражает наибольшее постоянство отношений двух понятий – неизменный, вневременный характер связи между ними.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А.Н.Гвозде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ретья микротема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80920" y="2362320"/>
            <a:ext cx="403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едым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Рябина, Попов Николай Евгеньевич, фото Рябина"/>
          <p:cNvPicPr/>
          <p:nvPr/>
        </p:nvPicPr>
        <p:blipFill>
          <a:blip r:embed="rId1"/>
          <a:stretch/>
        </p:blipFill>
        <p:spPr>
          <a:xfrm>
            <a:off x="152280" y="228600"/>
            <a:ext cx="2438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428640" y="38052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олото моих воло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ихо переходит в седо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не жалейте! всё сбылос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сё в груди слилось и спелось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 сокровищ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трат, обид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 пеплы, пред кои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прах – грани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Четвёртая микротема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724280" y="2666520"/>
            <a:ext cx="3276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усска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Ворона на дереве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би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орько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орьк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д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пускам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ябин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удьб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усская.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Марина Цветаева в 1924-м год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ябина – судьбина (горькая) – судьбина (русска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Ягоды рябины - макро"/>
          <p:cNvPicPr/>
          <p:nvPr/>
        </p:nvPicPr>
        <p:blipFill>
          <a:blip r:embed="rId1"/>
          <a:stretch/>
        </p:blipFill>
        <p:spPr>
          <a:xfrm>
            <a:off x="3429000" y="838080"/>
            <a:ext cx="2590920" cy="243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5715000"/>
            <a:ext cx="678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Рябина на фоне голубого неба"/>
          <p:cNvPicPr/>
          <p:nvPr/>
        </p:nvPicPr>
        <p:blipFill>
          <a:blip r:embed="rId1"/>
          <a:stretch/>
        </p:blipFill>
        <p:spPr>
          <a:xfrm>
            <a:off x="2438280" y="5335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Марина – рябина – судьб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742840" y="12193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то создан из камня, кто создан из глины,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 я серебрюсь и сверкаю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е дело – измена, мне имя - Марин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Я – бренная пена морск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814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мелое порывистое дробление фразы на отдельные смысловые куски ради почти телеграфной сжатости, когда опускается всё понятное само собой и остаются только самые необходимые акценты мысли, - становится особой приметой её стиля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. Рождестве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4800" y="22824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расною ки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ябина зажг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дали лист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род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рили сот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локо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ень был субботн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оанн Бог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не и доны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очется грыз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Жаркой ряб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рькую ки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Фото: рябина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23520" y="16761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Рябина навсегда вошла в геральдику её поэзии. Пылающая и горькая, на излёте осени, в преддверии зимы – она стала символом судьбы, тоже переходной и горькой, пылающей творчеством и уходящей в зиму забвения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.И.Павл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эт – романтик, она любит яркую и динамичную метафору, развёртывающуюся подобно пружине … она … любила уточнение, растолкование, последовательное обнажение существа, сердцевины :Цветаева – поэт синонимики.» </a:t>
            </a:r>
            <a:br>
              <a:rPr sz="3600"/>
            </a:b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    А.И. Павловски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8-10-21T09:55:4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