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375-FC04-4340-BFD0-34E83DCB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46E-D727-4209-BC06-0BBEDB19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865-6E30-44D6-BE13-9B58B8AD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3ED-4B2F-4A5E-AC9D-E92FF9B0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9309-5DFF-4328-ADCA-22972D49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4704-E9A4-441C-8816-7D413B86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68CC-CC47-4E5B-8E65-D96F1841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D4F9-4F05-45C5-BE07-75A92A71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A00-B7EA-400B-AC32-A64D493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E663-2CDC-4CF1-A101-0167BEF2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713D-2222-4EC8-AA7B-DE0CEB8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2C5-31BE-46F3-9364-06AC3CE8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4CD8-4664-44FA-90EE-008AE4D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9CDB-41EA-4D5F-8D0B-C6ACAA5D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5366-D343-41C1-A7AB-A4EAD844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5345-6FC3-4A98-A059-DA33FE64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4217-F7A4-45E2-ACE0-D35BA037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FFC-A0B2-4E8E-931C-01451A8B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764-CAC0-4C62-89DE-F37785A3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C04-F48D-4A1C-8FA0-6F8B69A9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35A-9864-4BF3-A82D-1AB940FF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01E-CC2F-41B6-A526-E8BF383D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F9C-CC1C-4178-A3D7-3D085B97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98E-C80B-4137-ACE1-73CBC4C1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8DE6-ACD9-4D12-8E48-ACE49B24B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3D05-AE88-4AEA-A300-76B2FE43E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Tsvetaev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to.mail.ru/mail/sadob/7/40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&#1052;&#1072;&#1088;&#1080;&#1085;&#1072;_&#1062;&#1074;&#1077;&#1090;&#1072;&#1077;&#1074;&#1072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456840"/>
            <a:ext cx="5562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Анализ стихотворения М.Цветаевой «Рябину рубили…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8954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« Я не верю стихам, которые льются. Рвутся – да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533520"/>
            <a:ext cx="2209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352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ябин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уби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орькою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Первая микротема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: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рябина фото"/>
          <p:cNvPicPr/>
          <p:nvPr/>
        </p:nvPicPr>
        <p:blipFill>
          <a:blip r:embed="rId1"/>
          <a:stretch/>
        </p:blipFill>
        <p:spPr>
          <a:xfrm>
            <a:off x="152280" y="304920"/>
            <a:ext cx="2381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1760" y="6858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 Всё сосредоточенно на действии, действующее лицо «намеренно» устранено из речи, намеренно представлено как неизвестное, неопределённое.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. М. Пешков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655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як дом мне чужд, всяк храм мне пус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 всё – равно, и всё – еди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о если по дороге – ку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таёт, особенно – рябин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рябина"/>
          <p:cNvPicPr/>
          <p:nvPr/>
        </p:nvPicPr>
        <p:blipFill>
          <a:blip r:embed="rId1"/>
          <a:stretch/>
        </p:blipFill>
        <p:spPr>
          <a:xfrm>
            <a:off x="152280" y="1522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Контекстуальные синонимы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ябина – Россия, Род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676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торая микротема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038120" y="220932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ябина 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орька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Ветвь, Попов Николай Евгеньевич, фото Ветвь"/>
          <p:cNvPicPr/>
          <p:nvPr/>
        </p:nvPicPr>
        <p:blipFill>
          <a:blip r:embed="rId1"/>
          <a:stretch/>
        </p:blipFill>
        <p:spPr>
          <a:xfrm>
            <a:off x="228600" y="22860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Именительный падеж существительного без связки выражает наибольшее постоянство отношений двух понятий – неизменный, вневременный характер связи между ними.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А.Н.Гвозде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ретья микротема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80920" y="2362320"/>
            <a:ext cx="403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ябина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едым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пусками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Рябина, Попов Николай Евгеньевич, фото Рябина"/>
          <p:cNvPicPr/>
          <p:nvPr/>
        </p:nvPicPr>
        <p:blipFill>
          <a:blip r:embed="rId1"/>
          <a:stretch/>
        </p:blipFill>
        <p:spPr>
          <a:xfrm>
            <a:off x="152280" y="228600"/>
            <a:ext cx="2438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428640" y="380520"/>
            <a:ext cx="5715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олото моих воло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Тихо переходит в седос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не жалейте! всё сбылос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сё в груди слилось и спелось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пеплы сокровищ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трат, обид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пеплы, пред кои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 прах – грани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95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477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Четвёртая микротема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724280" y="2666520"/>
            <a:ext cx="3276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ябин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усска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Ворона на дереве"/>
          <p:cNvPicPr/>
          <p:nvPr/>
        </p:nvPicPr>
        <p:blipFill>
          <a:blip r:embed="rId1"/>
          <a:stretch/>
        </p:blipFill>
        <p:spPr>
          <a:xfrm>
            <a:off x="228600" y="304920"/>
            <a:ext cx="2743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уби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орько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а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орьк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а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ед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пусками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усская.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3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Марина Цветаева в 1924-м год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8240" y="358092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Рябина – судьбина (горькая) – судьбина (русска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Ягоды рябины - макро"/>
          <p:cNvPicPr/>
          <p:nvPr/>
        </p:nvPicPr>
        <p:blipFill>
          <a:blip r:embed="rId1"/>
          <a:stretch/>
        </p:blipFill>
        <p:spPr>
          <a:xfrm>
            <a:off x="3429000" y="838080"/>
            <a:ext cx="2590920" cy="2438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5715000"/>
            <a:ext cx="678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Рябина на фоне голубого неба"/>
          <p:cNvPicPr/>
          <p:nvPr/>
        </p:nvPicPr>
        <p:blipFill>
          <a:blip r:embed="rId1"/>
          <a:stretch/>
        </p:blipFill>
        <p:spPr>
          <a:xfrm>
            <a:off x="2438280" y="5335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Марина – рябина – судьб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742840" y="12193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то создан из камня, кто создан из глины,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 я серебрюсь и сверкаю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е дело – измена, мне имя - Марин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Я – бренная пена морска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3814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мелое порывистое дробление фразы на отдельные смысловые куски ради почти телеграфной сжатости, когда опускается всё понятное само собой и остаются только самые необходимые акценты мысли, - становится особой приметой её стиля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. Рождествен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114800" y="228240"/>
            <a:ext cx="5029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расною ки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ябина зажг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адали лист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роди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рили сотн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локо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ень был субботни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оанн Богос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не и доны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очется грыз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Жаркой ряб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орькую ки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Фото: рябина"/>
          <p:cNvPicPr/>
          <p:nvPr/>
        </p:nvPicPr>
        <p:blipFill>
          <a:blip r:embed="rId1"/>
          <a:stretch/>
        </p:blipFill>
        <p:spPr>
          <a:xfrm>
            <a:off x="228600" y="3049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57400" cy="228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23520" y="16761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Рябина навсегда вошла в геральдику её поэзии. Пылающая и горькая, на излёте осени, в преддверии зимы – она стала символом судьбы, тоже переходной и горькой, пылающей творчеством и уходящей в зиму забвения.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А.И.Павл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«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оэт – романтик, она любит яркую и динамичную метафору, развёртывающуюся подобно пружине … она … любила уточнение, растолкование, последовательное обнажение существа, сердцевины :Цветаева – поэт синонимики.» </a:t>
            </a:r>
            <a:br>
              <a:rPr sz="3600"/>
            </a:br>
            <a:r>
              <a:rPr b="1" i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    А.И. Павловский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08-10-21T09:55:4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