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A70-5E3A-4038-912B-2363A019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136-2C86-4482-95E3-1FFD86D5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B7E-2CF2-4745-8BDF-A2E016CA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95C-4DE5-4C32-89FA-8D6CD0B0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9246-3B64-479C-8BF4-0C5EBA17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783A-3FE5-4B41-9BDE-02C268F5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FF3F-CE1D-418B-9280-1D92CE16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5ABF-D07B-4D61-A1A1-2AA972C0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C810-9206-43D3-AA6E-5FDE7882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43A5-55D8-4F5B-8734-48991F73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C164-6089-444A-A843-E7A6DFA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8F0-028B-42B2-BBF5-1348F03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6FE5-C967-44D8-8213-6640A033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0B87-9A55-4DDB-B3EA-62926C2D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145C-4477-4661-A1E8-8D7F94F2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3D87-0924-47A0-957F-29131360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DD35-E7A7-4DA5-83FA-FE7C0784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6CB-6E9A-4DDA-B72A-7BBC505E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C0D-B984-45F0-A57F-A10E90CD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4D5-BB56-49D8-9BFF-41265D17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FE2-574F-4B55-8F96-66BA7732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3F9-38A6-4D7F-8161-677BEAF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B8A-914A-4C7E-B17F-889D220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ECA-2AAA-4CCA-B23B-3A342831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D48D-77A9-4B6F-87FB-F3D7DD89C5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D1CB-C846-4CA6-B4DC-276FB21BD8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трана Десятичных дробей</a:t>
            </a:r>
            <a:br>
              <a:rPr sz="4800"/>
            </a:br>
            <a:br>
              <a:rPr sz="4800"/>
            </a:b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крытый урок по математике в 5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итель: Любкина Елена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о пожаловать 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,8 - 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,74 - 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,374 - 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0,55 - 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45,003 – 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0,036 – 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01,0101- 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, 006 – 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3,0008- 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00, 1 – 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000,0001 - 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Здравствуйте 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  к билета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1: 3,6 и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2: 8,8 и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3: 10,9 и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4: 12,9 и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5: 6,7 и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6: 2,4 и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7: 0,8 и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8: 8,6 и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илет 9: 3,9 и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звание птиц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2,04 – 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,85 – 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3,158 – 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8,6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,05 – 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,3 –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,61 –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,991 – 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,3 -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3,15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,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,8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,6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8,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,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,9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2,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,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На 4 платья и 5 джемперов израсходовали 6,8 кг пряжи. Сколько пряжи нужно на 1 платье, если на 1 джемпер ушло 0,6 кг пряж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4п. и 5д. – 6,8 кг пря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д. – 0,6 кг пря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п. - ? кг пря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)0,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4 = 2,4 (к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2)6,8 – 2,4 = 4,4 (к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3)4, 4 : 5 = 0,88 (к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Ответ: на одно платье нужно 0,88 кг пря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 + 3,9 = 31,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 + 2,4 = 34,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+3,9=31,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=31,8-3,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х=27,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27,9: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9,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+2,4=34,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=34,6-2,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х=32,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32,2: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Х=4,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6:31:54Z</dcterms:created>
  <dc:creator>сивпя</dc:creator>
  <dc:description/>
  <dc:language>en-US</dc:language>
  <cp:lastModifiedBy>сивпя</cp:lastModifiedBy>
  <dcterms:modified xsi:type="dcterms:W3CDTF">2011-03-17T17:29:34Z</dcterms:modified>
  <cp:revision>3</cp:revision>
  <dc:subject/>
  <dc:title>Страна Десятичных дробей  </dc:title>
</cp:coreProperties>
</file>