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0BB-B5AE-4CAA-92C0-94748046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B7E-86B4-4FB1-A15A-505BF8D6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4D8-6BD3-437C-BCCE-2EB76E8F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440-6546-4717-AC21-D9108A82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A653-03C7-44AA-90F9-FC89B4B6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FAF0-1A0E-4241-835E-56B6A0A8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A1DF-D641-4EA2-967B-CF8C1088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9294-3893-49EB-BC51-2EDED250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C2E7-03A3-44EF-BA51-5DFCED2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745B-59E1-45CB-AA79-846F43D3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757E-B91E-4D2F-A73E-E2D65F9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DED-C998-481A-960E-F73FA031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804C-D396-4041-B684-AD6F1E8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9976-7DDB-4FF2-A57F-D082601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2B5E-ED2A-4693-A791-6D31796D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BD08-FE1D-41C7-A5B6-2861ED55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600C-F356-4055-99A5-CC22E362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8AC-E821-4CA0-9BA5-484F6C18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8E1-1883-4F6F-B778-613662C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5B5-3B05-436B-BE02-C65D529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F92-0F39-4CE0-B137-26477AD8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01C-D3B6-4117-B490-52E2DC8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F55-CC00-47E2-8433-F7DBD48C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E4B-BE07-4AB3-A698-22AB48F0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DBC8-2402-4D2D-B7FD-DB695F0D9D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8C21-8C0E-478D-BF10-EFB2A81589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трана Десятичных дробей</a:t>
            </a:r>
            <a:br>
              <a:rPr sz="4800"/>
            </a:b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крытый урок по математике в 5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итель: Любкина Елен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 пожаловать 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,8 - 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,74 - 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,374 - 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0,55 - 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45,003 – 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0,036 – 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01,0101- 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, 006 – 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3,0008- 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00, 1 – 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000,0001 - 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Здравствуйте 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  к билета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1: 3,6 и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2: 8,8 и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3: 10,9 и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4: 12,9 и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5: 6,7 и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6: 2,4 и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7: 0,8 и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8: 8,6 и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9: 3,9 и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звание птиц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2,04 – 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,85 – 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3,158 – 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8,6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,05 – 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,3 –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,61 –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,991 – 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,3 -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3,1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,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,8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,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8,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,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2,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а 4 платья и 5 джемперов израсходовали 6,8 кг пряжи. Сколько пряжи нужно на 1 платье, если на 1 джемпер ушло 0,6 кг пряж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4п. и 5д. – 6,8 кг пря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д. – 0,6 кг пря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п. - ? кг пря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)0,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4 = 2,4 (к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2)6,8 – 2,4 = 4,4 (к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3)4, 4 : 5 = 0,88 (к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Ответ: на одно платье нужно 0,88 кг пря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 + 3,9 = 31,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 + 2,4 = 34,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+3,9=31,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=31,8-3,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=27,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27,9: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9,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+2,4=34,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=34,6-2,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=32,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32,2: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4,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31:54Z</dcterms:created>
  <dc:creator>сивпя</dc:creator>
  <dc:description/>
  <dc:language>en-US</dc:language>
  <cp:lastModifiedBy>сивпя</cp:lastModifiedBy>
  <dcterms:modified xsi:type="dcterms:W3CDTF">2011-03-17T17:29:34Z</dcterms:modified>
  <cp:revision>3</cp:revision>
  <dc:subject/>
  <dc:title>Страна Десятичных дробей  </dc:title>
</cp:coreProperties>
</file>