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073D-4DF1-4077-9FDE-23C0F5C65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6924-1C27-4FA4-8B23-C45BE703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FCC7-3D37-41D6-A983-63111C210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EFFA-364B-4613-9D5E-CCCDBB40E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7F68-2D46-4465-AA5B-453DA9EA3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9C40-059E-4E1B-9F4D-38F766C3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A609-3482-4877-B99A-EDE354FE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6749-DFD1-4FD3-BD6C-7E4EC99F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2476-3E3E-40FD-A789-A44C7011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90F8-0172-4D6B-87BB-1AEB47D4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0C18-24DF-4497-A332-334E5977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898B-E7CE-461F-9BA9-7607F3B6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C00A-C5D8-4E3D-A20D-A90ADEAB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6EEB-29D8-4CA3-9C75-64B2238B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339D-86D7-4E63-99ED-10C459A7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D934-FECD-4424-AE60-14CA5AAEA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A434-5F4F-45B1-95A0-55AFFE592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51E4-0EE1-4C3B-B2B2-05F6A33D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52C4-F08F-4C48-B80B-F3C89782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95D3-FF40-485B-B9A6-988EA2F8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A489-EFB4-4F3D-9A0E-DD7E4456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27A7-A296-4CCC-9503-926419DF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1EDB-7F21-46A2-B15D-C00362DB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52CB-3FEB-4FFA-9DEC-E947E730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DA62-9D5D-45D0-9CA2-DC3FD77D724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7FA0-1F23-4C6F-9905-C9AB51258D7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62864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Страна Десятичных дробей</a:t>
            </a:r>
            <a:br>
              <a:rPr sz="4800"/>
            </a:br>
            <a:br>
              <a:rPr sz="4800"/>
            </a:b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ткрытый урок по математике в 5 класс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читель: Любкина Елена Викторо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бро пожаловать !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2,8 - 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3,74 - 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1,374 - д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0,55 - з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145,003 – 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20,036 – 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201,0101- 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6, 006 – 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33,0008- 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300, 1 – 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1000,0001 - 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ahoma"/>
              </a:rPr>
              <a:t>Здравствуйте 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ы  к билетам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Билет 1: 3,6 и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Билет 2: 8,8 и 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Билет 3: 10,9 и 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Билет 4: 12,9 и 1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Билет 5: 6,7 и 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Билет 6: 2,4 и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Билет 7: 0,8 и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Билет 8: 8,6 и 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Билет 9: 3,9 и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звание птицы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2,04 – 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,85 – 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3,158 – 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98,6 – 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,05 – 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,3 – 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0,61 – 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7,991 – 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1,3 - 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3,15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,0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,8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0,6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98,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,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7,99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2,0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1,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На 4 платья и 5 джемперов израсходовали 6,8 кг пряжи. Сколько пряжи нужно на 1 платье, если на 1 джемпер ушло 0,6 кг пряжи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ение задач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4п. и 5д. – 6,8 кг пряж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1д. – 0,6 кг пряж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1п. - ? кг пряж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1)0,6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Arial"/>
              </a:rPr>
              <a:t>4 = 2,4 (кг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Arial"/>
              </a:rPr>
              <a:t>2)6,8 – 2,4 = 4,4 (кг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Arial"/>
              </a:rPr>
              <a:t>3)4, 4 : 5 = 0,88 (кг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Arial"/>
              </a:rPr>
              <a:t>Ответ: на одно платье нужно 0,88 кг пряж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равнен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9х + 3,9 = 31,8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7х + 2,4 = 34,6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ение уравнений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9х+3,9=31,8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9х=31,8-3,9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9х=27,9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Х=27,9:9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Х=9,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7х+2,4=34,6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7х=34,6-2,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7х=32,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Х=32,2:7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Х=4,6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6:31:54Z</dcterms:created>
  <dc:creator>сивпя</dc:creator>
  <dc:description/>
  <dc:language>en-US</dc:language>
  <cp:lastModifiedBy>сивпя</cp:lastModifiedBy>
  <dcterms:modified xsi:type="dcterms:W3CDTF">2011-03-17T17:29:34Z</dcterms:modified>
  <cp:revision>3</cp:revision>
  <dc:subject/>
  <dc:title>Страна Десятичных дробей  </dc:title>
</cp:coreProperties>
</file>