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2F7A-B2ED-4CDD-BFDD-DFA244B85FA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выполнения учащимися задания – визуальная провер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сле выполнения учащимися задания – визуальная провер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сле выполнения учащимися задания – визуальная провер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ктуализация. Повторение алгоритма построения графика линейной фун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ктуализация. Повторение алгоритма построения графика  функции обратной пропорциона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ктуализация. Повторение. Алгоритм построения графика фун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ктуализация. Повторение алгоритма построения графика квадратичной фун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ктуализация. Повторение алгоритма построения графика квадратичной фун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ктуализация. Повторение алгоритма построения графика квадратичной фун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ктуализация. Повторение алгоритма построения графика квадратичной фун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A944C-6C62-44D9-A3E7-F48FE9BAA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6395C-73EF-42E1-8D5D-2F88CD9F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F3674-858E-44CF-80CE-9AA5994AD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E1CB4-1F47-49FE-A5E5-44D2819D0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BF8F-4A30-4FAD-AEF6-E37608D03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20019-A056-456F-9870-76BCD2FF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463E-B5D6-4998-9EE8-D753250D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77C9C-3898-4C27-B2B1-F6DFEBF8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2FD6-6662-4D3F-9202-2C61C15B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FC6A1-4E74-4A9C-89A7-B01C7CB4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8C1B-7FF1-4B12-A591-F27FCBB7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EDE3E-88BE-425B-BE2F-EF4706C2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B93F-48BD-4B16-A1FC-8BDBC94B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BDE6-308A-43BB-B614-32CC9906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2075-F8CD-443C-B6F0-62E1A95A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AE99-6E5B-44D9-909D-ABFC4F7E9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5DDF-96A2-4C64-8E9C-7F8B0C82A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1EE11-4C92-4D31-9DEA-2579ABB0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A0596-2408-4FCE-B51F-65F7DD36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714B0-055D-4627-83C4-F4583835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AC13A-E5E5-4F47-B660-6FA719BF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B61C9-0298-4EB1-8BF1-3D16C0D0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07A19-7DCE-481D-90DA-BEFFDDAF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58EF2-30EE-42A0-8692-80EFEE4F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5A16-CFEA-4A98-BB83-44C5D088E4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0F92-A0E1-48FE-9866-C8EC66A945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8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8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92360" y="1828800"/>
            <a:ext cx="72993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eorgia"/>
              </a:rPr>
              <a:t>Графический 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Georgia"/>
              </a:rPr>
              <a:t>способ  решения 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Georgia"/>
              </a:rPr>
              <a:t>систем  уравнений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763280" y="4221000"/>
            <a:ext cx="6875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МОУ СОШ №256 г.Фоки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50920" y="4869000"/>
          <a:ext cx="1944720" cy="198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869000"/>
                    <a:ext cx="1944720" cy="19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7164360" y="4869000"/>
          <a:ext cx="1979640" cy="198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4360" y="4869000"/>
                    <a:ext cx="1979640" cy="19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932360" y="4797360"/>
          <a:ext cx="2087640" cy="206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32360" y="4797360"/>
                    <a:ext cx="2087640" cy="20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2627280" y="4941720"/>
          <a:ext cx="2016000" cy="191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27280" y="4941720"/>
                    <a:ext cx="2016000" cy="19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" descr=""/>
          <p:cNvPicPr/>
          <p:nvPr/>
        </p:nvPicPr>
        <p:blipFill>
          <a:blip r:embed="rId9"/>
          <a:stretch/>
        </p:blipFill>
        <p:spPr>
          <a:xfrm>
            <a:off x="7524720" y="0"/>
            <a:ext cx="1392120" cy="2997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24000" y="333360"/>
            <a:ext cx="5832360" cy="5032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Учитель  Каратанова М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227640" y="0"/>
            <a:ext cx="2916360" cy="431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efefe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Georgia"/>
              </a:rPr>
              <a:t>Задание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156360" y="476280"/>
            <a:ext cx="2808360" cy="1596600"/>
            <a:chOff x="6156360" y="476280"/>
            <a:chExt cx="2808360" cy="1596600"/>
          </a:xfrm>
        </p:grpSpPr>
        <p:sp>
          <p:nvSpPr>
            <p:cNvPr id="269" name=""/>
            <p:cNvSpPr/>
            <p:nvPr/>
          </p:nvSpPr>
          <p:spPr>
            <a:xfrm>
              <a:off x="6156360" y="476280"/>
              <a:ext cx="2670840" cy="1596600"/>
            </a:xfrm>
            <a:prstGeom prst="rect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0" name=""/>
                <p:cNvSpPr txBox="1"/>
                <p:nvPr/>
              </p:nvSpPr>
              <p:spPr>
                <a:xfrm>
                  <a:off x="6156360" y="549000"/>
                  <a:ext cx="2808360" cy="151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y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1" name=""/>
          <p:cNvSpPr/>
          <p:nvPr/>
        </p:nvSpPr>
        <p:spPr>
          <a:xfrm>
            <a:off x="914400" y="476280"/>
            <a:ext cx="5313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Решить графически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систему уравн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0800" y="1935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826920" y="1844640"/>
            <a:ext cx="2881080" cy="1440000"/>
            <a:chOff x="826920" y="1844640"/>
            <a:chExt cx="2881080" cy="1440000"/>
          </a:xfrm>
        </p:grpSpPr>
        <p:sp>
          <p:nvSpPr>
            <p:cNvPr id="274" name=""/>
            <p:cNvSpPr/>
            <p:nvPr/>
          </p:nvSpPr>
          <p:spPr>
            <a:xfrm>
              <a:off x="838440" y="1844640"/>
              <a:ext cx="2869560" cy="1440000"/>
            </a:xfrm>
            <a:prstGeom prst="rect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5" name=""/>
                <p:cNvSpPr txBox="1"/>
                <p:nvPr/>
              </p:nvSpPr>
              <p:spPr>
                <a:xfrm>
                  <a:off x="826920" y="1910160"/>
                  <a:ext cx="2294640" cy="136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6" name=""/>
          <p:cNvSpPr/>
          <p:nvPr/>
        </p:nvSpPr>
        <p:spPr>
          <a:xfrm>
            <a:off x="395280" y="3357720"/>
            <a:ext cx="4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2556000" y="4005360"/>
          <a:ext cx="5410080" cy="1155600"/>
        </p:xfrm>
        <a:graphic>
          <a:graphicData uri="http://schemas.openxmlformats.org/drawingml/2006/table">
            <a:tbl>
              <a:tblPr/>
              <a:tblGrid>
                <a:gridCol w="674640"/>
                <a:gridCol w="677880"/>
                <a:gridCol w="676080"/>
                <a:gridCol w="676440"/>
                <a:gridCol w="676080"/>
                <a:gridCol w="676440"/>
                <a:gridCol w="674640"/>
                <a:gridCol w="6778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"/>
          <p:cNvSpPr/>
          <p:nvPr/>
        </p:nvSpPr>
        <p:spPr>
          <a:xfrm>
            <a:off x="5421960" y="5373720"/>
            <a:ext cx="364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Построим граф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функций  в  од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системе координ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755640" y="4005360"/>
            <a:ext cx="1441440" cy="863640"/>
            <a:chOff x="755640" y="4005360"/>
            <a:chExt cx="1441440" cy="863640"/>
          </a:xfrm>
        </p:grpSpPr>
        <p:sp>
          <p:nvSpPr>
            <p:cNvPr id="280" name=""/>
            <p:cNvSpPr/>
            <p:nvPr/>
          </p:nvSpPr>
          <p:spPr>
            <a:xfrm>
              <a:off x="755640" y="4005360"/>
              <a:ext cx="144144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1" name=""/>
                <p:cNvSpPr txBox="1"/>
                <p:nvPr/>
              </p:nvSpPr>
              <p:spPr>
                <a:xfrm>
                  <a:off x="873000" y="4059000"/>
                  <a:ext cx="1248840" cy="74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2" name=""/>
          <p:cNvGrpSpPr/>
          <p:nvPr/>
        </p:nvGrpSpPr>
        <p:grpSpPr>
          <a:xfrm>
            <a:off x="324000" y="5445000"/>
            <a:ext cx="2016000" cy="936360"/>
            <a:chOff x="324000" y="5445000"/>
            <a:chExt cx="2016000" cy="936360"/>
          </a:xfrm>
        </p:grpSpPr>
        <p:sp>
          <p:nvSpPr>
            <p:cNvPr id="283" name=""/>
            <p:cNvSpPr/>
            <p:nvPr/>
          </p:nvSpPr>
          <p:spPr>
            <a:xfrm>
              <a:off x="742320" y="5445000"/>
              <a:ext cx="153576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4" name=""/>
                <p:cNvSpPr txBox="1"/>
                <p:nvPr/>
              </p:nvSpPr>
              <p:spPr>
                <a:xfrm>
                  <a:off x="324000" y="5601960"/>
                  <a:ext cx="2016000" cy="64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85" name=""/>
          <p:cNvGraphicFramePr/>
          <p:nvPr/>
        </p:nvGraphicFramePr>
        <p:xfrm>
          <a:off x="2556000" y="5373720"/>
          <a:ext cx="2028600" cy="1155600"/>
        </p:xfrm>
        <a:graphic>
          <a:graphicData uri="http://schemas.openxmlformats.org/drawingml/2006/table">
            <a:tbl>
              <a:tblPr/>
              <a:tblGrid>
                <a:gridCol w="674280"/>
                <a:gridCol w="677880"/>
                <a:gridCol w="6764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4859280" y="5300640"/>
            <a:ext cx="4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028880" y="3357720"/>
            <a:ext cx="70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Составим  таблицы  значений  функ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0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7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2000"/>
                            </p:stCondLst>
                            <p:childTnLst>
                              <p:par>
                                <p:cTn id="8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9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1000"/>
                            </p:stCondLst>
                            <p:childTnLst>
                              <p:par>
                                <p:cTn id="8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6227640" y="0"/>
            <a:ext cx="2916360" cy="431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efefe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Georgia"/>
              </a:rPr>
              <a:t>Задание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324000" y="404640"/>
            <a:ext cx="1439640" cy="863640"/>
            <a:chOff x="324000" y="404640"/>
            <a:chExt cx="1439640" cy="863640"/>
          </a:xfrm>
        </p:grpSpPr>
        <p:sp>
          <p:nvSpPr>
            <p:cNvPr id="290" name=""/>
            <p:cNvSpPr/>
            <p:nvPr/>
          </p:nvSpPr>
          <p:spPr>
            <a:xfrm>
              <a:off x="324000" y="404640"/>
              <a:ext cx="143964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1" name=""/>
                <p:cNvSpPr txBox="1"/>
                <p:nvPr/>
              </p:nvSpPr>
              <p:spPr>
                <a:xfrm>
                  <a:off x="441360" y="458280"/>
                  <a:ext cx="1247040" cy="74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2" name=""/>
          <p:cNvGrpSpPr/>
          <p:nvPr/>
        </p:nvGrpSpPr>
        <p:grpSpPr>
          <a:xfrm>
            <a:off x="250920" y="2708280"/>
            <a:ext cx="2088720" cy="863640"/>
            <a:chOff x="250920" y="2708280"/>
            <a:chExt cx="2088720" cy="863640"/>
          </a:xfrm>
        </p:grpSpPr>
        <p:sp>
          <p:nvSpPr>
            <p:cNvPr id="293" name=""/>
            <p:cNvSpPr/>
            <p:nvPr/>
          </p:nvSpPr>
          <p:spPr>
            <a:xfrm>
              <a:off x="684360" y="2708280"/>
              <a:ext cx="15912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4" name=""/>
                <p:cNvSpPr txBox="1"/>
                <p:nvPr/>
              </p:nvSpPr>
              <p:spPr>
                <a:xfrm>
                  <a:off x="250920" y="2853000"/>
                  <a:ext cx="2088720" cy="59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95" name=""/>
          <p:cNvGraphicFramePr/>
          <p:nvPr/>
        </p:nvGraphicFramePr>
        <p:xfrm>
          <a:off x="2771640" y="2708280"/>
          <a:ext cx="2028960" cy="1155600"/>
        </p:xfrm>
        <a:graphic>
          <a:graphicData uri="http://schemas.openxmlformats.org/drawingml/2006/table">
            <a:tbl>
              <a:tblPr/>
              <a:tblGrid>
                <a:gridCol w="674640"/>
                <a:gridCol w="677880"/>
                <a:gridCol w="6764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5222880" y="404640"/>
          <a:ext cx="3921120" cy="645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22880" y="404640"/>
                    <a:ext cx="3921120" cy="645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5219640" y="404640"/>
          <a:ext cx="3924360" cy="645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404640"/>
                    <a:ext cx="3924360" cy="645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250920" y="1197000"/>
          <a:ext cx="5554440" cy="1214280"/>
        </p:xfrm>
        <a:graphic>
          <a:graphicData uri="http://schemas.openxmlformats.org/drawingml/2006/table">
            <a:tbl>
              <a:tblPr/>
              <a:tblGrid>
                <a:gridCol w="691920"/>
                <a:gridCol w="696960"/>
                <a:gridCol w="693720"/>
                <a:gridCol w="695160"/>
                <a:gridCol w="693720"/>
                <a:gridCol w="693720"/>
                <a:gridCol w="692280"/>
                <a:gridCol w="696960"/>
              </a:tblGrid>
              <a:tr h="60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1" name=""/>
          <p:cNvSpPr/>
          <p:nvPr/>
        </p:nvSpPr>
        <p:spPr>
          <a:xfrm>
            <a:off x="6146640" y="1547640"/>
            <a:ext cx="2814840" cy="5107320"/>
          </a:xfrm>
          <a:custGeom>
            <a:avLst/>
            <a:gdLst/>
            <a:ahLst/>
            <a:rect l="l" t="t" r="r" b="b"/>
            <a:pathLst>
              <a:path w="1773" h="3217">
                <a:moveTo>
                  <a:pt x="0" y="3217"/>
                </a:moveTo>
                <a:lnTo>
                  <a:pt x="1773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04000" y="5229360"/>
            <a:ext cx="14436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17080" y="2565360"/>
            <a:ext cx="14436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892920" y="5318280"/>
            <a:ext cx="1440" cy="336240"/>
          </a:xfrm>
          <a:custGeom>
            <a:avLst/>
            <a:gdLst/>
            <a:ahLst/>
            <a:rect l="l" t="t" r="r" b="b"/>
            <a:pathLst>
              <a:path w="1" h="212">
                <a:moveTo>
                  <a:pt x="0" y="0"/>
                </a:moveTo>
                <a:lnTo>
                  <a:pt x="0" y="212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92920" y="5303880"/>
            <a:ext cx="393840" cy="14400"/>
          </a:xfrm>
          <a:custGeom>
            <a:avLst/>
            <a:gdLst/>
            <a:ahLst/>
            <a:rect l="l" t="t" r="r" b="b"/>
            <a:pathLst>
              <a:path w="248" h="9">
                <a:moveTo>
                  <a:pt x="248" y="9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388360" y="2637000"/>
            <a:ext cx="1440" cy="3065400"/>
          </a:xfrm>
          <a:custGeom>
            <a:avLst/>
            <a:gdLst/>
            <a:ahLst/>
            <a:rect l="l" t="t" r="r" b="b"/>
            <a:pathLst>
              <a:path w="1" h="1931">
                <a:moveTo>
                  <a:pt x="0" y="0"/>
                </a:moveTo>
                <a:lnTo>
                  <a:pt x="0" y="1931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236000" y="2637000"/>
            <a:ext cx="1137960" cy="28440"/>
          </a:xfrm>
          <a:custGeom>
            <a:avLst/>
            <a:gdLst/>
            <a:ahLst/>
            <a:rect l="l" t="t" r="r" b="b"/>
            <a:pathLst>
              <a:path w="717" h="18">
                <a:moveTo>
                  <a:pt x="717" y="0"/>
                </a:moveTo>
                <a:lnTo>
                  <a:pt x="0" y="18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87280" y="5950080"/>
            <a:ext cx="3313440" cy="6490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Ответ: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-1; 1);  (3; 9)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445440" y="5013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390160" y="2492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5"/>
          <a:stretch/>
        </p:blipFill>
        <p:spPr>
          <a:xfrm flipH="1">
            <a:off x="250560" y="4581360"/>
            <a:ext cx="8636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0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000"/>
                            </p:stCondLst>
                            <p:childTnLst>
                              <p:par>
                                <p:cTn id="8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1000"/>
                            </p:stCondLst>
                            <p:childTnLst>
                              <p:par>
                                <p:cTn id="8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5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1000"/>
                            </p:stCondLst>
                            <p:childTnLst>
                              <p:par>
                                <p:cTn id="9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1000"/>
                            </p:stCondLst>
                            <p:childTnLst>
                              <p:par>
                                <p:cTn id="9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8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8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227640" y="0"/>
            <a:ext cx="2916360" cy="431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efefe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Georgia"/>
              </a:rPr>
              <a:t>Задание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476280"/>
            <a:ext cx="5313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Решить графически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систему уравн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6156360" y="476280"/>
            <a:ext cx="2987280" cy="1596600"/>
            <a:chOff x="6156360" y="476280"/>
            <a:chExt cx="2987280" cy="1596600"/>
          </a:xfrm>
        </p:grpSpPr>
        <p:sp>
          <p:nvSpPr>
            <p:cNvPr id="315" name=""/>
            <p:cNvSpPr/>
            <p:nvPr/>
          </p:nvSpPr>
          <p:spPr>
            <a:xfrm>
              <a:off x="6156360" y="476280"/>
              <a:ext cx="2841480" cy="1596600"/>
            </a:xfrm>
            <a:prstGeom prst="rect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6" name=""/>
                <p:cNvSpPr txBox="1"/>
                <p:nvPr/>
              </p:nvSpPr>
              <p:spPr>
                <a:xfrm>
                  <a:off x="6156360" y="549000"/>
                  <a:ext cx="2987280" cy="150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yx</m:t>
                              </m:r>
                              <m:r>
                                <m:t xml:space="preserve">=</m:t>
                              </m:r>
                              <m:r>
                                <m:t xml:space="preserve">8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1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70800" y="1935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826920" y="1773360"/>
            <a:ext cx="2808360" cy="1942920"/>
            <a:chOff x="826920" y="1773360"/>
            <a:chExt cx="2808360" cy="1942920"/>
          </a:xfrm>
        </p:grpSpPr>
        <p:sp>
          <p:nvSpPr>
            <p:cNvPr id="320" name=""/>
            <p:cNvSpPr/>
            <p:nvPr/>
          </p:nvSpPr>
          <p:spPr>
            <a:xfrm>
              <a:off x="838080" y="1844640"/>
              <a:ext cx="2797200" cy="1871640"/>
            </a:xfrm>
            <a:prstGeom prst="rect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1" name=""/>
                <p:cNvSpPr txBox="1"/>
                <p:nvPr/>
              </p:nvSpPr>
              <p:spPr>
                <a:xfrm>
                  <a:off x="826920" y="1773360"/>
                  <a:ext cx="2592720" cy="192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8</m:t>
                                  </m:r>
                                </m:num>
                                <m:den>
                                  <m:r>
                                    <m:t xml:space="preserve">x</m:t>
                                  </m:r>
                                </m:den>
                              </m:f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2" name=""/>
          <p:cNvSpPr/>
          <p:nvPr/>
        </p:nvSpPr>
        <p:spPr>
          <a:xfrm>
            <a:off x="438120" y="3654360"/>
            <a:ext cx="4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2598840" y="4302000"/>
          <a:ext cx="6087960" cy="1217880"/>
        </p:xfrm>
        <a:graphic>
          <a:graphicData uri="http://schemas.openxmlformats.org/drawingml/2006/table">
            <a:tbl>
              <a:tblPr/>
              <a:tblGrid>
                <a:gridCol w="674640"/>
                <a:gridCol w="677880"/>
                <a:gridCol w="676080"/>
                <a:gridCol w="676440"/>
                <a:gridCol w="676080"/>
                <a:gridCol w="676440"/>
                <a:gridCol w="674640"/>
                <a:gridCol w="677880"/>
                <a:gridCol w="677880"/>
              </a:tblGrid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4" name=""/>
          <p:cNvSpPr/>
          <p:nvPr/>
        </p:nvSpPr>
        <p:spPr>
          <a:xfrm>
            <a:off x="5464800" y="5670720"/>
            <a:ext cx="364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Построим граф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функций  в  од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системе координ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0" y="4005360"/>
            <a:ext cx="2410920" cy="1439280"/>
            <a:chOff x="0" y="4005360"/>
            <a:chExt cx="2410920" cy="1439280"/>
          </a:xfrm>
        </p:grpSpPr>
        <p:sp>
          <p:nvSpPr>
            <p:cNvPr id="326" name=""/>
            <p:cNvSpPr/>
            <p:nvPr/>
          </p:nvSpPr>
          <p:spPr>
            <a:xfrm>
              <a:off x="0" y="4005360"/>
              <a:ext cx="2410920" cy="14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7" name=""/>
                <p:cNvSpPr txBox="1"/>
                <p:nvPr/>
              </p:nvSpPr>
              <p:spPr>
                <a:xfrm>
                  <a:off x="635040" y="4114080"/>
                  <a:ext cx="1210320" cy="120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8" name=""/>
          <p:cNvGrpSpPr/>
          <p:nvPr/>
        </p:nvGrpSpPr>
        <p:grpSpPr>
          <a:xfrm>
            <a:off x="366840" y="5742000"/>
            <a:ext cx="2016000" cy="936360"/>
            <a:chOff x="366840" y="5742000"/>
            <a:chExt cx="2016000" cy="936360"/>
          </a:xfrm>
        </p:grpSpPr>
        <p:sp>
          <p:nvSpPr>
            <p:cNvPr id="329" name=""/>
            <p:cNvSpPr/>
            <p:nvPr/>
          </p:nvSpPr>
          <p:spPr>
            <a:xfrm>
              <a:off x="785160" y="5742000"/>
              <a:ext cx="153576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0" name=""/>
                <p:cNvSpPr txBox="1"/>
                <p:nvPr/>
              </p:nvSpPr>
              <p:spPr>
                <a:xfrm>
                  <a:off x="366840" y="5910840"/>
                  <a:ext cx="2016000" cy="61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31" name=""/>
          <p:cNvGraphicFramePr/>
          <p:nvPr/>
        </p:nvGraphicFramePr>
        <p:xfrm>
          <a:off x="2598840" y="5670720"/>
          <a:ext cx="2028600" cy="1155600"/>
        </p:xfrm>
        <a:graphic>
          <a:graphicData uri="http://schemas.openxmlformats.org/drawingml/2006/table">
            <a:tbl>
              <a:tblPr/>
              <a:tblGrid>
                <a:gridCol w="674280"/>
                <a:gridCol w="677880"/>
                <a:gridCol w="6764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"/>
          <p:cNvSpPr/>
          <p:nvPr/>
        </p:nvSpPr>
        <p:spPr>
          <a:xfrm>
            <a:off x="4902120" y="5597640"/>
            <a:ext cx="4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072080" y="3654360"/>
            <a:ext cx="70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Составим  таблицы  значений  функ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7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1000"/>
                            </p:stCondLst>
                            <p:childTnLst>
                              <p:par>
                                <p:cTn id="94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1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1000"/>
                            </p:stCondLst>
                            <p:childTnLst>
                              <p:par>
                                <p:cTn id="9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3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5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6227640" y="0"/>
            <a:ext cx="2916360" cy="431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efefe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Georgia"/>
              </a:rPr>
              <a:t>Задание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4356000" y="1197000"/>
          <a:ext cx="481032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197000"/>
                    <a:ext cx="481032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4334040" y="1197000"/>
          <a:ext cx="4809960" cy="566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34040" y="1197000"/>
                    <a:ext cx="480996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179280" y="549360"/>
          <a:ext cx="6087960" cy="1217520"/>
        </p:xfrm>
        <a:graphic>
          <a:graphicData uri="http://schemas.openxmlformats.org/drawingml/2006/table">
            <a:tbl>
              <a:tblPr/>
              <a:tblGrid>
                <a:gridCol w="674640"/>
                <a:gridCol w="677880"/>
                <a:gridCol w="676080"/>
                <a:gridCol w="676440"/>
                <a:gridCol w="676080"/>
                <a:gridCol w="676440"/>
                <a:gridCol w="674640"/>
                <a:gridCol w="677880"/>
                <a:gridCol w="677880"/>
              </a:tblGrid>
              <a:tr h="63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40" name=""/>
          <p:cNvGrpSpPr/>
          <p:nvPr/>
        </p:nvGrpSpPr>
        <p:grpSpPr>
          <a:xfrm>
            <a:off x="-324000" y="1700280"/>
            <a:ext cx="2411280" cy="1439280"/>
            <a:chOff x="-324000" y="1700280"/>
            <a:chExt cx="2411280" cy="1439280"/>
          </a:xfrm>
        </p:grpSpPr>
        <p:sp>
          <p:nvSpPr>
            <p:cNvPr id="341" name=""/>
            <p:cNvSpPr/>
            <p:nvPr/>
          </p:nvSpPr>
          <p:spPr>
            <a:xfrm>
              <a:off x="-324000" y="1700280"/>
              <a:ext cx="2411280" cy="14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2" name=""/>
                <p:cNvSpPr txBox="1"/>
                <p:nvPr/>
              </p:nvSpPr>
              <p:spPr>
                <a:xfrm>
                  <a:off x="311040" y="1809000"/>
                  <a:ext cx="1210680" cy="120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3" name=""/>
          <p:cNvGrpSpPr/>
          <p:nvPr/>
        </p:nvGrpSpPr>
        <p:grpSpPr>
          <a:xfrm>
            <a:off x="179280" y="3213000"/>
            <a:ext cx="2016360" cy="936360"/>
            <a:chOff x="179280" y="3213000"/>
            <a:chExt cx="2016360" cy="936360"/>
          </a:xfrm>
        </p:grpSpPr>
        <p:sp>
          <p:nvSpPr>
            <p:cNvPr id="344" name=""/>
            <p:cNvSpPr/>
            <p:nvPr/>
          </p:nvSpPr>
          <p:spPr>
            <a:xfrm>
              <a:off x="597600" y="3213000"/>
              <a:ext cx="153576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5" name=""/>
                <p:cNvSpPr txBox="1"/>
                <p:nvPr/>
              </p:nvSpPr>
              <p:spPr>
                <a:xfrm>
                  <a:off x="179280" y="3381840"/>
                  <a:ext cx="2016360" cy="61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46" name=""/>
          <p:cNvGraphicFramePr/>
          <p:nvPr/>
        </p:nvGraphicFramePr>
        <p:xfrm>
          <a:off x="2411280" y="3141720"/>
          <a:ext cx="2028960" cy="1155600"/>
        </p:xfrm>
        <a:graphic>
          <a:graphicData uri="http://schemas.openxmlformats.org/drawingml/2006/table">
            <a:tbl>
              <a:tblPr/>
              <a:tblGrid>
                <a:gridCol w="674640"/>
                <a:gridCol w="677880"/>
                <a:gridCol w="6764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7" name=""/>
          <p:cNvSpPr/>
          <p:nvPr/>
        </p:nvSpPr>
        <p:spPr>
          <a:xfrm>
            <a:off x="4600440" y="2841480"/>
            <a:ext cx="3672000" cy="3868920"/>
          </a:xfrm>
          <a:custGeom>
            <a:avLst/>
            <a:gdLst/>
            <a:ahLst/>
            <a:rect l="l" t="t" r="r" b="b"/>
            <a:pathLst>
              <a:path w="2313" h="2437">
                <a:moveTo>
                  <a:pt x="2313" y="2437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187280" y="5950080"/>
            <a:ext cx="3313440" cy="6490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Ответ: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ешений нет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5"/>
          <a:stretch/>
        </p:blipFill>
        <p:spPr>
          <a:xfrm flipH="1">
            <a:off x="250560" y="4581360"/>
            <a:ext cx="8636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fill="hold">
                      <p:stCondLst>
                        <p:cond delay="0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6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066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2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2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6227640" y="0"/>
            <a:ext cx="2916360" cy="431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efefe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Georgia"/>
              </a:rPr>
              <a:t>Задание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549360"/>
            <a:ext cx="5313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Решить графически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систему уравн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5148360" y="333360"/>
            <a:ext cx="3671640" cy="3166560"/>
            <a:chOff x="5148360" y="333360"/>
            <a:chExt cx="3671640" cy="3166560"/>
          </a:xfrm>
        </p:grpSpPr>
        <p:sp>
          <p:nvSpPr>
            <p:cNvPr id="353" name=""/>
            <p:cNvSpPr/>
            <p:nvPr/>
          </p:nvSpPr>
          <p:spPr>
            <a:xfrm>
              <a:off x="5148360" y="482760"/>
              <a:ext cx="3671640" cy="2940840"/>
            </a:xfrm>
            <a:prstGeom prst="rect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4" name=""/>
                <p:cNvSpPr txBox="1"/>
                <p:nvPr/>
              </p:nvSpPr>
              <p:spPr>
                <a:xfrm>
                  <a:off x="5286960" y="333360"/>
                  <a:ext cx="2738520" cy="316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3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3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5" name=""/>
          <p:cNvGrpSpPr/>
          <p:nvPr/>
        </p:nvGrpSpPr>
        <p:grpSpPr>
          <a:xfrm>
            <a:off x="179280" y="1989000"/>
            <a:ext cx="2376360" cy="1152360"/>
            <a:chOff x="179280" y="1989000"/>
            <a:chExt cx="2376360" cy="1152360"/>
          </a:xfrm>
        </p:grpSpPr>
        <p:sp>
          <p:nvSpPr>
            <p:cNvPr id="356" name=""/>
            <p:cNvSpPr/>
            <p:nvPr/>
          </p:nvSpPr>
          <p:spPr>
            <a:xfrm>
              <a:off x="672480" y="1989000"/>
              <a:ext cx="181044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7" name=""/>
                <p:cNvSpPr txBox="1"/>
                <p:nvPr/>
              </p:nvSpPr>
              <p:spPr>
                <a:xfrm>
                  <a:off x="179280" y="2234880"/>
                  <a:ext cx="2376360" cy="68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58" name=""/>
          <p:cNvGraphicFramePr/>
          <p:nvPr/>
        </p:nvGraphicFramePr>
        <p:xfrm>
          <a:off x="2700360" y="1989000"/>
          <a:ext cx="2028960" cy="1155600"/>
        </p:xfrm>
        <a:graphic>
          <a:graphicData uri="http://schemas.openxmlformats.org/drawingml/2006/table">
            <a:tbl>
              <a:tblPr/>
              <a:tblGrid>
                <a:gridCol w="674640"/>
                <a:gridCol w="677880"/>
                <a:gridCol w="6764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2411280" y="3645000"/>
          <a:ext cx="6048000" cy="1217520"/>
        </p:xfrm>
        <a:graphic>
          <a:graphicData uri="http://schemas.openxmlformats.org/drawingml/2006/table">
            <a:tbl>
              <a:tblPr/>
              <a:tblGrid>
                <a:gridCol w="862200"/>
                <a:gridCol w="864000"/>
                <a:gridCol w="864000"/>
                <a:gridCol w="864360"/>
                <a:gridCol w="864000"/>
                <a:gridCol w="862200"/>
                <a:gridCol w="867240"/>
              </a:tblGrid>
              <a:tr h="63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,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60" name=""/>
          <p:cNvGrpSpPr/>
          <p:nvPr/>
        </p:nvGrpSpPr>
        <p:grpSpPr>
          <a:xfrm>
            <a:off x="0" y="3500280"/>
            <a:ext cx="2411280" cy="1455840"/>
            <a:chOff x="0" y="3500280"/>
            <a:chExt cx="2411280" cy="1455840"/>
          </a:xfrm>
        </p:grpSpPr>
        <p:sp>
          <p:nvSpPr>
            <p:cNvPr id="361" name=""/>
            <p:cNvSpPr/>
            <p:nvPr/>
          </p:nvSpPr>
          <p:spPr>
            <a:xfrm>
              <a:off x="0" y="3516120"/>
              <a:ext cx="241128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2" name=""/>
                <p:cNvSpPr txBox="1"/>
                <p:nvPr/>
              </p:nvSpPr>
              <p:spPr>
                <a:xfrm>
                  <a:off x="324000" y="3500280"/>
                  <a:ext cx="1726920" cy="13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3" name=""/>
          <p:cNvGrpSpPr/>
          <p:nvPr/>
        </p:nvGrpSpPr>
        <p:grpSpPr>
          <a:xfrm>
            <a:off x="324000" y="5013360"/>
            <a:ext cx="3168000" cy="1510920"/>
            <a:chOff x="324000" y="5013360"/>
            <a:chExt cx="3168000" cy="1510920"/>
          </a:xfrm>
        </p:grpSpPr>
        <p:sp>
          <p:nvSpPr>
            <p:cNvPr id="364" name=""/>
            <p:cNvSpPr/>
            <p:nvPr/>
          </p:nvSpPr>
          <p:spPr>
            <a:xfrm>
              <a:off x="981360" y="5013360"/>
              <a:ext cx="2413440" cy="15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5" name=""/>
                <p:cNvSpPr txBox="1"/>
                <p:nvPr/>
              </p:nvSpPr>
              <p:spPr>
                <a:xfrm>
                  <a:off x="324000" y="5399280"/>
                  <a:ext cx="3168000" cy="76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6" name="">
            <a:hlinkClick r:id="" action="ppaction://hlinkshowjump?jump=nextslide"/>
          </p:cNvPr>
          <p:cNvSpPr/>
          <p:nvPr/>
        </p:nvSpPr>
        <p:spPr>
          <a:xfrm>
            <a:off x="4140360" y="5516640"/>
            <a:ext cx="2519280" cy="576360"/>
          </a:xfrm>
          <a:custGeom>
            <a:avLst/>
            <a:gdLst>
              <a:gd name="textAreaLeft" fmla="*/ 37080 w 2519280"/>
              <a:gd name="textAreaRight" fmla="*/ 2482200 w 2519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4369" h="21600">
                <a:moveTo>
                  <a:pt x="0" y="0"/>
                </a:moveTo>
                <a:lnTo>
                  <a:pt x="94369" y="0"/>
                </a:lnTo>
                <a:lnTo>
                  <a:pt x="94369" y="21600"/>
                </a:lnTo>
                <a:lnTo>
                  <a:pt x="0" y="21600"/>
                </a:lnTo>
                <a:close/>
              </a:path>
              <a:path fill="lightenLess" w="94369" h="21600">
                <a:moveTo>
                  <a:pt x="0" y="0"/>
                </a:moveTo>
                <a:lnTo>
                  <a:pt x="94369" y="0"/>
                </a:lnTo>
                <a:lnTo>
                  <a:pt x="92969" y="1400"/>
                </a:lnTo>
                <a:lnTo>
                  <a:pt x="1400" y="1400"/>
                </a:lnTo>
                <a:close/>
              </a:path>
              <a:path fill="darken" w="94369" h="21600">
                <a:moveTo>
                  <a:pt x="94369" y="0"/>
                </a:moveTo>
                <a:lnTo>
                  <a:pt x="94369" y="21600"/>
                </a:lnTo>
                <a:lnTo>
                  <a:pt x="92969" y="20200"/>
                </a:lnTo>
                <a:lnTo>
                  <a:pt x="92969" y="1400"/>
                </a:lnTo>
                <a:close/>
              </a:path>
              <a:path fill="darkenLess" w="94369" h="21600">
                <a:moveTo>
                  <a:pt x="94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969" y="20200"/>
                </a:lnTo>
                <a:close/>
              </a:path>
              <a:path fill="lighten" w="94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Подроб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0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1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8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0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"/>
          <p:cNvGrpSpPr/>
          <p:nvPr/>
        </p:nvGrpSpPr>
        <p:grpSpPr>
          <a:xfrm>
            <a:off x="2241720" y="3868560"/>
            <a:ext cx="469800" cy="115920"/>
            <a:chOff x="2241720" y="3868560"/>
            <a:chExt cx="469800" cy="115920"/>
          </a:xfrm>
        </p:grpSpPr>
        <p:sp>
          <p:nvSpPr>
            <p:cNvPr id="368" name=""/>
            <p:cNvSpPr/>
            <p:nvPr/>
          </p:nvSpPr>
          <p:spPr>
            <a:xfrm>
              <a:off x="2339280" y="3868560"/>
              <a:ext cx="35784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9" name=""/>
                <p:cNvSpPr txBox="1"/>
                <p:nvPr/>
              </p:nvSpPr>
              <p:spPr>
                <a:xfrm>
                  <a:off x="2241720" y="3898080"/>
                  <a:ext cx="469800" cy="5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0" name=""/>
          <p:cNvSpPr/>
          <p:nvPr/>
        </p:nvSpPr>
        <p:spPr>
          <a:xfrm>
            <a:off x="1034640" y="1125360"/>
            <a:ext cx="57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х – любое действительное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9880" y="112536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10400" y="162864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83160" y="1628640"/>
            <a:ext cx="8006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Графиком функции является  парабола, вет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которой направлены вверх.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&gt;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611280" y="2924280"/>
                <a:ext cx="172872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2771640" y="2924280"/>
                <a:ext cx="172908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6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4932360" y="3068640"/>
                <a:ext cx="403236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у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8" name=""/>
          <p:cNvSpPr/>
          <p:nvPr/>
        </p:nvSpPr>
        <p:spPr>
          <a:xfrm>
            <a:off x="410400" y="2421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972720" y="2492280"/>
            <a:ext cx="73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Найдём  координаты  вершины  параболы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14360" y="4221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097280" y="4221000"/>
            <a:ext cx="434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Дополнительные точ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900000" y="5013360"/>
          <a:ext cx="7710120" cy="1296720"/>
        </p:xfrm>
        <a:graphic>
          <a:graphicData uri="http://schemas.openxmlformats.org/drawingml/2006/table">
            <a:tbl>
              <a:tblPr/>
              <a:tblGrid>
                <a:gridCol w="1099440"/>
                <a:gridCol w="1101240"/>
                <a:gridCol w="1101600"/>
                <a:gridCol w="1101960"/>
                <a:gridCol w="1101240"/>
                <a:gridCol w="1099080"/>
                <a:gridCol w="1105560"/>
              </a:tblGrid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83" name=""/>
          <p:cNvGrpSpPr/>
          <p:nvPr/>
        </p:nvGrpSpPr>
        <p:grpSpPr>
          <a:xfrm>
            <a:off x="2843280" y="0"/>
            <a:ext cx="3168360" cy="1510920"/>
            <a:chOff x="2843280" y="0"/>
            <a:chExt cx="3168360" cy="1510920"/>
          </a:xfrm>
        </p:grpSpPr>
        <p:sp>
          <p:nvSpPr>
            <p:cNvPr id="384" name=""/>
            <p:cNvSpPr/>
            <p:nvPr/>
          </p:nvSpPr>
          <p:spPr>
            <a:xfrm>
              <a:off x="3500640" y="0"/>
              <a:ext cx="2413800" cy="15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5" name=""/>
                <p:cNvSpPr txBox="1"/>
                <p:nvPr/>
              </p:nvSpPr>
              <p:spPr>
                <a:xfrm>
                  <a:off x="2843280" y="385920"/>
                  <a:ext cx="3168360" cy="76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6" name=""/>
          <p:cNvSpPr/>
          <p:nvPr/>
        </p:nvSpPr>
        <p:spPr>
          <a:xfrm>
            <a:off x="6156360" y="3716280"/>
            <a:ext cx="2232000" cy="649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М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; 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fill="hold">
                      <p:stCondLst>
                        <p:cond delay="0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1800"/>
                            </p:stCondLst>
                            <p:childTnLst>
                              <p:par>
                                <p:cTn id="11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3600"/>
                            </p:stCondLst>
                            <p:childTnLst>
                              <p:par>
                                <p:cTn id="11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9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6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3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0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7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7" name=""/>
          <p:cNvGraphicFramePr/>
          <p:nvPr/>
        </p:nvGraphicFramePr>
        <p:xfrm>
          <a:off x="0" y="0"/>
          <a:ext cx="64184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4184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9" name=""/>
          <p:cNvGrpSpPr/>
          <p:nvPr/>
        </p:nvGrpSpPr>
        <p:grpSpPr>
          <a:xfrm>
            <a:off x="6732720" y="2060640"/>
            <a:ext cx="2411280" cy="1455840"/>
            <a:chOff x="6732720" y="2060640"/>
            <a:chExt cx="2411280" cy="1455840"/>
          </a:xfrm>
        </p:grpSpPr>
        <p:sp>
          <p:nvSpPr>
            <p:cNvPr id="390" name=""/>
            <p:cNvSpPr/>
            <p:nvPr/>
          </p:nvSpPr>
          <p:spPr>
            <a:xfrm>
              <a:off x="6732720" y="2076480"/>
              <a:ext cx="241128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1" name=""/>
                <p:cNvSpPr txBox="1"/>
                <p:nvPr/>
              </p:nvSpPr>
              <p:spPr>
                <a:xfrm>
                  <a:off x="7056720" y="2060640"/>
                  <a:ext cx="1726920" cy="13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92" name=""/>
          <p:cNvGrpSpPr/>
          <p:nvPr/>
        </p:nvGrpSpPr>
        <p:grpSpPr>
          <a:xfrm>
            <a:off x="6516720" y="3716280"/>
            <a:ext cx="2376000" cy="1152360"/>
            <a:chOff x="6516720" y="3716280"/>
            <a:chExt cx="2376000" cy="1152360"/>
          </a:xfrm>
        </p:grpSpPr>
        <p:sp>
          <p:nvSpPr>
            <p:cNvPr id="393" name=""/>
            <p:cNvSpPr/>
            <p:nvPr/>
          </p:nvSpPr>
          <p:spPr>
            <a:xfrm>
              <a:off x="7009560" y="3716280"/>
              <a:ext cx="181008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4" name=""/>
                <p:cNvSpPr txBox="1"/>
                <p:nvPr/>
              </p:nvSpPr>
              <p:spPr>
                <a:xfrm>
                  <a:off x="6516720" y="3962160"/>
                  <a:ext cx="2376000" cy="68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95" name=""/>
          <p:cNvGraphicFramePr/>
          <p:nvPr/>
        </p:nvGraphicFramePr>
        <p:xfrm>
          <a:off x="0" y="0"/>
          <a:ext cx="644364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64436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"/>
          <p:cNvSpPr/>
          <p:nvPr/>
        </p:nvSpPr>
        <p:spPr>
          <a:xfrm>
            <a:off x="2627280" y="-458640"/>
            <a:ext cx="2521080" cy="4292280"/>
          </a:xfrm>
          <a:custGeom>
            <a:avLst/>
            <a:gdLst/>
            <a:ahLst/>
            <a:rect l="l" t="t" r="r" b="b"/>
            <a:pathLst>
              <a:path w="4236" h="6585">
                <a:moveTo>
                  <a:pt x="0" y="0"/>
                </a:moveTo>
                <a:cubicBezTo>
                  <a:pt x="65" y="358"/>
                  <a:pt x="293" y="1625"/>
                  <a:pt x="390" y="2145"/>
                </a:cubicBezTo>
                <a:cubicBezTo>
                  <a:pt x="487" y="2665"/>
                  <a:pt x="518" y="2815"/>
                  <a:pt x="585" y="3120"/>
                </a:cubicBezTo>
                <a:cubicBezTo>
                  <a:pt x="652" y="3425"/>
                  <a:pt x="713" y="3673"/>
                  <a:pt x="795" y="3975"/>
                </a:cubicBezTo>
                <a:cubicBezTo>
                  <a:pt x="877" y="4277"/>
                  <a:pt x="968" y="4605"/>
                  <a:pt x="1080" y="4935"/>
                </a:cubicBezTo>
                <a:cubicBezTo>
                  <a:pt x="1192" y="5265"/>
                  <a:pt x="1355" y="5710"/>
                  <a:pt x="1470" y="5955"/>
                </a:cubicBezTo>
                <a:cubicBezTo>
                  <a:pt x="1585" y="6200"/>
                  <a:pt x="1660" y="6300"/>
                  <a:pt x="1770" y="6405"/>
                </a:cubicBezTo>
                <a:cubicBezTo>
                  <a:pt x="1880" y="6510"/>
                  <a:pt x="2015" y="6585"/>
                  <a:pt x="2130" y="6585"/>
                </a:cubicBezTo>
                <a:cubicBezTo>
                  <a:pt x="2245" y="6585"/>
                  <a:pt x="2337" y="6535"/>
                  <a:pt x="2460" y="6405"/>
                </a:cubicBezTo>
                <a:cubicBezTo>
                  <a:pt x="2583" y="6275"/>
                  <a:pt x="2747" y="6040"/>
                  <a:pt x="2865" y="5805"/>
                </a:cubicBezTo>
                <a:cubicBezTo>
                  <a:pt x="2983" y="5570"/>
                  <a:pt x="3080" y="5258"/>
                  <a:pt x="3165" y="4995"/>
                </a:cubicBezTo>
                <a:cubicBezTo>
                  <a:pt x="3250" y="4732"/>
                  <a:pt x="3310" y="4480"/>
                  <a:pt x="3375" y="4230"/>
                </a:cubicBezTo>
                <a:cubicBezTo>
                  <a:pt x="3440" y="3980"/>
                  <a:pt x="3497" y="3738"/>
                  <a:pt x="3555" y="3495"/>
                </a:cubicBezTo>
                <a:cubicBezTo>
                  <a:pt x="3613" y="3252"/>
                  <a:pt x="3663" y="3040"/>
                  <a:pt x="3720" y="2775"/>
                </a:cubicBezTo>
                <a:cubicBezTo>
                  <a:pt x="3777" y="2510"/>
                  <a:pt x="3814" y="2366"/>
                  <a:pt x="3900" y="1905"/>
                </a:cubicBezTo>
                <a:cubicBezTo>
                  <a:pt x="3986" y="1444"/>
                  <a:pt x="4166" y="406"/>
                  <a:pt x="4236" y="11"/>
                </a:cubicBezTo>
              </a:path>
            </a:pathLst>
          </a:custGeom>
          <a:noFill/>
          <a:ln w="54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5975280" y="189000"/>
            <a:ext cx="3168360" cy="1510920"/>
            <a:chOff x="5975280" y="189000"/>
            <a:chExt cx="3168360" cy="1510920"/>
          </a:xfrm>
        </p:grpSpPr>
        <p:sp>
          <p:nvSpPr>
            <p:cNvPr id="399" name=""/>
            <p:cNvSpPr/>
            <p:nvPr/>
          </p:nvSpPr>
          <p:spPr>
            <a:xfrm>
              <a:off x="6632640" y="189000"/>
              <a:ext cx="2413800" cy="15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0" name=""/>
                <p:cNvSpPr txBox="1"/>
                <p:nvPr/>
              </p:nvSpPr>
              <p:spPr>
                <a:xfrm>
                  <a:off x="5975280" y="574920"/>
                  <a:ext cx="3168360" cy="76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1" name=""/>
          <p:cNvSpPr/>
          <p:nvPr/>
        </p:nvSpPr>
        <p:spPr>
          <a:xfrm>
            <a:off x="2011320" y="141120"/>
            <a:ext cx="3460680" cy="6653520"/>
          </a:xfrm>
          <a:custGeom>
            <a:avLst/>
            <a:gdLst/>
            <a:ahLst/>
            <a:rect l="l" t="t" r="r" b="b"/>
            <a:pathLst>
              <a:path w="2180" h="4191">
                <a:moveTo>
                  <a:pt x="2180" y="4191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851280" y="3789360"/>
            <a:ext cx="14436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637080" y="39337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300720" y="5516640"/>
            <a:ext cx="3529080" cy="6490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Ответ: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; 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5"/>
          <a:stretch/>
        </p:blipFill>
        <p:spPr>
          <a:xfrm flipH="1">
            <a:off x="250560" y="4581360"/>
            <a:ext cx="8636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fill="hold">
                      <p:stCondLst>
                        <p:cond delay="0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8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3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0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6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311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7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2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9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6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9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5724360" y="0"/>
            <a:ext cx="3419640" cy="404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efefe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Georgia"/>
              </a:rPr>
              <a:t>Самостоя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260280"/>
            <a:ext cx="5313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Решить графически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систему уравн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5724360" y="476280"/>
            <a:ext cx="2950920" cy="1657080"/>
            <a:chOff x="5724360" y="476280"/>
            <a:chExt cx="2950920" cy="1657080"/>
          </a:xfrm>
        </p:grpSpPr>
        <p:sp>
          <p:nvSpPr>
            <p:cNvPr id="409" name=""/>
            <p:cNvSpPr/>
            <p:nvPr/>
          </p:nvSpPr>
          <p:spPr>
            <a:xfrm>
              <a:off x="5724360" y="476280"/>
              <a:ext cx="2950920" cy="1639080"/>
            </a:xfrm>
            <a:prstGeom prst="rect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0" name=""/>
                <p:cNvSpPr txBox="1"/>
                <p:nvPr/>
              </p:nvSpPr>
              <p:spPr>
                <a:xfrm>
                  <a:off x="5798160" y="480960"/>
                  <a:ext cx="2842560" cy="165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5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411" name=""/>
          <p:cNvGraphicFramePr/>
          <p:nvPr/>
        </p:nvGraphicFramePr>
        <p:xfrm>
          <a:off x="0" y="1484280"/>
          <a:ext cx="5241960" cy="537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84280"/>
                    <a:ext cx="524196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"/>
          <p:cNvGraphicFramePr/>
          <p:nvPr/>
        </p:nvGraphicFramePr>
        <p:xfrm>
          <a:off x="0" y="1484280"/>
          <a:ext cx="5241960" cy="537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84280"/>
                    <a:ext cx="524196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"/>
          <p:cNvSpPr/>
          <p:nvPr/>
        </p:nvSpPr>
        <p:spPr>
          <a:xfrm>
            <a:off x="1351080" y="2082960"/>
            <a:ext cx="2428920" cy="4343400"/>
          </a:xfrm>
          <a:custGeom>
            <a:avLst/>
            <a:gdLst/>
            <a:ahLst/>
            <a:rect l="l" t="t" r="r" b="b"/>
            <a:pathLst>
              <a:path w="1530" h="2736">
                <a:moveTo>
                  <a:pt x="0" y="0"/>
                </a:moveTo>
                <a:cubicBezTo>
                  <a:pt x="23" y="143"/>
                  <a:pt x="104" y="642"/>
                  <a:pt x="141" y="859"/>
                </a:cubicBezTo>
                <a:cubicBezTo>
                  <a:pt x="178" y="1076"/>
                  <a:pt x="194" y="1166"/>
                  <a:pt x="221" y="1302"/>
                </a:cubicBezTo>
                <a:cubicBezTo>
                  <a:pt x="248" y="1438"/>
                  <a:pt x="274" y="1548"/>
                  <a:pt x="301" y="1674"/>
                </a:cubicBezTo>
                <a:cubicBezTo>
                  <a:pt x="328" y="1800"/>
                  <a:pt x="344" y="1924"/>
                  <a:pt x="381" y="2058"/>
                </a:cubicBezTo>
                <a:cubicBezTo>
                  <a:pt x="418" y="2192"/>
                  <a:pt x="481" y="2377"/>
                  <a:pt x="523" y="2477"/>
                </a:cubicBezTo>
                <a:cubicBezTo>
                  <a:pt x="565" y="2578"/>
                  <a:pt x="592" y="2619"/>
                  <a:pt x="632" y="2662"/>
                </a:cubicBezTo>
                <a:cubicBezTo>
                  <a:pt x="672" y="2705"/>
                  <a:pt x="722" y="2736"/>
                  <a:pt x="763" y="2736"/>
                </a:cubicBezTo>
                <a:cubicBezTo>
                  <a:pt x="805" y="2736"/>
                  <a:pt x="839" y="2715"/>
                  <a:pt x="883" y="2662"/>
                </a:cubicBezTo>
                <a:cubicBezTo>
                  <a:pt x="928" y="2609"/>
                  <a:pt x="988" y="2512"/>
                  <a:pt x="1031" y="2416"/>
                </a:cubicBezTo>
                <a:cubicBezTo>
                  <a:pt x="1074" y="2319"/>
                  <a:pt x="1109" y="2191"/>
                  <a:pt x="1140" y="2083"/>
                </a:cubicBezTo>
                <a:cubicBezTo>
                  <a:pt x="1171" y="1975"/>
                  <a:pt x="1193" y="1872"/>
                  <a:pt x="1217" y="1769"/>
                </a:cubicBezTo>
                <a:cubicBezTo>
                  <a:pt x="1240" y="1666"/>
                  <a:pt x="1261" y="1567"/>
                  <a:pt x="1282" y="1467"/>
                </a:cubicBezTo>
                <a:cubicBezTo>
                  <a:pt x="1303" y="1367"/>
                  <a:pt x="1321" y="1280"/>
                  <a:pt x="1342" y="1171"/>
                </a:cubicBezTo>
                <a:cubicBezTo>
                  <a:pt x="1363" y="1063"/>
                  <a:pt x="1376" y="1004"/>
                  <a:pt x="1408" y="814"/>
                </a:cubicBezTo>
                <a:cubicBezTo>
                  <a:pt x="1439" y="625"/>
                  <a:pt x="1505" y="199"/>
                  <a:pt x="1530" y="37"/>
                </a:cubicBezTo>
              </a:path>
            </a:pathLst>
          </a:custGeom>
          <a:noFill/>
          <a:ln w="54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588000" y="2276640"/>
            <a:ext cx="2303640" cy="647640"/>
          </a:xfrm>
          <a:custGeom>
            <a:avLst/>
            <a:gdLst>
              <a:gd name="textAreaLeft" fmla="*/ 41760 w 2303640"/>
              <a:gd name="textAreaRight" fmla="*/ 2261880 w 2303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76800" h="21600">
                <a:moveTo>
                  <a:pt x="0" y="0"/>
                </a:moveTo>
                <a:lnTo>
                  <a:pt x="76800" y="0"/>
                </a:lnTo>
                <a:lnTo>
                  <a:pt x="76800" y="21600"/>
                </a:lnTo>
                <a:lnTo>
                  <a:pt x="0" y="21600"/>
                </a:lnTo>
                <a:close/>
              </a:path>
              <a:path fill="lightenLess" w="76800" h="21600">
                <a:moveTo>
                  <a:pt x="0" y="0"/>
                </a:moveTo>
                <a:lnTo>
                  <a:pt x="76800" y="0"/>
                </a:lnTo>
                <a:lnTo>
                  <a:pt x="75400" y="1400"/>
                </a:lnTo>
                <a:lnTo>
                  <a:pt x="1400" y="1400"/>
                </a:lnTo>
                <a:close/>
              </a:path>
              <a:path fill="darken" w="76800" h="21600">
                <a:moveTo>
                  <a:pt x="76800" y="0"/>
                </a:moveTo>
                <a:lnTo>
                  <a:pt x="76800" y="21600"/>
                </a:lnTo>
                <a:lnTo>
                  <a:pt x="75400" y="20200"/>
                </a:lnTo>
                <a:lnTo>
                  <a:pt x="75400" y="1400"/>
                </a:lnTo>
                <a:close/>
              </a:path>
              <a:path fill="darkenLess" w="76800" h="21600">
                <a:moveTo>
                  <a:pt x="76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400" y="20200"/>
                </a:lnTo>
                <a:close/>
              </a:path>
              <a:path fill="lighten" w="76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Georgia"/>
              </a:rPr>
              <a:t>Проверка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635280" y="2637000"/>
            <a:ext cx="1447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843280" y="5950080"/>
            <a:ext cx="14436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124000" y="5950080"/>
            <a:ext cx="14436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403280" y="2637000"/>
            <a:ext cx="14436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364000" y="3645000"/>
            <a:ext cx="4104000" cy="100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Ответ: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-3; 4); (3; 4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-1; 4,9);  (1; 4,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5"/>
          <a:stretch/>
        </p:blipFill>
        <p:spPr>
          <a:xfrm>
            <a:off x="8028000" y="4797360"/>
            <a:ext cx="9572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fill="hold">
                      <p:stCondLst>
                        <p:cond delay="0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8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1349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53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7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6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1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6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1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7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0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5724360" y="0"/>
            <a:ext cx="3419640" cy="404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efefe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Georgia"/>
              </a:rPr>
              <a:t>Самостоя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260280"/>
            <a:ext cx="5313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Решить графически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систему уравн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9360" y="1484280"/>
          <a:ext cx="5240520" cy="537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" y="1484280"/>
                    <a:ext cx="524052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7" name=""/>
          <p:cNvGrpSpPr/>
          <p:nvPr/>
        </p:nvGrpSpPr>
        <p:grpSpPr>
          <a:xfrm>
            <a:off x="5651640" y="476280"/>
            <a:ext cx="3312720" cy="1728360"/>
            <a:chOff x="5651640" y="476280"/>
            <a:chExt cx="3312720" cy="1728360"/>
          </a:xfrm>
        </p:grpSpPr>
        <p:sp>
          <p:nvSpPr>
            <p:cNvPr id="428" name=""/>
            <p:cNvSpPr/>
            <p:nvPr/>
          </p:nvSpPr>
          <p:spPr>
            <a:xfrm>
              <a:off x="5651640" y="476280"/>
              <a:ext cx="3312720" cy="1709640"/>
            </a:xfrm>
            <a:prstGeom prst="rect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9" name=""/>
                <p:cNvSpPr txBox="1"/>
                <p:nvPr/>
              </p:nvSpPr>
              <p:spPr>
                <a:xfrm>
                  <a:off x="6060240" y="480960"/>
                  <a:ext cx="2539080" cy="172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t xml:space="preserve">х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430" name=""/>
          <p:cNvGraphicFramePr/>
          <p:nvPr/>
        </p:nvGraphicFramePr>
        <p:xfrm>
          <a:off x="0" y="1484280"/>
          <a:ext cx="5241960" cy="537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84280"/>
                    <a:ext cx="524196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"/>
          <p:cNvSpPr/>
          <p:nvPr/>
        </p:nvSpPr>
        <p:spPr>
          <a:xfrm>
            <a:off x="1835280" y="1341360"/>
            <a:ext cx="1441440" cy="5516640"/>
          </a:xfrm>
          <a:custGeom>
            <a:avLst/>
            <a:gdLst/>
            <a:ahLst/>
            <a:rect l="l" t="t" r="r" b="b"/>
            <a:pathLst>
              <a:path w="2946" h="12471">
                <a:moveTo>
                  <a:pt x="2946" y="0"/>
                </a:moveTo>
                <a:lnTo>
                  <a:pt x="2670" y="2901"/>
                </a:lnTo>
                <a:lnTo>
                  <a:pt x="2505" y="4176"/>
                </a:lnTo>
                <a:lnTo>
                  <a:pt x="2340" y="5136"/>
                </a:lnTo>
                <a:lnTo>
                  <a:pt x="2145" y="5826"/>
                </a:lnTo>
                <a:lnTo>
                  <a:pt x="2040" y="6111"/>
                </a:lnTo>
                <a:lnTo>
                  <a:pt x="1890" y="6321"/>
                </a:lnTo>
                <a:lnTo>
                  <a:pt x="1770" y="6441"/>
                </a:lnTo>
                <a:lnTo>
                  <a:pt x="1635" y="6501"/>
                </a:lnTo>
                <a:lnTo>
                  <a:pt x="1230" y="6531"/>
                </a:lnTo>
                <a:lnTo>
                  <a:pt x="1065" y="6621"/>
                </a:lnTo>
                <a:lnTo>
                  <a:pt x="975" y="6696"/>
                </a:lnTo>
                <a:lnTo>
                  <a:pt x="855" y="6936"/>
                </a:lnTo>
                <a:lnTo>
                  <a:pt x="720" y="7281"/>
                </a:lnTo>
                <a:lnTo>
                  <a:pt x="540" y="7971"/>
                </a:lnTo>
                <a:lnTo>
                  <a:pt x="390" y="8811"/>
                </a:lnTo>
                <a:lnTo>
                  <a:pt x="255" y="10101"/>
                </a:lnTo>
                <a:lnTo>
                  <a:pt x="0" y="12471"/>
                </a:lnTo>
              </a:path>
            </a:pathLst>
          </a:custGeom>
          <a:noFill/>
          <a:ln w="475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588000" y="2276640"/>
            <a:ext cx="2303640" cy="647640"/>
          </a:xfrm>
          <a:custGeom>
            <a:avLst/>
            <a:gdLst>
              <a:gd name="textAreaLeft" fmla="*/ 41760 w 2303640"/>
              <a:gd name="textAreaRight" fmla="*/ 2261880 w 2303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76800" h="21600">
                <a:moveTo>
                  <a:pt x="0" y="0"/>
                </a:moveTo>
                <a:lnTo>
                  <a:pt x="76800" y="0"/>
                </a:lnTo>
                <a:lnTo>
                  <a:pt x="76800" y="21600"/>
                </a:lnTo>
                <a:lnTo>
                  <a:pt x="0" y="21600"/>
                </a:lnTo>
                <a:close/>
              </a:path>
              <a:path fill="lightenLess" w="76800" h="21600">
                <a:moveTo>
                  <a:pt x="0" y="0"/>
                </a:moveTo>
                <a:lnTo>
                  <a:pt x="76800" y="0"/>
                </a:lnTo>
                <a:lnTo>
                  <a:pt x="75400" y="1400"/>
                </a:lnTo>
                <a:lnTo>
                  <a:pt x="1400" y="1400"/>
                </a:lnTo>
                <a:close/>
              </a:path>
              <a:path fill="darken" w="76800" h="21600">
                <a:moveTo>
                  <a:pt x="76800" y="0"/>
                </a:moveTo>
                <a:lnTo>
                  <a:pt x="76800" y="21600"/>
                </a:lnTo>
                <a:lnTo>
                  <a:pt x="75400" y="20200"/>
                </a:lnTo>
                <a:lnTo>
                  <a:pt x="75400" y="1400"/>
                </a:lnTo>
                <a:close/>
              </a:path>
              <a:path fill="darkenLess" w="76800" h="21600">
                <a:moveTo>
                  <a:pt x="76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400" y="20200"/>
                </a:lnTo>
                <a:close/>
              </a:path>
              <a:path fill="lighten" w="76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Georgia"/>
              </a:rPr>
              <a:t>Проверка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435640" y="3573360"/>
            <a:ext cx="4103640" cy="719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Ответ: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ешений н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5"/>
          <a:stretch/>
        </p:blipFill>
        <p:spPr>
          <a:xfrm>
            <a:off x="8028000" y="4797360"/>
            <a:ext cx="9572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1" dur="indefinite" restart="never" nodeType="tmRoot">
          <p:childTnLst>
            <p:seq>
              <p:cTn id="1392" dur="indefinite" nodeType="mainSeq">
                <p:childTnLst>
                  <p:par>
                    <p:cTn id="1393" fill="hold">
                      <p:stCondLst>
                        <p:cond delay="0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7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8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9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1400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4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6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408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4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7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5724360" y="0"/>
            <a:ext cx="3419640" cy="404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efefe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Georgia"/>
              </a:rPr>
              <a:t>Самостоя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260280"/>
            <a:ext cx="5313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Решить графически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систему уравн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5832360" y="476280"/>
            <a:ext cx="3311640" cy="1728360"/>
            <a:chOff x="5832360" y="476280"/>
            <a:chExt cx="3311640" cy="1728360"/>
          </a:xfrm>
        </p:grpSpPr>
        <p:sp>
          <p:nvSpPr>
            <p:cNvPr id="439" name=""/>
            <p:cNvSpPr/>
            <p:nvPr/>
          </p:nvSpPr>
          <p:spPr>
            <a:xfrm>
              <a:off x="5832360" y="476280"/>
              <a:ext cx="3311640" cy="1728360"/>
            </a:xfrm>
            <a:prstGeom prst="rect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0" name=""/>
                <p:cNvSpPr txBox="1"/>
                <p:nvPr/>
              </p:nvSpPr>
              <p:spPr>
                <a:xfrm>
                  <a:off x="5976360" y="496800"/>
                  <a:ext cx="2878200" cy="166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r>
                                <m:t xml:space="preserve">2</m:t>
                              </m:r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х</m:t>
                                  </m:r>
                                </m:e>
                              </m:d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441" name=""/>
          <p:cNvGraphicFramePr/>
          <p:nvPr/>
        </p:nvGraphicFramePr>
        <p:xfrm>
          <a:off x="0" y="1484280"/>
          <a:ext cx="5013360" cy="537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84280"/>
                    <a:ext cx="501336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"/>
          <p:cNvGraphicFramePr/>
          <p:nvPr/>
        </p:nvGraphicFramePr>
        <p:xfrm>
          <a:off x="0" y="1484280"/>
          <a:ext cx="5014800" cy="537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84280"/>
                    <a:ext cx="501480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"/>
          <p:cNvSpPr/>
          <p:nvPr/>
        </p:nvSpPr>
        <p:spPr>
          <a:xfrm>
            <a:off x="1154160" y="1519200"/>
            <a:ext cx="2616120" cy="2560680"/>
          </a:xfrm>
          <a:custGeom>
            <a:avLst/>
            <a:gdLst/>
            <a:ahLst/>
            <a:rect l="l" t="t" r="r" b="b"/>
            <a:pathLst>
              <a:path w="1648" h="1613">
                <a:moveTo>
                  <a:pt x="0" y="18"/>
                </a:moveTo>
                <a:lnTo>
                  <a:pt x="815" y="1613"/>
                </a:lnTo>
                <a:lnTo>
                  <a:pt x="1648" y="0"/>
                </a:lnTo>
              </a:path>
            </a:pathLst>
          </a:custGeom>
          <a:noFill/>
          <a:ln w="4752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059280" y="2637000"/>
            <a:ext cx="14436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588000" y="2276640"/>
            <a:ext cx="2303640" cy="647640"/>
          </a:xfrm>
          <a:custGeom>
            <a:avLst/>
            <a:gdLst>
              <a:gd name="textAreaLeft" fmla="*/ 41760 w 2303640"/>
              <a:gd name="textAreaRight" fmla="*/ 2261880 w 2303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76800" h="21600">
                <a:moveTo>
                  <a:pt x="0" y="0"/>
                </a:moveTo>
                <a:lnTo>
                  <a:pt x="76800" y="0"/>
                </a:lnTo>
                <a:lnTo>
                  <a:pt x="76800" y="21600"/>
                </a:lnTo>
                <a:lnTo>
                  <a:pt x="0" y="21600"/>
                </a:lnTo>
                <a:close/>
              </a:path>
              <a:path fill="lightenLess" w="76800" h="21600">
                <a:moveTo>
                  <a:pt x="0" y="0"/>
                </a:moveTo>
                <a:lnTo>
                  <a:pt x="76800" y="0"/>
                </a:lnTo>
                <a:lnTo>
                  <a:pt x="75400" y="1400"/>
                </a:lnTo>
                <a:lnTo>
                  <a:pt x="1400" y="1400"/>
                </a:lnTo>
                <a:close/>
              </a:path>
              <a:path fill="darken" w="76800" h="21600">
                <a:moveTo>
                  <a:pt x="76800" y="0"/>
                </a:moveTo>
                <a:lnTo>
                  <a:pt x="76800" y="21600"/>
                </a:lnTo>
                <a:lnTo>
                  <a:pt x="75400" y="20200"/>
                </a:lnTo>
                <a:lnTo>
                  <a:pt x="75400" y="1400"/>
                </a:lnTo>
                <a:close/>
              </a:path>
              <a:path fill="darkenLess" w="76800" h="21600">
                <a:moveTo>
                  <a:pt x="76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400" y="20200"/>
                </a:lnTo>
                <a:close/>
              </a:path>
              <a:path fill="lighten" w="76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Georgia"/>
              </a:rPr>
              <a:t>Проверка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435640" y="3573360"/>
            <a:ext cx="4103640" cy="719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Ответ: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; 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5"/>
          <a:stretch/>
        </p:blipFill>
        <p:spPr>
          <a:xfrm>
            <a:off x="8028000" y="4797360"/>
            <a:ext cx="9572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8" dur="indefinite" restart="never" nodeType="tmRoot">
          <p:childTnLst>
            <p:seq>
              <p:cTn id="1419" dur="indefinite" nodeType="mainSeq">
                <p:childTnLst>
                  <p:par>
                    <p:cTn id="1420" fill="hold">
                      <p:stCondLst>
                        <p:cond delay="0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5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6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1427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1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5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2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6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8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1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7d"/>
                </a:solidFill>
                <a:latin typeface="Georgia"/>
              </a:rPr>
              <a:t>Построение  графика  </a:t>
            </a:r>
            <a:br>
              <a:rPr sz="3600"/>
            </a:br>
            <a:r>
              <a:rPr b="1" i="1" lang="en-US" sz="3600" spc="-1" strike="noStrike">
                <a:solidFill>
                  <a:srgbClr val="00007d"/>
                </a:solidFill>
                <a:latin typeface="Georgia"/>
              </a:rPr>
              <a:t>линейной  функции.</a:t>
            </a:r>
            <a:r>
              <a:rPr b="1" i="1" lang="en-US" sz="3600" spc="-1" strike="noStrike">
                <a:solidFill>
                  <a:srgbClr val="ff0000"/>
                </a:solidFill>
                <a:latin typeface="Georgi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84360" y="2708280"/>
          <a:ext cx="5111640" cy="396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708280"/>
                    <a:ext cx="5111640" cy="39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4284720" y="4437000"/>
            <a:ext cx="1443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03280" y="5877000"/>
            <a:ext cx="14436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659640" y="2708280"/>
          <a:ext cx="1593720" cy="2448000"/>
        </p:xfrm>
        <a:graphic>
          <a:graphicData uri="http://schemas.openxmlformats.org/drawingml/2006/table">
            <a:tbl>
              <a:tblPr/>
              <a:tblGrid>
                <a:gridCol w="797040"/>
                <a:gridCol w="796680"/>
              </a:tblGrid>
              <a:tr h="81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r>
                        <a:rPr b="1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1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r>
                        <a:rPr b="1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1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 txBox="1"/>
          <p:nvPr/>
        </p:nvSpPr>
        <p:spPr>
          <a:xfrm rot="5400000">
            <a:off x="-1909440" y="4149000"/>
            <a:ext cx="4537080" cy="36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Прямая  линия.</a:t>
            </a:r>
            <a:endParaRPr b="1" i="1" lang="en-US" sz="2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33" name=""/>
          <p:cNvSpPr/>
          <p:nvPr/>
        </p:nvSpPr>
        <p:spPr>
          <a:xfrm>
            <a:off x="971640" y="1484280"/>
            <a:ext cx="31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= ах +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79200" y="2058840"/>
            <a:ext cx="743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х – любое действительное чис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260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35640" y="0"/>
            <a:ext cx="2808360" cy="431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efefe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Georgia"/>
              </a:rPr>
              <a:t>Повт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8186760" y="4797360"/>
            <a:ext cx="9572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150"/>
                            </p:stCondLst>
                            <p:childTnLst>
                              <p:par>
                                <p:cTn id="5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47628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7d"/>
                </a:solidFill>
                <a:latin typeface="Georgia"/>
              </a:rPr>
              <a:t>Построение  графика функции  обратной  пропорциона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971640" y="2276640"/>
          <a:ext cx="3036960" cy="45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276640"/>
                    <a:ext cx="303696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4417200" y="1989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84840" y="3587760"/>
            <a:ext cx="40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Определить,  в  ка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четвертях  наход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график  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37720" y="357336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7880" y="6035760"/>
            <a:ext cx="37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Составить  табли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значений  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 rot="5400000">
            <a:off x="-1544400" y="4433760"/>
            <a:ext cx="4103640" cy="366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Гипербола.</a:t>
            </a:r>
            <a:endParaRPr b="1" i="1" lang="en-US" sz="20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155736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 =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97960" y="4884840"/>
            <a:ext cx="24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k  &gt; 0 – I  u  III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98320" y="5459400"/>
            <a:ext cx="25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k  &lt; 0 – II  u  IV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042920" y="2349360"/>
          <a:ext cx="2987640" cy="450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2349360"/>
                    <a:ext cx="2987640" cy="45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4510800" y="602136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12200" y="2060640"/>
            <a:ext cx="419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х – люб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действительное числ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кроме ну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260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35640" y="0"/>
            <a:ext cx="2808360" cy="431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efefe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Georgia"/>
              </a:rPr>
              <a:t>Повт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 flipH="1">
            <a:off x="899640" y="4797360"/>
            <a:ext cx="8780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50"/>
                            </p:stCondLst>
                            <p:childTnLst>
                              <p:par>
                                <p:cTn id="2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6443640" y="907920"/>
            <a:ext cx="2336760" cy="1008360"/>
            <a:chOff x="6443640" y="907920"/>
            <a:chExt cx="2336760" cy="1008360"/>
          </a:xfrm>
        </p:grpSpPr>
        <p:sp>
          <p:nvSpPr>
            <p:cNvPr id="157" name=""/>
            <p:cNvSpPr/>
            <p:nvPr/>
          </p:nvSpPr>
          <p:spPr>
            <a:xfrm>
              <a:off x="6537960" y="907920"/>
              <a:ext cx="2211840" cy="8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8" name=""/>
                <p:cNvSpPr txBox="1"/>
                <p:nvPr/>
              </p:nvSpPr>
              <p:spPr>
                <a:xfrm>
                  <a:off x="6443640" y="907920"/>
                  <a:ext cx="2336760" cy="100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kх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9" name=""/>
          <p:cNvSpPr/>
          <p:nvPr/>
        </p:nvSpPr>
        <p:spPr>
          <a:xfrm>
            <a:off x="1065960" y="404640"/>
            <a:ext cx="79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7d"/>
                </a:solidFill>
                <a:latin typeface="Georgia"/>
              </a:rPr>
              <a:t>Построение  графика  фун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6800" y="170028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89200" y="1700280"/>
            <a:ext cx="57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х – любое  действительное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120" y="226224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75360" y="3573360"/>
            <a:ext cx="24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k  &gt; 0 – I  u  III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5360" y="4148280"/>
            <a:ext cx="25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k  &lt; 0 – II  u  IV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851280" y="2637000"/>
          <a:ext cx="233352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637000"/>
                    <a:ext cx="233352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640080" y="2276640"/>
            <a:ext cx="40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Определить,  в  ка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четвертях  наход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график  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588000" y="2637000"/>
          <a:ext cx="2333880" cy="403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88000" y="2637000"/>
                    <a:ext cx="233388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503280" y="494172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Составит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таблицу  значени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120" y="494172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335640" y="0"/>
            <a:ext cx="2808360" cy="431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efefe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Georgia"/>
              </a:rPr>
              <a:t>Повт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8186760" y="2133720"/>
            <a:ext cx="957240" cy="20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650"/>
                            </p:stCondLst>
                            <p:childTnLst>
                              <p:par>
                                <p:cTn id="2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650"/>
                            </p:stCondLst>
                            <p:childTnLst>
                              <p:par>
                                <p:cTn id="2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800"/>
                            </p:stCondLst>
                            <p:childTnLst>
                              <p:par>
                                <p:cTn id="2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050"/>
                            </p:stCondLst>
                            <p:childTnLst>
                              <p:par>
                                <p:cTn id="3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335640" y="0"/>
            <a:ext cx="2808360" cy="431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efefe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Georgia"/>
              </a:rPr>
              <a:t>Повт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928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38960" y="476280"/>
            <a:ext cx="680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7d"/>
                </a:solidFill>
                <a:latin typeface="Georgia"/>
              </a:rPr>
              <a:t>Построение  окруж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711600" y="1052640"/>
          <a:ext cx="5432400" cy="58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1600" y="1052640"/>
                    <a:ext cx="543240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710160" y="1052640"/>
          <a:ext cx="5433840" cy="580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10160" y="1052640"/>
                    <a:ext cx="543384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471600" y="2276640"/>
            <a:ext cx="41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r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– радиус окруж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50920" y="981000"/>
            <a:ext cx="4897440" cy="863640"/>
            <a:chOff x="250920" y="981000"/>
            <a:chExt cx="4897440" cy="863640"/>
          </a:xfrm>
        </p:grpSpPr>
        <p:sp>
          <p:nvSpPr>
            <p:cNvPr id="184" name=""/>
            <p:cNvSpPr/>
            <p:nvPr/>
          </p:nvSpPr>
          <p:spPr>
            <a:xfrm>
              <a:off x="1999440" y="1004400"/>
              <a:ext cx="1440720" cy="72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250920" y="981000"/>
                  <a:ext cx="489744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х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у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у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6" name=""/>
          <p:cNvSpPr/>
          <p:nvPr/>
        </p:nvSpPr>
        <p:spPr>
          <a:xfrm>
            <a:off x="366480" y="3068640"/>
            <a:ext cx="386280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;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– координ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центра  окруж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400"/>
                            </p:stCondLst>
                            <p:childTnLst>
                              <p:par>
                                <p:cTn id="3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Построение  графика  функции  у = ах</a:t>
            </a:r>
            <a:r>
              <a:rPr b="1" i="1" lang="ru-RU" sz="3600" spc="-1" strike="noStrike" baseline="30000">
                <a:solidFill>
                  <a:srgbClr val="00007d"/>
                </a:solidFill>
                <a:latin typeface="Georgia"/>
              </a:rPr>
              <a:t>2</a:t>
            </a: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 +</a:t>
            </a:r>
            <a:r>
              <a:rPr b="1" i="1" lang="en-US" sz="3600" spc="-1" strike="noStrike">
                <a:solidFill>
                  <a:srgbClr val="00007d"/>
                </a:solidFill>
                <a:latin typeface="Georgia"/>
              </a:rPr>
              <a:t> b</a:t>
            </a: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х +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9880" y="1413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78120" y="1916280"/>
            <a:ext cx="77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Определить  направление  ветвей  параб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258920" y="2590920"/>
          <a:ext cx="321948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590920"/>
                    <a:ext cx="32194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859280" y="2590920"/>
          <a:ext cx="3219480" cy="426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2590920"/>
                    <a:ext cx="32194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 txBox="1"/>
          <p:nvPr/>
        </p:nvSpPr>
        <p:spPr>
          <a:xfrm rot="5400000">
            <a:off x="-1296360" y="4257000"/>
            <a:ext cx="3671640" cy="431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Парабола.</a:t>
            </a:r>
            <a:endParaRPr b="1" i="1" lang="en-US" sz="20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0400" y="191628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34640" y="1557360"/>
            <a:ext cx="57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х – любое действительное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335640" y="0"/>
            <a:ext cx="2808360" cy="431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efefe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Georgia"/>
              </a:rPr>
              <a:t>Повт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200"/>
                            </p:stCondLst>
                            <p:childTnLst>
                              <p:par>
                                <p:cTn id="4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Построение  графика  функции  у = ах</a:t>
            </a:r>
            <a:r>
              <a:rPr b="1" i="1" lang="ru-RU" sz="3600" spc="-1" strike="noStrike" baseline="30000">
                <a:solidFill>
                  <a:srgbClr val="00007d"/>
                </a:solidFill>
                <a:latin typeface="Georgia"/>
              </a:rPr>
              <a:t>2</a:t>
            </a: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 +</a:t>
            </a:r>
            <a:r>
              <a:rPr b="1" i="1" lang="en-US" sz="3600" spc="-1" strike="noStrike">
                <a:solidFill>
                  <a:srgbClr val="00007d"/>
                </a:solidFill>
                <a:latin typeface="Georgia"/>
              </a:rPr>
              <a:t> b</a:t>
            </a: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х +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1320" y="1935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66600" y="1863720"/>
            <a:ext cx="725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Найти  координаты  вершины  параболы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(т; п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042920" y="2565360"/>
                <a:ext cx="194472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т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042920" y="3860640"/>
                <a:ext cx="216072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284720" y="2492280"/>
          <a:ext cx="3166920" cy="40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2492280"/>
                    <a:ext cx="316692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6012000" y="5950080"/>
            <a:ext cx="71280" cy="72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7440" y="522936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50760" y="5175360"/>
            <a:ext cx="27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Провести  ос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симме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187280" y="6093000"/>
                <a:ext cx="151308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6012000" y="2276640"/>
            <a:ext cx="14040" cy="4098600"/>
          </a:xfrm>
          <a:custGeom>
            <a:avLst/>
            <a:gdLst/>
            <a:ahLst/>
            <a:rect l="l" t="t" r="r" b="b"/>
            <a:pathLst>
              <a:path w="9" h="2582">
                <a:moveTo>
                  <a:pt x="9" y="0"/>
                </a:moveTo>
                <a:lnTo>
                  <a:pt x="0" y="2582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09800" y="602136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 (т;п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335640" y="0"/>
            <a:ext cx="2808360" cy="431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efefe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Georgia"/>
              </a:rPr>
              <a:t>Повт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928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950"/>
                            </p:stCondLst>
                            <p:childTnLst>
                              <p:par>
                                <p:cTn id="51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3000"/>
                            </p:stCondLst>
                            <p:childTnLst>
                              <p:par>
                                <p:cTn id="58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Построение  графика  функции  у = ах</a:t>
            </a:r>
            <a:r>
              <a:rPr b="1" i="1" lang="ru-RU" sz="3600" spc="-1" strike="noStrike" baseline="30000">
                <a:solidFill>
                  <a:srgbClr val="00007d"/>
                </a:solidFill>
                <a:latin typeface="Georgia"/>
              </a:rPr>
              <a:t>2</a:t>
            </a: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 +</a:t>
            </a:r>
            <a:r>
              <a:rPr b="1" i="1" lang="en-US" sz="3600" spc="-1" strike="noStrike">
                <a:solidFill>
                  <a:srgbClr val="00007d"/>
                </a:solidFill>
                <a:latin typeface="Georgia"/>
              </a:rPr>
              <a:t> b</a:t>
            </a: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х +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7360" y="1935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74880" y="1628640"/>
            <a:ext cx="73573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Определить  точки  пересечения  график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функции  с  осью  О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х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,  т.е.  найти  нул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859280" y="2590920"/>
          <a:ext cx="321948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2590920"/>
                    <a:ext cx="32194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6588000" y="6021360"/>
            <a:ext cx="71640" cy="698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611280" y="3357720"/>
                <a:ext cx="14526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530280" y="4149720"/>
                <a:ext cx="41972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6012000" y="5084640"/>
            <a:ext cx="71280" cy="698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164360" y="5084640"/>
            <a:ext cx="71640" cy="698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87200" y="5229360"/>
            <a:ext cx="88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х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;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955560" y="5229360"/>
            <a:ext cx="88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х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;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99160" y="2590920"/>
            <a:ext cx="1800" cy="3962160"/>
          </a:xfrm>
          <a:custGeom>
            <a:avLst/>
            <a:gdLst/>
            <a:ahLst/>
            <a:rect l="l" t="t" r="r" b="b"/>
            <a:pathLst>
              <a:path w="1" h="2496">
                <a:moveTo>
                  <a:pt x="0" y="0"/>
                </a:moveTo>
                <a:lnTo>
                  <a:pt x="0" y="2496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335640" y="0"/>
            <a:ext cx="2808360" cy="431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efefe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Georgia"/>
              </a:rPr>
              <a:t>Повт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7928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Построение  графика  функции  у = ах</a:t>
            </a:r>
            <a:r>
              <a:rPr b="1" i="1" lang="ru-RU" sz="3600" spc="-1" strike="noStrike" baseline="30000">
                <a:solidFill>
                  <a:srgbClr val="00007d"/>
                </a:solidFill>
                <a:latin typeface="Georgia"/>
              </a:rPr>
              <a:t>2</a:t>
            </a: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 +</a:t>
            </a:r>
            <a:r>
              <a:rPr b="1" i="1" lang="en-US" sz="3600" spc="-1" strike="noStrike">
                <a:solidFill>
                  <a:srgbClr val="00007d"/>
                </a:solidFill>
                <a:latin typeface="Georgia"/>
              </a:rPr>
              <a:t> b</a:t>
            </a: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х +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4560" y="1935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05040" y="1773360"/>
            <a:ext cx="706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Составить  таблицу  значений 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с  учетом  оси  симметрии  параб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611280" y="2924280"/>
          <a:ext cx="3960720" cy="1225080"/>
        </p:xfrm>
        <a:graphic>
          <a:graphicData uri="http://schemas.openxmlformats.org/drawingml/2006/table">
            <a:tbl>
              <a:tblPr/>
              <a:tblGrid>
                <a:gridCol w="792360"/>
                <a:gridCol w="792360"/>
                <a:gridCol w="792360"/>
                <a:gridCol w="791280"/>
                <a:gridCol w="792360"/>
              </a:tblGrid>
              <a:tr h="61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5148360" y="2590920"/>
          <a:ext cx="321948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2590920"/>
                    <a:ext cx="32194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6877080" y="6021360"/>
            <a:ext cx="71280" cy="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227640" y="5157720"/>
            <a:ext cx="71640" cy="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524720" y="5084640"/>
            <a:ext cx="71640" cy="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77080" y="2637000"/>
            <a:ext cx="1440" cy="3825720"/>
          </a:xfrm>
          <a:custGeom>
            <a:avLst/>
            <a:gdLst/>
            <a:ahLst/>
            <a:rect l="l" t="t" r="r" b="b"/>
            <a:pathLst>
              <a:path w="1" h="2410">
                <a:moveTo>
                  <a:pt x="0" y="0"/>
                </a:moveTo>
                <a:lnTo>
                  <a:pt x="0" y="2410"/>
                </a:lnTo>
              </a:path>
            </a:pathLst>
          </a:custGeom>
          <a:noFill/>
          <a:ln w="1908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335640" y="0"/>
            <a:ext cx="2808360" cy="431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efefe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Georgia"/>
              </a:rPr>
              <a:t>Повт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7928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 flipH="1">
            <a:off x="684360" y="4508640"/>
            <a:ext cx="863280" cy="20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3400"/>
                            </p:stCondLst>
                            <p:childTnLst>
                              <p:par>
                                <p:cTn id="7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000"/>
                            </p:stCondLst>
                            <p:childTnLst>
                              <p:par>
                                <p:cTn id="7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9T02:32:33Z</dcterms:created>
  <dc:creator>мама</dc:creator>
  <dc:description/>
  <dc:language>en-US</dc:language>
  <cp:lastModifiedBy>Admin</cp:lastModifiedBy>
  <dcterms:modified xsi:type="dcterms:W3CDTF">2010-06-13T04:41:34Z</dcterms:modified>
  <cp:revision>25</cp:revision>
  <dc:subject/>
  <dc:title>Повторение. «Функции и графики».</dc:title>
</cp:coreProperties>
</file>