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CEF4-F63C-407D-9924-CD31C0A58B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 выполнения учащимися задания – визуальная прове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линей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 функции обратной пропорцион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. Алгоритм построения графика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ализация. Повторение алгоритма построения графика квадратично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00F9-C0C8-4892-864F-8D295263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325E-591C-4CEB-84F8-124E1FF9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0782-776A-4B14-876D-BECF8769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7A6D-63F3-48AF-9082-930B2107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2F8A-39C0-40C6-8F58-6AC2A58A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5556-BC15-4647-BC6C-1A955E66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6982-63B0-494F-82CC-8EE6C1CF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E8D3-A9A5-4BCB-88EF-4038830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AC3A-4A73-44D5-8A61-268D6288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0FDB-43DC-4D49-A70E-E6D2BF7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D73-28F6-4AB6-ADC9-91634B42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CB08-65D9-45BA-9D1F-BB1A7B7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88EE-6448-467B-BE25-A1CD1E98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24B5-F5AB-4497-BF75-2ACFB16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E0D7-8026-4419-AF19-A6F06390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864-A527-4194-A86A-CAE311B5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2178-2C7D-403D-95EB-A6CF2C7C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8274-5AA0-47C5-9DE5-74CE0E60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BCD3-9BDA-49A7-951F-D079CEB3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ADD1-33FB-4060-8686-384E195A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53FB-0BE6-438E-8E48-67F8C261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2C62-BD21-4F3F-8987-B2AE5AEA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F726-4BA0-4EEC-B745-71A87527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D9F3-A400-48C2-B165-F7FFF2A6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E47E-019B-4238-A15D-CFE9ED3BB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D004-E5C5-4046-A2E1-052DC7A6C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828800"/>
            <a:ext cx="7299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Графический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способ  решения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систем  уравне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63280" y="4221000"/>
            <a:ext cx="6875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МОУ СОШ №256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4869000"/>
          <a:ext cx="1944720" cy="19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869000"/>
                    <a:ext cx="19447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164360" y="4869000"/>
          <a:ext cx="1979640" cy="19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4869000"/>
                    <a:ext cx="197964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32360" y="4797360"/>
          <a:ext cx="2087640" cy="20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797360"/>
                    <a:ext cx="20876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627280" y="4941720"/>
          <a:ext cx="2016000" cy="191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941720"/>
                    <a:ext cx="20160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7524720" y="0"/>
            <a:ext cx="1392120" cy="299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333360"/>
            <a:ext cx="5832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итель  Каратанова М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56360" y="476280"/>
            <a:ext cx="2808360" cy="1596600"/>
            <a:chOff x="6156360" y="476280"/>
            <a:chExt cx="2808360" cy="1596600"/>
          </a:xfrm>
        </p:grpSpPr>
        <p:sp>
          <p:nvSpPr>
            <p:cNvPr id="269" name=""/>
            <p:cNvSpPr/>
            <p:nvPr/>
          </p:nvSpPr>
          <p:spPr>
            <a:xfrm>
              <a:off x="6156360" y="476280"/>
              <a:ext cx="2670840" cy="15966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6156360" y="549000"/>
                  <a:ext cx="2808360" cy="151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26920" y="1844640"/>
            <a:ext cx="2881080" cy="1440000"/>
            <a:chOff x="826920" y="1844640"/>
            <a:chExt cx="2881080" cy="1440000"/>
          </a:xfrm>
        </p:grpSpPr>
        <p:sp>
          <p:nvSpPr>
            <p:cNvPr id="274" name=""/>
            <p:cNvSpPr/>
            <p:nvPr/>
          </p:nvSpPr>
          <p:spPr>
            <a:xfrm>
              <a:off x="838440" y="1844640"/>
              <a:ext cx="2869560" cy="14400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826920" y="1910160"/>
                  <a:ext cx="2294640" cy="136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"/>
          <p:cNvSpPr/>
          <p:nvPr/>
        </p:nvSpPr>
        <p:spPr>
          <a:xfrm>
            <a:off x="395280" y="335772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556000" y="4005360"/>
          <a:ext cx="541008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421960" y="5373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55640" y="4005360"/>
            <a:ext cx="1441440" cy="863640"/>
            <a:chOff x="755640" y="4005360"/>
            <a:chExt cx="1441440" cy="863640"/>
          </a:xfrm>
        </p:grpSpPr>
        <p:sp>
          <p:nvSpPr>
            <p:cNvPr id="280" name=""/>
            <p:cNvSpPr/>
            <p:nvPr/>
          </p:nvSpPr>
          <p:spPr>
            <a:xfrm>
              <a:off x="755640" y="4005360"/>
              <a:ext cx="14414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873000" y="4059000"/>
                  <a:ext cx="12488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"/>
          <p:cNvGrpSpPr/>
          <p:nvPr/>
        </p:nvGrpSpPr>
        <p:grpSpPr>
          <a:xfrm>
            <a:off x="324000" y="5445000"/>
            <a:ext cx="2016000" cy="936360"/>
            <a:chOff x="324000" y="5445000"/>
            <a:chExt cx="2016000" cy="936360"/>
          </a:xfrm>
        </p:grpSpPr>
        <p:sp>
          <p:nvSpPr>
            <p:cNvPr id="283" name=""/>
            <p:cNvSpPr/>
            <p:nvPr/>
          </p:nvSpPr>
          <p:spPr>
            <a:xfrm>
              <a:off x="742320" y="5445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324000" y="5601960"/>
                  <a:ext cx="2016000" cy="64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85" name=""/>
          <p:cNvGraphicFramePr/>
          <p:nvPr/>
        </p:nvGraphicFramePr>
        <p:xfrm>
          <a:off x="2556000" y="5373720"/>
          <a:ext cx="2028600" cy="1155600"/>
        </p:xfrm>
        <a:graphic>
          <a:graphicData uri="http://schemas.openxmlformats.org/drawingml/2006/table">
            <a:tbl>
              <a:tblPr/>
              <a:tblGrid>
                <a:gridCol w="67428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4859280" y="5300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28880" y="335772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4000" y="404640"/>
            <a:ext cx="1439640" cy="863640"/>
            <a:chOff x="324000" y="404640"/>
            <a:chExt cx="1439640" cy="863640"/>
          </a:xfrm>
        </p:grpSpPr>
        <p:sp>
          <p:nvSpPr>
            <p:cNvPr id="290" name=""/>
            <p:cNvSpPr/>
            <p:nvPr/>
          </p:nvSpPr>
          <p:spPr>
            <a:xfrm>
              <a:off x="324000" y="404640"/>
              <a:ext cx="1439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441360" y="458280"/>
                  <a:ext cx="12470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2" name=""/>
          <p:cNvGrpSpPr/>
          <p:nvPr/>
        </p:nvGrpSpPr>
        <p:grpSpPr>
          <a:xfrm>
            <a:off x="250920" y="2708280"/>
            <a:ext cx="2088720" cy="863640"/>
            <a:chOff x="250920" y="2708280"/>
            <a:chExt cx="2088720" cy="863640"/>
          </a:xfrm>
        </p:grpSpPr>
        <p:sp>
          <p:nvSpPr>
            <p:cNvPr id="293" name=""/>
            <p:cNvSpPr/>
            <p:nvPr/>
          </p:nvSpPr>
          <p:spPr>
            <a:xfrm>
              <a:off x="684360" y="2708280"/>
              <a:ext cx="1591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50920" y="2853000"/>
                  <a:ext cx="208872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95" name=""/>
          <p:cNvGraphicFramePr/>
          <p:nvPr/>
        </p:nvGraphicFramePr>
        <p:xfrm>
          <a:off x="2771640" y="270828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222880" y="404640"/>
          <a:ext cx="39211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2880" y="404640"/>
                    <a:ext cx="39211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219640" y="404640"/>
          <a:ext cx="3924360" cy="645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04640"/>
                    <a:ext cx="392436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50920" y="1197000"/>
          <a:ext cx="5554440" cy="1214280"/>
        </p:xfrm>
        <a:graphic>
          <a:graphicData uri="http://schemas.openxmlformats.org/drawingml/2006/table">
            <a:tbl>
              <a:tblPr/>
              <a:tblGrid>
                <a:gridCol w="691920"/>
                <a:gridCol w="696960"/>
                <a:gridCol w="693720"/>
                <a:gridCol w="695160"/>
                <a:gridCol w="693720"/>
                <a:gridCol w="693720"/>
                <a:gridCol w="692280"/>
                <a:gridCol w="69696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6146640" y="1547640"/>
            <a:ext cx="2814840" cy="5107320"/>
          </a:xfrm>
          <a:custGeom>
            <a:avLst/>
            <a:gdLst/>
            <a:ahLst/>
            <a:rect l="l" t="t" r="r" b="b"/>
            <a:pathLst>
              <a:path w="1773" h="3217">
                <a:moveTo>
                  <a:pt x="0" y="3217"/>
                </a:moveTo>
                <a:lnTo>
                  <a:pt x="1773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04000" y="522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565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92920" y="5318280"/>
            <a:ext cx="1440" cy="336240"/>
          </a:xfrm>
          <a:custGeom>
            <a:avLst/>
            <a:gdLst/>
            <a:ahLst/>
            <a:rect l="l" t="t" r="r" b="b"/>
            <a:pathLst>
              <a:path w="1" h="212">
                <a:moveTo>
                  <a:pt x="0" y="0"/>
                </a:moveTo>
                <a:lnTo>
                  <a:pt x="0" y="212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92920" y="5303880"/>
            <a:ext cx="393840" cy="14400"/>
          </a:xfrm>
          <a:custGeom>
            <a:avLst/>
            <a:gdLst/>
            <a:ahLst/>
            <a:rect l="l" t="t" r="r" b="b"/>
            <a:pathLst>
              <a:path w="248" h="9">
                <a:moveTo>
                  <a:pt x="248" y="9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8360" y="2637000"/>
            <a:ext cx="1440" cy="3065400"/>
          </a:xfrm>
          <a:custGeom>
            <a:avLst/>
            <a:gdLst/>
            <a:ahLst/>
            <a:rect l="l" t="t" r="r" b="b"/>
            <a:pathLst>
              <a:path w="1" h="1931">
                <a:moveTo>
                  <a:pt x="0" y="0"/>
                </a:moveTo>
                <a:lnTo>
                  <a:pt x="0" y="1931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36000" y="2637000"/>
            <a:ext cx="1137960" cy="28440"/>
          </a:xfrm>
          <a:custGeom>
            <a:avLst/>
            <a:gdLst/>
            <a:ahLst/>
            <a:rect l="l" t="t" r="r" b="b"/>
            <a:pathLst>
              <a:path w="717" h="18">
                <a:moveTo>
                  <a:pt x="717" y="0"/>
                </a:moveTo>
                <a:lnTo>
                  <a:pt x="0" y="18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1; 1);  (3; 9)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4544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90160" y="2492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476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56360" y="476280"/>
            <a:ext cx="2987280" cy="1596600"/>
            <a:chOff x="6156360" y="476280"/>
            <a:chExt cx="2987280" cy="1596600"/>
          </a:xfrm>
        </p:grpSpPr>
        <p:sp>
          <p:nvSpPr>
            <p:cNvPr id="315" name=""/>
            <p:cNvSpPr/>
            <p:nvPr/>
          </p:nvSpPr>
          <p:spPr>
            <a:xfrm>
              <a:off x="6156360" y="476280"/>
              <a:ext cx="2841480" cy="159660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6156360" y="549000"/>
                  <a:ext cx="2987280" cy="15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x</m:t>
                              </m:r>
                              <m:r>
                                <m:t xml:space="preserve">=</m:t>
                              </m:r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26920" y="1773360"/>
            <a:ext cx="2808360" cy="1942920"/>
            <a:chOff x="826920" y="1773360"/>
            <a:chExt cx="2808360" cy="1942920"/>
          </a:xfrm>
        </p:grpSpPr>
        <p:sp>
          <p:nvSpPr>
            <p:cNvPr id="320" name=""/>
            <p:cNvSpPr/>
            <p:nvPr/>
          </p:nvSpPr>
          <p:spPr>
            <a:xfrm>
              <a:off x="838080" y="1844640"/>
              <a:ext cx="2797200" cy="18716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826920" y="1773360"/>
                  <a:ext cx="2592720" cy="19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8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2" name=""/>
          <p:cNvSpPr/>
          <p:nvPr/>
        </p:nvSpPr>
        <p:spPr>
          <a:xfrm>
            <a:off x="438120" y="3654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98840" y="4302000"/>
          <a:ext cx="6087960" cy="121788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  <a:gridCol w="67788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5464800" y="567072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строим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й  в 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стем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4005360"/>
            <a:ext cx="2410920" cy="1439280"/>
            <a:chOff x="0" y="4005360"/>
            <a:chExt cx="2410920" cy="1439280"/>
          </a:xfrm>
        </p:grpSpPr>
        <p:sp>
          <p:nvSpPr>
            <p:cNvPr id="326" name=""/>
            <p:cNvSpPr/>
            <p:nvPr/>
          </p:nvSpPr>
          <p:spPr>
            <a:xfrm>
              <a:off x="0" y="4005360"/>
              <a:ext cx="241092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5040" y="4114080"/>
                  <a:ext cx="121032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"/>
          <p:cNvGrpSpPr/>
          <p:nvPr/>
        </p:nvGrpSpPr>
        <p:grpSpPr>
          <a:xfrm>
            <a:off x="366840" y="5742000"/>
            <a:ext cx="2016000" cy="936360"/>
            <a:chOff x="366840" y="5742000"/>
            <a:chExt cx="2016000" cy="936360"/>
          </a:xfrm>
        </p:grpSpPr>
        <p:sp>
          <p:nvSpPr>
            <p:cNvPr id="329" name=""/>
            <p:cNvSpPr/>
            <p:nvPr/>
          </p:nvSpPr>
          <p:spPr>
            <a:xfrm>
              <a:off x="785160" y="5742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366840" y="5910840"/>
                  <a:ext cx="201600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31" name=""/>
          <p:cNvGraphicFramePr/>
          <p:nvPr/>
        </p:nvGraphicFramePr>
        <p:xfrm>
          <a:off x="2598840" y="5670720"/>
          <a:ext cx="2028600" cy="1155600"/>
        </p:xfrm>
        <a:graphic>
          <a:graphicData uri="http://schemas.openxmlformats.org/drawingml/2006/table">
            <a:tbl>
              <a:tblPr/>
              <a:tblGrid>
                <a:gridCol w="67428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4902120" y="5597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72080" y="3654360"/>
            <a:ext cx="70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м  таблицы  значений 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356000" y="1197000"/>
          <a:ext cx="481032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197000"/>
                    <a:ext cx="481032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334040" y="1197000"/>
          <a:ext cx="480996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4040" y="1197000"/>
                    <a:ext cx="480996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79280" y="549360"/>
          <a:ext cx="6087960" cy="121752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080"/>
                <a:gridCol w="676440"/>
                <a:gridCol w="676080"/>
                <a:gridCol w="676440"/>
                <a:gridCol w="674640"/>
                <a:gridCol w="677880"/>
                <a:gridCol w="67788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-324000" y="1700280"/>
            <a:ext cx="2411280" cy="1439280"/>
            <a:chOff x="-324000" y="1700280"/>
            <a:chExt cx="2411280" cy="1439280"/>
          </a:xfrm>
        </p:grpSpPr>
        <p:sp>
          <p:nvSpPr>
            <p:cNvPr id="341" name=""/>
            <p:cNvSpPr/>
            <p:nvPr/>
          </p:nvSpPr>
          <p:spPr>
            <a:xfrm>
              <a:off x="-324000" y="1700280"/>
              <a:ext cx="241128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311040" y="1809000"/>
                  <a:ext cx="1210680" cy="12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"/>
          <p:cNvGrpSpPr/>
          <p:nvPr/>
        </p:nvGrpSpPr>
        <p:grpSpPr>
          <a:xfrm>
            <a:off x="179280" y="3213000"/>
            <a:ext cx="2016360" cy="936360"/>
            <a:chOff x="179280" y="3213000"/>
            <a:chExt cx="2016360" cy="936360"/>
          </a:xfrm>
        </p:grpSpPr>
        <p:sp>
          <p:nvSpPr>
            <p:cNvPr id="344" name=""/>
            <p:cNvSpPr/>
            <p:nvPr/>
          </p:nvSpPr>
          <p:spPr>
            <a:xfrm>
              <a:off x="597600" y="3213000"/>
              <a:ext cx="15357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179280" y="3381840"/>
                  <a:ext cx="2016360" cy="61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6" name=""/>
          <p:cNvGraphicFramePr/>
          <p:nvPr/>
        </p:nvGraphicFramePr>
        <p:xfrm>
          <a:off x="2411280" y="314172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4600440" y="2841480"/>
            <a:ext cx="3672000" cy="3868920"/>
          </a:xfrm>
          <a:custGeom>
            <a:avLst/>
            <a:gdLst/>
            <a:ahLst/>
            <a:rect l="l" t="t" r="r" b="b"/>
            <a:pathLst>
              <a:path w="2313" h="2437">
                <a:moveTo>
                  <a:pt x="2313" y="2437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5950080"/>
            <a:ext cx="331344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Ответ: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шений нет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6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227640" y="0"/>
            <a:ext cx="2916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4936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48360" y="333360"/>
            <a:ext cx="3671640" cy="3166560"/>
            <a:chOff x="5148360" y="333360"/>
            <a:chExt cx="3671640" cy="3166560"/>
          </a:xfrm>
        </p:grpSpPr>
        <p:sp>
          <p:nvSpPr>
            <p:cNvPr id="353" name=""/>
            <p:cNvSpPr/>
            <p:nvPr/>
          </p:nvSpPr>
          <p:spPr>
            <a:xfrm>
              <a:off x="5148360" y="482760"/>
              <a:ext cx="3671640" cy="29408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5286960" y="333360"/>
                  <a:ext cx="2738520" cy="31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5" name=""/>
          <p:cNvGrpSpPr/>
          <p:nvPr/>
        </p:nvGrpSpPr>
        <p:grpSpPr>
          <a:xfrm>
            <a:off x="179280" y="1989000"/>
            <a:ext cx="2376360" cy="1152360"/>
            <a:chOff x="179280" y="1989000"/>
            <a:chExt cx="2376360" cy="1152360"/>
          </a:xfrm>
        </p:grpSpPr>
        <p:sp>
          <p:nvSpPr>
            <p:cNvPr id="356" name=""/>
            <p:cNvSpPr/>
            <p:nvPr/>
          </p:nvSpPr>
          <p:spPr>
            <a:xfrm>
              <a:off x="672480" y="1989000"/>
              <a:ext cx="18104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179280" y="2234880"/>
                  <a:ext cx="237636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58" name=""/>
          <p:cNvGraphicFramePr/>
          <p:nvPr/>
        </p:nvGraphicFramePr>
        <p:xfrm>
          <a:off x="2700360" y="1989000"/>
          <a:ext cx="2028960" cy="1155600"/>
        </p:xfrm>
        <a:graphic>
          <a:graphicData uri="http://schemas.openxmlformats.org/drawingml/2006/table">
            <a:tbl>
              <a:tblPr/>
              <a:tblGrid>
                <a:gridCol w="674640"/>
                <a:gridCol w="677880"/>
                <a:gridCol w="676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411280" y="3645000"/>
          <a:ext cx="6048000" cy="1217520"/>
        </p:xfrm>
        <a:graphic>
          <a:graphicData uri="http://schemas.openxmlformats.org/drawingml/2006/table">
            <a:tbl>
              <a:tblPr/>
              <a:tblGrid>
                <a:gridCol w="862200"/>
                <a:gridCol w="864000"/>
                <a:gridCol w="864000"/>
                <a:gridCol w="864360"/>
                <a:gridCol w="864000"/>
                <a:gridCol w="862200"/>
                <a:gridCol w="86724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60" name=""/>
          <p:cNvGrpSpPr/>
          <p:nvPr/>
        </p:nvGrpSpPr>
        <p:grpSpPr>
          <a:xfrm>
            <a:off x="0" y="3500280"/>
            <a:ext cx="2411280" cy="1455840"/>
            <a:chOff x="0" y="3500280"/>
            <a:chExt cx="2411280" cy="1455840"/>
          </a:xfrm>
        </p:grpSpPr>
        <p:sp>
          <p:nvSpPr>
            <p:cNvPr id="361" name=""/>
            <p:cNvSpPr/>
            <p:nvPr/>
          </p:nvSpPr>
          <p:spPr>
            <a:xfrm>
              <a:off x="0" y="351612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324000" y="350028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"/>
          <p:cNvGrpSpPr/>
          <p:nvPr/>
        </p:nvGrpSpPr>
        <p:grpSpPr>
          <a:xfrm>
            <a:off x="324000" y="5013360"/>
            <a:ext cx="3168000" cy="1510920"/>
            <a:chOff x="324000" y="5013360"/>
            <a:chExt cx="3168000" cy="1510920"/>
          </a:xfrm>
        </p:grpSpPr>
        <p:sp>
          <p:nvSpPr>
            <p:cNvPr id="364" name=""/>
            <p:cNvSpPr/>
            <p:nvPr/>
          </p:nvSpPr>
          <p:spPr>
            <a:xfrm>
              <a:off x="981360" y="5013360"/>
              <a:ext cx="241344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24000" y="5399280"/>
                  <a:ext cx="316800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4140360" y="5516640"/>
            <a:ext cx="2519280" cy="576360"/>
          </a:xfrm>
          <a:custGeom>
            <a:avLst/>
            <a:gdLst>
              <a:gd name="textAreaLeft" fmla="*/ 37080 w 2519280"/>
              <a:gd name="textAreaRight" fmla="*/ 2482200 w 2519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4369" h="21600">
                <a:moveTo>
                  <a:pt x="0" y="0"/>
                </a:moveTo>
                <a:lnTo>
                  <a:pt x="94369" y="0"/>
                </a:lnTo>
                <a:lnTo>
                  <a:pt x="94369" y="21600"/>
                </a:lnTo>
                <a:lnTo>
                  <a:pt x="0" y="21600"/>
                </a:lnTo>
                <a:close/>
              </a:path>
              <a:path fill="lightenLess" w="94369" h="21600">
                <a:moveTo>
                  <a:pt x="0" y="0"/>
                </a:moveTo>
                <a:lnTo>
                  <a:pt x="94369" y="0"/>
                </a:lnTo>
                <a:lnTo>
                  <a:pt x="92969" y="1400"/>
                </a:lnTo>
                <a:lnTo>
                  <a:pt x="1400" y="1400"/>
                </a:lnTo>
                <a:close/>
              </a:path>
              <a:path fill="darken" w="94369" h="21600">
                <a:moveTo>
                  <a:pt x="94369" y="0"/>
                </a:moveTo>
                <a:lnTo>
                  <a:pt x="94369" y="21600"/>
                </a:lnTo>
                <a:lnTo>
                  <a:pt x="92969" y="20200"/>
                </a:lnTo>
                <a:lnTo>
                  <a:pt x="92969" y="1400"/>
                </a:lnTo>
                <a:close/>
              </a:path>
              <a:path fill="darkenLess" w="94369" h="21600">
                <a:moveTo>
                  <a:pt x="94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969" y="20200"/>
                </a:lnTo>
                <a:close/>
              </a:path>
              <a:path fill="lighten" w="94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дро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2241720" y="3868560"/>
            <a:ext cx="469800" cy="115920"/>
            <a:chOff x="2241720" y="3868560"/>
            <a:chExt cx="469800" cy="115920"/>
          </a:xfrm>
        </p:grpSpPr>
        <p:sp>
          <p:nvSpPr>
            <p:cNvPr id="368" name=""/>
            <p:cNvSpPr/>
            <p:nvPr/>
          </p:nvSpPr>
          <p:spPr>
            <a:xfrm>
              <a:off x="2339280" y="3868560"/>
              <a:ext cx="3578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2241720" y="3898080"/>
                  <a:ext cx="469800" cy="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0" name=""/>
          <p:cNvSpPr/>
          <p:nvPr/>
        </p:nvSpPr>
        <p:spPr>
          <a:xfrm>
            <a:off x="1034640" y="1125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9880" y="1125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0400" y="1628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83160" y="1628640"/>
            <a:ext cx="8006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Графиком функции является  парабола, вет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торой направлены вверх.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11280" y="2924280"/>
                <a:ext cx="1728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771640" y="2924280"/>
                <a:ext cx="1729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932360" y="3068640"/>
                <a:ext cx="4032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10400" y="24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2720" y="24922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дём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14360" y="4221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97280" y="422100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ополнительные т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900000" y="5013360"/>
          <a:ext cx="7710120" cy="1296720"/>
        </p:xfrm>
        <a:graphic>
          <a:graphicData uri="http://schemas.openxmlformats.org/drawingml/2006/table">
            <a:tbl>
              <a:tblPr/>
              <a:tblGrid>
                <a:gridCol w="1099440"/>
                <a:gridCol w="1101240"/>
                <a:gridCol w="1101600"/>
                <a:gridCol w="1101960"/>
                <a:gridCol w="1101240"/>
                <a:gridCol w="1099080"/>
                <a:gridCol w="1105560"/>
              </a:tblGrid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3" name=""/>
          <p:cNvGrpSpPr/>
          <p:nvPr/>
        </p:nvGrpSpPr>
        <p:grpSpPr>
          <a:xfrm>
            <a:off x="2843280" y="0"/>
            <a:ext cx="3168360" cy="1510920"/>
            <a:chOff x="2843280" y="0"/>
            <a:chExt cx="3168360" cy="1510920"/>
          </a:xfrm>
        </p:grpSpPr>
        <p:sp>
          <p:nvSpPr>
            <p:cNvPr id="384" name=""/>
            <p:cNvSpPr/>
            <p:nvPr/>
          </p:nvSpPr>
          <p:spPr>
            <a:xfrm>
              <a:off x="3500640" y="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843280" y="385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6156360" y="3716280"/>
            <a:ext cx="2232000" cy="649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800"/>
                            </p:stCondLst>
                            <p:childTnLst>
                              <p:par>
                                <p:cTn id="11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0" y="0"/>
          <a:ext cx="6418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418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9" name=""/>
          <p:cNvGrpSpPr/>
          <p:nvPr/>
        </p:nvGrpSpPr>
        <p:grpSpPr>
          <a:xfrm>
            <a:off x="6732720" y="2060640"/>
            <a:ext cx="2411280" cy="1455840"/>
            <a:chOff x="6732720" y="2060640"/>
            <a:chExt cx="2411280" cy="1455840"/>
          </a:xfrm>
        </p:grpSpPr>
        <p:sp>
          <p:nvSpPr>
            <p:cNvPr id="390" name=""/>
            <p:cNvSpPr/>
            <p:nvPr/>
          </p:nvSpPr>
          <p:spPr>
            <a:xfrm>
              <a:off x="6732720" y="2076480"/>
              <a:ext cx="24112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7056720" y="2060640"/>
                  <a:ext cx="1726920" cy="13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"/>
          <p:cNvGrpSpPr/>
          <p:nvPr/>
        </p:nvGrpSpPr>
        <p:grpSpPr>
          <a:xfrm>
            <a:off x="6516720" y="3716280"/>
            <a:ext cx="2376000" cy="1152360"/>
            <a:chOff x="6516720" y="3716280"/>
            <a:chExt cx="2376000" cy="1152360"/>
          </a:xfrm>
        </p:grpSpPr>
        <p:sp>
          <p:nvSpPr>
            <p:cNvPr id="393" name=""/>
            <p:cNvSpPr/>
            <p:nvPr/>
          </p:nvSpPr>
          <p:spPr>
            <a:xfrm>
              <a:off x="7009560" y="3716280"/>
              <a:ext cx="18100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6516720" y="3962160"/>
                  <a:ext cx="237600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95" name=""/>
          <p:cNvGraphicFramePr/>
          <p:nvPr/>
        </p:nvGraphicFramePr>
        <p:xfrm>
          <a:off x="0" y="0"/>
          <a:ext cx="644364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644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2627280" y="-458640"/>
            <a:ext cx="2521080" cy="4292280"/>
          </a:xfrm>
          <a:custGeom>
            <a:avLst/>
            <a:gdLst/>
            <a:ahLst/>
            <a:rect l="l" t="t" r="r" b="b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975280" y="189000"/>
            <a:ext cx="3168360" cy="1510920"/>
            <a:chOff x="5975280" y="189000"/>
            <a:chExt cx="3168360" cy="1510920"/>
          </a:xfrm>
        </p:grpSpPr>
        <p:sp>
          <p:nvSpPr>
            <p:cNvPr id="399" name=""/>
            <p:cNvSpPr/>
            <p:nvPr/>
          </p:nvSpPr>
          <p:spPr>
            <a:xfrm>
              <a:off x="6632640" y="189000"/>
              <a:ext cx="24138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5975280" y="574920"/>
                  <a:ext cx="3168360" cy="76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1" name=""/>
          <p:cNvSpPr/>
          <p:nvPr/>
        </p:nvSpPr>
        <p:spPr>
          <a:xfrm>
            <a:off x="2011320" y="141120"/>
            <a:ext cx="3460680" cy="6653520"/>
          </a:xfrm>
          <a:custGeom>
            <a:avLst/>
            <a:gdLst/>
            <a:ahLst/>
            <a:rect l="l" t="t" r="r" b="b"/>
            <a:pathLst>
              <a:path w="2180" h="4191">
                <a:moveTo>
                  <a:pt x="2180" y="419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378936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37080" y="3933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00720" y="5516640"/>
            <a:ext cx="3529080" cy="649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;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 flipH="1">
            <a:off x="250560" y="4581360"/>
            <a:ext cx="863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724360" y="476280"/>
            <a:ext cx="2950920" cy="1657080"/>
            <a:chOff x="5724360" y="476280"/>
            <a:chExt cx="2950920" cy="1657080"/>
          </a:xfrm>
        </p:grpSpPr>
        <p:sp>
          <p:nvSpPr>
            <p:cNvPr id="409" name=""/>
            <p:cNvSpPr/>
            <p:nvPr/>
          </p:nvSpPr>
          <p:spPr>
            <a:xfrm>
              <a:off x="5724360" y="476280"/>
              <a:ext cx="2950920" cy="163908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"/>
                <p:cNvSpPr txBox="1"/>
                <p:nvPr/>
              </p:nvSpPr>
              <p:spPr>
                <a:xfrm>
                  <a:off x="5798160" y="480960"/>
                  <a:ext cx="28425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11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1351080" y="2082960"/>
            <a:ext cx="2428920" cy="4343400"/>
          </a:xfrm>
          <a:custGeom>
            <a:avLst/>
            <a:gdLst/>
            <a:ahLst/>
            <a:rect l="l" t="t" r="r" b="b"/>
            <a:pathLst>
              <a:path w="1530" h="2736">
                <a:moveTo>
                  <a:pt x="0" y="0"/>
                </a:moveTo>
                <a:cubicBezTo>
                  <a:pt x="23" y="143"/>
                  <a:pt x="104" y="642"/>
                  <a:pt x="141" y="859"/>
                </a:cubicBezTo>
                <a:cubicBezTo>
                  <a:pt x="178" y="1076"/>
                  <a:pt x="194" y="1166"/>
                  <a:pt x="221" y="1302"/>
                </a:cubicBezTo>
                <a:cubicBezTo>
                  <a:pt x="248" y="1438"/>
                  <a:pt x="274" y="1548"/>
                  <a:pt x="301" y="1674"/>
                </a:cubicBezTo>
                <a:cubicBezTo>
                  <a:pt x="328" y="1800"/>
                  <a:pt x="344" y="1924"/>
                  <a:pt x="381" y="2058"/>
                </a:cubicBezTo>
                <a:cubicBezTo>
                  <a:pt x="418" y="2192"/>
                  <a:pt x="481" y="2377"/>
                  <a:pt x="523" y="2477"/>
                </a:cubicBezTo>
                <a:cubicBezTo>
                  <a:pt x="565" y="2578"/>
                  <a:pt x="592" y="2619"/>
                  <a:pt x="632" y="2662"/>
                </a:cubicBezTo>
                <a:cubicBezTo>
                  <a:pt x="672" y="2705"/>
                  <a:pt x="722" y="2736"/>
                  <a:pt x="763" y="2736"/>
                </a:cubicBezTo>
                <a:cubicBezTo>
                  <a:pt x="805" y="2736"/>
                  <a:pt x="839" y="2715"/>
                  <a:pt x="883" y="2662"/>
                </a:cubicBezTo>
                <a:cubicBezTo>
                  <a:pt x="928" y="2609"/>
                  <a:pt x="988" y="2512"/>
                  <a:pt x="1031" y="2416"/>
                </a:cubicBezTo>
                <a:cubicBezTo>
                  <a:pt x="1074" y="2319"/>
                  <a:pt x="1109" y="2191"/>
                  <a:pt x="1140" y="2083"/>
                </a:cubicBezTo>
                <a:cubicBezTo>
                  <a:pt x="1171" y="1975"/>
                  <a:pt x="1193" y="1872"/>
                  <a:pt x="1217" y="1769"/>
                </a:cubicBezTo>
                <a:cubicBezTo>
                  <a:pt x="1240" y="1666"/>
                  <a:pt x="1261" y="1567"/>
                  <a:pt x="1282" y="1467"/>
                </a:cubicBezTo>
                <a:cubicBezTo>
                  <a:pt x="1303" y="1367"/>
                  <a:pt x="1321" y="1280"/>
                  <a:pt x="1342" y="1171"/>
                </a:cubicBezTo>
                <a:cubicBezTo>
                  <a:pt x="1363" y="1063"/>
                  <a:pt x="1376" y="1004"/>
                  <a:pt x="1408" y="814"/>
                </a:cubicBezTo>
                <a:cubicBezTo>
                  <a:pt x="1439" y="625"/>
                  <a:pt x="1505" y="199"/>
                  <a:pt x="1530" y="37"/>
                </a:cubicBezTo>
              </a:path>
            </a:pathLst>
          </a:custGeom>
          <a:noFill/>
          <a:ln w="54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35280" y="2637000"/>
            <a:ext cx="1447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4328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124000" y="595008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03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64000" y="3645000"/>
            <a:ext cx="4104000" cy="100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3; 4); (3; 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-1; 4,9);  (1; 4,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9360" y="1484280"/>
          <a:ext cx="524052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484280"/>
                    <a:ext cx="524052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5651640" y="476280"/>
            <a:ext cx="3312720" cy="1728360"/>
            <a:chOff x="5651640" y="476280"/>
            <a:chExt cx="3312720" cy="1728360"/>
          </a:xfrm>
        </p:grpSpPr>
        <p:sp>
          <p:nvSpPr>
            <p:cNvPr id="428" name=""/>
            <p:cNvSpPr/>
            <p:nvPr/>
          </p:nvSpPr>
          <p:spPr>
            <a:xfrm>
              <a:off x="5651640" y="476280"/>
              <a:ext cx="3312720" cy="170964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6060240" y="480960"/>
                  <a:ext cx="2539080" cy="17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х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30" name=""/>
          <p:cNvGraphicFramePr/>
          <p:nvPr/>
        </p:nvGraphicFramePr>
        <p:xfrm>
          <a:off x="0" y="1484280"/>
          <a:ext cx="524196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241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1835280" y="1341360"/>
            <a:ext cx="1441440" cy="5516640"/>
          </a:xfrm>
          <a:custGeom>
            <a:avLst/>
            <a:gdLst/>
            <a:ahLst/>
            <a:rect l="l" t="t" r="r" b="b"/>
            <a:pathLst>
              <a:path w="2946" h="12471">
                <a:moveTo>
                  <a:pt x="2946" y="0"/>
                </a:moveTo>
                <a:lnTo>
                  <a:pt x="2670" y="2901"/>
                </a:lnTo>
                <a:lnTo>
                  <a:pt x="2505" y="4176"/>
                </a:lnTo>
                <a:lnTo>
                  <a:pt x="2340" y="5136"/>
                </a:lnTo>
                <a:lnTo>
                  <a:pt x="2145" y="5826"/>
                </a:lnTo>
                <a:lnTo>
                  <a:pt x="2040" y="6111"/>
                </a:lnTo>
                <a:lnTo>
                  <a:pt x="1890" y="6321"/>
                </a:lnTo>
                <a:lnTo>
                  <a:pt x="1770" y="6441"/>
                </a:lnTo>
                <a:lnTo>
                  <a:pt x="1635" y="6501"/>
                </a:lnTo>
                <a:lnTo>
                  <a:pt x="1230" y="6531"/>
                </a:lnTo>
                <a:lnTo>
                  <a:pt x="1065" y="6621"/>
                </a:lnTo>
                <a:lnTo>
                  <a:pt x="975" y="6696"/>
                </a:lnTo>
                <a:lnTo>
                  <a:pt x="855" y="6936"/>
                </a:lnTo>
                <a:lnTo>
                  <a:pt x="720" y="7281"/>
                </a:lnTo>
                <a:lnTo>
                  <a:pt x="540" y="7971"/>
                </a:lnTo>
                <a:lnTo>
                  <a:pt x="390" y="8811"/>
                </a:lnTo>
                <a:lnTo>
                  <a:pt x="255" y="10101"/>
                </a:lnTo>
                <a:lnTo>
                  <a:pt x="0" y="12471"/>
                </a:lnTo>
              </a:path>
            </a:pathLst>
          </a:custGeom>
          <a:noFill/>
          <a:ln w="4752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шений 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40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0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4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724360" y="0"/>
            <a:ext cx="3419640" cy="404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260280"/>
            <a:ext cx="5313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Решить графическ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систему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832360" y="476280"/>
            <a:ext cx="3311640" cy="1728360"/>
            <a:chOff x="5832360" y="476280"/>
            <a:chExt cx="3311640" cy="1728360"/>
          </a:xfrm>
        </p:grpSpPr>
        <p:sp>
          <p:nvSpPr>
            <p:cNvPr id="439" name=""/>
            <p:cNvSpPr/>
            <p:nvPr/>
          </p:nvSpPr>
          <p:spPr>
            <a:xfrm>
              <a:off x="5832360" y="476280"/>
              <a:ext cx="3311640" cy="172836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5976360" y="496800"/>
                  <a:ext cx="2878200" cy="166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х</m:t>
                                  </m:r>
                                </m:e>
                              </m:d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1" name=""/>
          <p:cNvGraphicFramePr/>
          <p:nvPr/>
        </p:nvGraphicFramePr>
        <p:xfrm>
          <a:off x="0" y="1484280"/>
          <a:ext cx="50133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5013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0" y="1484280"/>
          <a:ext cx="5014800" cy="537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501480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1154160" y="1519200"/>
            <a:ext cx="2616120" cy="2560680"/>
          </a:xfrm>
          <a:custGeom>
            <a:avLst/>
            <a:gdLst/>
            <a:ahLst/>
            <a:rect l="l" t="t" r="r" b="b"/>
            <a:pathLst>
              <a:path w="1648" h="1613">
                <a:moveTo>
                  <a:pt x="0" y="18"/>
                </a:moveTo>
                <a:lnTo>
                  <a:pt x="815" y="1613"/>
                </a:lnTo>
                <a:lnTo>
                  <a:pt x="1648" y="0"/>
                </a:lnTo>
              </a:path>
            </a:pathLst>
          </a:custGeom>
          <a:noFill/>
          <a:ln w="475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2637000"/>
            <a:ext cx="14436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88000" y="2276640"/>
            <a:ext cx="2303640" cy="647640"/>
          </a:xfrm>
          <a:custGeom>
            <a:avLst/>
            <a:gdLst>
              <a:gd name="textAreaLeft" fmla="*/ 41760 w 2303640"/>
              <a:gd name="textAreaRight" fmla="*/ 2261880 w 230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6800" h="21600">
                <a:moveTo>
                  <a:pt x="0" y="0"/>
                </a:moveTo>
                <a:lnTo>
                  <a:pt x="76800" y="0"/>
                </a:lnTo>
                <a:lnTo>
                  <a:pt x="76800" y="21600"/>
                </a:lnTo>
                <a:lnTo>
                  <a:pt x="0" y="21600"/>
                </a:lnTo>
                <a:close/>
              </a:path>
              <a:path fill="lightenLess" w="76800" h="21600">
                <a:moveTo>
                  <a:pt x="0" y="0"/>
                </a:moveTo>
                <a:lnTo>
                  <a:pt x="76800" y="0"/>
                </a:lnTo>
                <a:lnTo>
                  <a:pt x="75400" y="1400"/>
                </a:lnTo>
                <a:lnTo>
                  <a:pt x="1400" y="1400"/>
                </a:lnTo>
                <a:close/>
              </a:path>
              <a:path fill="darken" w="76800" h="21600">
                <a:moveTo>
                  <a:pt x="76800" y="0"/>
                </a:moveTo>
                <a:lnTo>
                  <a:pt x="76800" y="21600"/>
                </a:lnTo>
                <a:lnTo>
                  <a:pt x="75400" y="20200"/>
                </a:lnTo>
                <a:lnTo>
                  <a:pt x="75400" y="1400"/>
                </a:lnTo>
                <a:close/>
              </a:path>
              <a:path fill="darkenLess" w="76800" h="21600">
                <a:moveTo>
                  <a:pt x="7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00" y="20200"/>
                </a:lnTo>
                <a:close/>
              </a:path>
              <a:path fill="lighten" w="7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ровер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35640" y="3573360"/>
            <a:ext cx="4103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твет: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; 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802800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графика  </a:t>
            </a:r>
            <a:br>
              <a:rPr sz="3600"/>
            </a:b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линейной  функции.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2708280"/>
          <a:ext cx="511164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708280"/>
                    <a:ext cx="511164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284720" y="4437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587700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659640" y="2708280"/>
          <a:ext cx="1593720" cy="2448000"/>
        </p:xfrm>
        <a:graphic>
          <a:graphicData uri="http://schemas.openxmlformats.org/drawingml/2006/table">
            <a:tbl>
              <a:tblPr/>
              <a:tblGrid>
                <a:gridCol w="797040"/>
                <a:gridCol w="796680"/>
              </a:tblGrid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 txBox="1"/>
          <p:nvPr/>
        </p:nvSpPr>
        <p:spPr>
          <a:xfrm rot="5400000">
            <a:off x="-1909440" y="414900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рямая  линия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4842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ах +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9200" y="2058840"/>
            <a:ext cx="74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86760" y="4797360"/>
            <a:ext cx="95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5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Georgia"/>
              </a:rPr>
              <a:t>Построение  графика функции  обратной  пропорцион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2276640"/>
          <a:ext cx="30369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30369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417200" y="1989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84840" y="358776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37720" y="35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7880" y="6035760"/>
            <a:ext cx="37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значений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 rot="5400000">
            <a:off x="-1544400" y="4433760"/>
            <a:ext cx="4103640" cy="366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Гипербола.</a:t>
            </a:r>
            <a:endParaRPr b="1" i="1" lang="en-US" sz="20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557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97960" y="488484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98320" y="54594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42920" y="2349360"/>
          <a:ext cx="2987640" cy="450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349360"/>
                    <a:ext cx="298764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510800" y="602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12200" y="2060640"/>
            <a:ext cx="41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действительное числ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роме н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 flipH="1">
            <a:off x="899640" y="4797360"/>
            <a:ext cx="8780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5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6443640" y="907920"/>
            <a:ext cx="2336760" cy="1008360"/>
            <a:chOff x="6443640" y="907920"/>
            <a:chExt cx="2336760" cy="1008360"/>
          </a:xfrm>
        </p:grpSpPr>
        <p:sp>
          <p:nvSpPr>
            <p:cNvPr id="157" name=""/>
            <p:cNvSpPr/>
            <p:nvPr/>
          </p:nvSpPr>
          <p:spPr>
            <a:xfrm>
              <a:off x="6537960" y="907920"/>
              <a:ext cx="221184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443640" y="907920"/>
                  <a:ext cx="2336760" cy="100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"/>
          <p:cNvSpPr/>
          <p:nvPr/>
        </p:nvSpPr>
        <p:spPr>
          <a:xfrm>
            <a:off x="1065960" y="40464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6800" y="17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9200" y="170028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120" y="22622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5360" y="3573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gt; 0 – I  u  III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5360" y="414828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k  &lt; 0 – II  u  IV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51280" y="2637000"/>
          <a:ext cx="23335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637000"/>
                    <a:ext cx="2333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40080" y="2276640"/>
            <a:ext cx="40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,  в  ка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четвертях 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афик 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588000" y="2637000"/>
          <a:ext cx="233388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2637000"/>
                    <a:ext cx="2333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03280" y="4941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таблицу  значени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120" y="494172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8186760" y="2133720"/>
            <a:ext cx="957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5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5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800"/>
                            </p:stCondLst>
                            <p:childTnLst>
                              <p:par>
                                <p:cTn id="2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38960" y="476280"/>
            <a:ext cx="68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Построение 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11600" y="1052640"/>
          <a:ext cx="54324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1600" y="1052640"/>
                    <a:ext cx="54324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710160" y="1052640"/>
          <a:ext cx="5433840" cy="58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0160" y="1052640"/>
                    <a:ext cx="54338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71600" y="2276640"/>
            <a:ext cx="41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радиус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981000"/>
            <a:ext cx="4897440" cy="863640"/>
            <a:chOff x="250920" y="981000"/>
            <a:chExt cx="4897440" cy="863640"/>
          </a:xfrm>
        </p:grpSpPr>
        <p:sp>
          <p:nvSpPr>
            <p:cNvPr id="184" name=""/>
            <p:cNvSpPr/>
            <p:nvPr/>
          </p:nvSpPr>
          <p:spPr>
            <a:xfrm>
              <a:off x="1999440" y="1004400"/>
              <a:ext cx="1440720" cy="72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250920" y="981000"/>
                  <a:ext cx="48974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у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366480" y="3068640"/>
            <a:ext cx="3862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–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центра 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40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9880" y="1413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0400" y="1916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4640" y="1557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х – любое действительн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"/>
                            </p:stCondLst>
                            <p:childTnLst>
                              <p:par>
                                <p:cTn id="4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44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012000" y="2276640"/>
            <a:ext cx="14040" cy="4098600"/>
          </a:xfrm>
          <a:custGeom>
            <a:avLst/>
            <a:gdLst/>
            <a:ahLst/>
            <a:rect l="l" t="t" r="r" b="b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950"/>
                            </p:stCondLst>
                            <p:childTnLst>
                              <p:par>
                                <p:cTn id="5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99160" y="2590920"/>
            <a:ext cx="1800" cy="3962160"/>
          </a:xfrm>
          <a:custGeom>
            <a:avLst/>
            <a:gdLst/>
            <a:ahLst/>
            <a:rect l="l" t="t" r="r" b="b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00007d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00007d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00007d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45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11280" y="2924280"/>
          <a:ext cx="3960720" cy="1225080"/>
        </p:xfrm>
        <a:graphic>
          <a:graphicData uri="http://schemas.openxmlformats.org/drawingml/2006/table">
            <a:tbl>
              <a:tblPr/>
              <a:tblGrid>
                <a:gridCol w="792360"/>
                <a:gridCol w="792360"/>
                <a:gridCol w="792360"/>
                <a:gridCol w="791280"/>
                <a:gridCol w="79236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7080" y="2637000"/>
            <a:ext cx="1440" cy="3825720"/>
          </a:xfrm>
          <a:custGeom>
            <a:avLst/>
            <a:gdLst/>
            <a:ahLst/>
            <a:rect l="l" t="t" r="r" b="b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35640" y="0"/>
            <a:ext cx="2808360" cy="43164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50000">
                <a:srgbClr val="fefefe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Georgia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 flipH="1">
            <a:off x="684360" y="4508640"/>
            <a:ext cx="86328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400"/>
                            </p:stCondLst>
                            <p:childTnLst>
                              <p:par>
                                <p:cTn id="7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2:32:33Z</dcterms:created>
  <dc:creator>мама</dc:creator>
  <dc:description/>
  <dc:language>en-US</dc:language>
  <cp:lastModifiedBy>Admin</cp:lastModifiedBy>
  <dcterms:modified xsi:type="dcterms:W3CDTF">2010-06-13T04:41:34Z</dcterms:modified>
  <cp:revision>25</cp:revision>
  <dc:subject/>
  <dc:title>Повторение. «Функции и графики».</dc:title>
</cp:coreProperties>
</file>