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034-6C54-432C-9551-BBBA50CF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A81-ED33-4741-88F0-3FEE9D4D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B59-88B1-4B6D-9A39-B4D8E1DE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646-4ABB-496B-8E0A-0EB18B7B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F30-1C81-4D0B-99E5-B7A2D7DC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041-EB20-452A-939D-ADEA7FA0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D84-5411-4DD3-B97D-DD034A0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EFF-20F1-4CE2-993A-9B8AB95A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3F4-FB70-4393-83F2-92B8652C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953-29D5-4044-B05B-6DAAB2C6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F78-FBB2-4F2B-AF3A-704AEF0B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FBB-6912-45BA-A3A3-BE3772EB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B4BF-EAA5-44DC-BCCF-94D3AE4E0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306400">
            <a:off x="5940360" y="4365360"/>
            <a:ext cx="1214640" cy="1800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04000" y="765000"/>
            <a:ext cx="1214640" cy="1224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985680"/>
            <a:ext cx="5688000" cy="301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чения многогранник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584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340000" y="4435200"/>
            <a:ext cx="371520" cy="64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1476000" y="4417560"/>
            <a:ext cx="863640" cy="638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92360" y="4435200"/>
            <a:ext cx="865080" cy="505080"/>
            <a:chOff x="1692360" y="4435200"/>
            <a:chExt cx="865080" cy="505080"/>
          </a:xfrm>
        </p:grpSpPr>
        <p:sp>
          <p:nvSpPr>
            <p:cNvPr id="48" name=""/>
            <p:cNvSpPr/>
            <p:nvPr/>
          </p:nvSpPr>
          <p:spPr>
            <a:xfrm flipV="1">
              <a:off x="2124000" y="4435560"/>
              <a:ext cx="289080" cy="43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981080" y="4435200"/>
              <a:ext cx="216000" cy="289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836720" y="4435560"/>
              <a:ext cx="216000" cy="217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1692360" y="4435200"/>
              <a:ext cx="73080" cy="73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268720" y="4435560"/>
              <a:ext cx="288720" cy="504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03280" y="4435560"/>
            <a:ext cx="1297080" cy="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51664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551664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484360" y="5516640"/>
            <a:ext cx="719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00000" y="328464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123640" y="3284640"/>
            <a:ext cx="107964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28464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436392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436392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501156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12920" y="39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26000" y="395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65640" y="495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49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492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8598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 для самостоятельного решения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ота в групп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79280" y="2060280"/>
            <a:ext cx="4753080" cy="2808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задач 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решений (чертеж на дос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способов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с помощью презент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4360" y="5248440"/>
            <a:ext cx="770400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а № 6           Задача № 7          Задача № 8              Задача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700360" y="407664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284720" y="4076640"/>
            <a:ext cx="7189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700360" y="184464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3924360" y="1844640"/>
            <a:ext cx="107928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24360" y="184464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00720" y="3068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80000" y="4292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249228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21201000">
            <a:off x="2270520" y="39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05280" y="14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84720" y="5084640"/>
            <a:ext cx="5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9440" y="234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87840" y="29131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4520" y="4003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3528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924360" y="4292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00360" y="407664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7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40200" y="208080"/>
            <a:ext cx="577980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2627280" y="2278080"/>
            <a:ext cx="2665440" cy="2663640"/>
            <a:chOff x="2627280" y="2278080"/>
            <a:chExt cx="2665440" cy="2663640"/>
          </a:xfrm>
        </p:grpSpPr>
        <p:sp>
          <p:nvSpPr>
            <p:cNvPr id="419" name=""/>
            <p:cNvSpPr/>
            <p:nvPr/>
          </p:nvSpPr>
          <p:spPr>
            <a:xfrm>
              <a:off x="2627280" y="227808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27280" y="400500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2728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76720" y="2278080"/>
              <a:ext cx="0" cy="1726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2720" y="2278080"/>
              <a:ext cx="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364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27280" y="4941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643640" y="4004640"/>
              <a:ext cx="64908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933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24360" y="220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79840" y="222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48704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617640" y="1768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41640" y="291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1640" y="5008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24360" y="2205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3236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371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2637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76720" y="48704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9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27280" y="260280"/>
            <a:ext cx="6357960" cy="916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176560" y="65160"/>
            <a:ext cx="696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3059280" y="1341360"/>
            <a:ext cx="2665080" cy="4824000"/>
            <a:chOff x="3059280" y="1341360"/>
            <a:chExt cx="2665080" cy="4824000"/>
          </a:xfrm>
        </p:grpSpPr>
        <p:sp>
          <p:nvSpPr>
            <p:cNvPr id="444" name=""/>
            <p:cNvSpPr/>
            <p:nvPr/>
          </p:nvSpPr>
          <p:spPr>
            <a:xfrm>
              <a:off x="3059280" y="1341360"/>
              <a:ext cx="2665080" cy="1693080"/>
            </a:xfrm>
            <a:prstGeom prst="parallelogram">
              <a:avLst>
                <a:gd name="adj" fmla="val 3935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59280" y="4468680"/>
              <a:ext cx="2665080" cy="1693800"/>
            </a:xfrm>
            <a:prstGeom prst="parallelogram">
              <a:avLst>
                <a:gd name="adj" fmla="val 39336"/>
              </a:avLst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59280" y="303444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08000" y="1341360"/>
              <a:ext cx="0" cy="3127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24360" y="1341360"/>
              <a:ext cx="0" cy="31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074920" y="303444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9280" y="616536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074920" y="4468680"/>
              <a:ext cx="649080" cy="169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003640" y="515772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51640" y="2854440"/>
            <a:ext cx="1425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635280" y="35020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33640" y="3063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59280" y="2819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94000" y="481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9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900000" y="2565360"/>
            <a:ext cx="2303640" cy="3168720"/>
            <a:chOff x="900000" y="2565360"/>
            <a:chExt cx="2303640" cy="3168720"/>
          </a:xfrm>
        </p:grpSpPr>
        <p:sp>
          <p:nvSpPr>
            <p:cNvPr id="461" name=""/>
            <p:cNvSpPr/>
            <p:nvPr/>
          </p:nvSpPr>
          <p:spPr>
            <a:xfrm flipV="1">
              <a:off x="2484360" y="4797360"/>
              <a:ext cx="7192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900000" y="2565360"/>
              <a:ext cx="2303640" cy="3168720"/>
              <a:chOff x="900000" y="2565360"/>
              <a:chExt cx="2303640" cy="3168720"/>
            </a:xfrm>
          </p:grpSpPr>
          <p:sp>
            <p:nvSpPr>
              <p:cNvPr id="463" name=""/>
              <p:cNvSpPr/>
              <p:nvPr/>
            </p:nvSpPr>
            <p:spPr>
              <a:xfrm>
                <a:off x="900000" y="4797360"/>
                <a:ext cx="230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00000" y="4797360"/>
                <a:ext cx="1584360" cy="93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900000" y="2565360"/>
                <a:ext cx="122400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2123640" y="2565360"/>
                <a:ext cx="107964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24000" y="2565360"/>
                <a:ext cx="360360" cy="316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1403280" y="3645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00360" y="47242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40000" y="501336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33440" y="3116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10000" y="4214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33640" y="4863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4784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84560" y="208080"/>
            <a:ext cx="5635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V="1">
            <a:off x="3059280" y="3932280"/>
            <a:ext cx="417672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2347920"/>
            <a:ext cx="3168360" cy="1946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376520" y="2492280"/>
            <a:ext cx="55548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206520" y="1916280"/>
            <a:ext cx="476280" cy="30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276720" y="2589120"/>
            <a:ext cx="1655640" cy="1873440"/>
            <a:chOff x="3276720" y="2589120"/>
            <a:chExt cx="1655640" cy="1873440"/>
          </a:xfrm>
        </p:grpSpPr>
        <p:sp>
          <p:nvSpPr>
            <p:cNvPr id="482" name=""/>
            <p:cNvSpPr/>
            <p:nvPr/>
          </p:nvSpPr>
          <p:spPr>
            <a:xfrm flipV="1">
              <a:off x="3276720" y="4216320"/>
              <a:ext cx="1655640" cy="21600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515040" y="2662200"/>
              <a:ext cx="287280" cy="287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515040" y="2804760"/>
              <a:ext cx="431640" cy="360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441960" y="2878200"/>
              <a:ext cx="64908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41960" y="2949480"/>
              <a:ext cx="792000" cy="720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370320" y="3020760"/>
              <a:ext cx="1008000" cy="93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370320" y="3093480"/>
              <a:ext cx="1152720" cy="1079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370320" y="3238200"/>
              <a:ext cx="1224000" cy="1150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586320" y="3381480"/>
              <a:ext cx="1079640" cy="1008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873600" y="3596760"/>
              <a:ext cx="865080" cy="792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449600" y="3957480"/>
              <a:ext cx="360360" cy="360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4320" y="3165480"/>
              <a:ext cx="287280" cy="1081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299040" y="2589120"/>
              <a:ext cx="287280" cy="187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4221000" y="3813120"/>
              <a:ext cx="515880" cy="488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57600" y="2589120"/>
              <a:ext cx="1008360" cy="57636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700360" y="40640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0360" y="407664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284720" y="4076640"/>
            <a:ext cx="7189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700360" y="184464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924360" y="1844640"/>
            <a:ext cx="107928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24360" y="184464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00720" y="3068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80000" y="4292640"/>
            <a:ext cx="14256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92360" y="249228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21201000">
            <a:off x="2270520" y="39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05280" y="14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05800" y="3571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84720" y="5084640"/>
            <a:ext cx="5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89440" y="234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87840" y="29131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94520" y="4003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933880" y="3660840"/>
            <a:ext cx="333000" cy="485640"/>
            <a:chOff x="5933880" y="3660840"/>
            <a:chExt cx="333000" cy="485640"/>
          </a:xfrm>
        </p:grpSpPr>
        <p:sp>
          <p:nvSpPr>
            <p:cNvPr id="514" name=""/>
            <p:cNvSpPr/>
            <p:nvPr/>
          </p:nvSpPr>
          <p:spPr>
            <a:xfrm>
              <a:off x="6011640" y="4003560"/>
              <a:ext cx="142920" cy="142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33880" y="3660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743720" y="4130640"/>
            <a:ext cx="345240" cy="512640"/>
            <a:chOff x="4743720" y="4130640"/>
            <a:chExt cx="345240" cy="512640"/>
          </a:xfrm>
        </p:grpSpPr>
        <p:sp>
          <p:nvSpPr>
            <p:cNvPr id="517" name=""/>
            <p:cNvSpPr/>
            <p:nvPr/>
          </p:nvSpPr>
          <p:spPr>
            <a:xfrm>
              <a:off x="4743720" y="4275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13200" y="4130640"/>
              <a:ext cx="14292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157560" y="4363920"/>
            <a:ext cx="358920" cy="512640"/>
            <a:chOff x="3157560" y="4363920"/>
            <a:chExt cx="358920" cy="512640"/>
          </a:xfrm>
        </p:grpSpPr>
        <p:sp>
          <p:nvSpPr>
            <p:cNvPr id="520" name=""/>
            <p:cNvSpPr/>
            <p:nvPr/>
          </p:nvSpPr>
          <p:spPr>
            <a:xfrm>
              <a:off x="3157560" y="4508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27400" y="4363920"/>
              <a:ext cx="14292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63528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924360" y="42926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00360" y="407664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7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0200" y="208080"/>
            <a:ext cx="5779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006160" y="5681520"/>
            <a:ext cx="20811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"/>
          <p:cNvGrpSpPr/>
          <p:nvPr/>
        </p:nvGrpSpPr>
        <p:grpSpPr>
          <a:xfrm>
            <a:off x="2627280" y="2278080"/>
            <a:ext cx="2665440" cy="2663640"/>
            <a:chOff x="2627280" y="2278080"/>
            <a:chExt cx="2665440" cy="2663640"/>
          </a:xfrm>
        </p:grpSpPr>
        <p:sp>
          <p:nvSpPr>
            <p:cNvPr id="530" name=""/>
            <p:cNvSpPr/>
            <p:nvPr/>
          </p:nvSpPr>
          <p:spPr>
            <a:xfrm>
              <a:off x="2627280" y="227808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27280" y="4005000"/>
              <a:ext cx="2665440" cy="934920"/>
            </a:xfrm>
            <a:prstGeom prst="parallelogram">
              <a:avLst>
                <a:gd name="adj" fmla="val 71275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728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76720" y="2278080"/>
              <a:ext cx="0" cy="1726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92720" y="2278080"/>
              <a:ext cx="0" cy="17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43640" y="3213000"/>
              <a:ext cx="0" cy="172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27280" y="4941720"/>
              <a:ext cx="20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643640" y="4004640"/>
              <a:ext cx="64908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4933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24360" y="220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679840" y="222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76720" y="48704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18000" y="179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42000" y="294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42000" y="503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64000" y="2133720"/>
            <a:ext cx="3887640" cy="1512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227640" y="2657520"/>
            <a:ext cx="458640" cy="605880"/>
            <a:chOff x="6227640" y="2657520"/>
            <a:chExt cx="458640" cy="605880"/>
          </a:xfrm>
        </p:grpSpPr>
        <p:sp>
          <p:nvSpPr>
            <p:cNvPr id="547" name=""/>
            <p:cNvSpPr/>
            <p:nvPr/>
          </p:nvSpPr>
          <p:spPr>
            <a:xfrm>
              <a:off x="6227640" y="3141360"/>
              <a:ext cx="144720" cy="122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53280" y="2657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V="1">
            <a:off x="3059280" y="2854440"/>
            <a:ext cx="3817800" cy="2303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227480" y="4149720"/>
            <a:ext cx="488880" cy="655560"/>
            <a:chOff x="4227480" y="4149720"/>
            <a:chExt cx="488880" cy="655560"/>
          </a:xfrm>
        </p:grpSpPr>
        <p:sp>
          <p:nvSpPr>
            <p:cNvPr id="551" name=""/>
            <p:cNvSpPr/>
            <p:nvPr/>
          </p:nvSpPr>
          <p:spPr>
            <a:xfrm>
              <a:off x="4572000" y="4149720"/>
              <a:ext cx="1443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27480" y="4437000"/>
              <a:ext cx="2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 flipH="1">
            <a:off x="4373280" y="1557360"/>
            <a:ext cx="919080" cy="3672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050920" y="4365720"/>
            <a:ext cx="2881440" cy="122400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700360" y="4294080"/>
            <a:ext cx="603000" cy="431280"/>
            <a:chOff x="2700360" y="4294080"/>
            <a:chExt cx="603000" cy="431280"/>
          </a:xfrm>
        </p:grpSpPr>
        <p:sp>
          <p:nvSpPr>
            <p:cNvPr id="556" name=""/>
            <p:cNvSpPr/>
            <p:nvPr/>
          </p:nvSpPr>
          <p:spPr>
            <a:xfrm>
              <a:off x="2700360" y="4597920"/>
              <a:ext cx="144720" cy="127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70360" y="4294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flipH="1">
            <a:off x="2626920" y="1989000"/>
            <a:ext cx="865080" cy="331164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916360" y="2349360"/>
            <a:ext cx="2016000" cy="2520720"/>
            <a:chOff x="2916360" y="2349360"/>
            <a:chExt cx="2016000" cy="2520720"/>
          </a:xfrm>
        </p:grpSpPr>
        <p:sp>
          <p:nvSpPr>
            <p:cNvPr id="560" name=""/>
            <p:cNvSpPr/>
            <p:nvPr/>
          </p:nvSpPr>
          <p:spPr>
            <a:xfrm>
              <a:off x="2916360" y="4221000"/>
              <a:ext cx="21564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987640" y="3933360"/>
              <a:ext cx="432000" cy="936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59280" y="3646080"/>
              <a:ext cx="576000" cy="1150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2000" y="3357360"/>
              <a:ext cx="719280" cy="1368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03640" y="2997000"/>
              <a:ext cx="792000" cy="1584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48000" y="2709720"/>
              <a:ext cx="863640" cy="1726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64000" y="2565000"/>
              <a:ext cx="863640" cy="1728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80000" y="2349360"/>
              <a:ext cx="863280" cy="1800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67280" y="2349360"/>
              <a:ext cx="649080" cy="1439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56000" y="2420640"/>
              <a:ext cx="432000" cy="1008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643280" y="2565000"/>
              <a:ext cx="28908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924360" y="2205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3236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916000" y="1486080"/>
            <a:ext cx="1942920" cy="158400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203640" y="2494080"/>
            <a:ext cx="615240" cy="368280"/>
            <a:chOff x="3203640" y="2494080"/>
            <a:chExt cx="615240" cy="368280"/>
          </a:xfrm>
        </p:grpSpPr>
        <p:sp>
          <p:nvSpPr>
            <p:cNvPr id="575" name=""/>
            <p:cNvSpPr/>
            <p:nvPr/>
          </p:nvSpPr>
          <p:spPr>
            <a:xfrm>
              <a:off x="3473640" y="2494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203640" y="2689200"/>
              <a:ext cx="144360" cy="142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3059280" y="3718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32360" y="2637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4149720"/>
            <a:ext cx="142920" cy="14436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48704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700360" y="4581360"/>
            <a:ext cx="142920" cy="1447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03640" y="2700360"/>
            <a:ext cx="142920" cy="14436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27280" y="321300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27640" y="3141720"/>
            <a:ext cx="142920" cy="14436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19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27280" y="260280"/>
            <a:ext cx="6357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006160" y="5681520"/>
            <a:ext cx="23223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KC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3059280" y="2852280"/>
            <a:ext cx="2664720" cy="2447640"/>
            <a:chOff x="3059280" y="2852280"/>
            <a:chExt cx="2664720" cy="2447640"/>
          </a:xfrm>
        </p:grpSpPr>
        <p:sp>
          <p:nvSpPr>
            <p:cNvPr id="590" name=""/>
            <p:cNvSpPr/>
            <p:nvPr/>
          </p:nvSpPr>
          <p:spPr>
            <a:xfrm flipV="1">
              <a:off x="3059280" y="4652280"/>
              <a:ext cx="2088720" cy="647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203280" y="4458960"/>
              <a:ext cx="201600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276360" y="4266720"/>
              <a:ext cx="1942920" cy="6015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348000" y="4026960"/>
              <a:ext cx="2015640" cy="6253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348000" y="3882600"/>
              <a:ext cx="201564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419280" y="3738240"/>
              <a:ext cx="201600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419280" y="3595320"/>
              <a:ext cx="2016000" cy="62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563640" y="3401640"/>
              <a:ext cx="1944360" cy="603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3597120" y="3172680"/>
              <a:ext cx="1982520" cy="6145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635280" y="3041280"/>
              <a:ext cx="1944360" cy="603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635280" y="2852280"/>
              <a:ext cx="2088720" cy="647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 flipV="1">
            <a:off x="2771640" y="4724280"/>
            <a:ext cx="3024360" cy="865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643280" y="2204640"/>
            <a:ext cx="1224000" cy="4103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492360" y="2492280"/>
            <a:ext cx="2664000" cy="86544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843280" y="2131560"/>
            <a:ext cx="1224000" cy="410364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059280" y="1052640"/>
            <a:ext cx="2665080" cy="4824000"/>
            <a:chOff x="3059280" y="1052640"/>
            <a:chExt cx="2665080" cy="4824000"/>
          </a:xfrm>
        </p:grpSpPr>
        <p:sp>
          <p:nvSpPr>
            <p:cNvPr id="606" name=""/>
            <p:cNvSpPr/>
            <p:nvPr/>
          </p:nvSpPr>
          <p:spPr>
            <a:xfrm>
              <a:off x="3059280" y="1052640"/>
              <a:ext cx="2665080" cy="1693080"/>
            </a:xfrm>
            <a:prstGeom prst="parallelogram">
              <a:avLst>
                <a:gd name="adj" fmla="val 3935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59280" y="4179960"/>
              <a:ext cx="2665080" cy="1693800"/>
            </a:xfrm>
            <a:prstGeom prst="parallelogram">
              <a:avLst>
                <a:gd name="adj" fmla="val 39336"/>
              </a:avLst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59280" y="274572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08000" y="1052640"/>
              <a:ext cx="0" cy="3127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24360" y="1052640"/>
              <a:ext cx="0" cy="312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74920" y="2745720"/>
              <a:ext cx="0" cy="313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59280" y="5876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74920" y="4179960"/>
              <a:ext cx="649080" cy="169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5003640" y="4869000"/>
            <a:ext cx="14292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51640" y="2565360"/>
            <a:ext cx="1425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35280" y="3213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3400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759640" y="255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94720" y="4556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557440" y="5157720"/>
            <a:ext cx="572760" cy="429840"/>
            <a:chOff x="2557440" y="5157720"/>
            <a:chExt cx="572760" cy="429840"/>
          </a:xfrm>
        </p:grpSpPr>
        <p:sp>
          <p:nvSpPr>
            <p:cNvPr id="621" name=""/>
            <p:cNvSpPr/>
            <p:nvPr/>
          </p:nvSpPr>
          <p:spPr>
            <a:xfrm>
              <a:off x="2987640" y="5445000"/>
              <a:ext cx="142560" cy="142560"/>
            </a:xfrm>
            <a:prstGeom prst="ellipse">
              <a:avLst/>
            </a:prstGeom>
            <a:solidFill>
              <a:srgbClr val="f7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57440" y="5157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519120" y="711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75840" y="42372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176560" y="228600"/>
            <a:ext cx="696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796000" y="5681520"/>
            <a:ext cx="23050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1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771640" y="4581360"/>
            <a:ext cx="144720" cy="100836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63640" y="4941720"/>
            <a:ext cx="3168720" cy="719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2040" y="2924280"/>
            <a:ext cx="3892680" cy="302580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58920" y="3429000"/>
            <a:ext cx="1871640" cy="2664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900000" y="2565360"/>
            <a:ext cx="2303640" cy="3168720"/>
            <a:chOff x="900000" y="2565360"/>
            <a:chExt cx="2303640" cy="3168720"/>
          </a:xfrm>
        </p:grpSpPr>
        <p:sp>
          <p:nvSpPr>
            <p:cNvPr id="632" name=""/>
            <p:cNvSpPr/>
            <p:nvPr/>
          </p:nvSpPr>
          <p:spPr>
            <a:xfrm flipV="1">
              <a:off x="2484360" y="4797360"/>
              <a:ext cx="71928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900000" y="2565360"/>
              <a:ext cx="2303640" cy="3168720"/>
              <a:chOff x="900000" y="2565360"/>
              <a:chExt cx="2303640" cy="3168720"/>
            </a:xfrm>
          </p:grpSpPr>
          <p:sp>
            <p:nvSpPr>
              <p:cNvPr id="634" name=""/>
              <p:cNvSpPr/>
              <p:nvPr/>
            </p:nvSpPr>
            <p:spPr>
              <a:xfrm>
                <a:off x="900000" y="4797360"/>
                <a:ext cx="230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0000" y="4797360"/>
                <a:ext cx="1584360" cy="93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900000" y="2565360"/>
                <a:ext cx="122400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2123640" y="2565360"/>
                <a:ext cx="1079640" cy="223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24000" y="2565360"/>
                <a:ext cx="360360" cy="316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1403280" y="364500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700360" y="47242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40000" y="501336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33440" y="3141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60964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34000" y="488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24000" y="2637000"/>
            <a:ext cx="16560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348000" y="4745160"/>
            <a:ext cx="387000" cy="627120"/>
            <a:chOff x="3348000" y="4745160"/>
            <a:chExt cx="387000" cy="627120"/>
          </a:xfrm>
        </p:grpSpPr>
        <p:sp>
          <p:nvSpPr>
            <p:cNvPr id="647" name=""/>
            <p:cNvSpPr/>
            <p:nvPr/>
          </p:nvSpPr>
          <p:spPr>
            <a:xfrm>
              <a:off x="3348000" y="5229360"/>
              <a:ext cx="142920" cy="142920"/>
            </a:xfrm>
            <a:prstGeom prst="ellipse">
              <a:avLst/>
            </a:prstGeom>
            <a:solidFill>
              <a:srgbClr val="f7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02000" y="4745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795760" y="5151600"/>
            <a:ext cx="405720" cy="583920"/>
            <a:chOff x="2795760" y="5151600"/>
            <a:chExt cx="405720" cy="583920"/>
          </a:xfrm>
        </p:grpSpPr>
        <p:sp>
          <p:nvSpPr>
            <p:cNvPr id="650" name=""/>
            <p:cNvSpPr/>
            <p:nvPr/>
          </p:nvSpPr>
          <p:spPr>
            <a:xfrm>
              <a:off x="2795760" y="5151600"/>
              <a:ext cx="142560" cy="142560"/>
            </a:xfrm>
            <a:prstGeom prst="ellipse">
              <a:avLst/>
            </a:prstGeom>
            <a:solidFill>
              <a:srgbClr val="f7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68480" y="5367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2195640" y="4797360"/>
            <a:ext cx="504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763640" y="4149720"/>
            <a:ext cx="1079640" cy="863640"/>
            <a:chOff x="1763640" y="4149720"/>
            <a:chExt cx="1079640" cy="863640"/>
          </a:xfrm>
        </p:grpSpPr>
        <p:sp>
          <p:nvSpPr>
            <p:cNvPr id="654" name=""/>
            <p:cNvSpPr/>
            <p:nvPr/>
          </p:nvSpPr>
          <p:spPr>
            <a:xfrm>
              <a:off x="1763640" y="4149720"/>
              <a:ext cx="216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08000" y="4365720"/>
              <a:ext cx="360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0920" y="4581360"/>
              <a:ext cx="5050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1280" y="5013360"/>
              <a:ext cx="432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95640" y="4797360"/>
              <a:ext cx="5047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44784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184560" y="208080"/>
            <a:ext cx="5635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006160" y="5681520"/>
            <a:ext cx="20433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194440" cy="495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о ли построены с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6920" y="2781360"/>
            <a:ext cx="2881440" cy="25923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826920" y="2781360"/>
            <a:ext cx="1513080" cy="129528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340000" y="2781360"/>
            <a:ext cx="719280" cy="143964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4076640"/>
            <a:ext cx="2232360" cy="14436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68360" y="3860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124000" y="234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476360" y="2707920"/>
            <a:ext cx="14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476360" y="2781360"/>
            <a:ext cx="1440" cy="1942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26920" y="4724280"/>
            <a:ext cx="649440" cy="649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76360" y="4724280"/>
            <a:ext cx="2232000" cy="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987640" y="4076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124000" y="2997360"/>
            <a:ext cx="287280" cy="144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835280" y="3213000"/>
            <a:ext cx="720720" cy="180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692360" y="3357720"/>
            <a:ext cx="934920" cy="144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403280" y="3573360"/>
            <a:ext cx="1368360" cy="180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58920" y="3716280"/>
            <a:ext cx="1584360" cy="73080"/>
          </a:xfrm>
          <a:prstGeom prst="line">
            <a:avLst/>
          </a:prstGeom>
          <a:ln w="3816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16000" y="3860640"/>
            <a:ext cx="1800360" cy="7308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71640" y="3933720"/>
            <a:ext cx="2016000" cy="14292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979640" y="3068640"/>
            <a:ext cx="504720" cy="1440"/>
          </a:xfrm>
          <a:prstGeom prst="line">
            <a:avLst/>
          </a:prstGeom>
          <a:ln w="28440">
            <a:solidFill>
              <a:srgbClr val="f52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76720" y="2781360"/>
            <a:ext cx="3240360" cy="25923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724360" y="2781360"/>
            <a:ext cx="0" cy="1942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076360" y="4724280"/>
            <a:ext cx="64764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24360" y="4724280"/>
            <a:ext cx="2592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076720" y="3429000"/>
            <a:ext cx="2590920" cy="19447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24360" y="2781360"/>
            <a:ext cx="2592720" cy="19429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219280" y="285264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5364000" y="299736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522760" y="314172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724360" y="328464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5940000" y="342900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156000" y="357336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300360" y="371628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516360" y="3860640"/>
            <a:ext cx="647640" cy="648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687720" y="400536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891120" y="414972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063920" y="425124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492680" y="4581360"/>
            <a:ext cx="647640" cy="648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308720" y="4437000"/>
            <a:ext cx="64800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7164000" y="4365720"/>
            <a:ext cx="647640" cy="647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667640" y="4724280"/>
            <a:ext cx="649440" cy="64944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5076360" y="2781360"/>
            <a:ext cx="647640" cy="64764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31417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435640" y="242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317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596360" y="530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527840" y="5511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01800" y="551664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ть навыки решения задач на построение сечения многогран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ространственное 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 rot="10800000">
            <a:off x="1692000" y="5373360"/>
            <a:ext cx="2087640" cy="1268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692360" y="2421000"/>
            <a:ext cx="2087640" cy="2952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56360" y="2637000"/>
            <a:ext cx="1800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10800000">
            <a:off x="6156000" y="5373720"/>
            <a:ext cx="1800360" cy="936720"/>
          </a:xfrm>
          <a:prstGeom prst="triangle">
            <a:avLst>
              <a:gd name="adj" fmla="val 4918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40328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708360" y="51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340000" y="64008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6000" y="19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48360" y="2205000"/>
            <a:ext cx="5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96000" y="51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95672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948360" y="623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5194440" cy="495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о ли построены с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56360" y="5373720"/>
            <a:ext cx="180036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3933720"/>
            <a:ext cx="1224000" cy="1727280"/>
          </a:xfrm>
          <a:prstGeom prst="triangle">
            <a:avLst>
              <a:gd name="adj" fmla="val 8505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5373720"/>
            <a:ext cx="1800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24000" y="4149720"/>
            <a:ext cx="1222560" cy="1800360"/>
          </a:xfrm>
          <a:prstGeom prst="parallelogram">
            <a:avLst>
              <a:gd name="adj" fmla="val 13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2700000" y="2421000"/>
            <a:ext cx="2844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048440" y="2637000"/>
            <a:ext cx="0" cy="36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565080" y="587700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13080" y="5805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9800" y="1773360"/>
            <a:ext cx="4967280" cy="1944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монстрация построения се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адача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адача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дача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дача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а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4149720"/>
            <a:ext cx="4124520" cy="2014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 для самостоятельного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Задача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Задача №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4149720"/>
            <a:ext cx="4176720" cy="2014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 правильности решения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а №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V="1">
            <a:off x="2340000" y="3716280"/>
            <a:ext cx="371520" cy="649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476000" y="3699000"/>
            <a:ext cx="863640" cy="63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92360" y="3715920"/>
            <a:ext cx="865080" cy="505080"/>
            <a:chOff x="1692360" y="3715920"/>
            <a:chExt cx="865080" cy="505080"/>
          </a:xfrm>
        </p:grpSpPr>
        <p:sp>
          <p:nvSpPr>
            <p:cNvPr id="77" name=""/>
            <p:cNvSpPr/>
            <p:nvPr/>
          </p:nvSpPr>
          <p:spPr>
            <a:xfrm flipV="1">
              <a:off x="2124000" y="3716280"/>
              <a:ext cx="289080" cy="433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981080" y="3715920"/>
              <a:ext cx="216000" cy="289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836720" y="3716280"/>
              <a:ext cx="216000" cy="217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692360" y="3715920"/>
              <a:ext cx="73080" cy="730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268720" y="3716280"/>
              <a:ext cx="288720" cy="504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03280" y="3716280"/>
            <a:ext cx="1297080" cy="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79736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4797360"/>
            <a:ext cx="1584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84360" y="4797360"/>
            <a:ext cx="719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900000" y="2565360"/>
            <a:ext cx="122400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123640" y="2565360"/>
            <a:ext cx="107964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2565360"/>
            <a:ext cx="360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364500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64500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292640"/>
            <a:ext cx="142920" cy="142920"/>
          </a:xfrm>
          <a:prstGeom prst="ellipse">
            <a:avLst/>
          </a:prstGeom>
          <a:solidFill>
            <a:srgbClr val="f7b8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12920" y="3232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2600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56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5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дача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08560" y="568440"/>
            <a:ext cx="426708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5440" y="5248440"/>
            <a:ext cx="19548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340000" y="3068640"/>
            <a:ext cx="1152360" cy="1800360"/>
            <a:chOff x="2340000" y="3068640"/>
            <a:chExt cx="1152360" cy="1800360"/>
          </a:xfrm>
        </p:grpSpPr>
        <p:sp>
          <p:nvSpPr>
            <p:cNvPr id="99" name=""/>
            <p:cNvSpPr/>
            <p:nvPr/>
          </p:nvSpPr>
          <p:spPr>
            <a:xfrm>
              <a:off x="3492360" y="3068640"/>
              <a:ext cx="0" cy="1440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9640" y="3141720"/>
              <a:ext cx="0" cy="1366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0000" y="4581360"/>
              <a:ext cx="0" cy="287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56000" y="4292640"/>
              <a:ext cx="0" cy="503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71640" y="4005360"/>
              <a:ext cx="0" cy="718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87640" y="3716280"/>
              <a:ext cx="0" cy="936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3640" y="3429000"/>
              <a:ext cx="0" cy="1150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27280" y="4221000"/>
              <a:ext cx="0" cy="57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43280" y="3860640"/>
              <a:ext cx="0" cy="8636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9280" y="3645000"/>
              <a:ext cx="0" cy="93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3357720"/>
              <a:ext cx="0" cy="12222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11280" y="4508640"/>
              <a:ext cx="0" cy="287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468360" y="4238280"/>
            <a:ext cx="4032360" cy="113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09280" y="1341000"/>
            <a:ext cx="3691440" cy="4031640"/>
            <a:chOff x="809280" y="1341000"/>
            <a:chExt cx="3691440" cy="4031640"/>
          </a:xfrm>
        </p:grpSpPr>
        <p:sp>
          <p:nvSpPr>
            <p:cNvPr id="113" name=""/>
            <p:cNvSpPr/>
            <p:nvPr/>
          </p:nvSpPr>
          <p:spPr>
            <a:xfrm>
              <a:off x="1263600" y="1341360"/>
              <a:ext cx="3237120" cy="909720"/>
            </a:xfrm>
            <a:prstGeom prst="parallelogram">
              <a:avLst>
                <a:gd name="adj" fmla="val 8895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9640" y="4011480"/>
              <a:ext cx="3236760" cy="909720"/>
            </a:xfrm>
            <a:prstGeom prst="parallelogram">
              <a:avLst>
                <a:gd name="adj" fmla="val 88949"/>
              </a:avLst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809280" y="2251080"/>
              <a:ext cx="45396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250800" y="2247840"/>
              <a:ext cx="452520" cy="267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046400" y="1341360"/>
              <a:ext cx="45432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03080" y="1341360"/>
              <a:ext cx="45540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9640" y="4921200"/>
              <a:ext cx="244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251160" y="4011120"/>
              <a:ext cx="79524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63600" y="2251080"/>
              <a:ext cx="244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705120" y="1341000"/>
              <a:ext cx="79560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263600" y="1341000"/>
              <a:ext cx="79524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14640" y="1341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8840" y="1341360"/>
              <a:ext cx="244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9280" y="44053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17640" y="4973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9280" y="2700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57520" y="2784600"/>
              <a:ext cx="92160" cy="903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91000" y="4429080"/>
              <a:ext cx="92160" cy="903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58840" y="4862520"/>
              <a:ext cx="90720" cy="9216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708360" y="5661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492360" y="764640"/>
            <a:ext cx="216000" cy="518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26920" y="1483920"/>
            <a:ext cx="3816360" cy="511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050920" y="2852280"/>
            <a:ext cx="1584360" cy="20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582720" y="2911320"/>
            <a:ext cx="52200" cy="152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5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260280"/>
            <a:ext cx="381636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90212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3280" y="366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21280" y="366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7280" y="49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6920" y="215280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88920" y="1000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53640" y="92880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215280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3280" y="1989000"/>
            <a:ext cx="4392720" cy="43984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араллелепипе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плоскость с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N, K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й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ечение параллелепипеда плоскость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∩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∩ CD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Є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скомое се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55280" y="3068640"/>
            <a:ext cx="3024720" cy="2952720"/>
            <a:chOff x="755280" y="3068640"/>
            <a:chExt cx="3024720" cy="2952720"/>
          </a:xfrm>
        </p:grpSpPr>
        <p:sp>
          <p:nvSpPr>
            <p:cNvPr id="150" name=""/>
            <p:cNvSpPr/>
            <p:nvPr/>
          </p:nvSpPr>
          <p:spPr>
            <a:xfrm>
              <a:off x="755640" y="5013360"/>
              <a:ext cx="223200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755280" y="3068640"/>
              <a:ext cx="3024720" cy="2952720"/>
              <a:chOff x="755280" y="3068640"/>
              <a:chExt cx="3024720" cy="295272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755280" y="3068640"/>
                <a:ext cx="1152360" cy="19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8000" y="3068640"/>
                <a:ext cx="1079640" cy="29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08000" y="3068640"/>
                <a:ext cx="1872000" cy="15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987640" y="4652640"/>
                <a:ext cx="792360" cy="136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55640" y="4652640"/>
                <a:ext cx="302436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2430360" y="2997360"/>
            <a:ext cx="1241640" cy="33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645000"/>
            <a:ext cx="8701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430960"/>
            <a:ext cx="4390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58920" y="3716280"/>
            <a:ext cx="1441440" cy="433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27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33360"/>
            <a:ext cx="4268520" cy="14655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траэд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 –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араллельной реб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7080" y="4916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7640" y="60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05280" y="443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44560" y="2558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8560" y="5511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2000" y="5440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5373720"/>
            <a:ext cx="1443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60880" y="5329080"/>
            <a:ext cx="1443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3068640"/>
            <a:ext cx="1079640" cy="29527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629080" y="3298680"/>
            <a:ext cx="529920" cy="489240"/>
            <a:chOff x="2629080" y="3298680"/>
            <a:chExt cx="529920" cy="489240"/>
          </a:xfrm>
        </p:grpSpPr>
        <p:sp>
          <p:nvSpPr>
            <p:cNvPr id="173" name=""/>
            <p:cNvSpPr/>
            <p:nvPr/>
          </p:nvSpPr>
          <p:spPr>
            <a:xfrm>
              <a:off x="2830320" y="329868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29080" y="3645000"/>
              <a:ext cx="14436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28360" y="3860640"/>
            <a:ext cx="503640" cy="398880"/>
            <a:chOff x="828360" y="3860640"/>
            <a:chExt cx="503640" cy="398880"/>
          </a:xfrm>
        </p:grpSpPr>
        <p:sp>
          <p:nvSpPr>
            <p:cNvPr id="176" name=""/>
            <p:cNvSpPr/>
            <p:nvPr/>
          </p:nvSpPr>
          <p:spPr>
            <a:xfrm>
              <a:off x="828360" y="386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87280" y="4005360"/>
              <a:ext cx="14472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0056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2492280"/>
            <a:ext cx="3835440" cy="21956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плоскость проходит через данную прямую, параллельную другой плоскости, и пересекает эту плоскость, то линия пересечения плоскостей параллельна данной пря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C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║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D ∩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N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значи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B ║ 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14320" y="5516640"/>
            <a:ext cx="2017080" cy="3682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58920" y="3789360"/>
            <a:ext cx="2089080" cy="1655640"/>
            <a:chOff x="1258920" y="3789360"/>
            <a:chExt cx="2089080" cy="1655640"/>
          </a:xfrm>
        </p:grpSpPr>
        <p:sp>
          <p:nvSpPr>
            <p:cNvPr id="182" name=""/>
            <p:cNvSpPr/>
            <p:nvPr/>
          </p:nvSpPr>
          <p:spPr>
            <a:xfrm>
              <a:off x="1763640" y="544500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692360" y="5300640"/>
              <a:ext cx="1584360" cy="1584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92360" y="522936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19280" y="5151600"/>
              <a:ext cx="15858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19280" y="5084640"/>
              <a:ext cx="15858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19280" y="5013360"/>
              <a:ext cx="15858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47640" y="494172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47640" y="486900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76360" y="4797360"/>
              <a:ext cx="16556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76360" y="4724280"/>
              <a:ext cx="16556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03280" y="4653000"/>
              <a:ext cx="1656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84200" y="4581360"/>
              <a:ext cx="1656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450864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32000" y="443700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32000" y="436572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32000" y="429264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8920" y="4221000"/>
              <a:ext cx="16574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76360" y="4076640"/>
              <a:ext cx="1368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8920" y="4149720"/>
              <a:ext cx="158436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3640" y="4005360"/>
              <a:ext cx="1008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79640" y="3933720"/>
              <a:ext cx="792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5640" y="3860640"/>
              <a:ext cx="57600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11280" y="3789360"/>
              <a:ext cx="287640" cy="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763640" y="5373720"/>
              <a:ext cx="1513080" cy="1584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116000" y="1758960"/>
            <a:ext cx="3456000" cy="3254040"/>
            <a:chOff x="1116000" y="1758960"/>
            <a:chExt cx="3456000" cy="3254040"/>
          </a:xfrm>
        </p:grpSpPr>
        <p:sp>
          <p:nvSpPr>
            <p:cNvPr id="207" name=""/>
            <p:cNvSpPr/>
            <p:nvPr/>
          </p:nvSpPr>
          <p:spPr>
            <a:xfrm flipV="1">
              <a:off x="1116000" y="4436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116000" y="4220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116000" y="4005360"/>
              <a:ext cx="287964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332000" y="371592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403280" y="3428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476360" y="321264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619280" y="2924280"/>
              <a:ext cx="2879640" cy="5760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692360" y="2707920"/>
              <a:ext cx="2879640" cy="576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763640" y="2536560"/>
              <a:ext cx="2303640" cy="4604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835280" y="2391840"/>
              <a:ext cx="1944720" cy="3891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908000" y="2203560"/>
              <a:ext cx="1440000" cy="288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050920" y="2046240"/>
              <a:ext cx="1152720" cy="2304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124000" y="1915920"/>
              <a:ext cx="719280" cy="1443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195640" y="1758960"/>
              <a:ext cx="431640" cy="856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496880" y="1557360"/>
            <a:ext cx="3237120" cy="909720"/>
          </a:xfrm>
          <a:prstGeom prst="parallelogram">
            <a:avLst>
              <a:gd name="adj" fmla="val 889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51372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484440" y="4227120"/>
            <a:ext cx="79560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792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730760" y="3537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364000" y="208080"/>
            <a:ext cx="3456000" cy="3120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ость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редины ребе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483920"/>
            <a:ext cx="1584000" cy="453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79280" y="4398480"/>
            <a:ext cx="525636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9640" y="476280"/>
            <a:ext cx="2159280" cy="597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981000"/>
            <a:ext cx="4176720" cy="230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11280" y="1071720"/>
            <a:ext cx="4643280" cy="4506120"/>
            <a:chOff x="611280" y="1071720"/>
            <a:chExt cx="4643280" cy="4506120"/>
          </a:xfrm>
        </p:grpSpPr>
        <p:sp>
          <p:nvSpPr>
            <p:cNvPr id="232" name=""/>
            <p:cNvSpPr/>
            <p:nvPr/>
          </p:nvSpPr>
          <p:spPr>
            <a:xfrm flipH="1">
              <a:off x="1042560" y="2467080"/>
              <a:ext cx="45396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84080" y="2463840"/>
              <a:ext cx="452520" cy="267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836720" y="1557360"/>
              <a:ext cx="45576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611280" y="1071720"/>
              <a:ext cx="4643280" cy="4506120"/>
              <a:chOff x="611280" y="1071720"/>
              <a:chExt cx="4643280" cy="450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1042920" y="4227480"/>
                <a:ext cx="3237120" cy="909720"/>
              </a:xfrm>
              <a:prstGeom prst="parallelogram">
                <a:avLst>
                  <a:gd name="adj" fmla="val 88959"/>
                </a:avLst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4279680" y="1557360"/>
                <a:ext cx="453960" cy="267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6880" y="2467080"/>
                <a:ext cx="244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3938760" y="1557000"/>
                <a:ext cx="79524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1496880" y="1557000"/>
                <a:ext cx="79560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92480" y="1557360"/>
                <a:ext cx="24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1280" y="5118120"/>
                <a:ext cx="60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89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37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13640" y="5103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52560" y="229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103480" y="11430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68920" y="10717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19640" y="2492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49640" y="4600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43280" y="25131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971640" y="501336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906360" y="2781360"/>
            <a:ext cx="647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117960" y="882360"/>
            <a:ext cx="1882800" cy="5210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2560" y="271152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4562640"/>
            <a:ext cx="144360" cy="16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66920" y="1467000"/>
            <a:ext cx="144360" cy="161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5229360"/>
            <a:ext cx="3097080" cy="5101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560" y="26028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116000" y="1758960"/>
            <a:ext cx="3456000" cy="3254040"/>
            <a:chOff x="1116000" y="1758960"/>
            <a:chExt cx="3456000" cy="3254040"/>
          </a:xfrm>
        </p:grpSpPr>
        <p:sp>
          <p:nvSpPr>
            <p:cNvPr id="261" name=""/>
            <p:cNvSpPr/>
            <p:nvPr/>
          </p:nvSpPr>
          <p:spPr>
            <a:xfrm flipV="1">
              <a:off x="1116000" y="4436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116000" y="4220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116000" y="4005360"/>
              <a:ext cx="2879640" cy="5760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332000" y="371592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403280" y="3428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1476360" y="321264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619280" y="2924280"/>
              <a:ext cx="2879640" cy="5760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692360" y="2707920"/>
              <a:ext cx="2879640" cy="576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763640" y="2536560"/>
              <a:ext cx="2303640" cy="46044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835280" y="2391840"/>
              <a:ext cx="1944720" cy="3891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908000" y="2203560"/>
              <a:ext cx="1440000" cy="28872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050920" y="2046240"/>
              <a:ext cx="1152720" cy="23040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124000" y="1915920"/>
              <a:ext cx="719280" cy="14436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195640" y="1758960"/>
              <a:ext cx="431640" cy="8568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6880" y="1557360"/>
            <a:ext cx="3237120" cy="909720"/>
          </a:xfrm>
          <a:prstGeom prst="parallelogram">
            <a:avLst>
              <a:gd name="adj" fmla="val 889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51372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484440" y="4227120"/>
            <a:ext cx="79560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792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730760" y="3537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0276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дача №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208080"/>
            <a:ext cx="3456000" cy="2089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ы ребе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419640" y="1483920"/>
            <a:ext cx="1584000" cy="4537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79280" y="4398480"/>
            <a:ext cx="525636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39640" y="476280"/>
            <a:ext cx="2159280" cy="597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58920" y="981000"/>
            <a:ext cx="4176720" cy="230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1280" y="1071720"/>
            <a:ext cx="4643280" cy="4506120"/>
            <a:chOff x="611280" y="1071720"/>
            <a:chExt cx="4643280" cy="4506120"/>
          </a:xfrm>
        </p:grpSpPr>
        <p:sp>
          <p:nvSpPr>
            <p:cNvPr id="287" name=""/>
            <p:cNvSpPr/>
            <p:nvPr/>
          </p:nvSpPr>
          <p:spPr>
            <a:xfrm flipH="1">
              <a:off x="1042560" y="2467080"/>
              <a:ext cx="453960" cy="267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484080" y="2463840"/>
              <a:ext cx="452520" cy="267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836720" y="1557360"/>
              <a:ext cx="45576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1280" y="1071720"/>
              <a:ext cx="4643280" cy="4506120"/>
              <a:chOff x="611280" y="1071720"/>
              <a:chExt cx="4643280" cy="4506120"/>
            </a:xfrm>
          </p:grpSpPr>
          <p:sp>
            <p:nvSpPr>
              <p:cNvPr id="291" name=""/>
              <p:cNvSpPr/>
              <p:nvPr/>
            </p:nvSpPr>
            <p:spPr>
              <a:xfrm>
                <a:off x="1042920" y="4227480"/>
                <a:ext cx="3237120" cy="909720"/>
              </a:xfrm>
              <a:prstGeom prst="parallelogram">
                <a:avLst>
                  <a:gd name="adj" fmla="val 88959"/>
                </a:avLst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4279680" y="1557360"/>
                <a:ext cx="453960" cy="267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96880" y="2467080"/>
                <a:ext cx="244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938760" y="1557000"/>
                <a:ext cx="79524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496880" y="1557000"/>
                <a:ext cx="795600" cy="90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92480" y="1557360"/>
                <a:ext cx="24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11280" y="5118120"/>
                <a:ext cx="60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89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37640" y="38084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13640" y="5103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952560" y="229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03480" y="1143000"/>
                <a:ext cx="74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68920" y="10717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19640" y="2492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049640" y="4600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43280" y="25131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971640" y="501336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906360" y="2781360"/>
            <a:ext cx="647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117960" y="882360"/>
            <a:ext cx="1882800" cy="5210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62560" y="2711520"/>
            <a:ext cx="144360" cy="1620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562640"/>
            <a:ext cx="144360" cy="1616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19640" y="2565360"/>
            <a:ext cx="3600360" cy="2225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секущая плоскость пересекает две противоположные грани параллелепипеда по каким-то отрезкам, то эти отрезки параллельны так как плоскост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тивоположных граней параллелепипеда параллельны, поэтом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кущая плоскость пересекает их по параллельным прям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║ A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4020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35640" y="5681520"/>
            <a:ext cx="266544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1332000" y="1787400"/>
            <a:ext cx="3097080" cy="3296880"/>
            <a:chOff x="1332000" y="1787400"/>
            <a:chExt cx="3097080" cy="3296880"/>
          </a:xfrm>
        </p:grpSpPr>
        <p:grpSp>
          <p:nvGrpSpPr>
            <p:cNvPr id="316" name=""/>
            <p:cNvGrpSpPr/>
            <p:nvPr/>
          </p:nvGrpSpPr>
          <p:grpSpPr>
            <a:xfrm>
              <a:off x="1332000" y="1787400"/>
              <a:ext cx="3097080" cy="3154320"/>
              <a:chOff x="1332000" y="1787400"/>
              <a:chExt cx="3097080" cy="3154320"/>
            </a:xfrm>
          </p:grpSpPr>
          <p:sp>
            <p:nvSpPr>
              <p:cNvPr id="317" name=""/>
              <p:cNvSpPr/>
              <p:nvPr/>
            </p:nvSpPr>
            <p:spPr>
              <a:xfrm flipV="1">
                <a:off x="2122560" y="4005360"/>
                <a:ext cx="2089080" cy="72072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124000" y="3789360"/>
                <a:ext cx="2160720" cy="7920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340000" y="4365720"/>
                <a:ext cx="1655640" cy="5760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1908000" y="3428640"/>
                <a:ext cx="2521080" cy="8636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763640" y="3284280"/>
                <a:ext cx="2521080" cy="8650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1979640" y="3573000"/>
                <a:ext cx="2448000" cy="8636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1619280" y="3141360"/>
                <a:ext cx="2519280" cy="8650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1547640" y="2565360"/>
                <a:ext cx="1943280" cy="72072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1476360" y="2997000"/>
                <a:ext cx="2448000" cy="8650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763640" y="2205000"/>
                <a:ext cx="1368360" cy="50472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692360" y="2400120"/>
                <a:ext cx="1511280" cy="5252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835280" y="2060280"/>
                <a:ext cx="1079280" cy="43164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1403280" y="2708280"/>
                <a:ext cx="2232000" cy="7920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1332000" y="2869920"/>
                <a:ext cx="2376360" cy="8478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050920" y="1944360"/>
                <a:ext cx="649440" cy="2602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2124000" y="1787400"/>
                <a:ext cx="503280" cy="20160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2268360" y="4149720"/>
                <a:ext cx="1872000" cy="65088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 flipV="1">
              <a:off x="2556000" y="4652640"/>
              <a:ext cx="1295280" cy="43164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517760" y="1538280"/>
            <a:ext cx="3236760" cy="909720"/>
          </a:xfrm>
          <a:prstGeom prst="parallelogram">
            <a:avLst>
              <a:gd name="adj" fmla="val 88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8440" y="15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4751280" y="35179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5364000" y="281160"/>
            <a:ext cx="3311640" cy="181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йте сечение параллелепипе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ю, проходящей через данные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79280" y="4005000"/>
            <a:ext cx="5688000" cy="187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38040" y="1081080"/>
            <a:ext cx="2160720" cy="4896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79280" y="4221000"/>
            <a:ext cx="1656000" cy="187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8000" y="420696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40000" y="1557360"/>
            <a:ext cx="360036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360" y="2349360"/>
            <a:ext cx="1655640" cy="374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3800" y="4208400"/>
            <a:ext cx="3236760" cy="909720"/>
          </a:xfrm>
          <a:prstGeom prst="parallelogram">
            <a:avLst>
              <a:gd name="adj" fmla="val 88949"/>
            </a:avLst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517760" y="153792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063440" y="244800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505320" y="2444760"/>
            <a:ext cx="45216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300200" y="153828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63800" y="511812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505320" y="420804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17760" y="24480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153828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09800" y="386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57440" y="383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416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73440" y="234936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25440" y="11970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9080" y="123192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40160" y="2565360"/>
            <a:ext cx="4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3480" y="5084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78000" y="5222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49640" y="4575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5840" y="136440"/>
            <a:ext cx="16408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дача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857240" y="1537920"/>
            <a:ext cx="2897280" cy="2670480"/>
            <a:chOff x="1857240" y="1537920"/>
            <a:chExt cx="2897280" cy="2670480"/>
          </a:xfrm>
        </p:grpSpPr>
        <p:sp>
          <p:nvSpPr>
            <p:cNvPr id="366" name=""/>
            <p:cNvSpPr/>
            <p:nvPr/>
          </p:nvSpPr>
          <p:spPr>
            <a:xfrm flipH="1">
              <a:off x="1857240" y="1538280"/>
              <a:ext cx="455760" cy="2670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959280" y="1537920"/>
              <a:ext cx="795240" cy="90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V="1">
            <a:off x="1538280" y="153792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083960" y="244800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525480" y="2444760"/>
            <a:ext cx="4525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4320720" y="1538280"/>
            <a:ext cx="453960" cy="267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84320" y="511812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525840" y="4208040"/>
            <a:ext cx="795240" cy="90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38280" y="244800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33520" y="1538280"/>
            <a:ext cx="244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850920" y="3500280"/>
            <a:ext cx="57636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17600" y="3759120"/>
            <a:ext cx="115272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986360" y="4149720"/>
            <a:ext cx="333000" cy="674640"/>
            <a:chOff x="4986360" y="4149720"/>
            <a:chExt cx="333000" cy="674640"/>
          </a:xfrm>
        </p:grpSpPr>
        <p:sp>
          <p:nvSpPr>
            <p:cNvPr id="379" name=""/>
            <p:cNvSpPr/>
            <p:nvPr/>
          </p:nvSpPr>
          <p:spPr>
            <a:xfrm>
              <a:off x="4986360" y="445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148360" y="4149720"/>
              <a:ext cx="14436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397240" y="5041800"/>
            <a:ext cx="144360" cy="14292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456732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24080" y="1484280"/>
            <a:ext cx="144360" cy="144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33640" y="5718240"/>
            <a:ext cx="333000" cy="619200"/>
            <a:chOff x="233640" y="5718240"/>
            <a:chExt cx="333000" cy="619200"/>
          </a:xfrm>
        </p:grpSpPr>
        <p:sp>
          <p:nvSpPr>
            <p:cNvPr id="385" name=""/>
            <p:cNvSpPr/>
            <p:nvPr/>
          </p:nvSpPr>
          <p:spPr>
            <a:xfrm>
              <a:off x="233640" y="596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6840" y="5718240"/>
              <a:ext cx="144360" cy="144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356000" y="3319560"/>
            <a:ext cx="558360" cy="368280"/>
            <a:chOff x="4356000" y="3319560"/>
            <a:chExt cx="558360" cy="368280"/>
          </a:xfrm>
        </p:grpSpPr>
        <p:sp>
          <p:nvSpPr>
            <p:cNvPr id="388" name=""/>
            <p:cNvSpPr/>
            <p:nvPr/>
          </p:nvSpPr>
          <p:spPr>
            <a:xfrm>
              <a:off x="4569120" y="33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56000" y="3429000"/>
              <a:ext cx="14472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885600" y="3486240"/>
            <a:ext cx="489240" cy="398880"/>
            <a:chOff x="885600" y="3486240"/>
            <a:chExt cx="489240" cy="398880"/>
          </a:xfrm>
        </p:grpSpPr>
        <p:sp>
          <p:nvSpPr>
            <p:cNvPr id="391" name=""/>
            <p:cNvSpPr/>
            <p:nvPr/>
          </p:nvSpPr>
          <p:spPr>
            <a:xfrm>
              <a:off x="1230120" y="3659400"/>
              <a:ext cx="144720" cy="1429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5600" y="3486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20056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11920" y="5681520"/>
            <a:ext cx="2306520" cy="680040"/>
          </a:xfrm>
          <a:prstGeom prst="rect">
            <a:avLst/>
          </a:prstGeom>
          <a:solidFill>
            <a:srgbClr val="ffcccc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K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09:49:40Z</dcterms:created>
  <dc:creator>student</dc:creator>
  <dc:description/>
  <dc:language>en-US</dc:language>
  <cp:lastModifiedBy>student</cp:lastModifiedBy>
  <dcterms:modified xsi:type="dcterms:W3CDTF">2006-12-14T09:06:46Z</dcterms:modified>
  <cp:revision>36</cp:revision>
  <dc:subject/>
  <dc:title>Слайд 1</dc:title>
</cp:coreProperties>
</file>