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CB4-A140-4399-ABDE-8D15D9BE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D30-6D3E-4B1C-9C9E-04EED19A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F08-472D-4E1B-AA49-694C8222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D4A-856A-4F99-BCC6-6411B4DF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0B15-3B77-4F77-B319-60855314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90A6-DC00-4685-BA10-43C5AA6B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CAB4-07D4-4FBA-8953-4B7CC6D9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B86A-3AF3-4521-8EA1-5925ABA2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95F9-C929-4A55-B7F8-699FBC09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1C27-8BC4-449A-AE3F-BE64E4B7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5DA9-D690-47D8-A56C-E1D75BCA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B9C-6B04-40D1-8880-61098D80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A14C-728C-4A1A-BB89-2F6FC0AE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56B8-708F-4B10-8FB7-4806F9C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4135-D00C-493A-B288-90C4E12E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F812-85D4-43DF-B292-1CFF657A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9F3D-DA51-439A-81EE-5D5F2A98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8D1FA-3C7D-48CD-BBCD-91655AE6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7895-04D6-46E4-A86B-1F41F015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E090C-5B7F-441D-B759-8B66DDA7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9937-A48F-4591-A4D3-1035ACBF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4924-E710-4062-B09E-F7D79379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88D-E786-4A1D-B81A-7E26EA41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4876-C3A4-4995-BFA0-718AF43A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CC5B0-1C9D-40D1-8D57-5568FC9B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EC8A-52BE-41AE-AE1D-13BAD3DC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B0ABE-1D94-4603-AC73-687AB5CD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B598-FB2F-4F1A-BFAB-BBA9DD7E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85B8-3C2F-4397-8D4D-5F6E4A85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72287-1A8C-45BA-BAA0-9A1B384E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198A9-5A12-4292-926C-49CC7D52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57D33-504B-41E0-874F-BDC5732B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FEAE7-249C-465E-8FE0-9600A05E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42D-8F7C-45AE-91D3-01D7B1CF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1AE58-2D91-41DC-9F1E-CB16CCC2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7F22D-4ACC-4D6C-BF23-1D6691EB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FE60-7A33-480F-BF1B-792B4915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EA4E6-77D3-4EDE-9797-A6782A36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4EF28-6668-43E6-B2BA-5C3F425E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A9041-46B8-4769-9A19-23ADA92C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11D6A-4566-4BA4-8723-7499A5AA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C0084-975E-4EE9-8F88-401431F6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98A4-6AE1-4B3C-A0E8-919807F9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D0D1-4166-4E5E-9544-87498DD2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16D-06F5-452D-80C2-1EC2CE21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0E916-2EF7-4F5A-8333-D656A6C6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6D6C9-0D83-4C82-A3DE-684C9720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A6A22-9302-4715-8C65-D3F56449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F344B-823E-4CC0-8F56-157D2792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76707-E8C2-478E-A8ED-481C87B5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9C295-85D0-46A9-B749-6758C1CC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AFCC7-B27F-4872-BC65-1D4BD047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1D537-F83C-44DC-91B9-AEDB9B10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82C24-5275-4E68-A8D7-B62D5F9C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D3A04-9C89-40A7-8E3A-0BF21209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791-4518-40D7-82F8-88C1218C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B1A38-EBAF-4440-8807-E49803A6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3FAD4-71FB-4695-8289-4F31EF2F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82183-BE22-4A57-80F4-C3A3B1CB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D54C-03AD-40BF-A29A-CF7540E9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27D79-F658-44C3-A554-5CCA4AA5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2A17A-A01A-40B9-8024-FAC8D577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2085F-AD61-4619-BD6A-8D6F6D4B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AA651-B89E-4863-81D3-61079D59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FD25F-73CD-452B-B8DA-D5F4C385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2649D-C455-4F5E-9939-EE8EC337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8BA-4E9D-4CBA-A5B4-5BA1E824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35F29-DEBC-46E9-916F-508B1900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65B3-3D7C-4782-837F-2E274BA5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60485-4F30-406F-B17E-3F885FD8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49693-00C6-4940-B4D2-9DD69F28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4639E-7E5F-4FAC-890C-20C1F5B0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3920D-163C-421B-BC7E-7F13D5F2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280B5-3403-4549-8EB0-0368F061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28A47-3CD8-42AE-8CF5-8CCC37C2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13A11-CAC7-4216-8CBB-6D9ED1BF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7F393-ECD9-44B7-8E70-C4D94962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AF2-DC50-495F-8B53-41DFB76F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0261C-0E2F-4F3F-92A7-6C1192FD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A5C95-C346-4FA5-B93B-E861B311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0E558-7970-4E31-BF58-F10AA9D4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84605-BED9-4880-AA19-3F0EE840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C0617-E6CD-4A3D-BB56-2DE3AB99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922-ADC8-41E1-8B3F-8E1A5A8D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CCD6-0A70-4B54-B343-7AFF4660D3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FEAE-AC16-4B5E-9EEC-6C01CD8D4A6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32F8-3ED7-4D73-BFBA-1423659D8B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8647-604D-4E84-8414-9F4CF085FF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4B0C-545E-4903-89A7-04B4FAB8A9B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8CDD-3BD1-4486-8390-C149445C85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B759-FCE0-417C-B2C3-30028BAC651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kozlov.ru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зговорный сти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357280"/>
            <a:ext cx="740700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Основные призна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Языковые особен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Нарушевич А.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илистически нейтральные слов употребляются в переносных значениях,  характерных для разговорного стил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отрезать  - «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езко ответить, желая прекратить разговор»: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казал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— 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отрезал и больше не повторял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лететь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- «ломаться, портиться»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: Движок полетел.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ироко использует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етоним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  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егодня состоится заседание педсовета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Сегодня педсовет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ловарь русского языка, составленный С.И. Ожеговым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Ож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ироко использует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лексика бытового содержания: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жадничать, тормошить, мигом, крошечный, невдомек, поделом, потихоньку, электричка, картошка, чашка, солонка, метелка, щетка, тарелка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ктические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используются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рмины , иноязычные слова, еще не ставшие общеупотребительными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уют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вторские неологизм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(окказионализмы):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улице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ряк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окрослякот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текстные синонимы: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Человек он какой-то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темный, мутный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андартные выражения, привычные формулы речевого этикета: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ак дел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оброе утро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Будьте любезны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ошу прощ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рфолог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Формы имен существительных на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-а 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именительном падеже множ.  числа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бункера, крейсера, прожектора, инструктор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Формы на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-у 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родительном и предложном падежах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килограмм сахару, стакан чаю, гроздь винограду, в цеху, в отпуску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 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улевое  окончание в родительном падеже множ. числа: 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пять грамм, десять килограмм, килограмм помидо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рфолог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ирокое использование местоимений Например, местоимение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такой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ожет обозначать положительное качество или служить усилителем: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Он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такая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женщина!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 прекрасная, великолепная, умная; Такая красота кругом!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стоимение в сочетании с инфинитивом может заменить наименование предмета: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Дай чем написать; Принеси что почитать; У тебя есть чем писать?; Возьми чего пое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рфолог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потребление глаголов многократного и однократного действия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читывал, сиживал, хаживал, крутанул, стеганул, долбану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лаголы со значением  мгновенного действия: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тук, бряк, прыг, скок, трах, ша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актически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е употребляются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причастия и деепричаст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полнота  предложений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  как средство речевой экономи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Ты домо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ы на трамва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ы кофе или ча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ипяченая, не беспокойтесь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потребление слов-предложений (утвердительных, отрицательных, побудительных)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 — 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упишь билет?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Обязательн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; Можешь принести книгу?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Разумеется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;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очитал заметку?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Нет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еще;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иготовились!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арш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зговорный сти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говорный стил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- одна из разновидностей литературного языка, которая обслуживает сферу непринужденного общения людей в быту, в семье, а также сферу неофициальных отношений на производстве, в учреждениях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о используются бессоюзные предложен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иедешь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позвон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Есть люди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 себя не жалею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кспрессивность разговорной речи обусловливает широкое использование вопросительных и восклицательных предлож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ужели ты не смотрел этот фильм? Хочешь посмотреть? Идем сейчас в «Октябрь»! Ну что ты сидишь дома!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нтакси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ложения часто перестраиваются на ходу:  то обрываются, то следуют дополнения к ним, то меняется их синтаксическая структура: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о я не вижу особенных причин так уж сильно волноваться… хотя, впрочем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тика они купили недавно. Миленький такой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67720" indent="-4680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ршков А. И. Лекции по русской стилистике. М., 2000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7720" indent="-4680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луб И.Б. Стилистика русского языка. М., 200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7720" indent="-4680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злов Н.И.Стилистика и культура речи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// 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nkozlov.r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7720" indent="-4680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илистический энциклопедический словарь русского языка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Под ред. М.Н. Кожиной. М., 2003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7720" indent="-468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сновные призна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принужденность  об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посредственность и неподготовленность обще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говорная речь не может быть предварительно обдума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меет преимущественно диалогический характер, хотя возможен и моноло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о используются слова                           с суффиксами субъективной оценки             со значением ласкательности, уменьшительности, пренебрежения, (не)одобрения, иронии и др.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оч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ньк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, доч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шк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, доч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к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, руч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и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, зл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ю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й, больш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мена существительные с суффиксами, придающими речи разговорный или просторечный оттенок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-ак(-як):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слаб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ак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, добр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як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;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-а: кассир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а, секретар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а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-ан(-ян):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старик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а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, смуть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я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-у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: хваст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у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, говор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у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-ы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: креп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ы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, мал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ыш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;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т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-я: бег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т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я, толк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тн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я.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мена прилагательные с суффиксам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щ(-ющ)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: больш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й, худ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ющ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й;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приставкой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-: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обрый,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р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приятны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лаголы преффиксально-суффиксального образования: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о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аж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в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аз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гул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в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ри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говар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в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шепт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ыв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аголы на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-нича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 мод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ича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гримас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ичат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ь, бродяж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ича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столяр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ича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лаголы на 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(-а)-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 толк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а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руг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пуг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бурк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ах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ут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лаголы с несколькими приставками: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ере-из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-бра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о-при-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держать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о-раз-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мысли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обра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двоение слов: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большой-большой, белая-белая, быстро-быстро, маленький-премаленький, высокий-превысокий.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кращение наименований: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зачетная книжка  — 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зачетк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,   мореходное училище  — 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ореходк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, хирургическое отделение  —  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хирургия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ироко представлена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эмоционально-экспрессивная лексика и фразеолог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трудяга, дармоед, старикан, глупыш; дурочка, вихрасты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водить тень на плетень, брать за горло, лезть в бутылку, брать измор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34:18Z</dcterms:created>
  <dc:creator>Andrei</dc:creator>
  <dc:description/>
  <dc:language>en-US</dc:language>
  <cp:lastModifiedBy>User</cp:lastModifiedBy>
  <dcterms:modified xsi:type="dcterms:W3CDTF">2010-10-27T09:29:38Z</dcterms:modified>
  <cp:revision>15</cp:revision>
  <dc:subject/>
  <dc:title>Разговорный стиль</dc:title>
</cp:coreProperties>
</file>