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59E-8782-474C-9932-504CAF8D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01E-AFB1-41EF-81D2-FD99DC39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682-66A8-4C9C-98B1-A0244A77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C6A-721A-4480-BC7E-491CEF1F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8A0E-F6D7-4307-9A23-8E279396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D3DD-F6C2-4861-BA4D-33F4313C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91A3-8581-4FD4-A18F-6A663815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16F1-00AF-4E0B-8CBD-8FA8D96B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1187-EC72-47F9-8A39-45890B04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0399-F486-4F27-B8E0-7EBC5B05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C0D8-9803-4F73-B781-39879A43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198-1854-4354-A185-AC5293F0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05CD-6D62-4F03-8BAE-B4FC8DD7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5B3A-32D5-4BC4-A135-CFD6C1EA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0C48-581F-4D7C-8C81-E67BAD51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AE01-A93B-427F-A1AB-3D5D411D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EDBF-D29F-46B1-A952-7C9D3742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4FE2-D7F6-4DAE-A5CF-2731B49D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AAD9-317C-47F2-AE20-F32694FD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281C-3663-4D22-BA99-99D5EB14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1DE7-2BCC-4161-B170-BE27A149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5153-1D11-409C-B097-D64C1128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BB3-457E-4333-A465-F4880BDE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1E30-FBBB-4409-A208-D6E7A48E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C30D-75F3-47E2-BF82-209CF8F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BBD3-A0D9-450B-866E-A3FAE705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88F9-AE53-40A8-8394-971B39F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A17F-8A8B-4B2D-9D23-6D443DE7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5C72-D27C-465C-BCCC-6C602664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05DB-EB17-430B-AE22-841D3BB2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29AD-F9BB-47D0-BFFB-445DEB1E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76E4-06F8-4A79-A566-24BFAABA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C31E-CC94-489E-89EB-205B2539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131-62D3-47F2-A48C-6DAEE340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8582-8E85-426C-93A1-FA9EA82D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9CB3-C6CE-41A0-9687-B499E8F7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930B-964C-4C9F-87F7-5E3CEFF4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080DA-43A5-4B87-A80A-F780B25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F7B7A-0D31-4E90-8048-B2EE0986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C831B-6946-4AB4-878E-C823DB9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40D9-799C-4476-8CF3-76DA79C5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B70A8-3F56-481F-82F0-052B9078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A553-0A86-4004-AA1E-18B1EE0C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766B4-F55D-4C77-B296-4ABA91CA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B79-3B73-4B62-9F11-ADD415D5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405A-9FD3-401A-9D7D-2D6099B7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ED7B8-F6AB-4497-894F-11D4EFAA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CDA5D-1312-4E21-A766-152DE965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6ADA9-D8E6-4733-8CDE-6AD32B2A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C21FC-AD99-4E5B-BD0C-D457A124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A91DB-BF60-4960-B6C2-543139F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C4C0C-B977-469E-B4FA-77828065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F5AE-6A07-483C-B76A-56D98AC6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EEB63-634D-47D3-AED1-BBE4744A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BC12B-92D6-4CE5-9E76-F2270E03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39C-338F-4AE7-A49C-9195E97F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3AC1-1CBC-4F99-ABB7-62B65492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CFE55-30F7-4017-90F6-D43BA584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045B-50F3-423E-983D-E17306CE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B06F6-A7B2-4844-8A9F-5A83CC44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DF6EB-9F81-45B0-8432-1ECE3284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85A0B-6B66-447F-B8F6-67AC4213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7EC67-99FC-41F1-AC14-814BD07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49AD9-6673-41B8-80D4-0B2D8B6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7B67C-1516-4180-A07E-27F1B0D7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52F1-20CB-46E4-8212-176826B6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B9B-1B63-4EC7-A8B5-2A5F1F96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26FBA-185F-40C5-ACBD-541B58F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0F754-83A8-445B-8634-350E72A3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88F57-916A-4266-B374-A282F22E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8B92C-757B-4F2A-ADB7-E0AD6C0C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EC77F-815C-4DBB-936C-E9580327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72803-3689-4E97-B985-703E163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331E-A93F-45EF-A656-9F421EA3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91355-DB48-4A99-9786-98848B23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7A35-D051-4AE8-AFC4-181A657A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CCCFF-C3FA-4235-9043-8CA1386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28E-84E9-464F-806A-5711771E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2158D-7B31-46BF-838E-6D7EDBB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CD68E-AADF-44BF-AA6E-BD1AA09D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7C9B0-4357-4E7E-A608-2C003E89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688B-EED2-417F-9C41-2A67EBE4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F4B56-A446-4E43-8959-B51FBA02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C49-02C7-4910-A35D-19E7AF3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E07A-D03A-456C-A464-DF0BB8862E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381A-D639-408D-A525-B714DA1AD7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C23D-3227-42D0-B6CD-FC343A4E8C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20EF-5416-4324-AA83-85F5029E5A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F579-2210-4AF7-B42E-4EADD74B15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44E5-8DC9-4523-ABDC-24B1434A3B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E840-804B-4FB5-B8C7-4DA7BF3E94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kozlov.ru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говорный сти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357280"/>
            <a:ext cx="740700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Основные призна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Языковые особен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Нарушевич А.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илистически нейтральные слов употребляются в переносных значениях,  характерных для разговорного стил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трезать  - «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езко ответить, желая прекратить разговор»: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казал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— 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трезал и больше не повторял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лететь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- «ломаться, портиться»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: Движок полетел.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ироко используе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тоним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  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егодня состоится заседание педсовета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Сегодня педсовет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ловарь русского языка, составленный С.И. Ожеговым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Ож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ироко используе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лексика бытового содержания: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жадничать, тормошить, мигом, крошечный, невдомек, поделом, потихоньку, электричка, картошка, чашка, солонка, метелка, щетка, тарелка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ктические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используютс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рмины , иноязычные слова, еще не ставшие общеупотребительными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ую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вторские неологизм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(окказионализмы):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улице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ряк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окросляко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текстные синонимы: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еловек он какой-то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темный, мутный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андартные выражения, привычные формулы речевого этикета: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ак дел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брое утро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удьте любезны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шу прощ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рфолог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Формы имен существительных н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-а 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именительном падеже множ.  числа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бункера, крейсера, прожектора, инструктор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Формы н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-у 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родительном и предложном падежах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килограмм сахару, стакан чаю, гроздь винограду, в цеху, в отпуску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 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улевое  окончание в родительном падеже множ. числа: 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пять грамм, десять килограмм, килограмм помидо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рфолог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ирокое использование местоимений Например, местоимение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такой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жет обозначать положительное качество или служить усилителем: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н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такая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женщина!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 прекрасная, великолепная, умная; Такая красота кругом!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стоимение в сочетании с инфинитивом может заменить наименование предмета: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Дай чем написать; Принеси что почитать; У тебя есть чем писать?; Возьми чего пое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рфолог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потребление глаголов многократного и однократного действия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читывал, сиживал, хаживал, крутанул, стеганул, долбану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лаголы со значением  мгновенного действия: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тук, бряк, прыг, скок, трах, ша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актически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 употребляются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причастия и деепричаст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полнота 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  как средство речевой эконом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ы домо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ы на трамва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ы кофе или ча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ипяченая, не беспокойтесь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потребление слов-предложений (утвердительных, отрицательных, побудительных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 — 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упишь билет?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Обязательн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; Можешь принести книгу?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Разумеется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;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читал заметку?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Нет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еще;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иготовились!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арш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говорный сти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говорный стил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одна из разновидностей литературного языка, которая обслуживает сферу непринужденного общения людей в быту, в семье, а также сферу неофициальных отношений на производстве, в учреждениях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о используются бессоюзные предложен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иедешь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позво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Есть люди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себя не жалею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спрессивность разговорной речи обусловливает широкое использование вопросительных и восклицательных предлож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ужели ты не смотрел этот фильм? Хочешь посмотреть? Идем сейчас в «Октябрь»! Ну что ты сидишь дома!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ложения часто перестраиваются на ходу:  то обрываются, то следуют дополнения к ним, то меняется их синтаксическая структура: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о я не вижу особенных причин так уж сильно волноваться… хотя, впрочем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тика они купили недавно. Миленький такой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ршков А. И. Лекции по русской стилистике. М., 2000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луб И.Б. Стилистика русского языка. М., 200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злов Н.И.Стилистика и культура речи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/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nkozlov.r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илистический энциклопедический словарь русского языка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д ред. М.Н. Кожиной. М., 2003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сновные призна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принужденность  об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посредственность и неподготовленность общ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говорная речь не может быть предварительно обдума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меет преимущественно диалогический характер, хотя возможен и моноло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о используются слова                           с суффиксами субъективной оценки             со значением ласкательности, уменьшительности, пренебрежения, (не)одобрения, иронии и др.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ньк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до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шк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до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ру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и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зл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ю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, больш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мена существительные с суффиксами, придающими речи разговорный или просторечный оттенок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ак(-як):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слаб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ак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доб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як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-а: касси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а, секрета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а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ан(-ян):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старик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а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смуть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я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у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: хваст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у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гово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у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ы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: креп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ы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мал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ы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т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-я: бег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т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я, толк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т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я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мена прилагательные с суффиксам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щ(-ющ)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: больш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, худ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ю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;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приставкой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-: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брый,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прият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лаголы преффиксально-суффиксального образования: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аж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аз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гул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р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говар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шепт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ы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аголы на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-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мод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гримас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ь, бродяж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столяр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лаголы на 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(-а)-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толк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а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руг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пуг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бурк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ах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лаголы с несколькими приставками: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ере-из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-бра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-при-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держа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-раз-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мысл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воение слов: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ольшой-большой, белая-белая, быстро-быстро, маленький-премаленький, высокий-превысокий.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кращение наименований: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ачетная книжка  — 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зачетк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,   мореходное училище  — 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ореходк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, хирургическое отделение  — 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хирурги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ироко представлена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эмоционально-экспрессивная лексика и фразеолог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рудяга, дармоед, старикан, глупыш; дурочка, вихрасты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водить тень на плетень, брать за горло, лезть в бутылку, брать измор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34:18Z</dcterms:created>
  <dc:creator>Andrei</dc:creator>
  <dc:description/>
  <dc:language>en-US</dc:language>
  <cp:lastModifiedBy>User</cp:lastModifiedBy>
  <dcterms:modified xsi:type="dcterms:W3CDTF">2010-10-27T09:29:38Z</dcterms:modified>
  <cp:revision>15</cp:revision>
  <dc:subject/>
  <dc:title>Разговорный стиль</dc:title>
</cp:coreProperties>
</file>