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F4D-73F3-49FA-ABFE-73DAD0D3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023-1E35-4D75-8563-89C5D2F1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CCF-2161-4F84-8AA9-E72AD1C0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F00-433E-487B-A91B-9AF6928C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B9C3-D5F9-4D62-BA00-FDD8B311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30D4-E72C-4BE3-9EC1-C2098C03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0E01-B7AA-4BDF-8BDE-0A9D6FCE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36BA-E0B7-4902-9AB6-7CCE0E41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1B61-8CCB-4B26-A98A-82AE2AE9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F25B-F947-4F18-93F6-FD6914A2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9453-C3AD-4F82-96AD-E03944D8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B87-536F-41FA-B74E-E9D4188E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6351-E66A-42C5-A7B5-57EF68DD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8B2B-D3DB-4482-823C-3E3E16FE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3FD2-4F33-4005-95D5-C4E8C5C4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9B08-8C20-4BAD-A118-4CBE2395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EE56-E310-4FA5-BE47-C5F0AEFA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1035-CA74-481A-A3EA-1D1B7CF5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BE001-1D43-42F6-B9FF-D337A59B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B6CF-CC5F-4969-8CE0-5B4DAF13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452FA-C1DC-4277-9BFF-7AA65B7F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F6C4F-52FE-48BE-963B-43109B69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038-DE8B-4303-B432-9A6B2EAD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2B67-8A05-43FC-975A-C6E04147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A141E-188F-4CA5-8A38-5CA579AE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B18B-F540-49A9-ADAB-A41A3E65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F2119-D771-4B14-8674-06945BD7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C2893-4A3A-43EC-8888-716D0611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280BA-7362-4ED5-A745-D70662D6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66CC0-5AC3-4E5C-9C71-05FED245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5C933-78D5-466D-AA91-88EDF98F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BE862-CEBD-4CA0-B4A7-DA500504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FEB46-22D7-4251-8205-56A93224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CAA-33A1-4738-A6C0-D8A3577D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AC96C-4C90-4CA3-8DC2-267C40BA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16504-FEE0-4A79-9A96-0CBCADF4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C010E-0156-4959-87E3-42B99507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20C35-4087-45F2-8B5F-9DF851AF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3C420-93F2-4582-865F-ACDA61C1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B1BA9-9232-4A1B-B840-70920A00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00B46-71F0-48A8-AFC6-575AD36E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EA6CE-6833-414D-B986-85CA1F9C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8C026-31AB-4E9D-9714-51E67C41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CD116-76F3-44DA-8FD9-4E9DF330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995-46CF-4BC1-AD26-D77AAC58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6D344-D3AD-45B7-8CA2-83D7DAAF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C8821-F233-4BED-A1AB-6847BCFC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1369A-3435-4729-8815-DC646BDD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8220A-E147-4D8D-A281-9FF6A374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705D4-D580-4997-B723-F78AD803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EF0B5-B600-40C1-8B58-EA1C3FCF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6984D-CB09-413A-999D-72D471F0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0971D-2F08-40C3-AF57-B6AD55CC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72C65-9DE7-4135-AF36-74861D22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423FA-5191-40B9-8378-815D336E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D6B-2722-4BF7-9E0E-828F1B6F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942B7-13D5-4E91-9DA8-80689512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10724-FDC9-450B-B93A-3F62C523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2EC8C-DC4B-42E3-AD04-E98E3239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8F314-C39C-4D35-8BD1-E037D848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418E8-A741-47CA-A9C2-6F2261FC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7FCD0-7D9C-418A-8C0B-882AC6FA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C2B77-B4F6-4660-B7E0-58F4E9FF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3D5A6-809E-4454-882D-F051559C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F6185-A949-46F9-894A-9C4153AB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310B9-7A80-46C7-8254-F804032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B78-485E-4477-B404-0C903576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E84C1-21EA-40EF-96D9-E836A07C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50684-CE09-4E3D-A143-DB64384B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BED33-56A6-48BE-BD56-2F329D2F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79DE0-D5F5-4640-AB4C-43A6F234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1C4D7-77CA-4EE6-9408-695BB2BD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99E12-0B8D-478F-91CB-2F87BAD3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75433-557B-4750-BB3E-5FCEA311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C3D21-378B-40B5-BC59-7EBB0750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65043-DEEA-4B9F-B767-728FA0AA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E03EF-B79E-4FF3-8ED9-6B15C18E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E82-60A7-4E51-8149-6CB23578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6C93B-BA41-46C9-B801-E3C7E3A4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F50E2-D901-4AAE-9002-4D7FA120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6CD3D-A997-4539-AA64-80ED49DD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CD762-7375-4D8C-9B0A-CEA9C776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4DC92-5BF5-4C80-B5D9-469315E3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B09-629A-4415-9EB7-512DBD5F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F204-AAA7-4B81-8247-9146BD88A37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8E0E-1778-46F4-900A-97A07D7AB21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60A1-01AA-4981-91F3-700B5450386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6D88-D8B3-4315-AE7E-2E2C3DA1C41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7F47-29B6-43CE-ADF2-D19335F728A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FCE2-2A60-4E19-B81D-45BB29F152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8EA8-34D3-468D-80A9-7CB4DD279E0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kozlov.ru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зговорный сти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2357280"/>
            <a:ext cx="740700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Основные призна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Языковые особен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Нарушевич А.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илистически нейтральные слов употребляются в переносных значениях,  характерных для разговорного стил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отрезать  - «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езко ответить, желая прекратить разговор»: 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Сказал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 —  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отрезал и больше не повторял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лететь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- «ломаться, портиться» 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: Движок полетел.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Широко используется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етоними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:  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егодня состоится заседание педсовета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Сегодня педсовет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ловарь русского языка, составленный С.И. Ожеговым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Ожег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Широко используется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лексика бытового содержания: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жадничать, тормошить, мигом, крошечный, невдомек, поделом, потихоньку, электричка, картошка, чашка, солонка, метелка, щетка, тарелка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ктические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используются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рмины , иноязычные слова, еще не ставшие общеупотребительными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уются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вторские неологизм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(окказионализмы):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 улице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мряк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мокрослякот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текстные синонимы: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Человек он какой-то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темный, мутный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андартные выражения, привычные формулы речевого этикета: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ак дел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оброе утро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Будьте любезны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ошу прощ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рфолог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Формы имен существительных на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-а 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 именительном падеже множ.  числа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бункера, крейсера, прожектора, инструктор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Формы на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-у 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 родительном и предложном падежах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килограмм сахару, стакан чаю, гроздь винограду, в цеху, в отпуску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     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Нулевое  окончание в родительном падеже множ. числа: 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пять грамм, десять килограмм, килограмм помидор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рфолог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ирокое использование местоимений Например, местоимение 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такой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ожет обозначать положительное качество или служить усилителем: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Она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такая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женщина!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 прекрасная, великолепная, умная; Такая красота кругом!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естоимение в сочетании с инфинитивом может заменить наименование предмета: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Дай чем написать; Принеси что почитать; У тебя есть чем писать?; Возьми чего поес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рфолог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потребление глаголов многократного и однократного действия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читывал, сиживал, хаживал, крутанул, стеганул, долбанул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лаголы со значением  мгновенного действия: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стук, бряк, прыг, скок, трах, шас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актически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е употребляются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причастия и деепричаст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нтакси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полнота  предложений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  как средство речевой экономи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Ты домо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ы на трамва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ы кофе или ча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ипяченая, не беспокойтесь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нтакси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потребление слов-предложений (утвердительных, отрицательных, побудительных)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 — 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упишь билет?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Обязательн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; Можешь принести книгу?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Разумеется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;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очитал заметку?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Нет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еще;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иготовились!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Марш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зговорный сти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говорный стиль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- одна из разновидностей литературного языка, которая обслуживает сферу непринужденного общения людей в быту, в семье, а также сферу неофициальных отношений на производстве, в учреждениях и т.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нтакси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о используются бессоюзные предложени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иедешь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позвон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Есть люди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себя не жалею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нтакси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кспрессивность разговорной речи обусловливает широкое использование вопросительных и восклицательных предложе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еужели ты не смотрел этот фильм? Хочешь посмотреть? Идем сейчас в «Октябрь»! Ну что ты сидишь дома!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нтакси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ложения часто перестраиваются на ходу:  то обрываются, то следуют дополнения к ним, то меняется их синтаксическая структура: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о я не вижу особенных причин так уж сильно волноваться… хотя, впрочем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тика они купили недавно. Миленький такой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итерату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67720" indent="-4680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ршков А. И. Лекции по русской стилистике. М., 2000.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7720" indent="-4680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луб И.Б. Стилистика русского языка. М., 200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7720" indent="-4680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злов Н.И.Стилистика и культура речи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// 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nkozlov.r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7720" indent="-4680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илистический энциклопедический словарь русского языка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Под ред. М.Н. Кожиной. М., 2003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7720" indent="-468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сновные призна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принужденность  общ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посредственность и неподготовленность обще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говорная речь не может быть предварительно обдума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меет преимущественно диалогический характер, хотя возможен и моноло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образ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о используются слова                           с суффиксами субъективной оценки             со значением ласкательности, уменьшительности, пренебрежения, (не)одобрения, иронии и др.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оч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еньк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, доч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шк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, доч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к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, руч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ищ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, зл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ющ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й, больш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щ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образ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мена существительные с суффиксами, придающими речи разговорный или просторечный оттенок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-ак(-як):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 слаб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ак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, добр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як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;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-а: кассир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а, секретар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а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-ан(-ян):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 старик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а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, смуть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я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-у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: хваст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у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, говор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у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-ы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: креп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ы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, мал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ы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;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от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-я: бег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от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я, толк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от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я.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образ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мена прилагательные с суффиксами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щ(-ющ)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: больш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щ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й, худ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ющ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й;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приставкой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ре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-: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ре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обрый,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ре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еприятны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образ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лаголы преффиксально-суффиксального образования: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о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хаж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ив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ь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раз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гул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ив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ь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ри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говар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ив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ь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шепт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ыв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аголы на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-нича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: мод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ича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гримас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ичат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ь, бродяж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ича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столяр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ича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лаголы на 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(-а)-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: толк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а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руг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пуг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бурк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ах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.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лаголы с несколькими приставками: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ере-из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-брать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о-при-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держать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о-раз-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мысли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образ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двоение слов: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большой-большой, белая-белая, быстро-быстро, маленький-премаленький, высокий-превысокий.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кращение наименований: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зачетная книжка  — 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зачетк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,   мореходное училище  — 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мореходк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, хирургическое отделение  — 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хирургия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Широко представлена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эмоционально-экспрессивная лексика и фразеологи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: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трудяга, дармоед, старикан, глупыш; дурочка, вихрасты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водить тень на плетень, брать за горло, лезть в бутылку, брать измор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34:18Z</dcterms:created>
  <dc:creator>Andrei</dc:creator>
  <dc:description/>
  <dc:language>en-US</dc:language>
  <cp:lastModifiedBy>User</cp:lastModifiedBy>
  <dcterms:modified xsi:type="dcterms:W3CDTF">2010-10-27T09:29:38Z</dcterms:modified>
  <cp:revision>15</cp:revision>
  <dc:subject/>
  <dc:title>Разговорный стиль</dc:title>
</cp:coreProperties>
</file>