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3.png" ContentType="image/png"/>
  <Override PartName="/ppt/media/image4.png" ContentType="image/png"/>
  <Override PartName="/ppt/media/image28.wmf" ContentType="image/x-wmf"/>
  <Override PartName="/ppt/media/image10.png" ContentType="image/png"/>
  <Override PartName="/ppt/media/image30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5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FDC2-26EB-482A-9C2B-9BBC3FB3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4263-55C5-48E1-B2D0-D6589E10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8C73-B3DC-4C07-8B13-1E937591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5FFA-8ED2-4BA1-904F-EDECC666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F93B-6658-416C-84ED-BB4CA27D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7A7B-0017-4D5D-B6B4-4E94EFCD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F3D5-71F9-4C57-9E18-264B08DF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B4EB-3E36-42E2-9C42-3B424923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BB59-203E-4AC1-8753-56019A58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A859-0F92-49B0-9FD5-FBD176C2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983B-F5BB-403D-8CFE-4943869F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558F-D581-4C28-B1AD-2D7527CB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F615-9215-469D-832C-AD7C129D196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C42B-C935-4668-A436-16428E4437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120F-9C97-4621-840D-04CB3D1533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826920" y="2205000"/>
            <a:ext cx="7272360" cy="19378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Тема урока: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хождение корней систем уравнений и уравнений с помощью графиков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635280" y="501336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читель: Коптелова Вера Ивановна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6443640" y="5877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9 класс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11280" y="260280"/>
            <a:ext cx="75610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БОУ СОШ «Горки-Х»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6A70-C687-481C-81CB-DDBBDB2E88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873680" y="2124000"/>
            <a:ext cx="3949560" cy="35290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203040" y="217332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У=3,7+2,5х–5х</a:t>
            </a:r>
            <a:r>
              <a:rPr b="1" lang="ru-RU" sz="4000" spc="-1" strike="noStrike" baseline="30000">
                <a:solidFill>
                  <a:srgbClr val="000066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23920" y="326232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2.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У=3,7+2,5х–5х</a:t>
            </a:r>
            <a:r>
              <a:rPr b="1" lang="ru-RU" sz="40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223920" y="426564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3.</a:t>
            </a: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У = 3,7+2,5х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03040" y="544212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,7+2,5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6300720" y="566100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334800" y="415800"/>
            <a:ext cx="835200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ля какой функции построили график в электронной таблице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21FB-6740-42FF-8447-413B297371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521240" y="1598760"/>
            <a:ext cx="4452840" cy="41083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179280" y="535608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,7+2,5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179280" y="227952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У=3,7+2,5х–5х</a:t>
            </a:r>
            <a:r>
              <a:rPr b="1" lang="ru-RU" sz="4000" spc="-1" strike="noStrike" baseline="30000">
                <a:solidFill>
                  <a:srgbClr val="000066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90440" y="340344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2.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У=3,7+2,5х–5х</a:t>
            </a:r>
            <a:r>
              <a:rPr b="1" lang="ru-RU" sz="40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00160" y="437976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3.</a:t>
            </a: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У = 3,7+2,5х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6300720" y="566100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468360" y="260280"/>
            <a:ext cx="835164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ля какой функции построили график в электронной таблице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28B6-04B1-4508-A0C9-24500DA369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5"/>
              <p:cNvSpPr txBox="1"/>
              <p:nvPr/>
            </p:nvSpPr>
            <p:spPr>
              <a:xfrm>
                <a:off x="5054760" y="1989000"/>
                <a:ext cx="30686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5148360" y="3141720"/>
                <a:ext cx="24289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7"/>
              <p:cNvSpPr txBox="1"/>
              <p:nvPr/>
            </p:nvSpPr>
            <p:spPr>
              <a:xfrm>
                <a:off x="320760" y="4292640"/>
                <a:ext cx="41018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8"/>
              <p:cNvSpPr txBox="1"/>
              <p:nvPr/>
            </p:nvSpPr>
            <p:spPr>
              <a:xfrm>
                <a:off x="4932360" y="4292640"/>
                <a:ext cx="37893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Text Box 9"/>
          <p:cNvSpPr/>
          <p:nvPr/>
        </p:nvSpPr>
        <p:spPr>
          <a:xfrm>
            <a:off x="395280" y="328464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у = 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4х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395280" y="220500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у =  3х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468360" y="404640"/>
            <a:ext cx="806436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тетрадях схематически изобразите графики этих функций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2340000" y="5661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 (х + 3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(х –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796D-2F85-460F-9A1C-12AF62A100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24000" y="5229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у =  3х 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324000" y="333360"/>
            <a:ext cx="302400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веряемся…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Line 6"/>
          <p:cNvSpPr/>
          <p:nvPr/>
        </p:nvSpPr>
        <p:spPr>
          <a:xfrm flipV="1">
            <a:off x="1763640" y="1628280"/>
            <a:ext cx="0" cy="331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468360" y="2924280"/>
            <a:ext cx="33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Line 8"/>
          <p:cNvSpPr/>
          <p:nvPr/>
        </p:nvSpPr>
        <p:spPr>
          <a:xfrm flipH="1">
            <a:off x="826560" y="1916280"/>
            <a:ext cx="2737080" cy="3025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3564000" y="306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835280" y="162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4859280" y="530064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у = х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4х 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Line 12"/>
          <p:cNvSpPr/>
          <p:nvPr/>
        </p:nvSpPr>
        <p:spPr>
          <a:xfrm flipV="1">
            <a:off x="6156360" y="1844640"/>
            <a:ext cx="4680" cy="289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Line 13"/>
          <p:cNvSpPr/>
          <p:nvPr/>
        </p:nvSpPr>
        <p:spPr>
          <a:xfrm>
            <a:off x="5003640" y="342900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6877080" y="4292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&gt;0, D&gt;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7812000" y="2852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6156360" y="1628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Freeform 17"/>
          <p:cNvSpPr/>
          <p:nvPr/>
        </p:nvSpPr>
        <p:spPr>
          <a:xfrm>
            <a:off x="5580000" y="1989000"/>
            <a:ext cx="1440000" cy="188280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1882800"/>
              <a:gd name="textAreaBottom" fmla="*/ 1883160 h 1882800"/>
            </a:gdLst>
            <a:ahLst/>
            <a:rect l="textAreaLeft" t="textAreaTop" r="textAreaRight" b="textAreaBottom"/>
            <a:pathLst>
              <a:path w="771" h="1186">
                <a:moveTo>
                  <a:pt x="771" y="45"/>
                </a:moveTo>
                <a:cubicBezTo>
                  <a:pt x="653" y="615"/>
                  <a:pt x="536" y="1186"/>
                  <a:pt x="408" y="1179"/>
                </a:cubicBezTo>
                <a:cubicBezTo>
                  <a:pt x="280" y="1172"/>
                  <a:pt x="68" y="196"/>
                  <a:pt x="0" y="0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D130-4FE2-40B2-A7AF-D09C70B991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270000" y="4940280"/>
                <a:ext cx="41018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5"/>
              <p:cNvSpPr txBox="1"/>
              <p:nvPr/>
            </p:nvSpPr>
            <p:spPr>
              <a:xfrm>
                <a:off x="5160960" y="4881600"/>
                <a:ext cx="30700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2" name="Line 6"/>
          <p:cNvSpPr/>
          <p:nvPr/>
        </p:nvSpPr>
        <p:spPr>
          <a:xfrm flipV="1">
            <a:off x="1403280" y="1324080"/>
            <a:ext cx="4680" cy="253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250920" y="263700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684360" y="386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&lt;0, m=3, n=5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2843280" y="2781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1403280" y="836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Freeform 11"/>
          <p:cNvSpPr/>
          <p:nvPr/>
        </p:nvSpPr>
        <p:spPr>
          <a:xfrm rot="10800000">
            <a:off x="1258920" y="1844640"/>
            <a:ext cx="1440000" cy="188280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1882800"/>
              <a:gd name="textAreaBottom" fmla="*/ 1883160 h 1882800"/>
            </a:gdLst>
            <a:ahLst/>
            <a:rect l="textAreaLeft" t="textAreaTop" r="textAreaRight" b="textAreaBottom"/>
            <a:pathLst>
              <a:path w="771" h="1186">
                <a:moveTo>
                  <a:pt x="771" y="45"/>
                </a:moveTo>
                <a:cubicBezTo>
                  <a:pt x="653" y="615"/>
                  <a:pt x="536" y="1186"/>
                  <a:pt x="408" y="1179"/>
                </a:cubicBezTo>
                <a:cubicBezTo>
                  <a:pt x="280" y="1172"/>
                  <a:pt x="68" y="196"/>
                  <a:pt x="0" y="0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Line 13"/>
          <p:cNvSpPr/>
          <p:nvPr/>
        </p:nvSpPr>
        <p:spPr>
          <a:xfrm flipV="1">
            <a:off x="6229440" y="765000"/>
            <a:ext cx="0" cy="338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Line 14"/>
          <p:cNvSpPr/>
          <p:nvPr/>
        </p:nvSpPr>
        <p:spPr>
          <a:xfrm>
            <a:off x="5076720" y="278136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Freeform 15"/>
          <p:cNvSpPr/>
          <p:nvPr/>
        </p:nvSpPr>
        <p:spPr>
          <a:xfrm flipV="1" rot="9446400">
            <a:off x="6504120" y="2129400"/>
            <a:ext cx="2458800" cy="468360"/>
          </a:xfrm>
          <a:custGeom>
            <a:avLst/>
            <a:gdLst>
              <a:gd name="textAreaLeft" fmla="*/ 0 w 2458800"/>
              <a:gd name="textAreaRight" fmla="*/ 2459160 w 2458800"/>
              <a:gd name="textAreaTop" fmla="*/ -360 h 468360"/>
              <a:gd name="textAreaBottom" fmla="*/ 468360 h 468360"/>
            </a:gdLst>
            <a:ahLst/>
            <a:rect l="textAreaLeft" t="textAreaTop" r="textAreaRight" b="textAreaBottom"/>
            <a:pathLst>
              <a:path w="1951" h="817">
                <a:moveTo>
                  <a:pt x="0" y="817"/>
                </a:moveTo>
                <a:cubicBezTo>
                  <a:pt x="518" y="499"/>
                  <a:pt x="1036" y="182"/>
                  <a:pt x="1361" y="91"/>
                </a:cubicBezTo>
                <a:cubicBezTo>
                  <a:pt x="1686" y="0"/>
                  <a:pt x="1818" y="136"/>
                  <a:pt x="1951" y="272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6445080" y="692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6659640" y="3860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&gt;0, b &lt;0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8639280" y="2997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6443640" y="292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0E27-E8DE-4C7C-B87D-C0F1AA5555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765000" y="5145120"/>
                <a:ext cx="24289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5"/>
              <p:cNvSpPr txBox="1"/>
              <p:nvPr/>
            </p:nvSpPr>
            <p:spPr>
              <a:xfrm>
                <a:off x="4836960" y="5157720"/>
                <a:ext cx="37893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Line 12"/>
          <p:cNvSpPr/>
          <p:nvPr/>
        </p:nvSpPr>
        <p:spPr>
          <a:xfrm flipV="1">
            <a:off x="1979640" y="1268280"/>
            <a:ext cx="0" cy="295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Line 13"/>
          <p:cNvSpPr/>
          <p:nvPr/>
        </p:nvSpPr>
        <p:spPr>
          <a:xfrm>
            <a:off x="539640" y="2781360"/>
            <a:ext cx="331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Line 14"/>
          <p:cNvSpPr/>
          <p:nvPr/>
        </p:nvSpPr>
        <p:spPr>
          <a:xfrm>
            <a:off x="682560" y="1268280"/>
            <a:ext cx="1513080" cy="15130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Line 15"/>
          <p:cNvSpPr/>
          <p:nvPr/>
        </p:nvSpPr>
        <p:spPr>
          <a:xfrm flipV="1">
            <a:off x="2195640" y="1267920"/>
            <a:ext cx="1439640" cy="15130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1979640" y="2852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1979640" y="4292640"/>
            <a:ext cx="165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6/4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3706920" y="2852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2050920" y="9079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Line 20"/>
          <p:cNvSpPr/>
          <p:nvPr/>
        </p:nvSpPr>
        <p:spPr>
          <a:xfrm flipH="1" flipV="1">
            <a:off x="6443640" y="836640"/>
            <a:ext cx="1440" cy="316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Line 21"/>
          <p:cNvSpPr/>
          <p:nvPr/>
        </p:nvSpPr>
        <p:spPr>
          <a:xfrm>
            <a:off x="5076720" y="2637000"/>
            <a:ext cx="331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Freeform 22"/>
          <p:cNvSpPr/>
          <p:nvPr/>
        </p:nvSpPr>
        <p:spPr>
          <a:xfrm>
            <a:off x="5219640" y="1052640"/>
            <a:ext cx="1728720" cy="374652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3746520"/>
              <a:gd name="textAreaBottom" fmla="*/ 3746880 h 3746520"/>
            </a:gdLst>
            <a:ahLst/>
            <a:rect l="textAreaLeft" t="textAreaTop" r="textAreaRight" b="textAreaBottom"/>
            <a:pathLst>
              <a:path w="680" h="2041">
                <a:moveTo>
                  <a:pt x="680" y="0"/>
                </a:moveTo>
                <a:cubicBezTo>
                  <a:pt x="631" y="336"/>
                  <a:pt x="582" y="673"/>
                  <a:pt x="499" y="862"/>
                </a:cubicBezTo>
                <a:cubicBezTo>
                  <a:pt x="416" y="1051"/>
                  <a:pt x="264" y="938"/>
                  <a:pt x="181" y="1134"/>
                </a:cubicBezTo>
                <a:cubicBezTo>
                  <a:pt x="98" y="1330"/>
                  <a:pt x="30" y="1890"/>
                  <a:pt x="0" y="2041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Text Box 23"/>
          <p:cNvSpPr/>
          <p:nvPr/>
        </p:nvSpPr>
        <p:spPr>
          <a:xfrm>
            <a:off x="8101080" y="278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Text Box 24"/>
          <p:cNvSpPr/>
          <p:nvPr/>
        </p:nvSpPr>
        <p:spPr>
          <a:xfrm>
            <a:off x="6589800" y="98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Text Box 25"/>
          <p:cNvSpPr/>
          <p:nvPr/>
        </p:nvSpPr>
        <p:spPr>
          <a:xfrm>
            <a:off x="5940360" y="436572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(-2; -1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Text Box 26"/>
          <p:cNvSpPr/>
          <p:nvPr/>
        </p:nvSpPr>
        <p:spPr>
          <a:xfrm>
            <a:off x="5580000" y="2133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Text Box 27"/>
          <p:cNvSpPr/>
          <p:nvPr/>
        </p:nvSpPr>
        <p:spPr>
          <a:xfrm>
            <a:off x="6516720" y="2708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Line 28"/>
          <p:cNvSpPr/>
          <p:nvPr/>
        </p:nvSpPr>
        <p:spPr>
          <a:xfrm>
            <a:off x="6012000" y="2637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Line 29"/>
          <p:cNvSpPr/>
          <p:nvPr/>
        </p:nvSpPr>
        <p:spPr>
          <a:xfrm>
            <a:off x="6012000" y="2924280"/>
            <a:ext cx="43164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EC17-A94A-49D5-9D9E-FD86D50CE3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Oval 8"/>
          <p:cNvSpPr/>
          <p:nvPr/>
        </p:nvSpPr>
        <p:spPr>
          <a:xfrm>
            <a:off x="2627280" y="1844640"/>
            <a:ext cx="3529080" cy="33847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1835280" y="476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 (х + 3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(х –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Line 5"/>
          <p:cNvSpPr/>
          <p:nvPr/>
        </p:nvSpPr>
        <p:spPr>
          <a:xfrm>
            <a:off x="900000" y="4292640"/>
            <a:ext cx="669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Line 6"/>
          <p:cNvSpPr/>
          <p:nvPr/>
        </p:nvSpPr>
        <p:spPr>
          <a:xfrm flipV="1">
            <a:off x="5508720" y="1484280"/>
            <a:ext cx="0" cy="489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Oval 7"/>
          <p:cNvSpPr/>
          <p:nvPr/>
        </p:nvSpPr>
        <p:spPr>
          <a:xfrm>
            <a:off x="4356000" y="34290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7740720" y="3860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796000" y="1413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395280" y="13478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 окр. (-3;2)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=4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0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4154-059D-44D7-B165-890BB0FCE9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916360" y="1555920"/>
            <a:ext cx="2447640" cy="218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7" name="Line 6"/>
          <p:cNvSpPr/>
          <p:nvPr/>
        </p:nvSpPr>
        <p:spPr>
          <a:xfrm>
            <a:off x="5219640" y="1700280"/>
            <a:ext cx="0" cy="21603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395280" y="101520"/>
            <a:ext cx="8424720" cy="11912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Зная, что прямая х=0 – ось симметрии данного графика, какая из двух кривых является продолжением этого графика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9" name="Picture 10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539640" y="3860640"/>
            <a:ext cx="2820960" cy="2521080"/>
          </a:xfrm>
          <a:prstGeom prst="rect">
            <a:avLst/>
          </a:prstGeom>
          <a:ln w="0">
            <a:noFill/>
          </a:ln>
        </p:spPr>
      </p:pic>
      <p:sp>
        <p:nvSpPr>
          <p:cNvPr id="280" name="Line 13"/>
          <p:cNvSpPr/>
          <p:nvPr/>
        </p:nvSpPr>
        <p:spPr>
          <a:xfrm>
            <a:off x="1979640" y="4005360"/>
            <a:ext cx="0" cy="24922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1" name="Picture 14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076720" y="3879720"/>
            <a:ext cx="2808360" cy="2509920"/>
          </a:xfrm>
          <a:prstGeom prst="rect">
            <a:avLst/>
          </a:prstGeom>
          <a:ln w="0">
            <a:noFill/>
          </a:ln>
        </p:spPr>
      </p:pic>
      <p:sp>
        <p:nvSpPr>
          <p:cNvPr id="282" name="Line 15"/>
          <p:cNvSpPr/>
          <p:nvPr/>
        </p:nvSpPr>
        <p:spPr>
          <a:xfrm>
            <a:off x="6516720" y="4005360"/>
            <a:ext cx="0" cy="21603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611280" y="630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4356000" y="630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CFBB-3C15-4E77-8DD8-2254ACA296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771640" y="1565280"/>
            <a:ext cx="2305080" cy="206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7" name="Text Box 4"/>
          <p:cNvSpPr/>
          <p:nvPr/>
        </p:nvSpPr>
        <p:spPr>
          <a:xfrm>
            <a:off x="324000" y="217440"/>
            <a:ext cx="8569080" cy="11912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Зная, что точка (0;0) – точка симметрии данного графика, какая из двух кривых является продолжением этого графика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539640" y="3743280"/>
            <a:ext cx="2952720" cy="26384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076720" y="3751200"/>
            <a:ext cx="2951280" cy="26384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9"/>
          <p:cNvSpPr/>
          <p:nvPr/>
        </p:nvSpPr>
        <p:spPr>
          <a:xfrm>
            <a:off x="611280" y="630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4356000" y="630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Oval 11"/>
          <p:cNvSpPr/>
          <p:nvPr/>
        </p:nvSpPr>
        <p:spPr>
          <a:xfrm>
            <a:off x="4932360" y="184464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Oval 12"/>
          <p:cNvSpPr/>
          <p:nvPr/>
        </p:nvSpPr>
        <p:spPr>
          <a:xfrm>
            <a:off x="6516720" y="5013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Oval 13"/>
          <p:cNvSpPr/>
          <p:nvPr/>
        </p:nvSpPr>
        <p:spPr>
          <a:xfrm>
            <a:off x="1979640" y="4149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0C07-FE1C-40A3-968B-A3557698F8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7920" y="572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74520" y="425520"/>
            <a:ext cx="885672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акие формулы, написанные при построении графиков в электронной таблице, соответствуют функциям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179280" y="141300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 У=5+ 2х–7х</a:t>
            </a:r>
            <a:r>
              <a:rPr b="0" lang="ru-RU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179280" y="213372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 У=5х</a:t>
            </a:r>
            <a:r>
              <a:rPr b="0" lang="ru-RU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+2х–7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179280" y="292428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 У = 7+5х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79280" y="386064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 У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-5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12"/>
              <p:cNvSpPr txBox="1"/>
              <p:nvPr/>
            </p:nvSpPr>
            <p:spPr>
              <a:xfrm>
                <a:off x="271440" y="4724280"/>
                <a:ext cx="35528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3"/>
              <p:cNvSpPr txBox="1"/>
              <p:nvPr/>
            </p:nvSpPr>
            <p:spPr>
              <a:xfrm>
                <a:off x="179280" y="5661000"/>
                <a:ext cx="30258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04" name="Text Box 14"/>
          <p:cNvSpPr/>
          <p:nvPr/>
        </p:nvSpPr>
        <p:spPr>
          <a:xfrm>
            <a:off x="4284720" y="3789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г) =5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+2*D2-7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*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D2^3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4284720" y="558972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е) =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abs(7 -5*D2)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4284720" y="220500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б) =7+5*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D2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Text Box 17"/>
          <p:cNvSpPr/>
          <p:nvPr/>
        </p:nvSpPr>
        <p:spPr>
          <a:xfrm>
            <a:off x="4284720" y="465300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д) =5*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D2^2+2*D2-7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4284720" y="299736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в) =7+(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D2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-2)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^2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4284720" y="141300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а) =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sqrt(5*D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-7)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Line 19"/>
          <p:cNvSpPr/>
          <p:nvPr/>
        </p:nvSpPr>
        <p:spPr>
          <a:xfrm flipV="1">
            <a:off x="3059280" y="1988640"/>
            <a:ext cx="1441440" cy="424836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Line 20"/>
          <p:cNvSpPr/>
          <p:nvPr/>
        </p:nvSpPr>
        <p:spPr>
          <a:xfrm flipV="1">
            <a:off x="2843280" y="2565360"/>
            <a:ext cx="1657440" cy="7192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Line 21"/>
          <p:cNvSpPr/>
          <p:nvPr/>
        </p:nvSpPr>
        <p:spPr>
          <a:xfrm>
            <a:off x="2771640" y="4221000"/>
            <a:ext cx="1729080" cy="180036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Line 22"/>
          <p:cNvSpPr/>
          <p:nvPr/>
        </p:nvSpPr>
        <p:spPr>
          <a:xfrm flipV="1">
            <a:off x="2411280" y="3357360"/>
            <a:ext cx="2160720" cy="187164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Line 23"/>
          <p:cNvSpPr/>
          <p:nvPr/>
        </p:nvSpPr>
        <p:spPr>
          <a:xfrm>
            <a:off x="1908000" y="2565360"/>
            <a:ext cx="2592720" cy="25192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Line 24"/>
          <p:cNvSpPr/>
          <p:nvPr/>
        </p:nvSpPr>
        <p:spPr>
          <a:xfrm>
            <a:off x="2340000" y="1844640"/>
            <a:ext cx="2160720" cy="237636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Text Box 25"/>
          <p:cNvSpPr/>
          <p:nvPr/>
        </p:nvSpPr>
        <p:spPr>
          <a:xfrm>
            <a:off x="1908000" y="638172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,  2 - Д,  3 - б,  4 - е,  5 - в,  6 - а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2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3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4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48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5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6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A407-B219-4FCC-84F2-87B237FCA2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4920" y="1587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ение, алгебра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743280" y="15552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йства и графики функций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619280" y="7412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нейная функция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Line 7"/>
          <p:cNvSpPr/>
          <p:nvPr/>
        </p:nvSpPr>
        <p:spPr>
          <a:xfrm flipV="1">
            <a:off x="900000" y="1469520"/>
            <a:ext cx="0" cy="180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Line 8"/>
          <p:cNvSpPr/>
          <p:nvPr/>
        </p:nvSpPr>
        <p:spPr>
          <a:xfrm>
            <a:off x="179280" y="227664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Line 11"/>
          <p:cNvSpPr/>
          <p:nvPr/>
        </p:nvSpPr>
        <p:spPr>
          <a:xfrm flipV="1">
            <a:off x="503280" y="1821960"/>
            <a:ext cx="2232000" cy="108108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Line 12"/>
          <p:cNvSpPr/>
          <p:nvPr/>
        </p:nvSpPr>
        <p:spPr>
          <a:xfrm flipV="1">
            <a:off x="6164280" y="1347840"/>
            <a:ext cx="0" cy="20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4859280" y="2319480"/>
            <a:ext cx="273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Line 14"/>
          <p:cNvSpPr/>
          <p:nvPr/>
        </p:nvSpPr>
        <p:spPr>
          <a:xfrm flipH="1" flipV="1">
            <a:off x="5653080" y="1469520"/>
            <a:ext cx="1943280" cy="15843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2050920" y="2276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7740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1006560" y="1405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6254640" y="12733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1438200" y="29988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0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&lt;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6948360" y="311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0, b&gt;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Line 7"/>
          <p:cNvSpPr/>
          <p:nvPr/>
        </p:nvSpPr>
        <p:spPr>
          <a:xfrm flipV="1">
            <a:off x="1042920" y="3933360"/>
            <a:ext cx="0" cy="180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Line 8"/>
          <p:cNvSpPr/>
          <p:nvPr/>
        </p:nvSpPr>
        <p:spPr>
          <a:xfrm>
            <a:off x="395280" y="515772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Line 12"/>
          <p:cNvSpPr/>
          <p:nvPr/>
        </p:nvSpPr>
        <p:spPr>
          <a:xfrm flipV="1">
            <a:off x="6084720" y="3645000"/>
            <a:ext cx="0" cy="25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4932360" y="5084640"/>
            <a:ext cx="302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1187280" y="3809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615636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30592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8101080" y="49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1403280" y="5661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= b, b&gt;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Line 38"/>
          <p:cNvSpPr/>
          <p:nvPr/>
        </p:nvSpPr>
        <p:spPr>
          <a:xfrm>
            <a:off x="250920" y="4508640"/>
            <a:ext cx="2520720" cy="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6804000" y="5877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= a, a&gt;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Line 40"/>
          <p:cNvSpPr/>
          <p:nvPr/>
        </p:nvSpPr>
        <p:spPr>
          <a:xfrm>
            <a:off x="6732720" y="4005360"/>
            <a:ext cx="0" cy="187164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5B5A-3EE6-4913-9992-FA65B371E2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44520" y="141120"/>
            <a:ext cx="8353440" cy="11912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асставьте по порядку алгоритм построения графика функции у = 2х</a:t>
            </a:r>
            <a:r>
              <a:rPr b="1" lang="ru-RU" sz="2400" spc="-1" strike="noStrike" baseline="30000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– 3х</a:t>
            </a:r>
            <a:r>
              <a:rPr b="1" lang="ru-RU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+4х в электронной таблице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TextBox 8"/>
          <p:cNvSpPr/>
          <p:nvPr/>
        </p:nvSpPr>
        <p:spPr>
          <a:xfrm>
            <a:off x="355680" y="55292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TextBox 9"/>
          <p:cNvSpPr/>
          <p:nvPr/>
        </p:nvSpPr>
        <p:spPr>
          <a:xfrm>
            <a:off x="2298600" y="55292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1" name="TextBox 10"/>
          <p:cNvSpPr/>
          <p:nvPr/>
        </p:nvSpPr>
        <p:spPr>
          <a:xfrm>
            <a:off x="3922560" y="5540400"/>
            <a:ext cx="10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2" name="TextBox 11"/>
          <p:cNvSpPr/>
          <p:nvPr/>
        </p:nvSpPr>
        <p:spPr>
          <a:xfrm>
            <a:off x="5867280" y="55404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3" name="Picture 12" descr=""/>
          <p:cNvPicPr/>
          <p:nvPr/>
        </p:nvPicPr>
        <p:blipFill>
          <a:blip r:embed="rId1"/>
          <a:stretch/>
        </p:blipFill>
        <p:spPr>
          <a:xfrm>
            <a:off x="2030400" y="1598760"/>
            <a:ext cx="1079640" cy="37447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324" name="Picture 13" descr=""/>
          <p:cNvPicPr/>
          <p:nvPr/>
        </p:nvPicPr>
        <p:blipFill>
          <a:blip r:embed="rId2"/>
          <a:stretch/>
        </p:blipFill>
        <p:spPr>
          <a:xfrm>
            <a:off x="3560760" y="1608120"/>
            <a:ext cx="1440000" cy="373536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325" name="Picture 14" descr=""/>
          <p:cNvPicPr/>
          <p:nvPr/>
        </p:nvPicPr>
        <p:blipFill>
          <a:blip r:embed="rId3"/>
          <a:stretch/>
        </p:blipFill>
        <p:spPr>
          <a:xfrm>
            <a:off x="7253280" y="1622520"/>
            <a:ext cx="1444680" cy="373860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326" name="Picture 15" descr=""/>
          <p:cNvPicPr/>
          <p:nvPr/>
        </p:nvPicPr>
        <p:blipFill>
          <a:blip r:embed="rId4"/>
          <a:stretch/>
        </p:blipFill>
        <p:spPr>
          <a:xfrm>
            <a:off x="165240" y="1527120"/>
            <a:ext cx="1296720" cy="381636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327" name="Picture 16" descr=""/>
          <p:cNvPicPr/>
          <p:nvPr/>
        </p:nvPicPr>
        <p:blipFill>
          <a:blip r:embed="rId5"/>
          <a:stretch/>
        </p:blipFill>
        <p:spPr>
          <a:xfrm>
            <a:off x="5462640" y="1619280"/>
            <a:ext cx="1377720" cy="37447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328" name="TextBox 11"/>
          <p:cNvSpPr/>
          <p:nvPr/>
        </p:nvSpPr>
        <p:spPr>
          <a:xfrm>
            <a:off x="7620120" y="55562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Text Box 18"/>
          <p:cNvSpPr/>
          <p:nvPr/>
        </p:nvSpPr>
        <p:spPr>
          <a:xfrm>
            <a:off x="2556000" y="623736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 Б, В, Д, Г, А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8338-12EF-405C-9C64-91BC45BF7E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31" name="Picture 169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763640" y="2189160"/>
            <a:ext cx="3168720" cy="2523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70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5508720" y="2201760"/>
            <a:ext cx="2950920" cy="25225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71"/>
          <p:cNvSpPr/>
          <p:nvPr/>
        </p:nvSpPr>
        <p:spPr>
          <a:xfrm>
            <a:off x="3817800" y="146376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72"/>
              <p:cNvSpPr txBox="1"/>
              <p:nvPr/>
            </p:nvSpPr>
            <p:spPr>
              <a:xfrm>
                <a:off x="5010120" y="1236600"/>
                <a:ext cx="1619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,5</m:t>
                        </m:r>
                        <m:r>
                          <m:t xml:space="preserve">х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35" name="Text Box 173"/>
          <p:cNvSpPr/>
          <p:nvPr/>
        </p:nvSpPr>
        <p:spPr>
          <a:xfrm>
            <a:off x="468360" y="93600"/>
            <a:ext cx="7921440" cy="11912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чему в электронной таблице в ходе построения графика в таблице значений у появилась запис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Ошибка:502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Text Box 175"/>
          <p:cNvSpPr/>
          <p:nvPr/>
        </p:nvSpPr>
        <p:spPr>
          <a:xfrm>
            <a:off x="684360" y="5435640"/>
            <a:ext cx="8281800" cy="1557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акой из двух графиков соответствует данной функции?                                                                        Для построения этого графика как надо выделить диапазон, чтобы график получился правильным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37" name="Picture 62" descr=""/>
          <p:cNvPicPr/>
          <p:nvPr/>
        </p:nvPicPr>
        <p:blipFill>
          <a:blip r:embed="rId3"/>
          <a:stretch/>
        </p:blipFill>
        <p:spPr>
          <a:xfrm>
            <a:off x="209520" y="1576440"/>
            <a:ext cx="1368360" cy="356724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63"/>
          <p:cNvSpPr/>
          <p:nvPr/>
        </p:nvSpPr>
        <p:spPr>
          <a:xfrm>
            <a:off x="2805120" y="47131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Text Box 64"/>
          <p:cNvSpPr/>
          <p:nvPr/>
        </p:nvSpPr>
        <p:spPr>
          <a:xfrm>
            <a:off x="6862680" y="46958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2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5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14A7-D49B-4F87-8034-2FEE2EFB39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932360" y="2276640"/>
            <a:ext cx="3527280" cy="315252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6"/>
          <p:cNvSpPr/>
          <p:nvPr/>
        </p:nvSpPr>
        <p:spPr>
          <a:xfrm>
            <a:off x="179280" y="112536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)У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9"/>
              <p:cNvSpPr txBox="1"/>
              <p:nvPr/>
            </p:nvSpPr>
            <p:spPr>
              <a:xfrm>
                <a:off x="1403280" y="981000"/>
                <a:ext cx="2808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,7</m:t>
                        </m:r>
                        <m:r>
                          <m:t xml:space="preserve">+</m:t>
                        </m:r>
                        <m:r>
                          <m:t xml:space="preserve">2,5</m:t>
                        </m:r>
                        <m:r>
                          <m:t xml:space="preserve">х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44" name="Text Box 10"/>
          <p:cNvSpPr/>
          <p:nvPr/>
        </p:nvSpPr>
        <p:spPr>
          <a:xfrm>
            <a:off x="4572000" y="105264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)У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11"/>
              <p:cNvSpPr txBox="1"/>
              <p:nvPr/>
            </p:nvSpPr>
            <p:spPr>
              <a:xfrm>
                <a:off x="5796000" y="836640"/>
                <a:ext cx="299880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,7</m:t>
                            </m:r>
                            <m:r>
                              <m:t xml:space="preserve">+</m:t>
                            </m:r>
                            <m:r>
                              <m:t xml:space="preserve">2,5</m:t>
                            </m:r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346" name="Picture 12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179280" y="2276640"/>
            <a:ext cx="4464000" cy="313200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13"/>
          <p:cNvSpPr/>
          <p:nvPr/>
        </p:nvSpPr>
        <p:spPr>
          <a:xfrm>
            <a:off x="468360" y="189000"/>
            <a:ext cx="828036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акая функция соответствует графику, построенных в электронной таблице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Text Box 14"/>
          <p:cNvSpPr/>
          <p:nvPr/>
        </p:nvSpPr>
        <p:spPr>
          <a:xfrm>
            <a:off x="5867280" y="5516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Text Box 15"/>
          <p:cNvSpPr/>
          <p:nvPr/>
        </p:nvSpPr>
        <p:spPr>
          <a:xfrm>
            <a:off x="1332000" y="5516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0" name="Line 14"/>
          <p:cNvSpPr/>
          <p:nvPr/>
        </p:nvSpPr>
        <p:spPr>
          <a:xfrm>
            <a:off x="2340000" y="1773360"/>
            <a:ext cx="4537080" cy="15112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Line 15"/>
          <p:cNvSpPr/>
          <p:nvPr/>
        </p:nvSpPr>
        <p:spPr>
          <a:xfrm flipH="1">
            <a:off x="2484000" y="1773360"/>
            <a:ext cx="4319640" cy="23763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0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1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9AE7-8963-4A1D-9BF9-329C492CD3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53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332000" y="115920"/>
            <a:ext cx="5972040" cy="359568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5"/>
          <p:cNvSpPr/>
          <p:nvPr/>
        </p:nvSpPr>
        <p:spPr>
          <a:xfrm>
            <a:off x="684360" y="3789360"/>
            <a:ext cx="755964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ак вы думаете, сколько раз пересекаются  эти графики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4360" y="4724280"/>
            <a:ext cx="7559640" cy="11912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Что нужно сделать при построении этих графиков в электронной таблице, чтобы были видны все точки пересечения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684360" y="6021360"/>
            <a:ext cx="756108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 при построении в тетради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0BC8-D66B-4F0D-9C04-C691112EA4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611280" y="11592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 задана формулой: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5"/>
              <p:cNvSpPr txBox="1"/>
              <p:nvPr/>
            </p:nvSpPr>
            <p:spPr>
              <a:xfrm>
                <a:off x="179280" y="692280"/>
                <a:ext cx="86407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,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Text Box 6"/>
          <p:cNvSpPr/>
          <p:nvPr/>
        </p:nvSpPr>
        <p:spPr>
          <a:xfrm>
            <a:off x="826920" y="155736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ужно построить график этой функции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395280" y="2133720"/>
            <a:ext cx="777564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де проще будет построить график этой функции – в тетради или электронной таблице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431640" y="5837400"/>
            <a:ext cx="784872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ак на построенном графике увидеть нули функции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11280" y="4437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Line 11"/>
          <p:cNvSpPr/>
          <p:nvPr/>
        </p:nvSpPr>
        <p:spPr>
          <a:xfrm flipV="1">
            <a:off x="3780000" y="3068640"/>
            <a:ext cx="0" cy="273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Freeform 12"/>
          <p:cNvSpPr/>
          <p:nvPr/>
        </p:nvSpPr>
        <p:spPr>
          <a:xfrm>
            <a:off x="1476360" y="3141720"/>
            <a:ext cx="5327640" cy="2448000"/>
          </a:xfrm>
          <a:custGeom>
            <a:avLst/>
            <a:gdLst/>
            <a:ahLst/>
            <a:rect l="l" t="t" r="r" b="b"/>
            <a:pathLst>
              <a:path w="3583" h="1580">
                <a:moveTo>
                  <a:pt x="0" y="355"/>
                </a:moveTo>
                <a:cubicBezTo>
                  <a:pt x="204" y="809"/>
                  <a:pt x="409" y="1263"/>
                  <a:pt x="590" y="1308"/>
                </a:cubicBezTo>
                <a:cubicBezTo>
                  <a:pt x="771" y="1353"/>
                  <a:pt x="862" y="711"/>
                  <a:pt x="1089" y="628"/>
                </a:cubicBezTo>
                <a:cubicBezTo>
                  <a:pt x="1316" y="545"/>
                  <a:pt x="1686" y="892"/>
                  <a:pt x="1951" y="809"/>
                </a:cubicBezTo>
                <a:cubicBezTo>
                  <a:pt x="2216" y="726"/>
                  <a:pt x="2404" y="0"/>
                  <a:pt x="2676" y="129"/>
                </a:cubicBezTo>
                <a:cubicBezTo>
                  <a:pt x="2948" y="258"/>
                  <a:pt x="3265" y="919"/>
                  <a:pt x="3583" y="1580"/>
                </a:cubicBezTo>
              </a:path>
            </a:pathLst>
          </a:custGeom>
          <a:noFill/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Line 13"/>
          <p:cNvSpPr/>
          <p:nvPr/>
        </p:nvSpPr>
        <p:spPr>
          <a:xfrm flipV="1">
            <a:off x="6804000" y="3500280"/>
            <a:ext cx="936720" cy="208944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Oval 17"/>
          <p:cNvSpPr/>
          <p:nvPr/>
        </p:nvSpPr>
        <p:spPr>
          <a:xfrm>
            <a:off x="1763640" y="4365720"/>
            <a:ext cx="144360" cy="142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Oval 18"/>
          <p:cNvSpPr/>
          <p:nvPr/>
        </p:nvSpPr>
        <p:spPr>
          <a:xfrm>
            <a:off x="2771640" y="4365720"/>
            <a:ext cx="144720" cy="142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Oval 19"/>
          <p:cNvSpPr/>
          <p:nvPr/>
        </p:nvSpPr>
        <p:spPr>
          <a:xfrm>
            <a:off x="4211640" y="4365720"/>
            <a:ext cx="144360" cy="142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Oval 20"/>
          <p:cNvSpPr/>
          <p:nvPr/>
        </p:nvSpPr>
        <p:spPr>
          <a:xfrm>
            <a:off x="6156360" y="4365720"/>
            <a:ext cx="144360" cy="142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Oval 21"/>
          <p:cNvSpPr/>
          <p:nvPr/>
        </p:nvSpPr>
        <p:spPr>
          <a:xfrm>
            <a:off x="7236000" y="4365720"/>
            <a:ext cx="144360" cy="142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Text Box 22"/>
          <p:cNvSpPr/>
          <p:nvPr/>
        </p:nvSpPr>
        <p:spPr>
          <a:xfrm>
            <a:off x="8028000" y="465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Text Box 23"/>
          <p:cNvSpPr/>
          <p:nvPr/>
        </p:nvSpPr>
        <p:spPr>
          <a:xfrm>
            <a:off x="3995640" y="3141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4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7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0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3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6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86E3-9130-4941-A8F4-211C7F6761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755640" y="260280"/>
            <a:ext cx="793116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колько  общих точек имеют графики функций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755640" y="5514840"/>
            <a:ext cx="755964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ак можно с помощью графиков узнать сколько решений имеет система уравнений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Line 6"/>
          <p:cNvSpPr/>
          <p:nvPr/>
        </p:nvSpPr>
        <p:spPr>
          <a:xfrm flipV="1">
            <a:off x="1414440" y="1432080"/>
            <a:ext cx="0" cy="352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8" name="Line 7"/>
          <p:cNvSpPr/>
          <p:nvPr/>
        </p:nvSpPr>
        <p:spPr>
          <a:xfrm flipV="1">
            <a:off x="6815160" y="1359000"/>
            <a:ext cx="0" cy="352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Line 8"/>
          <p:cNvSpPr/>
          <p:nvPr/>
        </p:nvSpPr>
        <p:spPr>
          <a:xfrm>
            <a:off x="334800" y="330372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Line 9"/>
          <p:cNvSpPr/>
          <p:nvPr/>
        </p:nvSpPr>
        <p:spPr>
          <a:xfrm>
            <a:off x="4294080" y="3230640"/>
            <a:ext cx="4753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Freeform 10"/>
          <p:cNvSpPr/>
          <p:nvPr/>
        </p:nvSpPr>
        <p:spPr>
          <a:xfrm>
            <a:off x="334800" y="1790640"/>
            <a:ext cx="3743640" cy="1752840"/>
          </a:xfrm>
          <a:custGeom>
            <a:avLst/>
            <a:gdLst>
              <a:gd name="textAreaLeft" fmla="*/ 0 w 3743640"/>
              <a:gd name="textAreaRight" fmla="*/ 3744000 w 374364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358" h="1104">
                <a:moveTo>
                  <a:pt x="0" y="91"/>
                </a:moveTo>
                <a:cubicBezTo>
                  <a:pt x="461" y="597"/>
                  <a:pt x="922" y="1104"/>
                  <a:pt x="1315" y="1089"/>
                </a:cubicBezTo>
                <a:cubicBezTo>
                  <a:pt x="1708" y="1074"/>
                  <a:pt x="2033" y="537"/>
                  <a:pt x="2358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2" name="Freeform 11"/>
          <p:cNvSpPr/>
          <p:nvPr/>
        </p:nvSpPr>
        <p:spPr>
          <a:xfrm>
            <a:off x="477720" y="3087720"/>
            <a:ext cx="2376720" cy="1368360"/>
          </a:xfrm>
          <a:custGeom>
            <a:avLst/>
            <a:gdLst>
              <a:gd name="textAreaLeft" fmla="*/ 0 w 2376720"/>
              <a:gd name="textAreaRight" fmla="*/ 2376720 w 237672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1497" h="862">
                <a:moveTo>
                  <a:pt x="0" y="862"/>
                </a:moveTo>
                <a:cubicBezTo>
                  <a:pt x="284" y="431"/>
                  <a:pt x="568" y="0"/>
                  <a:pt x="817" y="0"/>
                </a:cubicBezTo>
                <a:cubicBezTo>
                  <a:pt x="1066" y="0"/>
                  <a:pt x="1384" y="718"/>
                  <a:pt x="1497" y="862"/>
                </a:cubicBezTo>
              </a:path>
            </a:pathLst>
          </a:custGeom>
          <a:noFill/>
          <a:ln w="572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3" name="Freeform 12"/>
          <p:cNvSpPr/>
          <p:nvPr/>
        </p:nvSpPr>
        <p:spPr>
          <a:xfrm>
            <a:off x="6886440" y="1432080"/>
            <a:ext cx="1513080" cy="129528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1859" h="2842">
                <a:moveTo>
                  <a:pt x="1859" y="0"/>
                </a:moveTo>
                <a:cubicBezTo>
                  <a:pt x="1659" y="400"/>
                  <a:pt x="1459" y="801"/>
                  <a:pt x="1179" y="1270"/>
                </a:cubicBezTo>
                <a:cubicBezTo>
                  <a:pt x="899" y="1739"/>
                  <a:pt x="362" y="2842"/>
                  <a:pt x="181" y="2812"/>
                </a:cubicBezTo>
                <a:cubicBezTo>
                  <a:pt x="0" y="2782"/>
                  <a:pt x="45" y="1935"/>
                  <a:pt x="90" y="1089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Freeform 14"/>
          <p:cNvSpPr/>
          <p:nvPr/>
        </p:nvSpPr>
        <p:spPr>
          <a:xfrm flipV="1">
            <a:off x="5230800" y="2510640"/>
            <a:ext cx="2232000" cy="2737080"/>
          </a:xfrm>
          <a:custGeom>
            <a:avLst/>
            <a:gdLst>
              <a:gd name="textAreaLeft" fmla="*/ 0 w 2232000"/>
              <a:gd name="textAreaRight" fmla="*/ 2232360 w 2232000"/>
              <a:gd name="textAreaTop" fmla="*/ -360 h 2737080"/>
              <a:gd name="textAreaBottom" fmla="*/ 2737080 h 2737080"/>
            </a:gdLst>
            <a:ahLst/>
            <a:rect l="textAreaLeft" t="textAreaTop" r="textAreaRight" b="textAreaBottom"/>
            <a:pathLst>
              <a:path w="1724" h="1187">
                <a:moveTo>
                  <a:pt x="0" y="0"/>
                </a:moveTo>
                <a:cubicBezTo>
                  <a:pt x="423" y="495"/>
                  <a:pt x="847" y="991"/>
                  <a:pt x="1134" y="1089"/>
                </a:cubicBezTo>
                <a:cubicBezTo>
                  <a:pt x="1421" y="1187"/>
                  <a:pt x="1572" y="888"/>
                  <a:pt x="1724" y="590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Text Box 14"/>
          <p:cNvSpPr/>
          <p:nvPr/>
        </p:nvSpPr>
        <p:spPr>
          <a:xfrm>
            <a:off x="3503520" y="359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8686800" y="34480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7" name="Text Box 16"/>
          <p:cNvSpPr/>
          <p:nvPr/>
        </p:nvSpPr>
        <p:spPr>
          <a:xfrm>
            <a:off x="6732720" y="98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Text Box 17"/>
          <p:cNvSpPr/>
          <p:nvPr/>
        </p:nvSpPr>
        <p:spPr>
          <a:xfrm>
            <a:off x="1332000" y="907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9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2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7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3BD2-B1E6-4708-A580-6654E2E328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179280" y="11592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бъяснение материала: Решаются задачи в электронной таблице: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91" name="Picture 7" descr=""/>
          <p:cNvPicPr/>
          <p:nvPr/>
        </p:nvPicPr>
        <p:blipFill>
          <a:blip r:embed="rId1"/>
          <a:stretch/>
        </p:blipFill>
        <p:spPr>
          <a:xfrm>
            <a:off x="3995640" y="2349360"/>
            <a:ext cx="2160720" cy="36007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392" name="Picture 8" descr=""/>
          <p:cNvPicPr/>
          <p:nvPr/>
        </p:nvPicPr>
        <p:blipFill>
          <a:blip r:embed="rId2"/>
          <a:stretch/>
        </p:blipFill>
        <p:spPr>
          <a:xfrm>
            <a:off x="2050920" y="2349360"/>
            <a:ext cx="1836720" cy="36007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393" name="Picture 9" descr=""/>
          <p:cNvPicPr/>
          <p:nvPr/>
        </p:nvPicPr>
        <p:blipFill>
          <a:blip r:embed="rId3"/>
          <a:stretch/>
        </p:blipFill>
        <p:spPr>
          <a:xfrm>
            <a:off x="6300720" y="2349360"/>
            <a:ext cx="2368440" cy="36007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394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95" name="AutoShape 11"/>
          <p:cNvSpPr/>
          <p:nvPr/>
        </p:nvSpPr>
        <p:spPr>
          <a:xfrm>
            <a:off x="3059280" y="1341360"/>
            <a:ext cx="288720" cy="765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19800 h 765360"/>
              <a:gd name="textAreaBottom" fmla="*/ 745560 h 76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3419640" y="134136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=4х</a:t>
            </a:r>
            <a:r>
              <a:rPr b="1" lang="ru-RU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-3х+5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3348000" y="1700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=х-2х</a:t>
            </a:r>
            <a:r>
              <a:rPr b="1" lang="ru-RU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+15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2411280" y="638172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 данная система имеет 2 решения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99" name="Picture 15" descr=""/>
          <p:cNvPicPr/>
          <p:nvPr/>
        </p:nvPicPr>
        <p:blipFill>
          <a:blip r:embed="rId4"/>
          <a:stretch/>
        </p:blipFill>
        <p:spPr>
          <a:xfrm>
            <a:off x="250920" y="2349360"/>
            <a:ext cx="1584360" cy="360540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400" name="Oval 16"/>
          <p:cNvSpPr/>
          <p:nvPr/>
        </p:nvSpPr>
        <p:spPr>
          <a:xfrm>
            <a:off x="7451640" y="443700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1" name="Oval 17"/>
          <p:cNvSpPr/>
          <p:nvPr/>
        </p:nvSpPr>
        <p:spPr>
          <a:xfrm>
            <a:off x="7236000" y="4437000"/>
            <a:ext cx="727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2" name="Text Box 18"/>
          <p:cNvSpPr/>
          <p:nvPr/>
        </p:nvSpPr>
        <p:spPr>
          <a:xfrm>
            <a:off x="179280" y="6093000"/>
            <a:ext cx="61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фики пересекаются в двух точках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3" name="Text Box 19"/>
          <p:cNvSpPr/>
          <p:nvPr/>
        </p:nvSpPr>
        <p:spPr>
          <a:xfrm>
            <a:off x="250920" y="123840"/>
            <a:ext cx="878508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1) Как с помощью графиков (в электронной таблице) узнать имеет ли решение система уравнений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9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BAD4-E67B-4C44-989D-D2D32E4735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395280" y="333360"/>
            <a:ext cx="842472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) Как узнать с помощью графиков сколько решений имеет система уравнений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6" name="Picture 7" descr=""/>
          <p:cNvPicPr/>
          <p:nvPr/>
        </p:nvPicPr>
        <p:blipFill>
          <a:blip r:embed="rId1"/>
          <a:stretch/>
        </p:blipFill>
        <p:spPr>
          <a:xfrm>
            <a:off x="3059280" y="1268280"/>
            <a:ext cx="5787720" cy="518508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407" name="AutoShape 8"/>
          <p:cNvSpPr/>
          <p:nvPr/>
        </p:nvSpPr>
        <p:spPr>
          <a:xfrm>
            <a:off x="250920" y="1628640"/>
            <a:ext cx="288720" cy="1584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611280" y="1773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=8х-3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Text Box 10"/>
          <p:cNvSpPr/>
          <p:nvPr/>
        </p:nvSpPr>
        <p:spPr>
          <a:xfrm>
            <a:off x="611280" y="2492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=4х+58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81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B20F-D70B-4AFB-9F43-6F97575280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468360" y="189000"/>
            <a:ext cx="813600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3) Как с помощью графиков можно определить количество корней уравнения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3419640" y="105264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+ х - 4 = 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13" name="Picture 6" descr=""/>
          <p:cNvPicPr/>
          <p:nvPr/>
        </p:nvPicPr>
        <p:blipFill>
          <a:blip r:embed="rId1"/>
          <a:stretch/>
        </p:blipFill>
        <p:spPr>
          <a:xfrm>
            <a:off x="3492360" y="1685880"/>
            <a:ext cx="4751640" cy="404820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414" name="Text Box 7"/>
          <p:cNvSpPr/>
          <p:nvPr/>
        </p:nvSpPr>
        <p:spPr>
          <a:xfrm>
            <a:off x="539640" y="1628640"/>
            <a:ext cx="2808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Строим график функции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3 + х - 4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539640" y="3429000"/>
            <a:ext cx="30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На графике находим нули функции (точки пересечения графика с осью абсцисс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826920" y="609300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Ответ: данное уравнение имеет 1 корень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4519-64E1-4B2E-9473-E7B03A6598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250920" y="54000"/>
            <a:ext cx="8820000" cy="10159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4) Можно ли  найти решения данного уравнения?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ак это можно сделать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5"/>
              <p:cNvSpPr txBox="1"/>
              <p:nvPr/>
            </p:nvSpPr>
            <p:spPr>
              <a:xfrm>
                <a:off x="1547640" y="907920"/>
                <a:ext cx="55087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0" name="Text Box 6"/>
          <p:cNvSpPr/>
          <p:nvPr/>
        </p:nvSpPr>
        <p:spPr>
          <a:xfrm>
            <a:off x="250920" y="1773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способ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оить график  функции и на графике найти нули функции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250920" y="227664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2способ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строить два графика функций, одна из которых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8"/>
              <p:cNvSpPr txBox="1"/>
              <p:nvPr/>
            </p:nvSpPr>
            <p:spPr>
              <a:xfrm>
                <a:off x="7272360" y="2205000"/>
                <a:ext cx="187164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3" name="Text Box 9"/>
          <p:cNvSpPr/>
          <p:nvPr/>
        </p:nvSpPr>
        <p:spPr>
          <a:xfrm>
            <a:off x="324000" y="2708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ая: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10"/>
              <p:cNvSpPr txBox="1"/>
              <p:nvPr/>
            </p:nvSpPr>
            <p:spPr>
              <a:xfrm>
                <a:off x="1403280" y="2637000"/>
                <a:ext cx="2737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5" name="Text Box 11"/>
          <p:cNvSpPr/>
          <p:nvPr/>
        </p:nvSpPr>
        <p:spPr>
          <a:xfrm>
            <a:off x="4356000" y="270828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найти точки их пересечения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6" name="Picture 12" descr=""/>
          <p:cNvPicPr/>
          <p:nvPr/>
        </p:nvPicPr>
        <p:blipFill>
          <a:blip r:embed="rId1"/>
          <a:stretch/>
        </p:blipFill>
        <p:spPr>
          <a:xfrm>
            <a:off x="863640" y="3165480"/>
            <a:ext cx="2232000" cy="21686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3" descr=""/>
          <p:cNvPicPr/>
          <p:nvPr/>
        </p:nvPicPr>
        <p:blipFill>
          <a:blip r:embed="rId2"/>
          <a:stretch/>
        </p:blipFill>
        <p:spPr>
          <a:xfrm>
            <a:off x="6465960" y="3182760"/>
            <a:ext cx="1612800" cy="215136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14"/>
          <p:cNvSpPr/>
          <p:nvPr/>
        </p:nvSpPr>
        <p:spPr>
          <a:xfrm>
            <a:off x="324000" y="5504040"/>
            <a:ext cx="8675640" cy="11912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ожно ли второй способ использовать при решении уравнений без электронной таблицы? Алгоритм этого решения…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nodeType="clickEffect" fill="hold">
                      <p:stCondLst>
                        <p:cond delay="indefinite"/>
                      </p:stCondLst>
                      <p:childTnLst>
                        <p:par>
                          <p:cTn id="1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5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8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3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6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9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5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2375-8034-4EA9-B639-E4684879BA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24000" y="115920"/>
            <a:ext cx="47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йства и графики функций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Line 5"/>
          <p:cNvSpPr/>
          <p:nvPr/>
        </p:nvSpPr>
        <p:spPr>
          <a:xfrm flipV="1">
            <a:off x="1407960" y="132372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Line 6"/>
          <p:cNvSpPr/>
          <p:nvPr/>
        </p:nvSpPr>
        <p:spPr>
          <a:xfrm>
            <a:off x="250920" y="263700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Line 7"/>
          <p:cNvSpPr/>
          <p:nvPr/>
        </p:nvSpPr>
        <p:spPr>
          <a:xfrm flipV="1">
            <a:off x="5629320" y="105228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Line 8"/>
          <p:cNvSpPr/>
          <p:nvPr/>
        </p:nvSpPr>
        <p:spPr>
          <a:xfrm>
            <a:off x="4643280" y="2108160"/>
            <a:ext cx="23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5148360" y="4608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= ах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 +с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1547640" y="2708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&gt;0, D=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5867280" y="2708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&lt;0, D&gt;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Line 29"/>
          <p:cNvSpPr/>
          <p:nvPr/>
        </p:nvSpPr>
        <p:spPr>
          <a:xfrm flipV="1">
            <a:off x="6350040" y="3933720"/>
            <a:ext cx="0" cy="216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Line 30"/>
          <p:cNvSpPr/>
          <p:nvPr/>
        </p:nvSpPr>
        <p:spPr>
          <a:xfrm>
            <a:off x="5364000" y="4989600"/>
            <a:ext cx="23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Line 35"/>
          <p:cNvSpPr/>
          <p:nvPr/>
        </p:nvSpPr>
        <p:spPr>
          <a:xfrm flipV="1">
            <a:off x="1979640" y="3860280"/>
            <a:ext cx="0" cy="252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Line 36"/>
          <p:cNvSpPr/>
          <p:nvPr/>
        </p:nvSpPr>
        <p:spPr>
          <a:xfrm>
            <a:off x="611280" y="486900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Text Box 40"/>
          <p:cNvSpPr/>
          <p:nvPr/>
        </p:nvSpPr>
        <p:spPr>
          <a:xfrm>
            <a:off x="3851280" y="5013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Text Box 41"/>
          <p:cNvSpPr/>
          <p:nvPr/>
        </p:nvSpPr>
        <p:spPr>
          <a:xfrm>
            <a:off x="7451640" y="5157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Text Box 42"/>
          <p:cNvSpPr/>
          <p:nvPr/>
        </p:nvSpPr>
        <p:spPr>
          <a:xfrm>
            <a:off x="7164360" y="19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Text Box 43"/>
          <p:cNvSpPr/>
          <p:nvPr/>
        </p:nvSpPr>
        <p:spPr>
          <a:xfrm>
            <a:off x="3059280" y="2060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Text Box 44"/>
          <p:cNvSpPr/>
          <p:nvPr/>
        </p:nvSpPr>
        <p:spPr>
          <a:xfrm>
            <a:off x="1403280" y="836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45"/>
          <p:cNvSpPr/>
          <p:nvPr/>
        </p:nvSpPr>
        <p:spPr>
          <a:xfrm>
            <a:off x="5724360" y="836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Text Box 46"/>
          <p:cNvSpPr/>
          <p:nvPr/>
        </p:nvSpPr>
        <p:spPr>
          <a:xfrm>
            <a:off x="6372360" y="3500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Text Box 47"/>
          <p:cNvSpPr/>
          <p:nvPr/>
        </p:nvSpPr>
        <p:spPr>
          <a:xfrm>
            <a:off x="2411280" y="3789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Text Box 48"/>
          <p:cNvSpPr/>
          <p:nvPr/>
        </p:nvSpPr>
        <p:spPr>
          <a:xfrm>
            <a:off x="6012000" y="595008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&gt;0, D=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=c=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Text Box 49"/>
          <p:cNvSpPr/>
          <p:nvPr/>
        </p:nvSpPr>
        <p:spPr>
          <a:xfrm>
            <a:off x="2627280" y="59500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&lt;0, D&lt;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Freeform 51"/>
          <p:cNvSpPr/>
          <p:nvPr/>
        </p:nvSpPr>
        <p:spPr>
          <a:xfrm>
            <a:off x="1116000" y="765000"/>
            <a:ext cx="1440000" cy="188280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1882800"/>
              <a:gd name="textAreaBottom" fmla="*/ 1883160 h 1882800"/>
            </a:gdLst>
            <a:ahLst/>
            <a:rect l="textAreaLeft" t="textAreaTop" r="textAreaRight" b="textAreaBottom"/>
            <a:pathLst>
              <a:path w="771" h="1186">
                <a:moveTo>
                  <a:pt x="771" y="45"/>
                </a:moveTo>
                <a:cubicBezTo>
                  <a:pt x="653" y="615"/>
                  <a:pt x="536" y="1186"/>
                  <a:pt x="408" y="1179"/>
                </a:cubicBezTo>
                <a:cubicBezTo>
                  <a:pt x="280" y="1172"/>
                  <a:pt x="68" y="196"/>
                  <a:pt x="0" y="0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Freeform 52"/>
          <p:cNvSpPr/>
          <p:nvPr/>
        </p:nvSpPr>
        <p:spPr>
          <a:xfrm rot="10800000">
            <a:off x="755280" y="5013000"/>
            <a:ext cx="1368360" cy="165564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771" h="1186">
                <a:moveTo>
                  <a:pt x="771" y="45"/>
                </a:moveTo>
                <a:cubicBezTo>
                  <a:pt x="653" y="615"/>
                  <a:pt x="536" y="1186"/>
                  <a:pt x="408" y="1179"/>
                </a:cubicBezTo>
                <a:cubicBezTo>
                  <a:pt x="280" y="1172"/>
                  <a:pt x="68" y="196"/>
                  <a:pt x="0" y="0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Freeform 53"/>
          <p:cNvSpPr/>
          <p:nvPr/>
        </p:nvSpPr>
        <p:spPr>
          <a:xfrm rot="10800000">
            <a:off x="5651280" y="981000"/>
            <a:ext cx="1439640" cy="188280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882800"/>
              <a:gd name="textAreaBottom" fmla="*/ 1883160 h 1882800"/>
            </a:gdLst>
            <a:ahLst/>
            <a:rect l="textAreaLeft" t="textAreaTop" r="textAreaRight" b="textAreaBottom"/>
            <a:pathLst>
              <a:path w="771" h="1186">
                <a:moveTo>
                  <a:pt x="771" y="45"/>
                </a:moveTo>
                <a:cubicBezTo>
                  <a:pt x="653" y="615"/>
                  <a:pt x="536" y="1186"/>
                  <a:pt x="408" y="1179"/>
                </a:cubicBezTo>
                <a:cubicBezTo>
                  <a:pt x="280" y="1172"/>
                  <a:pt x="68" y="196"/>
                  <a:pt x="0" y="0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Freeform 54"/>
          <p:cNvSpPr/>
          <p:nvPr/>
        </p:nvSpPr>
        <p:spPr>
          <a:xfrm>
            <a:off x="5580000" y="3500280"/>
            <a:ext cx="1368360" cy="152424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771" h="1186">
                <a:moveTo>
                  <a:pt x="771" y="45"/>
                </a:moveTo>
                <a:cubicBezTo>
                  <a:pt x="653" y="615"/>
                  <a:pt x="536" y="1186"/>
                  <a:pt x="408" y="1179"/>
                </a:cubicBezTo>
                <a:cubicBezTo>
                  <a:pt x="280" y="1172"/>
                  <a:pt x="68" y="196"/>
                  <a:pt x="0" y="0"/>
                </a:cubicBezTo>
              </a:path>
            </a:pathLst>
          </a:custGeom>
          <a:noFill/>
          <a:ln w="572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00E1-2EE1-46D6-A254-7F337328A7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755640" y="620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Закрепление материала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1" name="Picture 20" descr=""/>
          <p:cNvPicPr/>
          <p:nvPr/>
        </p:nvPicPr>
        <p:blipFill>
          <a:blip r:embed="rId1"/>
          <a:stretch/>
        </p:blipFill>
        <p:spPr>
          <a:xfrm>
            <a:off x="4788000" y="4941720"/>
            <a:ext cx="2016000" cy="17575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9" descr=""/>
          <p:cNvPicPr/>
          <p:nvPr/>
        </p:nvPicPr>
        <p:blipFill>
          <a:blip r:embed="rId2"/>
          <a:stretch/>
        </p:blipFill>
        <p:spPr>
          <a:xfrm>
            <a:off x="1403280" y="4941720"/>
            <a:ext cx="1800360" cy="17654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6" descr=""/>
          <p:cNvPicPr/>
          <p:nvPr/>
        </p:nvPicPr>
        <p:blipFill>
          <a:blip r:embed="rId3"/>
          <a:stretch/>
        </p:blipFill>
        <p:spPr>
          <a:xfrm>
            <a:off x="6156360" y="2133720"/>
            <a:ext cx="2046240" cy="26636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7" descr=""/>
          <p:cNvPicPr/>
          <p:nvPr/>
        </p:nvPicPr>
        <p:blipFill>
          <a:blip r:embed="rId4"/>
          <a:stretch/>
        </p:blipFill>
        <p:spPr>
          <a:xfrm>
            <a:off x="1517760" y="2205000"/>
            <a:ext cx="1801800" cy="251928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5"/>
          <p:cNvSpPr/>
          <p:nvPr/>
        </p:nvSpPr>
        <p:spPr>
          <a:xfrm>
            <a:off x="684360" y="12682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1. В электронной таблице найти количество корней системы уравнений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611280" y="4581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. Сколько корней имеет уравнение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7" name="AutoShape 7"/>
          <p:cNvSpPr/>
          <p:nvPr/>
        </p:nvSpPr>
        <p:spPr>
          <a:xfrm>
            <a:off x="755640" y="242100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5219640" y="249228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9" name="Text Box 9"/>
          <p:cNvSpPr/>
          <p:nvPr/>
        </p:nvSpPr>
        <p:spPr>
          <a:xfrm>
            <a:off x="1258920" y="2492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4,2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3,8х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1187280" y="3357720"/>
            <a:ext cx="29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(х – 1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21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1" name="Text Box 11"/>
          <p:cNvSpPr/>
          <p:nvPr/>
        </p:nvSpPr>
        <p:spPr>
          <a:xfrm>
            <a:off x="5580000" y="2637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9 - 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8х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5651640" y="3429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I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3" name="Text Box 14"/>
          <p:cNvSpPr/>
          <p:nvPr/>
        </p:nvSpPr>
        <p:spPr>
          <a:xfrm>
            <a:off x="4859280" y="5373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 4 + 2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4" name="Text Box 15"/>
          <p:cNvSpPr/>
          <p:nvPr/>
        </p:nvSpPr>
        <p:spPr>
          <a:xfrm>
            <a:off x="1116000" y="5373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6х +2 = 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7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2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7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2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D5C8-2C46-45E6-9D1A-4DA7D96A3D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182520" y="2570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3. Найти количество корней системы уравнений, не используя электронную таблицу ( т.е. схематически изобразив графики функций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401760" y="377820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4. Найти количество корней уравнения, не используя электронную таблицу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8" name="AutoShape 6"/>
          <p:cNvSpPr/>
          <p:nvPr/>
        </p:nvSpPr>
        <p:spPr>
          <a:xfrm>
            <a:off x="826920" y="162864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9" name="AutoShape 7"/>
          <p:cNvSpPr/>
          <p:nvPr/>
        </p:nvSpPr>
        <p:spPr>
          <a:xfrm>
            <a:off x="5724360" y="170028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Text Box 8"/>
          <p:cNvSpPr/>
          <p:nvPr/>
        </p:nvSpPr>
        <p:spPr>
          <a:xfrm>
            <a:off x="5148360" y="141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250920" y="141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Text Box 10"/>
          <p:cNvSpPr/>
          <p:nvPr/>
        </p:nvSpPr>
        <p:spPr>
          <a:xfrm>
            <a:off x="1187280" y="48751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2(х – 3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(х +1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4 = 0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3" name="Text Box 11"/>
          <p:cNvSpPr/>
          <p:nvPr/>
        </p:nvSpPr>
        <p:spPr>
          <a:xfrm>
            <a:off x="1187280" y="177336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2(х – 3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4" name="Text Box 12"/>
          <p:cNvSpPr/>
          <p:nvPr/>
        </p:nvSpPr>
        <p:spPr>
          <a:xfrm>
            <a:off x="1116000" y="2565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х + 1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(у - 2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25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6012000" y="177336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-(х + 3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2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6084720" y="263700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х +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Text Box 15"/>
          <p:cNvSpPr/>
          <p:nvPr/>
        </p:nvSpPr>
        <p:spPr>
          <a:xfrm>
            <a:off x="2340000" y="59292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(х – 2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(у +3)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15 - 2х = 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4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7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3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6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2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5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524A-F674-4A92-922F-BC99DECEA2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684360" y="1052640"/>
            <a:ext cx="777528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5) Где быстрее строятся графики: в тетради или электронной таблице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611280" y="2492280"/>
            <a:ext cx="7921440" cy="1557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Что нужно соблюдать при построении графиков функций, чтобы  получить полную информацию о количестве решений системы уравнений или уравнения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684360" y="4724280"/>
            <a:ext cx="7848360" cy="11912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7) Что нужно знать о построении графиков функций, если электронной таблицей нельзя пользоваться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1" dur="indefinite" restart="never" nodeType="tmRoot">
          <p:childTnLst>
            <p:seq>
              <p:cTn id="1512" dur="indefinite" nodeType="mainSeq">
                <p:childTnLst>
                  <p:par>
                    <p:cTn id="1513" nodeType="clickEffect" fill="hold">
                      <p:stCondLst>
                        <p:cond delay="indefinite"/>
                      </p:stCondLst>
                      <p:childTnLst>
                        <p:par>
                          <p:cTn id="1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63DC-6456-4406-9FA8-42353916C1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488880" y="74520"/>
            <a:ext cx="792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Задание на дом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1. Найти количество решений систем уравнений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4" name="AutoShape 6"/>
          <p:cNvSpPr/>
          <p:nvPr/>
        </p:nvSpPr>
        <p:spPr>
          <a:xfrm>
            <a:off x="755640" y="112536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1042920" y="1268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4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8х - 15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1042920" y="1989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(х – 1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1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AutoShape 9"/>
          <p:cNvSpPr/>
          <p:nvPr/>
        </p:nvSpPr>
        <p:spPr>
          <a:xfrm>
            <a:off x="4356000" y="105264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8" name="Text Box 10"/>
          <p:cNvSpPr/>
          <p:nvPr/>
        </p:nvSpPr>
        <p:spPr>
          <a:xfrm>
            <a:off x="4788000" y="1197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- 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5х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9" name="Text Box 11"/>
          <p:cNvSpPr/>
          <p:nvPr/>
        </p:nvSpPr>
        <p:spPr>
          <a:xfrm>
            <a:off x="4788000" y="1844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6х + 4,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0" name="Text Box 12"/>
          <p:cNvSpPr/>
          <p:nvPr/>
        </p:nvSpPr>
        <p:spPr>
          <a:xfrm>
            <a:off x="684360" y="3357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2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9х +8 = 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1" name="Text Box 13"/>
          <p:cNvSpPr/>
          <p:nvPr/>
        </p:nvSpPr>
        <p:spPr>
          <a:xfrm>
            <a:off x="4356000" y="335772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 17 + 12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Text Box 14"/>
          <p:cNvSpPr/>
          <p:nvPr/>
        </p:nvSpPr>
        <p:spPr>
          <a:xfrm>
            <a:off x="684360" y="285264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. Найти количество корней уравнения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Black"/>
              </a:rPr>
              <a:t>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3" name="Text Box 15"/>
          <p:cNvSpPr/>
          <p:nvPr/>
        </p:nvSpPr>
        <p:spPr>
          <a:xfrm>
            <a:off x="3780000" y="112536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Text Box 16"/>
          <p:cNvSpPr/>
          <p:nvPr/>
        </p:nvSpPr>
        <p:spPr>
          <a:xfrm>
            <a:off x="179280" y="1341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684360" y="400536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3. Схематически изобразив графики функций, найдите количество решений а) системы уравнений, б)уравнения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6" name="AutoShape 18"/>
          <p:cNvSpPr/>
          <p:nvPr/>
        </p:nvSpPr>
        <p:spPr>
          <a:xfrm>
            <a:off x="965160" y="509760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37440 h 1584360"/>
              <a:gd name="textAreaBottom" fmla="*/ 15469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2"/>
                  <a:pt x="10800" y="1644"/>
                </a:cubicBezTo>
                <a:lnTo>
                  <a:pt x="10800" y="9156"/>
                </a:lnTo>
                <a:cubicBezTo>
                  <a:pt x="10800" y="9978"/>
                  <a:pt x="5400" y="10800"/>
                  <a:pt x="0" y="10800"/>
                </a:cubicBezTo>
                <a:cubicBezTo>
                  <a:pt x="5400" y="10800"/>
                  <a:pt x="10800" y="11622"/>
                  <a:pt x="10800" y="12444"/>
                </a:cubicBezTo>
                <a:lnTo>
                  <a:pt x="10800" y="19956"/>
                </a:lnTo>
                <a:cubicBezTo>
                  <a:pt x="10800" y="2077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7" name="Text Box 19"/>
          <p:cNvSpPr/>
          <p:nvPr/>
        </p:nvSpPr>
        <p:spPr>
          <a:xfrm>
            <a:off x="395280" y="47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8" name="Text Box 20"/>
          <p:cNvSpPr/>
          <p:nvPr/>
        </p:nvSpPr>
        <p:spPr>
          <a:xfrm>
            <a:off x="5113440" y="51642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Text Box 21"/>
          <p:cNvSpPr/>
          <p:nvPr/>
        </p:nvSpPr>
        <p:spPr>
          <a:xfrm>
            <a:off x="1254240" y="52768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2(х + 1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3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0" name="Text Box 22"/>
          <p:cNvSpPr/>
          <p:nvPr/>
        </p:nvSpPr>
        <p:spPr>
          <a:xfrm>
            <a:off x="1254240" y="584676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-(х - 1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Object 24"/>
              <p:cNvSpPr txBox="1"/>
              <p:nvPr/>
            </p:nvSpPr>
            <p:spPr>
              <a:xfrm>
                <a:off x="5113440" y="5589720"/>
                <a:ext cx="33163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BCF8-223A-4590-9EB8-8E5570399E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24000" y="115920"/>
            <a:ext cx="48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йства и графики функций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Line 5"/>
          <p:cNvSpPr/>
          <p:nvPr/>
        </p:nvSpPr>
        <p:spPr>
          <a:xfrm flipV="1">
            <a:off x="1887480" y="1450440"/>
            <a:ext cx="0" cy="295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519120" y="3035160"/>
            <a:ext cx="331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6351480" y="1450440"/>
            <a:ext cx="0" cy="295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983120" y="3035160"/>
            <a:ext cx="331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5557680" y="1555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m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Freeform 10"/>
          <p:cNvSpPr/>
          <p:nvPr/>
        </p:nvSpPr>
        <p:spPr>
          <a:xfrm>
            <a:off x="1382760" y="1308240"/>
            <a:ext cx="1728720" cy="302400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3024000"/>
              <a:gd name="textAreaBottom" fmla="*/ 3024360 h 3024000"/>
            </a:gdLst>
            <a:ahLst/>
            <a:rect l="textAreaLeft" t="textAreaTop" r="textAreaRight" b="textAreaBottom"/>
            <a:pathLst>
              <a:path w="680" h="2041">
                <a:moveTo>
                  <a:pt x="680" y="0"/>
                </a:moveTo>
                <a:cubicBezTo>
                  <a:pt x="631" y="336"/>
                  <a:pt x="582" y="673"/>
                  <a:pt x="499" y="862"/>
                </a:cubicBezTo>
                <a:cubicBezTo>
                  <a:pt x="416" y="1051"/>
                  <a:pt x="264" y="938"/>
                  <a:pt x="181" y="1134"/>
                </a:cubicBezTo>
                <a:cubicBezTo>
                  <a:pt x="98" y="1330"/>
                  <a:pt x="30" y="1890"/>
                  <a:pt x="0" y="2041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Freeform 11"/>
          <p:cNvSpPr/>
          <p:nvPr/>
        </p:nvSpPr>
        <p:spPr>
          <a:xfrm flipH="1">
            <a:off x="5558760" y="1668600"/>
            <a:ext cx="1584360" cy="2808000"/>
          </a:xfrm>
          <a:custGeom>
            <a:avLst/>
            <a:gdLst>
              <a:gd name="textAreaLeft" fmla="*/ -360 w 1584360"/>
              <a:gd name="textAreaRight" fmla="*/ 1584360 w 1584360"/>
              <a:gd name="textAreaTop" fmla="*/ 0 h 2808000"/>
              <a:gd name="textAreaBottom" fmla="*/ 2808360 h 2808000"/>
            </a:gdLst>
            <a:ahLst/>
            <a:rect l="textAreaLeft" t="textAreaTop" r="textAreaRight" b="textAreaBottom"/>
            <a:pathLst>
              <a:path w="680" h="2041">
                <a:moveTo>
                  <a:pt x="680" y="0"/>
                </a:moveTo>
                <a:cubicBezTo>
                  <a:pt x="631" y="336"/>
                  <a:pt x="582" y="673"/>
                  <a:pt x="499" y="862"/>
                </a:cubicBezTo>
                <a:cubicBezTo>
                  <a:pt x="416" y="1051"/>
                  <a:pt x="264" y="938"/>
                  <a:pt x="181" y="1134"/>
                </a:cubicBezTo>
                <a:cubicBezTo>
                  <a:pt x="98" y="1330"/>
                  <a:pt x="30" y="1890"/>
                  <a:pt x="0" y="2041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539640" y="498168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&gt;0,  m=2,  n=1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157720" y="49417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&lt;0,  m=0,  n=0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2319480" y="27478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1887480" y="27478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2174760" y="31798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238400" y="24591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3687840" y="33242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8007480" y="3179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6496200" y="13795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1959120" y="13082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D51E-1284-43BE-81E5-6649D323EC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24000" y="115920"/>
            <a:ext cx="51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йства и графики функций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1619280" y="1557000"/>
            <a:ext cx="0" cy="338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468360" y="3357720"/>
            <a:ext cx="338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Line 7"/>
          <p:cNvSpPr/>
          <p:nvPr/>
        </p:nvSpPr>
        <p:spPr>
          <a:xfrm flipV="1">
            <a:off x="6372360" y="1341360"/>
            <a:ext cx="0" cy="338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5219640" y="3357720"/>
            <a:ext cx="338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0"/>
              <p:cNvSpPr txBox="1"/>
              <p:nvPr/>
            </p:nvSpPr>
            <p:spPr>
              <a:xfrm>
                <a:off x="5364000" y="-98280"/>
                <a:ext cx="26640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7" name="Text Box 11"/>
          <p:cNvSpPr/>
          <p:nvPr/>
        </p:nvSpPr>
        <p:spPr>
          <a:xfrm>
            <a:off x="1150920" y="7048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ax+b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  <a:ea typeface="Arial"/>
              </a:rPr>
              <a:t>≥0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Freeform 13"/>
          <p:cNvSpPr/>
          <p:nvPr/>
        </p:nvSpPr>
        <p:spPr>
          <a:xfrm flipV="1" rot="9446400">
            <a:off x="1546920" y="2635560"/>
            <a:ext cx="2868840" cy="479160"/>
          </a:xfrm>
          <a:custGeom>
            <a:avLst/>
            <a:gdLst>
              <a:gd name="textAreaLeft" fmla="*/ 0 w 2868840"/>
              <a:gd name="textAreaRight" fmla="*/ 2869200 w 2868840"/>
              <a:gd name="textAreaTop" fmla="*/ -360 h 479160"/>
              <a:gd name="textAreaBottom" fmla="*/ 479160 h 479160"/>
            </a:gdLst>
            <a:ahLst/>
            <a:rect l="textAreaLeft" t="textAreaTop" r="textAreaRight" b="textAreaBottom"/>
            <a:pathLst>
              <a:path w="1951" h="817">
                <a:moveTo>
                  <a:pt x="0" y="817"/>
                </a:moveTo>
                <a:cubicBezTo>
                  <a:pt x="518" y="499"/>
                  <a:pt x="1036" y="182"/>
                  <a:pt x="1361" y="91"/>
                </a:cubicBezTo>
                <a:cubicBezTo>
                  <a:pt x="1686" y="0"/>
                  <a:pt x="1818" y="136"/>
                  <a:pt x="1951" y="272"/>
                </a:cubicBezTo>
              </a:path>
            </a:pathLst>
          </a:custGeom>
          <a:noFill/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Freeform 14"/>
          <p:cNvSpPr/>
          <p:nvPr/>
        </p:nvSpPr>
        <p:spPr>
          <a:xfrm flipV="1" rot="9446400">
            <a:off x="5796000" y="2635920"/>
            <a:ext cx="2805120" cy="590400"/>
          </a:xfrm>
          <a:custGeom>
            <a:avLst/>
            <a:gdLst>
              <a:gd name="textAreaLeft" fmla="*/ 0 w 2805120"/>
              <a:gd name="textAreaRight" fmla="*/ 2805480 w 2805120"/>
              <a:gd name="textAreaTop" fmla="*/ 360 h 590400"/>
              <a:gd name="textAreaBottom" fmla="*/ 591120 h 590400"/>
            </a:gdLst>
            <a:ahLst/>
            <a:rect l="textAreaLeft" t="textAreaTop" r="textAreaRight" b="textAreaBottom"/>
            <a:pathLst>
              <a:path w="1951" h="817">
                <a:moveTo>
                  <a:pt x="0" y="817"/>
                </a:moveTo>
                <a:cubicBezTo>
                  <a:pt x="518" y="499"/>
                  <a:pt x="1036" y="182"/>
                  <a:pt x="1361" y="91"/>
                </a:cubicBezTo>
                <a:cubicBezTo>
                  <a:pt x="1686" y="0"/>
                  <a:pt x="1818" y="136"/>
                  <a:pt x="1951" y="272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3492360" y="3500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8244000" y="3573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6588000" y="1268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1763640" y="1413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1042920" y="5300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=0,ax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≥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6156360" y="53006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x+b ≥ 0, b &gt;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CECE-B9F2-47E4-A303-01EA856745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79280" y="18900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йства и графики функций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Line 5"/>
          <p:cNvSpPr/>
          <p:nvPr/>
        </p:nvSpPr>
        <p:spPr>
          <a:xfrm flipV="1">
            <a:off x="1908000" y="2060640"/>
            <a:ext cx="0" cy="295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468360" y="3573360"/>
            <a:ext cx="331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Line 7"/>
          <p:cNvSpPr/>
          <p:nvPr/>
        </p:nvSpPr>
        <p:spPr>
          <a:xfrm flipV="1">
            <a:off x="6443640" y="1989000"/>
            <a:ext cx="0" cy="295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003640" y="3645000"/>
            <a:ext cx="331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539640" y="981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= I ax+bI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611280" y="2060640"/>
            <a:ext cx="1512720" cy="151272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2124000" y="2060640"/>
            <a:ext cx="1440000" cy="151272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Freeform 19"/>
          <p:cNvSpPr/>
          <p:nvPr/>
        </p:nvSpPr>
        <p:spPr>
          <a:xfrm flipV="1">
            <a:off x="6084720" y="2996640"/>
            <a:ext cx="1008360" cy="647640"/>
          </a:xfrm>
          <a:custGeom>
            <a:avLst/>
            <a:gdLst>
              <a:gd name="textAreaLeft" fmla="*/ 0 w 1008360"/>
              <a:gd name="textAreaRight" fmla="*/ 1008720 w 1008360"/>
              <a:gd name="textAreaTop" fmla="*/ -360 h 647640"/>
              <a:gd name="textAreaBottom" fmla="*/ 647640 h 647640"/>
            </a:gdLst>
            <a:ahLst/>
            <a:rect l="textAreaLeft" t="textAreaTop" r="textAreaRight" b="textAreaBottom"/>
            <a:pathLst>
              <a:path w="861" h="914">
                <a:moveTo>
                  <a:pt x="861" y="0"/>
                </a:moveTo>
                <a:cubicBezTo>
                  <a:pt x="728" y="450"/>
                  <a:pt x="596" y="900"/>
                  <a:pt x="453" y="907"/>
                </a:cubicBezTo>
                <a:cubicBezTo>
                  <a:pt x="310" y="914"/>
                  <a:pt x="155" y="479"/>
                  <a:pt x="0" y="45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Line 21"/>
          <p:cNvSpPr/>
          <p:nvPr/>
        </p:nvSpPr>
        <p:spPr>
          <a:xfrm flipV="1">
            <a:off x="7093080" y="1700280"/>
            <a:ext cx="718920" cy="194472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Line 22"/>
          <p:cNvSpPr/>
          <p:nvPr/>
        </p:nvSpPr>
        <p:spPr>
          <a:xfrm flipH="1" flipV="1">
            <a:off x="5508720" y="1844280"/>
            <a:ext cx="576000" cy="180036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4859280" y="9079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= I a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bx +cI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1908000" y="3645000"/>
            <a:ext cx="72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6084720" y="522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&gt;0, D&gt;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1187280" y="5373720"/>
            <a:ext cx="165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-b/a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3635280" y="3645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8028000" y="3789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6516720" y="1700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1979640" y="1700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C768-5C6E-4ACA-9DA3-D6162C0EC0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Oval 10"/>
          <p:cNvSpPr/>
          <p:nvPr/>
        </p:nvSpPr>
        <p:spPr>
          <a:xfrm>
            <a:off x="5796000" y="2276640"/>
            <a:ext cx="2521080" cy="24476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Oval 9"/>
          <p:cNvSpPr/>
          <p:nvPr/>
        </p:nvSpPr>
        <p:spPr>
          <a:xfrm>
            <a:off x="684360" y="2349360"/>
            <a:ext cx="1944720" cy="2016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Line 4"/>
          <p:cNvSpPr/>
          <p:nvPr/>
        </p:nvSpPr>
        <p:spPr>
          <a:xfrm flipV="1">
            <a:off x="1692360" y="1773360"/>
            <a:ext cx="0" cy="345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250920" y="3357720"/>
            <a:ext cx="331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Line 6"/>
          <p:cNvSpPr/>
          <p:nvPr/>
        </p:nvSpPr>
        <p:spPr>
          <a:xfrm flipV="1">
            <a:off x="6300720" y="1413000"/>
            <a:ext cx="0" cy="345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4788000" y="3068640"/>
            <a:ext cx="388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Oval 12"/>
          <p:cNvSpPr/>
          <p:nvPr/>
        </p:nvSpPr>
        <p:spPr>
          <a:xfrm>
            <a:off x="7020000" y="34290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3635280" y="3213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8785080" y="299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6516720" y="1341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1763640" y="1628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2627280" y="765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х – а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(х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250920" y="544500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= 0, b = 0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 окр (0;0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4608360" y="5445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b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 окр (2;-1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79280" y="1890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йства и графики функций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E564-3CE1-4D18-BC3F-7B66188401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572000" y="1590840"/>
            <a:ext cx="4308480" cy="41083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46160" y="2065320"/>
            <a:ext cx="439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У=3,7+2,5х–5х</a:t>
            </a:r>
            <a:r>
              <a:rPr b="1" lang="ru-RU" sz="4000" spc="-1" strike="noStrike" baseline="30000">
                <a:solidFill>
                  <a:srgbClr val="000066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55520" y="3022560"/>
            <a:ext cx="439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2.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У=3,7+2,5х–5х</a:t>
            </a:r>
            <a:r>
              <a:rPr b="1" lang="ru-RU" sz="40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79280" y="3944880"/>
            <a:ext cx="439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3.</a:t>
            </a: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У = 3,7+2,5х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179280" y="501336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,7+2,5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6300720" y="566100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69720" y="455760"/>
            <a:ext cx="835200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ля какой функции построили график в электронной таблице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0" y="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29D2-D77A-4FE4-894F-9D8B8880E3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3280" y="1700280"/>
            <a:ext cx="4249800" cy="38894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190440" y="210024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У=3,7+2,5х–5х</a:t>
            </a:r>
            <a:r>
              <a:rPr b="1" lang="ru-RU" sz="4000" spc="-1" strike="noStrike" baseline="30000">
                <a:solidFill>
                  <a:srgbClr val="000066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90440" y="315432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2.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У=3,7+2,5х–5х</a:t>
            </a:r>
            <a:r>
              <a:rPr b="1" lang="ru-RU" sz="40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50920" y="422100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3.</a:t>
            </a: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У = 3,7+2,5х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227160" y="531036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,7+2,5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6300720" y="566100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468360" y="260280"/>
            <a:ext cx="835164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ля какой функции построили график в электронной таблице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5:11:39Z</dcterms:created>
  <dc:creator>Вера Ивановна</dc:creator>
  <dc:description/>
  <dc:language>en-US</dc:language>
  <cp:lastModifiedBy>pc-sg-x</cp:lastModifiedBy>
  <dcterms:modified xsi:type="dcterms:W3CDTF">2013-10-16T11:46:12Z</dcterms:modified>
  <cp:revision>43</cp:revision>
  <dc:subject/>
  <dc:title>Слайд 1</dc:title>
</cp:coreProperties>
</file>