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D66-EB6A-4D9F-84F0-ADD4409A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74F-F4D2-44A4-AA60-732E2C8E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4EE-B1D9-4E5C-A4B2-C5A4E806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56A-F078-448E-A647-515C2769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450-12DF-4AC8-81BA-4695692C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AA8-C1E8-497D-8609-D932755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3A9-79B3-4CAB-8E63-587926B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E89-07F6-4036-B598-F8151E74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A68-C427-46EF-8B6D-A9E91E2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019-6065-45E8-9F3D-EA88B005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7ED-4E39-49AE-B4EC-F9726611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409-7376-4484-B5C3-4B820728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D77B-006B-4E31-BB87-96AE4324CA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457B-AD5D-4C63-809D-87C5AEF18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414E-0E41-4F63-9270-B0521CC70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26920" y="2205000"/>
            <a:ext cx="7272360" cy="1937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ема урока: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хождение корней систем уравнений и уравнений с помощью графико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635280" y="5013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ь: Коптелова Вера Ивановна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44364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9 класс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11280" y="260280"/>
            <a:ext cx="7561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БОУ СОШ «Горки-Х»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C2D6-7ED7-44F6-AD76-28CEC1A8D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73680" y="2124000"/>
            <a:ext cx="3949560" cy="3529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03040" y="21733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3920" y="326232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23920" y="4265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03040" y="544212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34800" y="415800"/>
            <a:ext cx="835200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F44E-1249-4DD9-A73A-E6CDDF9731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21240" y="1598760"/>
            <a:ext cx="4452840" cy="4108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179280" y="53560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79280" y="22795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90440" y="34034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00160" y="43797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8780-2873-4D39-A23E-D64475792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5054760" y="1989000"/>
                <a:ext cx="3068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5148360" y="3141720"/>
                <a:ext cx="24289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760" y="4292640"/>
                <a:ext cx="4101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8"/>
              <p:cNvSpPr txBox="1"/>
              <p:nvPr/>
            </p:nvSpPr>
            <p:spPr>
              <a:xfrm>
                <a:off x="4932360" y="4292640"/>
                <a:ext cx="3789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Text Box 9"/>
          <p:cNvSpPr/>
          <p:nvPr/>
        </p:nvSpPr>
        <p:spPr>
          <a:xfrm>
            <a:off x="395280" y="328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 = 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4х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95280" y="2205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у =  3х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468360" y="404640"/>
            <a:ext cx="806436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тетрадях схематически изобразите графики этих функц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2340000" y="566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(х + 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(х –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3F3F-3F47-4D0A-AF05-0ABA0D431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24000" y="5229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у =  3х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4000" y="333360"/>
            <a:ext cx="302400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веряемся…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1763640" y="1628280"/>
            <a:ext cx="0" cy="331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468360" y="292428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Line 8"/>
          <p:cNvSpPr/>
          <p:nvPr/>
        </p:nvSpPr>
        <p:spPr>
          <a:xfrm flipH="1">
            <a:off x="826560" y="1916280"/>
            <a:ext cx="2737080" cy="3025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56400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835280" y="162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4859280" y="5300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у =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4х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Line 12"/>
          <p:cNvSpPr/>
          <p:nvPr/>
        </p:nvSpPr>
        <p:spPr>
          <a:xfrm flipV="1">
            <a:off x="6156360" y="1844640"/>
            <a:ext cx="4680" cy="289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5003640" y="3429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87708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gt;0, D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781200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15636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5580000" y="1989000"/>
            <a:ext cx="1440000" cy="18828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B938-D1FF-4FDB-962B-EDD4BEBEE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70000" y="4940280"/>
                <a:ext cx="4101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5160960" y="4881600"/>
                <a:ext cx="30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Line 6"/>
          <p:cNvSpPr/>
          <p:nvPr/>
        </p:nvSpPr>
        <p:spPr>
          <a:xfrm flipV="1">
            <a:off x="1403280" y="1324080"/>
            <a:ext cx="4680" cy="25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250920" y="2637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4360" y="386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lt;0, m=3, n=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843280" y="27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1403280" y="83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Freeform 11"/>
          <p:cNvSpPr/>
          <p:nvPr/>
        </p:nvSpPr>
        <p:spPr>
          <a:xfrm rot="10800000">
            <a:off x="1258920" y="1844640"/>
            <a:ext cx="1440000" cy="18828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Line 13"/>
          <p:cNvSpPr/>
          <p:nvPr/>
        </p:nvSpPr>
        <p:spPr>
          <a:xfrm flipV="1">
            <a:off x="6229440" y="765000"/>
            <a:ext cx="0" cy="338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Line 14"/>
          <p:cNvSpPr/>
          <p:nvPr/>
        </p:nvSpPr>
        <p:spPr>
          <a:xfrm>
            <a:off x="5076720" y="2781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Freeform 15"/>
          <p:cNvSpPr/>
          <p:nvPr/>
        </p:nvSpPr>
        <p:spPr>
          <a:xfrm flipV="1" rot="9446400">
            <a:off x="6504120" y="2129400"/>
            <a:ext cx="2458800" cy="468360"/>
          </a:xfrm>
          <a:custGeom>
            <a:avLst/>
            <a:gdLst>
              <a:gd name="textAreaLeft" fmla="*/ 0 w 2458800"/>
              <a:gd name="textAreaRight" fmla="*/ 2459160 w 2458800"/>
              <a:gd name="textAreaTop" fmla="*/ -360 h 468360"/>
              <a:gd name="textAreaBottom" fmla="*/ 468360 h 468360"/>
            </a:gdLst>
            <a:ahLst/>
            <a:rect l="textAreaLeft" t="textAreaTop" r="textAreaRight" b="textAreaBottom"/>
            <a:pathLst>
              <a:path w="1951" h="817">
                <a:moveTo>
                  <a:pt x="0" y="817"/>
                </a:moveTo>
                <a:cubicBezTo>
                  <a:pt x="518" y="499"/>
                  <a:pt x="1036" y="182"/>
                  <a:pt x="1361" y="91"/>
                </a:cubicBezTo>
                <a:cubicBezTo>
                  <a:pt x="1686" y="0"/>
                  <a:pt x="1818" y="136"/>
                  <a:pt x="1951" y="272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6445080" y="692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659640" y="386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&gt;0, b &lt;0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8639280" y="29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44364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0643-451E-481C-88CD-43FD16515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765000" y="5145120"/>
                <a:ext cx="24289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4836960" y="5157720"/>
                <a:ext cx="3789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Line 12"/>
          <p:cNvSpPr/>
          <p:nvPr/>
        </p:nvSpPr>
        <p:spPr>
          <a:xfrm flipV="1">
            <a:off x="1979640" y="126828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539640" y="27813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682560" y="1268280"/>
            <a:ext cx="1513080" cy="1513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Line 15"/>
          <p:cNvSpPr/>
          <p:nvPr/>
        </p:nvSpPr>
        <p:spPr>
          <a:xfrm flipV="1">
            <a:off x="2195640" y="1267920"/>
            <a:ext cx="1439640" cy="1513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97964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1979640" y="4292640"/>
            <a:ext cx="165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/4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370692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2050920" y="907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Line 20"/>
          <p:cNvSpPr/>
          <p:nvPr/>
        </p:nvSpPr>
        <p:spPr>
          <a:xfrm flipH="1" flipV="1">
            <a:off x="6443640" y="836640"/>
            <a:ext cx="144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5076720" y="263700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Freeform 22"/>
          <p:cNvSpPr/>
          <p:nvPr/>
        </p:nvSpPr>
        <p:spPr>
          <a:xfrm>
            <a:off x="5219640" y="1052640"/>
            <a:ext cx="1728720" cy="37465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3746520"/>
              <a:gd name="textAreaBottom" fmla="*/ 3746880 h 3746520"/>
            </a:gdLst>
            <a:ahLst/>
            <a:rect l="textAreaLeft" t="textAreaTop" r="textAreaRight" b="textAreaBottom"/>
            <a:pathLst>
              <a:path w="680" h="2041">
                <a:moveTo>
                  <a:pt x="680" y="0"/>
                </a:moveTo>
                <a:cubicBezTo>
                  <a:pt x="631" y="336"/>
                  <a:pt x="582" y="673"/>
                  <a:pt x="499" y="862"/>
                </a:cubicBezTo>
                <a:cubicBezTo>
                  <a:pt x="416" y="1051"/>
                  <a:pt x="264" y="938"/>
                  <a:pt x="181" y="1134"/>
                </a:cubicBezTo>
                <a:cubicBezTo>
                  <a:pt x="98" y="1330"/>
                  <a:pt x="30" y="1890"/>
                  <a:pt x="0" y="20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810108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658980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5940360" y="4365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(-2; -1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5580000" y="21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6516720" y="270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Line 28"/>
          <p:cNvSpPr/>
          <p:nvPr/>
        </p:nvSpPr>
        <p:spPr>
          <a:xfrm>
            <a:off x="6012000" y="2637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6012000" y="2924280"/>
            <a:ext cx="43164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1BE5-5369-4512-A282-5F76B9F3A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2627280" y="1844640"/>
            <a:ext cx="3529080" cy="3384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835280" y="476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(х + 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(х –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900000" y="4292640"/>
            <a:ext cx="669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Line 6"/>
          <p:cNvSpPr/>
          <p:nvPr/>
        </p:nvSpPr>
        <p:spPr>
          <a:xfrm flipV="1">
            <a:off x="5508720" y="1484280"/>
            <a:ext cx="0" cy="489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Oval 7"/>
          <p:cNvSpPr/>
          <p:nvPr/>
        </p:nvSpPr>
        <p:spPr>
          <a:xfrm>
            <a:off x="4356000" y="3429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7740720" y="38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796000" y="141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95280" y="13478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 окр. (-3;2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=4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8D9-D7B4-4602-8BDE-07F6BF3C2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16360" y="1555920"/>
            <a:ext cx="244764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7" name="Line 6"/>
          <p:cNvSpPr/>
          <p:nvPr/>
        </p:nvSpPr>
        <p:spPr>
          <a:xfrm>
            <a:off x="5219640" y="1700280"/>
            <a:ext cx="0" cy="2160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395280" y="101520"/>
            <a:ext cx="842472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я, что прямая х=0 – ось симметрии данного графика, какая из двух кривых является продолжением этого график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39640" y="3860640"/>
            <a:ext cx="2820960" cy="2521080"/>
          </a:xfrm>
          <a:prstGeom prst="rect">
            <a:avLst/>
          </a:prstGeom>
          <a:ln w="0">
            <a:noFill/>
          </a:ln>
        </p:spPr>
      </p:pic>
      <p:sp>
        <p:nvSpPr>
          <p:cNvPr id="280" name="Line 13"/>
          <p:cNvSpPr/>
          <p:nvPr/>
        </p:nvSpPr>
        <p:spPr>
          <a:xfrm>
            <a:off x="1979640" y="4005360"/>
            <a:ext cx="0" cy="2492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14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076720" y="3879720"/>
            <a:ext cx="2808360" cy="2509920"/>
          </a:xfrm>
          <a:prstGeom prst="rect">
            <a:avLst/>
          </a:prstGeom>
          <a:ln w="0">
            <a:noFill/>
          </a:ln>
        </p:spPr>
      </p:pic>
      <p:sp>
        <p:nvSpPr>
          <p:cNvPr id="282" name="Line 15"/>
          <p:cNvSpPr/>
          <p:nvPr/>
        </p:nvSpPr>
        <p:spPr>
          <a:xfrm>
            <a:off x="6516720" y="4005360"/>
            <a:ext cx="0" cy="2160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61128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35600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9737-EABF-4BAC-B476-A7DBD64A3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771640" y="1565280"/>
            <a:ext cx="2305080" cy="20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7" name="Text Box 4"/>
          <p:cNvSpPr/>
          <p:nvPr/>
        </p:nvSpPr>
        <p:spPr>
          <a:xfrm>
            <a:off x="324000" y="217440"/>
            <a:ext cx="856908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я, что точка (0;0) – точка симметрии данного графика, какая из двух кривых является продолжением этого график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39640" y="3743280"/>
            <a:ext cx="2952720" cy="2638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076720" y="3751200"/>
            <a:ext cx="2951280" cy="26384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61128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35600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493236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6516720" y="501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Oval 13"/>
          <p:cNvSpPr/>
          <p:nvPr/>
        </p:nvSpPr>
        <p:spPr>
          <a:xfrm>
            <a:off x="1979640" y="414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9101-DD9B-4C92-82FD-5ABCEDCF9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7920" y="572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4520" y="425520"/>
            <a:ext cx="885672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ие формулы, написанные при построении графиков в электронной таблице, соответствуют функциям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79280" y="141300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=5+ 2х–7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79280" y="21337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=5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2х–7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79280" y="292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 = 7+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79280" y="3860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-5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2"/>
              <p:cNvSpPr txBox="1"/>
              <p:nvPr/>
            </p:nvSpPr>
            <p:spPr>
              <a:xfrm>
                <a:off x="271440" y="4724280"/>
                <a:ext cx="3552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179280" y="5661000"/>
                <a:ext cx="3025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4" name="Text Box 14"/>
          <p:cNvSpPr/>
          <p:nvPr/>
        </p:nvSpPr>
        <p:spPr>
          <a:xfrm>
            <a:off x="428472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г) =5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+2*D2-7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^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284720" y="558972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е) =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abs(7 -5*D2)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4284720" y="220500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б) =7+5*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4284720" y="4653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д) =5*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^2+2*D2-7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4284720" y="2997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в) =7+(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-2)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^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284720" y="1413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а) =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qrt(5*D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-7)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Line 19"/>
          <p:cNvSpPr/>
          <p:nvPr/>
        </p:nvSpPr>
        <p:spPr>
          <a:xfrm flipV="1">
            <a:off x="3059280" y="1988640"/>
            <a:ext cx="1441440" cy="42483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Line 20"/>
          <p:cNvSpPr/>
          <p:nvPr/>
        </p:nvSpPr>
        <p:spPr>
          <a:xfrm flipV="1">
            <a:off x="2843280" y="2565360"/>
            <a:ext cx="1657440" cy="7192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2771640" y="4221000"/>
            <a:ext cx="1729080" cy="18003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Line 22"/>
          <p:cNvSpPr/>
          <p:nvPr/>
        </p:nvSpPr>
        <p:spPr>
          <a:xfrm flipV="1">
            <a:off x="2411280" y="3357360"/>
            <a:ext cx="2160720" cy="18716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1908000" y="2565360"/>
            <a:ext cx="2592720" cy="25192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Line 24"/>
          <p:cNvSpPr/>
          <p:nvPr/>
        </p:nvSpPr>
        <p:spPr>
          <a:xfrm>
            <a:off x="2340000" y="1844640"/>
            <a:ext cx="2160720" cy="23763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Text Box 25"/>
          <p:cNvSpPr/>
          <p:nvPr/>
        </p:nvSpPr>
        <p:spPr>
          <a:xfrm>
            <a:off x="1908000" y="63817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,  2 - Д,  3 - б,  4 - е,  5 - в,  6 - 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750D-461B-4513-A1C8-59D21FB3D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4920" y="1587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, алгебра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743280" y="1555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619280" y="7412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ая функция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900000" y="146952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79280" y="227664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503280" y="1821960"/>
            <a:ext cx="2232000" cy="1081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6164280" y="13478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859280" y="2319480"/>
            <a:ext cx="273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653080" y="1469520"/>
            <a:ext cx="1943280" cy="1584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050920" y="22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740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006560" y="1405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54640" y="12733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438200" y="2998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&l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6948360" y="31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0, b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1042920" y="393336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Line 8"/>
          <p:cNvSpPr/>
          <p:nvPr/>
        </p:nvSpPr>
        <p:spPr>
          <a:xfrm>
            <a:off x="395280" y="51577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Line 12"/>
          <p:cNvSpPr/>
          <p:nvPr/>
        </p:nvSpPr>
        <p:spPr>
          <a:xfrm flipV="1">
            <a:off x="6084720" y="3645000"/>
            <a:ext cx="0" cy="25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4932360" y="5084640"/>
            <a:ext cx="302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187280" y="3809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615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0592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810108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1403280" y="5661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b, b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Line 38"/>
          <p:cNvSpPr/>
          <p:nvPr/>
        </p:nvSpPr>
        <p:spPr>
          <a:xfrm>
            <a:off x="250920" y="4508640"/>
            <a:ext cx="252072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6804000" y="587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a, a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Line 40"/>
          <p:cNvSpPr/>
          <p:nvPr/>
        </p:nvSpPr>
        <p:spPr>
          <a:xfrm>
            <a:off x="6732720" y="4005360"/>
            <a:ext cx="0" cy="187164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232-B766-4C5F-B3E7-3FEA73DDA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44520" y="141120"/>
            <a:ext cx="83534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ставьте по порядку алгоритм построения графика функции у = 2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– 3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+4х в электронной таблице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355680" y="55292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2298600" y="55292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TextBox 10"/>
          <p:cNvSpPr/>
          <p:nvPr/>
        </p:nvSpPr>
        <p:spPr>
          <a:xfrm>
            <a:off x="3922560" y="554040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TextBox 11"/>
          <p:cNvSpPr/>
          <p:nvPr/>
        </p:nvSpPr>
        <p:spPr>
          <a:xfrm>
            <a:off x="5867280" y="55404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3" name="Picture 12" descr=""/>
          <p:cNvPicPr/>
          <p:nvPr/>
        </p:nvPicPr>
        <p:blipFill>
          <a:blip r:embed="rId1"/>
          <a:stretch/>
        </p:blipFill>
        <p:spPr>
          <a:xfrm>
            <a:off x="2030400" y="1598760"/>
            <a:ext cx="1079640" cy="37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24" name="Picture 13" descr=""/>
          <p:cNvPicPr/>
          <p:nvPr/>
        </p:nvPicPr>
        <p:blipFill>
          <a:blip r:embed="rId2"/>
          <a:stretch/>
        </p:blipFill>
        <p:spPr>
          <a:xfrm>
            <a:off x="3560760" y="1608120"/>
            <a:ext cx="1440000" cy="3735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25" name="Picture 14" descr=""/>
          <p:cNvPicPr/>
          <p:nvPr/>
        </p:nvPicPr>
        <p:blipFill>
          <a:blip r:embed="rId3"/>
          <a:stretch/>
        </p:blipFill>
        <p:spPr>
          <a:xfrm>
            <a:off x="7253280" y="1622520"/>
            <a:ext cx="1444680" cy="37386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26" name="Picture 15" descr=""/>
          <p:cNvPicPr/>
          <p:nvPr/>
        </p:nvPicPr>
        <p:blipFill>
          <a:blip r:embed="rId4"/>
          <a:stretch/>
        </p:blipFill>
        <p:spPr>
          <a:xfrm>
            <a:off x="165240" y="1527120"/>
            <a:ext cx="1296720" cy="3816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27" name="Picture 16" descr=""/>
          <p:cNvPicPr/>
          <p:nvPr/>
        </p:nvPicPr>
        <p:blipFill>
          <a:blip r:embed="rId5"/>
          <a:stretch/>
        </p:blipFill>
        <p:spPr>
          <a:xfrm>
            <a:off x="5462640" y="1619280"/>
            <a:ext cx="1377720" cy="37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328" name="TextBox 11"/>
          <p:cNvSpPr/>
          <p:nvPr/>
        </p:nvSpPr>
        <p:spPr>
          <a:xfrm>
            <a:off x="7620120" y="55562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2556000" y="6237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Б, В, Д, Г, А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26F2-205D-49FC-83F7-3FC7B3960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1" name="Picture 169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763640" y="2189160"/>
            <a:ext cx="3168720" cy="2523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70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508720" y="2201760"/>
            <a:ext cx="2950920" cy="2522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71"/>
          <p:cNvSpPr/>
          <p:nvPr/>
        </p:nvSpPr>
        <p:spPr>
          <a:xfrm>
            <a:off x="3817800" y="14637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72"/>
              <p:cNvSpPr txBox="1"/>
              <p:nvPr/>
            </p:nvSpPr>
            <p:spPr>
              <a:xfrm>
                <a:off x="5010120" y="1236600"/>
                <a:ext cx="1619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,5</m:t>
                        </m:r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5" name="Text Box 173"/>
          <p:cNvSpPr/>
          <p:nvPr/>
        </p:nvSpPr>
        <p:spPr>
          <a:xfrm>
            <a:off x="468360" y="93600"/>
            <a:ext cx="79214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чему в электронной таблице в ходе построения графика в таблице значений у появилась зап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Ошибка:50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Text Box 175"/>
          <p:cNvSpPr/>
          <p:nvPr/>
        </p:nvSpPr>
        <p:spPr>
          <a:xfrm>
            <a:off x="684360" y="5435640"/>
            <a:ext cx="8281800" cy="1557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ой из двух графиков соответствует данной функции?                                                                        Для построения этого графика как надо выделить диапазон, чтобы график получился правильным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7" name="Picture 62" descr=""/>
          <p:cNvPicPr/>
          <p:nvPr/>
        </p:nvPicPr>
        <p:blipFill>
          <a:blip r:embed="rId3"/>
          <a:stretch/>
        </p:blipFill>
        <p:spPr>
          <a:xfrm>
            <a:off x="209520" y="1576440"/>
            <a:ext cx="1368360" cy="35672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3"/>
          <p:cNvSpPr/>
          <p:nvPr/>
        </p:nvSpPr>
        <p:spPr>
          <a:xfrm>
            <a:off x="2805120" y="4713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6862680" y="46958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0E58-E05A-462A-91B3-A402E3052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932360" y="2276640"/>
            <a:ext cx="3527280" cy="31525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6"/>
          <p:cNvSpPr/>
          <p:nvPr/>
        </p:nvSpPr>
        <p:spPr>
          <a:xfrm>
            <a:off x="179280" y="1125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У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403280" y="981000"/>
                <a:ext cx="280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,7</m:t>
                        </m:r>
                        <m:r>
                          <m:t xml:space="preserve">+</m:t>
                        </m:r>
                        <m:r>
                          <m:t xml:space="preserve">2,5</m:t>
                        </m:r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4" name="Text Box 10"/>
          <p:cNvSpPr/>
          <p:nvPr/>
        </p:nvSpPr>
        <p:spPr>
          <a:xfrm>
            <a:off x="4572000" y="1052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У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5796000" y="836640"/>
                <a:ext cx="29988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,7</m:t>
                            </m:r>
                            <m:r>
                              <m:t xml:space="preserve">+</m:t>
                            </m:r>
                            <m:r>
                              <m:t xml:space="preserve">2,5</m:t>
                            </m:r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46" name="Picture 12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79280" y="2276640"/>
            <a:ext cx="4464000" cy="3132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3"/>
          <p:cNvSpPr/>
          <p:nvPr/>
        </p:nvSpPr>
        <p:spPr>
          <a:xfrm>
            <a:off x="468360" y="189000"/>
            <a:ext cx="828036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ая функция соответствует графику, построенных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5867280" y="5516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1332000" y="5516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Line 14"/>
          <p:cNvSpPr/>
          <p:nvPr/>
        </p:nvSpPr>
        <p:spPr>
          <a:xfrm>
            <a:off x="2340000" y="1773360"/>
            <a:ext cx="4537080" cy="15112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Line 15"/>
          <p:cNvSpPr/>
          <p:nvPr/>
        </p:nvSpPr>
        <p:spPr>
          <a:xfrm flipH="1">
            <a:off x="2484000" y="1773360"/>
            <a:ext cx="4319640" cy="2376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1449-198B-499F-BCBE-8A994D08D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115920"/>
            <a:ext cx="5972040" cy="3595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5"/>
          <p:cNvSpPr/>
          <p:nvPr/>
        </p:nvSpPr>
        <p:spPr>
          <a:xfrm>
            <a:off x="684360" y="3789360"/>
            <a:ext cx="7559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вы думаете, сколько раз пересекаются  эти графики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4360" y="4724280"/>
            <a:ext cx="75596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 нужно сделать при построении этих графиков в электронной таблице, чтобы были видны все точки пересечени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84360" y="6021360"/>
            <a:ext cx="756108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 при построении в тетради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FCDF-CA94-4FFE-A0B1-7E8FAFCE1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11280" y="11592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задана формулой: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79280" y="692280"/>
                <a:ext cx="8640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,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Text Box 6"/>
          <p:cNvSpPr/>
          <p:nvPr/>
        </p:nvSpPr>
        <p:spPr>
          <a:xfrm>
            <a:off x="826920" y="155736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жно построить график этой функц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95280" y="2133720"/>
            <a:ext cx="7775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де проще будет построить график этой функции – в тетради или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31640" y="5837400"/>
            <a:ext cx="784872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на построенном графике увидеть нули функции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11280" y="4437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Line 11"/>
          <p:cNvSpPr/>
          <p:nvPr/>
        </p:nvSpPr>
        <p:spPr>
          <a:xfrm flipV="1">
            <a:off x="3780000" y="3068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Freeform 12"/>
          <p:cNvSpPr/>
          <p:nvPr/>
        </p:nvSpPr>
        <p:spPr>
          <a:xfrm>
            <a:off x="1476360" y="3141720"/>
            <a:ext cx="5327640" cy="2448000"/>
          </a:xfrm>
          <a:custGeom>
            <a:avLst/>
            <a:gdLst/>
            <a:ahLst/>
            <a:rect l="l" t="t" r="r" b="b"/>
            <a:pathLst>
              <a:path w="3583" h="1580">
                <a:moveTo>
                  <a:pt x="0" y="355"/>
                </a:moveTo>
                <a:cubicBezTo>
                  <a:pt x="204" y="809"/>
                  <a:pt x="409" y="1263"/>
                  <a:pt x="590" y="1308"/>
                </a:cubicBezTo>
                <a:cubicBezTo>
                  <a:pt x="771" y="1353"/>
                  <a:pt x="862" y="711"/>
                  <a:pt x="1089" y="628"/>
                </a:cubicBezTo>
                <a:cubicBezTo>
                  <a:pt x="1316" y="545"/>
                  <a:pt x="1686" y="892"/>
                  <a:pt x="1951" y="809"/>
                </a:cubicBezTo>
                <a:cubicBezTo>
                  <a:pt x="2216" y="726"/>
                  <a:pt x="2404" y="0"/>
                  <a:pt x="2676" y="129"/>
                </a:cubicBezTo>
                <a:cubicBezTo>
                  <a:pt x="2948" y="258"/>
                  <a:pt x="3265" y="919"/>
                  <a:pt x="3583" y="1580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Line 13"/>
          <p:cNvSpPr/>
          <p:nvPr/>
        </p:nvSpPr>
        <p:spPr>
          <a:xfrm flipV="1">
            <a:off x="6804000" y="3500280"/>
            <a:ext cx="936720" cy="20894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Oval 17"/>
          <p:cNvSpPr/>
          <p:nvPr/>
        </p:nvSpPr>
        <p:spPr>
          <a:xfrm>
            <a:off x="176364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2771640" y="4365720"/>
            <a:ext cx="14472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421164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615636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Oval 21"/>
          <p:cNvSpPr/>
          <p:nvPr/>
        </p:nvSpPr>
        <p:spPr>
          <a:xfrm>
            <a:off x="723600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8028000" y="465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3995640" y="3141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7C12-5AD4-486E-9B31-5C2239E46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755640" y="260280"/>
            <a:ext cx="79311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колько  общих точек имеют графики функц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55640" y="5514840"/>
            <a:ext cx="7559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можно с помощью графиков узнать сколько решений имеет система уравнен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Line 6"/>
          <p:cNvSpPr/>
          <p:nvPr/>
        </p:nvSpPr>
        <p:spPr>
          <a:xfrm flipV="1">
            <a:off x="1414440" y="143208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Line 7"/>
          <p:cNvSpPr/>
          <p:nvPr/>
        </p:nvSpPr>
        <p:spPr>
          <a:xfrm flipV="1">
            <a:off x="6815160" y="135900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334800" y="330372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4294080" y="323064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Freeform 10"/>
          <p:cNvSpPr/>
          <p:nvPr/>
        </p:nvSpPr>
        <p:spPr>
          <a:xfrm>
            <a:off x="334800" y="1790640"/>
            <a:ext cx="3743640" cy="1752840"/>
          </a:xfrm>
          <a:custGeom>
            <a:avLst/>
            <a:gdLst>
              <a:gd name="textAreaLeft" fmla="*/ 0 w 3743640"/>
              <a:gd name="textAreaRight" fmla="*/ 3744000 w 374364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58" h="1104">
                <a:moveTo>
                  <a:pt x="0" y="91"/>
                </a:moveTo>
                <a:cubicBezTo>
                  <a:pt x="461" y="597"/>
                  <a:pt x="922" y="1104"/>
                  <a:pt x="1315" y="1089"/>
                </a:cubicBezTo>
                <a:cubicBezTo>
                  <a:pt x="1708" y="1074"/>
                  <a:pt x="2033" y="537"/>
                  <a:pt x="235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477720" y="3087720"/>
            <a:ext cx="2376720" cy="1368360"/>
          </a:xfrm>
          <a:custGeom>
            <a:avLst/>
            <a:gdLst>
              <a:gd name="textAreaLeft" fmla="*/ 0 w 2376720"/>
              <a:gd name="textAreaRight" fmla="*/ 2376720 w 23767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497" h="862">
                <a:moveTo>
                  <a:pt x="0" y="862"/>
                </a:moveTo>
                <a:cubicBezTo>
                  <a:pt x="284" y="431"/>
                  <a:pt x="568" y="0"/>
                  <a:pt x="817" y="0"/>
                </a:cubicBezTo>
                <a:cubicBezTo>
                  <a:pt x="1066" y="0"/>
                  <a:pt x="1384" y="718"/>
                  <a:pt x="1497" y="86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Freeform 12"/>
          <p:cNvSpPr/>
          <p:nvPr/>
        </p:nvSpPr>
        <p:spPr>
          <a:xfrm>
            <a:off x="6886440" y="1432080"/>
            <a:ext cx="1513080" cy="12952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1859" h="2842">
                <a:moveTo>
                  <a:pt x="1859" y="0"/>
                </a:moveTo>
                <a:cubicBezTo>
                  <a:pt x="1659" y="400"/>
                  <a:pt x="1459" y="801"/>
                  <a:pt x="1179" y="1270"/>
                </a:cubicBezTo>
                <a:cubicBezTo>
                  <a:pt x="899" y="1739"/>
                  <a:pt x="362" y="2842"/>
                  <a:pt x="181" y="2812"/>
                </a:cubicBezTo>
                <a:cubicBezTo>
                  <a:pt x="0" y="2782"/>
                  <a:pt x="45" y="1935"/>
                  <a:pt x="90" y="1089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Freeform 14"/>
          <p:cNvSpPr/>
          <p:nvPr/>
        </p:nvSpPr>
        <p:spPr>
          <a:xfrm flipV="1">
            <a:off x="5230800" y="2510640"/>
            <a:ext cx="2232000" cy="2737080"/>
          </a:xfrm>
          <a:custGeom>
            <a:avLst/>
            <a:gdLst>
              <a:gd name="textAreaLeft" fmla="*/ 0 w 2232000"/>
              <a:gd name="textAreaRight" fmla="*/ 2232360 w 2232000"/>
              <a:gd name="textAreaTop" fmla="*/ -360 h 2737080"/>
              <a:gd name="textAreaBottom" fmla="*/ 2737080 h 2737080"/>
            </a:gdLst>
            <a:ahLst/>
            <a:rect l="textAreaLeft" t="textAreaTop" r="textAreaRight" b="textAreaBottom"/>
            <a:pathLst>
              <a:path w="1724" h="1187">
                <a:moveTo>
                  <a:pt x="0" y="0"/>
                </a:moveTo>
                <a:cubicBezTo>
                  <a:pt x="423" y="495"/>
                  <a:pt x="847" y="991"/>
                  <a:pt x="1134" y="1089"/>
                </a:cubicBezTo>
                <a:cubicBezTo>
                  <a:pt x="1421" y="1187"/>
                  <a:pt x="1572" y="888"/>
                  <a:pt x="1724" y="59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503520" y="359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8686800" y="3448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6732720" y="98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133200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B4B8-CD4F-4C54-8224-9EB6113A3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79280" y="1159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ъяснение материала: Решаются задачи в электронной таблице: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1"/>
          <a:stretch/>
        </p:blipFill>
        <p:spPr>
          <a:xfrm>
            <a:off x="3995640" y="2349360"/>
            <a:ext cx="2160720" cy="3600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92" name="Picture 8" descr=""/>
          <p:cNvPicPr/>
          <p:nvPr/>
        </p:nvPicPr>
        <p:blipFill>
          <a:blip r:embed="rId2"/>
          <a:stretch/>
        </p:blipFill>
        <p:spPr>
          <a:xfrm>
            <a:off x="2050920" y="2349360"/>
            <a:ext cx="1836720" cy="3600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93" name="Picture 9" descr=""/>
          <p:cNvPicPr/>
          <p:nvPr/>
        </p:nvPicPr>
        <p:blipFill>
          <a:blip r:embed="rId3"/>
          <a:stretch/>
        </p:blipFill>
        <p:spPr>
          <a:xfrm>
            <a:off x="6300720" y="2349360"/>
            <a:ext cx="2368440" cy="3600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9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5" name="AutoShape 11"/>
          <p:cNvSpPr/>
          <p:nvPr/>
        </p:nvSpPr>
        <p:spPr>
          <a:xfrm>
            <a:off x="3059280" y="1341360"/>
            <a:ext cx="288720" cy="765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9800 h 765360"/>
              <a:gd name="textAreaBottom" fmla="*/ 745560 h 7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41964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=4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3х+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3348000" y="1700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=х-2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+1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411280" y="63817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данная система имеет 2 решения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9" name="Picture 15" descr=""/>
          <p:cNvPicPr/>
          <p:nvPr/>
        </p:nvPicPr>
        <p:blipFill>
          <a:blip r:embed="rId4"/>
          <a:stretch/>
        </p:blipFill>
        <p:spPr>
          <a:xfrm>
            <a:off x="250920" y="2349360"/>
            <a:ext cx="1584360" cy="36054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00" name="Oval 16"/>
          <p:cNvSpPr/>
          <p:nvPr/>
        </p:nvSpPr>
        <p:spPr>
          <a:xfrm>
            <a:off x="7451640" y="4437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7236000" y="4437000"/>
            <a:ext cx="72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179280" y="6093000"/>
            <a:ext cx="61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и пересекаются в двух точка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250920" y="123840"/>
            <a:ext cx="878508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) Как с помощью графиков (в электронной таблице) узнать имеет ли решение система уравнен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D499-3C12-44E5-87D7-C7F1EFD30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95280" y="333360"/>
            <a:ext cx="842472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) Как узнать с помощью графиков сколько решений имеет система уравнен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6" name="Picture 7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5787720" cy="5185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07" name="AutoShape 8"/>
          <p:cNvSpPr/>
          <p:nvPr/>
        </p:nvSpPr>
        <p:spPr>
          <a:xfrm>
            <a:off x="250920" y="1628640"/>
            <a:ext cx="288720" cy="1584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11280" y="1773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8х-3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61128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4х+58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81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BA8-3224-44C7-86B7-34478E52D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468360" y="189000"/>
            <a:ext cx="813600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) Как с помощью графиков можно определить количество корней уравнени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3419640" y="1052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+ х - 4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1"/>
          <a:stretch/>
        </p:blipFill>
        <p:spPr>
          <a:xfrm>
            <a:off x="3492360" y="1685880"/>
            <a:ext cx="4751640" cy="40482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14" name="Text Box 7"/>
          <p:cNvSpPr/>
          <p:nvPr/>
        </p:nvSpPr>
        <p:spPr>
          <a:xfrm>
            <a:off x="539640" y="1628640"/>
            <a:ext cx="280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троим график функции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3 + х - 4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539640" y="3429000"/>
            <a:ext cx="30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На графике находим нули функции (точки пересечения графика с осью абсцисс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826920" y="6093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Ответ: данное уравнение имеет 1 корень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00F0-10D4-483A-9A78-7B154CD37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50920" y="54000"/>
            <a:ext cx="8820000" cy="1015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) Можно ли  найти решения данного уравнения?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это можно сделать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1547640" y="907920"/>
                <a:ext cx="5508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 Box 6"/>
          <p:cNvSpPr/>
          <p:nvPr/>
        </p:nvSpPr>
        <p:spPr>
          <a:xfrm>
            <a:off x="250920" y="1773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способ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ить график  функции и на графике найти нули функции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50920" y="227664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способ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троить два графика функций, одна из которых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7272360" y="2205000"/>
                <a:ext cx="18716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Text Box 9"/>
          <p:cNvSpPr/>
          <p:nvPr/>
        </p:nvSpPr>
        <p:spPr>
          <a:xfrm>
            <a:off x="324000" y="2708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ая: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1403280" y="2637000"/>
                <a:ext cx="2737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Text Box 11"/>
          <p:cNvSpPr/>
          <p:nvPr/>
        </p:nvSpPr>
        <p:spPr>
          <a:xfrm>
            <a:off x="4356000" y="270828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йти точки их пересечения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6" name="Picture 12" descr=""/>
          <p:cNvPicPr/>
          <p:nvPr/>
        </p:nvPicPr>
        <p:blipFill>
          <a:blip r:embed="rId1"/>
          <a:stretch/>
        </p:blipFill>
        <p:spPr>
          <a:xfrm>
            <a:off x="863640" y="3165480"/>
            <a:ext cx="2232000" cy="2168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3" descr=""/>
          <p:cNvPicPr/>
          <p:nvPr/>
        </p:nvPicPr>
        <p:blipFill>
          <a:blip r:embed="rId2"/>
          <a:stretch/>
        </p:blipFill>
        <p:spPr>
          <a:xfrm>
            <a:off x="6465960" y="3182760"/>
            <a:ext cx="1612800" cy="215136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4"/>
          <p:cNvSpPr/>
          <p:nvPr/>
        </p:nvSpPr>
        <p:spPr>
          <a:xfrm>
            <a:off x="324000" y="5504040"/>
            <a:ext cx="86756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жно ли второй способ использовать при решении уравнений без электронной таблицы? Алгоритм этого решения…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A57D-C82C-49CC-8ED7-991375152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115920"/>
            <a:ext cx="47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407960" y="132372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Line 6"/>
          <p:cNvSpPr/>
          <p:nvPr/>
        </p:nvSpPr>
        <p:spPr>
          <a:xfrm>
            <a:off x="250920" y="2637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Line 7"/>
          <p:cNvSpPr/>
          <p:nvPr/>
        </p:nvSpPr>
        <p:spPr>
          <a:xfrm flipV="1">
            <a:off x="5629320" y="105228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Line 8"/>
          <p:cNvSpPr/>
          <p:nvPr/>
        </p:nvSpPr>
        <p:spPr>
          <a:xfrm>
            <a:off x="4643280" y="210816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148360" y="460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а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+с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154764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gt;0, D=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86728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lt;0, D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29"/>
          <p:cNvSpPr/>
          <p:nvPr/>
        </p:nvSpPr>
        <p:spPr>
          <a:xfrm flipV="1">
            <a:off x="6350040" y="393372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5364000" y="498960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Line 35"/>
          <p:cNvSpPr/>
          <p:nvPr/>
        </p:nvSpPr>
        <p:spPr>
          <a:xfrm flipV="1">
            <a:off x="1979640" y="3860280"/>
            <a:ext cx="0" cy="252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Line 36"/>
          <p:cNvSpPr/>
          <p:nvPr/>
        </p:nvSpPr>
        <p:spPr>
          <a:xfrm>
            <a:off x="611280" y="4869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3851280" y="501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7451640" y="5157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716436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3059280" y="20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1403280" y="83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5724360" y="836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637236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2411280" y="378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6012000" y="59500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gt;0, D=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c=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2627280" y="595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lt;0, D&l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Freeform 51"/>
          <p:cNvSpPr/>
          <p:nvPr/>
        </p:nvSpPr>
        <p:spPr>
          <a:xfrm>
            <a:off x="1116000" y="765000"/>
            <a:ext cx="1440000" cy="18828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Freeform 52"/>
          <p:cNvSpPr/>
          <p:nvPr/>
        </p:nvSpPr>
        <p:spPr>
          <a:xfrm rot="10800000">
            <a:off x="755280" y="5013000"/>
            <a:ext cx="1368360" cy="1655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Freeform 53"/>
          <p:cNvSpPr/>
          <p:nvPr/>
        </p:nvSpPr>
        <p:spPr>
          <a:xfrm rot="10800000">
            <a:off x="5651280" y="981000"/>
            <a:ext cx="1439640" cy="18828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Freeform 54"/>
          <p:cNvSpPr/>
          <p:nvPr/>
        </p:nvSpPr>
        <p:spPr>
          <a:xfrm>
            <a:off x="5580000" y="3500280"/>
            <a:ext cx="1368360" cy="15242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F70F-2448-4E61-A328-C17C2593E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5564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крепление материала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1" name="Picture 20" descr=""/>
          <p:cNvPicPr/>
          <p:nvPr/>
        </p:nvPicPr>
        <p:blipFill>
          <a:blip r:embed="rId1"/>
          <a:stretch/>
        </p:blipFill>
        <p:spPr>
          <a:xfrm>
            <a:off x="4788000" y="4941720"/>
            <a:ext cx="2016000" cy="1757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"/>
          <p:cNvPicPr/>
          <p:nvPr/>
        </p:nvPicPr>
        <p:blipFill>
          <a:blip r:embed="rId2"/>
          <a:stretch/>
        </p:blipFill>
        <p:spPr>
          <a:xfrm>
            <a:off x="1403280" y="4941720"/>
            <a:ext cx="1800360" cy="1765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6" descr=""/>
          <p:cNvPicPr/>
          <p:nvPr/>
        </p:nvPicPr>
        <p:blipFill>
          <a:blip r:embed="rId3"/>
          <a:stretch/>
        </p:blipFill>
        <p:spPr>
          <a:xfrm>
            <a:off x="6156360" y="2133720"/>
            <a:ext cx="2046240" cy="2663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7" descr=""/>
          <p:cNvPicPr/>
          <p:nvPr/>
        </p:nvPicPr>
        <p:blipFill>
          <a:blip r:embed="rId4"/>
          <a:stretch/>
        </p:blipFill>
        <p:spPr>
          <a:xfrm>
            <a:off x="1517760" y="2205000"/>
            <a:ext cx="1801800" cy="25192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68436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. В электронной таблице найти количество корней системы уравнен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611280" y="458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. Сколько корней имеет уравнение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755640" y="2421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5219640" y="249228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258920" y="249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4,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3,8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187280" y="335772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–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21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5580000" y="263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 -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8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5651640" y="342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I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4859280" y="537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 4 + 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116000" y="537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6х +2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011-AC9D-45E0-AE91-00D3E8308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82520" y="2570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. Найти количество корней системы уравнений, не используя электронную таблицу ( т.е. схематически изобразив графики функций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401760" y="37782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. Найти количество корней уравнения, не используя электронную таблиц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826920" y="1628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724360" y="170028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514836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25092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1187280" y="48751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2(х – 3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(х +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4 = 0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1187280" y="1773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2(х – 3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1116000" y="256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(у -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25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6012000" y="1773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(х + 3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6084720" y="2637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х +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340000" y="59292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(х –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(у +3)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15 - 2х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6F8C-83C0-422B-B6A0-4D06BA4BA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684360" y="1052640"/>
            <a:ext cx="777528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) Где быстрее строятся графики: в тетради или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611280" y="2492280"/>
            <a:ext cx="7921440" cy="1557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 нужно соблюдать при построении графиков функций, чтобы  получить полную информацию о количестве решений системы уравнений или уравнени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84360" y="4724280"/>
            <a:ext cx="784836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7) Что нужно знать о построении графиков функций, если электронной таблицей нельзя пользоватьс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7285-43B8-474E-A835-AE4AA8254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88880" y="74520"/>
            <a:ext cx="792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дание на дом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. Найти количество решений систем уравнен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755640" y="112536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042920" y="1268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4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8х - 1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1042920" y="198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–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4356000" y="10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4788000" y="119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788000" y="1844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6х + 4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84360" y="33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9х +8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4356000" y="3357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 17 + 1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684360" y="285264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. Найти количество корней уравнения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80000" y="1125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7928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684360" y="4005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. Схематически изобразив графики функций, найдите количество решений а) системы уравнений, б)уравнения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AutoShape 18"/>
          <p:cNvSpPr/>
          <p:nvPr/>
        </p:nvSpPr>
        <p:spPr>
          <a:xfrm>
            <a:off x="965160" y="50976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7440 h 1584360"/>
              <a:gd name="textAreaBottom" fmla="*/ 15469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2"/>
                  <a:pt x="10800" y="1644"/>
                </a:cubicBezTo>
                <a:lnTo>
                  <a:pt x="10800" y="9156"/>
                </a:lnTo>
                <a:cubicBezTo>
                  <a:pt x="10800" y="9978"/>
                  <a:pt x="5400" y="10800"/>
                  <a:pt x="0" y="10800"/>
                </a:cubicBezTo>
                <a:cubicBezTo>
                  <a:pt x="5400" y="10800"/>
                  <a:pt x="10800" y="11622"/>
                  <a:pt x="10800" y="12444"/>
                </a:cubicBezTo>
                <a:lnTo>
                  <a:pt x="10800" y="19956"/>
                </a:lnTo>
                <a:cubicBezTo>
                  <a:pt x="10800" y="207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39528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5113440" y="5164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Text Box 21"/>
          <p:cNvSpPr/>
          <p:nvPr/>
        </p:nvSpPr>
        <p:spPr>
          <a:xfrm>
            <a:off x="1254240" y="52768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2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Text Box 22"/>
          <p:cNvSpPr/>
          <p:nvPr/>
        </p:nvSpPr>
        <p:spPr>
          <a:xfrm>
            <a:off x="1254240" y="58467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(х -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4"/>
              <p:cNvSpPr txBox="1"/>
              <p:nvPr/>
            </p:nvSpPr>
            <p:spPr>
              <a:xfrm>
                <a:off x="5113440" y="5589720"/>
                <a:ext cx="3316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DD29-7D1E-489D-95B9-B04A07E5E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24000" y="115920"/>
            <a:ext cx="48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1887480" y="1450440"/>
            <a:ext cx="0" cy="295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19120" y="30351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6351480" y="1450440"/>
            <a:ext cx="0" cy="295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983120" y="30351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57680" y="1555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Freeform 10"/>
          <p:cNvSpPr/>
          <p:nvPr/>
        </p:nvSpPr>
        <p:spPr>
          <a:xfrm>
            <a:off x="1382760" y="1308240"/>
            <a:ext cx="1728720" cy="3024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680" h="2041">
                <a:moveTo>
                  <a:pt x="680" y="0"/>
                </a:moveTo>
                <a:cubicBezTo>
                  <a:pt x="631" y="336"/>
                  <a:pt x="582" y="673"/>
                  <a:pt x="499" y="862"/>
                </a:cubicBezTo>
                <a:cubicBezTo>
                  <a:pt x="416" y="1051"/>
                  <a:pt x="264" y="938"/>
                  <a:pt x="181" y="1134"/>
                </a:cubicBezTo>
                <a:cubicBezTo>
                  <a:pt x="98" y="1330"/>
                  <a:pt x="30" y="1890"/>
                  <a:pt x="0" y="2041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Freeform 11"/>
          <p:cNvSpPr/>
          <p:nvPr/>
        </p:nvSpPr>
        <p:spPr>
          <a:xfrm flipH="1">
            <a:off x="5558760" y="1668600"/>
            <a:ext cx="1584360" cy="2808000"/>
          </a:xfrm>
          <a:custGeom>
            <a:avLst/>
            <a:gdLst>
              <a:gd name="textAreaLeft" fmla="*/ -360 w 1584360"/>
              <a:gd name="textAreaRight" fmla="*/ 1584360 w 1584360"/>
              <a:gd name="textAreaTop" fmla="*/ 0 h 2808000"/>
              <a:gd name="textAreaBottom" fmla="*/ 2808360 h 2808000"/>
            </a:gdLst>
            <a:ahLst/>
            <a:rect l="textAreaLeft" t="textAreaTop" r="textAreaRight" b="textAreaBottom"/>
            <a:pathLst>
              <a:path w="680" h="2041">
                <a:moveTo>
                  <a:pt x="680" y="0"/>
                </a:moveTo>
                <a:cubicBezTo>
                  <a:pt x="631" y="336"/>
                  <a:pt x="582" y="673"/>
                  <a:pt x="499" y="862"/>
                </a:cubicBezTo>
                <a:cubicBezTo>
                  <a:pt x="416" y="1051"/>
                  <a:pt x="264" y="938"/>
                  <a:pt x="181" y="1134"/>
                </a:cubicBezTo>
                <a:cubicBezTo>
                  <a:pt x="98" y="1330"/>
                  <a:pt x="30" y="1890"/>
                  <a:pt x="0" y="20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9640" y="49816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&gt;0,  m=2,  n=1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157720" y="4941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&lt;0,  m=0,  n=0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319480" y="27478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1887480" y="27478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174760" y="31798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238400" y="2459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687840" y="3324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8007480" y="3179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6496200" y="1379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959120" y="1308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CBEB-5E9C-4438-8004-F18186452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24000" y="115920"/>
            <a:ext cx="51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619280" y="1557000"/>
            <a:ext cx="0" cy="33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468360" y="3357720"/>
            <a:ext cx="338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6372360" y="1341360"/>
            <a:ext cx="0" cy="338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5219640" y="3357720"/>
            <a:ext cx="338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364000" y="-98280"/>
                <a:ext cx="26640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" name="Text Box 11"/>
          <p:cNvSpPr/>
          <p:nvPr/>
        </p:nvSpPr>
        <p:spPr>
          <a:xfrm>
            <a:off x="1150920" y="7048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x+b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≥0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Freeform 13"/>
          <p:cNvSpPr/>
          <p:nvPr/>
        </p:nvSpPr>
        <p:spPr>
          <a:xfrm flipV="1" rot="9446400">
            <a:off x="1546920" y="2635560"/>
            <a:ext cx="2868840" cy="479160"/>
          </a:xfrm>
          <a:custGeom>
            <a:avLst/>
            <a:gdLst>
              <a:gd name="textAreaLeft" fmla="*/ 0 w 2868840"/>
              <a:gd name="textAreaRight" fmla="*/ 2869200 w 2868840"/>
              <a:gd name="textAreaTop" fmla="*/ -360 h 479160"/>
              <a:gd name="textAreaBottom" fmla="*/ 479160 h 479160"/>
            </a:gdLst>
            <a:ahLst/>
            <a:rect l="textAreaLeft" t="textAreaTop" r="textAreaRight" b="textAreaBottom"/>
            <a:pathLst>
              <a:path w="1951" h="817">
                <a:moveTo>
                  <a:pt x="0" y="817"/>
                </a:moveTo>
                <a:cubicBezTo>
                  <a:pt x="518" y="499"/>
                  <a:pt x="1036" y="182"/>
                  <a:pt x="1361" y="91"/>
                </a:cubicBezTo>
                <a:cubicBezTo>
                  <a:pt x="1686" y="0"/>
                  <a:pt x="1818" y="136"/>
                  <a:pt x="1951" y="272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Freeform 14"/>
          <p:cNvSpPr/>
          <p:nvPr/>
        </p:nvSpPr>
        <p:spPr>
          <a:xfrm flipV="1" rot="9446400">
            <a:off x="5796000" y="2635920"/>
            <a:ext cx="2805120" cy="590400"/>
          </a:xfrm>
          <a:custGeom>
            <a:avLst/>
            <a:gdLst>
              <a:gd name="textAreaLeft" fmla="*/ 0 w 2805120"/>
              <a:gd name="textAreaRight" fmla="*/ 2805480 w 2805120"/>
              <a:gd name="textAreaTop" fmla="*/ 360 h 590400"/>
              <a:gd name="textAreaBottom" fmla="*/ 591120 h 590400"/>
            </a:gdLst>
            <a:ahLst/>
            <a:rect l="textAreaLeft" t="textAreaTop" r="textAreaRight" b="textAreaBottom"/>
            <a:pathLst>
              <a:path w="1951" h="817">
                <a:moveTo>
                  <a:pt x="0" y="817"/>
                </a:moveTo>
                <a:cubicBezTo>
                  <a:pt x="518" y="499"/>
                  <a:pt x="1036" y="182"/>
                  <a:pt x="1361" y="91"/>
                </a:cubicBezTo>
                <a:cubicBezTo>
                  <a:pt x="1686" y="0"/>
                  <a:pt x="1818" y="136"/>
                  <a:pt x="1951" y="272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349236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8244000" y="357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588000" y="1268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763640" y="141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1042920" y="5300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0,ax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≥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56360" y="5300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+b ≥ 0, b 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5D32-B382-4922-BDE0-09758AE9A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1890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Line 5"/>
          <p:cNvSpPr/>
          <p:nvPr/>
        </p:nvSpPr>
        <p:spPr>
          <a:xfrm flipV="1">
            <a:off x="1908000" y="206064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468360" y="35733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6443640" y="198900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003640" y="364500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9640" y="981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I ax+bI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611280" y="2060640"/>
            <a:ext cx="1512720" cy="15127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2124000" y="2060640"/>
            <a:ext cx="1440000" cy="15127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Freeform 19"/>
          <p:cNvSpPr/>
          <p:nvPr/>
        </p:nvSpPr>
        <p:spPr>
          <a:xfrm flipV="1">
            <a:off x="6084720" y="2996640"/>
            <a:ext cx="1008360" cy="647640"/>
          </a:xfrm>
          <a:custGeom>
            <a:avLst/>
            <a:gdLst>
              <a:gd name="textAreaLeft" fmla="*/ 0 w 1008360"/>
              <a:gd name="textAreaRight" fmla="*/ 1008720 w 100836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861" h="914">
                <a:moveTo>
                  <a:pt x="861" y="0"/>
                </a:moveTo>
                <a:cubicBezTo>
                  <a:pt x="728" y="450"/>
                  <a:pt x="596" y="900"/>
                  <a:pt x="453" y="907"/>
                </a:cubicBezTo>
                <a:cubicBezTo>
                  <a:pt x="310" y="914"/>
                  <a:pt x="155" y="479"/>
                  <a:pt x="0" y="45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7093080" y="1700280"/>
            <a:ext cx="718920" cy="194472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Line 22"/>
          <p:cNvSpPr/>
          <p:nvPr/>
        </p:nvSpPr>
        <p:spPr>
          <a:xfrm flipH="1" flipV="1">
            <a:off x="5508720" y="1844280"/>
            <a:ext cx="576000" cy="180036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4859280" y="9079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I 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bx +cI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908000" y="3645000"/>
            <a:ext cx="7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6084720" y="522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gt;0, D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1187280" y="5373720"/>
            <a:ext cx="165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b/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635280" y="364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028000" y="378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651672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197964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809B-D39D-4BB4-83EA-605D11880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5796000" y="2276640"/>
            <a:ext cx="2521080" cy="2447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84360" y="2349360"/>
            <a:ext cx="1944720" cy="2016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692360" y="177336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250920" y="335772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Line 6"/>
          <p:cNvSpPr/>
          <p:nvPr/>
        </p:nvSpPr>
        <p:spPr>
          <a:xfrm flipV="1">
            <a:off x="6300720" y="1413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4788000" y="3068640"/>
            <a:ext cx="388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702000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63528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8785080" y="29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516720" y="134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763640" y="162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627280" y="765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 – а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(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250920" y="5445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0, b = 0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 окр (0;0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608360" y="544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 окр (2;-1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79280" y="189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58A9-DF55-4318-BF15-74B81DB5C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72000" y="1590840"/>
            <a:ext cx="4308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46160" y="2065320"/>
            <a:ext cx="439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5520" y="3022560"/>
            <a:ext cx="439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9280" y="3944880"/>
            <a:ext cx="439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79280" y="50133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69720" y="455760"/>
            <a:ext cx="835200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0" y="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38C3-3156-40DA-B410-B81E80207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1700280"/>
            <a:ext cx="4249800" cy="38894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90440" y="21002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90440" y="315432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50920" y="4221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27160" y="5310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5:11:39Z</dcterms:created>
  <dc:creator>Вера Ивановна</dc:creator>
  <dc:description/>
  <dc:language>en-US</dc:language>
  <cp:lastModifiedBy>pc-sg-x</cp:lastModifiedBy>
  <dcterms:modified xsi:type="dcterms:W3CDTF">2013-10-16T11:46:12Z</dcterms:modified>
  <cp:revision>43</cp:revision>
  <dc:subject/>
  <dc:title>Слайд 1</dc:title>
</cp:coreProperties>
</file>