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6B1-BE62-4DDE-8996-83FE3DFA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187-2738-4B8F-BCF0-A59A73A6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0C7-84BD-4D66-B79E-22DB9EE3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EC1-108C-4A7F-9D9C-77AA47C6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823-E3DB-4E65-B78E-5AF44A64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5E0F-030B-4446-A48D-82F6012D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203E-ED61-47FA-AD17-643EEE24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6B0E-08F7-4729-A8E6-57430FBA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465F-5D7F-46DA-950B-8464860D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B74D-CC56-4EDB-BF93-08CECE86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652E-5668-45FD-83B1-7C0128D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F23-E56A-417C-925E-9AE7E376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D9CE-2182-4E6D-89DA-153FF94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DB67-FE93-4F5E-87B2-538A7A17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BEC7-983B-471B-BC61-040F839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7CA-B5EE-4BDC-9381-4FE6AEF0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FB18-832F-4A06-B27B-C1DE60AD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E7C1-7259-4AC5-9F5D-FF4ECDC6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B9DE-0914-4EC2-BAFB-7460BF6D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E3C8-ED6A-4D05-8672-9F1C7C8A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2924-D3D1-41E2-B77D-FDA2830B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64EF-D57A-4950-90AD-FDE881A2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78B-E0AA-4349-A387-96D3054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4F17-A662-4514-B5A4-01B8BC17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F9BD-1C75-4715-88C1-C01606D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FDDE-654E-4F16-98BA-F137F02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6D0D-19D0-4527-8C35-41D117B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D791-2B08-414B-80DC-0D6B5434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3BB0-E34E-4890-A046-F8A79319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DD0F-F71B-4211-985E-56FAC3FA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AF0F1-3474-412E-B26E-82E81822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D0E0-91DD-4003-921A-0DC7A1DA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8A10-8947-4842-AE1A-0B6E1154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75E9-CB5E-4E52-8770-30DC6B3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9D433-A73C-49D6-A104-02182840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15C7-F3DE-4B7B-B54E-333947F8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3474-A66E-4436-9B91-5F03D2DD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68A9-3CBD-44E8-AF14-BECCFC6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F162-5FD3-4F6F-9AB2-17F9A419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D974-2D30-41EF-AC1A-6428957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05A4-FDF5-4614-A3D8-C26FEA9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6A32-80B7-4A6D-9D3A-BC971146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BDFF-1B42-4157-B6DD-5175200A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ECA1E-1B22-491D-B6FC-501DA9CE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49E-F60F-44F0-B9AB-6B47EA15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E9E6-B63C-4AED-A379-99B22715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56A02-4F03-43C8-A2AD-647C8DDE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8F726-C244-4032-8F0F-38EE252A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4D02-9B4B-4E8A-97F4-BC4952E3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3CE28-A2E1-46CF-9FB8-FA6758F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4F6D-ED45-46AE-A46A-B90BD4E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454F-8826-463D-B30B-9D729868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C88CD-EE52-483B-AB13-7DAD098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7280F-8938-4020-8FE2-7F68F846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2B80D-6768-4155-8277-9EA5825E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D84-AE18-43A5-B02E-8EF9F270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2515-24B9-4DA5-8FEB-A07CAD88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BE5-6A7C-4FEC-81E0-09BE9B9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FFC-AA09-4E03-A59F-D187AF5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BEF-93D9-4B8F-B97F-D573EE9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E2CF-EAFF-40FE-99F2-6725B082154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D54E-F630-4447-AB54-4D127486B5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787-49D2-4E96-B397-302025035E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A732-B246-4FEF-9737-19666392A9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33DD-FFBB-4CE0-8B0F-3B04F870F1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1189080"/>
            <a:ext cx="8466120" cy="3475080"/>
          </a:xfrm>
          <a:prstGeom prst="rect">
            <a:avLst/>
          </a:prstGeom>
          <a:ln w="0">
            <a:noFill/>
          </a:ln>
        </p:spPr>
      </p:pic>
      <p:pic>
        <p:nvPicPr>
          <p:cNvPr id="221" name="boris_grebenshikov_-_gorod_zolotoy.mp3" descr=""/>
          <p:cNvPicPr/>
          <p:nvPr/>
        </p:nvPicPr>
        <p:blipFill>
          <a:blip r:embed="rId2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Admin\Рабочий стол\преобразующая сила музыки. музыка\картины старых мастеров\52222_or.jpg"/>
          <p:cNvPicPr/>
          <p:nvPr/>
        </p:nvPicPr>
        <p:blipFill>
          <a:blip r:embed="rId1"/>
          <a:stretch/>
        </p:blipFill>
        <p:spPr>
          <a:xfrm>
            <a:off x="428760" y="357120"/>
            <a:ext cx="8083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Admin\Рабочий стол\преобразующая сила музыки. музыка\картины старых мастеров\44092645_9944.jpg"/>
          <p:cNvPicPr/>
          <p:nvPr/>
        </p:nvPicPr>
        <p:blipFill>
          <a:blip r:embed="rId1"/>
          <a:stretch/>
        </p:blipFill>
        <p:spPr>
          <a:xfrm>
            <a:off x="2643120" y="428760"/>
            <a:ext cx="3745080" cy="60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Admin\Рабочий стол\преобразующая сила музыки. музыка\картины старых мастеров\2039693833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\Рабочий стол\преобразующая сила музыки. музыка\картины старых мастеров\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Admin\Рабочий стол\преобразующая сила музыки. музыка\картины старых мастеров\kartini_o_gizni_07.jpg"/>
          <p:cNvPicPr/>
          <p:nvPr/>
        </p:nvPicPr>
        <p:blipFill>
          <a:blip r:embed="rId1"/>
          <a:stretch/>
        </p:blipFill>
        <p:spPr>
          <a:xfrm>
            <a:off x="2286000" y="392040"/>
            <a:ext cx="443556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\Рабочий стол\преобразующая сила музыки. музыка\картины старых мастеров\polenov_bab_sad_resize.jpg"/>
          <p:cNvPicPr/>
          <p:nvPr/>
        </p:nvPicPr>
        <p:blipFill>
          <a:blip r:embed="rId1"/>
          <a:stretch/>
        </p:blipFill>
        <p:spPr>
          <a:xfrm>
            <a:off x="1000080" y="357120"/>
            <a:ext cx="7131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Admin\Рабочий стол\преобразующая сила музыки. музыка\картины старых мастеров\untitled.bmp"/>
          <p:cNvPicPr/>
          <p:nvPr/>
        </p:nvPicPr>
        <p:blipFill>
          <a:blip r:embed="rId1"/>
          <a:stretch/>
        </p:blipFill>
        <p:spPr>
          <a:xfrm>
            <a:off x="2000160" y="361800"/>
            <a:ext cx="485784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nts and Settings\Admin\Рабочий стол\преобразующая сила музыки. музыка\картины старых мастеров\14.jpg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Admin\Рабочий стол\преобразующая сила музыки. музыка\Антонио Вивальди.jpg"/>
          <p:cNvPicPr/>
          <p:nvPr/>
        </p:nvPicPr>
        <p:blipFill>
          <a:blip r:embed="rId1"/>
          <a:stretch/>
        </p:blipFill>
        <p:spPr>
          <a:xfrm>
            <a:off x="2214720" y="357120"/>
            <a:ext cx="4181400" cy="50752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785880" y="55008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Антонио Вивальди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Admin\Рабочий стол\преобразующая сила музыки. музыка\Антонио Вивальди.jpg"/>
          <p:cNvPicPr/>
          <p:nvPr/>
        </p:nvPicPr>
        <p:blipFill>
          <a:blip r:embed="rId1"/>
          <a:stretch/>
        </p:blipFill>
        <p:spPr>
          <a:xfrm>
            <a:off x="357120" y="642960"/>
            <a:ext cx="4178520" cy="50720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4786200" y="500040"/>
            <a:ext cx="4071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ивальди был аббатом, но получил музыкальное образование, и музыка его всегда интересовала больше. Он был не только прекрасным композитором, но и скрипачом и поэтому основное место в его творчестве занимают произведения в которых скрипка выступает со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Зима.wma" descr=""/>
          <p:cNvPicPr/>
          <p:nvPr/>
        </p:nvPicPr>
        <p:blipFill>
          <a:blip r:embed="rId2"/>
          <a:stretch/>
        </p:blipFill>
        <p:spPr>
          <a:xfrm>
            <a:off x="114300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Admin\Рабочий стол\преобразующая сила музыки. музыка\bg4.jpg"/>
          <p:cNvPicPr/>
          <p:nvPr/>
        </p:nvPicPr>
        <p:blipFill>
          <a:blip r:embed="rId1"/>
          <a:stretch/>
        </p:blipFill>
        <p:spPr>
          <a:xfrm>
            <a:off x="2000160" y="357120"/>
            <a:ext cx="4643640" cy="5627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714240" y="585792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Борис Гребенщик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Admin\Рабочий стол\преобразующая сила музыки. музыка\Никитины.jpg"/>
          <p:cNvPicPr/>
          <p:nvPr/>
        </p:nvPicPr>
        <p:blipFill>
          <a:blip r:embed="rId1"/>
          <a:stretch/>
        </p:blipFill>
        <p:spPr>
          <a:xfrm>
            <a:off x="357120" y="500040"/>
            <a:ext cx="5286600" cy="5286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5857920" y="178596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их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. Величанск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зыка В.Берков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Под музыку Вивальд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14200" y="585792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тьяна и Сергей Никити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Никитины Под музыку Вивальди.mp3" descr=""/>
          <p:cNvPicPr/>
          <p:nvPr/>
        </p:nvPicPr>
        <p:blipFill>
          <a:blip r:embed="rId2"/>
          <a:stretch/>
        </p:blipFill>
        <p:spPr>
          <a:xfrm>
            <a:off x="807228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Documents and Settings\Admin\Рабочий стол\преобразующая сила музыки. музыка\Франческо де Милано.jpg"/>
          <p:cNvPicPr/>
          <p:nvPr/>
        </p:nvPicPr>
        <p:blipFill>
          <a:blip r:embed="rId1"/>
          <a:stretch/>
        </p:blipFill>
        <p:spPr>
          <a:xfrm>
            <a:off x="500040" y="466560"/>
            <a:ext cx="4714920" cy="5959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5357880" y="1857240"/>
            <a:ext cx="3357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ранческ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но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 Мила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1497-154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Admin\Рабочий стол\преобразующая сила музыки. музыка\Франческо де Милано.jpg"/>
          <p:cNvPicPr/>
          <p:nvPr/>
        </p:nvPicPr>
        <p:blipFill>
          <a:blip r:embed="rId1"/>
          <a:stretch/>
        </p:blipFill>
        <p:spPr>
          <a:xfrm>
            <a:off x="357120" y="500040"/>
            <a:ext cx="4071960" cy="58579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4500720" y="500040"/>
            <a:ext cx="4286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ранческо Канова Да Милано – выдающийся итальянский лютнист эпохи Ренессанса, один из крупнейших европейских композиторов 16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го произведения исполнялись по всей Европе. Соверменники называли его «божественный Франческо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Admin\Рабочий стол\преобразующая сила музыки. музыка\лютня.jpg"/>
          <p:cNvPicPr/>
          <p:nvPr/>
        </p:nvPicPr>
        <p:blipFill>
          <a:blip r:embed="rId1"/>
          <a:stretch/>
        </p:blipFill>
        <p:spPr>
          <a:xfrm>
            <a:off x="1571760" y="357120"/>
            <a:ext cx="5929200" cy="4326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571680" y="478620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узыка эта была написана для лютни. Этому инструменту уже 2000 лет, а в 15, 16, 17 веках лютня была самым любимым инструментом, её изображали художники, под её звуки танцевали, пели, поэты посвящали ей стих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Admin\Рабочий стол\преобразующая сила музыки. музыка\картины старых мастеров\f_12720959.jpg"/>
          <p:cNvPicPr/>
          <p:nvPr/>
        </p:nvPicPr>
        <p:blipFill>
          <a:blip r:embed="rId1"/>
          <a:stretch/>
        </p:blipFill>
        <p:spPr>
          <a:xfrm>
            <a:off x="500040" y="571680"/>
            <a:ext cx="8085240" cy="5643360"/>
          </a:xfrm>
          <a:prstGeom prst="rect">
            <a:avLst/>
          </a:prstGeom>
          <a:ln w="0">
            <a:noFill/>
          </a:ln>
        </p:spPr>
      </p:pic>
      <p:pic>
        <p:nvPicPr>
          <p:cNvPr id="231" name="Луис де Нарваэс. Вариация.wav" descr=""/>
          <p:cNvPicPr/>
          <p:nvPr/>
        </p:nvPicPr>
        <p:blipFill>
          <a:blip r:embed="rId2"/>
          <a:stretch/>
        </p:blipFill>
        <p:spPr>
          <a:xfrm>
            <a:off x="835812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Documents and Settings\Admin\Рабочий стол\преобразующая сила музыки. музыка\картины старых мастеров\0_19396_ecd521b3_XL.jpg"/>
          <p:cNvPicPr/>
          <p:nvPr/>
        </p:nvPicPr>
        <p:blipFill>
          <a:blip r:embed="rId1"/>
          <a:stretch/>
        </p:blipFill>
        <p:spPr>
          <a:xfrm>
            <a:off x="428760" y="642960"/>
            <a:ext cx="82994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Admin\Рабочий стол\преобразующая сила музыки. музыка\картины старых мастеров\1.jpg"/>
          <p:cNvPicPr/>
          <p:nvPr/>
        </p:nvPicPr>
        <p:blipFill>
          <a:blip r:embed="rId1"/>
          <a:stretch/>
        </p:blipFill>
        <p:spPr>
          <a:xfrm>
            <a:off x="1143000" y="333360"/>
            <a:ext cx="700092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Documents and Settings\Admin\Рабочий стол\преобразующая сила музыки. музыка\картины старых мастеров\142ccf02acc91209364979a9180a2038_full.jpg"/>
          <p:cNvPicPr/>
          <p:nvPr/>
        </p:nvPicPr>
        <p:blipFill>
          <a:blip r:embed="rId1"/>
          <a:stretch/>
        </p:blipFill>
        <p:spPr>
          <a:xfrm>
            <a:off x="571680" y="500040"/>
            <a:ext cx="8119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7:03:00Z</dcterms:created>
  <dc:creator>Admin</dc:creator>
  <dc:description/>
  <dc:language>en-US</dc:language>
  <cp:lastModifiedBy>Admin</cp:lastModifiedBy>
  <dcterms:modified xsi:type="dcterms:W3CDTF">2012-04-16T04:21:19Z</dcterms:modified>
  <cp:revision>14</cp:revision>
  <dc:subject/>
  <dc:title>Слайд 1</dc:title>
</cp:coreProperties>
</file>