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917-627F-48C9-8211-7D9E0E7F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988-A64D-4CB8-8310-519BB45F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221-3A20-46F2-92DD-6B4DD02A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902-C4C0-4E22-AF6D-286F48E2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DB0-9E49-427C-9D58-5791B08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633-97E1-46A9-AF3E-E92D4455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226-B96C-4FFB-A4AB-5FE85643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0560-89F1-4C74-9325-D874E261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8D6-4B1A-409C-A317-96A9542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6BA-F06D-47C9-B2A2-3DBC315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23E-A390-47A5-97C2-7F48D5B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77-F9EB-4641-9054-2E1E8A23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FFB7-D37E-49C2-ACE3-4D3F2C9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6717-D030-44EA-87B8-BB283D0B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A1B-2FDB-4733-862B-976C627F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4EB-8963-4129-B9F5-A63A63F9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4B2-4FC0-4969-932E-43F4C5B4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6A8E-B094-4224-9B0A-0A48B231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26D2-67BE-40C2-AB44-8EEB6D09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685A-9AE1-4625-BDD1-E3A1C9B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4B32-C123-410D-B8DB-5524A876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AFBA-37CA-49EC-8418-E2CA7D3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602-FF08-4664-9AE0-D1374AC1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9473-3637-4AA9-AAB9-908A205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8C5E-4EB0-4B72-9575-CB66CB1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FECE-7000-47A4-89E1-8898878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B26C-DFC3-4C95-85CF-9CF5072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A564-90C5-437F-8C07-C6C57A7C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A6B7-12FA-475A-B9F2-C596A14A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7475-32CD-46F1-8489-BCB090A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6156-876A-49F3-ABD5-1A5D48AC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1CDC-73BE-44C2-9D60-8F5C928C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1BDB-9587-4B32-BCF3-2CC7826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413-D297-4878-BA57-4527587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930D-6C7F-498F-BC00-5477229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38A1-0E62-4335-B057-661D86A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3D79-28C9-4D35-A6FA-CD9ACE9E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39F38-4FB1-49DA-ADD5-157437F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1070-9CF9-4361-BF60-E912C7F8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9ED9-DD15-40C0-9412-A862080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0C56-A908-4EF0-A2B2-3B1EF7AA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B3AE-00AF-47CA-92D5-8598C12A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6D3C-5D8B-4874-9650-9ED2468D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BF81-FD2E-448F-A0D0-A03C04A9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C7E-E421-4A89-ABB4-1C04B3A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0D2B3-2413-409E-AABE-23A6C655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A005-3D31-4B23-A9CE-2CA54D0C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A0C0-A0BD-4E54-8B64-F99C122A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EAE6-0440-4AD2-B97F-AC31375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9522-3723-4844-B2B4-4B4731CF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E541-D572-4F50-959A-825B96E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1DE12-89A2-4F4D-A827-E46C6CD9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3E57-3976-4DAB-8988-E1C87FD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49864-7E25-497D-AD6E-B2E88CB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F2A4-A284-4C1C-BE52-6309F229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CBF-D9D8-46BE-A5B7-0CF3A58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FFC5-03A8-43BD-B711-DFC3326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FC5-5F83-4A16-83A2-BFE8F24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798-601A-4EE1-89A7-0271AA9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B1A-9B93-4551-830B-5A72C31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513-9D58-4FA1-81F4-A5900366F2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C8C-6507-4B0A-BBFD-D713967B22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172C-B17B-43D9-9FEE-F06E4B9E99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930-0EB6-4E35-8EA0-D63BD22308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D23-C350-4238-8B68-6E61E01C34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189080"/>
            <a:ext cx="8466120" cy="3475080"/>
          </a:xfrm>
          <a:prstGeom prst="rect">
            <a:avLst/>
          </a:prstGeom>
          <a:ln w="0">
            <a:noFill/>
          </a:ln>
        </p:spPr>
      </p:pic>
      <p:pic>
        <p:nvPicPr>
          <p:cNvPr id="221" name="boris_grebenshikov_-_gorod_zolotoy.mp3" descr=""/>
          <p:cNvPicPr/>
          <p:nvPr/>
        </p:nvPicPr>
        <p:blipFill>
          <a:blip r:embed="rId2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Admin\Рабочий стол\преобразующая сила музыки. музыка\картины старых мастеров\52222_or.jpg"/>
          <p:cNvPicPr/>
          <p:nvPr/>
        </p:nvPicPr>
        <p:blipFill>
          <a:blip r:embed="rId1"/>
          <a:stretch/>
        </p:blipFill>
        <p:spPr>
          <a:xfrm>
            <a:off x="428760" y="357120"/>
            <a:ext cx="8083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Admin\Рабочий стол\преобразующая сила музыки. музыка\картины старых мастеров\44092645_9944.jpg"/>
          <p:cNvPicPr/>
          <p:nvPr/>
        </p:nvPicPr>
        <p:blipFill>
          <a:blip r:embed="rId1"/>
          <a:stretch/>
        </p:blipFill>
        <p:spPr>
          <a:xfrm>
            <a:off x="2643120" y="428760"/>
            <a:ext cx="374508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Admin\Рабочий стол\преобразующая сила музыки. музыка\картины старых мастеров\2039693833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преобразующая сила музыки. музыка\картины старых мастеров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преобразующая сила музыки. музыка\картины старых мастеров\kartini_o_gizni_07.jpg"/>
          <p:cNvPicPr/>
          <p:nvPr/>
        </p:nvPicPr>
        <p:blipFill>
          <a:blip r:embed="rId1"/>
          <a:stretch/>
        </p:blipFill>
        <p:spPr>
          <a:xfrm>
            <a:off x="2286000" y="392040"/>
            <a:ext cx="443556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преобразующая сила музыки. музыка\картины старых мастеров\polenov_bab_sad_resize.jpg"/>
          <p:cNvPicPr/>
          <p:nvPr/>
        </p:nvPicPr>
        <p:blipFill>
          <a:blip r:embed="rId1"/>
          <a:stretch/>
        </p:blipFill>
        <p:spPr>
          <a:xfrm>
            <a:off x="1000080" y="357120"/>
            <a:ext cx="7131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Admin\Рабочий стол\преобразующая сила музыки. музыка\картины старых мастеров\untitled.bmp"/>
          <p:cNvPicPr/>
          <p:nvPr/>
        </p:nvPicPr>
        <p:blipFill>
          <a:blip r:embed="rId1"/>
          <a:stretch/>
        </p:blipFill>
        <p:spPr>
          <a:xfrm>
            <a:off x="2000160" y="361800"/>
            <a:ext cx="485784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Admin\Рабочий стол\преобразующая сила музыки. музыка\картины старых мастеров\14.jpg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2214720" y="357120"/>
            <a:ext cx="4181400" cy="5075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785880" y="55008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Антонио Вивальд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357120" y="642960"/>
            <a:ext cx="4178520" cy="5072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4786200" y="50004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вальди был аббатом, но получил музыкальное образование, и музыка его всегда интересовала больше. Он был не только прекрасным композитором, но и скрипачом и поэтому основное место в его творчестве занимают произведения в которых скрипка выступает со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Зима.wma" descr=""/>
          <p:cNvPicPr/>
          <p:nvPr/>
        </p:nvPicPr>
        <p:blipFill>
          <a:blip r:embed="rId2"/>
          <a:stretch/>
        </p:blipFill>
        <p:spPr>
          <a:xfrm>
            <a:off x="11430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Admin\Рабочий стол\преобразующая сила музыки. музыка\bg4.jpg"/>
          <p:cNvPicPr/>
          <p:nvPr/>
        </p:nvPicPr>
        <p:blipFill>
          <a:blip r:embed="rId1"/>
          <a:stretch/>
        </p:blipFill>
        <p:spPr>
          <a:xfrm>
            <a:off x="2000160" y="357120"/>
            <a:ext cx="4643640" cy="5627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714240" y="585792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Борис Гребенщик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Admin\Рабочий стол\преобразующая сила музыки. музыка\Никитины.jpg"/>
          <p:cNvPicPr/>
          <p:nvPr/>
        </p:nvPicPr>
        <p:blipFill>
          <a:blip r:embed="rId1"/>
          <a:stretch/>
        </p:blipFill>
        <p:spPr>
          <a:xfrm>
            <a:off x="357120" y="500040"/>
            <a:ext cx="5286600" cy="5286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5857920" y="178596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. Величанск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В.Берков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Под музыку Вивальд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14200" y="585792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тьяна и Сергей Никит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Никитины Под музыку Вивальди.mp3" descr=""/>
          <p:cNvPicPr/>
          <p:nvPr/>
        </p:nvPicPr>
        <p:blipFill>
          <a:blip r:embed="rId2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500040" y="466560"/>
            <a:ext cx="4714920" cy="595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5357880" y="1857240"/>
            <a:ext cx="335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ранчес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но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 Мила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1497-154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5857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4500720" y="50004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ранческо Канова Да Милано – выдающийся итальянский лютнист эпохи Ренессанса, один из крупнейших европейских композиторов 16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го произведения исполнялись по всей Европе. Соверменники называли его «божественный Франческо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Admin\Рабочий стол\преобразующая сила музыки. музыка\лютня.jpg"/>
          <p:cNvPicPr/>
          <p:nvPr/>
        </p:nvPicPr>
        <p:blipFill>
          <a:blip r:embed="rId1"/>
          <a:stretch/>
        </p:blipFill>
        <p:spPr>
          <a:xfrm>
            <a:off x="1571760" y="357120"/>
            <a:ext cx="5929200" cy="4326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571680" y="478620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эта была написана для лютни. Этому инструменту уже 2000 лет, а в 15, 16, 17 веках лютня была самым любимым инструментом, её изображали художники, под её звуки танцевали, пели, поэты посвящали ей стих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Admin\Рабочий стол\преобразующая сила музыки. музыка\картины старых мастеров\f_12720959.jpg"/>
          <p:cNvPicPr/>
          <p:nvPr/>
        </p:nvPicPr>
        <p:blipFill>
          <a:blip r:embed="rId1"/>
          <a:stretch/>
        </p:blipFill>
        <p:spPr>
          <a:xfrm>
            <a:off x="500040" y="571680"/>
            <a:ext cx="8085240" cy="5643360"/>
          </a:xfrm>
          <a:prstGeom prst="rect">
            <a:avLst/>
          </a:prstGeom>
          <a:ln w="0">
            <a:noFill/>
          </a:ln>
        </p:spPr>
      </p:pic>
      <p:pic>
        <p:nvPicPr>
          <p:cNvPr id="231" name="Луис де Нарваэс. Вариация.wav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Documents and Settings\Admin\Рабочий стол\преобразующая сила музыки. музыка\картины старых мастеров\0_19396_ecd521b3_XL.jpg"/>
          <p:cNvPicPr/>
          <p:nvPr/>
        </p:nvPicPr>
        <p:blipFill>
          <a:blip r:embed="rId1"/>
          <a:stretch/>
        </p:blipFill>
        <p:spPr>
          <a:xfrm>
            <a:off x="428760" y="642960"/>
            <a:ext cx="8299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\Рабочий стол\преобразующая сила музыки. музыка\картины старых мастеров\1.jpg"/>
          <p:cNvPicPr/>
          <p:nvPr/>
        </p:nvPicPr>
        <p:blipFill>
          <a:blip r:embed="rId1"/>
          <a:stretch/>
        </p:blipFill>
        <p:spPr>
          <a:xfrm>
            <a:off x="1143000" y="333360"/>
            <a:ext cx="700092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Admin\Рабочий стол\преобразующая сила музыки. музыка\картины старых мастеров\142ccf02acc91209364979a9180a2038_full.jpg"/>
          <p:cNvPicPr/>
          <p:nvPr/>
        </p:nvPicPr>
        <p:blipFill>
          <a:blip r:embed="rId1"/>
          <a:stretch/>
        </p:blipFill>
        <p:spPr>
          <a:xfrm>
            <a:off x="571680" y="500040"/>
            <a:ext cx="8119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03:00Z</dcterms:created>
  <dc:creator>Admin</dc:creator>
  <dc:description/>
  <dc:language>en-US</dc:language>
  <cp:lastModifiedBy>Admin</cp:lastModifiedBy>
  <dcterms:modified xsi:type="dcterms:W3CDTF">2012-04-16T04:21:19Z</dcterms:modified>
  <cp:revision>14</cp:revision>
  <dc:subject/>
  <dc:title>Слайд 1</dc:title>
</cp:coreProperties>
</file>