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B25-A6AD-4D22-BCE8-7474FEAF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68F-81F8-461F-828B-740018F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283-62B8-4F1F-A23B-D707F1A0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C09-65E7-48B4-9E76-54FE5EB4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054-6FC9-456A-8474-C36C23C5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C449-04C9-4A79-A8E2-D95E4CCE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1DCA-8107-4E52-B366-E51E49A8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41B-0ACE-4D78-8FD6-AE44E2C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3FA-1174-42E2-B22D-35A30D9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6CDA-E7C7-4843-9F60-DC4AFCC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7CC9-0AC3-4654-988B-405879C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AF1-1060-474E-B945-1DB52DB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8079-3EC6-43F5-AD71-7C13771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F49E-3FC1-49DA-9FD7-9ED1616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B019-E331-4664-BD12-2DBFDB87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894-17AD-44C4-A117-6AFF096B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9E8-39DF-406B-A7DE-2FAFECA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4774-6C91-49B7-A9C9-12A813A2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D00A-9D74-4371-9CB9-1AA0856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D81B-3467-4F1F-87B7-A9E7DC6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E55DE-87F1-49E0-822E-35DFA76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54CD-6C2E-4CFC-96ED-CDEAB342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1A6-764A-4A6C-8449-9E06F83A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59FD-97DE-4B8B-AF87-DD2D741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8596-98E0-4C2E-B0B9-A9DE186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DFC4-A7C8-47DF-8073-B3B4F1F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0A55-FE86-4F08-9D0B-1162422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D062-E0E2-43A1-BCBE-FC9C108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5F3B-08E7-4406-9385-5A1A2341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E7F0-BF84-4B48-925F-259110D7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17F6-5329-44A8-88CB-DB72AD47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3D5A-1148-45B7-9A40-10654E1B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75FA-CFD0-4A0A-89A1-F5CDAB2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958-A673-4998-81AB-CFCDFDDE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F67B-FB60-4A71-9E62-86D148AC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4427-CC3E-4051-BDFD-40B844B6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629B-943D-4D3F-B0FB-47A8DFA4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F63A-FA4B-4C56-BD5F-81449E3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E993-A6BC-4F2D-9823-CBD3948C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0945-0A74-434A-B7FC-ACF8284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57AF-D1B9-418F-B762-24ACBC6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B513-44E6-4659-866C-7F7F99EA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7AFA-6327-44D4-B1CD-34CF1083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B565-0221-435E-A0FD-5E192097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4D4-078C-4617-98C9-F08688DB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0CC6-C9BA-42F3-A062-12B6C227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B4F7-1323-405C-A743-B107AFE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C015-05EE-48A2-A57D-AC9E0F0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20E1-AA16-4530-A7DF-CE2FCD9E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7C139-73E0-4F63-9A97-105091F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1BBB-0FF7-4552-829C-4CF6ED0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484E-7905-49A3-ADA8-2067096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16C2-340A-4AA9-B6D3-0CC2E6D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3363-7DF8-40A8-B12F-EA83CFF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275E-2620-423A-AEFC-4BF17C8D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D15-01D1-4585-B874-50C297A7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FD05-60B6-4B6B-B8D5-C9D3B8A9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D27-F5BA-4697-AC06-70F7562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AC6-7DCD-4CA3-A45A-1976B0B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5B3-D7E4-423A-AD1C-3240A78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E0B-45CB-48DC-BDDF-5A5DBF0BCE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38E-1236-416B-805B-9B94A12CC36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4BE-2FFF-4279-80DF-074625C66F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782-41FB-4BDE-AF98-B163275A5C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9789-AD3C-4CB8-8C42-B7AFF36878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189080"/>
            <a:ext cx="8466120" cy="3475080"/>
          </a:xfrm>
          <a:prstGeom prst="rect">
            <a:avLst/>
          </a:prstGeom>
          <a:ln w="0">
            <a:noFill/>
          </a:ln>
        </p:spPr>
      </p:pic>
      <p:pic>
        <p:nvPicPr>
          <p:cNvPr id="221" name="boris_grebenshikov_-_gorod_zolotoy.mp3" descr=""/>
          <p:cNvPicPr/>
          <p:nvPr/>
        </p:nvPicPr>
        <p:blipFill>
          <a:blip r:embed="rId2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Admin\Рабочий стол\преобразующая сила музыки. музыка\картины старых мастеров\52222_or.jpg"/>
          <p:cNvPicPr/>
          <p:nvPr/>
        </p:nvPicPr>
        <p:blipFill>
          <a:blip r:embed="rId1"/>
          <a:stretch/>
        </p:blipFill>
        <p:spPr>
          <a:xfrm>
            <a:off x="428760" y="357120"/>
            <a:ext cx="8083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Admin\Рабочий стол\преобразующая сила музыки. музыка\картины старых мастеров\44092645_9944.jpg"/>
          <p:cNvPicPr/>
          <p:nvPr/>
        </p:nvPicPr>
        <p:blipFill>
          <a:blip r:embed="rId1"/>
          <a:stretch/>
        </p:blipFill>
        <p:spPr>
          <a:xfrm>
            <a:off x="2643120" y="428760"/>
            <a:ext cx="374508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Admin\Рабочий стол\преобразующая сила музыки. музыка\картины старых мастеров\2039693833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преобразующая сила музыки. музыка\картины старых мастеров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преобразующая сила музыки. музыка\картины старых мастеров\kartini_o_gizni_07.jpg"/>
          <p:cNvPicPr/>
          <p:nvPr/>
        </p:nvPicPr>
        <p:blipFill>
          <a:blip r:embed="rId1"/>
          <a:stretch/>
        </p:blipFill>
        <p:spPr>
          <a:xfrm>
            <a:off x="2286000" y="392040"/>
            <a:ext cx="443556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преобразующая сила музыки. музыка\картины старых мастеров\polenov_bab_sad_resize.jpg"/>
          <p:cNvPicPr/>
          <p:nvPr/>
        </p:nvPicPr>
        <p:blipFill>
          <a:blip r:embed="rId1"/>
          <a:stretch/>
        </p:blipFill>
        <p:spPr>
          <a:xfrm>
            <a:off x="1000080" y="357120"/>
            <a:ext cx="7131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Admin\Рабочий стол\преобразующая сила музыки. музыка\картины старых мастеров\untitled.bmp"/>
          <p:cNvPicPr/>
          <p:nvPr/>
        </p:nvPicPr>
        <p:blipFill>
          <a:blip r:embed="rId1"/>
          <a:stretch/>
        </p:blipFill>
        <p:spPr>
          <a:xfrm>
            <a:off x="2000160" y="361800"/>
            <a:ext cx="485784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Admin\Рабочий стол\преобразующая сила музыки. музыка\картины старых мастеров\14.jpg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2214720" y="357120"/>
            <a:ext cx="4181400" cy="5075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785880" y="55008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Антонио Вивальд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357120" y="642960"/>
            <a:ext cx="4178520" cy="5072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4786200" y="50004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вальди был аббатом, но получил музыкальное образование, и музыка его всегда интересовала больше. Он был не только прекрасным композитором, но и скрипачом и поэтому основное место в его творчестве занимают произведения в которых скрипка выступает со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Зима.wma" descr=""/>
          <p:cNvPicPr/>
          <p:nvPr/>
        </p:nvPicPr>
        <p:blipFill>
          <a:blip r:embed="rId2"/>
          <a:stretch/>
        </p:blipFill>
        <p:spPr>
          <a:xfrm>
            <a:off x="11430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Admin\Рабочий стол\преобразующая сила музыки. музыка\bg4.jpg"/>
          <p:cNvPicPr/>
          <p:nvPr/>
        </p:nvPicPr>
        <p:blipFill>
          <a:blip r:embed="rId1"/>
          <a:stretch/>
        </p:blipFill>
        <p:spPr>
          <a:xfrm>
            <a:off x="2000160" y="357120"/>
            <a:ext cx="4643640" cy="5627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714240" y="585792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Борис Гребенщик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Admin\Рабочий стол\преобразующая сила музыки. музыка\Никитины.jpg"/>
          <p:cNvPicPr/>
          <p:nvPr/>
        </p:nvPicPr>
        <p:blipFill>
          <a:blip r:embed="rId1"/>
          <a:stretch/>
        </p:blipFill>
        <p:spPr>
          <a:xfrm>
            <a:off x="357120" y="500040"/>
            <a:ext cx="5286600" cy="5286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5857920" y="178596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. Величанск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В.Берков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Под музыку Вивальд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14200" y="585792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тьяна и Сергей Никит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Никитины Под музыку Вивальди.mp3" descr=""/>
          <p:cNvPicPr/>
          <p:nvPr/>
        </p:nvPicPr>
        <p:blipFill>
          <a:blip r:embed="rId2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500040" y="466560"/>
            <a:ext cx="4714920" cy="595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5357880" y="1857240"/>
            <a:ext cx="335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ранчес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но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 Мила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1497-154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5857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4500720" y="50004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ранческо Канова Да Милано – выдающийся итальянский лютнист эпохи Ренессанса, один из крупнейших европейских композиторов 16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го произведения исполнялись по всей Европе. Соверменники называли его «божественный Франческо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Admin\Рабочий стол\преобразующая сила музыки. музыка\лютня.jpg"/>
          <p:cNvPicPr/>
          <p:nvPr/>
        </p:nvPicPr>
        <p:blipFill>
          <a:blip r:embed="rId1"/>
          <a:stretch/>
        </p:blipFill>
        <p:spPr>
          <a:xfrm>
            <a:off x="1571760" y="357120"/>
            <a:ext cx="5929200" cy="4326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571680" y="478620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эта была написана для лютни. Этому инструменту уже 2000 лет, а в 15, 16, 17 веках лютня была самым любимым инструментом, её изображали художники, под её звуки танцевали, пели, поэты посвящали ей стих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Admin\Рабочий стол\преобразующая сила музыки. музыка\картины старых мастеров\f_12720959.jpg"/>
          <p:cNvPicPr/>
          <p:nvPr/>
        </p:nvPicPr>
        <p:blipFill>
          <a:blip r:embed="rId1"/>
          <a:stretch/>
        </p:blipFill>
        <p:spPr>
          <a:xfrm>
            <a:off x="500040" y="571680"/>
            <a:ext cx="8085240" cy="5643360"/>
          </a:xfrm>
          <a:prstGeom prst="rect">
            <a:avLst/>
          </a:prstGeom>
          <a:ln w="0">
            <a:noFill/>
          </a:ln>
        </p:spPr>
      </p:pic>
      <p:pic>
        <p:nvPicPr>
          <p:cNvPr id="231" name="Луис де Нарваэс. Вариация.wav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Documents and Settings\Admin\Рабочий стол\преобразующая сила музыки. музыка\картины старых мастеров\0_19396_ecd521b3_XL.jpg"/>
          <p:cNvPicPr/>
          <p:nvPr/>
        </p:nvPicPr>
        <p:blipFill>
          <a:blip r:embed="rId1"/>
          <a:stretch/>
        </p:blipFill>
        <p:spPr>
          <a:xfrm>
            <a:off x="428760" y="642960"/>
            <a:ext cx="8299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\Рабочий стол\преобразующая сила музыки. музыка\картины старых мастеров\1.jpg"/>
          <p:cNvPicPr/>
          <p:nvPr/>
        </p:nvPicPr>
        <p:blipFill>
          <a:blip r:embed="rId1"/>
          <a:stretch/>
        </p:blipFill>
        <p:spPr>
          <a:xfrm>
            <a:off x="1143000" y="333360"/>
            <a:ext cx="700092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Admin\Рабочий стол\преобразующая сила музыки. музыка\картины старых мастеров\142ccf02acc91209364979a9180a2038_full.jpg"/>
          <p:cNvPicPr/>
          <p:nvPr/>
        </p:nvPicPr>
        <p:blipFill>
          <a:blip r:embed="rId1"/>
          <a:stretch/>
        </p:blipFill>
        <p:spPr>
          <a:xfrm>
            <a:off x="571680" y="500040"/>
            <a:ext cx="8119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03:00Z</dcterms:created>
  <dc:creator>Admin</dc:creator>
  <dc:description/>
  <dc:language>en-US</dc:language>
  <cp:lastModifiedBy>Admin</cp:lastModifiedBy>
  <dcterms:modified xsi:type="dcterms:W3CDTF">2012-04-16T04:21:19Z</dcterms:modified>
  <cp:revision>14</cp:revision>
  <dc:subject/>
  <dc:title>Слайд 1</dc:title>
</cp:coreProperties>
</file>