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C1F-1758-4751-AD47-0CA7BAEF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EEE-1B4C-40DD-958A-046CA5A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180-7BE2-49E4-84D3-A0630940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931-1BE4-43DD-8524-D1B1DDD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8DB-F635-4A8F-ADC1-CBB187B2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628-1DBC-4244-86BB-148E33C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851-C471-49C7-A3BA-C60F7DA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718-85AD-4A11-AD79-1C7EBB2A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23A-ADB9-4D06-817E-17D0EC8B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44C-3163-4996-9045-DF74881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F0F-D141-41C1-AB46-A5EFC0F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945-288C-47EA-BE29-D2C9F30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150-A228-4775-AF80-588691D1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3VgflNBX78Q/SlW4xVXeu_I/AAAAAAAAASo/SHQ1cWcdd1w/tobacco_pipes_thumb%5B10%5D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5840"/>
            <a:ext cx="58579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рьёзный разговор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о пагубной привы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2997360"/>
            <a:ext cx="442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500280" y="5286240"/>
            <a:ext cx="46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Автор: Волкова Елизавета Ураловна, учитель русского языка и литературы, МОУ «Долгодеревенская СОШ» Сосновского района 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ыре стадии приобщения к кур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Organization Chart 8"/>
          <p:cNvGrpSpPr/>
          <p:nvPr/>
        </p:nvGrpSpPr>
        <p:grpSpPr>
          <a:xfrm>
            <a:off x="214200" y="1357200"/>
            <a:ext cx="8714880" cy="5356080"/>
            <a:chOff x="214200" y="1357200"/>
            <a:chExt cx="8714880" cy="5356080"/>
          </a:xfrm>
        </p:grpSpPr>
        <p:cxnSp>
          <p:nvCxnSpPr>
            <p:cNvPr id="72" name="_s1028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3469680"/>
              <a:ext cx="1071720" cy="113004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29"/>
            <p:cNvCxnSpPr>
              <a:stCxn id="76" idx="0"/>
              <a:endCxn id="74" idx="2"/>
            </p:cNvCxnSpPr>
            <p:nvPr/>
          </p:nvCxnSpPr>
          <p:spPr>
            <a:xfrm flipV="1" rot="16200000">
              <a:off x="5730480" y="2339640"/>
              <a:ext cx="1071720" cy="338976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0"/>
            <p:cNvCxnSpPr>
              <a:stCxn id="78" idx="0"/>
              <a:endCxn id="74" idx="2"/>
            </p:cNvCxnSpPr>
            <p:nvPr/>
          </p:nvCxnSpPr>
          <p:spPr>
            <a:xfrm flipH="1" flipV="1" rot="5400000">
              <a:off x="3472200" y="3470760"/>
              <a:ext cx="1071720" cy="112788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1"/>
            <p:cNvCxnSpPr>
              <a:stCxn id="80" idx="0"/>
              <a:endCxn id="74" idx="2"/>
            </p:cNvCxnSpPr>
            <p:nvPr/>
          </p:nvCxnSpPr>
          <p:spPr>
            <a:xfrm flipH="1" flipV="1" rot="5400000">
              <a:off x="2341080" y="2339640"/>
              <a:ext cx="1071720" cy="339012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1032"/>
            <p:cNvSpPr/>
            <p:nvPr/>
          </p:nvSpPr>
          <p:spPr>
            <a:xfrm>
              <a:off x="3603600" y="135720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Кур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3"/>
            <p:cNvSpPr/>
            <p:nvPr/>
          </p:nvSpPr>
          <p:spPr>
            <a:xfrm>
              <a:off x="21420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зна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247356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проб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5"/>
            <p:cNvSpPr/>
            <p:nvPr/>
          </p:nvSpPr>
          <p:spPr>
            <a:xfrm>
              <a:off x="699264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завис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6"/>
            <p:cNvSpPr/>
            <p:nvPr/>
          </p:nvSpPr>
          <p:spPr>
            <a:xfrm>
              <a:off x="473328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привык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920880" y="1085760"/>
            <a:ext cx="716904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farm4.static.flickr.com/3095/2386443212_87c91dd87a.jpg"/>
          <p:cNvPicPr/>
          <p:nvPr/>
        </p:nvPicPr>
        <p:blipFill>
          <a:blip r:embed="rId3"/>
          <a:stretch/>
        </p:blipFill>
        <p:spPr>
          <a:xfrm>
            <a:off x="1357200" y="2357280"/>
            <a:ext cx="6215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2920" y="278568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но себе представить то благотворное изменение, которое произошло бы во всей жизни  людской, если бы люди перестали одурманивать и отравлять себя водкой, вином, табаком и опиумом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.Н.Толстой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лев толстой.jpg"/>
          <p:cNvPicPr/>
          <p:nvPr/>
        </p:nvPicPr>
        <p:blipFill>
          <a:blip r:embed="rId2"/>
          <a:stretch/>
        </p:blipFill>
        <p:spPr>
          <a:xfrm>
            <a:off x="6072120" y="2643120"/>
            <a:ext cx="2786040" cy="390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2428920" y="3571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0300840"/>
          <p:cNvPicPr/>
          <p:nvPr/>
        </p:nvPicPr>
        <p:blipFill>
          <a:blip r:embed="rId2"/>
          <a:stretch/>
        </p:blipFill>
        <p:spPr>
          <a:xfrm>
            <a:off x="0" y="0"/>
            <a:ext cx="1800360" cy="1515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571760" y="21420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н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1052640"/>
            <a:ext cx="914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1428840"/>
            <a:ext cx="91440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ША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траф до 3000 долларов ждет каждого, кто                   вздумает закурить в ресторане Нью-Йорка с количеством                     мест более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та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общественных местах взимается             штраф до 125 долл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нг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еньги, которые в качестве штрафа платит нарушитель законодательства, можно купить                     подержанный автомоб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ранция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ресторанах, кафе и перронах с недавних пор приходиться платить столь же большие              штраф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ан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строномически выросли цены на сигар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775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таба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5286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Это “продукт” ядовитого растения, смешанный с различными добавками, чтобы отбить у сигареты неприятный вку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lh5.ggpht.com/_3VgflNBX78Q/SlW4xVXeu_I/AAAAAAAAASo/SHQ1cWcdd1w/tobacco_pipes_thumb%5B10%5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6160" y="-9639360"/>
            <a:ext cx="228600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трубка.jpg"/>
          <p:cNvPicPr/>
          <p:nvPr/>
        </p:nvPicPr>
        <p:blipFill>
          <a:blip r:embed="rId4"/>
          <a:stretch/>
        </p:blipFill>
        <p:spPr>
          <a:xfrm>
            <a:off x="4929120" y="1643040"/>
            <a:ext cx="3413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71960" y="1071720"/>
            <a:ext cx="4143240" cy="5573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14200" y="1428840"/>
            <a:ext cx="37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урит табак – тот сам себе вра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ильщик – сам себе могильщ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к уму не то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428840" y="4287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ФРАЗИРУЯ  ПОСЛОВИЦ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14200" y="1357200"/>
            <a:ext cx="792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вестно, что курение вредит здоровью, отравляет окружающую сре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ко, армия курильщиков значительно пополняется «новобранц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ему так происходи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428920" y="3571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5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дст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табак 1.jpg"/>
          <p:cNvPicPr/>
          <p:nvPr/>
        </p:nvPicPr>
        <p:blipFill>
          <a:blip r:embed="rId2"/>
          <a:stretch/>
        </p:blipFill>
        <p:spPr>
          <a:xfrm>
            <a:off x="4500720" y="442908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табак.jpg"/>
          <p:cNvPicPr/>
          <p:nvPr/>
        </p:nvPicPr>
        <p:blipFill>
          <a:blip r:embed="rId3"/>
          <a:stretch/>
        </p:blipFill>
        <p:spPr>
          <a:xfrm>
            <a:off x="214200" y="4500720"/>
            <a:ext cx="3810240" cy="235728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6"/>
          <p:cNvCxnSpPr/>
          <p:nvPr/>
        </p:nvCxnSpPr>
        <p:spPr>
          <a:xfrm>
            <a:off x="5072040" y="1928520"/>
            <a:ext cx="71496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5" name="Прямая со стрелкой 8"/>
          <p:cNvCxnSpPr/>
          <p:nvPr/>
        </p:nvCxnSpPr>
        <p:spPr>
          <a:xfrm flipH="1">
            <a:off x="2356560" y="1928520"/>
            <a:ext cx="78660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6" name="TextBox 11"/>
          <p:cNvSpPr/>
          <p:nvPr/>
        </p:nvSpPr>
        <p:spPr>
          <a:xfrm>
            <a:off x="725760" y="300024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СТ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857840" y="29289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абак - “безжалостный киллер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900igr.net/datai/obg/Tabak/0056-058-70-umirajut-ot-serdechno-sosudistykh-zabolevanij-75-smertej-ot.jpg"/>
          <p:cNvPicPr/>
          <p:nvPr/>
        </p:nvPicPr>
        <p:blipFill>
          <a:blip r:embed="rId2"/>
          <a:stretch/>
        </p:blipFill>
        <p:spPr>
          <a:xfrm>
            <a:off x="2357280" y="2232000"/>
            <a:ext cx="4429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05:06Z</dcterms:created>
  <dc:creator>комп</dc:creator>
  <dc:description/>
  <dc:language>en-US</dc:language>
  <cp:lastModifiedBy>КарМаН</cp:lastModifiedBy>
  <dcterms:modified xsi:type="dcterms:W3CDTF">2011-03-23T13:59:51Z</dcterms:modified>
  <cp:revision>43</cp:revision>
  <dc:subject/>
  <dc:title>Слайд 1</dc:title>
</cp:coreProperties>
</file>