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D9F8-2564-44AB-942A-3CB1C94F9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7402-5C2A-43F9-AE5C-83D404862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0C95-6F9B-40FE-8E34-17C59E9FD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C6E1-C054-4C18-BECF-B41F494BC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090F-4126-4E77-A319-BBCE67CDB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D862-CD1A-4B0B-BD03-20C14AB07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DD7F-F41A-4661-9FF7-013C6AEFC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2418-1278-4DCE-ACCA-84E068713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E746-920C-483C-A4C3-60124EE99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1529-1DF2-49FE-B336-F08F1A71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B378-EBF1-4CAC-B652-A0C17CD8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63D8-E3EF-4BB8-9B69-047D2418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E974-5A56-41C7-A036-90C1EF2E8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lh5.ggpht.com/_3VgflNBX78Q/SlW4xVXeu_I/AAAAAAAAASo/SHQ1cWcdd1w/tobacco_pipes_thumb%5B10%5D.jpg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0" y="285840"/>
            <a:ext cx="585792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Серьёзный разговор</a:t>
            </a:r>
            <a:br>
              <a:rPr sz="4000"/>
            </a:br>
            <a:r>
              <a:rPr b="1" lang="ru-RU" sz="4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о пагубной привыч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571560" y="2997360"/>
            <a:ext cx="44290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НЫ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3500280" y="5286240"/>
            <a:ext cx="464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Автор: Волкова Елизавета Ураловна, учитель русского языка и литературы, МОУ «Долгодеревенская СОШ» Сосновского района Челябин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3840" y="0"/>
            <a:ext cx="89298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тыре стадии приобщения к кур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Organization Chart 8"/>
          <p:cNvGrpSpPr/>
          <p:nvPr/>
        </p:nvGrpSpPr>
        <p:grpSpPr>
          <a:xfrm>
            <a:off x="214200" y="1357200"/>
            <a:ext cx="8714880" cy="5356080"/>
            <a:chOff x="214200" y="1357200"/>
            <a:chExt cx="8714880" cy="5356080"/>
          </a:xfrm>
        </p:grpSpPr>
        <p:cxnSp>
          <p:nvCxnSpPr>
            <p:cNvPr id="72" name="_s1028"/>
            <p:cNvCxnSpPr>
              <a:stCxn id="73" idx="0"/>
              <a:endCxn id="74" idx="2"/>
            </p:cNvCxnSpPr>
            <p:nvPr/>
          </p:nvCxnSpPr>
          <p:spPr>
            <a:xfrm flipV="1" rot="16200000">
              <a:off x="4600440" y="3469680"/>
              <a:ext cx="1071720" cy="1130040"/>
            </a:xfrm>
            <a:prstGeom prst="bentConnector3">
              <a:avLst>
                <a:gd name="adj1" fmla="val 2634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5" name="_s1029"/>
            <p:cNvCxnSpPr>
              <a:stCxn id="76" idx="0"/>
              <a:endCxn id="74" idx="2"/>
            </p:cNvCxnSpPr>
            <p:nvPr/>
          </p:nvCxnSpPr>
          <p:spPr>
            <a:xfrm flipV="1" rot="16200000">
              <a:off x="5730480" y="2339640"/>
              <a:ext cx="1071720" cy="3389760"/>
            </a:xfrm>
            <a:prstGeom prst="bentConnector3">
              <a:avLst>
                <a:gd name="adj1" fmla="val 2634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7" name="_s1030"/>
            <p:cNvCxnSpPr>
              <a:stCxn id="78" idx="0"/>
              <a:endCxn id="74" idx="2"/>
            </p:cNvCxnSpPr>
            <p:nvPr/>
          </p:nvCxnSpPr>
          <p:spPr>
            <a:xfrm flipH="1" flipV="1" rot="5400000">
              <a:off x="3472200" y="3470760"/>
              <a:ext cx="1071720" cy="1127880"/>
            </a:xfrm>
            <a:prstGeom prst="bentConnector3">
              <a:avLst>
                <a:gd name="adj1" fmla="val 2634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" name="_s1031"/>
            <p:cNvCxnSpPr>
              <a:stCxn id="80" idx="0"/>
              <a:endCxn id="74" idx="2"/>
            </p:cNvCxnSpPr>
            <p:nvPr/>
          </p:nvCxnSpPr>
          <p:spPr>
            <a:xfrm flipH="1" flipV="1" rot="5400000">
              <a:off x="2341080" y="2339640"/>
              <a:ext cx="1071720" cy="3390120"/>
            </a:xfrm>
            <a:prstGeom prst="bentConnector3">
              <a:avLst>
                <a:gd name="adj1" fmla="val 2634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4" name="_s1032"/>
            <p:cNvSpPr/>
            <p:nvPr/>
          </p:nvSpPr>
          <p:spPr>
            <a:xfrm>
              <a:off x="3603600" y="1357200"/>
              <a:ext cx="1936440" cy="2142360"/>
            </a:xfrm>
            <a:custGeom>
              <a:avLst/>
              <a:gdLst>
                <a:gd name="textAreaLeft" fmla="*/ 94320 w 1936440"/>
                <a:gd name="textAreaRight" fmla="*/ 1842120 w 1936440"/>
                <a:gd name="textAreaTop" fmla="*/ 94320 h 2142360"/>
                <a:gd name="textAreaBottom" fmla="*/ 2048040 h 2142360"/>
              </a:gdLst>
              <a:ahLst/>
              <a:rect l="textAreaLeft" t="textAreaTop" r="textAreaRight" b="textAreaBottom"/>
              <a:pathLst>
                <a:path w="21600" h="23897">
                  <a:moveTo>
                    <a:pt x="3600" y="0"/>
                  </a:moveTo>
                  <a:arcTo wR="3600" hR="3600" stAng="16200000" swAng="-5400000"/>
                  <a:lnTo>
                    <a:pt x="0" y="20297"/>
                  </a:lnTo>
                  <a:arcTo wR="3600" hR="3600" stAng="10800000" swAng="-5400000"/>
                  <a:lnTo>
                    <a:pt x="18000" y="238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Tahoma"/>
                </a:rPr>
                <a:t>Курени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1033"/>
            <p:cNvSpPr/>
            <p:nvPr/>
          </p:nvSpPr>
          <p:spPr>
            <a:xfrm>
              <a:off x="214200" y="4570920"/>
              <a:ext cx="1936440" cy="2142360"/>
            </a:xfrm>
            <a:custGeom>
              <a:avLst/>
              <a:gdLst>
                <a:gd name="textAreaLeft" fmla="*/ 94320 w 1936440"/>
                <a:gd name="textAreaRight" fmla="*/ 1842120 w 1936440"/>
                <a:gd name="textAreaTop" fmla="*/ 94320 h 2142360"/>
                <a:gd name="textAreaBottom" fmla="*/ 2048040 h 2142360"/>
              </a:gdLst>
              <a:ahLst/>
              <a:rect l="textAreaLeft" t="textAreaTop" r="textAreaRight" b="textAreaBottom"/>
              <a:pathLst>
                <a:path w="21600" h="23897">
                  <a:moveTo>
                    <a:pt x="3600" y="0"/>
                  </a:moveTo>
                  <a:arcTo wR="3600" hR="3600" stAng="16200000" swAng="-5400000"/>
                  <a:lnTo>
                    <a:pt x="0" y="20297"/>
                  </a:lnTo>
                  <a:arcTo wR="3600" hR="3600" stAng="10800000" swAng="-5400000"/>
                  <a:lnTo>
                    <a:pt x="18000" y="238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узнаван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1034"/>
            <p:cNvSpPr/>
            <p:nvPr/>
          </p:nvSpPr>
          <p:spPr>
            <a:xfrm>
              <a:off x="2473560" y="4570920"/>
              <a:ext cx="1936440" cy="2142360"/>
            </a:xfrm>
            <a:custGeom>
              <a:avLst/>
              <a:gdLst>
                <a:gd name="textAreaLeft" fmla="*/ 94320 w 1936440"/>
                <a:gd name="textAreaRight" fmla="*/ 1842120 w 1936440"/>
                <a:gd name="textAreaTop" fmla="*/ 94320 h 2142360"/>
                <a:gd name="textAreaBottom" fmla="*/ 2048040 h 2142360"/>
              </a:gdLst>
              <a:ahLst/>
              <a:rect l="textAreaLeft" t="textAreaTop" r="textAreaRight" b="textAreaBottom"/>
              <a:pathLst>
                <a:path w="21600" h="23897">
                  <a:moveTo>
                    <a:pt x="3600" y="0"/>
                  </a:moveTo>
                  <a:arcTo wR="3600" hR="3600" stAng="16200000" swAng="-5400000"/>
                  <a:lnTo>
                    <a:pt x="0" y="20297"/>
                  </a:lnTo>
                  <a:arcTo wR="3600" hR="3600" stAng="10800000" swAng="-5400000"/>
                  <a:lnTo>
                    <a:pt x="18000" y="238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проб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1035"/>
            <p:cNvSpPr/>
            <p:nvPr/>
          </p:nvSpPr>
          <p:spPr>
            <a:xfrm>
              <a:off x="6992640" y="4570920"/>
              <a:ext cx="1936440" cy="2142360"/>
            </a:xfrm>
            <a:custGeom>
              <a:avLst/>
              <a:gdLst>
                <a:gd name="textAreaLeft" fmla="*/ 94320 w 1936440"/>
                <a:gd name="textAreaRight" fmla="*/ 1842120 w 1936440"/>
                <a:gd name="textAreaTop" fmla="*/ 94320 h 2142360"/>
                <a:gd name="textAreaBottom" fmla="*/ 2048040 h 2142360"/>
              </a:gdLst>
              <a:ahLst/>
              <a:rect l="textAreaLeft" t="textAreaTop" r="textAreaRight" b="textAreaBottom"/>
              <a:pathLst>
                <a:path w="21600" h="23897">
                  <a:moveTo>
                    <a:pt x="3600" y="0"/>
                  </a:moveTo>
                  <a:arcTo wR="3600" hR="3600" stAng="16200000" swAng="-5400000"/>
                  <a:lnTo>
                    <a:pt x="0" y="20297"/>
                  </a:lnTo>
                  <a:arcTo wR="3600" hR="3600" stAng="10800000" swAng="-5400000"/>
                  <a:lnTo>
                    <a:pt x="18000" y="238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f9fd"/>
                  </a:solidFill>
                  <a:latin typeface="Times New Roman"/>
                </a:rPr>
                <a:t>зависим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036"/>
            <p:cNvSpPr/>
            <p:nvPr/>
          </p:nvSpPr>
          <p:spPr>
            <a:xfrm>
              <a:off x="4733280" y="4570920"/>
              <a:ext cx="1936440" cy="2142360"/>
            </a:xfrm>
            <a:custGeom>
              <a:avLst/>
              <a:gdLst>
                <a:gd name="textAreaLeft" fmla="*/ 94320 w 1936440"/>
                <a:gd name="textAreaRight" fmla="*/ 1842120 w 1936440"/>
                <a:gd name="textAreaTop" fmla="*/ 94320 h 2142360"/>
                <a:gd name="textAreaBottom" fmla="*/ 2048040 h 2142360"/>
              </a:gdLst>
              <a:ahLst/>
              <a:rect l="textAreaLeft" t="textAreaTop" r="textAreaRight" b="textAreaBottom"/>
              <a:pathLst>
                <a:path w="21600" h="23897">
                  <a:moveTo>
                    <a:pt x="3600" y="0"/>
                  </a:moveTo>
                  <a:arcTo wR="3600" hR="3600" stAng="16200000" swAng="-5400000"/>
                  <a:lnTo>
                    <a:pt x="0" y="20297"/>
                  </a:lnTo>
                  <a:arcTo wR="3600" hR="3600" stAng="10800000" swAng="-5400000"/>
                  <a:lnTo>
                    <a:pt x="18000" y="238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f9fd"/>
                  </a:solidFill>
                  <a:latin typeface="Times New Roman"/>
                </a:rPr>
                <a:t>привыка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Прямоугольник 3" descr=""/>
          <p:cNvPicPr/>
          <p:nvPr/>
        </p:nvPicPr>
        <p:blipFill>
          <a:blip r:embed="rId2"/>
          <a:stretch/>
        </p:blipFill>
        <p:spPr>
          <a:xfrm>
            <a:off x="920880" y="1085760"/>
            <a:ext cx="7169040" cy="1150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http://farm4.static.flickr.com/3095/2386443212_87c91dd87a.jpg"/>
          <p:cNvPicPr/>
          <p:nvPr/>
        </p:nvPicPr>
        <p:blipFill>
          <a:blip r:embed="rId3"/>
          <a:stretch/>
        </p:blipFill>
        <p:spPr>
          <a:xfrm>
            <a:off x="1357200" y="2357280"/>
            <a:ext cx="621504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42920" y="2785680"/>
            <a:ext cx="59292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Трудно себе представить то благотворное изменение, которое произошло бы во всей жизни  людской, если бы люди перестали одурманивать и отравлять себя водкой, вином, табаком и опиумом.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                                     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Л.Н.Толстой</a:t>
            </a:r>
            <a:r>
              <a:rPr b="0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3" descr="лев толстой.jpg"/>
          <p:cNvPicPr/>
          <p:nvPr/>
        </p:nvPicPr>
        <p:blipFill>
          <a:blip r:embed="rId2"/>
          <a:stretch/>
        </p:blipFill>
        <p:spPr>
          <a:xfrm>
            <a:off x="6072120" y="2643120"/>
            <a:ext cx="2786040" cy="3907080"/>
          </a:xfrm>
          <a:prstGeom prst="rect">
            <a:avLst/>
          </a:prstGeom>
          <a:ln w="0">
            <a:noFill/>
          </a:ln>
        </p:spPr>
      </p:pic>
      <p:sp>
        <p:nvSpPr>
          <p:cNvPr id="46" name="TextBox 3"/>
          <p:cNvSpPr/>
          <p:nvPr/>
        </p:nvSpPr>
        <p:spPr>
          <a:xfrm>
            <a:off x="2428920" y="357120"/>
            <a:ext cx="44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ФЕРЕН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j0300840"/>
          <p:cNvPicPr/>
          <p:nvPr/>
        </p:nvPicPr>
        <p:blipFill>
          <a:blip r:embed="rId2"/>
          <a:stretch/>
        </p:blipFill>
        <p:spPr>
          <a:xfrm>
            <a:off x="0" y="0"/>
            <a:ext cx="1800360" cy="15159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1571760" y="214200"/>
            <a:ext cx="671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конодательная справ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0" y="1052640"/>
            <a:ext cx="9144000" cy="9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buClr>
                <a:srgbClr val="cc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0" y="1428840"/>
            <a:ext cx="9144000" cy="58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cc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США</a:t>
            </a:r>
            <a:r>
              <a:rPr b="1" lang="en-US" sz="24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. 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Штраф до 3000 долларов ждет каждого, кто                   вздумает закурить в ресторане Нью-Йорка с количеством                     мест более 3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Италия</a:t>
            </a:r>
            <a:r>
              <a:rPr b="1" lang="en-US" sz="24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. 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 курение в общественных местах взимается             штраф до 125 долла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Англия</a:t>
            </a:r>
            <a:r>
              <a:rPr b="1" lang="en-US" sz="24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. 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 деньги, которые в качестве штрафа платит нарушитель законодательства, можно купить                     подержанный автомоби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Франция. 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 курение в ресторанах, кафе и перронах с недавних пор приходиться платить столь же большие              штраф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Дания</a:t>
            </a:r>
            <a:r>
              <a:rPr b="1" lang="en-US" sz="24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. 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строномически выросли цены на сигаре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28800" y="259920"/>
            <a:ext cx="7758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такое табак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13840" y="1714320"/>
            <a:ext cx="52866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Это “продукт” ядовитого растения, смешанный с различными добавками, чтобы отбить у сигареты неприятный вкус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http://lh5.ggpht.com/_3VgflNBX78Q/SlW4xVXeu_I/AAAAAAAAASo/SHQ1cWcdd1w/tobacco_pipes_thumb%5B10%5D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56160" y="-9639360"/>
            <a:ext cx="2286000" cy="233352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4" descr="трубка.jpg"/>
          <p:cNvPicPr/>
          <p:nvPr/>
        </p:nvPicPr>
        <p:blipFill>
          <a:blip r:embed="rId4"/>
          <a:stretch/>
        </p:blipFill>
        <p:spPr>
          <a:xfrm>
            <a:off x="4929120" y="1643040"/>
            <a:ext cx="341316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4071960" y="1071720"/>
            <a:ext cx="4143240" cy="557352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3"/>
          <p:cNvSpPr/>
          <p:nvPr/>
        </p:nvSpPr>
        <p:spPr>
          <a:xfrm>
            <a:off x="214200" y="1428840"/>
            <a:ext cx="37864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курит табак – тот сам себе вра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урильщик – сам себе могильщи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ак уму не товари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1428840" y="428760"/>
            <a:ext cx="650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ФРАЗИРУЯ  ПОСЛОВИЦЫ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Изображение 00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214200" y="1357200"/>
            <a:ext cx="7929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звестно, что курение вредит здоровью, отравляет окружающую сред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днако, армия курильщиков значительно пополняется «новобранцам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чему так происходит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2428920" y="357120"/>
            <a:ext cx="428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БЛЕ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928800"/>
            <a:ext cx="65008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Представ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3" descr="табак 1.jpg"/>
          <p:cNvPicPr/>
          <p:nvPr/>
        </p:nvPicPr>
        <p:blipFill>
          <a:blip r:embed="rId2"/>
          <a:stretch/>
        </p:blipFill>
        <p:spPr>
          <a:xfrm>
            <a:off x="4500720" y="4429080"/>
            <a:ext cx="3571560" cy="24289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5" descr="табак.jpg"/>
          <p:cNvPicPr/>
          <p:nvPr/>
        </p:nvPicPr>
        <p:blipFill>
          <a:blip r:embed="rId3"/>
          <a:stretch/>
        </p:blipFill>
        <p:spPr>
          <a:xfrm>
            <a:off x="214200" y="4500720"/>
            <a:ext cx="3810240" cy="2357280"/>
          </a:xfrm>
          <a:prstGeom prst="rect">
            <a:avLst/>
          </a:prstGeom>
          <a:ln w="0">
            <a:noFill/>
          </a:ln>
        </p:spPr>
      </p:pic>
      <p:cxnSp>
        <p:nvCxnSpPr>
          <p:cNvPr id="64" name="Прямая со стрелкой 6"/>
          <p:cNvCxnSpPr/>
          <p:nvPr/>
        </p:nvCxnSpPr>
        <p:spPr>
          <a:xfrm>
            <a:off x="5072040" y="1928520"/>
            <a:ext cx="714960" cy="78660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65" name="Прямая со стрелкой 8"/>
          <p:cNvCxnSpPr/>
          <p:nvPr/>
        </p:nvCxnSpPr>
        <p:spPr>
          <a:xfrm flipH="1">
            <a:off x="2356560" y="1928520"/>
            <a:ext cx="786600" cy="78660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66" name="TextBox 11"/>
          <p:cNvSpPr/>
          <p:nvPr/>
        </p:nvSpPr>
        <p:spPr>
          <a:xfrm>
            <a:off x="725760" y="3000240"/>
            <a:ext cx="22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ИСТИ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2"/>
          <p:cNvSpPr/>
          <p:nvPr/>
        </p:nvSpPr>
        <p:spPr>
          <a:xfrm>
            <a:off x="4857840" y="2928960"/>
            <a:ext cx="23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ЛОЖ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42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Табак - “безжалостный киллер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http://900igr.net/datai/obg/Tabak/0056-058-70-umirajut-ot-serdechno-sosudistykh-zabolevanij-75-smertej-ot.jpg"/>
          <p:cNvPicPr/>
          <p:nvPr/>
        </p:nvPicPr>
        <p:blipFill>
          <a:blip r:embed="rId2"/>
          <a:stretch/>
        </p:blipFill>
        <p:spPr>
          <a:xfrm>
            <a:off x="2357280" y="2232000"/>
            <a:ext cx="4429440" cy="44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09:05:06Z</dcterms:created>
  <dc:creator>комп</dc:creator>
  <dc:description/>
  <dc:language>en-US</dc:language>
  <cp:lastModifiedBy>КарМаН</cp:lastModifiedBy>
  <dcterms:modified xsi:type="dcterms:W3CDTF">2011-03-23T13:59:51Z</dcterms:modified>
  <cp:revision>43</cp:revision>
  <dc:subject/>
  <dc:title>Слайд 1</dc:title>
</cp:coreProperties>
</file>