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154-903D-42C2-B742-6C5259A5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A6C-57BD-47F7-A157-332B5B1A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F1E-258D-4B81-862F-84833B33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184-D91A-4E52-972F-BA1D6511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DFE1-05D3-44C9-96B5-F86022C9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D28-656F-4E59-A66D-E06ADD3B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0C33-E434-44DC-9942-BF3979B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354D-B437-4968-ADDF-7C699FE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FFAE-C13F-464F-94A5-8725C5C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3774-E1DA-4E57-9A9A-E3E17F07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A05C-8317-43B1-9486-71DFB32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AAB-D4E3-4D64-9A76-3962ACFE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F58C-3BBF-4587-973D-B7016F3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630E-F0DB-487D-A84D-721BF0F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B5C0-E466-4447-BEB7-2D5ED031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D49E-5D26-4996-96CC-3B3D81D5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676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46920" y="207000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0660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676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946920" y="4506120"/>
            <a:ext cx="25902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A22C-846D-42AE-8A04-627F8D9D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04B-4127-4D03-A028-03E95EDF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98E-1DD0-4517-A490-A256CE18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CAA-0842-4457-A779-D63889A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06600" y="341280"/>
            <a:ext cx="8045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039-1D93-4B8E-A74E-074237D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593-3D2D-47DA-9A23-69D2118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28960" y="450612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16F-51B6-47BA-A396-FF0F15AF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28960" y="2070000"/>
            <a:ext cx="39258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06600" y="4506120"/>
            <a:ext cx="804528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303-A86E-45AC-B533-BEEC31A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562200" y="0"/>
            <a:ext cx="13116600" cy="4317120"/>
            <a:chOff x="-3562200" y="0"/>
            <a:chExt cx="13116600" cy="4317120"/>
          </a:xfrm>
        </p:grpSpPr>
        <p:sp>
          <p:nvSpPr>
            <p:cNvPr id="1" name="AutoShape 3"/>
            <p:cNvSpPr/>
            <p:nvPr/>
          </p:nvSpPr>
          <p:spPr>
            <a:xfrm>
              <a:off x="-3562200" y="776880"/>
              <a:ext cx="4525920" cy="3540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667960" y="0"/>
              <a:ext cx="3402720" cy="35748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508400" y="1726920"/>
              <a:ext cx="804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BF12F-A179-43B8-B6AB-4EC6674F2971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544920" y="345960"/>
            <a:ext cx="13099680" cy="5352840"/>
            <a:chOff x="-3544920" y="345960"/>
            <a:chExt cx="13099680" cy="5352840"/>
          </a:xfrm>
        </p:grpSpPr>
        <p:sp>
          <p:nvSpPr>
            <p:cNvPr id="46" name="Line 3"/>
            <p:cNvSpPr/>
            <p:nvPr/>
          </p:nvSpPr>
          <p:spPr>
            <a:xfrm>
              <a:off x="1592280" y="2849760"/>
              <a:ext cx="79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765880" y="1554480"/>
              <a:ext cx="4023000" cy="414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544920" y="345960"/>
              <a:ext cx="4442400" cy="4575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-317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82720" indent="-25380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9248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9248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0292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08640" y="7081560"/>
            <a:ext cx="234612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ru-RU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65EE0B-9D12-470F-AE38-EFD373B8DEB6}" type="slidenum">
              <a:rPr b="0" lang="ru-RU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74;&#1080;&#1079;&#1080;&#1090;&#1082;&#1072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2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3" Type="http://schemas.openxmlformats.org/officeDocument/2006/relationships/hyperlink" Target="file:///&#1048;&#1089;&#1090;&#1086;&#1088;&#1080;&#1103;%20&#1086;&#1083;&#1080;&#1084;&#1087;&#1080;&#1081;&#1089;&#1082;&#1080;&#1093;%20&#1080;&#1075;&#1088;.ppt" TargetMode="External"/><Relationship Id="rId4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5" Type="http://schemas.openxmlformats.org/officeDocument/2006/relationships/hyperlink" Target="file:///Environment.pub" TargetMode="External"/><Relationship Id="rId6" Type="http://schemas.openxmlformats.org/officeDocument/2006/relationships/hyperlink" Target="file:///Environment.pub" TargetMode="External"/><Relationship Id="rId7" Type="http://schemas.openxmlformats.org/officeDocument/2006/relationships/hyperlink" Target="file:///Environment.pub" TargetMode="External"/><Relationship Id="rId8" Type="http://schemas.openxmlformats.org/officeDocument/2006/relationships/hyperlink" Target="file:///&#1082;&#1088;&#1080;&#1090;&#1077;&#1088;&#1080;&#1080;%20&#1086;&#1094;&#1077;&#1085;&#1080;&#1074;&#1072;&#1085;&#1080;&#1103;%20&#1073;&#1091;&#1082;&#1083;&#1077;&#1090;&#1072;.doc" TargetMode="External"/><Relationship Id="rId9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0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1" Type="http://schemas.openxmlformats.org/officeDocument/2006/relationships/hyperlink" Target="file:///&#1089;&#1090;&#1088;&#1086;&#1080;&#1090;&#1077;&#1083;&#1100;&#1089;&#1090;&#1074;&#1086;%20&#1086;&#1083;&#1080;&#1084;&#1087;&#1080;&#1081;&#1089;&#1082;&#1080;&#1093;%20&#1086;&#1073;&#1098;&#1077;&#1082;&#1090;&#1086;&#1074;.ppt" TargetMode="External"/><Relationship Id="rId12" Type="http://schemas.openxmlformats.org/officeDocument/2006/relationships/hyperlink" Target="file:///&#1082;&#1088;&#1080;&#1090;&#1077;&#1088;&#1080;&#1080;%20&#1086;&#1094;&#1077;&#1085;&#1082;&#1080;%20&#1084;&#1091;&#1083;&#1100;&#1090;&#1080;&#1084;&#1077;&#1076;&#1080;&#1081;&#1085;&#1086;&#1081;%20&#1087;&#1088;&#1077;&#1079;&#1077;&#1085;&#1090;&#1072;&#1094;&#1080;&#1080;.doc" TargetMode="External"/><Relationship Id="rId13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4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5" Type="http://schemas.openxmlformats.org/officeDocument/2006/relationships/hyperlink" Target="file:///&#1085;&#1086;&#1088;&#1084;&#1072;&#1090;&#1080;&#1074;&#1085;&#1086;-&#1087;&#1088;&#1072;&#1074;&#1086;&#1074;&#1086;&#1077;%20&#1086;&#1073;&#1077;&#1089;&#1087;&#1077;&#1095;&#1077;&#1085;&#1080;&#1077;%20&#1086;&#1083;&#1080;&#1084;&#1087;&#1080;&#1072;&#1076;&#1099;.doc" TargetMode="External"/><Relationship Id="rId16" Type="http://schemas.openxmlformats.org/officeDocument/2006/relationships/hyperlink" Target="file:///Financing.pub" TargetMode="External"/><Relationship Id="rId17" Type="http://schemas.openxmlformats.org/officeDocument/2006/relationships/hyperlink" Target="file:///Financing.pub" TargetMode="External"/><Relationship Id="rId18" Type="http://schemas.openxmlformats.org/officeDocument/2006/relationships/hyperlink" Target="file:///Financing.pub" TargetMode="Externa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149560" y="2446200"/>
            <a:ext cx="51130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45 Helvetica Light"/>
              </a:rPr>
              <a:t>Olympic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Сочи – столица XXII зимних олимпийских игр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92480" y="5686560"/>
            <a:ext cx="662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Авторы:</a:t>
            </a:r>
            <a:r>
              <a:rPr b="1" lang="en-US" sz="20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Место работы: МБОУ СОШ №3 с. Безопас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45 Helvetica Light"/>
              </a:rPr>
              <a:t>Учащиеся 8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941560" y="7054920"/>
            <a:ext cx="496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Безопасное, 20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220840" y="4246560"/>
            <a:ext cx="5113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45 Helvetica Light"/>
              </a:rPr>
              <a:t>Творческое название проек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45 Helvetica Light"/>
              </a:rPr>
              <a:t>Маленький Оксфорд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6840" y="71748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Контактная информац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76480" y="1971360"/>
            <a:ext cx="4032360" cy="471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евандовская Светлан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У СОШ №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. Безопасное Труновский рай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: 8(86546)23-2-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-mail: zlatotsveta70@mail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6" descr="3"/>
          <p:cNvPicPr/>
          <p:nvPr/>
        </p:nvPicPr>
        <p:blipFill>
          <a:blip r:embed="rId1"/>
          <a:stretch/>
        </p:blipFill>
        <p:spPr>
          <a:xfrm>
            <a:off x="1506600" y="2508120"/>
            <a:ext cx="3935520" cy="3787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92120" y="1798200"/>
            <a:ext cx="9329760" cy="5256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ый проект охватывает темы «Спорт», «Экология»,  «История олимпийских игр», «Малые города России» из раздела программы по английскому языку «Спорт», «Люди и места». Он позволяет учащимся выработать решение социальных проблем, развивает креативное отношение к окружающей среде, привлекает внимание к проблемам малых городов России.  Такая работа создает ситуацию успешности и позволяет учащимся отработать коммуникативные навыки, а качественные проблемные вопросы развивают интерес к предмету. Работа является актуальной, т. к. Сочи привлекает большое внимание в связи с подготовкой проведения зимних олимпийских игр 2014 г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365200" y="285840"/>
            <a:ext cx="67881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Аннотация проект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365200" y="861840"/>
            <a:ext cx="712800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Основополагающий вопрос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Почему зимнюю олимпиаду решили проводить в субтропиках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Вопросы учебной темы</a:t>
            </a:r>
            <a:r>
              <a:rPr b="1" lang="en-US" sz="2500" spc="-1" strike="noStrike">
                <a:solidFill>
                  <a:srgbClr val="1f4ca1"/>
                </a:solidFill>
                <a:latin typeface="45 Helvetica Light"/>
              </a:rPr>
              <a:t> (</a:t>
            </a:r>
            <a:r>
              <a:rPr b="1" lang="ru-RU" sz="2500" spc="-1" strike="noStrike">
                <a:solidFill>
                  <a:srgbClr val="1f4ca1"/>
                </a:solidFill>
                <a:latin typeface="45 Helvetica Light"/>
              </a:rPr>
              <a:t>проблемные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появились олимпийские игры и проводились ли они ранее в субтропиках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а экология курортного города  и повлияет ли строительство олимпийских объектов на не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ово нормативно-правовое регулирование организации и проведения  Олимпийских игр в Росси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 будет финансироваться подготовка зимней олимпиад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00000"/>
              </a:lnSpc>
              <a:spcBef>
                <a:spcPts val="1250"/>
              </a:spcBef>
              <a:buClr>
                <a:srgbClr val="1f4ca1"/>
              </a:buClr>
              <a:buFont typeface="45 Helvetica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ca1"/>
                </a:solidFill>
                <a:latin typeface="45 Helvetica Light"/>
              </a:rPr>
              <a:t>Какие олимпийские объекты будут построен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20840" y="21384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ебные предм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49560" y="717120"/>
            <a:ext cx="6975360" cy="1368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71000"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озн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е техноло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004840" y="266220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2076480" y="3238560"/>
            <a:ext cx="6975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11 класс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76480" y="352584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ая ц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004840" y="4102200"/>
            <a:ext cx="697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ых навыков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076480" y="4462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задач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076480" y="5110200"/>
            <a:ext cx="6975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монологических навыков по темам «Спорт», «Люди и мест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работка лексико-грамматических структу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ширение социокультурной компетентности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076480" y="691056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Визит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8120" y="501120"/>
            <a:ext cx="678816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6600" y="2070000"/>
            <a:ext cx="804528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следование истории возникновения олимпийских игр, зимних олимпийских игр и узнать проводились ли они ранее в субтропик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кружающая среда города Сочи и влияние строительства олимпийских объектов на не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Нормативно – правовое обеспечение проведения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Финансирование подготовки олимпиад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Какие олимпийские объекты будут построе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4480" y="1131840"/>
            <a:ext cx="805356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ормы представления учащимися результатов исследований и критерии их оцени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72840" y="2373480"/>
            <a:ext cx="7908840" cy="4170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9000"/>
          </a:bodyPr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2"/>
              </a:rPr>
              <a:t>The history of the Olympic games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3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4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5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6"/>
              </a:rPr>
              <a:t>Environment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7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8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9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0"/>
              </a:rPr>
              <a:t>Which objects are they going to build?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1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2"/>
              </a:rPr>
              <a:t>Критерии оценивания презент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ЭССЕ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3"/>
              </a:rPr>
              <a:t>«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Bookman Old Style"/>
                <a:hlinkClick r:id="rId14"/>
              </a:rPr>
              <a:t>Olympic Charter and Olympic Law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5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УКЛЕ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6"/>
              </a:rPr>
              <a:t>«</a:t>
            </a:r>
            <a:r>
              <a:rPr b="0" lang="en-GB" sz="2000" spc="-1" strike="noStrike" u="sng">
                <a:solidFill>
                  <a:srgbClr val="006666"/>
                </a:solidFill>
                <a:uFillTx/>
                <a:latin typeface="Bookman Old Style"/>
                <a:hlinkClick r:id="rId17"/>
              </a:rPr>
              <a:t>Financing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Bookman Old Style"/>
                <a:hlinkClick r:id="rId18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Критерии оценивания букл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8720"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дактические материалы участников проек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97240" y="1971360"/>
            <a:ext cx="7456320" cy="1770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я по аудированию для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Задание по чтению №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стирование по истории Олимпийских иг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92480" y="3814920"/>
            <a:ext cx="67881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тодические материалы участников про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365200" y="5110200"/>
            <a:ext cx="69757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365200" y="503856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36840" y="5110200"/>
            <a:ext cx="69753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365200" y="2085840"/>
            <a:ext cx="6975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076480" y="5181480"/>
            <a:ext cx="77770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Урок по теме «Какова цена славы? Звезды спорта» 8 клас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ексты к заданиям по аудирован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6840" y="213840"/>
            <a:ext cx="6789600" cy="690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365200" y="1149480"/>
          <a:ext cx="6975720" cy="6395760"/>
        </p:xfrm>
        <a:graphic>
          <a:graphicData uri="http://schemas.openxmlformats.org/drawingml/2006/table">
            <a:tbl>
              <a:tblPr/>
              <a:tblGrid>
                <a:gridCol w="1768680"/>
                <a:gridCol w="3384360"/>
                <a:gridCol w="1822680"/>
              </a:tblGrid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6600"/>
                          </a:solidFill>
                          <a:uFillTx/>
                          <a:latin typeface="Verdana"/>
                        </a:rPr>
                        <a:t>Необходимое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ведение в т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бор и обсуждение тем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делятся на группы по 4-6 человек (8, 10 кл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стоя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чащиеся самостоятельно формулируют  проблемы индивидуальных исследований, выдвигают гипотезы, выбирают форму представления результ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формл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представляются в виде презентации, публ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ведение ито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пы оценивают работу каждого участника. Учитель оценивает работу групп в цел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06600" y="341280"/>
            <a:ext cx="80452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роки проведения проек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64840" y="2230560"/>
            <a:ext cx="6975720" cy="6904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83000"/>
          </a:bodyPr>
          <a:p>
            <a:pPr lvl="1" marL="686160" indent="-263160"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 месяц, с учетом внеклассной работ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36600" y="3381480"/>
            <a:ext cx="79218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лан работы по проекту в школ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436840" y="5181480"/>
            <a:ext cx="67881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23:12:51Z</dcterms:created>
  <dc:creator>.</dc:creator>
  <dc:description/>
  <dc:language>en-US</dc:language>
  <cp:lastModifiedBy>Пользователь</cp:lastModifiedBy>
  <cp:lastPrinted>2001-07-20T22:27:51Z</cp:lastPrinted>
  <dcterms:modified xsi:type="dcterms:W3CDTF">2013-08-05T07:34:32Z</dcterms:modified>
  <cp:revision>290</cp:revision>
  <dc:subject/>
  <dc:title>No Slide Title</dc:title>
</cp:coreProperties>
</file>