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CDB4-DF6E-4575-BB7C-6BBA1C29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804528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06600" y="4506120"/>
            <a:ext cx="804528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576D-B01C-4179-96A5-1E8B438F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628960" y="207000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06600" y="450612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628960" y="450612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BDC6-1799-4433-8501-ACEE4626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2590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26760" y="2070000"/>
            <a:ext cx="2590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46920" y="2070000"/>
            <a:ext cx="2590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06600" y="4506120"/>
            <a:ext cx="2590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26760" y="4506120"/>
            <a:ext cx="2590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946920" y="4506120"/>
            <a:ext cx="2590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5E4E-1E8F-42C5-8038-4F6C9BCD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FF2B-E83D-457E-95E6-41A8C1093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06600" y="2070000"/>
            <a:ext cx="804528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E0BA-B4D9-465F-9835-B9E1BFC0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804528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8F50-44AF-4680-B78E-F7A14123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39258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28960" y="2070000"/>
            <a:ext cx="39258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0A17-1727-4F35-9527-A0CFDBDC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7F79-B36E-40CE-9144-D3A0BC5F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06600" y="341280"/>
            <a:ext cx="8045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B824-48EF-4350-9AD9-5786256F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28960" y="2070000"/>
            <a:ext cx="39258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06600" y="450612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6CA9-E995-4E2B-90B1-332379B1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06600" y="2070000"/>
            <a:ext cx="804528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3469-483A-4411-BDD2-2384662A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39258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28960" y="207000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28960" y="450612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CEED-5B4D-4E2B-B6BE-2706EAD4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28960" y="207000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06600" y="4506120"/>
            <a:ext cx="804528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0391-1A7A-4692-A2FA-5A44224F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804528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06600" y="4506120"/>
            <a:ext cx="804528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3CEB-DFAE-4932-84B9-87519790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628960" y="207000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06600" y="450612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28960" y="450612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8EBD-F81D-4D52-89AD-6B107B806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2590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26760" y="2070000"/>
            <a:ext cx="2590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46920" y="2070000"/>
            <a:ext cx="2590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06600" y="4506120"/>
            <a:ext cx="2590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226760" y="4506120"/>
            <a:ext cx="2590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946920" y="4506120"/>
            <a:ext cx="2590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A3ED-44C6-4CCE-87C7-580C14CA3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804528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284D-B1F9-4D1F-9491-E9C87D6E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39258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28960" y="2070000"/>
            <a:ext cx="39258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5DB0-5073-4AD5-A6D3-220BEABE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6FA3-B843-4075-A61A-D0CE005A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06600" y="341280"/>
            <a:ext cx="8045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2E15-AB68-45DA-93B1-DB9ABE94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28960" y="2070000"/>
            <a:ext cx="39258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06600" y="450612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9106-871D-4CBF-A663-CBF722AC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39258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28960" y="207000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28960" y="450612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90A5-5095-4B46-A42F-7D048FA6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28960" y="207000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06600" y="4506120"/>
            <a:ext cx="804528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19ED-76B7-4417-A5A6-8385FF7B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562200" y="0"/>
            <a:ext cx="13116600" cy="4317120"/>
            <a:chOff x="-3562200" y="0"/>
            <a:chExt cx="13116600" cy="4317120"/>
          </a:xfrm>
        </p:grpSpPr>
        <p:sp>
          <p:nvSpPr>
            <p:cNvPr id="1" name="AutoShape 3"/>
            <p:cNvSpPr/>
            <p:nvPr/>
          </p:nvSpPr>
          <p:spPr>
            <a:xfrm>
              <a:off x="-3562200" y="776880"/>
              <a:ext cx="4525920" cy="35402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667960" y="0"/>
              <a:ext cx="3402720" cy="35748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508400" y="1726920"/>
              <a:ext cx="804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506600" y="2070000"/>
            <a:ext cx="804528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26920" indent="-317160"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25416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782720" indent="-253800"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292480" indent="-254160">
              <a:spcBef>
                <a:spcPts val="799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292480" indent="-2541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292480" indent="-2541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02920" y="7081560"/>
            <a:ext cx="234612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08640" y="7081560"/>
            <a:ext cx="234612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ru-RU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C3C6BED-D4CB-45B3-8136-2E869118B167}" type="slidenum">
              <a:rPr b="0" lang="ru-RU" sz="13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544920" y="345960"/>
            <a:ext cx="13099680" cy="5352840"/>
            <a:chOff x="-3544920" y="345960"/>
            <a:chExt cx="13099680" cy="5352840"/>
          </a:xfrm>
        </p:grpSpPr>
        <p:sp>
          <p:nvSpPr>
            <p:cNvPr id="46" name="Line 3"/>
            <p:cNvSpPr/>
            <p:nvPr/>
          </p:nvSpPr>
          <p:spPr>
            <a:xfrm>
              <a:off x="1592280" y="2849760"/>
              <a:ext cx="79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765880" y="1554480"/>
              <a:ext cx="4023000" cy="414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544920" y="345960"/>
              <a:ext cx="4442400" cy="457596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06600" y="2070000"/>
            <a:ext cx="804528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26920" indent="-317160"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25416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782720" indent="-253800"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292480" indent="-254160">
              <a:spcBef>
                <a:spcPts val="799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292480" indent="-2541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292480" indent="-2541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02920" y="7081560"/>
            <a:ext cx="234612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08640" y="7081560"/>
            <a:ext cx="234612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ru-RU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80A0556-FEF1-4E20-92A5-88D47C24F3BC}" type="slidenum">
              <a:rPr b="0" lang="ru-RU" sz="13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74;&#1080;&#1079;&#1080;&#1090;&#1082;&#1072;.doc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48;&#1089;&#1090;&#1086;&#1088;&#1080;&#1103;%20&#1086;&#1083;&#1080;&#1084;&#1087;&#1080;&#1081;&#1089;&#1082;&#1080;&#1093;%20&#1080;&#1075;&#1088;.ppt" TargetMode="External"/><Relationship Id="rId2" Type="http://schemas.openxmlformats.org/officeDocument/2006/relationships/hyperlink" Target="file:///&#1048;&#1089;&#1090;&#1086;&#1088;&#1080;&#1103;%20&#1086;&#1083;&#1080;&#1084;&#1087;&#1080;&#1081;&#1089;&#1082;&#1080;&#1093;%20&#1080;&#1075;&#1088;.ppt" TargetMode="External"/><Relationship Id="rId3" Type="http://schemas.openxmlformats.org/officeDocument/2006/relationships/hyperlink" Target="file:///&#1048;&#1089;&#1090;&#1086;&#1088;&#1080;&#1103;%20&#1086;&#1083;&#1080;&#1084;&#1087;&#1080;&#1081;&#1089;&#1082;&#1080;&#1093;%20&#1080;&#1075;&#1088;.ppt" TargetMode="External"/><Relationship Id="rId4" Type="http://schemas.openxmlformats.org/officeDocument/2006/relationships/hyperlink" Target="file:///&#1082;&#1088;&#1080;&#1090;&#1077;&#1088;&#1080;&#1080;%20&#1086;&#1094;&#1077;&#1085;&#1082;&#1080;%20&#1084;&#1091;&#1083;&#1100;&#1090;&#1080;&#1084;&#1077;&#1076;&#1080;&#1081;&#1085;&#1086;&#1081;%20&#1087;&#1088;&#1077;&#1079;&#1077;&#1085;&#1090;&#1072;&#1094;&#1080;&#1080;.doc" TargetMode="External"/><Relationship Id="rId5" Type="http://schemas.openxmlformats.org/officeDocument/2006/relationships/hyperlink" Target="file:///Environment.pub" TargetMode="External"/><Relationship Id="rId6" Type="http://schemas.openxmlformats.org/officeDocument/2006/relationships/hyperlink" Target="file:///Environment.pub" TargetMode="External"/><Relationship Id="rId7" Type="http://schemas.openxmlformats.org/officeDocument/2006/relationships/hyperlink" Target="file:///Environment.pub" TargetMode="External"/><Relationship Id="rId8" Type="http://schemas.openxmlformats.org/officeDocument/2006/relationships/hyperlink" Target="file:///&#1082;&#1088;&#1080;&#1090;&#1077;&#1088;&#1080;&#1080;%20&#1086;&#1094;&#1077;&#1085;&#1080;&#1074;&#1072;&#1085;&#1080;&#1103;%20&#1073;&#1091;&#1082;&#1083;&#1077;&#1090;&#1072;.doc" TargetMode="External"/><Relationship Id="rId9" Type="http://schemas.openxmlformats.org/officeDocument/2006/relationships/hyperlink" Target="file:///&#1089;&#1090;&#1088;&#1086;&#1080;&#1090;&#1077;&#1083;&#1100;&#1089;&#1090;&#1074;&#1086;%20&#1086;&#1083;&#1080;&#1084;&#1087;&#1080;&#1081;&#1089;&#1082;&#1080;&#1093;%20&#1086;&#1073;&#1098;&#1077;&#1082;&#1090;&#1086;&#1074;.ppt" TargetMode="External"/><Relationship Id="rId10" Type="http://schemas.openxmlformats.org/officeDocument/2006/relationships/hyperlink" Target="file:///&#1089;&#1090;&#1088;&#1086;&#1080;&#1090;&#1077;&#1083;&#1100;&#1089;&#1090;&#1074;&#1086;%20&#1086;&#1083;&#1080;&#1084;&#1087;&#1080;&#1081;&#1089;&#1082;&#1080;&#1093;%20&#1086;&#1073;&#1098;&#1077;&#1082;&#1090;&#1086;&#1074;.ppt" TargetMode="External"/><Relationship Id="rId11" Type="http://schemas.openxmlformats.org/officeDocument/2006/relationships/hyperlink" Target="file:///&#1089;&#1090;&#1088;&#1086;&#1080;&#1090;&#1077;&#1083;&#1100;&#1089;&#1090;&#1074;&#1086;%20&#1086;&#1083;&#1080;&#1084;&#1087;&#1080;&#1081;&#1089;&#1082;&#1080;&#1093;%20&#1086;&#1073;&#1098;&#1077;&#1082;&#1090;&#1086;&#1074;.ppt" TargetMode="External"/><Relationship Id="rId12" Type="http://schemas.openxmlformats.org/officeDocument/2006/relationships/hyperlink" Target="file:///&#1082;&#1088;&#1080;&#1090;&#1077;&#1088;&#1080;&#1080;%20&#1086;&#1094;&#1077;&#1085;&#1082;&#1080;%20&#1084;&#1091;&#1083;&#1100;&#1090;&#1080;&#1084;&#1077;&#1076;&#1080;&#1081;&#1085;&#1086;&#1081;%20&#1087;&#1088;&#1077;&#1079;&#1077;&#1085;&#1090;&#1072;&#1094;&#1080;&#1080;.doc" TargetMode="External"/><Relationship Id="rId13" Type="http://schemas.openxmlformats.org/officeDocument/2006/relationships/hyperlink" Target="file:///&#1085;&#1086;&#1088;&#1084;&#1072;&#1090;&#1080;&#1074;&#1085;&#1086;-&#1087;&#1088;&#1072;&#1074;&#1086;&#1074;&#1086;&#1077;%20&#1086;&#1073;&#1077;&#1089;&#1087;&#1077;&#1095;&#1077;&#1085;&#1080;&#1077;%20&#1086;&#1083;&#1080;&#1084;&#1087;&#1080;&#1072;&#1076;&#1099;.doc" TargetMode="External"/><Relationship Id="rId14" Type="http://schemas.openxmlformats.org/officeDocument/2006/relationships/hyperlink" Target="file:///&#1085;&#1086;&#1088;&#1084;&#1072;&#1090;&#1080;&#1074;&#1085;&#1086;-&#1087;&#1088;&#1072;&#1074;&#1086;&#1074;&#1086;&#1077;%20&#1086;&#1073;&#1077;&#1089;&#1087;&#1077;&#1095;&#1077;&#1085;&#1080;&#1077;%20&#1086;&#1083;&#1080;&#1084;&#1087;&#1080;&#1072;&#1076;&#1099;.doc" TargetMode="External"/><Relationship Id="rId15" Type="http://schemas.openxmlformats.org/officeDocument/2006/relationships/hyperlink" Target="file:///&#1085;&#1086;&#1088;&#1084;&#1072;&#1090;&#1080;&#1074;&#1085;&#1086;-&#1087;&#1088;&#1072;&#1074;&#1086;&#1074;&#1086;&#1077;%20&#1086;&#1073;&#1077;&#1089;&#1087;&#1077;&#1095;&#1077;&#1085;&#1080;&#1077;%20&#1086;&#1083;&#1080;&#1084;&#1087;&#1080;&#1072;&#1076;&#1099;.doc" TargetMode="External"/><Relationship Id="rId16" Type="http://schemas.openxmlformats.org/officeDocument/2006/relationships/hyperlink" Target="file:///Financing.pub" TargetMode="External"/><Relationship Id="rId17" Type="http://schemas.openxmlformats.org/officeDocument/2006/relationships/hyperlink" Target="file:///Financing.pub" TargetMode="External"/><Relationship Id="rId18" Type="http://schemas.openxmlformats.org/officeDocument/2006/relationships/hyperlink" Target="file:///Financing.pub" TargetMode="External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6"/>
          <p:cNvSpPr/>
          <p:nvPr/>
        </p:nvSpPr>
        <p:spPr>
          <a:xfrm>
            <a:off x="2149560" y="2446200"/>
            <a:ext cx="511308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45 Helvetica Light"/>
              </a:rPr>
              <a:t>Olympic Ga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45 Helvetica Light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45 Helvetica Light"/>
              </a:rPr>
              <a:t>Сочи – столица XXII зимних олимпийских игр</a:t>
            </a:r>
            <a:r>
              <a:rPr b="1" lang="ru-RU" sz="2000" spc="-1" strike="noStrike">
                <a:solidFill>
                  <a:srgbClr val="000000"/>
                </a:solidFill>
                <a:latin typeface="45 Helvetica Ligh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292480" y="5686560"/>
            <a:ext cx="6624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45 Helvetica Light"/>
              </a:rPr>
              <a:t>Авторы:</a:t>
            </a:r>
            <a:r>
              <a:rPr b="1" lang="en-US" sz="2000" spc="-1" strike="noStrike">
                <a:solidFill>
                  <a:srgbClr val="000000"/>
                </a:solidFill>
                <a:latin typeface="45 Helvetica Light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45 Helvetica Light"/>
              </a:rPr>
              <a:t>Левандовская Светлана Николаев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45 Helvetica Light"/>
              </a:rPr>
              <a:t>Место работы: МБОУ СОШ №3 с. Безопасно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45 Helvetica Light"/>
              </a:rPr>
              <a:t>Учащиеся 8 класс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2941560" y="7054920"/>
            <a:ext cx="4969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45 Helvetica Light"/>
              </a:rPr>
              <a:t>Безопасное, 20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2220840" y="4246560"/>
            <a:ext cx="51134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45 Helvetica Light"/>
              </a:rPr>
              <a:t>Творческое название проект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45 Helvetica Light"/>
              </a:rPr>
              <a:t>Маленький Оксфорд Росс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6840" y="717480"/>
            <a:ext cx="678816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Контактная информац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76480" y="1971360"/>
            <a:ext cx="403236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евандовская Светлана Николаев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2680" indent="-3826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У СОШ №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2680" indent="-3826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читель английского язы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2680" indent="-3826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. Безопасное Труновский райо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2680" indent="-3826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л: 8(86546)23-2-5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2680" indent="-3826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-mail: zlatotsveta70@mail.r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2680" indent="0"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6" descr="3"/>
          <p:cNvPicPr/>
          <p:nvPr/>
        </p:nvPicPr>
        <p:blipFill>
          <a:blip r:embed="rId1"/>
          <a:stretch/>
        </p:blipFill>
        <p:spPr>
          <a:xfrm>
            <a:off x="1506600" y="2508120"/>
            <a:ext cx="3935520" cy="3787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92120" y="1798200"/>
            <a:ext cx="9329760" cy="525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анный проект охватывает темы «Спорт», «Экология»,  «История олимпийских игр», «Малые города России» из раздела программы по английскому языку «Спорт», «Люди и места». Он позволяет учащимся выработать решение социальных проблем, развивает креативное отношение к окружающей среде, привлекает внимание к проблемам малых городов России.  Такая работа создает ситуацию успешности и позволяет учащимся отработать коммуникативные навыки, а качественные проблемные вопросы развивают интерес к предмету. Работа является актуальной, т. к. Сочи привлекает большое внимание в связи с подготовкой проведения зимних олимпийских игр 2014 го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2365200" y="285840"/>
            <a:ext cx="678816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Аннотация проекта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2365200" y="861840"/>
            <a:ext cx="7128000" cy="59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f4ca1"/>
                </a:solidFill>
                <a:latin typeface="45 Helvetica Light"/>
              </a:rPr>
              <a:t>Основополагающий вопрос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00000"/>
              </a:lnSpc>
              <a:spcBef>
                <a:spcPts val="1250"/>
              </a:spcBef>
              <a:buClr>
                <a:srgbClr val="1f4ca1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ca1"/>
                </a:solidFill>
                <a:latin typeface="45 Helvetica Light"/>
              </a:rPr>
              <a:t>Почему зимнюю олимпиаду решили проводить в субтропиках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f4ca1"/>
                </a:solidFill>
                <a:latin typeface="45 Helvetica Light"/>
              </a:rPr>
              <a:t>Вопросы учебной темы</a:t>
            </a:r>
            <a:r>
              <a:rPr b="1" lang="en-US" sz="2500" spc="-1" strike="noStrike">
                <a:solidFill>
                  <a:srgbClr val="1f4ca1"/>
                </a:solidFill>
                <a:latin typeface="45 Helvetica Light"/>
              </a:rPr>
              <a:t> (</a:t>
            </a:r>
            <a:r>
              <a:rPr b="1" lang="ru-RU" sz="2500" spc="-1" strike="noStrike">
                <a:solidFill>
                  <a:srgbClr val="1f4ca1"/>
                </a:solidFill>
                <a:latin typeface="45 Helvetica Light"/>
              </a:rPr>
              <a:t>проблемные)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00000"/>
              </a:lnSpc>
              <a:spcBef>
                <a:spcPts val="1250"/>
              </a:spcBef>
              <a:buClr>
                <a:srgbClr val="1f4ca1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ca1"/>
                </a:solidFill>
                <a:latin typeface="45 Helvetica Light"/>
              </a:rPr>
              <a:t>Как появились олимпийские игры и проводились ли они ранее в субтропиках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00000"/>
              </a:lnSpc>
              <a:spcBef>
                <a:spcPts val="1250"/>
              </a:spcBef>
              <a:buClr>
                <a:srgbClr val="1f4ca1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ca1"/>
                </a:solidFill>
                <a:latin typeface="45 Helvetica Light"/>
              </a:rPr>
              <a:t>Какова экология курортного города  и повлияет ли строительство олимпийских объектов на нее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00000"/>
              </a:lnSpc>
              <a:spcBef>
                <a:spcPts val="1250"/>
              </a:spcBef>
              <a:buClr>
                <a:srgbClr val="1f4ca1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ca1"/>
                </a:solidFill>
                <a:latin typeface="45 Helvetica Light"/>
              </a:rPr>
              <a:t>Каково нормативно-правовое регулирование организации и проведения  Олимпийских игр в Росси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00000"/>
              </a:lnSpc>
              <a:spcBef>
                <a:spcPts val="1250"/>
              </a:spcBef>
              <a:buClr>
                <a:srgbClr val="1f4ca1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ca1"/>
                </a:solidFill>
                <a:latin typeface="45 Helvetica Light"/>
              </a:rPr>
              <a:t>Как будет финансироваться подготовка зимней олимпиады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00000"/>
              </a:lnSpc>
              <a:spcBef>
                <a:spcPts val="1250"/>
              </a:spcBef>
              <a:buClr>
                <a:srgbClr val="1f4ca1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ca1"/>
                </a:solidFill>
                <a:latin typeface="45 Helvetica Light"/>
              </a:rPr>
              <a:t>Какие олимпийские объекты будут построены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20840" y="213840"/>
            <a:ext cx="6788160" cy="690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Учебные предмет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49560" y="717120"/>
            <a:ext cx="6975360" cy="1368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71000"/>
          </a:bodyPr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глийский язы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коном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тор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ществозн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формационные технолог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2004840" y="2662200"/>
            <a:ext cx="678816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Участники проек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2076480" y="3238560"/>
            <a:ext cx="6975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 marL="382680" indent="-3826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ащиес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11 класс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19"/>
          <p:cNvSpPr/>
          <p:nvPr/>
        </p:nvSpPr>
        <p:spPr>
          <a:xfrm>
            <a:off x="2076480" y="3525840"/>
            <a:ext cx="678816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Дидактическая цел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20"/>
          <p:cNvSpPr/>
          <p:nvPr/>
        </p:nvSpPr>
        <p:spPr>
          <a:xfrm>
            <a:off x="2004840" y="4102200"/>
            <a:ext cx="6975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 marL="382680" indent="-3826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коммуникативных навыков учащих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21"/>
          <p:cNvSpPr/>
          <p:nvPr/>
        </p:nvSpPr>
        <p:spPr>
          <a:xfrm>
            <a:off x="2076480" y="4462560"/>
            <a:ext cx="678816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Методические задач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22"/>
          <p:cNvSpPr/>
          <p:nvPr/>
        </p:nvSpPr>
        <p:spPr>
          <a:xfrm>
            <a:off x="2076480" y="5110200"/>
            <a:ext cx="6975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 marL="382680" indent="-3826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монологических навыков по темам «Спорт», «Люди и места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2680" indent="-3826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работка лексико-грамматических структур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2680" indent="-3826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ширение социокультурной компетентности учащих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2076480" y="6910560"/>
            <a:ext cx="678816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4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Визит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8120" y="501120"/>
            <a:ext cx="6788160" cy="690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Темы самостоятельных исследований учащихс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804528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Исследование истории возникновения олимпийских игр, зимних олимпийских игр и узнать проводились ли они ранее в субтропика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4760" indent="-3747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Окружающая среда города Сочи и влияние строительства олимпийских объектов на не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4760" indent="-3747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Нормативно – правовое обеспечение проведения олимпиад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4760" indent="-3747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Финансирование подготовки олимпиад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4760" indent="-3747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Какие олимпийские объекты будут построены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04480" y="1131840"/>
            <a:ext cx="805356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Формы представления учащимися результатов исследований и критерии их оцениван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72840" y="2373480"/>
            <a:ext cx="7908840" cy="4170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9000"/>
          </a:bodyPr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РЕЗЕНТАЦИЯ 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Bookman Old Style"/>
                <a:hlinkClick r:id="rId1"/>
              </a:rPr>
              <a:t>«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Bookman Old Style"/>
                <a:hlinkClick r:id="rId2"/>
              </a:rPr>
              <a:t>The history of the Olympic games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Bookman Old Style"/>
                <a:hlinkClick r:id="rId3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                              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Bookman Old Style"/>
                <a:hlinkClick r:id="rId4"/>
              </a:rPr>
              <a:t>Критерии оценивания презента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БУКЛЕТ 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Bookman Old Style"/>
                <a:hlinkClick r:id="rId5"/>
              </a:rPr>
              <a:t>«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Bookman Old Style"/>
                <a:hlinkClick r:id="rId6"/>
              </a:rPr>
              <a:t>Environment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Bookman Old Style"/>
                <a:hlinkClick r:id="rId7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                            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Bookman Old Style"/>
                <a:hlinkClick r:id="rId8"/>
              </a:rPr>
              <a:t>Критерии оценивания букле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РЕЗЕНТАЦИЯ 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Bookman Old Style"/>
                <a:hlinkClick r:id="rId9"/>
              </a:rPr>
              <a:t>«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Bookman Old Style"/>
                <a:hlinkClick r:id="rId10"/>
              </a:rPr>
              <a:t>Which objects are they going to build?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Bookman Old Style"/>
                <a:hlinkClick r:id="rId11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                            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Bookman Old Style"/>
                <a:hlinkClick r:id="rId12"/>
              </a:rPr>
              <a:t>Критерии оценивания презента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ЭССЕ 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Bookman Old Style"/>
                <a:hlinkClick r:id="rId13"/>
              </a:rPr>
              <a:t>«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Bookman Old Style"/>
                <a:hlinkClick r:id="rId14"/>
              </a:rPr>
              <a:t>Olympic Charter and Olympic Law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Bookman Old Style"/>
                <a:hlinkClick r:id="rId15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БУКЛЕТ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Bookman Old Style"/>
                <a:hlinkClick r:id="rId16"/>
              </a:rPr>
              <a:t>«</a:t>
            </a:r>
            <a:r>
              <a:rPr b="0" lang="en-GB" sz="2000" spc="-1" strike="noStrike" u="sng">
                <a:solidFill>
                  <a:srgbClr val="006666"/>
                </a:solidFill>
                <a:uFillTx/>
                <a:latin typeface="Bookman Old Style"/>
                <a:hlinkClick r:id="rId17"/>
              </a:rPr>
              <a:t>Financing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Bookman Old Style"/>
                <a:hlinkClick r:id="rId18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ритерии оценивания букле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8720"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Дидактические материалы участников проект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7456320" cy="1770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Задания по аудированию для учащих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2680" indent="-3826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Задание по чтению №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2680" indent="-3826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Задание по чтению №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2680" indent="-3826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Тестирование по истории Олимпийских иг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292480" y="3814920"/>
            <a:ext cx="678816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Методические материалы участников проек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365200" y="5110200"/>
            <a:ext cx="69757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 marL="382680" indent="-3826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2365200" y="5038560"/>
            <a:ext cx="697572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 marL="382680" indent="-3826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436840" y="5110200"/>
            <a:ext cx="697536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 marL="382680" indent="-3826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2365200" y="2085840"/>
            <a:ext cx="697572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 marL="382680" indent="-3826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076480" y="5181480"/>
            <a:ext cx="777708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 marL="382680" indent="-3826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Урок по теме «Какова цена славы? Звезды спорта» 8 класс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2680" indent="-3826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Тексты к заданиям по аудировани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6840" y="213840"/>
            <a:ext cx="6789600" cy="690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План проведения проект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365200" y="1149480"/>
          <a:ext cx="6975720" cy="6395760"/>
        </p:xfrm>
        <a:graphic>
          <a:graphicData uri="http://schemas.openxmlformats.org/drawingml/2006/table">
            <a:tbl>
              <a:tblPr/>
              <a:tblGrid>
                <a:gridCol w="1768680"/>
                <a:gridCol w="3384360"/>
                <a:gridCol w="1822680"/>
              </a:tblGrid>
              <a:tr h="68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ff6600"/>
                          </a:solidFill>
                          <a:uFillTx/>
                          <a:latin typeface="Verdana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ff6600"/>
                          </a:solidFill>
                          <a:uFillTx/>
                          <a:latin typeface="Verdana"/>
                        </a:rPr>
                        <a:t>Содержание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ff6600"/>
                          </a:solidFill>
                          <a:uFillTx/>
                          <a:latin typeface="Verdana"/>
                        </a:rPr>
                        <a:t>Необходимое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ведение в те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бор и обсуждение темы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рганизация груп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чащиеся делятся на группы по 4-6 человек (8, 10 кл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амостоятельн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чащиеся самостоятельно формулируют  проблемы индивидуальных исследований, выдвигают гипотезы, выбирают форму представления результа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нед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формление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зультаты представляются в виде презентации, публик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ведение итог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руппы оценивают работу каждого участника. Учитель оценивает работу групп в цел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д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Сроки проведения проект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364840" y="2230560"/>
            <a:ext cx="697572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83000"/>
          </a:bodyPr>
          <a:p>
            <a:pPr lvl="1" marL="686160" indent="-263160"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1 месяц, с учетом внеклассной работ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136600" y="3381480"/>
            <a:ext cx="79218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План работы по проекту в школ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2436840" y="5181480"/>
            <a:ext cx="678816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Информационные ресурс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9T23:12:51Z</dcterms:created>
  <dc:creator>.</dc:creator>
  <dc:description/>
  <dc:language>en-US</dc:language>
  <cp:lastModifiedBy>Пользователь</cp:lastModifiedBy>
  <cp:lastPrinted>2001-07-20T22:27:51Z</cp:lastPrinted>
  <dcterms:modified xsi:type="dcterms:W3CDTF">2013-08-05T07:34:32Z</dcterms:modified>
  <cp:revision>290</cp:revision>
  <dc:subject/>
  <dc:title>No Slide Title</dc:title>
</cp:coreProperties>
</file>