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FD9-A71E-4238-BA2C-971D73A9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F05-5E0C-4F9F-A9BD-A6E3788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7F8-B369-42A5-80B1-18A81158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7B1-03A8-48D2-8D9C-B5990EBF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9A2A-E5AA-4261-A392-102C1EFD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B91-957A-43B8-8E39-F9E383AA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7BB-81F1-4E89-BA02-ACDC9AFC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1906-137C-405E-B6EB-6DA8EECA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154E-0441-4296-9747-163C86A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B74-C4D4-4207-B81E-0E9E048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E6A9-D1C3-45D6-B206-1D1016A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FBA-69B6-4230-8942-E4E5757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FDD9-69D8-4F50-84C7-AF440DE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838-0FB4-4D11-9C8B-C548E560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884-C7CA-474F-8576-B3498355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6C78-30D0-441B-80A7-16E0F349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6B05-C30B-4BBF-B620-82D36863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E41-E694-4150-B4A2-A41F1EAE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3C1-9D9F-4DF7-B78F-38417F01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DDB-F8C7-40E2-8658-7ADD05C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256-B7A4-4538-88C9-4F918E01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CDC-E7BD-4416-AE3E-E273124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B98-5ED1-41E8-B6AF-4C7E608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39B-7F69-4CA6-AD08-07598CB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562200" y="0"/>
            <a:ext cx="13116600" cy="4317120"/>
            <a:chOff x="-3562200" y="0"/>
            <a:chExt cx="13116600" cy="4317120"/>
          </a:xfrm>
        </p:grpSpPr>
        <p:sp>
          <p:nvSpPr>
            <p:cNvPr id="1" name="AutoShape 3"/>
            <p:cNvSpPr/>
            <p:nvPr/>
          </p:nvSpPr>
          <p:spPr>
            <a:xfrm>
              <a:off x="-3562200" y="776880"/>
              <a:ext cx="4525920" cy="3540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667960" y="0"/>
              <a:ext cx="3402720" cy="35748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508400" y="1726920"/>
              <a:ext cx="804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6A84F4-9020-4806-ABD9-F5BBFFB30C63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544920" y="345960"/>
            <a:ext cx="13099680" cy="5352840"/>
            <a:chOff x="-3544920" y="345960"/>
            <a:chExt cx="13099680" cy="5352840"/>
          </a:xfrm>
        </p:grpSpPr>
        <p:sp>
          <p:nvSpPr>
            <p:cNvPr id="46" name="Line 3"/>
            <p:cNvSpPr/>
            <p:nvPr/>
          </p:nvSpPr>
          <p:spPr>
            <a:xfrm>
              <a:off x="1592280" y="2849760"/>
              <a:ext cx="79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765880" y="1554480"/>
              <a:ext cx="4023000" cy="414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544920" y="345960"/>
              <a:ext cx="4442400" cy="4575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CFBBEA-3FF1-47EA-9F5C-B9E341B61D8C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4;&#1080;&#1079;&#1080;&#1090;&#1082;&#1072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2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3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4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5" Type="http://schemas.openxmlformats.org/officeDocument/2006/relationships/hyperlink" Target="file:///Environment.pub" TargetMode="External"/><Relationship Id="rId6" Type="http://schemas.openxmlformats.org/officeDocument/2006/relationships/hyperlink" Target="file:///Environment.pub" TargetMode="External"/><Relationship Id="rId7" Type="http://schemas.openxmlformats.org/officeDocument/2006/relationships/hyperlink" Target="file:///Environment.pub" TargetMode="External"/><Relationship Id="rId8" Type="http://schemas.openxmlformats.org/officeDocument/2006/relationships/hyperlink" Target="file:///&#1082;&#1088;&#1080;&#1090;&#1077;&#1088;&#1080;&#1080;%20&#1086;&#1094;&#1077;&#1085;&#1080;&#1074;&#1072;&#1085;&#1080;&#1103;%20&#1073;&#1091;&#1082;&#1083;&#1077;&#1090;&#1072;.doc" TargetMode="External"/><Relationship Id="rId9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0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1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2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13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4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5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6" Type="http://schemas.openxmlformats.org/officeDocument/2006/relationships/hyperlink" Target="file:///Financing.pub" TargetMode="External"/><Relationship Id="rId17" Type="http://schemas.openxmlformats.org/officeDocument/2006/relationships/hyperlink" Target="file:///Financing.pub" TargetMode="External"/><Relationship Id="rId18" Type="http://schemas.openxmlformats.org/officeDocument/2006/relationships/hyperlink" Target="file:///Financing.pub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149560" y="2446200"/>
            <a:ext cx="51130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45 Helvetica Light"/>
              </a:rPr>
              <a:t>Olympic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Сочи – столица XXII зимних олимпийских игр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92480" y="5686560"/>
            <a:ext cx="66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Авторы: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Место работы: МБОУ СОШ №3 с. Безопас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Учащиеся 8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941560" y="7054920"/>
            <a:ext cx="496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Безопасное,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220840" y="4246560"/>
            <a:ext cx="51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ворческое название проек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Маленький Оксфорд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6840" y="71748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76480" y="1971360"/>
            <a:ext cx="4032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. Безопасное Труновский рай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: 8(86546)23-2-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-mail: zlatotsveta70@mail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3"/>
          <p:cNvPicPr/>
          <p:nvPr/>
        </p:nvPicPr>
        <p:blipFill>
          <a:blip r:embed="rId1"/>
          <a:stretch/>
        </p:blipFill>
        <p:spPr>
          <a:xfrm>
            <a:off x="1506600" y="2508120"/>
            <a:ext cx="3935520" cy="378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2120" y="1798200"/>
            <a:ext cx="9329760" cy="525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ый проект охватывает темы «Спорт», «Экология»,  «История олимпийских игр», «Малые города России» из раздела программы по английскому языку «Спорт», «Люди и места». Он позволяет учащимся выработать решение социальных проблем, развивает креативное отношение к окружающей среде, привлекает внимание к проблемам малых городов России.  Такая работа создает ситуацию успешности и позволяет учащимся отработать коммуникативные навыки, а качественные проблемные вопросы развивают интерес к предмету. Работа является актуальной, т. к. Сочи привлекает большое внимание в связи с подготовкой проведения зимних олимпийских игр 2014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365200" y="28584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Аннотация проек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365200" y="861840"/>
            <a:ext cx="71280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Основополагающий вопрос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Почему зимнюю олимпиаду решили проводить в субтропиках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Вопросы учебной темы</a:t>
            </a:r>
            <a:r>
              <a:rPr b="1" lang="en-US" sz="2500" spc="-1" strike="noStrike">
                <a:solidFill>
                  <a:srgbClr val="1f4ca1"/>
                </a:solidFill>
                <a:latin typeface="45 Helvetica Light"/>
              </a:rPr>
              <a:t> (</a:t>
            </a: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проблемные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появились олимпийские игры и проводились ли они ранее в субтропиках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а экология курортного города  и повлияет ли строительство олимпийских объектов на не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о нормативно-правовое регулирование организации и проведения  Олимпийских игр в Росс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будет финансироваться подготовка зимней олимпиад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ие олимпийские объекты будут построен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20840" y="21384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ебные предм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9560" y="717120"/>
            <a:ext cx="6975360" cy="1368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71000"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004840" y="266220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076480" y="3238560"/>
            <a:ext cx="6975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11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76480" y="352584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ая ц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004840" y="4102200"/>
            <a:ext cx="697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навыков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076480" y="4462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076480" y="5110200"/>
            <a:ext cx="6975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монологических навыков по темам «Спорт», «Люди и мест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работка лексико-грамматических структу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рение социокультурной компетентности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076480" y="6910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Визи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8120" y="50112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следование истории возникновения олимпийских игр, зимних олимпийских игр и узнать проводились ли они ранее в субтропи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кружающая среда города Сочи и влияние строительства олимпийских объектов на не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ормативно – правовое обеспечение проведения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Финансирование подготовки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ие олимпийские объекты будут построе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4480" y="1131840"/>
            <a:ext cx="80535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ормы представления учащимися результатов исследований и критерии их оцени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72840" y="2373480"/>
            <a:ext cx="7908840" cy="4170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2"/>
              </a:rPr>
              <a:t>The history of the Olympic games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3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4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5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6"/>
              </a:rPr>
              <a:t>Environment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7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8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9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0"/>
              </a:rPr>
              <a:t>Which objects are they going to build?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1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2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ЭССЕ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3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4"/>
              </a:rPr>
              <a:t>Olympic Charter and Olympic Law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5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6"/>
              </a:rPr>
              <a:t>«</a:t>
            </a:r>
            <a:r>
              <a:rPr b="0" lang="en-GB" sz="2000" spc="-1" strike="noStrike" u="sng">
                <a:solidFill>
                  <a:srgbClr val="006666"/>
                </a:solidFill>
                <a:uFillTx/>
                <a:latin typeface="Bookman Old Style"/>
                <a:hlinkClick r:id="rId17"/>
              </a:rPr>
              <a:t>Financing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8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ие материалы участников проек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7456320" cy="1770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я по аудированию для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стирование по истории Олимпийских иг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92480" y="381492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материалы участников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65200" y="5110200"/>
            <a:ext cx="69757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65200" y="503856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36840" y="5110200"/>
            <a:ext cx="69753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365200" y="208584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76480" y="5181480"/>
            <a:ext cx="7777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рок по теме «Какова цена славы? Звезды спорта» 8 кл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ксты к заданиям по аудирова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6840" y="213840"/>
            <a:ext cx="678960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5200" y="1149480"/>
          <a:ext cx="6975720" cy="6395760"/>
        </p:xfrm>
        <a:graphic>
          <a:graphicData uri="http://schemas.openxmlformats.org/drawingml/2006/table">
            <a:tbl>
              <a:tblPr/>
              <a:tblGrid>
                <a:gridCol w="1768680"/>
                <a:gridCol w="3384360"/>
                <a:gridCol w="182268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ор и обсуждение тем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делятся на группы по 4-6 человек (8, 10 к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самостоятельно формулируют  проблемы индивидуальных исследований, выдвигают гипотезы, выбирают форму представления результ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представляются в виде презентации, публ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пы оценивают работу каждого участника. Учитель оценивает работу групп в це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роки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4840" y="2230560"/>
            <a:ext cx="697572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3000"/>
          </a:bodyPr>
          <a:p>
            <a:pPr lvl="1" marL="686160" indent="-26316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 месяц, с учетом внеклассной рабо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36600" y="3381480"/>
            <a:ext cx="79218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работы по проекту в школ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436840" y="5181480"/>
            <a:ext cx="67881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Пользователь</cp:lastModifiedBy>
  <cp:lastPrinted>2001-07-20T22:27:51Z</cp:lastPrinted>
  <dcterms:modified xsi:type="dcterms:W3CDTF">2013-08-05T07:34:32Z</dcterms:modified>
  <cp:revision>290</cp:revision>
  <dc:subject/>
  <dc:title>No Slide Title</dc:title>
</cp:coreProperties>
</file>