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E5B3-C82C-4CBE-BD5A-46E2C31E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DAB1-DBA4-45E5-8572-5F7D492C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FC29-E687-467E-8D08-5E2B2D4A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3792-1ED0-414E-B04D-8D714F29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45F5F-D7D8-4B4F-B7D2-30CC1A93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50149-8DF3-4697-8587-BA109C7A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C6883-0C1B-423F-94B1-F156A01B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FCD07-D851-4F3F-9BD8-2C006DDF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8B767-932C-41F3-89F3-F646F612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57AB7-9392-4A63-98EF-8AAF3C79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6F671-ACF9-4A13-9011-DD49924D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E9FB-332A-42DE-A9D0-CEAD7B74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D18D3-9F49-48E6-AC8D-9CA831D3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DFBDD-24F7-4464-8459-C5B2BFE9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492E7-B3C1-45C4-876D-B155F6D6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83F9F-3496-41AD-A3CF-3DCE5C21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1EBC7-8B8D-4EDA-AC6C-76EDD07B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03AA-B3A2-49F8-8037-33DB2ABD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6087-35D0-4645-B081-3B07F5DD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257-0920-478A-8CCE-486C643A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13D2-4998-4463-8C46-FE3EE6BD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B9D-C53B-45C8-9064-57027217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4D3-0C84-4C35-A080-C468A46A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7A9-1153-4914-BD95-7940350A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F4EC-C37B-48AF-8E8A-7282B0A5F0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DC6F-D5A9-49BE-A68E-A43A813377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одской  теоретический семинар для заместителей директоро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по УВР образовательных учреждений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а « Педагогический совет: содержание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этапы подготовки и проведения»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             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« Управлять – это искусство. Это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сложный и многогранный процесс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который может привести как к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процветанию, так и к гибели»…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Д. Локк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ы педагогических совет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5" name="Group 24"/>
          <p:cNvGrpSpPr/>
          <p:nvPr/>
        </p:nvGrpSpPr>
        <p:grpSpPr>
          <a:xfrm>
            <a:off x="685800" y="1905120"/>
            <a:ext cx="7543800" cy="5527440"/>
            <a:chOff x="685800" y="1905120"/>
            <a:chExt cx="7543800" cy="5527440"/>
          </a:xfrm>
        </p:grpSpPr>
        <p:sp>
          <p:nvSpPr>
            <p:cNvPr id="116" name="AutoShape 25"/>
            <p:cNvSpPr/>
            <p:nvPr/>
          </p:nvSpPr>
          <p:spPr>
            <a:xfrm>
              <a:off x="685800" y="1905120"/>
              <a:ext cx="7543800" cy="552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Oval 26"/>
            <p:cNvSpPr/>
            <p:nvPr/>
          </p:nvSpPr>
          <p:spPr>
            <a:xfrm>
              <a:off x="3154320" y="1905120"/>
              <a:ext cx="2607480" cy="16056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По форме работ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Oval 27"/>
            <p:cNvSpPr/>
            <p:nvPr/>
          </p:nvSpPr>
          <p:spPr>
            <a:xfrm>
              <a:off x="4799880" y="4044240"/>
              <a:ext cx="3155400" cy="178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тематический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28"/>
            <p:cNvSpPr/>
            <p:nvPr/>
          </p:nvSpPr>
          <p:spPr>
            <a:xfrm>
              <a:off x="685800" y="4044240"/>
              <a:ext cx="3154320" cy="178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Производственно-  деловой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0" name="Line 29"/>
          <p:cNvSpPr/>
          <p:nvPr/>
        </p:nvSpPr>
        <p:spPr>
          <a:xfrm flipH="1">
            <a:off x="2209680" y="3200400"/>
            <a:ext cx="9907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30"/>
          <p:cNvSpPr/>
          <p:nvPr/>
        </p:nvSpPr>
        <p:spPr>
          <a:xfrm>
            <a:off x="5791320" y="3200400"/>
            <a:ext cx="9903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ы педагогических совет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месту и роли в учебно – воспитательном процесс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тактиче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тратегиче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тарто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текущ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итого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ы педагогических совет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066680" y="1752480"/>
            <a:ext cx="6837480" cy="5299200"/>
            <a:chOff x="1066680" y="1752480"/>
            <a:chExt cx="6837480" cy="5299200"/>
          </a:xfrm>
        </p:grpSpPr>
        <p:sp>
          <p:nvSpPr>
            <p:cNvPr id="127" name="AutoShape 5"/>
            <p:cNvSpPr/>
            <p:nvPr/>
          </p:nvSpPr>
          <p:spPr>
            <a:xfrm>
              <a:off x="1066680" y="1752480"/>
              <a:ext cx="6837480" cy="529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2808360" y="2094480"/>
              <a:ext cx="3351600" cy="1367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по</a:t>
              </a: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 методике подготовки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и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проведению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066680" y="4658400"/>
              <a:ext cx="2680920" cy="1196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традиционны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AutoShape 8"/>
            <p:cNvSpPr/>
            <p:nvPr/>
          </p:nvSpPr>
          <p:spPr>
            <a:xfrm>
              <a:off x="5222160" y="4658400"/>
              <a:ext cx="2682000" cy="1195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нетрадиционны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1" name="Line 9"/>
          <p:cNvSpPr/>
          <p:nvPr/>
        </p:nvSpPr>
        <p:spPr>
          <a:xfrm flipH="1">
            <a:off x="1752120" y="358128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5943600" y="3581280"/>
            <a:ext cx="129528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етрадиционные педагогические совет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совет – диспу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совет – защита иннова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совет – деловая иг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совет – творческий отч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совет – конкур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совет - презент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8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8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8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8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тапы подготовки и проведения педагогического сове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Теоретическ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ие тем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ление плана диагностико – практической деятельности к педсове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77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77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77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77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77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8" dur="77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тапы подготовки и проведения педагогического сове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Организационны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ление плана проведен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бор форм проведен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бор методов исследован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организационного комитета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77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9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1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3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77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0" dur="77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2" dur="77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77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77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7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77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3" dur="77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5" dur="77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тапы подготовки и проведения педагогического сове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Мониторинговы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я сбора материа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итоги тестирования, контрольных срезов, анкетирования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77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4" dur="77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6" dur="77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77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77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77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77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77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6" dur="77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0" dur="77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тапы подготовки и проведения педагогического сове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Практическ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дение педагогического совета, принятие ре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7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9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1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77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0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2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тапы подготовки и проведения педагогического сове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Заключительный ( аналитический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ализ эффективности проведения педагогического совета на административном совещании, заседании методическогосо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77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9" dur="77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3" dur="77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77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0" dur="77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4" dur="77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тапы подготовки и проведения педагогического сове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Регулирующ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троль за выполнением решений педагогического со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vert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77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1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3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5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77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2" dur="77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4" dur="77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6" dur="77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ория управления школой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азируетс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стемном                                Исследовательс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ходе                                        подх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ятельностн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х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12"/>
          <p:cNvSpPr/>
          <p:nvPr/>
        </p:nvSpPr>
        <p:spPr>
          <a:xfrm flipH="1">
            <a:off x="1219320" y="1676520"/>
            <a:ext cx="228600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4419720" y="1905120"/>
            <a:ext cx="0" cy="1904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5181480" y="1752480"/>
            <a:ext cx="25146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итератур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урнал « Завуч» № 8, 2001г., № 3, 2002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рофеев Н.Ю., Иванченко С.Н.  Педсовет: идеи, методики, формы ( рекомендации по подготовке и проведению педагогических советов в школе). - М.: Педагогический поиск, 200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харов М.Л. Организация труда директора школы.- М.: Просвещение, 1989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дагогические советы: разработки, подготовка и технологические схемы, традиционные  и нетрадиционные формы проведения,  составитель Сыромятникова Л.М. - Волгоград: Учитель, 200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3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5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9" dur="5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5" dur="5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1" dur="5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7" dur="5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дагогический сов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остоянно действующий коллегиальный орган самоуправления педагогических работников школ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в его состав входят сотрудники школы, занятые в образовательной деятель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я, педагоги дополнительного образования, работники психолог – педагогической службы, библиотекарь, администрация школ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и педагогического сове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наметить перспективы работы коллектива, поставить задач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определить пути, формы обновления школьного образ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познакомить с  достижениями педагогической науки, их использованием педагогическим коллектив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и педагогического сове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) осуществить анализ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 состояния учебно – воспитательного процес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) уровня препода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) качества знаний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) показателей работы за полугодие (год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) состояния нравственного воспитания учащихся, уровня культуры, соблюдения ими правил повед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) состояния преподавания отдельных предмет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и педагогического сове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) раскрыть специфику работы школы по профилю, познакомиться с опытом работы другой школы, лицея такого же тип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)подвести некоторые итоги работы по гуманизации и демократизации учебно – воспитательного процес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дачи педагогического совет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рассмотрение основных вопросов учебно – воспитательного процес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демократизация процесса управления школ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 внедрение в практику достижений науки и передового педагогического опы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дачи педагогического сов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80880" y="1552680"/>
            <a:ext cx="8534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) обсуждение, утверждение и организация выполнение планов всех подразделений и служб школы (методических лабораторий, заместителей директора по УВР, службы психолога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) принятие решений о создании клубов, студий и других объединений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) контроль за санитарно – гигиеническим режимом школы и Психолого – валеологическим климатом, состоянием здоровья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3" name="Organization Chart 4"/>
          <p:cNvGrpSpPr/>
          <p:nvPr/>
        </p:nvGrpSpPr>
        <p:grpSpPr>
          <a:xfrm>
            <a:off x="304920" y="990720"/>
            <a:ext cx="8610120" cy="4952520"/>
            <a:chOff x="304920" y="990720"/>
            <a:chExt cx="8610120" cy="4952520"/>
          </a:xfrm>
        </p:grpSpPr>
        <p:cxnSp>
          <p:nvCxnSpPr>
            <p:cNvPr id="104" name="_s1028"/>
            <p:cNvCxnSpPr>
              <a:stCxn id="105" idx="0"/>
              <a:endCxn id="106" idx="2"/>
            </p:cNvCxnSpPr>
            <p:nvPr/>
          </p:nvCxnSpPr>
          <p:spPr>
            <a:xfrm flipV="1" rot="16200000">
              <a:off x="5789520" y="1791720"/>
              <a:ext cx="990720" cy="3349440"/>
            </a:xfrm>
            <a:prstGeom prst="bentConnector3">
              <a:avLst>
                <a:gd name="adj1" fmla="val 208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29"/>
            <p:cNvCxnSpPr>
              <a:stCxn id="108" idx="0"/>
              <a:endCxn id="106" idx="2"/>
            </p:cNvCxnSpPr>
            <p:nvPr/>
          </p:nvCxnSpPr>
          <p:spPr>
            <a:xfrm flipV="1" rot="16200000">
              <a:off x="4673160" y="2908080"/>
              <a:ext cx="990720" cy="1116720"/>
            </a:xfrm>
            <a:prstGeom prst="bentConnector3">
              <a:avLst>
                <a:gd name="adj1" fmla="val 208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0"/>
            <p:cNvCxnSpPr>
              <a:stCxn id="110" idx="0"/>
              <a:endCxn id="106" idx="2"/>
            </p:cNvCxnSpPr>
            <p:nvPr/>
          </p:nvCxnSpPr>
          <p:spPr>
            <a:xfrm flipH="1" flipV="1" rot="5400000">
              <a:off x="3556800" y="2908440"/>
              <a:ext cx="990720" cy="1116720"/>
            </a:xfrm>
            <a:prstGeom prst="bentConnector3">
              <a:avLst>
                <a:gd name="adj1" fmla="val 208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31"/>
            <p:cNvCxnSpPr>
              <a:stCxn id="112" idx="0"/>
              <a:endCxn id="106" idx="2"/>
            </p:cNvCxnSpPr>
            <p:nvPr/>
          </p:nvCxnSpPr>
          <p:spPr>
            <a:xfrm flipH="1" flipV="1" rot="5400000">
              <a:off x="2440440" y="1792080"/>
              <a:ext cx="990720" cy="3349440"/>
            </a:xfrm>
            <a:prstGeom prst="bentConnector3">
              <a:avLst>
                <a:gd name="adj1" fmla="val 208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6" name="_s1032"/>
            <p:cNvSpPr/>
            <p:nvPr/>
          </p:nvSpPr>
          <p:spPr>
            <a:xfrm>
              <a:off x="3652560" y="990720"/>
              <a:ext cx="1913400" cy="1981080"/>
            </a:xfrm>
            <a:custGeom>
              <a:avLst/>
              <a:gdLst>
                <a:gd name="textAreaLeft" fmla="*/ 93240 w 1913400"/>
                <a:gd name="textAreaRight" fmla="*/ 1820160 w 1913400"/>
                <a:gd name="textAreaTop" fmla="*/ 93240 h 1981080"/>
                <a:gd name="textAreaBottom" fmla="*/ 1887840 h 1981080"/>
              </a:gdLst>
              <a:ahLst/>
              <a:rect l="textAreaLeft" t="textAreaTop" r="textAreaRight" b="textAreaBottom"/>
              <a:pathLst>
                <a:path w="21600" h="22364">
                  <a:moveTo>
                    <a:pt x="3600" y="0"/>
                  </a:moveTo>
                  <a:arcTo wR="3600" hR="3600" stAng="16200000" swAng="-5400000"/>
                  <a:lnTo>
                    <a:pt x="0" y="18764"/>
                  </a:lnTo>
                  <a:arcTo wR="3600" hR="3600" stAng="10800000" swAng="-5400000"/>
                  <a:lnTo>
                    <a:pt x="18000" y="223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Функции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педагогического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совета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04920" y="3962160"/>
              <a:ext cx="1913400" cy="1981080"/>
            </a:xfrm>
            <a:custGeom>
              <a:avLst/>
              <a:gdLst>
                <a:gd name="textAreaLeft" fmla="*/ 93240 w 1913400"/>
                <a:gd name="textAreaRight" fmla="*/ 1820160 w 1913400"/>
                <a:gd name="textAreaTop" fmla="*/ 93240 h 1981080"/>
                <a:gd name="textAreaBottom" fmla="*/ 1887840 h 1981080"/>
              </a:gdLst>
              <a:ahLst/>
              <a:rect l="textAreaLeft" t="textAreaTop" r="textAreaRight" b="textAreaBottom"/>
              <a:pathLst>
                <a:path w="21600" h="22364">
                  <a:moveTo>
                    <a:pt x="3600" y="0"/>
                  </a:moveTo>
                  <a:arcTo wR="3600" hR="3600" stAng="16200000" swAng="-5400000"/>
                  <a:lnTo>
                    <a:pt x="0" y="18764"/>
                  </a:lnTo>
                  <a:arcTo wR="3600" hR="3600" stAng="10800000" swAng="-5400000"/>
                  <a:lnTo>
                    <a:pt x="18000" y="223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управленческие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_s1034"/>
            <p:cNvSpPr/>
            <p:nvPr/>
          </p:nvSpPr>
          <p:spPr>
            <a:xfrm>
              <a:off x="2537280" y="3962160"/>
              <a:ext cx="1913400" cy="1981080"/>
            </a:xfrm>
            <a:custGeom>
              <a:avLst/>
              <a:gdLst>
                <a:gd name="textAreaLeft" fmla="*/ 93240 w 1913400"/>
                <a:gd name="textAreaRight" fmla="*/ 1820160 w 1913400"/>
                <a:gd name="textAreaTop" fmla="*/ 93240 h 1981080"/>
                <a:gd name="textAreaBottom" fmla="*/ 1887840 h 1981080"/>
              </a:gdLst>
              <a:ahLst/>
              <a:rect l="textAreaLeft" t="textAreaTop" r="textAreaRight" b="textAreaBottom"/>
              <a:pathLst>
                <a:path w="21600" h="22364">
                  <a:moveTo>
                    <a:pt x="3600" y="0"/>
                  </a:moveTo>
                  <a:arcTo wR="3600" hR="3600" stAng="16200000" swAng="-5400000"/>
                  <a:lnTo>
                    <a:pt x="0" y="18764"/>
                  </a:lnTo>
                  <a:arcTo wR="3600" hR="3600" stAng="10800000" swAng="-5400000"/>
                  <a:lnTo>
                    <a:pt x="18000" y="223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методические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_s1035"/>
            <p:cNvSpPr/>
            <p:nvPr/>
          </p:nvSpPr>
          <p:spPr>
            <a:xfrm>
              <a:off x="4770000" y="3962160"/>
              <a:ext cx="1913400" cy="1981080"/>
            </a:xfrm>
            <a:custGeom>
              <a:avLst/>
              <a:gdLst>
                <a:gd name="textAreaLeft" fmla="*/ 93240 w 1913400"/>
                <a:gd name="textAreaRight" fmla="*/ 1820160 w 1913400"/>
                <a:gd name="textAreaTop" fmla="*/ 93240 h 1981080"/>
                <a:gd name="textAreaBottom" fmla="*/ 1887840 h 1981080"/>
              </a:gdLst>
              <a:ahLst/>
              <a:rect l="textAreaLeft" t="textAreaTop" r="textAreaRight" b="textAreaBottom"/>
              <a:pathLst>
                <a:path w="21600" h="22364">
                  <a:moveTo>
                    <a:pt x="3600" y="0"/>
                  </a:moveTo>
                  <a:arcTo wR="3600" hR="3600" stAng="16200000" swAng="-5400000"/>
                  <a:lnTo>
                    <a:pt x="0" y="18764"/>
                  </a:lnTo>
                  <a:arcTo wR="3600" hR="3600" stAng="10800000" swAng="-5400000"/>
                  <a:lnTo>
                    <a:pt x="18000" y="223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воспитательные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1036"/>
            <p:cNvSpPr/>
            <p:nvPr/>
          </p:nvSpPr>
          <p:spPr>
            <a:xfrm>
              <a:off x="7002360" y="3962160"/>
              <a:ext cx="1912680" cy="1981080"/>
            </a:xfrm>
            <a:custGeom>
              <a:avLst/>
              <a:gdLst>
                <a:gd name="textAreaLeft" fmla="*/ 93240 w 1912680"/>
                <a:gd name="textAreaRight" fmla="*/ 1819440 w 1912680"/>
                <a:gd name="textAreaTop" fmla="*/ 93240 h 1981080"/>
                <a:gd name="textAreaBottom" fmla="*/ 1887840 h 1981080"/>
              </a:gdLst>
              <a:ahLst/>
              <a:rect l="textAreaLeft" t="textAreaTop" r="textAreaRight" b="textAreaBottom"/>
              <a:pathLst>
                <a:path w="21600" h="22372">
                  <a:moveTo>
                    <a:pt x="3600" y="0"/>
                  </a:moveTo>
                  <a:arcTo wR="3600" hR="3600" stAng="16200000" swAng="-5400000"/>
                  <a:lnTo>
                    <a:pt x="0" y="18772"/>
                  </a:lnTo>
                  <a:arcTo wR="3600" hR="3600" stAng="10800000" swAng="-5400000"/>
                  <a:lnTo>
                    <a:pt x="18000" y="223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социально - педагогические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ircl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14T14:46:0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