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D25-547E-4361-B4C1-23A53B49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C12-FD7F-4BF6-8A34-03280A57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958-4ABC-4446-A52B-3AB7C621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714-2186-4496-9CB1-35DE4C31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F47D6-E27F-4535-AF75-B6C42E74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F6B1A-0A25-4CF3-8D28-4D3D65E2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8A321-97D6-4674-AD5C-E6A03CCD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42EDF-AFE3-41AE-9E62-FEFB0E63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16944-7FF8-4ADB-9AA9-C91E9A6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EF67E-D6C9-4805-9966-330AF776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9E221-D7F9-4FC9-B74B-90D33BAD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282-6C75-4D79-90A3-E3DCAE0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E2526-9C84-493B-B0CE-EA4D6E7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8DAC1-749E-4E52-9ACA-5292610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2A986-69AE-4B0C-8C55-D0C7002D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2F361-67F7-485C-A1E4-84F01E55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4580A-6150-4F65-8A42-4D6D3C64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230-E093-4598-B637-09CB1F04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7ED-104D-416D-8F2A-412CD315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8CA-11EC-4C01-B9D0-3D8A9DF6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F78-1DA1-4F32-A404-1186F1BC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53F-72CD-4C7E-B599-6B4745F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DCE-0D8E-4843-9CEB-F0B49464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791-18C7-4E4B-B2E0-F0FABB36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1928-014A-4CB5-A1FC-937F78D0B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C1EA-A6AE-4A36-AC84-5CCAB199A5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ской  теоретический семинар для заместителей директор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по УВР образовательных учреждений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« Педагогический совет: содержани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этапы подготовки и проведения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« Управлять – это искусство. Это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сложный и многогранный процесс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который может привести как 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процветанию, так и к гибели»…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Д. Локк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педагогических со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" name="Group 24"/>
          <p:cNvGrpSpPr/>
          <p:nvPr/>
        </p:nvGrpSpPr>
        <p:grpSpPr>
          <a:xfrm>
            <a:off x="685800" y="1905120"/>
            <a:ext cx="7543800" cy="5527440"/>
            <a:chOff x="685800" y="1905120"/>
            <a:chExt cx="7543800" cy="5527440"/>
          </a:xfrm>
        </p:grpSpPr>
        <p:sp>
          <p:nvSpPr>
            <p:cNvPr id="116" name="AutoShape 25"/>
            <p:cNvSpPr/>
            <p:nvPr/>
          </p:nvSpPr>
          <p:spPr>
            <a:xfrm>
              <a:off x="685800" y="1905120"/>
              <a:ext cx="7543800" cy="55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3154320" y="1905120"/>
              <a:ext cx="2607480" cy="1605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 форме рабо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4799880" y="4044240"/>
              <a:ext cx="3155400" cy="178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тематическ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685800" y="4044240"/>
              <a:ext cx="3154320" cy="178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роизводственно-  делово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" name="Line 29"/>
          <p:cNvSpPr/>
          <p:nvPr/>
        </p:nvSpPr>
        <p:spPr>
          <a:xfrm flipH="1">
            <a:off x="2209680" y="3200400"/>
            <a:ext cx="9907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30"/>
          <p:cNvSpPr/>
          <p:nvPr/>
        </p:nvSpPr>
        <p:spPr>
          <a:xfrm>
            <a:off x="5791320" y="320040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педагогических со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сту и роли в учебно – воспитательном процесс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ак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тратег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тарт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еку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тог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педагогических со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066680" y="1752480"/>
            <a:ext cx="6837480" cy="5299200"/>
            <a:chOff x="1066680" y="1752480"/>
            <a:chExt cx="6837480" cy="5299200"/>
          </a:xfrm>
        </p:grpSpPr>
        <p:sp>
          <p:nvSpPr>
            <p:cNvPr id="127" name="AutoShape 5"/>
            <p:cNvSpPr/>
            <p:nvPr/>
          </p:nvSpPr>
          <p:spPr>
            <a:xfrm>
              <a:off x="1066680" y="1752480"/>
              <a:ext cx="6837480" cy="52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2808360" y="2094480"/>
              <a:ext cx="3351600" cy="1367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</a:t>
              </a: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 методике подготовки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и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роведению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066680" y="4658400"/>
              <a:ext cx="2680920" cy="1196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традицион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AutoShape 8"/>
            <p:cNvSpPr/>
            <p:nvPr/>
          </p:nvSpPr>
          <p:spPr>
            <a:xfrm>
              <a:off x="5222160" y="4658400"/>
              <a:ext cx="2682000" cy="1195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нетрадицион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Line 9"/>
          <p:cNvSpPr/>
          <p:nvPr/>
        </p:nvSpPr>
        <p:spPr>
          <a:xfrm flipH="1">
            <a:off x="1752120" y="35812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943600" y="3581280"/>
            <a:ext cx="129528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традиционные педагогические совет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дисп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защита иннов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деловая иг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творческий отч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конкур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- презент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Теоретическ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тем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ление плана диагностико – практической деятельности к педсове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рганизационны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ление плана провед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бор форм провед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бор методов исследова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организационного комитета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77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3" dur="77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Мониторинговы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я сбора материа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итоги тестирования, контрольных срезов, анкетирования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77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77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Практическ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дение педагогического совета, принятие ре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2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Заключительный ( аналитический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лиз эффективности проведения педагогического совета на административном совещании, заседании методическогосо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77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77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Регулирующ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 за выполнением решений педагогического со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1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3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5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77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77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77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77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ория управления школо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азируетс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ном                                Исследовательс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ходе                                        подх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н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х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1219320" y="1676520"/>
            <a:ext cx="228600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419720" y="190512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181480" y="1752480"/>
            <a:ext cx="25146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 Завуч» № 8, 2001г., № 3, 2002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рофеев Н.Ю., Иванченко С.Н.  Педсовет: идеи, методики, формы ( рекомендации по подготовке и проведению педагогических советов в школе). - М.: Педагогический поиск, 200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харов М.Л. Организация труда директора школы.- М.: Просвещение, 198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дагогические советы: разработки, подготовка и технологические схемы, традиционные  и нетрадиционные формы проведения,  составитель Сыромятникова Л.М. - Волгоград: Учитель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5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9" dur="5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5" dur="5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1" dur="5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5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дагогический сов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стоянно действующий коллегиальный орган самоуправления педагогических работников школ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 его состав входят сотрудники школы, занятые в образовательной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я, педагоги дополнительного образования, работники психолог – педагогической службы, библиотекарь, администрация шко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педагогического сове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наметить перспективы работы коллектива, поставить задач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определить пути, формы обновления школьного образ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комить с  достижениями педагогической науки, их использованием педагогическим коллектив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педагогического сов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) осуществить анализ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состояния учебно – воспитатель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уровня препода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качества знани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) показателей работы за полугодие (год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) состояния нравственного воспитания учащихся, уровня культуры, соблюдения ими правил повед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) состояния преподавания отдельных предме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педагогического сов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) раскрыть специфику работы школы по профилю, познакомиться с опытом работы другой школы, лицея такого же тип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)подвести некоторые итоги работы по гуманизации и демократизации учебно – воспитательно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 педагогического сове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рассмотрение основных вопросов учебно – воспитатель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демократизация процесса управления школ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 внедрение в практику достижений науки и передового педагогического опы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 педагогического сов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1552680"/>
            <a:ext cx="8534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) обсуждение, утверждение и организация выполнение планов всех подразделений и служб школы (методических лабораторий, заместителей директора по УВР, службы психолога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) принятие решений о создании клубов, студий и других объединени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) контроль за санитарно – гигиеническим режимом школы и Психолого – валеологическим климатом, состоянием здоровья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Organization Chart 4"/>
          <p:cNvGrpSpPr/>
          <p:nvPr/>
        </p:nvGrpSpPr>
        <p:grpSpPr>
          <a:xfrm>
            <a:off x="304920" y="990720"/>
            <a:ext cx="8610120" cy="4952520"/>
            <a:chOff x="304920" y="990720"/>
            <a:chExt cx="8610120" cy="4952520"/>
          </a:xfrm>
        </p:grpSpPr>
        <p:cxnSp>
          <p:nvCxnSpPr>
            <p:cNvPr id="104" name="_s1028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789520" y="1791720"/>
              <a:ext cx="990720" cy="334944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29"/>
            <p:cNvCxnSpPr>
              <a:stCxn id="108" idx="0"/>
              <a:endCxn id="106" idx="2"/>
            </p:cNvCxnSpPr>
            <p:nvPr/>
          </p:nvCxnSpPr>
          <p:spPr>
            <a:xfrm flipV="1" rot="16200000">
              <a:off x="4673160" y="2908080"/>
              <a:ext cx="990720" cy="111672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0"/>
            <p:cNvCxnSpPr>
              <a:stCxn id="110" idx="0"/>
              <a:endCxn id="106" idx="2"/>
            </p:cNvCxnSpPr>
            <p:nvPr/>
          </p:nvCxnSpPr>
          <p:spPr>
            <a:xfrm flipH="1" flipV="1" rot="5400000">
              <a:off x="3556800" y="2908440"/>
              <a:ext cx="990720" cy="111672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1"/>
            <p:cNvCxnSpPr>
              <a:stCxn id="112" idx="0"/>
              <a:endCxn id="106" idx="2"/>
            </p:cNvCxnSpPr>
            <p:nvPr/>
          </p:nvCxnSpPr>
          <p:spPr>
            <a:xfrm flipH="1" flipV="1" rot="5400000">
              <a:off x="2440440" y="1792080"/>
              <a:ext cx="990720" cy="334944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1032"/>
            <p:cNvSpPr/>
            <p:nvPr/>
          </p:nvSpPr>
          <p:spPr>
            <a:xfrm>
              <a:off x="3652560" y="99072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Функции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педагогического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совет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04920" y="396216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управленчески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034"/>
            <p:cNvSpPr/>
            <p:nvPr/>
          </p:nvSpPr>
          <p:spPr>
            <a:xfrm>
              <a:off x="2537280" y="396216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методически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5"/>
            <p:cNvSpPr/>
            <p:nvPr/>
          </p:nvSpPr>
          <p:spPr>
            <a:xfrm>
              <a:off x="4770000" y="396216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воспитательны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6"/>
            <p:cNvSpPr/>
            <p:nvPr/>
          </p:nvSpPr>
          <p:spPr>
            <a:xfrm>
              <a:off x="7002360" y="3962160"/>
              <a:ext cx="1912680" cy="1981080"/>
            </a:xfrm>
            <a:custGeom>
              <a:avLst/>
              <a:gdLst>
                <a:gd name="textAreaLeft" fmla="*/ 93240 w 1912680"/>
                <a:gd name="textAreaRight" fmla="*/ 1819440 w 191268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72">
                  <a:moveTo>
                    <a:pt x="3600" y="0"/>
                  </a:moveTo>
                  <a:arcTo wR="3600" hR="3600" stAng="16200000" swAng="-5400000"/>
                  <a:lnTo>
                    <a:pt x="0" y="18772"/>
                  </a:lnTo>
                  <a:arcTo wR="3600" hR="3600" stAng="10800000" swAng="-5400000"/>
                  <a:lnTo>
                    <a:pt x="18000" y="22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социально - педагогически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ircl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4T14:46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