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64C-F1A6-476A-9889-9B61DBD6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479-6095-4E49-AD8B-2E7FEAB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EA2-83E4-465C-AF67-1F0ED555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AA2-13F8-4B1E-AF9E-8D0076A3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071A3-FDF3-4FF8-AC8B-60D3088B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0D0CF-2463-40FD-AA04-8071412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3E413-401E-4BD0-B19C-08954FFE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B8E9B-0414-43AC-9E0B-10CBE3BD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55179-27E4-4E8B-9ED8-D7CBB0E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8FA56-B0C4-4AC7-8DE6-6AAFB024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3017-089E-4058-801C-3221812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8EF-5CBE-448F-9F68-A043E7F1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966FD-6336-4821-ABA4-DB42FC9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95DF9-348A-49CE-B683-5EEEDAC1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AF63-440F-4488-9235-8B3A55C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87DB6-A132-46BB-8D7E-D598B293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3635-9988-4B16-A453-A4CB655D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257-E20E-4A7C-B14A-EADA4A9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4A3-FA4F-4C65-923F-5767883B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7A-F561-4084-914F-CF2E76B2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9E1-AB88-4314-9FB5-6798AF0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F77-15E5-45E1-999B-EA6A0AC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C37-9807-4C4B-9846-A2F0C33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81F-A60F-4395-A6C5-014813A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6150-2EC4-4A60-AFAE-4CC8CF9F0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19A4-C4DB-4C0D-B3CE-B52B6AC710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ской  теоретический семинар для заместителей директор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по УВР образовательных учреждений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« Педагогический совет: содержани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этапы подготовки и проведения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« Управлять – это искусство. Это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сложный и многогранный процесс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который может привести как 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процветанию, так и к гибели»…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Д. Локк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685800" y="1905120"/>
            <a:ext cx="7543800" cy="5527440"/>
            <a:chOff x="685800" y="1905120"/>
            <a:chExt cx="7543800" cy="5527440"/>
          </a:xfrm>
        </p:grpSpPr>
        <p:sp>
          <p:nvSpPr>
            <p:cNvPr id="116" name="AutoShape 25"/>
            <p:cNvSpPr/>
            <p:nvPr/>
          </p:nvSpPr>
          <p:spPr>
            <a:xfrm>
              <a:off x="685800" y="1905120"/>
              <a:ext cx="7543800" cy="55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3154320" y="1905120"/>
              <a:ext cx="2607480" cy="1605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 форме работ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4799880" y="4044240"/>
              <a:ext cx="3155400" cy="178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тематическ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685800" y="4044240"/>
              <a:ext cx="3154320" cy="178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изводственно-  делово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" name="Line 29"/>
          <p:cNvSpPr/>
          <p:nvPr/>
        </p:nvSpPr>
        <p:spPr>
          <a:xfrm flipH="1">
            <a:off x="2209680" y="3200400"/>
            <a:ext cx="9907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0"/>
          <p:cNvSpPr/>
          <p:nvPr/>
        </p:nvSpPr>
        <p:spPr>
          <a:xfrm>
            <a:off x="5791320" y="320040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и роли в учебно – воспитательном процесс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ак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ратег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тарт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к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тог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педагогических со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066680" y="1752480"/>
            <a:ext cx="6837480" cy="5299200"/>
            <a:chOff x="1066680" y="1752480"/>
            <a:chExt cx="6837480" cy="5299200"/>
          </a:xfrm>
        </p:grpSpPr>
        <p:sp>
          <p:nvSpPr>
            <p:cNvPr id="127" name="AutoShape 5"/>
            <p:cNvSpPr/>
            <p:nvPr/>
          </p:nvSpPr>
          <p:spPr>
            <a:xfrm>
              <a:off x="1066680" y="1752480"/>
              <a:ext cx="6837480" cy="52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2808360" y="2094480"/>
              <a:ext cx="3351600" cy="1367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</a:t>
              </a: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 методике подготовк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роведени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066680" y="4658400"/>
              <a:ext cx="2680920" cy="1196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тради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5222160" y="4658400"/>
              <a:ext cx="2682000" cy="1195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етради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Line 9"/>
          <p:cNvSpPr/>
          <p:nvPr/>
        </p:nvSpPr>
        <p:spPr>
          <a:xfrm flipH="1">
            <a:off x="1752120" y="35812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943600" y="3581280"/>
            <a:ext cx="129528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традиционные педагогические сове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дисп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защита иннов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деловая иг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творческий отч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– конкур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совет - презен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Теоретическ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тем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лана диагностико – практической деятельности к педсове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77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рганизационн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лана провед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ор форм провед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бор методов исследова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организационного комитет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Мониторингов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я сбора материа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тоги тестирования, контрольных срезов, анкетирования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рактическ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дение педагогического совета, принятие ре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Заключительный ( аналитический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эффективности проведения педагогического совета на административном совещании, заседании методического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апы подготовки и проведения педагогического сове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Регулирующ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 за выполнением решений педагогического со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7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7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ория управления школо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зируетс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ном                                Исследовательс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ходе                                        подх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х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1219320" y="1676520"/>
            <a:ext cx="228600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419720" y="19051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181480" y="1752480"/>
            <a:ext cx="25146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 Завуч» № 8, 2001г., № 3, 200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рофеев Н.Ю., Иванченко С.Н.  Педсовет: идеи, методики, формы ( рекомендации по подготовке и проведению педагогических советов в школе). - М.: Педагогический поиск, 2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харов М.Л. Организация труда директора школы.- М.: Просвещение, 19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ические советы: разработки, подготовка и технологические схемы, традиционные  и нетрадиционные формы проведения,  составитель Сыромятникова Л.М. - Волгоград: Учитель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5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5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5" dur="5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1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й сов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стоянно действующий коллегиальный орган самоуправления педагогических работников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его состав входят сотрудники школы, занятые в образовательной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я, педагоги дополнительного образования, работники психолог – педагогической службы, библиотекарь, администрация шк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наметить перспективы работы коллектива, поставить задач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определить пути, формы обновления школьного образ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комить с  достижениями педагогической науки, их использованием педагогическим коллектив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осуществить анализ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состояния учебно – 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уровня препода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качества знани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 показателей работы за полугодие (го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) состояния нравственного воспитания учащихся, уровня культуры, соблюдения ими правил повед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) состояния преподавания отдельных предм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педагогического сов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раскрыть специфику работы школы по профилю, познакомиться с опытом работы другой школы, лицея такого же тип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подвести некоторые итоги работы по гуманизации и демократизации учебно – воспитатель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дагогического сове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рассмотрение основных вопросов учебно – 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демократизация процесса управления школ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 внедрение в практику достижений науки и передового педагогического опы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 педагогического сов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1552680"/>
            <a:ext cx="853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обсуждение, утверждение и организация выполнение планов всех подразделений и служб школы (методических лабораторий, заместителей директора по УВР, службы психолога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принятие решений о создании клубов, студий и других объединени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 контроль за санитарно – гигиеническим режимом школы и Психолого – валеологическим климатом, состоянием здоровья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Organization Chart 4"/>
          <p:cNvGrpSpPr/>
          <p:nvPr/>
        </p:nvGrpSpPr>
        <p:grpSpPr>
          <a:xfrm>
            <a:off x="304920" y="990720"/>
            <a:ext cx="8610120" cy="4952520"/>
            <a:chOff x="304920" y="990720"/>
            <a:chExt cx="8610120" cy="495252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789520" y="1791720"/>
              <a:ext cx="990720" cy="334944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V="1" rot="16200000">
              <a:off x="4673160" y="2908080"/>
              <a:ext cx="990720" cy="111672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3556800" y="2908440"/>
              <a:ext cx="990720" cy="111672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1"/>
            <p:cNvCxnSpPr>
              <a:stCxn id="112" idx="0"/>
              <a:endCxn id="106" idx="2"/>
            </p:cNvCxnSpPr>
            <p:nvPr/>
          </p:nvCxnSpPr>
          <p:spPr>
            <a:xfrm flipH="1" flipV="1" rot="5400000">
              <a:off x="2440440" y="1792080"/>
              <a:ext cx="990720" cy="3349440"/>
            </a:xfrm>
            <a:prstGeom prst="bentConnector3">
              <a:avLst>
                <a:gd name="adj1" fmla="val 208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1032"/>
            <p:cNvSpPr/>
            <p:nvPr/>
          </p:nvSpPr>
          <p:spPr>
            <a:xfrm>
              <a:off x="3652560" y="99072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Функци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педагогического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совет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0492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управлен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34"/>
            <p:cNvSpPr/>
            <p:nvPr/>
          </p:nvSpPr>
          <p:spPr>
            <a:xfrm>
              <a:off x="253728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методи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4770000" y="3962160"/>
              <a:ext cx="1913400" cy="1981080"/>
            </a:xfrm>
            <a:custGeom>
              <a:avLst/>
              <a:gdLst>
                <a:gd name="textAreaLeft" fmla="*/ 93240 w 1913400"/>
                <a:gd name="textAreaRight" fmla="*/ 1820160 w 191340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64">
                  <a:moveTo>
                    <a:pt x="3600" y="0"/>
                  </a:moveTo>
                  <a:arcTo wR="3600" hR="3600" stAng="16200000" swAng="-5400000"/>
                  <a:lnTo>
                    <a:pt x="0" y="18764"/>
                  </a:lnTo>
                  <a:arcTo wR="3600" hR="3600" stAng="10800000" swAng="-5400000"/>
                  <a:lnTo>
                    <a:pt x="18000" y="223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воспитательны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>
              <a:off x="7002360" y="3962160"/>
              <a:ext cx="1912680" cy="1981080"/>
            </a:xfrm>
            <a:custGeom>
              <a:avLst/>
              <a:gdLst>
                <a:gd name="textAreaLeft" fmla="*/ 93240 w 1912680"/>
                <a:gd name="textAreaRight" fmla="*/ 1819440 w 1912680"/>
                <a:gd name="textAreaTop" fmla="*/ 93240 h 1981080"/>
                <a:gd name="textAreaBottom" fmla="*/ 1887840 h 1981080"/>
              </a:gdLst>
              <a:ahLst/>
              <a:rect l="textAreaLeft" t="textAreaTop" r="textAreaRight" b="textAreaBottom"/>
              <a:pathLst>
                <a:path w="21600" h="22372">
                  <a:moveTo>
                    <a:pt x="3600" y="0"/>
                  </a:moveTo>
                  <a:arcTo wR="3600" hR="3600" stAng="16200000" swAng="-5400000"/>
                  <a:lnTo>
                    <a:pt x="0" y="18772"/>
                  </a:lnTo>
                  <a:arcTo wR="3600" hR="3600" stAng="10800000" swAng="-5400000"/>
                  <a:lnTo>
                    <a:pt x="18000" y="22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социально - педагогические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ircl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4T14:4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