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2F4C6-F435-40A9-99A1-7B2730AD059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6A79A-6986-4D6A-8FD0-BDD1575BC01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D59E-7A7A-45D0-A503-08A012BE0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3E42-5906-49FE-B742-89BD864B9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C26C-25A2-42E6-BDD8-89EAE865B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2EA9-E8C5-4AD5-9DBD-349BD564E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B8C5-669E-41A3-9868-29F180D6C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DDC4-54F5-4996-82C7-D75C525FC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26FE-CCF1-42C9-B2C0-848AABAA6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994B-82E8-42DF-83E3-070C89FB9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3960-BE6A-498E-B01D-03000D5D1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3BE9-49CB-4BF2-8D5D-B95FED73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6E5D-3F9F-44F9-9D88-413C1D473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D7EF-2BFC-4F08-ABBC-ED870FE8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b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61BC4-735F-483B-8851-9EEB02E8A3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4857840" y="1500120"/>
            <a:ext cx="3643200" cy="2421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3"/>
          <p:cNvSpPr/>
          <p:nvPr/>
        </p:nvSpPr>
        <p:spPr>
          <a:xfrm>
            <a:off x="674280" y="642960"/>
            <a:ext cx="724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           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Национальные  парки Афри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6" descr=""/>
          <p:cNvPicPr/>
          <p:nvPr/>
        </p:nvPicPr>
        <p:blipFill>
          <a:blip r:embed="rId2"/>
          <a:stretch/>
        </p:blipFill>
        <p:spPr>
          <a:xfrm>
            <a:off x="0" y="1571760"/>
            <a:ext cx="3214800" cy="2346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3"/>
          <a:stretch/>
        </p:blipFill>
        <p:spPr>
          <a:xfrm>
            <a:off x="2286000" y="4071960"/>
            <a:ext cx="3703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4834080" y="3625920"/>
            <a:ext cx="4309920" cy="3232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"/>
          <p:cNvPicPr/>
          <p:nvPr/>
        </p:nvPicPr>
        <p:blipFill>
          <a:blip r:embed="rId2"/>
          <a:stretch/>
        </p:blipFill>
        <p:spPr>
          <a:xfrm>
            <a:off x="0" y="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1" descr=""/>
          <p:cNvPicPr/>
          <p:nvPr/>
        </p:nvPicPr>
        <p:blipFill>
          <a:blip r:embed="rId3"/>
          <a:stretch/>
        </p:blipFill>
        <p:spPr>
          <a:xfrm>
            <a:off x="0" y="3643200"/>
            <a:ext cx="4786200" cy="32148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3" descr=""/>
          <p:cNvPicPr/>
          <p:nvPr/>
        </p:nvPicPr>
        <p:blipFill>
          <a:blip r:embed="rId4"/>
          <a:stretch/>
        </p:blipFill>
        <p:spPr>
          <a:xfrm>
            <a:off x="4786200" y="0"/>
            <a:ext cx="435780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1"/>
          <p:cNvSpPr/>
          <p:nvPr/>
        </p:nvSpPr>
        <p:spPr>
          <a:xfrm>
            <a:off x="2786040" y="214200"/>
            <a:ext cx="62150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еренгети  находится на севере Танзании у границы с Кенией, в 335 км от Аруши. Серенгети - самый известный национальный парк в Танзании, а по некоторым оценкам лучший в мире. Его название происходит от масайского слова “siringet”, означающего “вытянутая площадка”. Для основания этого парка в 1951 году было выделено 14 763 кв. км и с тех пор Серенгети является вторым по величине парком в стране после парка Селоус. Серенгети находится на высоте от 920 до 1850 м над уровнем моря и его ландшафт меняется от длинной или короткой травы на юге до саванн в центре и холмов, покрытых лесами на севере. А настоящие леса находятся в западной части пар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8" descr=""/>
          <p:cNvPicPr/>
          <p:nvPr/>
        </p:nvPicPr>
        <p:blipFill>
          <a:blip r:embed="rId1"/>
          <a:stretch/>
        </p:blipFill>
        <p:spPr>
          <a:xfrm>
            <a:off x="0" y="0"/>
            <a:ext cx="2754360" cy="2143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4" descr=""/>
          <p:cNvPicPr/>
          <p:nvPr/>
        </p:nvPicPr>
        <p:blipFill>
          <a:blip r:embed="rId2"/>
          <a:stretch/>
        </p:blipFill>
        <p:spPr>
          <a:xfrm>
            <a:off x="0" y="3643200"/>
            <a:ext cx="2786040" cy="3214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5" descr=""/>
          <p:cNvPicPr/>
          <p:nvPr/>
        </p:nvPicPr>
        <p:blipFill>
          <a:blip r:embed="rId3"/>
          <a:stretch/>
        </p:blipFill>
        <p:spPr>
          <a:xfrm>
            <a:off x="5143680" y="4572000"/>
            <a:ext cx="40003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357800" cy="36320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"/>
          <p:cNvPicPr/>
          <p:nvPr/>
        </p:nvPicPr>
        <p:blipFill>
          <a:blip r:embed="rId2"/>
          <a:stretch/>
        </p:blipFill>
        <p:spPr>
          <a:xfrm>
            <a:off x="4429080" y="3643200"/>
            <a:ext cx="4714920" cy="32148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3"/>
          <a:stretch/>
        </p:blipFill>
        <p:spPr>
          <a:xfrm>
            <a:off x="0" y="3643200"/>
            <a:ext cx="4429080" cy="32148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6" descr=""/>
          <p:cNvPicPr/>
          <p:nvPr/>
        </p:nvPicPr>
        <p:blipFill>
          <a:blip r:embed="rId4"/>
          <a:stretch/>
        </p:blipFill>
        <p:spPr>
          <a:xfrm>
            <a:off x="4357800" y="0"/>
            <a:ext cx="478620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1"/>
          <p:cNvSpPr/>
          <p:nvPr/>
        </p:nvSpPr>
        <p:spPr>
          <a:xfrm>
            <a:off x="0" y="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орской национальный парк Ватаму раскинулся по побережью Индийского океана в 120 км от Момбас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десь, в прибрежных водах, у самой кромки роскошных пляжей, раскинулось удивительное царство коралловых рифов и мангровых лесов, населенных богатейшей флоро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ногие считают, что здесь лучшие места для дайвинга и рыбной ловли, а также самая богатая ихтиофауна на побережь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ядом находится национальный парк Шимба-Хиллс - единственное место в Кении, где водятся антилопы-ро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Хорошими местами для погружений также считаются острова Фунзи, Васини и Пемб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0" y="2857680"/>
            <a:ext cx="4191120" cy="40003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2"/>
          <a:stretch/>
        </p:blipFill>
        <p:spPr>
          <a:xfrm>
            <a:off x="4214880" y="5286240"/>
            <a:ext cx="4929120" cy="15717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"/>
          <p:cNvPicPr/>
          <p:nvPr/>
        </p:nvPicPr>
        <p:blipFill>
          <a:blip r:embed="rId3"/>
          <a:stretch/>
        </p:blipFill>
        <p:spPr>
          <a:xfrm>
            <a:off x="4214880" y="2857680"/>
            <a:ext cx="492912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885816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7" descr=""/>
          <p:cNvPicPr/>
          <p:nvPr/>
        </p:nvPicPr>
        <p:blipFill>
          <a:blip r:embed="rId1"/>
          <a:stretch/>
        </p:blipFill>
        <p:spPr>
          <a:xfrm>
            <a:off x="2428920" y="3645000"/>
            <a:ext cx="4286160" cy="3213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4629240" cy="3500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"/>
          <p:cNvPicPr/>
          <p:nvPr/>
        </p:nvPicPr>
        <p:blipFill>
          <a:blip r:embed="rId3"/>
          <a:stretch/>
        </p:blipFill>
        <p:spPr>
          <a:xfrm>
            <a:off x="4643280" y="0"/>
            <a:ext cx="450072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4929120" y="0"/>
            <a:ext cx="4214880" cy="30002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"/>
          <p:cNvPicPr/>
          <p:nvPr/>
        </p:nvPicPr>
        <p:blipFill>
          <a:blip r:embed="rId2"/>
          <a:stretch/>
        </p:blipFill>
        <p:spPr>
          <a:xfrm>
            <a:off x="2786040" y="4362480"/>
            <a:ext cx="3929040" cy="24955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3"/>
          <a:stretch/>
        </p:blipFill>
        <p:spPr>
          <a:xfrm>
            <a:off x="6786720" y="3643200"/>
            <a:ext cx="2357280" cy="3214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"/>
          <p:cNvPicPr/>
          <p:nvPr/>
        </p:nvPicPr>
        <p:blipFill>
          <a:blip r:embed="rId4"/>
          <a:stretch/>
        </p:blipFill>
        <p:spPr>
          <a:xfrm>
            <a:off x="0" y="0"/>
            <a:ext cx="450072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"/>
          <p:cNvPicPr/>
          <p:nvPr/>
        </p:nvPicPr>
        <p:blipFill>
          <a:blip r:embed="rId5"/>
          <a:stretch/>
        </p:blipFill>
        <p:spPr>
          <a:xfrm>
            <a:off x="0" y="3573360"/>
            <a:ext cx="292896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7" descr=""/>
          <p:cNvPicPr/>
          <p:nvPr/>
        </p:nvPicPr>
        <p:blipFill>
          <a:blip r:embed="rId1"/>
          <a:stretch/>
        </p:blipFill>
        <p:spPr>
          <a:xfrm>
            <a:off x="4340160" y="3643200"/>
            <a:ext cx="4803840" cy="3214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"/>
          <p:cNvPicPr/>
          <p:nvPr/>
        </p:nvPicPr>
        <p:blipFill>
          <a:blip r:embed="rId2"/>
          <a:stretch/>
        </p:blipFill>
        <p:spPr>
          <a:xfrm>
            <a:off x="0" y="3643200"/>
            <a:ext cx="4214880" cy="32148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"/>
          <p:cNvPicPr/>
          <p:nvPr/>
        </p:nvPicPr>
        <p:blipFill>
          <a:blip r:embed="rId3"/>
          <a:stretch/>
        </p:blipFill>
        <p:spPr>
          <a:xfrm>
            <a:off x="1500120" y="214200"/>
            <a:ext cx="557208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2"/>
          <p:cNvSpPr/>
          <p:nvPr/>
        </p:nvSpPr>
        <p:spPr>
          <a:xfrm>
            <a:off x="0" y="0"/>
            <a:ext cx="9144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лавная достопримечательность Кении - около 59 национальных парков и заповедников, занимающих в общей сложности около 7,5% территории стран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акие парки, как Цаво, Сибилон, Маунт-Кения, Масаи-Мара, Абердаре, гора Элгон, Самбуру, Амбосели и другие, широко известны далеко за пределами стран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10" descr=""/>
          <p:cNvPicPr/>
          <p:nvPr/>
        </p:nvPicPr>
        <p:blipFill>
          <a:blip r:embed="rId1"/>
          <a:stretch/>
        </p:blipFill>
        <p:spPr>
          <a:xfrm>
            <a:off x="285840" y="2643120"/>
            <a:ext cx="3643200" cy="29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" descr=""/>
          <p:cNvPicPr/>
          <p:nvPr/>
        </p:nvPicPr>
        <p:blipFill>
          <a:blip r:embed="rId2"/>
          <a:stretch/>
        </p:blipFill>
        <p:spPr>
          <a:xfrm>
            <a:off x="5143680" y="2643120"/>
            <a:ext cx="378612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2"/>
          <p:cNvSpPr/>
          <p:nvPr/>
        </p:nvSpPr>
        <p:spPr>
          <a:xfrm>
            <a:off x="0" y="0"/>
            <a:ext cx="63579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циональный парк Масаи-Мара (площадь 320 км²) лежит в 275 км к западу от Найроби, на высоте 1 650 м над уровнем мор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Его западная часть граничит с Серенгети - Национальным парком Танзании, поэтому в период с июля по сентябрь здесь можно увидеть передвижение огромных масс животных, которые мигрируют из Серенгети в поисках пищ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десь, в саванне и густых зарослях акации вдоль реки Мара, водятся почти все животные, населяющие Восточную Африку, в том числе популяция уникальных черных львов, а сама река Мара буквально кишит крокодилами и гиппопотам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4143240"/>
            <a:ext cx="3929040" cy="2714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6429240" y="0"/>
            <a:ext cx="2714760" cy="2214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3"/>
          <a:stretch/>
        </p:blipFill>
        <p:spPr>
          <a:xfrm>
            <a:off x="5143680" y="3857760"/>
            <a:ext cx="40003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2"/>
          <p:cNvSpPr/>
          <p:nvPr/>
        </p:nvSpPr>
        <p:spPr>
          <a:xfrm>
            <a:off x="0" y="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циональный заповедник Амбосели (площадь 392 км²) расположен у подножия горы Килиманджаро, самой высокой вершины Афри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мбосели создан для охраны представителей "великолепной пятерки" животных Африки - леопарда, буйвола, носорога, слона и ль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то именно то место, где каждый может получить наиболее классическое представление об Афри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-22320" y="4286160"/>
            <a:ext cx="3409920" cy="2571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"/>
          <p:cNvPicPr/>
          <p:nvPr/>
        </p:nvPicPr>
        <p:blipFill>
          <a:blip r:embed="rId2"/>
          <a:stretch/>
        </p:blipFill>
        <p:spPr>
          <a:xfrm>
            <a:off x="2928960" y="3071880"/>
            <a:ext cx="3238560" cy="2428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"/>
          <p:cNvPicPr/>
          <p:nvPr/>
        </p:nvPicPr>
        <p:blipFill>
          <a:blip r:embed="rId3"/>
          <a:stretch/>
        </p:blipFill>
        <p:spPr>
          <a:xfrm>
            <a:off x="5619600" y="4214880"/>
            <a:ext cx="352440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2"/>
          <p:cNvSpPr/>
          <p:nvPr/>
        </p:nvSpPr>
        <p:spPr>
          <a:xfrm>
            <a:off x="0" y="0"/>
            <a:ext cx="9144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циональный парк Маунт-Кения лежит в 150 км от Найроб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ористый рельеф парка позволяет совместить наблюдение за животными, причем в большинстве своем - редких горных подвидов, со скалолазанием и треккинг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иже альпийских лугов, в сухих разреженных лесах, можно встретить слонов, черных носорогов, капских буйволов и антилоп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ут же расположены знаменитый клуб "Сафари" и комфортабельные гостиничные номера, установленные на сваях или верхушках деревье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4143240" y="3106800"/>
            <a:ext cx="5000760" cy="3751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2"/>
          <a:stretch/>
        </p:blipFill>
        <p:spPr>
          <a:xfrm>
            <a:off x="0" y="3143160"/>
            <a:ext cx="409572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4857840" y="3571920"/>
            <a:ext cx="4286160" cy="3286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4476600" cy="3571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"/>
          <p:cNvPicPr/>
          <p:nvPr/>
        </p:nvPicPr>
        <p:blipFill>
          <a:blip r:embed="rId3"/>
          <a:stretch/>
        </p:blipFill>
        <p:spPr>
          <a:xfrm>
            <a:off x="0" y="3578400"/>
            <a:ext cx="4857840" cy="3279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9" descr=""/>
          <p:cNvPicPr/>
          <p:nvPr/>
        </p:nvPicPr>
        <p:blipFill>
          <a:blip r:embed="rId4"/>
          <a:stretch/>
        </p:blipFill>
        <p:spPr>
          <a:xfrm>
            <a:off x="4422600" y="0"/>
            <a:ext cx="47214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2"/>
          <p:cNvSpPr/>
          <p:nvPr/>
        </p:nvSpPr>
        <p:spPr>
          <a:xfrm>
            <a:off x="0" y="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циональный парк Самбуру охраняет представителей пустынной флоры и фаун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есной заповедник Какамега представляет собой массив девственного тропического леса в самом сердце сельскохозяйственного района в Западной Кен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десь сохранились реликтовые породы деревьев, которые не встречаются больше нигде в стране, а также множество диких животных, в том числе одна из самых больших в стране популяция прима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0" y="3643200"/>
            <a:ext cx="4286160" cy="3214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4286160" y="3618000"/>
            <a:ext cx="48578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4929120" cy="3697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"/>
          <p:cNvPicPr/>
          <p:nvPr/>
        </p:nvPicPr>
        <p:blipFill>
          <a:blip r:embed="rId2"/>
          <a:stretch/>
        </p:blipFill>
        <p:spPr>
          <a:xfrm>
            <a:off x="4762440" y="3571920"/>
            <a:ext cx="4381560" cy="3286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4" descr=""/>
          <p:cNvPicPr/>
          <p:nvPr/>
        </p:nvPicPr>
        <p:blipFill>
          <a:blip r:embed="rId3"/>
          <a:stretch/>
        </p:blipFill>
        <p:spPr>
          <a:xfrm>
            <a:off x="5500800" y="500040"/>
            <a:ext cx="3000240" cy="2479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8" descr=""/>
          <p:cNvPicPr/>
          <p:nvPr/>
        </p:nvPicPr>
        <p:blipFill>
          <a:blip r:embed="rId4"/>
          <a:stretch/>
        </p:blipFill>
        <p:spPr>
          <a:xfrm>
            <a:off x="357120" y="4214880"/>
            <a:ext cx="3429000" cy="23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2"/>
          <p:cNvSpPr/>
          <p:nvPr/>
        </p:nvSpPr>
        <p:spPr>
          <a:xfrm>
            <a:off x="0" y="0"/>
            <a:ext cx="69292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циональный парк Абердарее - одно из самых влажных мест стран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десь, на склонах одноименной горной цепи и на плато Кинангоп, раскинулись дождевые леса и альпийские пустоши, проживают десятки эндемичных видов животных и высятся живописные скалы, с которых низвергаются кристально-чистые водопад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4429080" y="3214800"/>
            <a:ext cx="4714920" cy="3643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0" y="3235320"/>
            <a:ext cx="4286160" cy="3622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"/>
          <p:cNvPicPr/>
          <p:nvPr/>
        </p:nvPicPr>
        <p:blipFill>
          <a:blip r:embed="rId3"/>
          <a:stretch/>
        </p:blipFill>
        <p:spPr>
          <a:xfrm>
            <a:off x="6572160" y="0"/>
            <a:ext cx="2571840" cy="19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14:28:48Z</dcterms:created>
  <dc:creator>Александра</dc:creator>
  <dc:description/>
  <dc:language>en-US</dc:language>
  <cp:lastModifiedBy>Admin</cp:lastModifiedBy>
  <dcterms:modified xsi:type="dcterms:W3CDTF">2010-02-23T11:36:33Z</dcterms:modified>
  <cp:revision>17</cp:revision>
  <dc:subject>Африка</dc:subject>
  <dc:title>Национальные парки Африки</dc:title>
</cp:coreProperties>
</file>