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1117-2FFC-42E2-9EDD-A212D3481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6CC-3B4C-4CE7-8B3C-D3122CF42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3BE-67A1-4012-BB29-9F2B8BBC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67D-1FDA-4495-8B3B-68DF734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72E-FCFA-4F2D-B5F4-DA045CB2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923-3925-406F-8903-6F49F94D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7FA-B363-47AD-BDD0-B0968E04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173-8873-4F55-B500-BC8F8DCB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26F-77D4-4625-9577-645F4EF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92A-7020-4789-812F-44F663C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55D-927D-40D8-A5C0-6BA55E4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8AF-F45B-4B1D-845B-B0C2046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231-2524-47D5-AFA9-CCA77FB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A82-40DD-493E-AF1F-61595E3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7FF-CF46-48A1-AD89-9FA4697F1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0-02-23T11:36:33Z</dcterms:modified>
  <cp:revision>17</cp:revision>
  <dc:subject>Африка</dc:subject>
  <dc:title>Национальные парки Африки</dc:title>
</cp:coreProperties>
</file>