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B042-3A0D-423B-AE20-FFFB82439E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E560-F9C6-4C23-B91C-FC00E25996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447-2A54-43B3-ACEF-71FD6C00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B207-10BF-411B-AEC8-D95C879D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C42-B1D4-4049-AAA5-885849C7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D604-4A74-4ADF-96DC-79EAA667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2E84-29E4-43F6-A768-1AA3F449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44D6-B722-4AEA-B036-A393A563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AAF-743C-45B1-AC21-76D7DA7A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7FBA-E87F-4286-8F12-B00067E8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16D-128F-45C4-BE1A-8179A3B4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D000-DDFE-4CE6-B9F7-AEA1E2D4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709-4C9F-461F-B2A2-B53E3137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1643-53C1-449A-9C3F-3D97A36F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B8C6-9372-43E9-A5FC-699C144892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857840" y="1500120"/>
            <a:ext cx="3643200" cy="2421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674280" y="64296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ациональные  парки Афр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6" descr=""/>
          <p:cNvPicPr/>
          <p:nvPr/>
        </p:nvPicPr>
        <p:blipFill>
          <a:blip r:embed="rId2"/>
          <a:stretch/>
        </p:blipFill>
        <p:spPr>
          <a:xfrm>
            <a:off x="0" y="1571760"/>
            <a:ext cx="3214800" cy="234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2286000" y="4071960"/>
            <a:ext cx="3703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834080" y="3625920"/>
            <a:ext cx="4309920" cy="323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"/>
          <p:cNvPicPr/>
          <p:nvPr/>
        </p:nvPicPr>
        <p:blipFill>
          <a:blip r:embed="rId3"/>
          <a:stretch/>
        </p:blipFill>
        <p:spPr>
          <a:xfrm>
            <a:off x="0" y="3643200"/>
            <a:ext cx="4786200" cy="3214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4"/>
          <a:stretch/>
        </p:blipFill>
        <p:spPr>
          <a:xfrm>
            <a:off x="4786200" y="0"/>
            <a:ext cx="43578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2786040" y="214200"/>
            <a:ext cx="6215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ренгети  находится на севере Танзании у границы с Кенией, в 335 км от Аруши. Серенгети - самый известный национальный парк в Танзании, а по некоторым оценкам лучший в мире. Его название происходит от масайского слова “siringet”, означающего “вытянутая площадка”. Для основания этого парка в 1951 году было выделено 14 763 кв. км и с тех пор Серенгети является вторым по величине парком в стране после парка Селоус. Серенгети находится на высоте от 920 до 1850 м над уровнем моря и его ландшафт меняется от длинной или короткой травы на юге до саванн в центре и холмов, покрытых лесами на севере. А настоящие леса находятся в западной части пар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2143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2"/>
          <a:stretch/>
        </p:blipFill>
        <p:spPr>
          <a:xfrm>
            <a:off x="0" y="3643200"/>
            <a:ext cx="2786040" cy="3214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"/>
          <p:cNvPicPr/>
          <p:nvPr/>
        </p:nvPicPr>
        <p:blipFill>
          <a:blip r:embed="rId3"/>
          <a:stretch/>
        </p:blipFill>
        <p:spPr>
          <a:xfrm>
            <a:off x="5143680" y="4572000"/>
            <a:ext cx="4000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57800" cy="3632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4429080" y="3643200"/>
            <a:ext cx="4714920" cy="3214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3"/>
          <a:stretch/>
        </p:blipFill>
        <p:spPr>
          <a:xfrm>
            <a:off x="0" y="3643200"/>
            <a:ext cx="4429080" cy="3214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"/>
          <p:cNvPicPr/>
          <p:nvPr/>
        </p:nvPicPr>
        <p:blipFill>
          <a:blip r:embed="rId4"/>
          <a:stretch/>
        </p:blipFill>
        <p:spPr>
          <a:xfrm>
            <a:off x="4357800" y="0"/>
            <a:ext cx="4786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рской национальный парк Ватаму раскинулся по побережью Индийского океана в 120 км от Момбас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десь, в прибрежных водах, у самой кромки роскошных пляжей, раскинулось удивительное царство коралловых рифов и мангровых лесов, населенных богатейшей флор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ногие считают, что здесь лучшие места для дайвинга и рыбной ловли, а также самая богатая ихтиофауна на побережь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ядом находится национальный парк Шимба-Хиллс - единственное место в Кении, где водятся антилопы-ро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орошими местами для погружений также считаются острова Фунзи, Васини и Пемб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4191120" cy="4000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4214880" y="5286240"/>
            <a:ext cx="4929120" cy="1571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4214880" y="2857680"/>
            <a:ext cx="49291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8581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7" descr=""/>
          <p:cNvPicPr/>
          <p:nvPr/>
        </p:nvPicPr>
        <p:blipFill>
          <a:blip r:embed="rId1"/>
          <a:stretch/>
        </p:blipFill>
        <p:spPr>
          <a:xfrm>
            <a:off x="2428920" y="3645000"/>
            <a:ext cx="4286160" cy="3213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4629240" cy="3500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929120" y="0"/>
            <a:ext cx="4214880" cy="3000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2786040" y="4362480"/>
            <a:ext cx="3929040" cy="249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6786720" y="3643200"/>
            <a:ext cx="2357280" cy="32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450072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5"/>
          <a:stretch/>
        </p:blipFill>
        <p:spPr>
          <a:xfrm>
            <a:off x="0" y="3573360"/>
            <a:ext cx="29289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4340160" y="3643200"/>
            <a:ext cx="4803840" cy="32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0" y="3643200"/>
            <a:ext cx="4214880" cy="32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3"/>
          <a:stretch/>
        </p:blipFill>
        <p:spPr>
          <a:xfrm>
            <a:off x="1500120" y="214200"/>
            <a:ext cx="55720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0" y="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лавная достопримечательность Кении - около 59 национальных парков и заповедников, занимающих в общей сложности около 7,5% территории стра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кие парки, как Цаво, Сибилон, Маунт-Кения, Масаи-Мара, Абердаре, гора Элгон, Самбуру, Амбосели и другие, широко известны далеко за пределами стра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1"/>
          <a:stretch/>
        </p:blipFill>
        <p:spPr>
          <a:xfrm>
            <a:off x="285840" y="2643120"/>
            <a:ext cx="3643200" cy="29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2"/>
          <a:stretch/>
        </p:blipFill>
        <p:spPr>
          <a:xfrm>
            <a:off x="5143680" y="2643120"/>
            <a:ext cx="37861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0" y="0"/>
            <a:ext cx="6357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циональный парк Масаи-Мара (площадь 320 км²) лежит в 275 км к западу от Найроби, на высоте 1 650 м над уровнем мор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го западная часть граничит с Серенгети - Национальным парком Танзании, поэтому в период с июля по сентябрь здесь можно увидеть передвижение огромных масс животных, которые мигрируют из Серенгети в поисках пищ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десь, в саванне и густых зарослях акации вдоль реки Мара, водятся почти все животные, населяющие Восточную Африку, в том числе популяция уникальных черных львов, а сама река Мара буквально кишит крокодилами и гиппопотам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4143240"/>
            <a:ext cx="3929040" cy="271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6429240" y="0"/>
            <a:ext cx="2714760" cy="221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5143680" y="385776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0" y="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циональный заповедник Амбосели (площадь 392 км²) расположен у подножия горы Килиманджаро, самой высокой вершины Афр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мбосели создан для охраны представителей "великолепной пятерки" животных Африки - леопарда, буйвола, носорога, слона и ль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о именно то место, где каждый может получить наиболее классическое представление об Афр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22320" y="4286160"/>
            <a:ext cx="3409920" cy="2571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2928960" y="307188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5619600" y="4214880"/>
            <a:ext cx="3524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2"/>
          <p:cNvSpPr/>
          <p:nvPr/>
        </p:nvSpPr>
        <p:spPr>
          <a:xfrm>
            <a:off x="0" y="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циональный парк Маунт-Кения лежит в 150 км от Найроб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ристый рельеф парка позволяет совместить наблюдение за животными, причем в большинстве своем - редких горных подвидов, со скалолазанием и треккинг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иже альпийских лугов, в сухих разреженных лесах, можно встретить слонов, черных носорогов, капских буйволов и антило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ут же расположены знаменитый клуб "Сафари" и комфортабельные гостиничные номера, установленные на сваях или верхушках деревье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143240" y="3106800"/>
            <a:ext cx="5000760" cy="375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0" y="3143160"/>
            <a:ext cx="40957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857840" y="3571920"/>
            <a:ext cx="4286160" cy="328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476600" cy="357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3"/>
          <a:stretch/>
        </p:blipFill>
        <p:spPr>
          <a:xfrm>
            <a:off x="0" y="3578400"/>
            <a:ext cx="4857840" cy="3279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"/>
          <p:cNvPicPr/>
          <p:nvPr/>
        </p:nvPicPr>
        <p:blipFill>
          <a:blip r:embed="rId4"/>
          <a:stretch/>
        </p:blipFill>
        <p:spPr>
          <a:xfrm>
            <a:off x="4422600" y="0"/>
            <a:ext cx="4721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2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циональный парк Самбуру охраняет представителей пустынной флоры и фау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сной заповедник Какамега представляет собой массив девственного тропического леса в самом сердце сельскохозяйственного района в Западной К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есь сохранились реликтовые породы деревьев, которые не встречаются больше нигде в стране, а также множество диких животных, в том числе одна из самых больших в стране популяция прим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364320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4286160" y="3618000"/>
            <a:ext cx="48578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929120" cy="3697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4762440" y="357192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4" descr=""/>
          <p:cNvPicPr/>
          <p:nvPr/>
        </p:nvPicPr>
        <p:blipFill>
          <a:blip r:embed="rId3"/>
          <a:stretch/>
        </p:blipFill>
        <p:spPr>
          <a:xfrm>
            <a:off x="5500800" y="500040"/>
            <a:ext cx="3000240" cy="2479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"/>
          <p:cNvPicPr/>
          <p:nvPr/>
        </p:nvPicPr>
        <p:blipFill>
          <a:blip r:embed="rId4"/>
          <a:stretch/>
        </p:blipFill>
        <p:spPr>
          <a:xfrm>
            <a:off x="357120" y="4214880"/>
            <a:ext cx="342900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2"/>
          <p:cNvSpPr/>
          <p:nvPr/>
        </p:nvSpPr>
        <p:spPr>
          <a:xfrm>
            <a:off x="0" y="0"/>
            <a:ext cx="6929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циональный парк Абердарее - одно из самых влажных мест стра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десь, на склонах одноименной горной цепи и на плато Кинангоп, раскинулись дождевые леса и альпийские пустоши, проживают десятки эндемичных видов животных и высятся живописные скалы, с которых низвергаются кристально-чистые водопа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429080" y="3214800"/>
            <a:ext cx="4714920" cy="3643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0" y="3235320"/>
            <a:ext cx="4286160" cy="3622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6572160" y="0"/>
            <a:ext cx="25718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4:28:48Z</dcterms:created>
  <dc:creator>Александра</dc:creator>
  <dc:description/>
  <dc:language>en-US</dc:language>
  <cp:lastModifiedBy>Admin</cp:lastModifiedBy>
  <dcterms:modified xsi:type="dcterms:W3CDTF">2010-02-23T11:36:33Z</dcterms:modified>
  <cp:revision>17</cp:revision>
  <dc:subject>Африка</dc:subject>
  <dc:title>Национальные парки Африки</dc:title>
</cp:coreProperties>
</file>