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A02F8-ECCC-4420-8E3B-0A3F3A21C3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3FC9C-B451-4551-B6F4-B84B01270D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F0CFF-32EE-4DF6-8414-A12344BC26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7CDB9-E77A-40C2-BFD0-2069245C60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92616-3E8A-49C6-AA45-FE6F453991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ACF45-A500-421F-B105-A8F424D379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74458-5751-4CDB-95A5-820637DB6C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DAB58-2DF6-469B-97FF-3C4285DD2F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C0F3A-8EFE-4A52-8D5C-82DB01DE85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7120D-64A2-4F9A-80F3-9AFF6A2BA6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93CEF-0475-4BB3-A4AC-BDCAAA8095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CE765-B3A9-4A1A-AAC6-72B4DC5798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25206-1441-44ED-84A7-FE1A51B17F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46411-5075-422D-9A2D-8A85BEA6E5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44B8F-FF06-4AE2-A182-D5A2D12B2F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C6E7-3133-44A2-9FE8-CB91B038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AE4-3E19-4EF6-B8FD-1F33CAA1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05F-D7B1-4873-A1AD-2BD85D28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E44A-5759-4082-A71B-9F8CBE0B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4B83-BC7A-4884-9C1E-68AD1F21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DD61-D794-4F5B-A163-A2AF380E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E7E7-CBB5-4C00-93AC-00911952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A073-DD06-4770-9B88-72414069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1106-42DE-4278-8510-BBC0F23B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81EF-4E97-4028-AAC5-2033FDDD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7009-7ECA-4CFB-86D0-61941F8C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75C-731D-4082-B6FF-77883524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E61B-919F-40E6-A536-669E2299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EA7F-054D-4BD8-ACE1-EAAB16C8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F8F3-D83D-4F2B-B2B7-CCAD1EAB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47B1-6893-46DD-A42B-54CD61FA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D3C6-D058-4390-A0C0-95302D08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6E8-4784-48D8-BB0A-963CD4AE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B6F-2FE9-428B-BA1B-27F3BBDA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4586-0D5B-44F1-8BF1-DBACEB36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D26-431D-4E82-B206-F0680928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1E0-B7DB-4AF7-9682-B19D7E74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58BF-2FA4-4A85-9A73-E0258BD8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D834-3ECC-4DF0-A074-E2FB17C3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81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2056736-6A9A-4E63-BC81-DE5892CBB079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96D167C2-9B9B-49C2-824A-ECCC0CF78DBF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разец подза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F3CAF2D-7C43-463C-801A-ED2EB6DD70EB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DB8E763F-18DD-418D-8B06-55A9E0EDEB95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2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 rot="720000">
            <a:off x="409680" y="2384280"/>
            <a:ext cx="826128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Музыкотерап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611280" y="981000"/>
            <a:ext cx="81360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елодия со словами влияет на детей сильнее, чем мелодия без слов. А живое пение — сильнее записанного на диск или кассету инструментального исполнения. А для младенцев с синдромом угнетения, которые плохо сосут, иногда даже неритмично дышат, полезны произведения в темпе «аллегро» и «аллегро модерато» Моцарта, Шуберта, Гайдна… Например: вальсы из балетов Чайковского, «На тройке» из его же «Времен года», «Весна» из «Времен года» Вивальди, а также маршевые мелод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755640" y="1557360"/>
            <a:ext cx="75596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узыкотерапия противопоказ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Младенцам с предрасположенностью к судорогам, при резкой возбудимости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 в тяжелом состоянии, которое сопровождается интоксикацией организ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    Больным оти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, у которых резко нарастает внутричерепное давл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611280" y="620640"/>
            <a:ext cx="7848360" cy="52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ри проведении музыкотерапии музыкальные произведения, должны быть высокого качества звучания. Подбором музыкальных произведений занимается врач, который в зависимости от заболевания и его стадии поможет вашему ребенку правильно подобрать музыку, установить продолжительность сеанса и полного курса лечения. Как правило, это от 5 до 15 минут по два-три сеанса на день в течение 7-10 дней. Во время сеанса магнитофон необходимо разместить на расстоянии примерно 1 метра от кроватки и установить уровень громкости не более уровня разговорной речи. Детям легко возбудимым необходимо прослушивать музыку сразу или через 20 - 30 мин. после кормления, а вялым детям, наоборот, до 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3132000" y="620640"/>
            <a:ext cx="2735280" cy="244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1116000" y="3265560"/>
            <a:ext cx="734364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ак, начните день вашего малыша с прослушивания музыки, песен, или сами спойте простую, но мелодичную песенку, поскольку музыкотерапия подразумевает использование как "живого" голоса так и магнитофонной записи. При этом, можно рассказать ребенку о чем или о ком вы поете, тем самым выполняя информационную функцию. Так, ребенок может узнать, что крокодил плывет, носорог идет, а черепашки любят лежать на солныш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2124000" y="2637000"/>
            <a:ext cx="5472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лушайте музыку с ребенком везде и всегда, как во время уборки, так и в машине, играйте с ребенком в музыкальные игры, заинтересуйте его разными ритмами и новыми звуками и, конечно же, пойте ему колыбельные песни на ночь. И помните - ребенок запоминает только то, что ему интере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419640" y="620640"/>
            <a:ext cx="273492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900000" y="476280"/>
            <a:ext cx="770436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узыкотерап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етод психотерапии, основанный на эмоциональном восприятии музыки. В зависимости от мелодии, ее ритмической основы и исполнения музыка может оказывать самые разнообразные эффекты - от индивидуального ощущения внутренней гармонии и духовного очищения до неуправляемого агрессивного поведения больших человеческих масс. Ее можно использовать для влияния на самочувстви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060720" y="3860640"/>
            <a:ext cx="3240000" cy="25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395280" y="981000"/>
            <a:ext cx="799308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остоинствами музыкотерап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1. Абсолютная безвред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2. Легкость и простота приме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3. Возможность контрол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4. Уменьшение необходимости применения других лечебных методик, более нагрузочных и отнимающих больше времен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684360" y="630360"/>
            <a:ext cx="7775280" cy="67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а, может отражать и передав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НАСТРОЕНИЯ — радость, веселье, бодрость, грусть, нежность, уныние, уверенность, тревог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ИНТЕЛЛЕКТУАЛЬНЫЕ И ВОЛЕВЫЕ ПРОЦЕССЫ — решительность, энергичность, сдержанность, задумчивость, инертность, безволие, легкомыслие, серьез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БОБЩЕННЫЕ СВОЙСТВА явлений действительности — силу, легкость, продолжительность, направленность, широту, пространствен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ХАРАКТЕРИСТИКИ ДВИЖЕНИЙ — быстрые, умеренные, медленные, вялые, упругие, порывистые, угловаты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755640" y="907920"/>
            <a:ext cx="77040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«Содержанием музыкотерапии является система разнообразных дифференцированных методов, способов и элементов лечебно-воспитательного воздействия, осуществляемого с помощью активной и рецептивной деятельности» — пишут чешские ученые З.Матейова и С.Машура в книге «Музыкотерапия при заикани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900000" y="3573360"/>
            <a:ext cx="7488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ой можно просто наслаждаться, можно снимать стрессы, повышать работоспособность, развивать художественные способности и способности к учебе, а самое главное, лечить детей с ограниченными физическими и умственными возможностями, больными на такие болезни как синдром Дауна, ДЦП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0956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971640" y="1844640"/>
            <a:ext cx="7272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есять — двенадцать лет назад ученые Института педиатрии РАМН решили найти научное обоснование метода музыкотерапии. А самыми первыми пациентами, которые получали лечение музыкой, стали новорожденные отделения недонош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2266920" y="2852640"/>
            <a:ext cx="45720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бенок может слышать музыку еще в утробе матери и успокаиваться под ее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3132000" y="3932280"/>
            <a:ext cx="244800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684360" y="512640"/>
            <a:ext cx="741672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ЕТЯМ возбудимым, беспокойным полезны мелодии в медленном темпе — «адажио», «анданте». Такими бывают обычно вторые части классических сонат, инструментальных концертов. Ни в коем случае нельзя давать маленьким детям слушать музыку через наушники. Наши уши природой приспособлены для рассеянного звука. От направленного звука незрелый мозг может получить акустическую трав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2735280" cy="360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0T19:17:28Z</dcterms:modified>
  <cp:revision>2</cp:revision>
  <dc:subject/>
  <dc:title>Слайд 1</dc:title>
</cp:coreProperties>
</file>