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D85EEE-C1CB-45A6-9D41-7B03BEE425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A4C278-38E1-47DE-BA52-3AE04A23F4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274D61-C326-4A58-B719-D6AED87310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24448F-5694-44CC-AFC7-8151F6AD0F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DD80D9-D0F2-4B4D-8541-041784DB2F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2A264D-3417-4308-A6F3-ADF3652D4A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284F49-7679-4E12-828B-5941386179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E4307F-D7F7-418F-87FD-987EE43771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89FDB-839F-4697-9A31-7166C318D8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DC5D0-5AE2-4909-9E52-1645B7A525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C86247-27E6-475A-BEBA-C7C8C6A31D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D9AF28-D5EB-4478-ABD0-CD4C362E16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2BBC1A-A34A-4821-9176-14C9F015CB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6B216C-9BFC-455D-95DC-AEF10D33EF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69C223-B20B-4FF6-8307-ABD7364F25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18B1-2AA5-48F9-975E-0142B3239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A5FE-A2EA-4EBD-8D48-02EE5D49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65CD-6A8F-454B-93CD-96539A7B1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95EF-929D-4E5C-9B2C-422036F4D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EAD90-F612-42A5-8DAD-AB2AFA9C8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C46EF-4D3F-4EFA-81EB-843C422A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0FF3-440A-4A55-B7A8-CD3009C1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849BC-7CCD-40CE-9C0D-82CA90F4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79E1-CBA0-4EE1-AEDC-6B121A9A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18E2-4E97-4351-9030-1C5787D0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DB3B-A3FA-4A42-BDD4-186074BC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B1DA-D541-4986-8704-9A2CA076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A77F-951A-4D9E-AA3A-E50F74AE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8018-7FE5-414E-B9A2-659E9F72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914A-EA1C-48F1-AD31-9852C1BB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CD8C-EC96-4DED-9F88-CA69D6C90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6720-B5A2-416A-82F4-1E26D9434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AF51-DB78-46F7-A39A-C87FB8E5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84FD-8E97-43ED-ADBA-E6453DDD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80EC-F52C-47FA-B673-746D0A06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9C7F-99F8-480D-8153-BAF79B56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86CA-3A60-4BDA-8EC9-43C641C6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01F1-20DE-4214-B57F-01D65236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1936-42E0-425D-9479-577A6037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816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3D54FE4-5123-457A-AAD1-A9E3E347720E}" type="slidenum">
              <a:rPr b="0" lang="ru-RU" sz="18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fld id="{3AEAF8DA-009F-417E-8D22-4321C168DD81}" type="slidenum">
              <a:rPr b="0" lang="ru-RU" sz="18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Образец подзагол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372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9119E6F-966C-4906-A411-CC8A9478E3BF}" type="slidenum">
              <a:rPr b="0" lang="ru-RU" sz="18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fld id="{E3AB2B90-D5E3-46B5-81E2-3EC1D2CC24E0}" type="slidenum">
              <a:rPr b="0" lang="ru-RU" sz="18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Дата 2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"/>
          <p:cNvSpPr/>
          <p:nvPr/>
        </p:nvSpPr>
        <p:spPr>
          <a:xfrm rot="720000">
            <a:off x="409680" y="2384280"/>
            <a:ext cx="8261280" cy="13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Book Antiqua"/>
              </a:rPr>
              <a:t>Музыкотерап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"/>
          <p:cNvSpPr/>
          <p:nvPr/>
        </p:nvSpPr>
        <p:spPr>
          <a:xfrm>
            <a:off x="611280" y="981000"/>
            <a:ext cx="8136000" cy="48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Мелодия со словами влияет на детей сильнее, чем мелодия без слов. А живое пение — сильнее записанного на диск или кассету инструментального исполнения. А для младенцев с синдромом угнетения, которые плохо сосут, иногда даже неритмично дышат, полезны произведения в темпе «аллегро» и «аллегро модерато» Моцарта, Шуберта, Гайдна… Например: вальсы из балетов Чайковского, «На тройке» из его же «Времен года», «Весна» из «Времен года» Вивальди, а также маршевые мелод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755640" y="1557360"/>
            <a:ext cx="755964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Музыкотерапия противопоказа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* Младенцам с предрасположенностью к судорогам, при резкой возбудимости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* Детям в тяжелом состоянии, которое сопровождается интоксикацией организ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*     Больным отит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* Детям, у которых резко нарастает внутричерепное давл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"/>
          <p:cNvSpPr/>
          <p:nvPr/>
        </p:nvSpPr>
        <p:spPr>
          <a:xfrm>
            <a:off x="611280" y="620640"/>
            <a:ext cx="7848360" cy="52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При проведении музыкотерапии музыкальные произведения, должны быть высокого качества звучания. Подбором музыкальных произведений занимается врач, который в зависимости от заболевания и его стадии поможет вашему ребенку правильно подобрать музыку, установить продолжительность сеанса и полного курса лечения. Как правило, это от 5 до 15 минут по два-три сеанса на день в течение 7-10 дней. Во время сеанса магнитофон необходимо разместить на расстоянии примерно 1 метра от кроватки и установить уровень громкости не более уровня разговорной речи. Детям легко возбудимым необходимо прослушивать музыку сразу или через 20 - 30 мин. после кормления, а вялым детям, наоборот, до 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3132000" y="620640"/>
            <a:ext cx="2735280" cy="2448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1116000" y="3265560"/>
            <a:ext cx="7343640" cy="25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0" bIns="45000" anchor="t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так, начните день вашего малыша с прослушивания музыки, песен, или сами спойте простую, но мелодичную песенку, поскольку музыкотерапия подразумевает использование как "живого" голоса так и магнитофонной записи. При этом, можно рассказать ребенку о чем или о ком вы поете, тем самым выполняя информационную функцию. Так, ребенок может узнать, что крокодил плывет, носорог идет, а черепашки любят лежать на солныш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2124000" y="2637000"/>
            <a:ext cx="54723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Слушайте музыку с ребенком везде и всегда, как во время уборки, так и в машине, играйте с ребенком в музыкальные игры, заинтересуйте его разными ритмами и новыми звуками и, конечно же, пойте ему колыбельные песни на ночь. И помните - ребенок запоминает только то, что ему интерес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3419640" y="620640"/>
            <a:ext cx="2734920" cy="20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"/>
          <p:cNvSpPr/>
          <p:nvPr/>
        </p:nvSpPr>
        <p:spPr>
          <a:xfrm>
            <a:off x="900000" y="476280"/>
            <a:ext cx="7704360" cy="30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узыкотерап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метод психотерапии, основанный на эмоциональном восприятии музыки. В зависимости от мелодии, ее ритмической основы и исполнения музыка может оказывать самые разнообразные эффекты - от индивидуального ощущения внутренней гармонии и духовного очищения до неуправляемого агрессивного поведения больших человеческих масс. Ее можно использовать для влияния на самочувствие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3060720" y="3860640"/>
            <a:ext cx="3240000" cy="25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"/>
          <p:cNvSpPr/>
          <p:nvPr/>
        </p:nvSpPr>
        <p:spPr>
          <a:xfrm>
            <a:off x="395280" y="981000"/>
            <a:ext cx="799308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Достоинствами музыкотерапии явля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1. Абсолютная безвредно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2. Легкость и простота примен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3. Возможность контрол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4. Уменьшение необходимости применения других лечебных методик, более нагрузочных и отнимающих больше времен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"/>
          <p:cNvSpPr/>
          <p:nvPr/>
        </p:nvSpPr>
        <p:spPr>
          <a:xfrm>
            <a:off x="684360" y="630360"/>
            <a:ext cx="7775280" cy="67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Музыка, может отражать и передава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buClr>
                <a:srgbClr val="000000"/>
              </a:buClr>
              <a:buFont typeface="StarSymbo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НАСТРОЕНИЯ — радость, веселье, бодрость, грусть, нежность, уныние, уверенность, тревог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- ИНТЕЛЛЕКТУАЛЬНЫЕ И ВОЛЕВЫЕ ПРОЦЕССЫ — решительность, энергичность, сдержанность, задумчивость, инертность, безволие, легкомыслие, серьез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buClr>
                <a:srgbClr val="000000"/>
              </a:buClr>
              <a:buFont typeface="StarSymbo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ОБОБЩЕННЫЕ СВОЙСТВА явлений действительности — силу, легкость, продолжительность, направленность, широту, пространственност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- ХАРАКТЕРИСТИКИ ДВИЖЕНИЙ — быстрые, умеренные, медленные, вялые, упругие, порывистые, угловаты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755640" y="907920"/>
            <a:ext cx="770400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«Содержанием музыкотерапии является система разнообразных дифференцированных методов, способов и элементов лечебно-воспитательного воздействия, осуществляемого с помощью активной и рецептивной деятельности» — пишут чешские ученые З.Матейова и С.Машура в книге «Музыкотерапия при заикании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"/>
          <p:cNvSpPr/>
          <p:nvPr/>
        </p:nvSpPr>
        <p:spPr>
          <a:xfrm>
            <a:off x="900000" y="3573360"/>
            <a:ext cx="7488360" cy="26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Музыкой можно просто наслаждаться, можно снимать стрессы, повышать работоспособность, развивать художественные способности и способности к учебе, а самое главное, лечить детей с ограниченными физическими и умственными возможностями, больными на такие болезни как синдром Дауна, ДЦП и друг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2700360" y="333360"/>
            <a:ext cx="309564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"/>
          <p:cNvSpPr/>
          <p:nvPr/>
        </p:nvSpPr>
        <p:spPr>
          <a:xfrm>
            <a:off x="971640" y="1844640"/>
            <a:ext cx="7272360" cy="26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Десять — двенадцать лет назад ученые Института педиатрии РАМН решили найти научное обоснование метода музыкотерапии. А самыми первыми пациентами, которые получали лечение музыкой, стали новорожденные отделения недоношен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2266920" y="2852640"/>
            <a:ext cx="45720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Ребенок может слышать музыку еще в утробе матери и успокаиваться под ее зв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3276720" y="189000"/>
            <a:ext cx="1944720" cy="2592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3132000" y="3932280"/>
            <a:ext cx="2448000" cy="17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"/>
          <p:cNvSpPr/>
          <p:nvPr/>
        </p:nvSpPr>
        <p:spPr>
          <a:xfrm>
            <a:off x="684360" y="512640"/>
            <a:ext cx="741672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ДЕТЯМ возбудимым, беспокойным полезны мелодии в медленном темпе — «адажио», «анданте». Такими бывают обычно вторые части классических сонат, инструментальных концертов. Ни в коем случае нельзя давать маленьким детям слушать музыку через наушники. Наши уши природой приспособлены для рассеянного звука. От направленного звука незрелый мозг может получить акустическую трав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3203640" y="2852640"/>
            <a:ext cx="2735280" cy="3600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3-20T19:17:28Z</dcterms:modified>
  <cp:revision>2</cp:revision>
  <dc:subject/>
  <dc:title>Слайд 1</dc:title>
</cp:coreProperties>
</file>