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lick to move the slide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9339C5-F71F-4A88-A679-F91E7749D1F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8A5015-1D5B-4352-A865-2C65F5B42F6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396C61-5FC1-4B94-B6D7-55265FBC4FC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CEBA6C-7EA1-4141-BF0C-C4C11B07B30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992B62-FFB4-460C-8AAA-4E2D61264FE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6E7032-EBBE-47D2-9BFA-14D682B9DF2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9E959F-7EF0-41EA-8F72-67E3D64C7C3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139362-E336-47FC-BD70-DE5A8C3B571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8701A0-3CF5-4B43-800A-BBBF97D365A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0D1924-759F-4115-986B-D3A737F3E52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EA0BEC-C5F4-4E04-A3A0-A354B9BAB8F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31870E-325D-4AAB-A1F9-A2645FD76D9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96E223-07BE-4244-B5EE-CBA584B536A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A3F6DE-50AA-47F8-8F10-232851225C3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CB15B1-58FF-41A0-B9D9-B6414BE1B34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0358-5EEC-46DD-BF96-AB13F1174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C657-7F34-4977-9F24-C3581686C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20A9-72C0-4096-99B1-26C94F79E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BE0B-8EC1-4EDA-ACBE-EDAA9F71C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76228-0722-48AE-81A4-D45329F18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6FA02-9F67-45C0-8780-DCDF6A6A8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D0877-16E4-4007-9AE1-B0AD024F5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160A5-7C57-4212-9EF4-789E3A76F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02EC8-9114-4671-919A-AC5852280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29B6E-D3AA-4FFB-B4F2-FA5F5CA1F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D090B-79F2-4CF7-928B-46A13B48C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00BA-E22E-4C45-8012-54659AB83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A3F23-DED5-422D-8450-49A263B35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2D7BF-0B22-4DDB-AB59-3A87E3D66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CDD4B-F209-4E15-BD14-83D265C42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CE926-ABCA-4748-AAFE-A28BDEBD7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36D93-4B25-4EB9-A1B8-EDC7D2065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9A24-C80F-49D2-9C5E-9816F8DF0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25BF-1FC1-4DEA-8E06-6BADEB00C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3AAC-2EEF-492A-946C-81305C4DB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8400-F9EC-4D9D-A122-FAFFCE7FB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ABD2-D1FB-4D61-9B31-5149A85D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CFB3-8D5D-4E44-9BE7-BF1BAAB4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5BC5-68B4-494E-89F7-2659C7745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2280" y="1371600"/>
            <a:ext cx="8228160" cy="18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372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8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40620EAE-B6EF-44BD-B72A-07D089E7644A}" type="slidenum">
              <a:rPr b="0" lang="ru-RU" sz="18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fld id="{683DE6B7-3A47-4264-BC1E-CA5F00EC369E}" type="slidenum">
              <a:rPr b="0" lang="ru-RU" sz="18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5"/>
          <p:cNvSpPr/>
          <p:nvPr/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Образец подзагол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372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8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3C733A14-0A2F-4822-A023-0B17FDBEAC88}" type="slidenum">
              <a:rPr b="0" lang="ru-RU" sz="18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fld id="{0E5B5D07-59CB-48AA-81D3-12F5815FAB4B}" type="slidenum">
              <a:rPr b="0" lang="ru-RU" sz="18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Дата 2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"/>
          <p:cNvSpPr/>
          <p:nvPr/>
        </p:nvSpPr>
        <p:spPr>
          <a:xfrm rot="720000">
            <a:off x="409680" y="2384280"/>
            <a:ext cx="8261280" cy="13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Book Antiqua"/>
              </a:rPr>
              <a:t>Музыкотерапи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"/>
          <p:cNvSpPr/>
          <p:nvPr/>
        </p:nvSpPr>
        <p:spPr>
          <a:xfrm>
            <a:off x="611280" y="981000"/>
            <a:ext cx="8136000" cy="48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Мелодия со словами влияет на детей сильнее, чем мелодия без слов. А живое пение — сильнее записанного на диск или кассету инструментального исполнения. А для младенцев с синдромом угнетения, которые плохо сосут, иногда даже неритмично дышат, полезны произведения в темпе «аллегро» и «аллегро модерато» Моцарта, Шуберта, Гайдна… Например: вальсы из балетов Чайковского, «На тройке» из его же «Времен года», «Весна» из «Времен года» Вивальди, а также маршевые мелод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"/>
          <p:cNvSpPr/>
          <p:nvPr/>
        </p:nvSpPr>
        <p:spPr>
          <a:xfrm>
            <a:off x="755640" y="1557360"/>
            <a:ext cx="7559640" cy="35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Музыкотерапия противопоказан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* Младенцам с предрасположенностью к судорогам, при резкой возбудимости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* Детям в тяжелом состоянии, которое сопровождается интоксикацией организм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*     Больным отит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* Детям, у которых резко нарастает внутричерепное давле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"/>
          <p:cNvSpPr/>
          <p:nvPr/>
        </p:nvSpPr>
        <p:spPr>
          <a:xfrm>
            <a:off x="611280" y="620640"/>
            <a:ext cx="7848360" cy="52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При проведении музыкотерапии музыкальные произведения, должны быть высокого качества звучания. Подбором музыкальных произведений занимается врач, который в зависимости от заболевания и его стадии поможет вашему ребенку правильно подобрать музыку, установить продолжительность сеанса и полного курса лечения. Как правило, это от 5 до 15 минут по два-три сеанса на день в течение 7-10 дней. Во время сеанса магнитофон необходимо разместить на расстоянии примерно 1 метра от кроватки и установить уровень громкости не более уровня разговорной речи. Детям легко возбудимым необходимо прослушивать музыку сразу или через 20 - 30 мин. после кормления, а вялым детям, наоборот, до 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" descr=""/>
          <p:cNvPicPr/>
          <p:nvPr/>
        </p:nvPicPr>
        <p:blipFill>
          <a:blip r:embed="rId1"/>
          <a:stretch/>
        </p:blipFill>
        <p:spPr>
          <a:xfrm>
            <a:off x="3132000" y="620640"/>
            <a:ext cx="2735280" cy="24480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2"/>
          <p:cNvSpPr/>
          <p:nvPr/>
        </p:nvSpPr>
        <p:spPr>
          <a:xfrm>
            <a:off x="1116000" y="3265560"/>
            <a:ext cx="7343640" cy="25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0" bIns="45000" anchor="t">
            <a:noAutofit/>
          </a:bodyPr>
          <a:p>
            <a:pPr algn="just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так, начните день вашего малыша с прослушивания музыки, песен, или сами спойте простую, но мелодичную песенку, поскольку музыкотерапия подразумевает использование как "живого" голоса так и магнитофонной записи. При этом, можно рассказать ребенку о чем или о ком вы поете, тем самым выполняя информационную функцию. Так, ребенок может узнать, что крокодил плывет, носорог идет, а черепашки любят лежать на солныш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"/>
          <p:cNvSpPr/>
          <p:nvPr/>
        </p:nvSpPr>
        <p:spPr>
          <a:xfrm>
            <a:off x="2124000" y="2637000"/>
            <a:ext cx="547236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Слушайте музыку с ребенком везде и всегда, как во время уборки, так и в машине, играйте с ребенком в музыкальные игры, заинтересуйте его разными ритмами и новыми звуками и, конечно же, пойте ему колыбельные песни на ночь. И помните - ребенок запоминает только то, что ему интерес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3419640" y="620640"/>
            <a:ext cx="2734920" cy="20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"/>
          <p:cNvSpPr/>
          <p:nvPr/>
        </p:nvSpPr>
        <p:spPr>
          <a:xfrm>
            <a:off x="900000" y="476280"/>
            <a:ext cx="7704360" cy="30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t">
            <a:noAutofit/>
          </a:bodyPr>
          <a:p>
            <a:pPr algn="just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узыкотерапи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метод психотерапии, основанный на эмоциональном восприятии музыки. В зависимости от мелодии, ее ритмической основы и исполнения музыка может оказывать самые разнообразные эффекты - от индивидуального ощущения внутренней гармонии и духовного очищения до неуправляемого агрессивного поведения больших человеческих масс. Ее можно использовать для влияния на самочувствие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3060720" y="3860640"/>
            <a:ext cx="3240000" cy="25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"/>
          <p:cNvSpPr/>
          <p:nvPr/>
        </p:nvSpPr>
        <p:spPr>
          <a:xfrm>
            <a:off x="395280" y="981000"/>
            <a:ext cx="7993080" cy="43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Достоинствами музыкотерапии являю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1. Абсолютная безвредность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2. Легкость и простота применен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3. Возможность контрол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4. Уменьшение необходимости применения других лечебных методик, более нагрузочных и отнимающих больше времен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"/>
          <p:cNvSpPr/>
          <p:nvPr/>
        </p:nvSpPr>
        <p:spPr>
          <a:xfrm>
            <a:off x="684360" y="630360"/>
            <a:ext cx="7775280" cy="67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Музыка, может отражать и передават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buClr>
                <a:srgbClr val="000000"/>
              </a:buClr>
              <a:buFont typeface="StarSymbol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НАСТРОЕНИЯ — радость, веселье, бодрость, грусть, нежность, уныние, уверенность, тревог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- ИНТЕЛЛЕКТУАЛЬНЫЕ И ВОЛЕВЫЕ ПРОЦЕССЫ — решительность, энергичность, сдержанность, задумчивость, инертность, безволие, легкомыслие, серьез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buClr>
                <a:srgbClr val="000000"/>
              </a:buClr>
              <a:buFont typeface="StarSymbol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ОБОБЩЕННЫЕ СВОЙСТВА явлений действительности — силу, легкость, продолжительность, направленность, широту, пространственность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- ХАРАКТЕРИСТИКИ ДВИЖЕНИЙ — быстрые, умеренные, медленные, вялые, упругие, порывистые, угловаты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"/>
          <p:cNvSpPr/>
          <p:nvPr/>
        </p:nvSpPr>
        <p:spPr>
          <a:xfrm>
            <a:off x="755640" y="907920"/>
            <a:ext cx="770400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«Содержанием музыкотерапии является система разнообразных дифференцированных методов, способов и элементов лечебно-воспитательного воздействия, осуществляемого с помощью активной и рецептивной деятельности» — пишут чешские ученые З.Матейова и С.Машура в книге «Музыкотерапия при заикании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"/>
          <p:cNvSpPr/>
          <p:nvPr/>
        </p:nvSpPr>
        <p:spPr>
          <a:xfrm>
            <a:off x="900000" y="3573360"/>
            <a:ext cx="7488360" cy="26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Музыкой можно просто наслаждаться, можно снимать стрессы, повышать работоспособность, развивать художественные способности и способности к учебе, а самое главное, лечить детей с ограниченными физическими и умственными возможностями, больными на такие болезни как синдром Дауна, ДЦП и друг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2700360" y="333360"/>
            <a:ext cx="309564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"/>
          <p:cNvSpPr/>
          <p:nvPr/>
        </p:nvSpPr>
        <p:spPr>
          <a:xfrm>
            <a:off x="971640" y="1844640"/>
            <a:ext cx="7272360" cy="26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Десять — двенадцать лет назад ученые Института педиатрии РАМН решили найти научное обоснование метода музыкотерапии. А самыми первыми пациентами, которые получали лечение музыкой, стали новорожденные отделения недоношенны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"/>
          <p:cNvSpPr/>
          <p:nvPr/>
        </p:nvSpPr>
        <p:spPr>
          <a:xfrm>
            <a:off x="2266920" y="2852640"/>
            <a:ext cx="45720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Ребенок может слышать музыку еще в утробе матери и успокаиваться под ее зву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3276720" y="189000"/>
            <a:ext cx="1944720" cy="2592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"/>
          <p:cNvPicPr/>
          <p:nvPr/>
        </p:nvPicPr>
        <p:blipFill>
          <a:blip r:embed="rId2"/>
          <a:stretch/>
        </p:blipFill>
        <p:spPr>
          <a:xfrm>
            <a:off x="3132000" y="3932280"/>
            <a:ext cx="2448000" cy="17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"/>
          <p:cNvSpPr/>
          <p:nvPr/>
        </p:nvSpPr>
        <p:spPr>
          <a:xfrm>
            <a:off x="684360" y="512640"/>
            <a:ext cx="741672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ДЕТЯМ возбудимым, беспокойным полезны мелодии в медленном темпе — «адажио», «анданте». Такими бывают обычно вторые части классических сонат, инструментальных концертов. Ни в коем случае нельзя давать маленьким детям слушать музыку через наушники. Наши уши природой приспособлены для рассеянного звука. От направленного звука незрелый мозг может получить акустическую травм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3203640" y="2852640"/>
            <a:ext cx="2735280" cy="3600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3-20T19:17:28Z</dcterms:modified>
  <cp:revision>2</cp:revision>
  <dc:subject/>
  <dc:title>Слайд 1</dc:title>
</cp:coreProperties>
</file>