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2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FBD-7F84-4311-BFBE-988000DD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1BA-0A89-44CE-A05C-4BCF116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352-1E9F-4362-BB7F-7E536447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4A3-909D-413D-AEE4-298B9BC0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0A16-51C0-4A6E-9467-2F07A898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1C40-D809-4728-8D19-AC3F3DFB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7DC7-DD95-4CD4-BADE-AA32575A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A294-1A85-40BC-A1A7-98F22882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9849-70E1-4D25-801C-E42AB78D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006D-BAF6-4D53-B968-534A352D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96A4-DACA-45BA-9A1E-682F786A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50A-ABB4-4F77-A120-1669C56D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1B67-1FB5-45DA-A25B-5E926EC6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00C8-BD3B-48EF-979B-F0E0E57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43E0-1027-420B-B256-5874D9DE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9E93-87EF-4985-86AB-BC959289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E9F6-0589-4CF8-915F-56E57CC7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E192-C884-445E-A0FD-3020762C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97E8-4F80-4533-88E3-D7E9200D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6CA5-6B27-413D-AF4C-83A322A1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7BDF-F949-4EAB-85ED-EA59B8F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208D-EBB7-44EB-B833-48A1C98F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AA3-D9BB-41CF-9699-BD69BBF8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F2BA-C6D3-4C56-9C5C-CB4B8A85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391F-6672-4120-9B44-07372174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7F8C-DA4D-4EFF-B324-E4AE1ABC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1599-5AA0-4784-A8F4-07BA653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9FE2-6388-4845-B889-06F69D19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182D-9DFD-493C-8C22-A534CE7D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EF94-9742-4D53-9FA9-AD7CC9C3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A771A-1B6B-4B2D-AC1B-A5A67FB2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7404-D87C-4CD7-9EF7-B37A867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8238-13CE-4E0A-B9E5-A1457128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1D3-980F-47A1-82B6-52832042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ACC8-812F-4A50-9428-1C7E1CF1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2B76-7842-4D21-B81E-B666DF4C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9DA37-8B1C-4229-8F86-CB80638C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E6B37-5D49-4EE0-96CE-575D39F1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F862-0789-45C7-8DFE-162BC1A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1E68-EEAD-4355-8871-E9FEA226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8557-F21E-4A26-959B-8BE9F382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3120-DF4D-445B-AEC1-0F1CE1E4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AE9E-2CEF-4479-87FD-7DFA6D8B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0440-B4A6-4F2F-9A84-2257EACD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A2A-4533-4656-AF2B-558FEBA4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9537-163F-4407-9875-42F440AA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96297-5DCA-43F1-8967-187E4463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746D-0AE7-4663-A86D-539E7576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9131E-CD99-4F35-A3F5-CD8271AA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40768-9945-4310-A58B-BDC0E20C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3C1D1-0CB7-4831-A9DA-400B003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14FA5-A17F-4F3C-A38E-4683CF9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A0A1-F3AF-4CA3-B3C9-B42FA5E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9267-6A96-4548-84D2-4593DD6E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04E47-3F55-4E74-A43D-2C223D30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68E-0753-43F0-ADE1-2751724C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C088C-AC4E-4D0A-BF60-80EBD2D2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B19-F17A-4982-8DCE-E9EF581F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AE5-CDE3-4AAE-8399-A566CA8F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13D-5186-40B2-B920-F42C973F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EAD1-5B55-4AA7-909D-81F7B0C5FA9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A003-7A4D-49FF-8ABF-1096CCC1B01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A97-9BFB-40FE-8082-928EEBB6DAD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B51C-F40C-47EC-8D9C-C8F61E24AF8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8D1E-DCD2-4CE4-8FA1-51E062C3859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" Target="slide10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1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7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38.jpeg"/><Relationship Id="rId6" Type="http://schemas.openxmlformats.org/officeDocument/2006/relationships/image" Target="../media/image23.jpeg"/><Relationship Id="rId7" Type="http://schemas.openxmlformats.org/officeDocument/2006/relationships/image" Target="../media/image39.jpeg"/><Relationship Id="rId8" Type="http://schemas.openxmlformats.org/officeDocument/2006/relationships/image" Target="../media/image40.png"/><Relationship Id="rId9" Type="http://schemas.openxmlformats.org/officeDocument/2006/relationships/image" Target="../media/image22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1.jpeg"/><Relationship Id="rId4" Type="http://schemas.openxmlformats.org/officeDocument/2006/relationships/image" Target="../media/image23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4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6.xml"/><Relationship Id="rId5" Type="http://schemas.openxmlformats.org/officeDocument/2006/relationships/image" Target="../media/image13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" Target="slide7.xm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" Target="slide8.xml"/><Relationship Id="rId6" Type="http://schemas.openxmlformats.org/officeDocument/2006/relationships/image" Target="../media/image17.jpeg"/><Relationship Id="rId7" Type="http://schemas.openxmlformats.org/officeDocument/2006/relationships/slide" Target="slide8.xml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image" Target="../media/image20.jpeg"/><Relationship Id="rId14" Type="http://schemas.openxmlformats.org/officeDocument/2006/relationships/slide" Target="slide8.xml"/><Relationship Id="rId15" Type="http://schemas.openxmlformats.org/officeDocument/2006/relationships/image" Target="../media/image18.jpeg"/><Relationship Id="rId16" Type="http://schemas.openxmlformats.org/officeDocument/2006/relationships/slide" Target="slide8.xml"/><Relationship Id="rId17" Type="http://schemas.openxmlformats.org/officeDocument/2006/relationships/image" Target="../media/image20.jpeg"/><Relationship Id="rId18" Type="http://schemas.openxmlformats.org/officeDocument/2006/relationships/slide" Target="slide8.xml"/><Relationship Id="rId19" Type="http://schemas.openxmlformats.org/officeDocument/2006/relationships/image" Target="../media/image19.jpeg"/><Relationship Id="rId20" Type="http://schemas.openxmlformats.org/officeDocument/2006/relationships/slide" Target="slide8.xml"/><Relationship Id="rId21" Type="http://schemas.openxmlformats.org/officeDocument/2006/relationships/image" Target="../media/image17.jpeg"/><Relationship Id="rId22" Type="http://schemas.openxmlformats.org/officeDocument/2006/relationships/slide" Target="slide8.xml"/><Relationship Id="rId23" Type="http://schemas.openxmlformats.org/officeDocument/2006/relationships/image" Target="../media/image21.jpeg"/><Relationship Id="rId24" Type="http://schemas.openxmlformats.org/officeDocument/2006/relationships/slide" Target="slide8.xml"/><Relationship Id="rId25" Type="http://schemas.openxmlformats.org/officeDocument/2006/relationships/image" Target="../media/image22.jpe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639880" y="530280"/>
            <a:ext cx="648036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мелодия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ArtGobelen"/>
          <p:cNvPicPr/>
          <p:nvPr/>
        </p:nvPicPr>
        <p:blipFill>
          <a:blip r:embed="rId2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kustodi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3059280" cy="35258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0" y="40053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собыми темами в творчестве Кустодиева стали «ярмарки», «праздники», «купчихи», «русские Венеры», изображенные с юмором и добродушием, а также театрализованно-романтические живописные полотна, представляющие идеализированную, «придуманную» русскую жизнь. Кустодиев смело «мешал все стили и жанры»: портрет и волжские пейзажи, сказочные фантазии, гротеск, истинную монументальность и карикатуру, широту декоративного чувства и педантичную «этнографию», о нем часто говорят — щедрый, счастливый талант, искренний, темпераментный, любвеобильный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50920" y="189000"/>
            <a:ext cx="5400720" cy="3811680"/>
          </a:xfrm>
          <a:prstGeom prst="foldedCorner">
            <a:avLst>
              <a:gd name="adj" fmla="val 125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50920" y="260280"/>
            <a:ext cx="532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Bradley Hand ITC"/>
              </a:rPr>
              <a:t>«Меня называют натуралистом, — сказал однажды художник, — какая глупость! Ведь все мои картины сплошная иллюзия!.. Мои картины я никогда не пишу с натуры, это все плод моего воображения, фант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Bradley Hand ITC"/>
              </a:rPr>
              <a:t>Их называют "натуралистическими" только потому, что они производят впечатление действительной жизни, которую, однако, я сам никогда не видел и которая никогда не существова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2" descr="ArtKinov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-96840" y="-30240"/>
            <a:ext cx="9277200" cy="1457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image0016"/>
          <p:cNvPicPr/>
          <p:nvPr/>
        </p:nvPicPr>
        <p:blipFill>
          <a:blip r:embed="rId3"/>
          <a:stretch/>
        </p:blipFill>
        <p:spPr>
          <a:xfrm>
            <a:off x="3419640" y="2060640"/>
            <a:ext cx="1823760" cy="3570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image0017"/>
          <p:cNvPicPr/>
          <p:nvPr/>
        </p:nvPicPr>
        <p:blipFill>
          <a:blip r:embed="rId4"/>
          <a:stretch/>
        </p:blipFill>
        <p:spPr>
          <a:xfrm>
            <a:off x="2843280" y="1700280"/>
            <a:ext cx="3058920" cy="4027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mage0014"/>
          <p:cNvPicPr/>
          <p:nvPr/>
        </p:nvPicPr>
        <p:blipFill>
          <a:blip r:embed="rId5"/>
          <a:stretch/>
        </p:blipFill>
        <p:spPr>
          <a:xfrm>
            <a:off x="2627280" y="1844640"/>
            <a:ext cx="4098960" cy="3170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image0015"/>
          <p:cNvPicPr/>
          <p:nvPr/>
        </p:nvPicPr>
        <p:blipFill>
          <a:blip r:embed="rId6"/>
          <a:stretch/>
        </p:blipFill>
        <p:spPr>
          <a:xfrm>
            <a:off x="2556000" y="1700280"/>
            <a:ext cx="3944880" cy="3957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image0015"/>
          <p:cNvPicPr/>
          <p:nvPr/>
        </p:nvPicPr>
        <p:blipFill>
          <a:blip r:embed="rId7"/>
          <a:stretch/>
        </p:blipFill>
        <p:spPr>
          <a:xfrm>
            <a:off x="6372360" y="1700280"/>
            <a:ext cx="1795320" cy="1800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image0014"/>
          <p:cNvPicPr/>
          <p:nvPr/>
        </p:nvPicPr>
        <p:blipFill>
          <a:blip r:embed="rId8"/>
          <a:stretch/>
        </p:blipFill>
        <p:spPr>
          <a:xfrm>
            <a:off x="468360" y="1700280"/>
            <a:ext cx="2098800" cy="1623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image0017"/>
          <p:cNvPicPr/>
          <p:nvPr/>
        </p:nvPicPr>
        <p:blipFill>
          <a:blip r:embed="rId9"/>
          <a:stretch/>
        </p:blipFill>
        <p:spPr>
          <a:xfrm>
            <a:off x="4356000" y="1989000"/>
            <a:ext cx="93672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image0016"/>
          <p:cNvPicPr/>
          <p:nvPr/>
        </p:nvPicPr>
        <p:blipFill>
          <a:blip r:embed="rId10"/>
          <a:stretch/>
        </p:blipFill>
        <p:spPr>
          <a:xfrm>
            <a:off x="2916360" y="1989000"/>
            <a:ext cx="925560" cy="18129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3"/>
          <p:cNvSpPr/>
          <p:nvPr/>
        </p:nvSpPr>
        <p:spPr>
          <a:xfrm>
            <a:off x="250920" y="4985280"/>
            <a:ext cx="856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4" descr="image0012"/>
          <p:cNvPicPr/>
          <p:nvPr/>
        </p:nvPicPr>
        <p:blipFill>
          <a:blip r:embed="rId11"/>
          <a:stretch/>
        </p:blipFill>
        <p:spPr>
          <a:xfrm>
            <a:off x="324000" y="260280"/>
            <a:ext cx="5133960" cy="60102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5"/>
          <p:cNvSpPr/>
          <p:nvPr/>
        </p:nvSpPr>
        <p:spPr>
          <a:xfrm>
            <a:off x="5003640" y="1506600"/>
            <a:ext cx="414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собое место в коллекции произведений Б.М. Кустодиева занимает его последняя большая картина "Русская Венера" (1925 - 1926). В образе пышнотелой золотоволосой молодой женщины художник воплощает свои представления о красоте русского национального типа. Это тип красоты изобильной, полнокровной, пышущей здоровьем, однако искреннее восхищение художника ею не лишено мягкой иронии. Немаловажную роль в картине выполняют и привычные элементы его живописи: натюрморт с яркой цветастой шалью и солнечный зимний городской пейзаж за ок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Track No14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5" nodeType="afterEffect" fill="hold" presetClass="exit" presetID="2" presetSubtype="6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3" nodeType="afterEffect" fill="hold" presetClass="exit" presetID="55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25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75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2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3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5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еизменно привлекает симпатии зрителя и образ кустодиевской «Красавицы». Есть неповторимая прелесть и своеобразная грация в изображении сидящей на сундуке полной белокурой женщины с лукавым и безмятежным лицом. В неуклюжей и смешной позе — наивность и целомудренная чистота, в лице — доброта и мягкость. Кустодиеву удалось сочетать лучшие традиции мировой живописи в изображении обнаженной модели с очень «своим», очень русским идеалом красоты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олотисто-розоватые тона, в которых написано тело, спорят по свежести и сиянию красок с богатым атласным одеялом красавицы. В окружении розанов, изображенных на сундуке и на обоях, молодая женщина во всей красе свежести и здоровья сама напоминает пышно расцветший цветок. Каждая деталь обстановки, включая фарфоровые фигурки перед зеркалом, рассказывает внимательному зрителю о немудреных вкусах хозяйки, о типическом, «мещанском» быт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5" descr="image0014"/>
          <p:cNvPicPr/>
          <p:nvPr/>
        </p:nvPicPr>
        <p:blipFill>
          <a:blip r:embed="rId2"/>
          <a:stretch/>
        </p:blipFill>
        <p:spPr>
          <a:xfrm>
            <a:off x="826920" y="620640"/>
            <a:ext cx="7401240" cy="5724720"/>
          </a:xfrm>
          <a:prstGeom prst="rect">
            <a:avLst/>
          </a:prstGeom>
          <a:ln w="0">
            <a:noFill/>
          </a:ln>
        </p:spPr>
      </p:pic>
      <p:sp>
        <p:nvSpPr>
          <p:cNvPr id="290" name="WordArt 21"/>
          <p:cNvSpPr txBox="1"/>
          <p:nvPr/>
        </p:nvSpPr>
        <p:spPr>
          <a:xfrm>
            <a:off x="1116000" y="1773360"/>
            <a:ext cx="655308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деал красо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91" name="Track No02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xit" presetID="2" presetSubtype="1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0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306440" cy="12607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1692360" y="333360"/>
            <a:ext cx="74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ие цветы на обоях, равно как и цветы, которыми расписан сундук, ассоциируются с цветущим возрастом здоровой красивой женщины. Все героини Кустодиева этого ряда глядятся сестрами - они молоды, здоровы, "финансово достаточны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1400400" cy="12697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1763640" y="2205000"/>
            <a:ext cx="73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 "красавицы" таит странное выражение, что вообще характерно для кустодиевских героинь этого ряда (или, если угодно, "цикла"). Оно безмятежно и вместе с тем лукаво; героиня глядит на зрителя, ничуть не смущаясь своей наготы, словно понимая, что главная драгоценность здесь - это 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4"/>
          <a:stretch/>
        </p:blipFill>
        <p:spPr>
          <a:xfrm>
            <a:off x="250920" y="4581360"/>
            <a:ext cx="1349280" cy="1258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1908000" y="4508640"/>
            <a:ext cx="72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ховое нежно-розовое одеяло (и чистые кружевные наволочки на подушках) - примета купеческого мира, любящего уют, комфорт и тепло. Таким образом, в социальном смысле героиня полотна атрибутируется без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 thruBlk="true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0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1349640" cy="12589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1619280" y="189000"/>
            <a:ext cx="75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м тела "красавицы" свойственна округлость - в героине полотна, в отличие от многих других персонажей тогдашней живописи, нет ничего резкого, изломанного, кричащего. Причем это, если можно так выразиться, гибкая округлость - обратите внимание на неестественно согнутую в локте руку. Вообще, несколько неуклюжая поза "красавицы" "рифмуется" с целомудренной чист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3"/>
          <a:stretch/>
        </p:blipFill>
        <p:spPr>
          <a:xfrm>
            <a:off x="250920" y="2492280"/>
            <a:ext cx="1349280" cy="1260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7"/>
          <p:cNvSpPr/>
          <p:nvPr/>
        </p:nvSpPr>
        <p:spPr>
          <a:xfrm>
            <a:off x="1619280" y="2349360"/>
            <a:ext cx="75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но выписанные крохотные ступни - в сочетании с полным телом и определенной "дебелостью" - рождают ощущение хрупкости героини, что еще больше "идеализирует" ее образ, которому свойственны странная грация и неповторимая прел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4"/>
          <a:stretch/>
        </p:blipFill>
        <p:spPr>
          <a:xfrm>
            <a:off x="250920" y="4581360"/>
            <a:ext cx="1396800" cy="12830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9"/>
          <p:cNvSpPr/>
          <p:nvPr/>
        </p:nvSpPr>
        <p:spPr>
          <a:xfrm>
            <a:off x="1692360" y="465300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ь интерьер - и, прежде всего, огромный кованый и ярко расписанный сундук - является своеобразной "рамой" для героини, свидетельствуя о достатке, устойчивости и размеренности ее существ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1" descr="image0014"/>
          <p:cNvPicPr/>
          <p:nvPr/>
        </p:nvPicPr>
        <p:blipFill>
          <a:blip r:embed="rId5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Stravinskiy_petrushka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8" name="Track No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Track No1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ArtKinovar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kustodiev25"/>
          <p:cNvPicPr/>
          <p:nvPr/>
        </p:nvPicPr>
        <p:blipFill>
          <a:blip r:embed="rId5"/>
          <a:stretch/>
        </p:blipFill>
        <p:spPr>
          <a:xfrm>
            <a:off x="4643280" y="2060640"/>
            <a:ext cx="4300560" cy="361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Масленница 1916"/>
          <p:cNvPicPr/>
          <p:nvPr/>
        </p:nvPicPr>
        <p:blipFill>
          <a:blip r:embed="rId6"/>
          <a:stretch/>
        </p:blipFill>
        <p:spPr>
          <a:xfrm>
            <a:off x="395280" y="2060640"/>
            <a:ext cx="8024760" cy="369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балаганы 1917"/>
          <p:cNvPicPr/>
          <p:nvPr/>
        </p:nvPicPr>
        <p:blipFill>
          <a:blip r:embed="rId7"/>
          <a:stretch/>
        </p:blipFill>
        <p:spPr>
          <a:xfrm>
            <a:off x="324000" y="2060640"/>
            <a:ext cx="4195440" cy="361800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2" descr=""/>
          <p:cNvPicPr/>
          <p:nvPr/>
        </p:nvPicPr>
        <p:blipFill>
          <a:blip r:embed="rId8"/>
          <a:stretch/>
        </p:blipFill>
        <p:spPr>
          <a:xfrm>
            <a:off x="-96840" y="-66600"/>
            <a:ext cx="9320040" cy="1730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ярмарка 1908"/>
          <p:cNvPicPr/>
          <p:nvPr/>
        </p:nvPicPr>
        <p:blipFill>
          <a:blip r:embed="rId9"/>
          <a:stretch/>
        </p:blipFill>
        <p:spPr>
          <a:xfrm>
            <a:off x="1403280" y="1700280"/>
            <a:ext cx="6388200" cy="42876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9"/>
          <p:cNvSpPr/>
          <p:nvPr/>
        </p:nvSpPr>
        <p:spPr>
          <a:xfrm>
            <a:off x="0" y="1844640"/>
            <a:ext cx="91440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еобычайная зоркость Кустодиева к русскому быту сказывается и в жизни. Когда он начинает вспоминать то шумные деревенские базары, то вербную толкучку, то масленичное обжорство и лихую удаль и проч., с восторгом, наперерыв, приводя мельчайшие подробности, он весь преображается, — и перед собеседником тогда оживают те же знакомые кустодиевские мотивы, от которых веет своеобразной поэзие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Во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592080" y="580536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аслен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1200600" y="595008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ла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3564000" y="6216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Ярм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9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Track No11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1"/>
          <p:cNvSpPr/>
          <p:nvPr/>
        </p:nvSpPr>
        <p:spPr>
          <a:xfrm>
            <a:off x="5600160" y="595008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асленичное гул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19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6" nodeType="afterEffect" fill="hold" presetClass="exit" presetID="12" presetSubtype="8">
                                  <p:stCondLst>
                                    <p:cond delay="80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17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2" presetSubtype="2">
                                  <p:stCondLst>
                                    <p:cond delay="8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2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5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7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7" nodeType="afterEffect" fill="hold" presetClass="exit" presetID="23" presetSubtype="3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rack No09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3" name="Track No0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ArtMaslenica"/>
          <p:cNvPicPr/>
          <p:nvPr/>
        </p:nvPicPr>
        <p:blipFill>
          <a:blip r:embed="rId3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image001"/>
          <p:cNvPicPr/>
          <p:nvPr/>
        </p:nvPicPr>
        <p:blipFill>
          <a:blip r:embed="rId4"/>
          <a:stretch/>
        </p:blipFill>
        <p:spPr>
          <a:xfrm>
            <a:off x="826920" y="1700280"/>
            <a:ext cx="7162920" cy="329544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2" descr=""/>
          <p:cNvPicPr/>
          <p:nvPr/>
        </p:nvPicPr>
        <p:blipFill>
          <a:blip r:embed="rId5"/>
          <a:stretch/>
        </p:blipFill>
        <p:spPr>
          <a:xfrm>
            <a:off x="-79200" y="85680"/>
            <a:ext cx="9242280" cy="1809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-252360" y="4868640"/>
            <a:ext cx="9648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 этой околдованной чарами инея и заходящего солнца стране все пронизано движением: мчатся тройки, мелькают пятна ярких красок, переливается множеством оттенков снег. Энергия движения и радость жизни словно стремятся расколдовать холодное царство зимы. Закатные лучи, растворяясь в морозном мареве, приобретают эмалевое свечение. Художнику одинаково дороги шатры церквей и шатры каруселей. Для него это — олицетворение единой стихии народной жизни, наиболее ярко выразившейся в праздновании масленицы. Кустодиев говорил: «Церковь в моей картине — моя подпись, ведь это так характерно для России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25000"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486" dur="5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8" descr="ArtMaslenica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устодиевская живопись и музыкальна, и литературна. Словно песня, льется рассказ о жизни красивой и сказочно изобильной. Его герои с наивной откровенностью демонстрируют зрителям себя, свой дом, свои привычки и вкусы; бесхитростно повествуют о своей незамысловатой жизни: что они едят и покупают на ярмарке, как пьют чай, спят, ходят в баню, торгуют в лавочках, катаются на тройках, веселятся в балаганах, ухаживают, женятся, умирают, каковы, наконец, их взаимоотношения с бог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6858000" cy="2247840"/>
          </a:xfrm>
          <a:prstGeom prst="rect">
            <a:avLst/>
          </a:prstGeom>
          <a:ln w="0">
            <a:noFill/>
          </a:ln>
        </p:spPr>
      </p:pic>
      <p:pic>
        <p:nvPicPr>
          <p:cNvPr id="331" name="09 Вариации на темы русских песен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8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3970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В 1911 году А. Бенуа писал о Кустодиеве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radley Hand ITC"/>
              </a:rPr>
              <a:t>«</a:t>
            </a:r>
            <a:r>
              <a:rPr b="1" i="1" lang="ru-RU" sz="2400" spc="-1" strike="noStrike">
                <a:solidFill>
                  <a:srgbClr val="ffffff"/>
                </a:solidFill>
                <a:latin typeface="Bradley Hand ITC"/>
              </a:rPr>
              <a:t>Мне кажется, что настоящий Кустодиев — это русская ярмарка, пестрятина, "глазастые" ситцы, варварская драка красок, русский посад и русское село с их гармониками, пряниками, расфуфыренными девками и лихими парнями...».</a:t>
            </a:r>
            <a:r>
              <a:rPr b="1" i="1" lang="ru-RU" sz="18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4" name="Picture 4" descr="ярмарка 1910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 thruBlk="true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5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Масленница 1919"/>
          <p:cNvPicPr/>
          <p:nvPr/>
        </p:nvPicPr>
        <p:blipFill>
          <a:blip r:embed="rId2"/>
          <a:stretch/>
        </p:blipFill>
        <p:spPr>
          <a:xfrm>
            <a:off x="4572000" y="1413000"/>
            <a:ext cx="4572000" cy="3333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портрет Шаляпина 1922"/>
          <p:cNvPicPr/>
          <p:nvPr/>
        </p:nvPicPr>
        <p:blipFill>
          <a:blip r:embed="rId3"/>
          <a:stretch/>
        </p:blipFill>
        <p:spPr>
          <a:xfrm>
            <a:off x="0" y="0"/>
            <a:ext cx="4572000" cy="5686560"/>
          </a:xfrm>
          <a:prstGeom prst="rect">
            <a:avLst/>
          </a:prstGeom>
          <a:ln w="0">
            <a:noFill/>
          </a:ln>
        </p:spPr>
      </p:pic>
      <p:sp>
        <p:nvSpPr>
          <p:cNvPr id="338" name="WordArt 8"/>
          <p:cNvSpPr txBox="1"/>
          <p:nvPr/>
        </p:nvSpPr>
        <p:spPr>
          <a:xfrm>
            <a:off x="1979640" y="4797360"/>
            <a:ext cx="23907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ортрет Шаляпин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9" name="WordArt 9"/>
          <p:cNvSpPr txBox="1"/>
          <p:nvPr/>
        </p:nvSpPr>
        <p:spPr>
          <a:xfrm>
            <a:off x="7524720" y="3860640"/>
            <a:ext cx="14763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аслен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10336 L 0.00208 0.31307 E">
                                      <p:cBhvr>
                                        <p:cTn id="532" dur="5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1116000" y="920520"/>
            <a:ext cx="66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Не знаю, удалось ли мне сделат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 выразить в моих вещах то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что я хотел - любовь к жизни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адость и бодpость,любов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к своему русскому. Это было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гда единственным "сюжетом"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моих картин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Кустодиев Б.М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8" descr="ArtIndigo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прогулка верхом"/>
          <p:cNvPicPr/>
          <p:nvPr/>
        </p:nvPicPr>
        <p:blipFill>
          <a:blip r:embed="rId2"/>
          <a:stretch/>
        </p:blipFill>
        <p:spPr>
          <a:xfrm>
            <a:off x="179280" y="260280"/>
            <a:ext cx="5238720" cy="42102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ярмарка на Волге 1909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591000"/>
          </a:xfrm>
          <a:prstGeom prst="rect">
            <a:avLst/>
          </a:prstGeom>
          <a:ln w="0">
            <a:noFill/>
          </a:ln>
        </p:spPr>
      </p:pic>
      <p:sp>
        <p:nvSpPr>
          <p:cNvPr id="343" name="WordArt 9"/>
          <p:cNvSpPr txBox="1"/>
          <p:nvPr/>
        </p:nvSpPr>
        <p:spPr>
          <a:xfrm>
            <a:off x="6156360" y="5589720"/>
            <a:ext cx="226692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Ярмарка на Волг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WordArt 10"/>
          <p:cNvSpPr txBox="1"/>
          <p:nvPr/>
        </p:nvSpPr>
        <p:spPr>
          <a:xfrm>
            <a:off x="324000" y="476280"/>
            <a:ext cx="218124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огулка верхом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8" name="Picture 4" descr="трактирщик"/>
          <p:cNvPicPr/>
          <p:nvPr/>
        </p:nvPicPr>
        <p:blipFill>
          <a:blip r:embed="rId2"/>
          <a:stretch/>
        </p:blipFill>
        <p:spPr>
          <a:xfrm>
            <a:off x="3492360" y="260280"/>
            <a:ext cx="5238720" cy="6372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извозчик за чаем"/>
          <p:cNvPicPr/>
          <p:nvPr/>
        </p:nvPicPr>
        <p:blipFill>
          <a:blip r:embed="rId3"/>
          <a:stretch/>
        </p:blipFill>
        <p:spPr>
          <a:xfrm>
            <a:off x="324000" y="189000"/>
            <a:ext cx="5162400" cy="6495840"/>
          </a:xfrm>
          <a:prstGeom prst="rect">
            <a:avLst/>
          </a:prstGeom>
          <a:ln w="0">
            <a:noFill/>
          </a:ln>
        </p:spPr>
      </p:pic>
      <p:sp>
        <p:nvSpPr>
          <p:cNvPr id="350" name="WordArt 7"/>
          <p:cNvSpPr txBox="1"/>
          <p:nvPr/>
        </p:nvSpPr>
        <p:spPr>
          <a:xfrm>
            <a:off x="395280" y="5084640"/>
            <a:ext cx="22096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Извозчик за чаем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1" name="WordArt 8"/>
          <p:cNvSpPr txBox="1"/>
          <p:nvPr/>
        </p:nvSpPr>
        <p:spPr>
          <a:xfrm>
            <a:off x="6732720" y="5661000"/>
            <a:ext cx="15811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Трактирщик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8" descr="ArtIndigo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портрет дочери"/>
          <p:cNvPicPr/>
          <p:nvPr/>
        </p:nvPicPr>
        <p:blipFill>
          <a:blip r:embed="rId2"/>
          <a:stretch/>
        </p:blipFill>
        <p:spPr>
          <a:xfrm>
            <a:off x="5292720" y="260280"/>
            <a:ext cx="3371760" cy="5081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портрет жены художника"/>
          <p:cNvPicPr/>
          <p:nvPr/>
        </p:nvPicPr>
        <p:blipFill>
          <a:blip r:embed="rId3"/>
          <a:stretch/>
        </p:blipFill>
        <p:spPr>
          <a:xfrm>
            <a:off x="468360" y="1773360"/>
            <a:ext cx="4098960" cy="4327560"/>
          </a:xfrm>
          <a:prstGeom prst="rect">
            <a:avLst/>
          </a:prstGeom>
          <a:ln w="0">
            <a:noFill/>
          </a:ln>
        </p:spPr>
      </p:pic>
      <p:sp>
        <p:nvSpPr>
          <p:cNvPr id="355" name="WordArt 12"/>
          <p:cNvSpPr txBox="1"/>
          <p:nvPr/>
        </p:nvSpPr>
        <p:spPr>
          <a:xfrm>
            <a:off x="1258920" y="5300640"/>
            <a:ext cx="29527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ртрет жены худож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6" name="WordArt 13"/>
          <p:cNvSpPr txBox="1"/>
          <p:nvPr/>
        </p:nvSpPr>
        <p:spPr>
          <a:xfrm>
            <a:off x="6372360" y="4581360"/>
            <a:ext cx="18666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ртрет дочер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6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2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5" descr="ArtIndigo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kustodiev"/>
          <p:cNvPicPr/>
          <p:nvPr/>
        </p:nvPicPr>
        <p:blipFill>
          <a:blip r:embed="rId2"/>
          <a:stretch/>
        </p:blipFill>
        <p:spPr>
          <a:xfrm>
            <a:off x="468360" y="404640"/>
            <a:ext cx="3371760" cy="3886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3780000" y="741960"/>
            <a:ext cx="53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О Кустодиев, Кустодиев, его имя страшно успокоительно действует на душу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урик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50920" y="429012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задолго до смеpти Боpис Михайлович пpосит посадить на его могиле березу и не ставить надгpобную плиту. Он ушел, но с нами остались его каpтины - пpаздник России, пpаздник русской живопис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 thruBlk="true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2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6480"/>
                            </p:stCondLst>
                            <p:childTnLst>
                              <p:par>
                                <p:cTn id="603" nodeType="after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4" dur="5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6480"/>
                            </p:stCondLst>
                            <p:childTnLst>
                              <p:par>
                                <p:cTn id="60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8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915920"/>
            <a:ext cx="896472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Жизнь художника и его творчество неразрывно связаны с Волгой, волжскими просторами. Через всю жизнь Б. М. Кустодиев пронес большую и неизбывную любовь к Поволжью - краю, где прошли его детство и юность. Борис Михайлович Кустодиев родился 7 марта 1878 года в Астрахан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емья Кустодиевых арендовала небольшой флигель в доме богатого купца. Здесь мальчик получил первые яркие представления о быте и типах провинциального купечества. "Весь уклад богатой и изобильной купеческой жизни, - писал впоследствии Б. М. Кустодиев, - был как на ладони... Это были живые типы Островского..."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гда в 1887 году в Астрахань приехала выставка передвижников, посетивший ее мальчик был потрясен картинами «настоящих» живописцев и с этого момента твердо решил стать художник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399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rack No24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Track No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ArtIndigo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kustodiev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5280" y="1989000"/>
            <a:ext cx="2968560" cy="423396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9"/>
          <p:cNvSpPr/>
          <p:nvPr/>
        </p:nvSpPr>
        <p:spPr>
          <a:xfrm>
            <a:off x="3851280" y="765000"/>
            <a:ext cx="5113440" cy="3527640"/>
          </a:xfrm>
          <a:prstGeom prst="wedgeRectCallout">
            <a:avLst>
              <a:gd name="adj1" fmla="val -47856"/>
              <a:gd name="adj2" fmla="val 78171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был молодой человек среднего роста, нежного сложения, блондин, с мягкими, легкими, слегка рыжеватыми волосами, с белой кожей лица и pук, со здоровым румянцем на щеках. Расцветка радужной оболочки его глаз была интересна тем, что сероватый тон ее не смешивался с желтоватым - они лежали рядом, что создавало впечатление искорок, которые тем ярче вспыхивали, чем веселее был Борис Михайлович. Хаpактеp у него был мягкий, склонный к незлобному юмору, к радостному, заразительному смеху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2" descr=""/>
          <p:cNvPicPr/>
          <p:nvPr/>
        </p:nvPicPr>
        <p:blipFill>
          <a:blip r:embed="rId3"/>
          <a:stretch/>
        </p:blipFill>
        <p:spPr>
          <a:xfrm>
            <a:off x="334800" y="-298440"/>
            <a:ext cx="7371000" cy="17668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0"/>
          <p:cNvSpPr/>
          <p:nvPr/>
        </p:nvSpPr>
        <p:spPr>
          <a:xfrm>
            <a:off x="714240" y="2786040"/>
            <a:ext cx="7715520" cy="3670200"/>
          </a:xfrm>
          <a:prstGeom prst="upArrowCallout">
            <a:avLst>
              <a:gd name="adj1" fmla="val 55441"/>
              <a:gd name="adj2" fmla="val 55426"/>
              <a:gd name="adj3" fmla="val 16667"/>
              <a:gd name="adj4" fmla="val 6666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84360" y="421488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устодиева, — </a:t>
            </a:r>
            <a:r>
              <a:rPr b="1" lang="ru-RU" sz="1800" spc="-1" strike="noStrike">
                <a:solidFill>
                  <a:srgbClr val="ac66bb"/>
                </a:solidFill>
                <a:latin typeface="Arial"/>
              </a:rPr>
              <a:t>писал впоследствии Реп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— я возлагаю большие надежды. Он — художник даровитый, любящий искусство, вдумчивый, серьезный, внимательно изучающий природу. Отличительные черты его дарования: самостоятельность, оригинальность и глубоко прочувствованная национальность; они служат залогом крепкого и прочного его успех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мелодия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мелоди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ArtIndigo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kustodiev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2997360"/>
            <a:ext cx="2775240" cy="3620880"/>
          </a:xfrm>
          <a:prstGeom prst="rect">
            <a:avLst/>
          </a:prstGeom>
          <a:ln w="0">
            <a:noFill/>
          </a:ln>
        </p:spPr>
      </p:pic>
      <p:sp>
        <p:nvSpPr>
          <p:cNvPr id="240" name="PubRRectCallout"/>
          <p:cNvSpPr/>
          <p:nvPr/>
        </p:nvSpPr>
        <p:spPr>
          <a:xfrm>
            <a:off x="179280" y="260280"/>
            <a:ext cx="6588360" cy="4897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 декабре 1903 года, по окончании Академии, Кустодиев, удостоенный звания художника и золотой медали, отправляется в пенсионерскую поездку в Париж, а затем в Испанию. С увлечением и большим интересом изучает он сокровища западноевропейской живописи, посещает музеи Парижа и Мадри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льшое влияние на формирование личности Кустодиева-художника оказало народное творчество (лубок, вывеска, площадной театр, богатырский эпос, песня, народная сказка), русские художники П. Федотов, В. Суриков, М. Нестеров, а также европейские живописцы: Веласкес, Ван Дейк, Брейгель, Тициан, Сезанн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rack No24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vdol_po_piterskoy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мелодия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Track No13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ArtGobelen"/>
          <p:cNvPicPr/>
          <p:nvPr/>
        </p:nvPicPr>
        <p:blipFill>
          <a:blip r:embed="rId4"/>
          <a:stretch/>
        </p:blipFill>
        <p:spPr>
          <a:xfrm>
            <a:off x="0" y="-44280"/>
            <a:ext cx="9202680" cy="6902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427280" y="593280"/>
            <a:ext cx="471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Через пять месяцев художник возвращается в Россию и с радостью пишет своему другу, что, наконец, он снова в «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благословенных краях нашей благословенной русской земли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». Б.М. Кустодиев поселился в Костромской губернии, где возле деревни Маурино построил дом-мастерскую «Терем», в котором создано много значительных работ масте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6" descr="auto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49360"/>
            <a:ext cx="4572000" cy="544824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39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rack No2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Track No1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0" name="Track No22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ArtKinovar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после грозы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0000" y="3559320"/>
            <a:ext cx="4464000" cy="329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зим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371628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московский трактир"/>
          <p:cNvPicPr/>
          <p:nvPr/>
        </p:nvPicPr>
        <p:blipFill>
          <a:blip r:embed="rId9"/>
          <a:stretch/>
        </p:blipFill>
        <p:spPr>
          <a:xfrm>
            <a:off x="4900680" y="0"/>
            <a:ext cx="4243320" cy="329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643280" y="1052280"/>
            <a:ext cx="4321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Georgia"/>
                <a:hlinkClick r:id="rId10" action="ppaction://hlinksldjump"/>
              </a:rPr>
              <a:t>	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Georgia"/>
                <a:hlinkClick r:id="rId11" action="ppaction://hlinksldjump"/>
              </a:rPr>
              <a:t>Именно в это время у Кустодиева складывается свой круг образов и тем, которые и определили его творческий облик. Художник пишет портреты, первые картины о русской провинции и деревне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5" descr="сенокос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0" y="0"/>
            <a:ext cx="4451400" cy="3576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зима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848640" y="0"/>
            <a:ext cx="2295360" cy="1628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сенокос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427640" y="48690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московский трактир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891480" y="5106960"/>
            <a:ext cx="2252520" cy="1751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после грозы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284720" y="333360"/>
            <a:ext cx="2371680" cy="1628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image0017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6797520" y="1844640"/>
            <a:ext cx="2346480" cy="3089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ярмарка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4284720" y="2492280"/>
            <a:ext cx="2381040" cy="1695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7"/>
          <p:cNvSpPr/>
          <p:nvPr/>
        </p:nvSpPr>
        <p:spPr>
          <a:xfrm>
            <a:off x="324000" y="404640"/>
            <a:ext cx="3527280" cy="60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«Много я знал в жизни интересных, талантливых и хороших людей,— </a:t>
            </a:r>
            <a:r>
              <a:rPr b="1" lang="ru-RU" sz="1800" spc="-1" strike="noStrike">
                <a:solidFill>
                  <a:srgbClr val="ac66bb"/>
                </a:solidFill>
                <a:latin typeface="Georgia"/>
              </a:rPr>
              <a:t>пишет И. Шаляпин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,— но если я когда-либо видел в человеке действительно высокий дух, так это в Кустодиеве... Всем известна его удивительная яркая Россия, звенящая бубенцами и масленой. Его балаганы, его купцы Сусловы, его купчихи Пискулины, его сдобные красавицы, его ухари и молодцы — вообще все его типические русские фигуры, созданные им по воспоминаниям детства, сообщают зрителю необыкновенное чувство рад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8" presetSubtype="6">
                                  <p:stCondLst>
                                    <p:cond delay="15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image001"/>
          <p:cNvPicPr/>
          <p:nvPr/>
        </p:nvPicPr>
        <p:blipFill>
          <a:blip r:embed="rId2"/>
          <a:stretch/>
        </p:blipFill>
        <p:spPr>
          <a:xfrm>
            <a:off x="2835360" y="320760"/>
            <a:ext cx="2482920" cy="1143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2928960"/>
            <a:ext cx="91440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ллекция произведений Б.М. Кустодиева, хранящихся в Государственной Третьяковской галерее, позволяет составить достаточно полное представление об этапах его творчества. Кустодиев сумел соединить в своем творчестве национально-романтический идеал народного искусства с классической традицией, не пренебрегал и тем новым, что несли в себе импрессионизм и модерн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го картины наполнены светоносностью, яркостью цветовых контрастов и изысканной декоративной стилизацией форм, они погружают зрителя в творческую стихию народной жизни. Художник как бы любуется ярмарочной, купеческой Русью, неумолимо уходящей в прошло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2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0:03:57Z</dcterms:created>
  <dc:creator>Admin</dc:creator>
  <dc:description/>
  <dc:language>en-US</dc:language>
  <cp:lastModifiedBy>Admin</cp:lastModifiedBy>
  <dcterms:modified xsi:type="dcterms:W3CDTF">2011-01-27T17:31:44Z</dcterms:modified>
  <cp:revision>21</cp:revision>
  <dc:subject/>
  <dc:title>Слайд 1</dc:title>
</cp:coreProperties>
</file>