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2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2BE-44BE-49CF-A75D-56C1BBBA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F86-22C0-40ED-8E1A-17427F1B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27E-5A59-4F53-A75B-B22165F0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7E8-CF7A-4544-A93D-28EE3455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7221-EB04-49B3-BB63-580007A3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18CE-F4F8-4C54-8241-1979F106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078B-1022-4156-AC10-F0E9AE48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35CD-0858-48F2-843B-04F5A4F5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4A2C-6CB6-4878-B205-A74463D4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EFED-9A93-49E8-8E06-244FB5B0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A4FB-CF55-4BE7-B099-9B404EC0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A2A-4B4B-491E-9F9F-6D1FD64F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4D71-5603-48A4-BA5C-0EE11840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1DD9-F7B8-45DC-AF35-11112CFD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7E58-6B71-4E8D-B95D-014E1320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414E-2044-43A8-8EBB-A79EAFA8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F8B0-A94A-463A-9589-B121867B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2268-7719-438B-AA87-A6658808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89523-4913-4E49-BE5A-42C76644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F9BF3-AC44-4F83-B8CA-AB935E25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5D86-7B86-4626-B7E0-3563C7CA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9FA7-DC48-44E6-A6F4-9A565245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A92-A1FD-44FA-AA62-3F0C938B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6000-B29A-4891-8ECB-5AE339AA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8863A-368F-4636-A3DA-59E503DD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FAF8-3B43-457A-BC7F-EB7CFA58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0E17-9EBF-4AD0-B048-BB1E8D3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98187-8A44-472A-AB9F-DC6EEF7D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DAC8-F448-4F9F-A725-EFDBC20C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61BD-0D97-4950-BCE3-61CCFF22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7FD4-424E-4A62-9E37-EDA80323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0524-2B0D-4C50-831B-51E1336C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F4B9D-CE4E-4D0D-BB90-1C8760C7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5F4-4387-4A86-BAB6-A88E49D4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CDE8B-3ACA-42EB-88FB-738E3C79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AC824-255B-4E12-B808-995C1B33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E213-D5D2-403A-8253-034A7781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8C44C-7C6A-4FED-81CD-154DF0B9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DFE4E-AB52-4E8D-BB28-CA13E4BE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3603-2ED4-46F6-857E-A9DF0734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610FF-94E6-4121-8E5A-ADE3106C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DA284-EBC0-423A-8798-497B54D1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CAEF-581F-4BE6-A9C4-E2643952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45FD2-24F0-4655-961A-FA571951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F3D-63F8-4683-A5FE-AB74DB98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B8915-2819-4528-874C-4A217D7C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00D7-1B05-4BA9-8DDA-0F25FB4D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4B850-9447-47FB-BF5E-93643128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70E5F-7659-49B9-A83B-7E04AB38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F1C0E-4219-4464-85AB-8B6CCBEF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B6BDB-AF51-4F40-B0CA-F6B7EE5C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A9E5D-2B01-4F4C-A604-E7EDFD45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1881B-891C-4890-90D4-6A905E43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0FE09-3124-4709-A8F1-87579087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849D0-CA1E-4B18-9246-68C19979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596-EE7C-4427-BC95-4A937F57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4C37C-D98B-40CE-9884-138BE207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573-7905-485B-993B-4CB3F66F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770-1481-4EBF-B5F2-2C1FC47F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119-0A18-447F-A87A-03EF6702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19AA-DDE4-4716-A859-E5C8C13F63A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AD14-8794-4B19-9D29-1715436090E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A884-7EBC-484E-93BF-C6ABD80814C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D32E-DAE9-419C-B9FC-3BF25868736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5127-D5F3-48B8-89B4-E8D41821B99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" Target="slide10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1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7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38.jpeg"/><Relationship Id="rId6" Type="http://schemas.openxmlformats.org/officeDocument/2006/relationships/image" Target="../media/image23.jpeg"/><Relationship Id="rId7" Type="http://schemas.openxmlformats.org/officeDocument/2006/relationships/image" Target="../media/image39.jpeg"/><Relationship Id="rId8" Type="http://schemas.openxmlformats.org/officeDocument/2006/relationships/image" Target="../media/image40.png"/><Relationship Id="rId9" Type="http://schemas.openxmlformats.org/officeDocument/2006/relationships/image" Target="../media/image22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41.jpeg"/><Relationship Id="rId4" Type="http://schemas.openxmlformats.org/officeDocument/2006/relationships/image" Target="../media/image23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4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6.xml"/><Relationship Id="rId5" Type="http://schemas.openxmlformats.org/officeDocument/2006/relationships/image" Target="../media/image13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" Target="slide7.xm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" Target="slide8.xml"/><Relationship Id="rId6" Type="http://schemas.openxmlformats.org/officeDocument/2006/relationships/image" Target="../media/image17.jpeg"/><Relationship Id="rId7" Type="http://schemas.openxmlformats.org/officeDocument/2006/relationships/slide" Target="slide8.xml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image" Target="../media/image20.jpeg"/><Relationship Id="rId14" Type="http://schemas.openxmlformats.org/officeDocument/2006/relationships/slide" Target="slide8.xml"/><Relationship Id="rId15" Type="http://schemas.openxmlformats.org/officeDocument/2006/relationships/image" Target="../media/image18.jpeg"/><Relationship Id="rId16" Type="http://schemas.openxmlformats.org/officeDocument/2006/relationships/slide" Target="slide8.xml"/><Relationship Id="rId17" Type="http://schemas.openxmlformats.org/officeDocument/2006/relationships/image" Target="../media/image20.jpeg"/><Relationship Id="rId18" Type="http://schemas.openxmlformats.org/officeDocument/2006/relationships/slide" Target="slide8.xml"/><Relationship Id="rId19" Type="http://schemas.openxmlformats.org/officeDocument/2006/relationships/image" Target="../media/image19.jpeg"/><Relationship Id="rId20" Type="http://schemas.openxmlformats.org/officeDocument/2006/relationships/slide" Target="slide8.xml"/><Relationship Id="rId21" Type="http://schemas.openxmlformats.org/officeDocument/2006/relationships/image" Target="../media/image17.jpeg"/><Relationship Id="rId22" Type="http://schemas.openxmlformats.org/officeDocument/2006/relationships/slide" Target="slide8.xml"/><Relationship Id="rId23" Type="http://schemas.openxmlformats.org/officeDocument/2006/relationships/image" Target="../media/image21.jpeg"/><Relationship Id="rId24" Type="http://schemas.openxmlformats.org/officeDocument/2006/relationships/slide" Target="slide8.xml"/><Relationship Id="rId25" Type="http://schemas.openxmlformats.org/officeDocument/2006/relationships/image" Target="../media/image22.jpe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639880" y="530280"/>
            <a:ext cx="6480360" cy="2878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мелодия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ArtGobelen"/>
          <p:cNvPicPr/>
          <p:nvPr/>
        </p:nvPicPr>
        <p:blipFill>
          <a:blip r:embed="rId2"/>
          <a:stretch/>
        </p:blipFill>
        <p:spPr>
          <a:xfrm>
            <a:off x="0" y="0"/>
            <a:ext cx="9202680" cy="6902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kustodi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260280"/>
            <a:ext cx="3059280" cy="35258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0" y="40053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собыми темами в творчестве Кустодиева стали «ярмарки», «праздники», «купчихи», «русские Венеры», изображенные с юмором и добродушием, а также театрализованно-романтические живописные полотна, представляющие идеализированную, «придуманную» русскую жизнь. Кустодиев смело «мешал все стили и жанры»: портрет и волжские пейзажи, сказочные фантазии, гротеск, истинную монументальность и карикатуру, широту декоративного чувства и педантичную «этнографию», о нем часто говорят — щедрый, счастливый талант, искренний, темпераментный, любвеобильный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50920" y="189000"/>
            <a:ext cx="5400720" cy="3811680"/>
          </a:xfrm>
          <a:prstGeom prst="foldedCorner">
            <a:avLst>
              <a:gd name="adj" fmla="val 125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50920" y="260280"/>
            <a:ext cx="532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Bradley Hand ITC"/>
              </a:rPr>
              <a:t>«Меня называют натуралистом, — сказал однажды художник, — какая глупость! Ведь все мои картины сплошная иллюзия!.. Мои картины я никогда не пишу с натуры, это все плод моего воображения, фант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Bradley Hand ITC"/>
              </a:rPr>
              <a:t>Их называют "натуралистическими" только потому, что они производят впечатление действительной жизни, которую, однако, я сам никогда не видел и которая никогда не существова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2" descr="ArtKinov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-96840" y="-30240"/>
            <a:ext cx="9277200" cy="1457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image0016"/>
          <p:cNvPicPr/>
          <p:nvPr/>
        </p:nvPicPr>
        <p:blipFill>
          <a:blip r:embed="rId3"/>
          <a:stretch/>
        </p:blipFill>
        <p:spPr>
          <a:xfrm>
            <a:off x="3419640" y="2060640"/>
            <a:ext cx="1823760" cy="3570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image0017"/>
          <p:cNvPicPr/>
          <p:nvPr/>
        </p:nvPicPr>
        <p:blipFill>
          <a:blip r:embed="rId4"/>
          <a:stretch/>
        </p:blipFill>
        <p:spPr>
          <a:xfrm>
            <a:off x="2843280" y="1700280"/>
            <a:ext cx="3058920" cy="4027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image0014"/>
          <p:cNvPicPr/>
          <p:nvPr/>
        </p:nvPicPr>
        <p:blipFill>
          <a:blip r:embed="rId5"/>
          <a:stretch/>
        </p:blipFill>
        <p:spPr>
          <a:xfrm>
            <a:off x="2627280" y="1844640"/>
            <a:ext cx="4098960" cy="3170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image0015"/>
          <p:cNvPicPr/>
          <p:nvPr/>
        </p:nvPicPr>
        <p:blipFill>
          <a:blip r:embed="rId6"/>
          <a:stretch/>
        </p:blipFill>
        <p:spPr>
          <a:xfrm>
            <a:off x="2556000" y="1700280"/>
            <a:ext cx="3944880" cy="3957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image0015"/>
          <p:cNvPicPr/>
          <p:nvPr/>
        </p:nvPicPr>
        <p:blipFill>
          <a:blip r:embed="rId7"/>
          <a:stretch/>
        </p:blipFill>
        <p:spPr>
          <a:xfrm>
            <a:off x="6372360" y="1700280"/>
            <a:ext cx="1795320" cy="1800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image0014"/>
          <p:cNvPicPr/>
          <p:nvPr/>
        </p:nvPicPr>
        <p:blipFill>
          <a:blip r:embed="rId8"/>
          <a:stretch/>
        </p:blipFill>
        <p:spPr>
          <a:xfrm>
            <a:off x="468360" y="1700280"/>
            <a:ext cx="2098800" cy="1623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image0017"/>
          <p:cNvPicPr/>
          <p:nvPr/>
        </p:nvPicPr>
        <p:blipFill>
          <a:blip r:embed="rId9"/>
          <a:stretch/>
        </p:blipFill>
        <p:spPr>
          <a:xfrm>
            <a:off x="4356000" y="1989000"/>
            <a:ext cx="93672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image0016"/>
          <p:cNvPicPr/>
          <p:nvPr/>
        </p:nvPicPr>
        <p:blipFill>
          <a:blip r:embed="rId10"/>
          <a:stretch/>
        </p:blipFill>
        <p:spPr>
          <a:xfrm>
            <a:off x="2916360" y="1989000"/>
            <a:ext cx="925560" cy="18129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3"/>
          <p:cNvSpPr/>
          <p:nvPr/>
        </p:nvSpPr>
        <p:spPr>
          <a:xfrm>
            <a:off x="250920" y="4985280"/>
            <a:ext cx="856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4" descr="image0012"/>
          <p:cNvPicPr/>
          <p:nvPr/>
        </p:nvPicPr>
        <p:blipFill>
          <a:blip r:embed="rId11"/>
          <a:stretch/>
        </p:blipFill>
        <p:spPr>
          <a:xfrm>
            <a:off x="324000" y="260280"/>
            <a:ext cx="5133960" cy="60102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5"/>
          <p:cNvSpPr/>
          <p:nvPr/>
        </p:nvSpPr>
        <p:spPr>
          <a:xfrm>
            <a:off x="5003640" y="1506600"/>
            <a:ext cx="414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собое место в коллекции произведений Б.М. Кустодиева занимает его последняя большая картина "Русская Венера" (1925 - 1926). В образе пышнотелой золотоволосой молодой женщины художник воплощает свои представления о красоте русского национального типа. Это тип красоты изобильной, полнокровной, пышущей здоровьем, однако искреннее восхищение художника ею не лишено мягкой иронии. Немаловажную роль в картине выполняют и привычные элементы его живописи: натюрморт с яркой цветастой шалью и солнечный зимний городской пейзаж за ок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Track No14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5" nodeType="afterEffect" fill="hold" presetClass="exit" presetID="2" presetSubtype="6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3" nodeType="afterEffect" fill="hold" presetClass="exit" presetID="55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25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75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2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3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5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еизменно привлекает симпатии зрителя и образ кустодиевской «Красавицы». Есть неповторимая прелесть и своеобразная грация в изображении сидящей на сундуке полной белокурой женщины с лукавым и безмятежным лицом. В неуклюжей и смешной позе — наивность и целомудренная чистота, в лице — доброта и мягкость. Кустодиеву удалось сочетать лучшие традиции мировой живописи в изображении обнаженной модели с очень «своим», очень русским идеалом красоты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олотисто-розоватые тона, в которых написано тело, спорят по свежести и сиянию красок с богатым атласным одеялом красавицы. В окружении розанов, изображенных на сундуке и на обоях, молодая женщина во всей красе свежести и здоровья сама напоминает пышно расцветший цветок. Каждая деталь обстановки, включая фарфоровые фигурки перед зеркалом, рассказывает внимательному зрителю о немудреных вкусах хозяйки, о типическом, «мещанском» быте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Picture 5" descr="image0014"/>
          <p:cNvPicPr/>
          <p:nvPr/>
        </p:nvPicPr>
        <p:blipFill>
          <a:blip r:embed="rId2"/>
          <a:stretch/>
        </p:blipFill>
        <p:spPr>
          <a:xfrm>
            <a:off x="826920" y="620640"/>
            <a:ext cx="7401240" cy="5724720"/>
          </a:xfrm>
          <a:prstGeom prst="rect">
            <a:avLst/>
          </a:prstGeom>
          <a:ln w="0">
            <a:noFill/>
          </a:ln>
        </p:spPr>
      </p:pic>
      <p:sp>
        <p:nvSpPr>
          <p:cNvPr id="290" name="WordArt 21"/>
          <p:cNvSpPr txBox="1"/>
          <p:nvPr/>
        </p:nvSpPr>
        <p:spPr>
          <a:xfrm>
            <a:off x="1116000" y="1773360"/>
            <a:ext cx="655308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деал красо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291" name="Track No02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3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xit" presetID="2" presetSubtype="1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0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306440" cy="12607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1692360" y="333360"/>
            <a:ext cx="74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ие цветы на обоях, равно как и цветы, которыми расписан сундук, ассоциируются с цветущим возрастом здоровой красивой женщины. Все героини Кустодиева этого ряда глядятся сестрами - они молоды, здоровы, "финансово достаточны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1400400" cy="12697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1763640" y="2205000"/>
            <a:ext cx="73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 "красавицы" таит странное выражение, что вообще характерно для кустодиевских героинь этого ряда (или, если угодно, "цикла"). Оно безмятежно и вместе с тем лукаво; героиня глядит на зрителя, ничуть не смущаясь своей наготы, словно понимая, что главная драгоценность здесь - это 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4"/>
          <a:stretch/>
        </p:blipFill>
        <p:spPr>
          <a:xfrm>
            <a:off x="250920" y="4581360"/>
            <a:ext cx="1349280" cy="1258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"/>
          <p:cNvSpPr/>
          <p:nvPr/>
        </p:nvSpPr>
        <p:spPr>
          <a:xfrm>
            <a:off x="1908000" y="4508640"/>
            <a:ext cx="72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ховое нежно-розовое одеяло (и чистые кружевные наволочки на подушках) - примета купеческого мира, любящего уют, комфорт и тепло. Таким образом, в социальном смысле героиня полотна атрибутируется без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 thruBlk="true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0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1349640" cy="12589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"/>
          <p:cNvSpPr/>
          <p:nvPr/>
        </p:nvSpPr>
        <p:spPr>
          <a:xfrm>
            <a:off x="1619280" y="189000"/>
            <a:ext cx="75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м тела "красавицы" свойственна округлость - в героине полотна, в отличие от многих других персонажей тогдашней живописи, нет ничего резкого, изломанного, кричащего. Причем это, если можно так выразиться, гибкая округлость - обратите внимание на неестественно согнутую в локте руку. Вообще, несколько неуклюжая поза "красавицы" "рифмуется" с целомудренной чист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3"/>
          <a:stretch/>
        </p:blipFill>
        <p:spPr>
          <a:xfrm>
            <a:off x="250920" y="2492280"/>
            <a:ext cx="1349280" cy="12607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7"/>
          <p:cNvSpPr/>
          <p:nvPr/>
        </p:nvSpPr>
        <p:spPr>
          <a:xfrm>
            <a:off x="1619280" y="2349360"/>
            <a:ext cx="75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но выписанные крохотные ступни - в сочетании с полным телом и определенной "дебелостью" - рождают ощущение хрупкости героини, что еще больше "идеализирует" ее образ, которому свойственны странная грация и неповторимая прел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4"/>
          <a:stretch/>
        </p:blipFill>
        <p:spPr>
          <a:xfrm>
            <a:off x="250920" y="4581360"/>
            <a:ext cx="1396800" cy="12830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9"/>
          <p:cNvSpPr/>
          <p:nvPr/>
        </p:nvSpPr>
        <p:spPr>
          <a:xfrm>
            <a:off x="1692360" y="465300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ь интерьер - и, прежде всего, огромный кованый и ярко расписанный сундук - является своеобразной "рамой" для героини, свидетельствуя о достатке, устойчивости и размеренности ее существ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1" descr="image0014"/>
          <p:cNvPicPr/>
          <p:nvPr/>
        </p:nvPicPr>
        <p:blipFill>
          <a:blip r:embed="rId5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Stravinskiy_petrushka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8" name="Track No1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9" name="Track No1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3" descr="ArtKinovar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kustodiev25"/>
          <p:cNvPicPr/>
          <p:nvPr/>
        </p:nvPicPr>
        <p:blipFill>
          <a:blip r:embed="rId5"/>
          <a:stretch/>
        </p:blipFill>
        <p:spPr>
          <a:xfrm>
            <a:off x="4643280" y="2060640"/>
            <a:ext cx="4300560" cy="361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Масленница 1916"/>
          <p:cNvPicPr/>
          <p:nvPr/>
        </p:nvPicPr>
        <p:blipFill>
          <a:blip r:embed="rId6"/>
          <a:stretch/>
        </p:blipFill>
        <p:spPr>
          <a:xfrm>
            <a:off x="395280" y="2060640"/>
            <a:ext cx="8024760" cy="369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балаганы 1917"/>
          <p:cNvPicPr/>
          <p:nvPr/>
        </p:nvPicPr>
        <p:blipFill>
          <a:blip r:embed="rId7"/>
          <a:stretch/>
        </p:blipFill>
        <p:spPr>
          <a:xfrm>
            <a:off x="324000" y="2060640"/>
            <a:ext cx="4195440" cy="3618000"/>
          </a:xfrm>
          <a:prstGeom prst="rect">
            <a:avLst/>
          </a:prstGeom>
          <a:ln w="0">
            <a:noFill/>
          </a:ln>
        </p:spPr>
      </p:pic>
      <p:pic>
        <p:nvPicPr>
          <p:cNvPr id="314" name="Rectangle 2" descr=""/>
          <p:cNvPicPr/>
          <p:nvPr/>
        </p:nvPicPr>
        <p:blipFill>
          <a:blip r:embed="rId8"/>
          <a:stretch/>
        </p:blipFill>
        <p:spPr>
          <a:xfrm>
            <a:off x="-96840" y="-66600"/>
            <a:ext cx="9320040" cy="1730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ярмарка 1908"/>
          <p:cNvPicPr/>
          <p:nvPr/>
        </p:nvPicPr>
        <p:blipFill>
          <a:blip r:embed="rId9"/>
          <a:stretch/>
        </p:blipFill>
        <p:spPr>
          <a:xfrm>
            <a:off x="1403280" y="1700280"/>
            <a:ext cx="6388200" cy="42876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9"/>
          <p:cNvSpPr/>
          <p:nvPr/>
        </p:nvSpPr>
        <p:spPr>
          <a:xfrm>
            <a:off x="0" y="1844640"/>
            <a:ext cx="914400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еобычайная зоркость Кустодиева к русскому быту сказывается и в жизни. Когда он начинает вспоминать то шумные деревенские базары, то вербную толкучку, то масленичное обжорство и лихую удаль и проч., с восторгом, наперерыв, приводя мельчайшие подробности, он весь преображается, — и перед собеседником тогда оживают те же знакомые кустодиевские мотивы, от которых веет своеобразной поэзие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Во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592080" y="580536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аслен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1200600" y="595008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лаг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3564000" y="6216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Ярм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9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Track No11.mp3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1"/>
          <p:cNvSpPr/>
          <p:nvPr/>
        </p:nvSpPr>
        <p:spPr>
          <a:xfrm>
            <a:off x="5600160" y="595008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асленичное гул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9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fade thruBlk="true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5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7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6" nodeType="afterEffect" fill="hold" presetClass="exit" presetID="12" presetSubtype="8">
                                  <p:stCondLst>
                                    <p:cond delay="80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417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2" presetSubtype="2">
                                  <p:stCondLst>
                                    <p:cond delay="80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42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5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7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7" nodeType="afterEffect" fill="hold" presetClass="exit" presetID="23" presetSubtype="32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rack No09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3" name="Track No0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ArtMaslenica"/>
          <p:cNvPicPr/>
          <p:nvPr/>
        </p:nvPicPr>
        <p:blipFill>
          <a:blip r:embed="rId3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image001"/>
          <p:cNvPicPr/>
          <p:nvPr/>
        </p:nvPicPr>
        <p:blipFill>
          <a:blip r:embed="rId4"/>
          <a:stretch/>
        </p:blipFill>
        <p:spPr>
          <a:xfrm>
            <a:off x="826920" y="1700280"/>
            <a:ext cx="7162920" cy="329544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2" descr=""/>
          <p:cNvPicPr/>
          <p:nvPr/>
        </p:nvPicPr>
        <p:blipFill>
          <a:blip r:embed="rId5"/>
          <a:stretch/>
        </p:blipFill>
        <p:spPr>
          <a:xfrm>
            <a:off x="-79200" y="85680"/>
            <a:ext cx="9242280" cy="1809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-252360" y="4868640"/>
            <a:ext cx="9648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 этой околдованной чарами инея и заходящего солнца стране все пронизано движением: мчатся тройки, мелькают пятна ярких красок, переливается множеством оттенков снег. Энергия движения и радость жизни словно стремятся расколдовать холодное царство зимы. Закатные лучи, растворяясь в морозном мареве, приобретают эмалевое свечение. Художнику одинаково дороги шатры церквей и шатры каруселей. Для него это — олицетворение единой стихии народной жизни, наиболее ярко выразившейся в праздновании масленицы. Кустодиев говорил: «Церковь в моей картине — моя подпись, ведь это так характерно для России»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25000"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3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486" dur="5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8" descr="ArtMaslenica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устодиевская живопись и музыкальна, и литературна. Словно песня, льется рассказ о жизни красивой и сказочно изобильной. Его герои с наивной откровенностью демонстрируют зрителям себя, свой дом, свои привычки и вкусы; бесхитростно повествуют о своей незамысловатой жизни: что они едят и покупают на ярмарке, как пьют чай, спят, ходят в баню, торгуют в лавочках, катаются на тройках, веселятся в балаганах, ухаживают, женятся, умирают, каковы, наконец, их взаимоотношения с бог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6858000" cy="2247840"/>
          </a:xfrm>
          <a:prstGeom prst="rect">
            <a:avLst/>
          </a:prstGeom>
          <a:ln w="0">
            <a:noFill/>
          </a:ln>
        </p:spPr>
      </p:pic>
      <p:pic>
        <p:nvPicPr>
          <p:cNvPr id="331" name="09 Вариации на темы русских песен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8" descr="ArtIndigo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3970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В 1911 году А. Бенуа писал о Кустодиеве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radley Hand ITC"/>
              </a:rPr>
              <a:t>«</a:t>
            </a:r>
            <a:r>
              <a:rPr b="1" i="1" lang="ru-RU" sz="2400" spc="-1" strike="noStrike">
                <a:solidFill>
                  <a:srgbClr val="ffffff"/>
                </a:solidFill>
                <a:latin typeface="Bradley Hand ITC"/>
              </a:rPr>
              <a:t>Мне кажется, что настоящий Кустодиев — это русская ярмарка, пестрятина, "глазастые" ситцы, варварская драка красок, русский посад и русское село с их гармониками, пряниками, расфуфыренными девками и лихими парнями...».</a:t>
            </a:r>
            <a:r>
              <a:rPr b="1" i="1" lang="ru-RU" sz="18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4" name="Picture 4" descr="ярмарка 1910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 thruBlk="true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5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ArtIndigo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Масленница 1919"/>
          <p:cNvPicPr/>
          <p:nvPr/>
        </p:nvPicPr>
        <p:blipFill>
          <a:blip r:embed="rId2"/>
          <a:stretch/>
        </p:blipFill>
        <p:spPr>
          <a:xfrm>
            <a:off x="4572000" y="1413000"/>
            <a:ext cx="4572000" cy="33336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портрет Шаляпина 1922"/>
          <p:cNvPicPr/>
          <p:nvPr/>
        </p:nvPicPr>
        <p:blipFill>
          <a:blip r:embed="rId3"/>
          <a:stretch/>
        </p:blipFill>
        <p:spPr>
          <a:xfrm>
            <a:off x="0" y="0"/>
            <a:ext cx="4572000" cy="5686560"/>
          </a:xfrm>
          <a:prstGeom prst="rect">
            <a:avLst/>
          </a:prstGeom>
          <a:ln w="0">
            <a:noFill/>
          </a:ln>
        </p:spPr>
      </p:pic>
      <p:sp>
        <p:nvSpPr>
          <p:cNvPr id="338" name="WordArt 8"/>
          <p:cNvSpPr txBox="1"/>
          <p:nvPr/>
        </p:nvSpPr>
        <p:spPr>
          <a:xfrm>
            <a:off x="1979640" y="4797360"/>
            <a:ext cx="23907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ортрет Шаляпин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9" name="WordArt 9"/>
          <p:cNvSpPr txBox="1"/>
          <p:nvPr/>
        </p:nvSpPr>
        <p:spPr>
          <a:xfrm>
            <a:off x="7524720" y="3860640"/>
            <a:ext cx="14763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Маслен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10336 L 0.00208 0.31307 E">
                                      <p:cBhvr>
                                        <p:cTn id="532" dur="5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1116000" y="920520"/>
            <a:ext cx="66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Не знаю, удалось ли мне сделат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 выразить в моих вещах то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что я хотел - любовь к жизни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адость и бодpость,любов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к своему русскому. Это было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сегда единственным "сюжетом"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моих картин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Кустодиев Б.М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8" descr="ArtIndigo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прогулка верхом"/>
          <p:cNvPicPr/>
          <p:nvPr/>
        </p:nvPicPr>
        <p:blipFill>
          <a:blip r:embed="rId2"/>
          <a:stretch/>
        </p:blipFill>
        <p:spPr>
          <a:xfrm>
            <a:off x="179280" y="260280"/>
            <a:ext cx="5238720" cy="42102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ярмарка на Волге 1909"/>
          <p:cNvPicPr/>
          <p:nvPr/>
        </p:nvPicPr>
        <p:blipFill>
          <a:blip r:embed="rId3"/>
          <a:stretch/>
        </p:blipFill>
        <p:spPr>
          <a:xfrm>
            <a:off x="4140360" y="2924280"/>
            <a:ext cx="4572000" cy="3591000"/>
          </a:xfrm>
          <a:prstGeom prst="rect">
            <a:avLst/>
          </a:prstGeom>
          <a:ln w="0">
            <a:noFill/>
          </a:ln>
        </p:spPr>
      </p:pic>
      <p:sp>
        <p:nvSpPr>
          <p:cNvPr id="343" name="WordArt 9"/>
          <p:cNvSpPr txBox="1"/>
          <p:nvPr/>
        </p:nvSpPr>
        <p:spPr>
          <a:xfrm>
            <a:off x="6156360" y="5589720"/>
            <a:ext cx="226692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Ярмарка на Волг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WordArt 10"/>
          <p:cNvSpPr txBox="1"/>
          <p:nvPr/>
        </p:nvSpPr>
        <p:spPr>
          <a:xfrm>
            <a:off x="324000" y="476280"/>
            <a:ext cx="218124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рогулка верхом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2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ArtIndi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8" name="Picture 4" descr="трактирщик"/>
          <p:cNvPicPr/>
          <p:nvPr/>
        </p:nvPicPr>
        <p:blipFill>
          <a:blip r:embed="rId2"/>
          <a:stretch/>
        </p:blipFill>
        <p:spPr>
          <a:xfrm>
            <a:off x="3492360" y="260280"/>
            <a:ext cx="5238720" cy="6372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извозчик за чаем"/>
          <p:cNvPicPr/>
          <p:nvPr/>
        </p:nvPicPr>
        <p:blipFill>
          <a:blip r:embed="rId3"/>
          <a:stretch/>
        </p:blipFill>
        <p:spPr>
          <a:xfrm>
            <a:off x="324000" y="189000"/>
            <a:ext cx="5162400" cy="6495840"/>
          </a:xfrm>
          <a:prstGeom prst="rect">
            <a:avLst/>
          </a:prstGeom>
          <a:ln w="0">
            <a:noFill/>
          </a:ln>
        </p:spPr>
      </p:pic>
      <p:sp>
        <p:nvSpPr>
          <p:cNvPr id="350" name="WordArt 7"/>
          <p:cNvSpPr txBox="1"/>
          <p:nvPr/>
        </p:nvSpPr>
        <p:spPr>
          <a:xfrm>
            <a:off x="395280" y="5084640"/>
            <a:ext cx="22096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Извозчик за чаем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1" name="WordArt 8"/>
          <p:cNvSpPr txBox="1"/>
          <p:nvPr/>
        </p:nvSpPr>
        <p:spPr>
          <a:xfrm>
            <a:off x="6732720" y="5661000"/>
            <a:ext cx="15811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Трактирщик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8" descr="ArtIndigo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портрет дочери"/>
          <p:cNvPicPr/>
          <p:nvPr/>
        </p:nvPicPr>
        <p:blipFill>
          <a:blip r:embed="rId2"/>
          <a:stretch/>
        </p:blipFill>
        <p:spPr>
          <a:xfrm>
            <a:off x="5292720" y="260280"/>
            <a:ext cx="3371760" cy="5081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портрет жены художника"/>
          <p:cNvPicPr/>
          <p:nvPr/>
        </p:nvPicPr>
        <p:blipFill>
          <a:blip r:embed="rId3"/>
          <a:stretch/>
        </p:blipFill>
        <p:spPr>
          <a:xfrm>
            <a:off x="468360" y="1773360"/>
            <a:ext cx="4098960" cy="4327560"/>
          </a:xfrm>
          <a:prstGeom prst="rect">
            <a:avLst/>
          </a:prstGeom>
          <a:ln w="0">
            <a:noFill/>
          </a:ln>
        </p:spPr>
      </p:pic>
      <p:sp>
        <p:nvSpPr>
          <p:cNvPr id="355" name="WordArt 12"/>
          <p:cNvSpPr txBox="1"/>
          <p:nvPr/>
        </p:nvSpPr>
        <p:spPr>
          <a:xfrm>
            <a:off x="1258920" y="5300640"/>
            <a:ext cx="29527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ртрет жены художник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6" name="WordArt 13"/>
          <p:cNvSpPr txBox="1"/>
          <p:nvPr/>
        </p:nvSpPr>
        <p:spPr>
          <a:xfrm>
            <a:off x="6372360" y="4581360"/>
            <a:ext cx="18666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ртрет дочер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6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2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5" descr="ArtIndigo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kustodiev"/>
          <p:cNvPicPr/>
          <p:nvPr/>
        </p:nvPicPr>
        <p:blipFill>
          <a:blip r:embed="rId2"/>
          <a:stretch/>
        </p:blipFill>
        <p:spPr>
          <a:xfrm>
            <a:off x="468360" y="404640"/>
            <a:ext cx="3371760" cy="38862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3780000" y="741960"/>
            <a:ext cx="53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О Кустодиев, Кустодиев, его имя страшно успокоительно действует на душу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урик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250920" y="429012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задолго до смеpти Боpис Михайлович пpосит посадить на его могиле березу и не ставить надгpобную плиту. Он ушел, но с нами остались его каpтины - пpаздник России, пpаздник русской живопис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 thruBlk="true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2" dur="5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6480"/>
                            </p:stCondLst>
                            <p:childTnLst>
                              <p:par>
                                <p:cTn id="603" nodeType="after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4" dur="5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6480"/>
                            </p:stCondLst>
                            <p:childTnLst>
                              <p:par>
                                <p:cTn id="607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8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915920"/>
            <a:ext cx="896472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Жизнь художника и его творчество неразрывно связаны с Волгой, волжскими просторами. Через всю жизнь Б. М. Кустодиев пронес большую и неизбывную любовь к Поволжью - краю, где прошли его детство и юность. Борис Михайлович Кустодиев родился 7 марта 1878 года в Астрахан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емья Кустодиевых арендовала небольшой флигель в доме богатого купца. Здесь мальчик получил первые яркие представления о быте и типах провинциального купечества. "Весь уклад богатой и изобильной купеческой жизни, - писал впоследствии Б. М. Кустодиев, - был как на ладони... Это были живые типы Островского..."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гда в 1887 году в Астрахань приехала выставка передвижников, посетивший ее мальчик был потрясен картинами «настоящих» живописцев и с этого момента твердо решил стать художник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399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rack No24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Track No2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ArtIndigo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kustodiev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5280" y="1989000"/>
            <a:ext cx="2968560" cy="423396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9"/>
          <p:cNvSpPr/>
          <p:nvPr/>
        </p:nvSpPr>
        <p:spPr>
          <a:xfrm>
            <a:off x="3851280" y="765000"/>
            <a:ext cx="5113440" cy="3527640"/>
          </a:xfrm>
          <a:prstGeom prst="wedgeRectCallout">
            <a:avLst>
              <a:gd name="adj1" fmla="val -47856"/>
              <a:gd name="adj2" fmla="val 78171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был молодой человек среднего роста, нежного сложения, блондин, с мягкими, легкими, слегка рыжеватыми волосами, с белой кожей лица и pук, со здоровым румянцем на щеках. Расцветка радужной оболочки его глаз была интересна тем, что сероватый тон ее не смешивался с желтоватым - они лежали рядом, что создавало впечатление искорок, которые тем ярче вспыхивали, чем веселее был Борис Михайлович. Хаpактеp у него был мягкий, склонный к незлобному юмору, к радостному, заразительному смеху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2" descr=""/>
          <p:cNvPicPr/>
          <p:nvPr/>
        </p:nvPicPr>
        <p:blipFill>
          <a:blip r:embed="rId3"/>
          <a:stretch/>
        </p:blipFill>
        <p:spPr>
          <a:xfrm>
            <a:off x="334800" y="-298440"/>
            <a:ext cx="7371000" cy="176688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0"/>
          <p:cNvSpPr/>
          <p:nvPr/>
        </p:nvSpPr>
        <p:spPr>
          <a:xfrm>
            <a:off x="714240" y="2786040"/>
            <a:ext cx="7715520" cy="3670200"/>
          </a:xfrm>
          <a:prstGeom prst="upArrowCallout">
            <a:avLst>
              <a:gd name="adj1" fmla="val 55441"/>
              <a:gd name="adj2" fmla="val 55426"/>
              <a:gd name="adj3" fmla="val 16667"/>
              <a:gd name="adj4" fmla="val 6666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84360" y="421488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устодиева, — </a:t>
            </a:r>
            <a:r>
              <a:rPr b="1" lang="ru-RU" sz="1800" spc="-1" strike="noStrike">
                <a:solidFill>
                  <a:srgbClr val="ac66bb"/>
                </a:solidFill>
                <a:latin typeface="Arial"/>
              </a:rPr>
              <a:t>писал впоследствии Реп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— я возлагаю большие надежды. Он — художник даровитый, любящий искусство, вдумчивый, серьезный, внимательно изучающий природу. Отличительные черты его дарования: самостоятельность, оригинальность и глубоко прочувствованная национальность; они служат залогом крепкого и прочного его успех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мелодия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7" name="мелодия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ArtIndigo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kustodiev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84720" y="2997360"/>
            <a:ext cx="2775240" cy="3620880"/>
          </a:xfrm>
          <a:prstGeom prst="rect">
            <a:avLst/>
          </a:prstGeom>
          <a:ln w="0">
            <a:noFill/>
          </a:ln>
        </p:spPr>
      </p:pic>
      <p:sp>
        <p:nvSpPr>
          <p:cNvPr id="240" name="PubRRectCallout"/>
          <p:cNvSpPr/>
          <p:nvPr/>
        </p:nvSpPr>
        <p:spPr>
          <a:xfrm>
            <a:off x="179280" y="260280"/>
            <a:ext cx="6588360" cy="4897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 декабре 1903 года, по окончании Академии, Кустодиев, удостоенный звания художника и золотой медали, отправляется в пенсионерскую поездку в Париж, а затем в Испанию. С увлечением и большим интересом изучает он сокровища западноевропейской живописи, посещает музеи Парижа и Мадри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ольшое влияние на формирование личности Кустодиева-художника оказало народное творчество (лубок, вывеска, площадной театр, богатырский эпос, песня, народная сказка), русские художники П. Федотов, В. Суриков, М. Нестеров, а также европейские живописцы: Веласкес, Ван Дейк, Брейгель, Тициан, Сезанн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rack No24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vdol_po_piterskoy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мелодия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4" name="Track No13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ArtGobelen"/>
          <p:cNvPicPr/>
          <p:nvPr/>
        </p:nvPicPr>
        <p:blipFill>
          <a:blip r:embed="rId4"/>
          <a:stretch/>
        </p:blipFill>
        <p:spPr>
          <a:xfrm>
            <a:off x="0" y="-44280"/>
            <a:ext cx="9202680" cy="6902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427280" y="593280"/>
            <a:ext cx="471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Через пять месяцев художник возвращается в Россию и с радостью пишет своему другу, что, наконец, он снова в «</a:t>
            </a: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благословенных краях нашей благословенной русской земли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». Б.М. Кустодиев поселился в Костромской губернии, где возле деревни Маурино построил дом-мастерскую «Терем», в котором создано много значительных работ мастер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6" descr="auto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49360"/>
            <a:ext cx="4572000" cy="544824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0.0)">
                                      <p:cBhvr>
                                        <p:cTn id="39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rack No2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Track No1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0" name="Track No22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ArtKinovar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после грозы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0000" y="3559320"/>
            <a:ext cx="4464000" cy="329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зима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371628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московский трактир"/>
          <p:cNvPicPr/>
          <p:nvPr/>
        </p:nvPicPr>
        <p:blipFill>
          <a:blip r:embed="rId9"/>
          <a:stretch/>
        </p:blipFill>
        <p:spPr>
          <a:xfrm>
            <a:off x="4900680" y="0"/>
            <a:ext cx="4243320" cy="3297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643280" y="1052280"/>
            <a:ext cx="4321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Georgia"/>
                <a:hlinkClick r:id="rId10" action="ppaction://hlinksldjump"/>
              </a:rPr>
              <a:t>	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Georgia"/>
                <a:hlinkClick r:id="rId11" action="ppaction://hlinksldjump"/>
              </a:rPr>
              <a:t>Именно в это время у Кустодиева складывается свой круг образов и тем, которые и определили его творческий облик. Художник пишет портреты, первые картины о русской провинции и деревне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5" descr="сенокос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0" y="0"/>
            <a:ext cx="4451400" cy="3576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зима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848640" y="0"/>
            <a:ext cx="2295360" cy="1628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сенокос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427640" y="4869000"/>
            <a:ext cx="2124000" cy="1706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московский трактир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891480" y="5106960"/>
            <a:ext cx="2252520" cy="1751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после грозы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284720" y="333360"/>
            <a:ext cx="2371680" cy="1628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4" descr="image0017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6797520" y="1844640"/>
            <a:ext cx="2346480" cy="3089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5" descr="ярмарка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4284720" y="2492280"/>
            <a:ext cx="2381040" cy="16956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7"/>
          <p:cNvSpPr/>
          <p:nvPr/>
        </p:nvSpPr>
        <p:spPr>
          <a:xfrm>
            <a:off x="324000" y="404640"/>
            <a:ext cx="3527280" cy="60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«Много я знал в жизни интересных, талантливых и хороших людей,— </a:t>
            </a:r>
            <a:r>
              <a:rPr b="1" lang="ru-RU" sz="1800" spc="-1" strike="noStrike">
                <a:solidFill>
                  <a:srgbClr val="ac66bb"/>
                </a:solidFill>
                <a:latin typeface="Georgia"/>
              </a:rPr>
              <a:t>пишет И. Шаляпин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,— но если я когда-либо видел в человеке действительно высокий дух, так это в Кустодиеве... Всем известна его удивительная яркая Россия, звенящая бубенцами и масленой. Его балаганы, его купцы Сусловы, его купчихи Пискулины, его сдобные красавицы, его ухари и молодцы — вообще все его типические русские фигуры, созданные им по воспоминаниям детства, сообщают зрителю необыкновенное чувство рад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3000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8" presetSubtype="6">
                                  <p:stCondLst>
                                    <p:cond delay="15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63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image001"/>
          <p:cNvPicPr/>
          <p:nvPr/>
        </p:nvPicPr>
        <p:blipFill>
          <a:blip r:embed="rId2"/>
          <a:stretch/>
        </p:blipFill>
        <p:spPr>
          <a:xfrm>
            <a:off x="2835360" y="320760"/>
            <a:ext cx="2482920" cy="1143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0" y="2928960"/>
            <a:ext cx="91440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ллекция произведений Б.М. Кустодиева, хранящихся в Государственной Третьяковской галерее, позволяет составить достаточно полное представление об этапах его творчества. Кустодиев сумел соединить в своем творчестве национально-романтический идеал народного искусства с классической традицией, не пренебрегал и тем новым, что несли в себе импрессионизм и модерн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го картины наполнены светоносностью, яркостью цветовых контрастов и изысканной декоративной стилизацией форм, они погружают зрителя в творческую стихию народной жизни. Художник как бы любуется ярмарочной, купеческой Русью, неумолимо уходящей в прошлое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2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0:03:57Z</dcterms:created>
  <dc:creator>Admin</dc:creator>
  <dc:description/>
  <dc:language>en-US</dc:language>
  <cp:lastModifiedBy>Admin</cp:lastModifiedBy>
  <dcterms:modified xsi:type="dcterms:W3CDTF">2011-01-27T17:31:44Z</dcterms:modified>
  <cp:revision>21</cp:revision>
  <dc:subject/>
  <dc:title>Слайд 1</dc:title>
</cp:coreProperties>
</file>