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B84-0627-4952-B7EF-BF7B85A2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C28-98F4-4EAB-A53F-9993A98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93C-29A9-4631-8335-4BFA7BDE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75F-8FCC-4B48-8F7E-F28C0F9B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02A-84A7-4D8F-B31C-BF4F20B9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F322-8AB9-4DD5-9C77-C996D6C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192-92A4-4C04-B734-29D1922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C21-2068-40D1-A9F3-4CCD8D7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16E-B878-48DD-B2FE-6DBEE3D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459-A5D8-468B-9179-12FB4F6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7F8-89BA-46C8-927B-06B5E25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501-C7AB-4E6E-9C38-F01C7D7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23B0-B442-4AC5-8D3E-97EA8D6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DB5-4D2C-4FF9-B5BF-DDBA7D1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3E1-D756-43A4-BF1D-83EF37D8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BDF-0037-401B-9CD3-61F510F1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6E39-21A1-470D-A5F5-357FD7DA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D98A-FA7F-458E-B373-15429488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E6AB-0321-4BC7-B99B-E40C23A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69D4-FDD8-46A1-A39A-8CBCC75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4E8A-09DB-42D1-8C80-99E69C4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CB1C-503C-459D-A863-3363E04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929-EAD5-4FE9-888F-E8184A5A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1972-EF55-4D5D-A021-D232670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1871-14F3-4416-9581-7E404EDE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79FC-8731-4728-A7D5-160F8B8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FE43-CFCA-4A70-8ABF-263CD77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E687-6983-4F38-B79C-56CAF4E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A81E-343E-4BFE-B1F8-47894699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F2E3-861F-40D9-AADC-4939B8D2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3435-983E-4B88-9810-E97C2D26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A3DF-F3E0-4368-8F10-B68CC9A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95A8-AFC5-418E-9C14-D1FD8570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27D-AD63-47B8-AD4F-1C2285B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B846-FAF6-4980-928A-D102504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0DD2-DCDE-4F81-8F9A-32FBC408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E6F8-F7FD-4CBE-8256-D0007E0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D4DD-6F21-4C59-B085-6F85F63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378D-6556-426D-A4B7-9F17690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802B-7427-4B45-87CA-51ACCF3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3BC8-0836-49EB-81D8-7518EA52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7E01-FF29-40F7-B865-77EB4B5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C5EF-62D9-46E1-92FB-3D0CF0DD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C7CF-A7D4-4BAC-BC17-D02D2748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720-9052-428E-B600-8360AB8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790E-04C1-44D8-B05A-95435F6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3BB0-D032-4459-8A06-247CD620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4AF2-A666-47C7-99ED-F096BE74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0E4E8-D3E8-47CE-96A8-002959EC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925F-2A44-481E-A3A9-4F5595A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005F-BFF4-4FAE-A28D-3ED9B0A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6231-405C-4B44-933B-75E5585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AA4C-310C-4B01-974C-99375F8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8EC2-76DD-470F-8D32-20FB1207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9CAD-7267-4833-89F6-22A98552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774-8846-446A-84A8-21558B1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B775E-7FDA-4BDD-8CCD-74DFC0D4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123-AD68-4C8D-8244-B053507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200-39F9-41C2-8283-83A0E21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38A-BDBF-4C67-8204-712E4B5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056-75F0-4694-9350-E3ACBC5269D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14FC-F0BE-436E-A325-83573446283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0AF4-1F94-4053-9707-A01920A1D70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F436-E0FA-436B-BCA2-B07CD4DE8AE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53A-C11E-4CC0-A98B-B71FBF79E95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" Target="slide10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1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7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38.jpeg"/><Relationship Id="rId6" Type="http://schemas.openxmlformats.org/officeDocument/2006/relationships/image" Target="../media/image23.jpeg"/><Relationship Id="rId7" Type="http://schemas.openxmlformats.org/officeDocument/2006/relationships/image" Target="../media/image39.jpeg"/><Relationship Id="rId8" Type="http://schemas.openxmlformats.org/officeDocument/2006/relationships/image" Target="../media/image40.png"/><Relationship Id="rId9" Type="http://schemas.openxmlformats.org/officeDocument/2006/relationships/image" Target="../media/image22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1.jpeg"/><Relationship Id="rId4" Type="http://schemas.openxmlformats.org/officeDocument/2006/relationships/image" Target="../media/image23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" Target="slide7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" Target="slide8.xml"/><Relationship Id="rId6" Type="http://schemas.openxmlformats.org/officeDocument/2006/relationships/image" Target="../media/image17.jpeg"/><Relationship Id="rId7" Type="http://schemas.openxmlformats.org/officeDocument/2006/relationships/slide" Target="slide8.xm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20.jpeg"/><Relationship Id="rId14" Type="http://schemas.openxmlformats.org/officeDocument/2006/relationships/slide" Target="slide8.xml"/><Relationship Id="rId15" Type="http://schemas.openxmlformats.org/officeDocument/2006/relationships/image" Target="../media/image18.jpeg"/><Relationship Id="rId16" Type="http://schemas.openxmlformats.org/officeDocument/2006/relationships/slide" Target="slide8.xml"/><Relationship Id="rId17" Type="http://schemas.openxmlformats.org/officeDocument/2006/relationships/image" Target="../media/image20.jpeg"/><Relationship Id="rId18" Type="http://schemas.openxmlformats.org/officeDocument/2006/relationships/slide" Target="slide8.xml"/><Relationship Id="rId19" Type="http://schemas.openxmlformats.org/officeDocument/2006/relationships/image" Target="../media/image19.jpeg"/><Relationship Id="rId20" Type="http://schemas.openxmlformats.org/officeDocument/2006/relationships/slide" Target="slide8.xml"/><Relationship Id="rId21" Type="http://schemas.openxmlformats.org/officeDocument/2006/relationships/image" Target="../media/image17.jpeg"/><Relationship Id="rId22" Type="http://schemas.openxmlformats.org/officeDocument/2006/relationships/slide" Target="slide8.xml"/><Relationship Id="rId23" Type="http://schemas.openxmlformats.org/officeDocument/2006/relationships/image" Target="../media/image21.jpeg"/><Relationship Id="rId24" Type="http://schemas.openxmlformats.org/officeDocument/2006/relationships/slide" Target="slide8.xml"/><Relationship Id="rId25" Type="http://schemas.openxmlformats.org/officeDocument/2006/relationships/image" Target="../media/image22.jpe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639880" y="530280"/>
            <a:ext cx="648036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ArtGobelen"/>
          <p:cNvPicPr/>
          <p:nvPr/>
        </p:nvPicPr>
        <p:blipFill>
          <a:blip r:embed="rId2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ustodi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3059280" cy="35258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0" y="40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собыми темами в творчестве Кустодиева стали «ярмарки», «праздники», «купчихи», «русские Венеры», изображенные с юмором и добродушием, а также театрализованно-романтические живописные полотна, представляющие идеализированную, «придуманную» русскую жизнь. Кустодиев смело «мешал все стили и жанры»: портрет и волжские пейзажи, сказочные фантазии, гротеск, истинную монументальность и карикатуру, широту декоративного чувства и педантичную «этнографию», о нем часто говорят — щедрый, счастливый талант, искренний, темпераментный, любвеобильный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50920" y="189000"/>
            <a:ext cx="5400720" cy="381168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0920" y="260280"/>
            <a:ext cx="532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«Меня называют натуралистом, — сказал однажды художник, — какая глупость! Ведь все мои картины сплошная иллюзия!.. Мои картины я никогда не пишу с натуры, это все плод моего воображения, фант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Их называют "натуралистическими" только потому, что они производят впечатление действительной жизни, которую, однако, я сам никогда не видел и которая никогда не существов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2" descr="ArtKinov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-96840" y="-30240"/>
            <a:ext cx="9277200" cy="145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image0016"/>
          <p:cNvPicPr/>
          <p:nvPr/>
        </p:nvPicPr>
        <p:blipFill>
          <a:blip r:embed="rId3"/>
          <a:stretch/>
        </p:blipFill>
        <p:spPr>
          <a:xfrm>
            <a:off x="3419640" y="2060640"/>
            <a:ext cx="1823760" cy="357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image0017"/>
          <p:cNvPicPr/>
          <p:nvPr/>
        </p:nvPicPr>
        <p:blipFill>
          <a:blip r:embed="rId4"/>
          <a:stretch/>
        </p:blipFill>
        <p:spPr>
          <a:xfrm>
            <a:off x="2843280" y="1700280"/>
            <a:ext cx="3058920" cy="4027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0014"/>
          <p:cNvPicPr/>
          <p:nvPr/>
        </p:nvPicPr>
        <p:blipFill>
          <a:blip r:embed="rId5"/>
          <a:stretch/>
        </p:blipFill>
        <p:spPr>
          <a:xfrm>
            <a:off x="2627280" y="1844640"/>
            <a:ext cx="4098960" cy="317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image0015"/>
          <p:cNvPicPr/>
          <p:nvPr/>
        </p:nvPicPr>
        <p:blipFill>
          <a:blip r:embed="rId6"/>
          <a:stretch/>
        </p:blipFill>
        <p:spPr>
          <a:xfrm>
            <a:off x="2556000" y="1700280"/>
            <a:ext cx="3944880" cy="39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image0015"/>
          <p:cNvPicPr/>
          <p:nvPr/>
        </p:nvPicPr>
        <p:blipFill>
          <a:blip r:embed="rId7"/>
          <a:stretch/>
        </p:blipFill>
        <p:spPr>
          <a:xfrm>
            <a:off x="6372360" y="1700280"/>
            <a:ext cx="1795320" cy="180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image0014"/>
          <p:cNvPicPr/>
          <p:nvPr/>
        </p:nvPicPr>
        <p:blipFill>
          <a:blip r:embed="rId8"/>
          <a:stretch/>
        </p:blipFill>
        <p:spPr>
          <a:xfrm>
            <a:off x="468360" y="1700280"/>
            <a:ext cx="2098800" cy="16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image0017"/>
          <p:cNvPicPr/>
          <p:nvPr/>
        </p:nvPicPr>
        <p:blipFill>
          <a:blip r:embed="rId9"/>
          <a:stretch/>
        </p:blipFill>
        <p:spPr>
          <a:xfrm>
            <a:off x="4356000" y="1989000"/>
            <a:ext cx="93672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image0016"/>
          <p:cNvPicPr/>
          <p:nvPr/>
        </p:nvPicPr>
        <p:blipFill>
          <a:blip r:embed="rId10"/>
          <a:stretch/>
        </p:blipFill>
        <p:spPr>
          <a:xfrm>
            <a:off x="2916360" y="1989000"/>
            <a:ext cx="925560" cy="18129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3"/>
          <p:cNvSpPr/>
          <p:nvPr/>
        </p:nvSpPr>
        <p:spPr>
          <a:xfrm>
            <a:off x="250920" y="4985280"/>
            <a:ext cx="856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4" descr="image0012"/>
          <p:cNvPicPr/>
          <p:nvPr/>
        </p:nvPicPr>
        <p:blipFill>
          <a:blip r:embed="rId11"/>
          <a:stretch/>
        </p:blipFill>
        <p:spPr>
          <a:xfrm>
            <a:off x="324000" y="260280"/>
            <a:ext cx="5133960" cy="6010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5"/>
          <p:cNvSpPr/>
          <p:nvPr/>
        </p:nvSpPr>
        <p:spPr>
          <a:xfrm>
            <a:off x="5003640" y="1506600"/>
            <a:ext cx="414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обое место в коллекции произведений Б.М. Кустодиева занимает его последняя большая картина "Русская Венера" (1925 - 1926). В образе пышнотелой золотоволосой молодой женщины художник воплощает свои представления о красоте русского национального типа. Это тип красоты изобильной, полнокровной, пышущей здоровьем, однако искреннее восхищение художника ею не лишено мягкой иронии. Немаловажную роль в картине выполняют и привычные элементы его живописи: натюрморт с яркой цветастой шалью и солнечный зимний городской пейзаж за ок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rack No14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3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5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изменно привлекает симпатии зрителя и образ кустодиевской «Красавицы». Есть неповторимая прелесть и своеобразная грация в изображении сидящей на сундуке полной белокурой женщины с лукавым и безмятежным лицом. В неуклюжей и смешной позе — наивность и целомудренная чистота, в лице — доброта и мягкость. Кустодиеву удалось сочетать лучшие традиции мировой живописи в изображении обнаженной модели с очень «своим», очень русским идеалом красот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олотисто-розоватые тона, в которых написано тело, спорят по свежести и сиянию красок с богатым атласным одеялом красавицы. В окружении розанов, изображенных на сундуке и на обоях, молодая женщина во всей красе свежести и здоровья сама напоминает пышно расцветший цветок. Каждая деталь обстановки, включая фарфоровые фигурки перед зеркалом, рассказывает внимательному зрителю о немудреных вкусах хозяйки, о типическом, «мещанском» быт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5" descr="image0014"/>
          <p:cNvPicPr/>
          <p:nvPr/>
        </p:nvPicPr>
        <p:blipFill>
          <a:blip r:embed="rId2"/>
          <a:stretch/>
        </p:blipFill>
        <p:spPr>
          <a:xfrm>
            <a:off x="826920" y="620640"/>
            <a:ext cx="7401240" cy="57247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21"/>
          <p:cNvSpPr txBox="1"/>
          <p:nvPr/>
        </p:nvSpPr>
        <p:spPr>
          <a:xfrm>
            <a:off x="1116000" y="1773360"/>
            <a:ext cx="65530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деал крас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91" name="Track No0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xit" presetID="2" presetSubtype="1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306440" cy="126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692360" y="333360"/>
            <a:ext cx="74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ие цветы на обоях, равно как и цветы, которыми расписан сундук, ассоциируются с цветущим возрастом здоровой красивой женщины. Все героини Кустодиева этого ряда глядятся сестрами - они молоды, здоровы, "финансово достаточ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400400" cy="1269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1763640" y="220500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 "красавицы" таит странное выражение, что вообще характерно для кустодиевских героинь этого ряда (или, если угодно, "цикла"). Оно безмятежно и вместе с тем лукаво; героиня глядит на зрителя, ничуть не смущаясь своей наготы, словно понимая, что главная драгоценность здесь - это 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49280" cy="1258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1908000" y="4508640"/>
            <a:ext cx="72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ховое нежно-розовое одеяло (и чистые кружевные наволочки на подушках) - примета купеческого мира, любящего уют, комфорт и тепло. Таким образом, в социальном смысле героиня полотна атрибутируется без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349640" cy="1258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619280" y="189000"/>
            <a:ext cx="75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м тела "красавицы" свойственна округлость - в героине полотна, в отличие от многих других персонажей тогдашней живописи, нет ничего резкого, изломанного, кричащего. Причем это, если можно так выразиться, гибкая округлость - обратите внимание на неестественно согнутую в локте руку. Вообще, несколько неуклюжая поза "красавицы" "рифмуется" с целомудренной чист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1349280" cy="1260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619280" y="2349360"/>
            <a:ext cx="75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но выписанные крохотные ступни - в сочетании с полным телом и определенной "дебелостью" - рождают ощущение хрупкости героини, что еще больше "идеализирует" ее образ, которому свойственны странная грация и неповторимая прел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96800" cy="12830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9"/>
          <p:cNvSpPr/>
          <p:nvPr/>
        </p:nvSpPr>
        <p:spPr>
          <a:xfrm>
            <a:off x="1692360" y="465300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интерьер - и, прежде всего, огромный кованый и ярко расписанный сундук - является своеобразной "рамой" для героини, свидетельствуя о достатке, устойчивости и размеренности ее суще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image0014"/>
          <p:cNvPicPr/>
          <p:nvPr/>
        </p:nvPicPr>
        <p:blipFill>
          <a:blip r:embed="rId5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Stravinskiy_petrushka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8" name="Track No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Track No1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kustodiev25"/>
          <p:cNvPicPr/>
          <p:nvPr/>
        </p:nvPicPr>
        <p:blipFill>
          <a:blip r:embed="rId5"/>
          <a:stretch/>
        </p:blipFill>
        <p:spPr>
          <a:xfrm>
            <a:off x="4643280" y="2060640"/>
            <a:ext cx="4300560" cy="361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Масленница 1916"/>
          <p:cNvPicPr/>
          <p:nvPr/>
        </p:nvPicPr>
        <p:blipFill>
          <a:blip r:embed="rId6"/>
          <a:stretch/>
        </p:blipFill>
        <p:spPr>
          <a:xfrm>
            <a:off x="395280" y="2060640"/>
            <a:ext cx="8024760" cy="369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балаганы 1917"/>
          <p:cNvPicPr/>
          <p:nvPr/>
        </p:nvPicPr>
        <p:blipFill>
          <a:blip r:embed="rId7"/>
          <a:stretch/>
        </p:blipFill>
        <p:spPr>
          <a:xfrm>
            <a:off x="324000" y="2060640"/>
            <a:ext cx="4195440" cy="361800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8"/>
          <a:stretch/>
        </p:blipFill>
        <p:spPr>
          <a:xfrm>
            <a:off x="-96840" y="-66600"/>
            <a:ext cx="9320040" cy="1730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ярмарка 1908"/>
          <p:cNvPicPr/>
          <p:nvPr/>
        </p:nvPicPr>
        <p:blipFill>
          <a:blip r:embed="rId9"/>
          <a:stretch/>
        </p:blipFill>
        <p:spPr>
          <a:xfrm>
            <a:off x="1403280" y="1700280"/>
            <a:ext cx="6388200" cy="4287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9"/>
          <p:cNvSpPr/>
          <p:nvPr/>
        </p:nvSpPr>
        <p:spPr>
          <a:xfrm>
            <a:off x="0" y="1844640"/>
            <a:ext cx="91440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обычайная зоркость Кустодиева к русскому быту сказывается и в жизни. Когда он начинает вспоминать то шумные деревенские базары, то вербную толкучку, то масленичное обжорство и лихую удаль и проч., с восторгом, наперерыв, приводя мельчайшие подробности, он весь преображается, — и перед собеседником тогда оживают те же знакомые кустодиевские мотивы, от которых веет своеобразной поэзи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Во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592080" y="58053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200600" y="595008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ла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564000" y="621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Яр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rack No11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1"/>
          <p:cNvSpPr/>
          <p:nvPr/>
        </p:nvSpPr>
        <p:spPr>
          <a:xfrm>
            <a:off x="5600160" y="595008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чное гул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xit" presetID="12" presetSubtype="8">
                                  <p:stCondLst>
                                    <p:cond delay="8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17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2" presetSubtype="2">
                                  <p:stCondLst>
                                    <p:cond delay="8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2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5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7" nodeType="afterEffect" fill="hold" presetClass="exit" presetID="23" presetSubtype="3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rack No0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3" name="Track No0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ArtMaslenica"/>
          <p:cNvPicPr/>
          <p:nvPr/>
        </p:nvPicPr>
        <p:blipFill>
          <a:blip r:embed="rId3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image001"/>
          <p:cNvPicPr/>
          <p:nvPr/>
        </p:nvPicPr>
        <p:blipFill>
          <a:blip r:embed="rId4"/>
          <a:stretch/>
        </p:blipFill>
        <p:spPr>
          <a:xfrm>
            <a:off x="826920" y="1700280"/>
            <a:ext cx="7162920" cy="329544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" descr=""/>
          <p:cNvPicPr/>
          <p:nvPr/>
        </p:nvPicPr>
        <p:blipFill>
          <a:blip r:embed="rId5"/>
          <a:stretch/>
        </p:blipFill>
        <p:spPr>
          <a:xfrm>
            <a:off x="-79200" y="85680"/>
            <a:ext cx="9242280" cy="1809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-252360" y="4868640"/>
            <a:ext cx="9648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этой околдованной чарами инея и заходящего солнца стране все пронизано движением: мчатся тройки, мелькают пятна ярких красок, переливается множеством оттенков снег. Энергия движения и радость жизни словно стремятся расколдовать холодное царство зимы. Закатные лучи, растворяясь в морозном мареве, приобретают эмалевое свечение. Художнику одинаково дороги шатры церквей и шатры каруселей. Для него это — олицетворение единой стихии народной жизни, наиболее ярко выразившейся в праздновании масленицы. Кустодиев говорил: «Церковь в моей картине — моя подпись, ведь это так характерно для Росси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5000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486" dur="5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8" descr="ArtMaslenica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устодиевская живопись и музыкальна, и литературна. Словно песня, льется рассказ о жизни красивой и сказочно изобильной. Его герои с наивной откровенностью демонстрируют зрителям себя, свой дом, свои привычки и вкусы; бесхитростно повествуют о своей незамысловатой жизни: что они едят и покупают на ярмарке, как пьют чай, спят, ходят в баню, торгуют в лавочках, катаются на тройках, веселятся в балаганах, ухаживают, женятся, умирают, каковы, наконец, их взаимоотношения с бог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6858000" cy="2247840"/>
          </a:xfrm>
          <a:prstGeom prst="rect">
            <a:avLst/>
          </a:prstGeom>
          <a:ln w="0">
            <a:noFill/>
          </a:ln>
        </p:spPr>
      </p:pic>
      <p:pic>
        <p:nvPicPr>
          <p:cNvPr id="331" name="09 Вариации на темы русских песен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3970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 1911 году А. Бенуа писал о Кустодиеве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Bradley Hand ITC"/>
              </a:rPr>
              <a:t>Мне кажется, что настоящий Кустодиев — это русская ярмарка, пестрятина, "глазастые" ситцы, варварская драка красок, русский посад и русское село с их гармониками, пряниками, расфуфыренными девками и лихими парнями...».</a:t>
            </a: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4" name="Picture 4" descr="ярмарка 191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Масленница 1919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ортрет Шаляпина 1922"/>
          <p:cNvPicPr/>
          <p:nvPr/>
        </p:nvPicPr>
        <p:blipFill>
          <a:blip r:embed="rId3"/>
          <a:stretch/>
        </p:blipFill>
        <p:spPr>
          <a:xfrm>
            <a:off x="0" y="0"/>
            <a:ext cx="4572000" cy="5686560"/>
          </a:xfrm>
          <a:prstGeom prst="rect">
            <a:avLst/>
          </a:prstGeom>
          <a:ln w="0">
            <a:noFill/>
          </a:ln>
        </p:spPr>
      </p:pic>
      <p:sp>
        <p:nvSpPr>
          <p:cNvPr id="338" name="WordArt 8"/>
          <p:cNvSpPr txBox="1"/>
          <p:nvPr/>
        </p:nvSpPr>
        <p:spPr>
          <a:xfrm>
            <a:off x="1979640" y="4797360"/>
            <a:ext cx="23907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ртрет Шаляпин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7524720" y="3860640"/>
            <a:ext cx="1476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аслен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10336 L 0.00208 0.31307 E">
                                      <p:cBhvr>
                                        <p:cTn id="532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116000" y="920520"/>
            <a:ext cx="66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 знаю, удалось ли мне сдела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выразить в моих вещах т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что я хотел - любовь к жизн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дость и бодpость,любов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 своему русскому. Это было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гда единственным "сюжетом"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моих карти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устодиев Б.М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прогулка верхом"/>
          <p:cNvPicPr/>
          <p:nvPr/>
        </p:nvPicPr>
        <p:blipFill>
          <a:blip r:embed="rId2"/>
          <a:stretch/>
        </p:blipFill>
        <p:spPr>
          <a:xfrm>
            <a:off x="179280" y="260280"/>
            <a:ext cx="5238720" cy="4210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ярмарка на Волге 1909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591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9"/>
          <p:cNvSpPr txBox="1"/>
          <p:nvPr/>
        </p:nvSpPr>
        <p:spPr>
          <a:xfrm>
            <a:off x="6156360" y="5589720"/>
            <a:ext cx="22669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рмарка на Волг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324000" y="476280"/>
            <a:ext cx="218124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огулка верхо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4" descr="трактирщик"/>
          <p:cNvPicPr/>
          <p:nvPr/>
        </p:nvPicPr>
        <p:blipFill>
          <a:blip r:embed="rId2"/>
          <a:stretch/>
        </p:blipFill>
        <p:spPr>
          <a:xfrm>
            <a:off x="3492360" y="260280"/>
            <a:ext cx="5238720" cy="637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извозчик за чаем"/>
          <p:cNvPicPr/>
          <p:nvPr/>
        </p:nvPicPr>
        <p:blipFill>
          <a:blip r:embed="rId3"/>
          <a:stretch/>
        </p:blipFill>
        <p:spPr>
          <a:xfrm>
            <a:off x="324000" y="189000"/>
            <a:ext cx="5162400" cy="6495840"/>
          </a:xfrm>
          <a:prstGeom prst="rect">
            <a:avLst/>
          </a:prstGeom>
          <a:ln w="0">
            <a:noFill/>
          </a:ln>
        </p:spPr>
      </p:pic>
      <p:sp>
        <p:nvSpPr>
          <p:cNvPr id="350" name="WordArt 7"/>
          <p:cNvSpPr txBox="1"/>
          <p:nvPr/>
        </p:nvSpPr>
        <p:spPr>
          <a:xfrm>
            <a:off x="395280" y="5084640"/>
            <a:ext cx="22096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Извозчик за чае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1" name="WordArt 8"/>
          <p:cNvSpPr txBox="1"/>
          <p:nvPr/>
        </p:nvSpPr>
        <p:spPr>
          <a:xfrm>
            <a:off x="6732720" y="5661000"/>
            <a:ext cx="15811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Трактирщик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портрет дочери"/>
          <p:cNvPicPr/>
          <p:nvPr/>
        </p:nvPicPr>
        <p:blipFill>
          <a:blip r:embed="rId2"/>
          <a:stretch/>
        </p:blipFill>
        <p:spPr>
          <a:xfrm>
            <a:off x="5292720" y="260280"/>
            <a:ext cx="3371760" cy="508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портрет жены художника"/>
          <p:cNvPicPr/>
          <p:nvPr/>
        </p:nvPicPr>
        <p:blipFill>
          <a:blip r:embed="rId3"/>
          <a:stretch/>
        </p:blipFill>
        <p:spPr>
          <a:xfrm>
            <a:off x="468360" y="1773360"/>
            <a:ext cx="4098960" cy="43275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2"/>
          <p:cNvSpPr txBox="1"/>
          <p:nvPr/>
        </p:nvSpPr>
        <p:spPr>
          <a:xfrm>
            <a:off x="1258920" y="5300640"/>
            <a:ext cx="2952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жены худож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3"/>
          <p:cNvSpPr txBox="1"/>
          <p:nvPr/>
        </p:nvSpPr>
        <p:spPr>
          <a:xfrm>
            <a:off x="6372360" y="4581360"/>
            <a:ext cx="1866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дочер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6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2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5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kustodiev"/>
          <p:cNvPicPr/>
          <p:nvPr/>
        </p:nvPicPr>
        <p:blipFill>
          <a:blip r:embed="rId2"/>
          <a:stretch/>
        </p:blipFill>
        <p:spPr>
          <a:xfrm>
            <a:off x="468360" y="404640"/>
            <a:ext cx="3371760" cy="3886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3780000" y="74196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 Кустодиев, Кустодиев, его имя страшно успокоительно действует на душу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урик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50920" y="42901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задолго до смеpти Боpис Михайлович пpосит посадить на его могиле березу и не ставить надгpобную плиту. Он ушел, но с нами остались его каpтины - пpаздник России, пpаздник русской живопис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480"/>
                            </p:stCondLst>
                            <p:childTnLst>
                              <p:par>
                                <p:cTn id="603" nodeType="after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5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6480"/>
                            </p:stCondLst>
                            <p:childTnLst>
                              <p:par>
                                <p:cTn id="60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915920"/>
            <a:ext cx="8964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изнь художника и его творчество неразрывно связаны с Волгой, волжскими просторами. Через всю жизнь Б. М. Кустодиев пронес большую и неизбывную любовь к Поволжью - краю, где прошли его детство и юность. Борис Михайлович Кустодиев родился 7 марта 1878 года в Астрахан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емья Кустодиевых арендовала небольшой флигель в доме богатого купца. Здесь мальчик получил первые яркие представления о быте и типах провинциального купечества. "Весь уклад богатой и изобильной купеческой жизни, - писал впоследствии Б. М. Кустодиев, - был как на ладони... Это были живые типы Островского..."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гда в 1887 году в Астрахань приехала выставка передвижников, посетивший ее мальчик был потрясен картинами «настоящих» живописцев и с этого момента твердо решил стать художник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rack No2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Track No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kustodiev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5280" y="1989000"/>
            <a:ext cx="2968560" cy="42339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3851280" y="765000"/>
            <a:ext cx="5113440" cy="3527640"/>
          </a:xfrm>
          <a:prstGeom prst="wedgeRectCallout">
            <a:avLst>
              <a:gd name="adj1" fmla="val -47856"/>
              <a:gd name="adj2" fmla="val 78171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был молодой человек среднего роста, нежного сложения, блондин, с мягкими, легкими, слегка рыжеватыми волосами, с белой кожей лица и pук, со здоровым румянцем на щеках. Расцветка радужной оболочки его глаз была интересна тем, что сероватый тон ее не смешивался с желтоватым - они лежали рядом, что создавало впечатление искорок, которые тем ярче вспыхивали, чем веселее был Борис Михайлович. Хаpактеp у него был мягкий, склонный к незлобному юмору, к радостному, заразительному смеху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2" descr=""/>
          <p:cNvPicPr/>
          <p:nvPr/>
        </p:nvPicPr>
        <p:blipFill>
          <a:blip r:embed="rId3"/>
          <a:stretch/>
        </p:blipFill>
        <p:spPr>
          <a:xfrm>
            <a:off x="334800" y="-298440"/>
            <a:ext cx="7371000" cy="17668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>
            <a:off x="714240" y="2786040"/>
            <a:ext cx="7715520" cy="3670200"/>
          </a:xfrm>
          <a:prstGeom prst="upArrowCallout">
            <a:avLst>
              <a:gd name="adj1" fmla="val 55441"/>
              <a:gd name="adj2" fmla="val 55426"/>
              <a:gd name="adj3" fmla="val 16667"/>
              <a:gd name="adj4" fmla="val 6666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84360" y="42148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устодиева, — </a:t>
            </a:r>
            <a:r>
              <a:rPr b="1" lang="ru-RU" sz="1800" spc="-1" strike="noStrike">
                <a:solidFill>
                  <a:srgbClr val="ac66bb"/>
                </a:solidFill>
                <a:latin typeface="Arial"/>
              </a:rPr>
              <a:t>писал впоследствии Реп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— я возлагаю большие надежды. Он — художник даровитый, любящий искусство, вдумчивый, серьезный, внимательно изучающий природу. Отличительные черты его дарования: самостоятельность, оригинальность и глубоко прочувствованная национальность; они служат залогом крепкого и прочного его успех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kustodiev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2997360"/>
            <a:ext cx="2775240" cy="3620880"/>
          </a:xfrm>
          <a:prstGeom prst="rect">
            <a:avLst/>
          </a:prstGeom>
          <a:ln w="0">
            <a:noFill/>
          </a:ln>
        </p:spPr>
      </p:pic>
      <p:sp>
        <p:nvSpPr>
          <p:cNvPr id="240" name="PubRRectCallout"/>
          <p:cNvSpPr/>
          <p:nvPr/>
        </p:nvSpPr>
        <p:spPr>
          <a:xfrm>
            <a:off x="179280" y="260280"/>
            <a:ext cx="6588360" cy="4897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декабре 1903 года, по окончании Академии, Кустодиев, удостоенный звания художника и золотой медали, отправляется в пенсионерскую поездку в Париж, а затем в Испанию. С увлечением и большим интересом изучает он сокровища западноевропейской живописи, посещает музеи Парижа и Мадри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льшое влияние на формирование личности Кустодиева-художника оказало народное творчество (лубок, вывеска, площадной театр, богатырский эпос, песня, народная сказка), русские художники П. Федотов, В. Суриков, М. Нестеров, а также европейские живописцы: Веласкес, Ван Дейк, Брейгель, Тициан, Сезанн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rack No24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vdol_po_piterskoy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Track No13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ArtGobelen"/>
          <p:cNvPicPr/>
          <p:nvPr/>
        </p:nvPicPr>
        <p:blipFill>
          <a:blip r:embed="rId4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427280" y="593280"/>
            <a:ext cx="471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Через пять месяцев художник возвращается в Россию и с радостью пишет своему другу, что, наконец, он снова в «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благословенных краях нашей благословенной русской земли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». Б.М. Кустодиев поселился в Костромской губернии, где возле деревни Маурино построил дом-мастерскую «Терем», в котором создано много значительных работ маст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6" descr="auto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39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rack No2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Track No1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0" name="Track No2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после грозы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0000" y="3559320"/>
            <a:ext cx="4464000" cy="329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зи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371628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московский трактир"/>
          <p:cNvPicPr/>
          <p:nvPr/>
        </p:nvPicPr>
        <p:blipFill>
          <a:blip r:embed="rId9"/>
          <a:stretch/>
        </p:blipFill>
        <p:spPr>
          <a:xfrm>
            <a:off x="4900680" y="0"/>
            <a:ext cx="4243320" cy="329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43280" y="1052280"/>
            <a:ext cx="4321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Georgia"/>
                <a:hlinkClick r:id="rId10" action="ppaction://hlinksldjump"/>
              </a:rPr>
              <a:t>	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Georgia"/>
                <a:hlinkClick r:id="rId11" action="ppaction://hlinksldjump"/>
              </a:rPr>
              <a:t>Именно в это время у Кустодиева складывается свой круг образов и тем, которые и определили его творческий облик. Художник пишет портреты, первые картины о русской провинции и деревн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сеноко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0"/>
            <a:ext cx="4451400" cy="3576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зима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48640" y="0"/>
            <a:ext cx="2295360" cy="162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сенокос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427640" y="48690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московский трактир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891480" y="5106960"/>
            <a:ext cx="2252520" cy="1751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после грозы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284720" y="333360"/>
            <a:ext cx="2371680" cy="1628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image0017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797520" y="1844640"/>
            <a:ext cx="2346480" cy="308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ярмарка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284720" y="2492280"/>
            <a:ext cx="2381040" cy="1695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7"/>
          <p:cNvSpPr/>
          <p:nvPr/>
        </p:nvSpPr>
        <p:spPr>
          <a:xfrm>
            <a:off x="324000" y="404640"/>
            <a:ext cx="352728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«Много я знал в жизни интересных, талантливых и хороших людей,— </a:t>
            </a:r>
            <a:r>
              <a:rPr b="1" lang="ru-RU" sz="1800" spc="-1" strike="noStrike">
                <a:solidFill>
                  <a:srgbClr val="ac66bb"/>
                </a:solidFill>
                <a:latin typeface="Georgia"/>
              </a:rPr>
              <a:t>пишет И. Шаляпин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,— но если я когда-либо видел в человеке действительно высокий дух, так это в Кустодиеве... Всем известна его удивительная яркая Россия, звенящая бубенцами и масленой. Его балаганы, его купцы Сусловы, его купчихи Пискулины, его сдобные красавицы, его ухари и молодцы — вообще все его типические русские фигуры, созданные им по воспоминаниям детства, сообщают зрителю необыкновенное чувство рад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6">
                                  <p:stCondLst>
                                    <p:cond delay="1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image001"/>
          <p:cNvPicPr/>
          <p:nvPr/>
        </p:nvPicPr>
        <p:blipFill>
          <a:blip r:embed="rId2"/>
          <a:stretch/>
        </p:blipFill>
        <p:spPr>
          <a:xfrm>
            <a:off x="2835360" y="320760"/>
            <a:ext cx="248292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292896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ллекция произведений Б.М. Кустодиева, хранящихся в Государственной Третьяковской галерее, позволяет составить достаточно полное представление об этапах его творчества. Кустодиев сумел соединить в своем творчестве национально-романтический идеал народного искусства с классической традицией, не пренебрегал и тем новым, что несли в себе импрессионизм и модерн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го картины наполнены светоносностью, яркостью цветовых контрастов и изысканной декоративной стилизацией форм, они погружают зрителя в творческую стихию народной жизни. Художник как бы любуется ярмарочной, купеческой Русью, неумолимо уходящей в прошло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03:57Z</dcterms:created>
  <dc:creator>Admin</dc:creator>
  <dc:description/>
  <dc:language>en-US</dc:language>
  <cp:lastModifiedBy>Admin</cp:lastModifiedBy>
  <dcterms:modified xsi:type="dcterms:W3CDTF">2011-01-27T17:31:44Z</dcterms:modified>
  <cp:revision>21</cp:revision>
  <dc:subject/>
  <dc:title>Слайд 1</dc:title>
</cp:coreProperties>
</file>