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315-F081-47E2-8F97-46B70EDF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D36-CF9B-44E3-B375-3F6285D6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16D-C0D0-4678-8C31-C98CDB4F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243-5492-4505-B589-697BB63A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517F-A11F-46D4-9C10-39FD84A0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9744-B7EC-4724-8640-44010BE9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02DA-268C-4545-BF7C-22E0390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253F-9F0A-484F-A3B7-94E8D9E5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3A87-2AA6-48AE-A913-71622A1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72F-0C09-4D14-9FF9-50ACA64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56AF-DBBE-495E-B69E-E8172E7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35A-B4EF-42B1-9733-A571066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113A-FB72-4F55-87DE-F608166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2964-B64E-4464-A880-7B87BC0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27F-8C1D-4827-A012-9AC6ADA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2C0-26A1-41EC-A369-75819D12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2562-F8AB-4D98-895A-7A11BE04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FF0-2B29-4141-BFA7-62C30A16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2A5-546E-403E-9C2C-D1BB27DF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22C-54F7-4240-935A-D127E3D1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472-C6A0-41A2-8007-A4F37DE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892A-F67F-4DCC-BBE3-F413D68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DE9-1595-422F-B98E-379B5C0B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90D-B49D-497C-B4F4-2C54CB58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BC66-7574-4E51-8973-B37313202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2482-57C7-41D4-8B8F-225D2A1B6A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физической культуры в 5 классе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Круговая эстафета с предметам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СОШ №1 с.Чеге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оев Муса Хаутие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о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ый зал МОУ СОШ № 1с. Чег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каты, низкие и высокие ходули, эстафетные палоч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скетбольные и волейбольные мячи, автомобильные шины, металл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йки, малые ворота, хоккейные клюшки, резиновые шайбы (баранк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о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анд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им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зационный моме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т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лад физорг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вые упражнения, ходьба и бег по периметру площадки. Компле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ических упраж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ег на 2 круга с передачей эстафетной пал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Гонки на самокатах ( 2 круг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Заход на низ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 силов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Заход на высо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Бег с нанизыванием автомобильных шин на металлические стоя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Эстафета с элементами баскетб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каждой команды по 3 участн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Эстафета с элементами ручного мя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Эстафета с элементами хоккея с шай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Заключительная комплексная большая эстаф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 Подведение итогов урок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авление в классном журнале оц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ц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5:27:41Z</dcterms:created>
  <dc:creator>курс</dc:creator>
  <dc:description/>
  <dc:language>en-US</dc:language>
  <cp:lastModifiedBy>SamLab.ws</cp:lastModifiedBy>
  <dcterms:modified xsi:type="dcterms:W3CDTF">2012-01-13T08:12:12Z</dcterms:modified>
  <cp:revision>3</cp:revision>
  <dc:subject/>
  <dc:title>Урок физической культуры в 5 классе  Тема: Круговая эстафета с предметами</dc:title>
</cp:coreProperties>
</file>