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8BE-0CFF-49D1-83BF-AD410B2A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A99-7AA1-4314-9243-4FE22C1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CD9-259B-43BB-A688-E1715D15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426-3250-4B4E-82CD-2C874817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9DDD-E6FF-411F-BC7E-E72A11B8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33A9-9764-4B82-9EE3-53D4B54A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FBAC-C947-42C0-9C8C-F00955B8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DB42-0820-4C9D-AC22-FA101FB3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9BC3-F1FD-433F-B4FC-F6AB2680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80B-54D0-4654-86E6-0E315C9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F7AA-A66E-456F-ACA3-CB1D619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7B6-3101-4A21-B506-D5D5B931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1050-A529-4EA5-B1C0-E19E592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6086-6210-4FF1-98BE-E3082FC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128-068E-497B-9038-71DE75AC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D088-725D-46C9-9F83-B7598609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2CD2-079A-45EA-AF49-900BE2F8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E74-7304-451D-877D-DE334BB5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7FB-4E23-46EF-B74D-663DAECD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1D5-DE01-49F2-82B2-5C3FBDFD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03C-4F4E-4750-A4DC-A912AD1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091-A805-496B-9F85-10F00D7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7C0-8BD6-4C04-A951-EA2ADE59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F9B-B266-4BF5-AB44-20DAFFD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3D5-E34D-4226-B1ED-59AC166A0A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AF4-D6F1-47F2-B2E8-9D5AE4D050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35344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физической культуры в 5 классе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Тема: Круговая эстафета с предметам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физической культу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СОШ №1 с.Чеге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оев Муса Хаутиеви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сто занят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ивный зал МОУ СОШ № 1с. Чег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каты, низкие и высокие ходули, эстафетные палоч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скетбольные и волейбольные мячи, автомобильные шины, металл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йки, малые ворота, хоккейные клюшки, резиновые шайбы (баранк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о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итель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питан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анд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им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лючитель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а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рганизационный момен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 одну шеренг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т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лад физорг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готовитель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евые упражнения, ходьба и бег по периметру площадки. Комплек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стических упраж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ег на 2 круга с передачей эстафетной пал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Гонки на самокатах ( 2 круг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Заход на низких ходулях ( 1 кру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н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 силов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Заход на высоких ходулях ( 1 круг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Бег с нанизыванием автомобильных шин на металлические стоя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Эстафета с элементами баскетбо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т каждой команды по 3 участни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Эстафета с элементами ручного мя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Эстафета с элементами хоккея с шай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Заключительная комплексная большая эстаф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ительн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ение в одну шеренгу. Подведение итогов урок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тавление в классном журнале оцен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ц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5:27:41Z</dcterms:created>
  <dc:creator>курс</dc:creator>
  <dc:description/>
  <dc:language>en-US</dc:language>
  <cp:lastModifiedBy>SamLab.ws</cp:lastModifiedBy>
  <dcterms:modified xsi:type="dcterms:W3CDTF">2012-01-13T08:12:12Z</dcterms:modified>
  <cp:revision>3</cp:revision>
  <dc:subject/>
  <dc:title>Урок физической культуры в 5 классе  Тема: Круговая эстафета с предметами</dc:title>
</cp:coreProperties>
</file>