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40AA-F74B-40CE-9C99-054E4623A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D1AD-284F-4158-A098-26785169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39B3-DEAF-419F-8E2F-69B9C19C5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201B-50A8-41DC-B58D-DD6E2EEC4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3217-D45C-45E8-B6F5-9D683045A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2B59-1842-4869-B96E-D6FBC03E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424E-67CF-492C-91B4-A088014F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B575-2F2A-450F-AA5B-52F7BC9B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AFDE-F13D-4001-B5BB-0FB50DC6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65EB-AF3F-4BED-AD40-845187C4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9E35-3952-4153-A11B-84A26712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7D61-6AD6-44DA-98B4-EEDF069C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5371-8CE0-471F-BDFE-36A2D954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909F-619D-4E42-807F-161F55E9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D896-4C34-4ECC-8968-32D961B0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FD4B-EA5F-40D2-B99D-6B20D3BE9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AC1A-7FDD-4844-BBE8-7F16030A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C5D8-0C60-4F2D-A651-6EEF40A6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96C7-2315-498D-8CDB-88EB849E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20A4-CB50-499A-A3AF-687BF9DB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83AB-6443-4511-8FB3-9F251B0E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1CA3-616A-447C-9830-808B0DE8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84C5-5128-4E25-AC2E-000427A1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9E5C-AA8C-4697-AC0E-C4D3ECAA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B5BB-19C6-42C2-993E-FE2E21AF4B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D6C7-AA35-47B6-B5A6-A22DC2D0E03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249228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Урок физической культуры в 5 классе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Тема: Круговая эстафета с предметами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465264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ь физической культур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У СОШ №1 с.Чегем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коев Муса Хаутиеви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есто занят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ортивный зал МОУ СОШ № 1с. Чеге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борудов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каты, низкие и высокие ходули, эстафетные палочк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скетбольные и волейбольные мячи, автомобильные шины, металличе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ойки, малые ворота, хоккейные клюшки, резиновые шайбы (баранк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Ход уро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ганизационны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омен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дготовительна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аст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а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а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ур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питано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манд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ур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нимание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ключительна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аст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машнее задание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рганизационный момен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троение в одну шеренг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ветств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клад физорг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чи уро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общ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дготовительная ча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оевые упражнения, ходьба и бег по периметру площадки. Комплек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мнастических упражн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сновная ча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Бег на 2 круга с передачей эстафетной палоч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Гонки на самокатах ( 2 круг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Заход на низких ходулях ( 1 круг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курс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питан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ан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 силовой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Заход на высоких ходулях ( 1 круг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.Бег с нанизыванием автомобильных шин на металлические стоя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.Эстафета с элементами баскетбо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курс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нима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от каждой команды по 3 участник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.Эстафета с элементами ручного мяч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8.Эстафета с элементами хоккея с шайб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9.Заключительная комплексная большая эстафе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ключительная ча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троение в одну шеренгу. Подведение итогов урока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машнее задание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ставление в классном журнале оцен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ец заня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5:27:41Z</dcterms:created>
  <dc:creator>курс</dc:creator>
  <dc:description/>
  <dc:language>en-US</dc:language>
  <cp:lastModifiedBy>SamLab.ws</cp:lastModifiedBy>
  <dcterms:modified xsi:type="dcterms:W3CDTF">2012-01-13T08:12:12Z</dcterms:modified>
  <cp:revision>3</cp:revision>
  <dc:subject/>
  <dc:title>Урок физической культуры в 5 классе  Тема: Круговая эстафета с предметами</dc:title>
</cp:coreProperties>
</file>