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4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172040"/>
            <a:ext cx="8229600" cy="234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4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4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172040"/>
            <a:ext cx="4015800" cy="234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4172040"/>
            <a:ext cx="4015800" cy="234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4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4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4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172040"/>
            <a:ext cx="2649600" cy="234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4172040"/>
            <a:ext cx="2649600" cy="234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4172040"/>
            <a:ext cx="2649600" cy="234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4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4172040"/>
            <a:ext cx="4015800" cy="234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4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4172040"/>
            <a:ext cx="4015800" cy="234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4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4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72040"/>
            <a:ext cx="8229600" cy="234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4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4172040"/>
            <a:ext cx="8229600" cy="234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4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4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172040"/>
            <a:ext cx="4015800" cy="234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4172040"/>
            <a:ext cx="4015800" cy="234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4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4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4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4172040"/>
            <a:ext cx="2649600" cy="234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4172040"/>
            <a:ext cx="2649600" cy="234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4172040"/>
            <a:ext cx="2649600" cy="234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4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172040"/>
            <a:ext cx="4015800" cy="234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4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4172040"/>
            <a:ext cx="4015800" cy="234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4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4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172040"/>
            <a:ext cx="8229600" cy="234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0" y="4292640"/>
            <a:ext cx="6084720" cy="103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8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771280" y="115920"/>
            <a:ext cx="637236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Композиторы – новаторы</a:t>
            </a:r>
            <a:br>
              <a:rPr sz="4400"/>
            </a:b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20 век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-360" y="4941360"/>
            <a:ext cx="4427640" cy="17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Сергей Рахманинов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71640" y="188640"/>
            <a:ext cx="648000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еобычайно энергичный, властно покоряющий и в то же время гибкий, порой прихотливый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рит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ак одну из примечательных черт музыки Рахманинова, мы с вами отметили «грустный» характер музыки, т.е. преобладание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минорного колорит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миноре написаны все четыре его фортепианных концерта, три симфонии, большинство этюдов-картин и множество других сочинений. Рахманинов, говоря словами Горького, "думал о России как о целом", сожалея о ее утратах и испытывая тревогу за судьбы будущего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6524280"/>
            <a:ext cx="8229600" cy="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6280" bIns="26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-1569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42920" y="764640"/>
            <a:ext cx="640872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Концертность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узыкальных произведений С.Рахманинова. Чеканный упругий ритм в сочетании с певучестью, "вокальностью", скульптурная лепка фразы, богатая и разнообразная "регистровка", обнаруживаю себя, не только в крупных симфонических композициях, но и во многих его фортепианных пьесах малой форм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ариации на тему рапсодии Пагани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7380360" y="1341360"/>
            <a:ext cx="1428840" cy="22478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755640" y="5589720"/>
            <a:ext cx="550800" cy="6634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8532720" y="549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17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17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1" fill="hold"/>
                                        <p:tgtEl>
                                          <p:spTgt spid="1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87280" y="274320"/>
            <a:ext cx="6840720" cy="61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 музыке Рахманинова очень важны 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христианские мотивы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удучи глубоко верующим человеком, Рахманинов не только сделал выдающийся вклад в развитие русской духовной музыки (Литургия св. Иоанна Златоуста,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Всенощное бдени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, но и в других своих произведениях воплотил христианские идеи и символик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6453360"/>
            <a:ext cx="8229600" cy="7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4480" bIns="244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8388360" y="69228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539640" y="4365720"/>
            <a:ext cx="395280" cy="477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restart="whenNotActive" nodeType="interactiveSeq" fill="hold">
                <p:stCondLst>
                  <p:cond evt="onClick">
                    <p:tgtEl>
                      <p:spTgt spid="120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120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1" fill="hold"/>
                                        <p:tgtEl>
                                          <p:spTgt spid="1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26920" y="274680"/>
            <a:ext cx="7058160" cy="63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иль Рахманинова складывается из цельного сплава самых различных элементов: </a:t>
            </a:r>
            <a:br>
              <a:rPr sz="2800"/>
            </a:b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традиций русской музыки — и джаз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</a:t>
            </a:r>
            <a:br>
              <a:rPr sz="28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ревнерусского знаменного распева — и «ресторанной» эстрады 1930-х гг.,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виртуозного стиля XIX века — и жёсткой токкатности авангарда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менно творчество Рахманинова объединило и сплавило творческие принципы Московской (П.Чайковский) и Петербургской («Могучая Кучка») школ в единый и цельный </a:t>
            </a:r>
            <a:br>
              <a:rPr sz="2800"/>
            </a:b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русский национальный стиль.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6381360"/>
            <a:ext cx="8229600" cy="14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7524720" y="1916280"/>
            <a:ext cx="1428840" cy="230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16000" y="274680"/>
            <a:ext cx="6696000" cy="632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ма «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Россия и её судьб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», генеральная для русского искусства всех видов и жанров, нашла в творчестве композитора исключительно характерное и законченное воплощение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хманинов в этом отношении явился как продолжателем традиции опер Мусоргского, Римского-Корсакова, симфоний Чайковского, так и связующим звеном в непрерывной цепи национальной традиции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а тема была продолжена в творчестве С. Прокофьева, Д. Шостаковича, Г. Свиридова, А. Шнитке,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музыкальным творчеством которых,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ы встретимся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следующих занятия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6524280"/>
            <a:ext cx="8229600" cy="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6280" bIns="26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39280" y="188640"/>
            <a:ext cx="648036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им был Сергей Васильевич?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детстве любил кататься на коньках. Из-за чего мог даже музыкальные занятия пропустить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ожал красоты родной природы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ыл очень скромным, стеснительным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юбил Р. Шумана, Э.Грига, А.П. Бородина и П.И.Чайковского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ожал русский фольклор!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ыл очень совестливым человеком!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рующий, православный, хороший семьянин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узыку сочинял скорее сердцем, очень искренно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клад его музыки - лирический и богатырский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узыка его очень национальна по духу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узыка С.В. Рахманинова - любима как в России, так и за рубежом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знан, наряду с Ф. Листом, одним из величайших пианистов мира!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ш урок мы начали с вопроса: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А каким видим  и знаем Рахманинова - мы, </a:t>
            </a:r>
            <a:br>
              <a:rPr sz="1800"/>
            </a:b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люди 21 века?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вет на этот вопрос прошу вас написать в форме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синквейн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6524280"/>
            <a:ext cx="8229600" cy="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6280" bIns="26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6877080" y="1197000"/>
            <a:ext cx="1828800" cy="230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6381360"/>
            <a:ext cx="8229600" cy="14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844600" y="2997000"/>
            <a:ext cx="2869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зентацию выполни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едорова А.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 музы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у сош № 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843280" y="115920"/>
            <a:ext cx="5976720" cy="674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Как-то однажды я задал ему вопрос, занимавший меня уже некоторое время: почему он, еще в России, бросил дирижировать.</a:t>
            </a:r>
            <a:br>
              <a:rPr sz="900"/>
            </a:br>
            <a:br>
              <a:rPr sz="900"/>
            </a:b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— Очень просто, Феденька, оркестровые музыканты народ особенный, они вам нарочно фальшивые ноты играют, проверяют ваш слух. Очень неприятно. А один раз даже один из музыкантов “Чижика” мне сыграл.</a:t>
            </a:r>
            <a:br>
              <a:rPr sz="900"/>
            </a:br>
            <a:br>
              <a:rPr sz="900"/>
            </a:b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— Как же это “Чижика”? — не понял я.</a:t>
            </a:r>
            <a:br>
              <a:rPr sz="900"/>
            </a:br>
            <a:br>
              <a:rPr sz="900"/>
            </a:b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— А вот, очень просто, так “Чижика” и сыграл.</a:t>
            </a:r>
            <a:br>
              <a:rPr sz="900"/>
            </a:br>
            <a:br>
              <a:rPr sz="900"/>
            </a:b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Тогда я узнал еще одну черту его характера, что если раз обидеть Сергея Васильевича — это значило потерять его навсегда.</a:t>
            </a:r>
            <a:br>
              <a:rPr sz="900"/>
            </a:br>
            <a:br>
              <a:rPr sz="900"/>
            </a:b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Конечно, это была, вероятно, не единственная причина того, что он бросил дирижировать. Его независимый характер, быть может, тоже играл в этом роль. В своем искусстве он был человек, не идущий ни на какие компромиссы, человек, который не хотел и не мог ни от кого зависеть и был “свободным художником” в буквальном смысле этих двух слов.</a:t>
            </a:r>
            <a:br>
              <a:rPr sz="900"/>
            </a:br>
            <a:br>
              <a:rPr sz="900"/>
            </a:b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Жаловался мне Сергей Васильевич также и на певцов, которые плохо знали свои партии.</a:t>
            </a:r>
            <a:br>
              <a:rPr sz="900"/>
            </a:br>
            <a:br>
              <a:rPr sz="900"/>
            </a:b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— Вот только ваш папаша всегда знал свои роли. Я был невольно рад за прилежание моего, в те годы молодого, отца.</a:t>
            </a:r>
            <a:br>
              <a:rPr sz="900"/>
            </a:br>
            <a:br>
              <a:rPr sz="900"/>
            </a:b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— Да, роли-то свои он знал, а вот на репетиции всегда опаздывал. Это у вас уж в семье...— говорил он, лукаво на меня поглядывая и быстро почесывая затылок.</a:t>
            </a:r>
            <a:br>
              <a:rPr sz="900"/>
            </a:br>
            <a:br>
              <a:rPr sz="900"/>
            </a:b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Впоследствии я узнал, что Сергей Васильевич проходил с отцом все его партии в театре Мамонтова, и мне стало ясно, почему мой отец так хорошо знал свои роли.</a:t>
            </a:r>
            <a:br>
              <a:rPr sz="900"/>
            </a:br>
            <a:br>
              <a:rPr sz="900"/>
            </a:b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— Только один раз было у меня с вашим папашей недоразумение,— рассказывал мне Сергей Васильевич,— пел он Сусанина, и там, в одном месте, он первый должен вступить, а я за ним. А Федя мой так разыгрался и такую закатил паузу, что я уж не выдержал и громко сказал ему: “Пора бы начинать, Федор Иванович”.</a:t>
            </a:r>
            <a:br>
              <a:rPr sz="900"/>
            </a:br>
            <a:br>
              <a:rPr sz="900"/>
            </a:b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И тут, как всегда, прикрыв рукой глаза, Сергей Васильевич засмеялся своим тихим смехом.</a:t>
            </a:r>
            <a:br>
              <a:rPr sz="900"/>
            </a:br>
            <a:br>
              <a:rPr sz="900"/>
            </a:b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— Ну, а что же публика? Что случилось? Что же дальше? — допытывался я.</a:t>
            </a:r>
            <a:br>
              <a:rPr sz="900"/>
            </a:br>
            <a:br>
              <a:rPr sz="900"/>
            </a:b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— Да нет, публики-то не было, только свои, это была генеральная репетиция.</a:t>
            </a:r>
            <a:br>
              <a:rPr sz="900"/>
            </a:br>
            <a:br>
              <a:rPr sz="900"/>
            </a:b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— Ну, а папа, как же он реагировал?</a:t>
            </a:r>
            <a:br>
              <a:rPr sz="900"/>
            </a:br>
            <a:br>
              <a:rPr sz="900"/>
            </a:b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— Ничего не сказал, только метнул на меня львиным взглядом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-360" y="6165360"/>
            <a:ext cx="2700360" cy="3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Ф. И. Шаляпин и С. В. Рахманинов. Фотография 1916 год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68360" y="2924280"/>
            <a:ext cx="2173320" cy="307332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1836720" y="115200"/>
            <a:ext cx="566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з воспоминаний Ф.Ф.Шаляпина о С.Рахманинов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16000" y="0"/>
            <a:ext cx="5688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ергей Васильевич Рахманинов (1873–1943) — русский композитор, пианист, дирижёр. С 4-5-летнего возраста Рахманинов играл на фортепиано. С 1882 занимался в Петербургской, с 1885 — в Московской консерваториях. Среди его педагогов: Н. С. Зверев и А. И. Зилоти (фортепиано), А. С. Аренский и С. И. Танеев (теоретические предметы, композиция)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годы учёбы написаны 1-й концерт для фортепиано с оркестром (1891), ряд фортепианных, камерно-инструментальных произведений, романсов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ольшое влияние на развитие композитора оказал П. И. Чайковский, распознавший уже в ученических сочинениях Рахманинова самобытное дарование. Окончил Московскую консерваторию как пианист и композитор.</a:t>
            </a:r>
            <a:br>
              <a:rPr sz="18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Но это, скорее, энциклопедия.</a:t>
            </a:r>
            <a:br>
              <a:rPr sz="2000"/>
            </a:b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А каким видим  и знаем Рахманинова - мы, </a:t>
            </a:r>
            <a:br>
              <a:rPr sz="2000"/>
            </a:b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люди 21 века?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143640" y="1599840"/>
            <a:ext cx="25236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6732720" y="404640"/>
            <a:ext cx="2143080" cy="2781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32000" y="189000"/>
            <a:ext cx="669600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 творчеством Сергея Рахманинова мы с вами начали знакомится еще в начальной школе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егодня мы попробуем вспомнить, обобщить все - 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что знаем об этом великом, русском композиторе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Итак, наше путешествие в </a:t>
            </a:r>
            <a:br>
              <a:rPr sz="2400"/>
            </a:b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«мир Рахманинова» начинается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6524280"/>
            <a:ext cx="8229600" cy="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6280" bIns="26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250920" y="3716280"/>
            <a:ext cx="3924360" cy="296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24000" y="274680"/>
            <a:ext cx="8362800" cy="22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хманинов Сергей Васильевич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"Чувствую себя призраком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оторый одиноко бродит в чужом ему мире...»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6453360"/>
            <a:ext cx="8229600" cy="7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4480" bIns="244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9280" y="2205000"/>
            <a:ext cx="489744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гда Вы подходите к берегу, и перед Вами водная гладь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 сразу чувствуете нутром, что это - озеро, море или океа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о ли небо такое глубокое, то ли это высота вол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узыка Рахманинова - это Океа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го волны - музыкальные - начинаются настолько далеко за горизонтом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возносят Вас так высоко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ак медленно Вас опускают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то Вы чувствуе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ту Мощь и Дыха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.Кончалов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5508720" y="1844640"/>
            <a:ext cx="3174840" cy="438156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8172360" y="549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57445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16000" y="259920"/>
            <a:ext cx="4968720" cy="65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се вы узнали только что прозвучавшую музыку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о мало кто знает, что песню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"All By Myself" в 1975 году написал Эрик Кармен.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есня интересная и красивая, не даром на нее сделано около полусотни каверов,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амый известный из которых - это "All By Myself" Селин Дион.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ервая версия песни, которую вы сейчас услышали, сопровождается красивейшим фортепианным проигрышем, который есть не что иное, как... отрывок второй части (adagio sostenuto) второго фортепианного концерта Сергея Васильевича Рахманинова. Да и музыка куплетов очень сильно напоминает концерт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Сначала автором All By Myself значился только Кармен, а впоследствии в авторах стали указывать и Рахманинова.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ак и стали писать - "All By Myself" - Carmen/Rachmaninoff.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ля сравнения прозвучит 2 концерт для фортепиано с оркестром, часть 2.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940000" y="4508280"/>
            <a:ext cx="1871640" cy="43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Эрик Карме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6084720" y="836640"/>
            <a:ext cx="2743200" cy="365760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1042920" y="5589720"/>
            <a:ext cx="457200" cy="5508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6084720" y="587700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5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5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32000" y="188640"/>
            <a:ext cx="763272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"Я русский композитор, и моя родина наложила отпечаток на мой характер и мои взгляды"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6524280"/>
            <a:ext cx="8229600" cy="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6280" bIns="26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24000" y="1628640"/>
            <a:ext cx="2962080" cy="389592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492360" y="1413000"/>
            <a:ext cx="5327640" cy="52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Яркая эмоциональность его музыки — черта, унаследованная от Чайковского, в сочетании с образностью и красотой мелодии, сделала музыку Рахманинова доступной, легко воспринимаемой и понимаемой. </a:t>
            </a:r>
            <a:br>
              <a:rPr sz="2000"/>
            </a:b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Подумайте и вспомните, чем музыка С.Рахманинова отличается от музыки других композиторов?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По каким признакам мы с вами понимаем –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да, это звучит Рахманинов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Что же характерно для музыки С.Рахманинова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Мелодизм и певучесть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- основное качество рахманиновского стиля. Множество удивительных мелодий рассыпано в концертах, сюитах, прелюдиях и романсах Сергея Рахманинова. В свободно развертывающихся лирических мелодиях Рахманинова с их длительным непрерывным дыханием часто слышится что-то родственное "неизбывной" широте русской протяжной народной песн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15640" y="274320"/>
            <a:ext cx="5977080" cy="61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Хотелось бы заострить внимание на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-м концерте для фортепиано с оркестром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овременники композитора предполагали, что в третьем концерте он использовал народную песню. Однако это не так.</a:t>
            </a:r>
            <a:br>
              <a:rPr sz="2400"/>
            </a:b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«Первая тема моего 3-го концерта,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писал Рахманинов, -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ни из народных, ни из церковных источников не заимствована. Просто так написалось. Я хотел спеть мелодию на фортепиано, как ее поют певцы. Вот и все!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6453360"/>
            <a:ext cx="8229600" cy="7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4480" bIns="244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7020000" y="765000"/>
            <a:ext cx="1904760" cy="2829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26560" y="0"/>
            <a:ext cx="3673800" cy="73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"Рахманинов?.." – </a:t>
            </a:r>
            <a:br>
              <a:rPr sz="1400"/>
            </a:br>
            <a:br>
              <a:rPr sz="1400"/>
            </a:b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и кто-то улыбнется. </a:t>
            </a:r>
            <a:br>
              <a:rPr sz="1400"/>
            </a:br>
            <a:br>
              <a:rPr sz="1400"/>
            </a:b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"Второй концерт?" -</a:t>
            </a:r>
            <a:br>
              <a:rPr sz="1400"/>
            </a:br>
            <a:br>
              <a:rPr sz="1400"/>
            </a:b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Да, Второй концерт!</a:t>
            </a:r>
            <a:br>
              <a:rPr sz="1400"/>
            </a:br>
            <a:br>
              <a:rPr sz="1400"/>
            </a:b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И Первый тоже...</a:t>
            </a:r>
            <a:br>
              <a:rPr sz="1400"/>
            </a:br>
            <a:br>
              <a:rPr sz="1400"/>
            </a:b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Вам Третьего конечно не понять...</a:t>
            </a:r>
            <a:br>
              <a:rPr sz="1400"/>
            </a:br>
            <a:br>
              <a:rPr sz="1400"/>
            </a:b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Не для того ведь </a:t>
            </a:r>
            <a:br>
              <a:rPr sz="1400"/>
            </a:br>
            <a:br>
              <a:rPr sz="1400"/>
            </a:b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Музыка! - </a:t>
            </a:r>
            <a:br>
              <a:rPr sz="1400"/>
            </a:br>
            <a:br>
              <a:rPr sz="1400"/>
            </a:b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Чтоб каждый мог</a:t>
            </a:r>
            <a:br>
              <a:rPr sz="1400"/>
            </a:br>
            <a:br>
              <a:rPr sz="1400"/>
            </a:b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Узнать</a:t>
            </a:r>
            <a:br>
              <a:rPr sz="1400"/>
            </a:br>
            <a:br>
              <a:rPr sz="1400"/>
            </a:b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Тебя...</a:t>
            </a:r>
            <a:br>
              <a:rPr sz="1400"/>
            </a:br>
            <a:br>
              <a:rPr sz="1400"/>
            </a:b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Ведь просто всё</a:t>
            </a:r>
            <a:br>
              <a:rPr sz="1400"/>
            </a:b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6308640"/>
            <a:ext cx="822960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3000"/>
          </a:bodyPr>
          <a:p>
            <a:pPr marL="216000" indent="-216000" algn="ctr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Д. Мацуев (пианист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211640" y="765000"/>
            <a:ext cx="3529080" cy="49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Тогда лишь -</a:t>
            </a:r>
            <a:br>
              <a:rPr sz="1400"/>
            </a:br>
            <a:br>
              <a:rPr sz="1400"/>
            </a:b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Да, именно тогда -</a:t>
            </a:r>
            <a:br>
              <a:rPr sz="1400"/>
            </a:br>
            <a:br>
              <a:rPr sz="1400"/>
            </a:b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И совпадает всё тогда - </a:t>
            </a:r>
            <a:br>
              <a:rPr sz="1400"/>
            </a:br>
            <a:br>
              <a:rPr sz="1400"/>
            </a:b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И разорваться всё внутри</a:t>
            </a:r>
            <a:br>
              <a:rPr sz="1400"/>
            </a:br>
            <a:br>
              <a:rPr sz="1400"/>
            </a:b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Готово - </a:t>
            </a:r>
            <a:br>
              <a:rPr sz="1400"/>
            </a:br>
            <a:br>
              <a:rPr sz="1400"/>
            </a:b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И вырваться</a:t>
            </a:r>
            <a:br>
              <a:rPr sz="1400"/>
            </a:br>
            <a:br>
              <a:rPr sz="1400"/>
            </a:b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Туда,</a:t>
            </a:r>
            <a:br>
              <a:rPr sz="1400"/>
            </a:br>
            <a:br>
              <a:rPr sz="1400"/>
            </a:b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Где ветер </a:t>
            </a:r>
            <a:br>
              <a:rPr sz="1400"/>
            </a:br>
            <a:br>
              <a:rPr sz="1400"/>
            </a:b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На просторе... - и снова</a:t>
            </a:r>
            <a:br>
              <a:rPr sz="1400"/>
            </a:br>
            <a:br>
              <a:rPr sz="1400"/>
            </a:b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Кто-то улыбнется - тогда</a:t>
            </a:r>
            <a:br>
              <a:rPr sz="1400"/>
            </a:br>
            <a:br>
              <a:rPr sz="1400"/>
            </a:b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Становится всё просто...</a:t>
            </a: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8317080" y="26028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2484360" y="188280"/>
            <a:ext cx="425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Звучит третий фортепианный концер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2050920" y="189000"/>
            <a:ext cx="352440" cy="425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5T11:21:10Z</dcterms:created>
  <dc:creator>HOME</dc:creator>
  <dc:description/>
  <dc:language>en-US</dc:language>
  <cp:lastModifiedBy>HOME</cp:lastModifiedBy>
  <dcterms:modified xsi:type="dcterms:W3CDTF">2010-01-28T06:08:06Z</dcterms:modified>
  <cp:revision>4</cp:revision>
  <dc:subject/>
  <dc:title>Композиторы – новаторы 20 века.</dc:title>
</cp:coreProperties>
</file>