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2.jpeg" ContentType="image/jpeg"/>
  <Override PartName="/ppt/media/image19.png" ContentType="image/png"/>
  <Override PartName="/ppt/media/image3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15.jpeg" ContentType="image/jpeg"/>
  <Override PartName="/ppt/media/image1.gif" ContentType="image/gif"/>
  <Override PartName="/ppt/media/image20.png" ContentType="image/png"/>
  <Override PartName="/ppt/media/image18.png" ContentType="image/png"/>
  <Override PartName="/ppt/media/image7.jpeg" ContentType="image/jpeg"/>
  <Override PartName="/ppt/media/image1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3E12-7D59-48BE-84BE-988B2854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EA69-007C-4F1E-8D2F-944FDF4C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3DBA-A6D9-4246-B4FA-842E08AC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CD43-80C4-4DEF-9744-D93670FE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53A-4253-444B-9310-7FD5FA35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019E-217C-490E-8B8F-8C2DC6CC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45A4-F70D-4A6E-9A7D-C920FCD6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E30F-2384-4F08-9789-7A91F130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3A67-6EF0-4482-A0A6-A8560073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E13B-8FC7-409F-B614-91ABD2C4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27D7-20C2-492D-967B-B00B88FA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9D59-B9FC-46E5-AFA8-EAA61D03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6D29-3248-4AB8-A686-F8AB04552B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0;&#1072;&#1078;&#1076;&#1099;&#1081;%20&#1088;&#1077;&#1073;&#1077;&#1085;&#1086;&#1082;%20&#1080;&#1084;&#1077;&#1077;&#1090;%20&#1087;&#1088;&#1072;&#1074;&#1086;...%20&#1086;&#1073;&#1103;&#1079;&#1072;&#1085;&#1085;&#1086;&#1089;&#1090;&#1100;%20&#1080;%20&#1086;&#1090;&#1074;&#1077;&#1090;&#1089;&#1090;&#1074;&#1077;&#1085;&#1085;&#1086;&#1089;&#1090;&#1100;.ppt#10. &#1057;&#1083;&#1072;&#1081;&#1076; 10" TargetMode="External"/><Relationship Id="rId2" Type="http://schemas.openxmlformats.org/officeDocument/2006/relationships/slide" Target="slide15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ealbrest.by/images/11(11)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bookin.org.ru/book/559316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ждый ребенок имеет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аво, ответственность и обязанность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5300640"/>
            <a:ext cx="896472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лушачева Т.В., учитель русского языка и литературы, филиал МОУ СОШ № 6  Ставропольский край Новоалександровский район  ст. Воскресенск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2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11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овокупность установленных и охраняемых государственной властью норм и правил, которые регулируют отношения между людь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68360" y="333360"/>
            <a:ext cx="432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раво - это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93372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ава человека – это возможности человека, которые принадлежат каждому от рождения и которые сопровождают его всю жи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 rot="19959000">
            <a:off x="0" y="4408200"/>
            <a:ext cx="29242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учеб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 rot="21368400">
            <a:off x="6227280" y="2708280"/>
            <a:ext cx="23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им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 rot="2838600">
            <a:off x="2058840" y="496800"/>
            <a:ext cx="2168640" cy="11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тд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 rot="1418400">
            <a:off x="0" y="1844640"/>
            <a:ext cx="28432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семь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324000" y="189000"/>
            <a:ext cx="2124360" cy="1066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000840" y="5589720"/>
            <a:ext cx="3143160" cy="1066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843280" y="5084640"/>
            <a:ext cx="3457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мед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омощ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 rot="2097600">
            <a:off x="5940000" y="4869000"/>
            <a:ext cx="2340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жизн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 rot="19099800">
            <a:off x="5673600" y="944640"/>
            <a:ext cx="1944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тру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90" name="picture" descr=""/>
          <p:cNvPicPr/>
          <p:nvPr/>
        </p:nvPicPr>
        <p:blipFill>
          <a:blip r:embed="rId4"/>
          <a:srcRect l="16611" t="15273" r="8306" b="5091"/>
          <a:stretch/>
        </p:blipFill>
        <p:spPr>
          <a:xfrm>
            <a:off x="3059280" y="2276640"/>
            <a:ext cx="2876400" cy="2411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91" name=""/>
          <p:cNvSpPr txBox="1"/>
          <p:nvPr/>
        </p:nvSpPr>
        <p:spPr>
          <a:xfrm>
            <a:off x="2556000" y="1916280"/>
            <a:ext cx="388764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311396"/>
                <a:gd name="adj2" fmla="val 73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 имею право на...</a:t>
            </a:r>
            <a:endParaRPr b="1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8900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ыберите  из  следующих  мыслей  те, которые  соответствуют  духу  прав  челове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154160"/>
            <a:ext cx="842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вобода есть возможность делать все, что мне хочет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вобода есть право делать все, что позволено закон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вобода есть независимость от норм установленных людь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вобода есть независимость от заветов Бог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вобода одного человека ограничена пределами свободы друг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Конвенция о правах ребенка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Статья 28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1. Государства-участники признают право ребенка на образо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вводят бесплатное и обязательное начальное образо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Конституция Российской Федерации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Статья 43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Каждый имеет право на образован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Основное общее образование обязательно. Родители или лица, их заменяющие, обеспечивают получение детьми основного общего образова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Закон об образовании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Статья 3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Основными принципами правового регулирования отношений в сфере образования признаются: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обязательность среднего образова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Из Устава ОУ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Общее образование является обязательны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26920" y="189000"/>
            <a:ext cx="7201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бязанност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4321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 на жизн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 на имя при рожде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 на  труд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 на защиту жиз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 свободно выражать свое мн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 на медицинскую помощ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 на образо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 на отдых и досуг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 на заботу и воспитание родител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64000" y="836640"/>
            <a:ext cx="3780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блюдение Устава Школ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обросовестное обуч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бережное отношение к имуществу школ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блюдение правил поведения обучающих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важать права всех участников образовательного процес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00000" y="260280"/>
            <a:ext cx="7201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рава и обязанност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Круг действий, возложенных на кого-нибудь и безусловных для выполнения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364500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бязанность – это требования к поведению и отношению (к учебе, к работе, к людям), которые человек должен выполн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08360" cy="2903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067280" y="260280"/>
            <a:ext cx="5076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рава и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бязанности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3743640" cy="2928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364000" y="3900600"/>
            <a:ext cx="3780000" cy="29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4920" y="692280"/>
            <a:ext cx="8388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спределите в два столбика права и обязанности школьни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Бесплатное образо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Активность в приобретении зна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Уважать мнение всех учащихся и уч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Удобное рабочее мест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Посещать школу в предназначенное для этого врем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Зашита личной собствен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Посещение школьных мероприят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Не пропускать занятия без уважительных причи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Вести себя корректно на переменах и уроках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. Деловое сотрудничество с учителе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 Соблюдать ПДД и ППБ, а также технику безопас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 Беречь школьное имущ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53880" y="5941800"/>
            <a:ext cx="332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ТВЕТЫ: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АВА: 1,2,4,6,7,10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БЯЗАННОСТИ: 3,5,8,9,11,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54"/>
          <p:cNvSpPr/>
          <p:nvPr/>
        </p:nvSpPr>
        <p:spPr>
          <a:xfrm>
            <a:off x="5580000" y="476280"/>
            <a:ext cx="144360" cy="4321080"/>
          </a:xfrm>
          <a:prstGeom prst="downArrow">
            <a:avLst>
              <a:gd name="adj1" fmla="val 50000"/>
              <a:gd name="adj2" fmla="val 74831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920" y="1197000"/>
            <a:ext cx="208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Уголовна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76360" y="0"/>
            <a:ext cx="59752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тветственность 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867280" y="1125360"/>
            <a:ext cx="3024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Административна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1449360" cy="187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020000" y="1484280"/>
            <a:ext cx="1393920" cy="2016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124000" y="2060640"/>
            <a:ext cx="338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Гражданско-правова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334680"/>
            <a:ext cx="223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тветственность за нарушение законов, предусмотренных Уголовным кодексом: убийство, грабёж, изнасилование, оскорбления, мелкие хищения, хулиганство, воровство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3710520"/>
            <a:ext cx="223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тветственность за нарушения, предусмотренные кодексом об административных правонарушениях: штраф, предупреждение, исправительные работ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71640" y="2421000"/>
            <a:ext cx="20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регулирует имущественные отношения: возмещение вреда, уплата ущерб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32"/>
          <p:cNvSpPr/>
          <p:nvPr/>
        </p:nvSpPr>
        <p:spPr>
          <a:xfrm>
            <a:off x="1619280" y="549360"/>
            <a:ext cx="504720" cy="71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54"/>
          <p:cNvSpPr/>
          <p:nvPr/>
        </p:nvSpPr>
        <p:spPr>
          <a:xfrm>
            <a:off x="3635280" y="620640"/>
            <a:ext cx="144720" cy="1584360"/>
          </a:xfrm>
          <a:prstGeom prst="downArrow">
            <a:avLst>
              <a:gd name="adj1" fmla="val 50000"/>
              <a:gd name="adj2" fmla="val 2736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34"/>
          <p:cNvSpPr/>
          <p:nvPr/>
        </p:nvSpPr>
        <p:spPr>
          <a:xfrm flipH="1">
            <a:off x="6516000" y="404640"/>
            <a:ext cx="360360" cy="79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987640" y="4797360"/>
            <a:ext cx="2808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Дисциплинарна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5157360"/>
            <a:ext cx="41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тветственность за нарушение трудовых обязанностей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поздание на работу, прогул без уважительной прич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2707920"/>
            <a:ext cx="9144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Обязанность и готовность человека отвечать за совершенные действия, поступки и их последств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Пр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2" action="ppaction://hlinksldjump"/>
              </a:rPr>
              <a:t>Обязанность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3" action="ppaction://hlinksldjump"/>
              </a:rPr>
              <a:t>Ответственность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324000" y="2421000"/>
            <a:ext cx="7920000" cy="22885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Закончите предложени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 Право это……………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Обязанность это………………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Ответственность это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549360"/>
            <a:ext cx="86774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стоит в том, что его нельзя увидеть или потрогать. Мир правил представляется нам в виде различных прав или обязанностей, и мы говорим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Я имею право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Я обязан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987640" y="189000"/>
            <a:ext cx="295272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Тайна права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5157720"/>
            <a:ext cx="8675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Заявляя о своих личных правах необходимо помнить: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ни есть и у всех остальных людей,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учитесь уважать личные права других также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как вы хотите, чтобы уважали ваши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324000" y="27082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79280" y="18900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Синквейн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то пятистрочный стих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авила написания синквей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179280" y="1773360"/>
            <a:ext cx="2303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2808360" y="1268280"/>
            <a:ext cx="63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уществительное, обозначающее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ему синквей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179280" y="2852640"/>
            <a:ext cx="21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179280" y="4076640"/>
            <a:ext cx="21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0" y="13413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вая ст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0" y="242100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торая ст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0" y="3645000"/>
            <a:ext cx="19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ретья ст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2843280" y="2276640"/>
            <a:ext cx="60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ва прилагательных, раскрывающие какие-то интересные признаки предмета, заявленного в те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2771640" y="1268280"/>
            <a:ext cx="6085080" cy="8654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2771640" y="2349360"/>
            <a:ext cx="6048360" cy="10782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2808360" y="3681360"/>
            <a:ext cx="6048360" cy="10429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2916360" y="3860640"/>
            <a:ext cx="57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2916360" y="3573360"/>
            <a:ext cx="55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ри глагола, раскрывающие действия, воздействия и т. д., свойственные данному явлению, предме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216000" y="5300640"/>
            <a:ext cx="21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9"/>
          <p:cNvSpPr/>
          <p:nvPr/>
        </p:nvSpPr>
        <p:spPr>
          <a:xfrm>
            <a:off x="179280" y="4869000"/>
            <a:ext cx="20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етвертая ст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30"/>
          <p:cNvSpPr/>
          <p:nvPr/>
        </p:nvSpPr>
        <p:spPr>
          <a:xfrm>
            <a:off x="2808360" y="4905360"/>
            <a:ext cx="6048360" cy="8287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1"/>
          <p:cNvSpPr/>
          <p:nvPr/>
        </p:nvSpPr>
        <p:spPr>
          <a:xfrm>
            <a:off x="2843280" y="4869000"/>
            <a:ext cx="60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фраза, раскрывающая суть явления, предмета, усиливающая предыдущие две стро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32"/>
          <p:cNvSpPr/>
          <p:nvPr/>
        </p:nvSpPr>
        <p:spPr>
          <a:xfrm>
            <a:off x="250920" y="6165720"/>
            <a:ext cx="2305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3"/>
          <p:cNvSpPr/>
          <p:nvPr/>
        </p:nvSpPr>
        <p:spPr>
          <a:xfrm>
            <a:off x="324000" y="5734080"/>
            <a:ext cx="19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ятая ст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4"/>
          <p:cNvSpPr/>
          <p:nvPr/>
        </p:nvSpPr>
        <p:spPr>
          <a:xfrm>
            <a:off x="2808360" y="6021360"/>
            <a:ext cx="6084720" cy="6843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9280" y="5734080"/>
            <a:ext cx="533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уществительное, выступающее как итог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ывод, подводящее чер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1332000" y="189000"/>
            <a:ext cx="684216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Человеку много  нужно,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03280" y="549360"/>
            <a:ext cx="662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Чтобы счастливо прожить.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476360" y="907920"/>
            <a:ext cx="6553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Нужен дождь и даже лужи,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76360" y="1341360"/>
            <a:ext cx="6553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Нужно с кем-нибудь дружить.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476360" y="1773360"/>
            <a:ext cx="64818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Нужен ветер, нужно море,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76360" y="2205000"/>
            <a:ext cx="640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Нужно солнце и леса,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476360" y="2637000"/>
            <a:ext cx="6481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Нужно счастье, нужно горе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76360" y="3068640"/>
            <a:ext cx="640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И родные голоса.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476360" y="3500280"/>
            <a:ext cx="648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Невозможно без природы,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403280" y="3933720"/>
            <a:ext cx="640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Без синеющих небес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403280" y="4365720"/>
            <a:ext cx="640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Хорошо иметь свободу,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403280" y="4797360"/>
            <a:ext cx="640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Мир загадок и чудес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403280" y="5157720"/>
            <a:ext cx="6337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Чтобы жить на белом свете,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403280" y="5589720"/>
            <a:ext cx="648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Чтоб остался рядом друг,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476360" y="6021360"/>
            <a:ext cx="6264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Надо главное заметить,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476360" y="6497640"/>
            <a:ext cx="6265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се почувствовать вокруг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31708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17675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писок использованно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литературы: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кларация прав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венция о правах ребе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лание президента Федеральному собра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ституция РФ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кон об образовании РФ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тав О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ный сборник кодексов РФ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борник законов РФ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ловарь обществоведческих термин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анимаш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1763640" y="549360"/>
            <a:ext cx="5472360" cy="547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51160" cy="2730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3830760"/>
            <a:ext cx="4427640" cy="3027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643280" y="0"/>
            <a:ext cx="4500720" cy="2712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076720" y="3859200"/>
            <a:ext cx="4067280" cy="299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" descr=""/>
          <p:cNvPicPr/>
          <p:nvPr/>
        </p:nvPicPr>
        <p:blipFill>
          <a:blip r:embed="rId7"/>
          <a:srcRect l="8306" t="5091" r="8306" b="5091"/>
          <a:stretch/>
        </p:blipFill>
        <p:spPr>
          <a:xfrm>
            <a:off x="3059280" y="1628640"/>
            <a:ext cx="3311280" cy="2952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45720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67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492360" y="260280"/>
            <a:ext cx="460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углый стол</a:t>
            </a:r>
            <a:endParaRPr b="1" i="1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76720" y="765000"/>
            <a:ext cx="15861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:</a:t>
            </a:r>
            <a:endParaRPr b="1" i="1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 rot="5400000">
            <a:off x="-2161080" y="3033720"/>
            <a:ext cx="5977080" cy="718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e701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ждый 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e701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 rot="5400000">
            <a:off x="-829080" y="2997000"/>
            <a:ext cx="58327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e701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ребёнок 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e701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987640" y="1484280"/>
            <a:ext cx="5543640" cy="46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меет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о...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язанность и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ветственность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Из Послания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Д.А.Медведева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 Фото: &quot;РГ&quot;"/>
          <p:cNvPicPr/>
          <p:nvPr/>
        </p:nvPicPr>
        <p:blipFill>
          <a:blip r:embed="rId1"/>
          <a:stretch/>
        </p:blipFill>
        <p:spPr>
          <a:xfrm>
            <a:off x="179280" y="189000"/>
            <a:ext cx="2513160" cy="3141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916360" y="620640"/>
            <a:ext cx="6227640" cy="3313080"/>
          </a:xfrm>
          <a:prstGeom prst="wedgeRectCallout">
            <a:avLst>
              <a:gd name="adj1" fmla="val -55504"/>
              <a:gd name="adj2" fmla="val -5055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аша политика в области детства базируется на общепризнанных международных нормах. Декларация прав ребенка, утвержденная Ассамблеей Организации Объединенных Наций, провозгласила, что "человечество обязано давать ребенку лучшее, что оно имеет". А Конвенция о правах ребенка установила приоритетность интересов детей перед интересами общества и государства. В 2009 году при президенте был создан институт Уполномоченного по правам ребе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4149720"/>
            <a:ext cx="8532720" cy="2708280"/>
          </a:xfrm>
          <a:prstGeom prst="wedgeRectCallout">
            <a:avLst>
              <a:gd name="adj1" fmla="val -40828"/>
              <a:gd name="adj2" fmla="val -82592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6 миллионов детей и подростков, живущих в нашей стране, должны полноценно развиваться, расти здоровыми и счастливыми, стать ее достойными гражданами. Это задача номер один для всех нас. Забота о будущих поколениях - это самые надежные, умные и благородные инвестиции. Общество, в котором на деле защищают права ребенка и уважают его личное достоинство, не только добрее и человечнее, это общество быстрее и лучше развива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490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Декларация прав челове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(принята ООН в 1959 г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Конвенци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о Правах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Ребен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(принята ООН 2 ноября 1989 г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62064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-й уровень –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международ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Картинка 4 из 116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628640"/>
            <a:ext cx="3016080" cy="288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932360" y="3790800"/>
            <a:ext cx="2219400" cy="3067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Законы, регулирующие права ребенка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3349" t="0" r="0" b="0"/>
          <a:stretch/>
        </p:blipFill>
        <p:spPr>
          <a:xfrm>
            <a:off x="5724360" y="3573360"/>
            <a:ext cx="2194200" cy="3284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-й уровень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государственный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онституция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емейный кодекс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Гражданский кодекс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948360" y="620640"/>
            <a:ext cx="2025720" cy="2879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Картинка 18 из 73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20640"/>
            <a:ext cx="200016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-й уровень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федеральный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Федеральная президентская программа «Дети России», в составе которой целевые программы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«Дети-инвалиды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«Дети-сироты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«Дети Севера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«Дети Чернобыля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«Планирование семьи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«Одаренные дет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Федеральный закон «О государственной поддержке молодежных и детских общественных объединений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Федеральный закон «Об основных гарантиях прав ребенка в Российской Федерации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Федеральный закон «Об образовании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Нормативные документы образовательного учрежд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Устав О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ложе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ормативные ак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Основные положения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Конвенции о правах ребенка</a:t>
            </a:r>
            <a:endParaRPr b="0" lang="en-US" sz="3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ждый ребёнок имеет неотъемлемое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аво на жизн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и государство обеспечивает в максимально возможной степени выживание и здоровое развитие ребё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ти имеют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аво свободно выражать своё мн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одители несут основную ответственность за воспитание ребё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осударства-участники обеспечивают в максимально возможной степени выживание и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здоровое развитие ребе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осударства-участники обеспечивают, чтобы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ребенок не разлучался со своими родителям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вопреки их жела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бёнок имеет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аво на образов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осударства уважают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аво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бёнка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на свободу мыс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20:35:51Z</dcterms:created>
  <dc:creator>Customer</dc:creator>
  <dc:description/>
  <dc:language>en-US</dc:language>
  <cp:lastModifiedBy>оош13</cp:lastModifiedBy>
  <dcterms:modified xsi:type="dcterms:W3CDTF">2011-03-28T09:39:49Z</dcterms:modified>
  <cp:revision>45</cp:revision>
  <dc:subject/>
  <dc:title>Слайд 1</dc:title>
</cp:coreProperties>
</file>