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2.jpeg" ContentType="image/jpeg"/>
  <Override PartName="/ppt/media/image19.png" ContentType="image/png"/>
  <Override PartName="/ppt/media/image3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560-32F3-49BC-B4DA-14BC4B96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B4D-268D-47F0-A1BA-CCE5D290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AB9-BA75-434C-A0C5-87598B59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303-A6F0-437E-9B56-251E9F69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871-524D-4A77-AF37-EA12D95E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9D5-0C00-46B7-9382-CB75F8D0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23E-1A3D-4E6B-99AB-A5D0E3A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17C-8829-4C49-AD18-3BE765F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4EE-05F7-46F9-9BF0-A972ED59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9FA-317E-40C7-9E57-074E514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E09-4AAD-41E0-8988-416AAEE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9A7-408A-4583-8B4D-F8D8A1E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D97B-D0B6-406A-B2CA-A664A0FB01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0;&#1072;&#1078;&#1076;&#1099;&#1081;%20&#1088;&#1077;&#1073;&#1077;&#1085;&#1086;&#1082;%20&#1080;&#1084;&#1077;&#1077;&#1090;%20&#1087;&#1088;&#1072;&#1074;&#1086;...%20&#1086;&#1073;&#1103;&#1079;&#1072;&#1085;&#1085;&#1086;&#1089;&#1090;&#1100;%20&#1080;%20&#1086;&#1090;&#1074;&#1077;&#1090;&#1089;&#1090;&#1074;&#1077;&#1085;&#1085;&#1086;&#1089;&#1090;&#1100;.ppt#10. &#1057;&#1083;&#1072;&#1081;&#1076; 10" TargetMode="External"/><Relationship Id="rId2" Type="http://schemas.openxmlformats.org/officeDocument/2006/relationships/slide" Target="slide15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albrest.by/images/11(11)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bookin.org.ru/book/559316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ждый ребенок имеет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аво, ответственность и обязанность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00640"/>
            <a:ext cx="896472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лушачева Т.В., учитель русского языка и литературы, филиал МОУ СОШ № 6  Ставропольский край Новоалександровский район  ст. Воскресен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2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овокупность установленных и охраняемых государственной властью норм и правил, которые регулируют отношения между людь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68360" y="333360"/>
            <a:ext cx="43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о - эт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93372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а человека – это возможности человека, которые принадлежат каждому от рождения и которые сопровождают его вс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19959000">
            <a:off x="0" y="4408200"/>
            <a:ext cx="2924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 rot="21368400">
            <a:off x="6227280" y="270828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им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 rot="2838600">
            <a:off x="2058840" y="496800"/>
            <a:ext cx="2168640" cy="11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д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 rot="1418400">
            <a:off x="0" y="1844640"/>
            <a:ext cx="2843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ем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324000" y="189000"/>
            <a:ext cx="212436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000840" y="5589720"/>
            <a:ext cx="314316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843280" y="5084640"/>
            <a:ext cx="34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омощ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2097600">
            <a:off x="5940000" y="4869000"/>
            <a:ext cx="234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и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 rot="19099800">
            <a:off x="5673600" y="944640"/>
            <a:ext cx="194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ру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0" name="picture" descr=""/>
          <p:cNvPicPr/>
          <p:nvPr/>
        </p:nvPicPr>
        <p:blipFill>
          <a:blip r:embed="rId4"/>
          <a:srcRect l="16611" t="15273" r="8306" b="5091"/>
          <a:stretch/>
        </p:blipFill>
        <p:spPr>
          <a:xfrm>
            <a:off x="3059280" y="2276640"/>
            <a:ext cx="2876400" cy="2411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91" name=""/>
          <p:cNvSpPr txBox="1"/>
          <p:nvPr/>
        </p:nvSpPr>
        <p:spPr>
          <a:xfrm>
            <a:off x="2556000" y="1916280"/>
            <a:ext cx="3887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311396"/>
                <a:gd name="adj2" fmla="val 73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имею право на...</a:t>
            </a:r>
            <a:endParaRPr b="1" lang="en-US" sz="1800" spc="1" strike="noStrike">
              <a:ln w="2232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берите  из  следующих  мыслей  те, которые  соответствуют  духу  прав  челове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5416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возможность делать все, что мне хоче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право делать все, что позволено закон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независимость от норм установленных людь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есть независимость от заветов Б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вобода одного человека ограничена пределами свободы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Конвенция о правах ребенка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28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1. Государства-участники признают право ребенка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вводят бесплатное и обязательное началь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Конституция Российской Федерации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43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Каждый имеет право на образов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сновное общее образование обязательно. Родители или лица, их заменяющие, обеспечивают получение детьми основного общего обра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Закон об образовании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Статья 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сновными принципами правового регулирования отношений в сфере образования признаются: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бязательность среднего образ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Из Устава ОУ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Общее образование является обязатель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26920" y="189000"/>
            <a:ext cx="7201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язанн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21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жиз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имя при рожд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 тру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защиту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свободно выражать свое м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медицинскую помощ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обра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отдых и досуг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во на заботу и воспитание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64000" y="836640"/>
            <a:ext cx="3780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людение Устава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бросовестное обуч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ережное отношение к имуществу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блюдение правил поведения обучающих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ажать права всех участников образователь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260280"/>
            <a:ext cx="7201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а и обязанно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Круг действий, возложенных на кого-нибудь и безусловных для выполне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64500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бязанность – это требования к поведению и отношению (к учебе, к работе, к людям), которые человек должен выполн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2903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067280" y="260280"/>
            <a:ext cx="507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ава 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язанности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37436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64000" y="3900600"/>
            <a:ext cx="3780000" cy="29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38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пределите в два столбика права и обязанности школьн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Бесплатное обра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Активность в приобретении зна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Уважать мнение всех учащихся и уч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Удобное рабоче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Посещать школу в предназначенное для этого врем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Зашита личной собствен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Посещение школьных меропри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Не пропускать занятия без уважительных прич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Вести себя корректно на переменах и урока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 Деловое сотрудничество с уч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 Соблюдать ПДД и ППБ, а также технику безопас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 Беречь школьное имущ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53880" y="5941800"/>
            <a:ext cx="332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Ы: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АВА: 1,2,4,6,7,10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ЯЗАННОСТИ: 3,5,8,9,11,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4"/>
          <p:cNvSpPr/>
          <p:nvPr/>
        </p:nvSpPr>
        <p:spPr>
          <a:xfrm>
            <a:off x="5580000" y="476280"/>
            <a:ext cx="144360" cy="4321080"/>
          </a:xfrm>
          <a:prstGeom prst="downArrow">
            <a:avLst>
              <a:gd name="adj1" fmla="val 50000"/>
              <a:gd name="adj2" fmla="val 74831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1197000"/>
            <a:ext cx="208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голов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76360" y="0"/>
            <a:ext cx="5975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ветственность 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867280" y="1125360"/>
            <a:ext cx="302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дминистратив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144936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20000" y="1484280"/>
            <a:ext cx="139392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124000" y="2060640"/>
            <a:ext cx="338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Гражданско-правов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4680"/>
            <a:ext cx="223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е законов, предусмотренных Уголовным кодексом: убийство, грабёж, изнасилование, оскорбления, мелкие хищения, хулиганство, воровство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3710520"/>
            <a:ext cx="22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я, предусмотренные кодексом об административных правонарушениях: штраф, предупреждение, исправительные работ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242100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гулирует имущественные отношения: возмещение вреда, уплата ущерб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32"/>
          <p:cNvSpPr/>
          <p:nvPr/>
        </p:nvSpPr>
        <p:spPr>
          <a:xfrm>
            <a:off x="1619280" y="549360"/>
            <a:ext cx="504720" cy="71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4"/>
          <p:cNvSpPr/>
          <p:nvPr/>
        </p:nvSpPr>
        <p:spPr>
          <a:xfrm>
            <a:off x="3635280" y="620640"/>
            <a:ext cx="144720" cy="1584360"/>
          </a:xfrm>
          <a:prstGeom prst="downArrow">
            <a:avLst>
              <a:gd name="adj1" fmla="val 50000"/>
              <a:gd name="adj2" fmla="val 2736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34"/>
          <p:cNvSpPr/>
          <p:nvPr/>
        </p:nvSpPr>
        <p:spPr>
          <a:xfrm flipH="1">
            <a:off x="6516000" y="404640"/>
            <a:ext cx="360360" cy="79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87640" y="4797360"/>
            <a:ext cx="280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исциплинарн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15736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ветственность за нарушение трудовых обязанносте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поздание на работу, прогул без уважительной прич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9144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бязанность и готовность человека отвечать за совершенные действия, поступки и их 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Обязанност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тветственность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324000" y="2421000"/>
            <a:ext cx="7920000" cy="2288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Право это……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Обязанность это………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Ответственность это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49360"/>
            <a:ext cx="867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ит в том, что его нельзя увидеть или потрогать. Мир правил представляется нам в виде различных прав или обязанностей, и мы говорим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имею право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обязан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987640" y="189000"/>
            <a:ext cx="29527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йна права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5157720"/>
            <a:ext cx="867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Заявляя о своих личных правах необходимо помнить: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ни есть и у всех остальных людей,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читесь уважать личные права других также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как вы хотите, чтобы уважали ваши 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24000" y="2708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79280" y="18900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Синквейн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пятистрочный сти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ила написания синквей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177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808360" y="126828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уществительное, обозначающее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у синкве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79280" y="2852640"/>
            <a:ext cx="21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179280" y="4076640"/>
            <a:ext cx="21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0" y="13413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0" y="24210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тор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0" y="364500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еть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843280" y="227664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ва прилагательных, раскрывающие какие-то интересные признаки предмета, заявленного в 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2771640" y="1268280"/>
            <a:ext cx="6085080" cy="8654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2771640" y="2349360"/>
            <a:ext cx="6048360" cy="1078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808360" y="3681360"/>
            <a:ext cx="6048360" cy="10429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916360" y="3860640"/>
            <a:ext cx="57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916360" y="3573360"/>
            <a:ext cx="55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и глагола, раскрывающие действия, воздействия и т. д., свойственные данному явлению, предме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16000" y="5300640"/>
            <a:ext cx="21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179280" y="4869000"/>
            <a:ext cx="20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етверт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0"/>
          <p:cNvSpPr/>
          <p:nvPr/>
        </p:nvSpPr>
        <p:spPr>
          <a:xfrm>
            <a:off x="2808360" y="4905360"/>
            <a:ext cx="6048360" cy="828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1"/>
          <p:cNvSpPr/>
          <p:nvPr/>
        </p:nvSpPr>
        <p:spPr>
          <a:xfrm>
            <a:off x="2843280" y="4869000"/>
            <a:ext cx="60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фраза, раскрывающая суть явления, предмета, усиливающая предыдущие две стро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32"/>
          <p:cNvSpPr/>
          <p:nvPr/>
        </p:nvSpPr>
        <p:spPr>
          <a:xfrm>
            <a:off x="250920" y="6165720"/>
            <a:ext cx="2305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3"/>
          <p:cNvSpPr/>
          <p:nvPr/>
        </p:nvSpPr>
        <p:spPr>
          <a:xfrm>
            <a:off x="324000" y="573408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ятая ст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2808360" y="6021360"/>
            <a:ext cx="6084720" cy="6843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5734080"/>
            <a:ext cx="53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уществительное, выступающее как итог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ывод, подводящее чер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332000" y="189000"/>
            <a:ext cx="6842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Человеку много  нужно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03280" y="54936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Чтобы счастливо прожить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76360" y="907920"/>
            <a:ext cx="655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ен дождь и даже лужи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76360" y="1341360"/>
            <a:ext cx="655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 кем-нибудь дружить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76360" y="1773360"/>
            <a:ext cx="64818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ен ветер, нужно море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76360" y="220500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олнце и леса,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476360" y="2637000"/>
            <a:ext cx="6481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Нужно счастье, нужно горе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476360" y="306864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И родные голоса.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76360" y="3500280"/>
            <a:ext cx="648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евозможно без природы,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03280" y="393372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ез синеющих небес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03280" y="436572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Хорошо иметь свободу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03280" y="4797360"/>
            <a:ext cx="640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ир загадок и чудес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03280" y="5157720"/>
            <a:ext cx="633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тобы жить на белом свете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03280" y="5589720"/>
            <a:ext cx="648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Чтоб остался рядом друг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76360" y="6021360"/>
            <a:ext cx="626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до главное заметить,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76360" y="6497640"/>
            <a:ext cx="6265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се почувствовать вокруг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1767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исок использованно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литературы: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кларация прав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венция о правах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ание президента Федеральному собр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итуция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кон об образовании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ав 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ный сборник кодексов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борник законов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ловарь обществоведческих терми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анимаш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763640" y="549360"/>
            <a:ext cx="5472360" cy="54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51160" cy="273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3830760"/>
            <a:ext cx="4427640" cy="302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271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076720" y="3859200"/>
            <a:ext cx="4067280" cy="29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" descr=""/>
          <p:cNvPicPr/>
          <p:nvPr/>
        </p:nvPicPr>
        <p:blipFill>
          <a:blip r:embed="rId7"/>
          <a:srcRect l="8306" t="5091" r="8306" b="5091"/>
          <a:stretch/>
        </p:blipFill>
        <p:spPr>
          <a:xfrm>
            <a:off x="3059280" y="1628640"/>
            <a:ext cx="3311280" cy="2952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572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7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492360" y="260280"/>
            <a:ext cx="460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глый стол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76720" y="765000"/>
            <a:ext cx="1586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:</a:t>
            </a:r>
            <a:endParaRPr b="1" i="1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-2161080" y="3033720"/>
            <a:ext cx="597708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e701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ждый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e701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-829080" y="2997000"/>
            <a:ext cx="5832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e701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ебёнок 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e701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87640" y="1484280"/>
            <a:ext cx="554364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ет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язанность 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ветственность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51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з Послания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.А.Медведев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 Фото: &quot;РГ&quot;"/>
          <p:cNvPicPr/>
          <p:nvPr/>
        </p:nvPicPr>
        <p:blipFill>
          <a:blip r:embed="rId1"/>
          <a:stretch/>
        </p:blipFill>
        <p:spPr>
          <a:xfrm>
            <a:off x="179280" y="189000"/>
            <a:ext cx="251316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620640"/>
            <a:ext cx="6227640" cy="3313080"/>
          </a:xfrm>
          <a:prstGeom prst="wedgeRectCallout">
            <a:avLst>
              <a:gd name="adj1" fmla="val -55504"/>
              <a:gd name="adj2" fmla="val -5055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ша политика в области детства базируется на общепризнанных международных нормах. Декларация прав ребенка, утвержденная Ассамблеей Организации Объединенных Наций, провозгласила, что "человечество обязано давать ребенку лучшее, что оно имеет". А Конвенция о правах ребенка установила приоритетность интересов детей перед интересами общества и государства. В 2009 году при президенте был создан институт Уполномоченного по правам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149720"/>
            <a:ext cx="8532720" cy="2708280"/>
          </a:xfrm>
          <a:prstGeom prst="wedgeRectCallout">
            <a:avLst>
              <a:gd name="adj1" fmla="val -40828"/>
              <a:gd name="adj2" fmla="val -82592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6 миллионов детей и подростков, живущих в нашей стране, должны полноценно развиваться, расти здоровыми и счастливыми, стать ее достойными гражданами. Это задача номер один для всех нас. Забота о будущих поколениях - это самые надежные, умные и благородные инвестиции. Общество, в котором на деле защищают права ребенка и уважают его личное достоинство, не только добрее и человечнее, это общество быстрее и лучше развив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Декларация прав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принята ООН в 1959 г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Конвен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 Правах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Ребен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принята ООН 2 ноября 1989 г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62064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-й уровень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еждународ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Картинка 4 из 11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628640"/>
            <a:ext cx="301608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32360" y="3790800"/>
            <a:ext cx="2219400" cy="3067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Законы, регулирующие права ребенка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349" t="0" r="0" b="0"/>
          <a:stretch/>
        </p:blipFill>
        <p:spPr>
          <a:xfrm>
            <a:off x="5724360" y="3573360"/>
            <a:ext cx="2194200" cy="3284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-й уровень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государственный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онституция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емейный кодек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Гражданский кодекс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202572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Картинка 18 из 7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620640"/>
            <a:ext cx="200016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-й уровень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федеральный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ая президентская программа «Дети России», в составе которой целевые программы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-инвалиды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-сироты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 Север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Дети Чернобыля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Планирование семьи»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«Одаренные дет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 государственной поддержке молодежных и детских общественных объединений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б основных гарантиях прав ребенка в Российской Федерации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Федеральный закон «Об образовании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Нормативные документы образовательного учрежд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Устав 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лож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рмативные ак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Основные положения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Конвенции о правах ребенка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ждый ребёнок имеет неотъемлемо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на жизн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и государство обеспечивает в максимально возможной степени выживание и здоровое развитие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ти имею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свободно выражать своё мн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одители несут основную ответственность за воспитание ребё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-участники обеспечивают в максимально возможной степени выживание 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здоровое развитие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-участники обеспечивают, чтобы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ебенок не разлучался со своими родителям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вопреки их жела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ок имее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аво на образ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сударства уважаю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раво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ёнка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на свободу мыс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eti-66.ru  Мастер презентац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20:35:51Z</dcterms:created>
  <dc:creator>Customer</dc:creator>
  <dc:description/>
  <dc:language>en-US</dc:language>
  <cp:lastModifiedBy>оош13</cp:lastModifiedBy>
  <dcterms:modified xsi:type="dcterms:W3CDTF">2011-03-28T09:39:49Z</dcterms:modified>
  <cp:revision>45</cp:revision>
  <dc:subject/>
  <dc:title>Слайд 1</dc:title>
</cp:coreProperties>
</file>