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7D9F-E126-4C6C-8100-8736E4272A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познакомить с задачами на разрез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е ш е н и е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ачала сделаем разрезы, как на рисунке п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Затем перегнём один край по АВ на 18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сделаем сгиб по прямой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вет: он должен сделать не то, что делал перед началом отсчёта первых су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 е ш е н и е: Из условия задачи следует, что Мудрых Сов и Усатых Тараканов – двое, а Говорящих Котов и Усатых Тараканов – тоже дв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Это выполняется в двух случаях: либо Тараканов – 2, Котов и Сов – 0, либо и Котов, и Сов, и Тараканов – по од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ервый случай не годится, так как в условии сказано, что и Совы, и Коты живут в избушке. Значит, у Бабы Яги поселились Говорящий Кот, Мудрая Сова и Усатый Таракан – всего тр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конвертах выдаются 4 вида разрезанного квадрата. Ребята должны из этих частей собрать квадр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AB81-8273-4A7D-B66E-E9F478CD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9BB-6B07-4EA6-9E79-9CC7C60B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228A-376D-446A-A070-60AC0411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09BA-1316-4A70-81C2-E7350175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55AA-8D58-47C7-8D3A-88B212C9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4364-7127-4113-8FB8-CD318748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BDD-89A6-40C3-BF7F-E9C2603F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F80B-D2AD-4AB0-98B2-BFBFF3C5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80FE-1E18-4AC6-BFE0-159F533A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E45F-7576-4634-8343-B580F11C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A15F-CC84-4547-987C-BD0CDF89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9D97-69EA-4279-83E7-DED3748A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5E28-56F8-48BD-8BB5-08B12D5A9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oollady.ru/index.php?name=Pages&amp;op=page&amp;pid=2596" TargetMode="External"/><Relationship Id="rId2" Type="http://schemas.openxmlformats.org/officeDocument/2006/relationships/hyperlink" Target="http://www.weblancer.net/files/portfolio/345/34573/95601.jpg" TargetMode="External"/><Relationship Id="rId3" Type="http://schemas.openxmlformats.org/officeDocument/2006/relationships/hyperlink" Target="http://mistergid.ru/image/upload/2011-08-07/330026694634_yo-5-ryerryiryos.jpg" TargetMode="External"/><Relationship Id="rId4" Type="http://schemas.openxmlformats.org/officeDocument/2006/relationships/hyperlink" Target="http://www.it-n.ru/profil.aspx?cat_no=692&amp;d_no=9658" TargetMode="External"/><Relationship Id="rId5" Type="http://schemas.openxmlformats.org/officeDocument/2006/relationships/hyperlink" Target="http://www.it-n.ru/profil.aspx?cat_no=692&amp;d_no=9658" TargetMode="External"/><Relationship Id="rId6" Type="http://schemas.openxmlformats.org/officeDocument/2006/relationships/hyperlink" Target="http://www.it-n.ru/profil.aspx?cat_no=692&amp;d_no=9658" TargetMode="External"/><Relationship Id="rId7" Type="http://schemas.openxmlformats.org/officeDocument/2006/relationships/hyperlink" Target="http://www.it-n.ru/profil.aspx?cat_no=692&amp;d_no=9658" TargetMode="External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189000"/>
            <a:ext cx="5616720" cy="1150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ведение в геометр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48000" y="5516640"/>
            <a:ext cx="5616720" cy="1150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ратанова Мари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КОУ СОШ №256 ГО ЗАТО г.Фок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ор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640" y="1386000"/>
            <a:ext cx="197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582b"/>
                </a:solidFill>
                <a:latin typeface="Times New Roman"/>
              </a:rPr>
              <a:t>Занятие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9440" y="2205000"/>
            <a:ext cx="533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Разрезание 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складыв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плоских фигу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599436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580000" y="189000"/>
            <a:ext cx="3313080" cy="2376360"/>
            <a:chOff x="5580000" y="189000"/>
            <a:chExt cx="3313080" cy="2376360"/>
          </a:xfrm>
        </p:grpSpPr>
        <p:sp>
          <p:nvSpPr>
            <p:cNvPr id="54" name=""/>
            <p:cNvSpPr/>
            <p:nvPr/>
          </p:nvSpPr>
          <p:spPr>
            <a:xfrm>
              <a:off x="6697440" y="1413000"/>
              <a:ext cx="100836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Каратанов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Марина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Николаевн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5580000" y="189000"/>
              <a:ext cx="3313080" cy="23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06520" y="126828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обери квад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79280" y="620640"/>
            <a:ext cx="1944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1-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6507600">
            <a:off x="1187280" y="2636640"/>
            <a:ext cx="2016000" cy="20163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537000">
            <a:off x="179280" y="4508640"/>
            <a:ext cx="4289400" cy="1436400"/>
          </a:xfrm>
          <a:prstGeom prst="parallelogram">
            <a:avLst>
              <a:gd name="adj" fmla="val 996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308000">
            <a:off x="3851280" y="2636640"/>
            <a:ext cx="1942920" cy="2016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2017400">
            <a:off x="6226920" y="2133360"/>
            <a:ext cx="2016360" cy="2016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8268600">
            <a:off x="3708000" y="5373360"/>
            <a:ext cx="2016000" cy="2016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2662200">
            <a:off x="4990680" y="4076280"/>
            <a:ext cx="4152960" cy="1413000"/>
          </a:xfrm>
          <a:prstGeom prst="parallelogram">
            <a:avLst>
              <a:gd name="adj" fmla="val 977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676520" y="1155600"/>
            <a:ext cx="4033800" cy="39592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1676160" y="1155600"/>
            <a:ext cx="2016360" cy="2016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8898800">
            <a:off x="538920" y="2437200"/>
            <a:ext cx="4289400" cy="1436760"/>
          </a:xfrm>
          <a:prstGeom prst="parallelogram">
            <a:avLst>
              <a:gd name="adj" fmla="val 99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3728880" y="1118880"/>
            <a:ext cx="1943280" cy="2016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3692520" y="3098880"/>
            <a:ext cx="2016000" cy="2016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1676520" y="3098880"/>
            <a:ext cx="2016000" cy="2016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8954600">
            <a:off x="2626920" y="2420640"/>
            <a:ext cx="4152960" cy="1412640"/>
          </a:xfrm>
          <a:prstGeom prst="parallelogram">
            <a:avLst>
              <a:gd name="adj" fmla="val 978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659640" y="4005360"/>
            <a:ext cx="19746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6520" y="126828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обери квад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79280" y="620640"/>
            <a:ext cx="1944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1-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71640" y="2421000"/>
            <a:ext cx="1008000" cy="396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68360" y="2421000"/>
            <a:ext cx="1009800" cy="2881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12000" y="2421000"/>
            <a:ext cx="1008000" cy="20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36000" y="2349360"/>
            <a:ext cx="1006200" cy="1081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64000" y="2421000"/>
            <a:ext cx="1009440" cy="2881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59280" y="2421000"/>
            <a:ext cx="1008000" cy="20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36000" y="3716280"/>
            <a:ext cx="1006200" cy="1081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132000" y="1628640"/>
            <a:ext cx="4033800" cy="39592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32000" y="1628640"/>
            <a:ext cx="1008360" cy="3961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40360" y="2708280"/>
            <a:ext cx="1009440" cy="2881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48360" y="3573360"/>
            <a:ext cx="1008000" cy="201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56360" y="4508640"/>
            <a:ext cx="1006560" cy="1081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628640"/>
            <a:ext cx="1009440" cy="2881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48360" y="1628640"/>
            <a:ext cx="1008000" cy="194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1628640"/>
            <a:ext cx="1006200" cy="1081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21542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520" y="126828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обери квад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79280" y="620640"/>
            <a:ext cx="1944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1-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80360" y="3573360"/>
            <a:ext cx="1317600" cy="1295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6939600">
            <a:off x="323280" y="3213000"/>
            <a:ext cx="3384720" cy="208908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3488400">
            <a:off x="5292360" y="2708280"/>
            <a:ext cx="3384360" cy="208908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8872800">
            <a:off x="539280" y="5228640"/>
            <a:ext cx="3384720" cy="208908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4309400">
            <a:off x="2700000" y="3355920"/>
            <a:ext cx="3384720" cy="208908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05080" y="1197000"/>
            <a:ext cx="4032000" cy="4032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9669200">
            <a:off x="2771280" y="2565360"/>
            <a:ext cx="1317600" cy="129528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9688400">
            <a:off x="1692360" y="188640"/>
            <a:ext cx="3384360" cy="208908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3488400">
            <a:off x="3708000" y="2131920"/>
            <a:ext cx="3384720" cy="208908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8872800">
            <a:off x="1763280" y="4149000"/>
            <a:ext cx="3384720" cy="208908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4309400">
            <a:off x="-250920" y="2204280"/>
            <a:ext cx="3384360" cy="208944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659640" y="4005360"/>
            <a:ext cx="19746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8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91240" y="1268280"/>
            <a:ext cx="32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Повторить фигу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95280" y="620640"/>
            <a:ext cx="14400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rcRect l="0" t="1573" r="2507" b="0"/>
          <a:stretch/>
        </p:blipFill>
        <p:spPr>
          <a:xfrm>
            <a:off x="755640" y="2133720"/>
            <a:ext cx="3887640" cy="4457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716360" y="3429000"/>
            <a:ext cx="396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гура, изображённая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исунке, не склеена,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резана из одного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маги. Попробуйте, взя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ожницы и лист бумаг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торить фиг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3933720"/>
            <a:ext cx="2130480" cy="2924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419640" y="476280"/>
            <a:ext cx="4752720" cy="583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32360" y="476280"/>
            <a:ext cx="0" cy="295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3429000"/>
            <a:ext cx="0" cy="288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41600" y="493560"/>
            <a:ext cx="2405160" cy="5786640"/>
          </a:xfrm>
          <a:custGeom>
            <a:avLst/>
            <a:gdLst/>
            <a:ahLst/>
            <a:rect l="l" t="t" r="r" b="b"/>
            <a:pathLst>
              <a:path w="1515" h="3645">
                <a:moveTo>
                  <a:pt x="0" y="0"/>
                </a:moveTo>
                <a:lnTo>
                  <a:pt x="924" y="0"/>
                </a:lnTo>
                <a:lnTo>
                  <a:pt x="932" y="1857"/>
                </a:lnTo>
                <a:lnTo>
                  <a:pt x="1515" y="1872"/>
                </a:lnTo>
                <a:lnTo>
                  <a:pt x="1508" y="3645"/>
                </a:lnTo>
                <a:lnTo>
                  <a:pt x="7" y="3638"/>
                </a:lnTo>
                <a:lnTo>
                  <a:pt x="0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22560" y="3429000"/>
            <a:ext cx="612144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89440" y="6165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89440" y="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174160" y="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174520" y="6165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174160" y="29242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33800" y="1700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34160" y="1700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9080" y="46530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03640" y="-243000"/>
            <a:ext cx="770040" cy="758880"/>
          </a:xfrm>
          <a:custGeom>
            <a:avLst/>
            <a:gdLst/>
            <a:ahLst/>
            <a:rect l="l" t="t" r="r" b="b"/>
            <a:pathLst>
              <a:path w="485" h="478">
                <a:moveTo>
                  <a:pt x="303" y="220"/>
                </a:moveTo>
                <a:lnTo>
                  <a:pt x="311" y="0"/>
                </a:lnTo>
                <a:lnTo>
                  <a:pt x="0" y="478"/>
                </a:lnTo>
                <a:lnTo>
                  <a:pt x="485" y="190"/>
                </a:lnTo>
                <a:lnTo>
                  <a:pt x="319" y="22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732720" y="476280"/>
            <a:ext cx="0" cy="295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04000" y="-243000"/>
            <a:ext cx="770040" cy="758880"/>
          </a:xfrm>
          <a:custGeom>
            <a:avLst/>
            <a:gdLst/>
            <a:ahLst/>
            <a:rect l="l" t="t" r="r" b="b"/>
            <a:pathLst>
              <a:path w="485" h="478">
                <a:moveTo>
                  <a:pt x="303" y="220"/>
                </a:moveTo>
                <a:lnTo>
                  <a:pt x="311" y="0"/>
                </a:lnTo>
                <a:lnTo>
                  <a:pt x="0" y="478"/>
                </a:lnTo>
                <a:lnTo>
                  <a:pt x="485" y="190"/>
                </a:lnTo>
                <a:lnTo>
                  <a:pt x="319" y="22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67280" y="5516640"/>
            <a:ext cx="770040" cy="758880"/>
          </a:xfrm>
          <a:custGeom>
            <a:avLst/>
            <a:gdLst/>
            <a:ahLst/>
            <a:rect l="l" t="t" r="r" b="b"/>
            <a:pathLst>
              <a:path w="485" h="478">
                <a:moveTo>
                  <a:pt x="303" y="220"/>
                </a:moveTo>
                <a:lnTo>
                  <a:pt x="311" y="0"/>
                </a:lnTo>
                <a:lnTo>
                  <a:pt x="0" y="478"/>
                </a:lnTo>
                <a:lnTo>
                  <a:pt x="485" y="190"/>
                </a:lnTo>
                <a:lnTo>
                  <a:pt x="319" y="22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9259E-006 L -0.00261 0.40648 E">
                                      <p:cBhvr>
                                        <p:cTn id="303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9259E-006 L -0.00261 0.40648 E">
                                      <p:cBhvr>
                                        <p:cTn id="319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1 -0.40649 L -2.5E-006 4.07407E-006 E">
                                      <p:cBhvr>
                                        <p:cTn id="335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58480" y="1989000"/>
            <a:ext cx="71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oollady.ru/index.php?name=Pages&amp;op=page&amp;pid=2596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7760" y="2565360"/>
            <a:ext cx="63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eblancer.net/files/portfolio/345/34573/95601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61000" y="3141720"/>
            <a:ext cx="83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istergid.ru/image/upload/2011-08-07/330026694634_yo-5-ryerryiryos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6320" y="3789360"/>
            <a:ext cx="56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it-n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profil.aspx?cat_no=692&amp;d_no=96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5960" y="4437000"/>
            <a:ext cx="50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vanivanich.ru/disc.php?id=25&amp;pg=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5960" y="5157720"/>
            <a:ext cx="50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vanivanich.ru/disc.php?id=26&amp;pg=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333360"/>
            <a:ext cx="71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Методическое пособ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веде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еометрию. 6 класс: планирование, консп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нятий / авт.-сост. И.В.Фотина. – Волгоград: Учитель,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8"/>
          <a:stretch/>
        </p:blipFill>
        <p:spPr>
          <a:xfrm>
            <a:off x="7192800" y="4221000"/>
            <a:ext cx="1951200" cy="2637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23640" y="1700280"/>
            <a:ext cx="134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ошад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27664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у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2560" y="285264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укуру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4000" y="414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екторный клипарт Баба-Я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4000" y="350028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а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4000" y="479736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екторный клипарт, сова, таракан, к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00000" y="242100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ирпич весит 2 кг и ещё треть собственного в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колько весит кирпи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7020000" y="551664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0720" y="5170320"/>
            <a:ext cx="1368360" cy="1008360"/>
          </a:xfrm>
          <a:prstGeom prst="triangle">
            <a:avLst>
              <a:gd name="adj" fmla="val 48144"/>
            </a:avLst>
          </a:prstGeom>
          <a:gradFill rotWithShape="0">
            <a:gsLst>
              <a:gs pos="0">
                <a:srgbClr val="d2d2d2"/>
              </a:gs>
              <a:gs pos="50000">
                <a:srgbClr val="969696"/>
              </a:gs>
              <a:gs pos="100000">
                <a:srgbClr val="d2d2d2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782640" y="4954680"/>
            <a:ext cx="3581280" cy="189000"/>
            <a:chOff x="782640" y="4954680"/>
            <a:chExt cx="3581280" cy="189000"/>
          </a:xfrm>
        </p:grpSpPr>
        <p:sp>
          <p:nvSpPr>
            <p:cNvPr id="63" name=""/>
            <p:cNvSpPr/>
            <p:nvPr/>
          </p:nvSpPr>
          <p:spPr>
            <a:xfrm rot="5400000">
              <a:off x="2502360" y="3282120"/>
              <a:ext cx="141840" cy="3581280"/>
            </a:xfrm>
            <a:prstGeom prst="flowChartDelay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82640" y="4954680"/>
              <a:ext cx="3581280" cy="1062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277960" y="4954680"/>
            <a:ext cx="3582000" cy="189000"/>
            <a:chOff x="5277960" y="4954680"/>
            <a:chExt cx="3582000" cy="189000"/>
          </a:xfrm>
        </p:grpSpPr>
        <p:sp>
          <p:nvSpPr>
            <p:cNvPr id="66" name=""/>
            <p:cNvSpPr/>
            <p:nvPr/>
          </p:nvSpPr>
          <p:spPr>
            <a:xfrm rot="5400000">
              <a:off x="6997680" y="3281760"/>
              <a:ext cx="141840" cy="3581640"/>
            </a:xfrm>
            <a:prstGeom prst="flowChartDelay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78320" y="4954680"/>
              <a:ext cx="3581640" cy="1062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211640" y="5013360"/>
            <a:ext cx="1066680" cy="475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734520" y="3573360"/>
            <a:ext cx="878760" cy="1438200"/>
            <a:chOff x="6734520" y="3573360"/>
            <a:chExt cx="878760" cy="1438200"/>
          </a:xfrm>
        </p:grpSpPr>
        <p:sp>
          <p:nvSpPr>
            <p:cNvPr id="70" name=""/>
            <p:cNvSpPr/>
            <p:nvPr/>
          </p:nvSpPr>
          <p:spPr>
            <a:xfrm>
              <a:off x="6745320" y="3573360"/>
              <a:ext cx="860400" cy="1438200"/>
            </a:xfrm>
            <a:custGeom>
              <a:avLst/>
              <a:gdLst/>
              <a:ahLst/>
              <a:rect l="l" t="t" r="r" b="b"/>
              <a:pathLst>
                <a:path w="522" h="808">
                  <a:moveTo>
                    <a:pt x="272" y="804"/>
                  </a:moveTo>
                  <a:cubicBezTo>
                    <a:pt x="243" y="804"/>
                    <a:pt x="140" y="808"/>
                    <a:pt x="98" y="798"/>
                  </a:cubicBezTo>
                  <a:cubicBezTo>
                    <a:pt x="56" y="788"/>
                    <a:pt x="36" y="781"/>
                    <a:pt x="20" y="744"/>
                  </a:cubicBezTo>
                  <a:cubicBezTo>
                    <a:pt x="4" y="707"/>
                    <a:pt x="2" y="655"/>
                    <a:pt x="2" y="576"/>
                  </a:cubicBezTo>
                  <a:cubicBezTo>
                    <a:pt x="2" y="497"/>
                    <a:pt x="0" y="332"/>
                    <a:pt x="20" y="270"/>
                  </a:cubicBezTo>
                  <a:cubicBezTo>
                    <a:pt x="40" y="208"/>
                    <a:pt x="98" y="222"/>
                    <a:pt x="122" y="204"/>
                  </a:cubicBezTo>
                  <a:cubicBezTo>
                    <a:pt x="146" y="186"/>
                    <a:pt x="167" y="178"/>
                    <a:pt x="164" y="162"/>
                  </a:cubicBezTo>
                  <a:cubicBezTo>
                    <a:pt x="161" y="146"/>
                    <a:pt x="118" y="127"/>
                    <a:pt x="104" y="108"/>
                  </a:cubicBezTo>
                  <a:cubicBezTo>
                    <a:pt x="90" y="89"/>
                    <a:pt x="71" y="65"/>
                    <a:pt x="80" y="48"/>
                  </a:cubicBezTo>
                  <a:cubicBezTo>
                    <a:pt x="89" y="31"/>
                    <a:pt x="119" y="12"/>
                    <a:pt x="158" y="6"/>
                  </a:cubicBezTo>
                  <a:cubicBezTo>
                    <a:pt x="197" y="0"/>
                    <a:pt x="271" y="6"/>
                    <a:pt x="315" y="12"/>
                  </a:cubicBezTo>
                  <a:cubicBezTo>
                    <a:pt x="359" y="18"/>
                    <a:pt x="404" y="29"/>
                    <a:pt x="422" y="42"/>
                  </a:cubicBezTo>
                  <a:cubicBezTo>
                    <a:pt x="440" y="55"/>
                    <a:pt x="433" y="70"/>
                    <a:pt x="422" y="90"/>
                  </a:cubicBezTo>
                  <a:cubicBezTo>
                    <a:pt x="411" y="110"/>
                    <a:pt x="361" y="143"/>
                    <a:pt x="356" y="162"/>
                  </a:cubicBezTo>
                  <a:cubicBezTo>
                    <a:pt x="351" y="181"/>
                    <a:pt x="369" y="191"/>
                    <a:pt x="392" y="204"/>
                  </a:cubicBezTo>
                  <a:cubicBezTo>
                    <a:pt x="415" y="217"/>
                    <a:pt x="473" y="202"/>
                    <a:pt x="494" y="240"/>
                  </a:cubicBezTo>
                  <a:cubicBezTo>
                    <a:pt x="515" y="278"/>
                    <a:pt x="514" y="378"/>
                    <a:pt x="518" y="432"/>
                  </a:cubicBezTo>
                  <a:cubicBezTo>
                    <a:pt x="522" y="486"/>
                    <a:pt x="522" y="511"/>
                    <a:pt x="519" y="564"/>
                  </a:cubicBezTo>
                  <a:cubicBezTo>
                    <a:pt x="516" y="617"/>
                    <a:pt x="516" y="711"/>
                    <a:pt x="502" y="750"/>
                  </a:cubicBezTo>
                  <a:cubicBezTo>
                    <a:pt x="488" y="789"/>
                    <a:pt x="470" y="789"/>
                    <a:pt x="434" y="798"/>
                  </a:cubicBezTo>
                  <a:cubicBezTo>
                    <a:pt x="398" y="807"/>
                    <a:pt x="315" y="803"/>
                    <a:pt x="284" y="804"/>
                  </a:cubicBezTo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333333"/>
                </a:gs>
                <a:gs pos="100000">
                  <a:srgbClr val="808080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5480" y="3585960"/>
              <a:ext cx="614160" cy="1216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34520" y="4225680"/>
              <a:ext cx="87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?к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547640" y="4005360"/>
            <a:ext cx="2232360" cy="1081080"/>
          </a:xfrm>
          <a:prstGeom prst="cube">
            <a:avLst>
              <a:gd name="adj" fmla="val 1219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411280" y="765000"/>
            <a:ext cx="4608720" cy="2592720"/>
          </a:xfrm>
          <a:prstGeom prst="cube">
            <a:avLst>
              <a:gd name="adj" fmla="val 1219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3357720"/>
            <a:ext cx="4321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1280" y="4724280"/>
            <a:ext cx="0" cy="289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92720" y="4724280"/>
            <a:ext cx="0" cy="289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3707280" y="3140640"/>
            <a:ext cx="289080" cy="2881440"/>
          </a:xfrm>
          <a:custGeom>
            <a:avLst/>
            <a:gdLst>
              <a:gd name="textAreaLeft" fmla="*/ 84960 w 289080"/>
              <a:gd name="textAreaRight" fmla="*/ 289080 w 289080"/>
              <a:gd name="textAreaTop" fmla="*/ 322560 h 2881440"/>
              <a:gd name="textAreaBottom" fmla="*/ 255888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419"/>
                  <a:pt x="0" y="4838"/>
                </a:cubicBezTo>
                <a:lnTo>
                  <a:pt x="0" y="16762"/>
                </a:lnTo>
                <a:cubicBezTo>
                  <a:pt x="0" y="19181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21800" y="386064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4424400" y="3000240"/>
            <a:ext cx="295200" cy="4321440"/>
          </a:xfrm>
          <a:custGeom>
            <a:avLst/>
            <a:gdLst>
              <a:gd name="textAreaLeft" fmla="*/ 188640 w 295200"/>
              <a:gd name="textAreaRight" fmla="*/ 295200 w 295200"/>
              <a:gd name="textAreaTop" fmla="*/ 112680 h 4321440"/>
              <a:gd name="textAreaBottom" fmla="*/ 4208760 h 432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5084640"/>
            <a:ext cx="1295280" cy="1008360"/>
          </a:xfrm>
          <a:prstGeom prst="cloudCallout">
            <a:avLst>
              <a:gd name="adj1" fmla="val 10296"/>
              <a:gd name="adj2" fmla="val 6905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1776240" cy="2257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97080" y="1916280"/>
            <a:ext cx="116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 0.22037 E">
                                      <p:cBhvr>
                                        <p:cTn id="11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299736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сли Конёк-Горбунок не будет семь суток 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ли не будет семь суток спать, то лишится сво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лшебной силы. Допустим, он в течение нед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 ел и не спал. Что он должен сделать в перв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чередь к концу седьмых суток – поесть или посп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бы не потерять сил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12000" y="4076640"/>
            <a:ext cx="2522520" cy="278136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971640" y="551664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564000" y="1557360"/>
            <a:ext cx="5257440" cy="50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5687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568786"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031440" y="2789640"/>
            <a:ext cx="504000" cy="2421360"/>
            <a:chOff x="6031440" y="2789640"/>
            <a:chExt cx="504000" cy="2421360"/>
          </a:xfrm>
        </p:grpSpPr>
        <p:sp>
          <p:nvSpPr>
            <p:cNvPr id="92" name=""/>
            <p:cNvSpPr/>
            <p:nvPr/>
          </p:nvSpPr>
          <p:spPr>
            <a:xfrm rot="20840400">
              <a:off x="6158880" y="2803680"/>
              <a:ext cx="254160" cy="1143000"/>
            </a:xfrm>
            <a:custGeom>
              <a:avLst/>
              <a:gdLst/>
              <a:ahLst/>
              <a:rect l="l" t="t" r="r" b="b"/>
              <a:pathLst>
                <a:path w="160" h="720">
                  <a:moveTo>
                    <a:pt x="0" y="720"/>
                  </a:moveTo>
                  <a:lnTo>
                    <a:pt x="16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 rot="20840400">
              <a:off x="6153120" y="4053600"/>
              <a:ext cx="254160" cy="1143000"/>
            </a:xfrm>
            <a:custGeom>
              <a:avLst/>
              <a:gdLst/>
              <a:ahLst/>
              <a:rect l="l" t="t" r="r" b="b"/>
              <a:pathLst>
                <a:path w="160" h="720">
                  <a:moveTo>
                    <a:pt x="0" y="720"/>
                  </a:moveTo>
                  <a:lnTo>
                    <a:pt x="16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565240" y="2406240"/>
            <a:ext cx="1416960" cy="3279960"/>
            <a:chOff x="5565240" y="2406240"/>
            <a:chExt cx="1416960" cy="3279960"/>
          </a:xfrm>
        </p:grpSpPr>
        <p:sp>
          <p:nvSpPr>
            <p:cNvPr id="95" name=""/>
            <p:cNvSpPr/>
            <p:nvPr/>
          </p:nvSpPr>
          <p:spPr>
            <a:xfrm rot="14331600">
              <a:off x="5580360" y="2800440"/>
              <a:ext cx="1380600" cy="814680"/>
            </a:xfrm>
            <a:custGeom>
              <a:avLst/>
              <a:gdLst/>
              <a:ahLst/>
              <a:rect l="l" t="t" r="r" b="b"/>
              <a:pathLst>
                <a:path w="870" h="513">
                  <a:moveTo>
                    <a:pt x="0" y="0"/>
                  </a:moveTo>
                  <a:lnTo>
                    <a:pt x="870" y="513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 rot="14331600">
              <a:off x="5586120" y="4476960"/>
              <a:ext cx="1380960" cy="814320"/>
            </a:xfrm>
            <a:custGeom>
              <a:avLst/>
              <a:gdLst/>
              <a:ahLst/>
              <a:rect l="l" t="t" r="r" b="b"/>
              <a:pathLst>
                <a:path w="870" h="513">
                  <a:moveTo>
                    <a:pt x="0" y="0"/>
                  </a:moveTo>
                  <a:lnTo>
                    <a:pt x="870" y="51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622680" y="1535040"/>
            <a:ext cx="5096160" cy="5143680"/>
            <a:chOff x="3622680" y="1535040"/>
            <a:chExt cx="5096160" cy="5143680"/>
          </a:xfrm>
        </p:grpSpPr>
        <p:sp>
          <p:nvSpPr>
            <p:cNvPr id="98" name=""/>
            <p:cNvSpPr/>
            <p:nvPr/>
          </p:nvSpPr>
          <p:spPr>
            <a:xfrm>
              <a:off x="7158240" y="18334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43760" y="26337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22680" y="3780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07600" y="5975280"/>
              <a:ext cx="56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1800" y="15350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31040" y="188604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1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38320" y="26305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54680" y="49309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03920" y="57164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99400" y="49197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08920" y="5557680"/>
              <a:ext cx="47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283600" y="37735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93080" y="3933720"/>
              <a:ext cx="1443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" descr="http://www.weblancer.net/files/portfolio/345/34573/95601.jpg"/>
          <p:cNvPicPr/>
          <p:nvPr/>
        </p:nvPicPr>
        <p:blipFill>
          <a:blip r:embed="rId1"/>
          <a:stretch/>
        </p:blipFill>
        <p:spPr>
          <a:xfrm>
            <a:off x="755640" y="1052640"/>
            <a:ext cx="2303640" cy="204624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271800" y="3525120"/>
            <a:ext cx="3272400" cy="2790000"/>
            <a:chOff x="271800" y="3525120"/>
            <a:chExt cx="3272400" cy="2790000"/>
          </a:xfrm>
        </p:grpSpPr>
        <p:pic>
          <p:nvPicPr>
            <p:cNvPr id="113" name="" descr="http://mistergid.ru/image/upload/2011-08-07/330026694634_yo-5-ryerryiryos.jpg"/>
            <p:cNvPicPr/>
            <p:nvPr/>
          </p:nvPicPr>
          <p:blipFill>
            <a:blip r:embed="rId2"/>
            <a:srcRect l="3543" t="0" r="52777" b="0"/>
            <a:stretch/>
          </p:blipFill>
          <p:spPr>
            <a:xfrm rot="3859800">
              <a:off x="1483920" y="3924000"/>
              <a:ext cx="142560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http://mistergid.ru/image/upload/2011-08-07/330026694634_yo-5-ryerryiryos.jpg"/>
            <p:cNvPicPr/>
            <p:nvPr/>
          </p:nvPicPr>
          <p:blipFill>
            <a:blip r:embed="rId3"/>
            <a:srcRect l="60638" t="0" r="0" b="4834"/>
            <a:stretch/>
          </p:blipFill>
          <p:spPr>
            <a:xfrm rot="3560400">
              <a:off x="1042200" y="3934080"/>
              <a:ext cx="1216080" cy="207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http://mistergid.ru/image/upload/2011-08-07/330026694634_yo-5-ryerryiryos.jpg"/>
            <p:cNvPicPr/>
            <p:nvPr/>
          </p:nvPicPr>
          <p:blipFill>
            <a:blip r:embed="rId4"/>
            <a:srcRect l="60638" t="0" r="0" b="4834"/>
            <a:stretch/>
          </p:blipFill>
          <p:spPr>
            <a:xfrm rot="17676000">
              <a:off x="898920" y="4293000"/>
              <a:ext cx="1216080" cy="207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http://mistergid.ru/image/upload/2011-08-07/330026694634_yo-5-ryerryiryos.jpg"/>
            <p:cNvPicPr/>
            <p:nvPr/>
          </p:nvPicPr>
          <p:blipFill>
            <a:blip r:embed="rId5"/>
            <a:srcRect l="3543" t="0" r="52777" b="0"/>
            <a:stretch/>
          </p:blipFill>
          <p:spPr>
            <a:xfrm rot="13971000">
              <a:off x="907920" y="3636360"/>
              <a:ext cx="1425600" cy="230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1406160" y="54936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8720" y="3357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3284640"/>
            <a:ext cx="216000" cy="976320"/>
          </a:xfrm>
          <a:prstGeom prst="downArrow">
            <a:avLst>
              <a:gd name="adj1" fmla="val 50000"/>
              <a:gd name="adj2" fmla="val 113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3213000"/>
            <a:ext cx="216000" cy="976320"/>
          </a:xfrm>
          <a:prstGeom prst="upArrow">
            <a:avLst>
              <a:gd name="adj1" fmla="val 50000"/>
              <a:gd name="adj2" fmla="val 113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L -0.00174 0.78564 E">
                                      <p:cBhvr>
                                        <p:cTn id="9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4" name="" descr="&amp;Vcy;&amp;iecy;&amp;kcy;&amp;tcy;&amp;ocy;&amp;rcy;&amp;ncy;&amp;ycy;&amp;jcy; &amp;kcy;&amp;lcy;&amp;icy;&amp;pcy;&amp;acy;&amp;rcy;&amp;tcy; - &amp;Icy;&amp;zcy;&amp;bcy;&amp;ucy;&amp;shcy;&amp;kcy;&amp;acy; &amp;Bcy;&amp;acy;&amp;bcy;&amp;ycy;-&amp;YAcy;&amp;gcy;&amp;icy;"/>
          <p:cNvPicPr/>
          <p:nvPr/>
        </p:nvPicPr>
        <p:blipFill>
          <a:blip r:embed="rId2"/>
          <a:stretch/>
        </p:blipFill>
        <p:spPr>
          <a:xfrm>
            <a:off x="-1440" y="4437000"/>
            <a:ext cx="2084400" cy="2265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&amp;Vcy;&amp;iecy;&amp;kcy;&amp;tcy;&amp;ocy;&amp;rcy;&amp;ncy;&amp;ycy;&amp;jcy; &amp;kcy;&amp;lcy;&amp;icy;&amp;pcy;&amp;acy;&amp;rcy;&amp;tcy; - &amp;Bcy;&amp;acy;&amp;bcy;&amp;acy;-&amp;YAcy;&amp;gcy;&amp;acy;"/>
          <p:cNvPicPr/>
          <p:nvPr/>
        </p:nvPicPr>
        <p:blipFill>
          <a:blip r:embed="rId3"/>
          <a:stretch/>
        </p:blipFill>
        <p:spPr>
          <a:xfrm>
            <a:off x="1619280" y="5672160"/>
            <a:ext cx="1301760" cy="1185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00000" y="299736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ба Яга в своей избушке на курьих ножках зав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казочных животных. Все они, кроме двух,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ворящие Коты; все, кроме двух, - Мудрые сов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тальные – Усатые Тарак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колько обитателей в избушке у Бабы Яг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&amp;Vcy;&amp;iecy;&amp;kcy;&amp;tcy;&amp;ocy;&amp;rcy;&amp;ncy;&amp;ycy;&amp;jcy; &amp;kcy;&amp;lcy;&amp;icy;&amp;pcy;&amp;acy;&amp;rcy;&amp;tcy; - &amp;kcy;&amp;ocy;&amp;tcy;&amp;icy;&amp;kcy;"/>
          <p:cNvPicPr/>
          <p:nvPr/>
        </p:nvPicPr>
        <p:blipFill>
          <a:blip r:embed="rId4"/>
          <a:stretch/>
        </p:blipFill>
        <p:spPr>
          <a:xfrm>
            <a:off x="7816680" y="3284640"/>
            <a:ext cx="1327320" cy="1928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&amp;Vcy;&amp;iecy;&amp;kcy;&amp;tcy;&amp;ocy;&amp;rcy;&amp;ncy;&amp;ycy;&amp;jcy; &amp;kcy;&amp;lcy;&amp;icy;&amp;pcy;&amp;acy;&amp;rcy;&amp;tcy; - &amp;kcy;&amp;ocy;&amp;tcy;&amp;icy;&amp;kcy;"/>
          <p:cNvPicPr/>
          <p:nvPr/>
        </p:nvPicPr>
        <p:blipFill>
          <a:blip r:embed="rId5"/>
          <a:stretch/>
        </p:blipFill>
        <p:spPr>
          <a:xfrm>
            <a:off x="7524720" y="4508640"/>
            <a:ext cx="1417680" cy="1277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&amp;Vcy;&amp;iecy;&amp;kcy;&amp;tcy;&amp;ocy;&amp;rcy;&amp;ncy;&amp;ycy;&amp;jcy; &amp;kcy;&amp;lcy;&amp;icy;&amp;pcy;&amp;acy;&amp;rcy;&amp;tcy; - &amp;tcy;&amp;acy;&amp;rcy;&amp;acy;&amp;kcy;&amp;acy;&amp;ncy;"/>
          <p:cNvPicPr/>
          <p:nvPr/>
        </p:nvPicPr>
        <p:blipFill>
          <a:blip r:embed="rId6"/>
          <a:stretch/>
        </p:blipFill>
        <p:spPr>
          <a:xfrm>
            <a:off x="5724360" y="4724280"/>
            <a:ext cx="766800" cy="1484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&amp;Vcy;&amp;iecy;&amp;kcy;&amp;tcy;&amp;ocy;&amp;rcy;&amp;ncy;&amp;ycy;&amp;jcy; &amp;kcy;&amp;lcy;&amp;icy;&amp;pcy;&amp;acy;&amp;rcy;&amp;tcy; - &amp;tcy;&amp;acy;&amp;rcy;&amp;acy;&amp;kcy;&amp;acy;&amp;ncy;"/>
          <p:cNvPicPr/>
          <p:nvPr/>
        </p:nvPicPr>
        <p:blipFill>
          <a:blip r:embed="rId7"/>
          <a:stretch/>
        </p:blipFill>
        <p:spPr>
          <a:xfrm>
            <a:off x="6443640" y="5229360"/>
            <a:ext cx="822240" cy="1484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&amp;Vcy;&amp;iecy;&amp;kcy;&amp;tcy;&amp;ocy;&amp;rcy;&amp;ncy;&amp;ycy;&amp;jcy; &amp;kcy;&amp;lcy;&amp;icy;&amp;pcy;&amp;acy;&amp;rcy;&amp;tcy; - &amp;tcy;&amp;acy;&amp;rcy;&amp;acy;&amp;kcy;&amp;acy;&amp;ncy;"/>
          <p:cNvPicPr/>
          <p:nvPr/>
        </p:nvPicPr>
        <p:blipFill>
          <a:blip r:embed="rId8"/>
          <a:stretch/>
        </p:blipFill>
        <p:spPr>
          <a:xfrm>
            <a:off x="5508720" y="5229360"/>
            <a:ext cx="841320" cy="1628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&amp;Vcy;&amp;iecy;&amp;kcy;&amp;tcy;&amp;ocy;&amp;rcy;&amp;ncy;&amp;ycy;&amp;jcy; &amp;kcy;&amp;lcy;&amp;icy;&amp;pcy;&amp;acy;&amp;rcy;&amp;tcy; - &amp;scy;&amp;ocy;&amp;vcy;&amp;acy;"/>
          <p:cNvPicPr/>
          <p:nvPr/>
        </p:nvPicPr>
        <p:blipFill>
          <a:blip r:embed="rId9"/>
          <a:stretch/>
        </p:blipFill>
        <p:spPr>
          <a:xfrm>
            <a:off x="4067280" y="4508640"/>
            <a:ext cx="923760" cy="129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&amp;Vcy;&amp;iecy;&amp;kcy;&amp;tcy;&amp;ocy;&amp;rcy;&amp;ncy;&amp;ycy;&amp;jcy; &amp;kcy;&amp;lcy;&amp;icy;&amp;pcy;&amp;acy;&amp;rcy;&amp;tcy; - &amp;scy;&amp;ocy;&amp;vcy;&amp;acy;"/>
          <p:cNvPicPr/>
          <p:nvPr/>
        </p:nvPicPr>
        <p:blipFill>
          <a:blip r:embed="rId10"/>
          <a:stretch/>
        </p:blipFill>
        <p:spPr>
          <a:xfrm>
            <a:off x="3348000" y="4581360"/>
            <a:ext cx="963720" cy="1354320"/>
          </a:xfrm>
          <a:prstGeom prst="rect">
            <a:avLst/>
          </a:prstGeom>
          <a:ln w="0">
            <a:noFill/>
          </a:ln>
        </p:spPr>
      </p:pic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&amp;Vcy;&amp;iecy;&amp;kcy;&amp;tcy;&amp;ocy;&amp;rcy;&amp;ncy;&amp;ycy;&amp;jcy; &amp;kcy;&amp;lcy;&amp;icy;&amp;pcy;&amp;acy;&amp;rcy;&amp;tcy; - &amp;scy;&amp;ocy;&amp;vcy;&amp;acy;"/>
          <p:cNvPicPr/>
          <p:nvPr/>
        </p:nvPicPr>
        <p:blipFill>
          <a:blip r:embed="rId1"/>
          <a:stretch/>
        </p:blipFill>
        <p:spPr>
          <a:xfrm>
            <a:off x="395280" y="333360"/>
            <a:ext cx="1373040" cy="1930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&amp;Vcy;&amp;iecy;&amp;kcy;&amp;tcy;&amp;ocy;&amp;rcy;&amp;ncy;&amp;ycy;&amp;jcy; &amp;kcy;&amp;lcy;&amp;icy;&amp;pcy;&amp;acy;&amp;rcy;&amp;tcy; - &amp;tcy;&amp;acy;&amp;rcy;&amp;acy;&amp;kcy;&amp;acy;&amp;ncy;"/>
          <p:cNvPicPr/>
          <p:nvPr/>
        </p:nvPicPr>
        <p:blipFill>
          <a:blip r:embed="rId2"/>
          <a:stretch/>
        </p:blipFill>
        <p:spPr>
          <a:xfrm>
            <a:off x="539640" y="2349360"/>
            <a:ext cx="1003320" cy="1943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&amp;Vcy;&amp;iecy;&amp;kcy;&amp;tcy;&amp;ocy;&amp;rcy;&amp;ncy;&amp;ycy;&amp;jcy; &amp;kcy;&amp;lcy;&amp;icy;&amp;pcy;&amp;acy;&amp;rcy;&amp;tcy; - &amp;kcy;&amp;ocy;&amp;tcy;&amp;icy;&amp;kcy;"/>
          <p:cNvPicPr/>
          <p:nvPr/>
        </p:nvPicPr>
        <p:blipFill>
          <a:blip r:embed="rId3"/>
          <a:stretch/>
        </p:blipFill>
        <p:spPr>
          <a:xfrm>
            <a:off x="250920" y="4292640"/>
            <a:ext cx="1566720" cy="2276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195640" y="404640"/>
            <a:ext cx="647640" cy="3889440"/>
          </a:xfrm>
          <a:custGeom>
            <a:avLst/>
            <a:gdLst>
              <a:gd name="textAreaLeft" fmla="*/ 0 w 647640"/>
              <a:gd name="textAreaRight" fmla="*/ 234000 w 647640"/>
              <a:gd name="textAreaTop" fmla="*/ 101160 h 3889440"/>
              <a:gd name="textAreaBottom" fmla="*/ 378828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2708280"/>
            <a:ext cx="576000" cy="3889440"/>
          </a:xfrm>
          <a:custGeom>
            <a:avLst/>
            <a:gdLst>
              <a:gd name="textAreaLeft" fmla="*/ 0 w 576000"/>
              <a:gd name="textAreaRight" fmla="*/ 208080 w 576000"/>
              <a:gd name="textAreaTop" fmla="*/ 101160 h 3889440"/>
              <a:gd name="textAreaBottom" fmla="*/ 378828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5080" y="18446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97440" y="41497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333360"/>
            <a:ext cx="576000" cy="6264360"/>
          </a:xfrm>
          <a:custGeom>
            <a:avLst/>
            <a:gdLst>
              <a:gd name="textAreaLeft" fmla="*/ 0 w 576000"/>
              <a:gd name="textAreaRight" fmla="*/ 208080 w 576000"/>
              <a:gd name="textAreaTop" fmla="*/ 163080 h 6264360"/>
              <a:gd name="textAreaBottom" fmla="*/ 6101280 h 626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78520" y="2924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&amp;Vcy;&amp;iecy;&amp;kcy;&amp;tcy;&amp;ocy;&amp;rcy;&amp;ncy;&amp;ycy;&amp;jcy; &amp;kcy;&amp;lcy;&amp;icy;&amp;pcy;&amp;acy;&amp;rcy;&amp;tcy; - &amp;Icy;&amp;zcy;&amp;bcy;&amp;ucy;&amp;shcy;&amp;kcy;&amp;acy; &amp;Bcy;&amp;acy;&amp;bcy;&amp;ycy;-&amp;YAcy;&amp;gcy;&amp;icy;"/>
          <p:cNvPicPr/>
          <p:nvPr/>
        </p:nvPicPr>
        <p:blipFill>
          <a:blip r:embed="rId4"/>
          <a:stretch/>
        </p:blipFill>
        <p:spPr>
          <a:xfrm>
            <a:off x="5651640" y="1844640"/>
            <a:ext cx="3193920" cy="3240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&amp;Vcy;&amp;iecy;&amp;kcy;&amp;tcy;&amp;ocy;&amp;rcy;&amp;ncy;&amp;ycy;&amp;jcy; &amp;kcy;&amp;lcy;&amp;icy;&amp;pcy;&amp;acy;&amp;rcy;&amp;tcy; - &amp;scy;&amp;ocy;&amp;vcy;&amp;acy;"/>
          <p:cNvPicPr/>
          <p:nvPr/>
        </p:nvPicPr>
        <p:blipFill>
          <a:blip r:embed="rId5"/>
          <a:stretch/>
        </p:blipFill>
        <p:spPr>
          <a:xfrm>
            <a:off x="6948360" y="765000"/>
            <a:ext cx="963720" cy="1354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&amp;Vcy;&amp;iecy;&amp;kcy;&amp;tcy;&amp;ocy;&amp;rcy;&amp;ncy;&amp;ycy;&amp;jcy; &amp;kcy;&amp;lcy;&amp;icy;&amp;pcy;&amp;acy;&amp;rcy;&amp;tcy; - &amp;kcy;&amp;ocy;&amp;tcy;&amp;icy;&amp;kcy;"/>
          <p:cNvPicPr/>
          <p:nvPr/>
        </p:nvPicPr>
        <p:blipFill>
          <a:blip r:embed="rId6"/>
          <a:stretch/>
        </p:blipFill>
        <p:spPr>
          <a:xfrm>
            <a:off x="7020000" y="4149720"/>
            <a:ext cx="1979640" cy="1784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&amp;Vcy;&amp;iecy;&amp;kcy;&amp;tcy;&amp;ocy;&amp;rcy;&amp;ncy;&amp;ycy;&amp;jcy; &amp;kcy;&amp;lcy;&amp;icy;&amp;pcy;&amp;acy;&amp;rcy;&amp;tcy; - &amp;tcy;&amp;acy;&amp;rcy;&amp;acy;&amp;kcy;&amp;acy;&amp;ncy;"/>
          <p:cNvPicPr/>
          <p:nvPr/>
        </p:nvPicPr>
        <p:blipFill>
          <a:blip r:embed="rId7"/>
          <a:stretch/>
        </p:blipFill>
        <p:spPr>
          <a:xfrm>
            <a:off x="5435640" y="3860640"/>
            <a:ext cx="10033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6520" y="126828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обери квад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9280" y="620640"/>
            <a:ext cx="1944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1-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388400">
            <a:off x="6084360" y="2133720"/>
            <a:ext cx="1944720" cy="1873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3670200">
            <a:off x="755640" y="2205000"/>
            <a:ext cx="2016000" cy="2016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6430800">
            <a:off x="6156000" y="4842000"/>
            <a:ext cx="2016000" cy="201600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667200">
            <a:off x="468000" y="4941720"/>
            <a:ext cx="4218120" cy="1363680"/>
          </a:xfrm>
          <a:prstGeom prst="parallelogram">
            <a:avLst>
              <a:gd name="adj" fmla="val 1004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 rot="12363600">
            <a:off x="2195280" y="2852640"/>
            <a:ext cx="4206600" cy="1387440"/>
          </a:xfrm>
          <a:prstGeom prst="parallelogram">
            <a:avLst>
              <a:gd name="adj" fmla="val 9797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419640" y="2205000"/>
            <a:ext cx="3960720" cy="38894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35640" y="2205000"/>
            <a:ext cx="1944720" cy="187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3419640" y="2205000"/>
            <a:ext cx="2016000" cy="2016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364000" y="4078080"/>
            <a:ext cx="2016000" cy="201636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8898800">
            <a:off x="2300040" y="3450600"/>
            <a:ext cx="4218120" cy="1363680"/>
          </a:xfrm>
          <a:prstGeom prst="parallelogram">
            <a:avLst>
              <a:gd name="adj" fmla="val 1004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 rot="18882000">
            <a:off x="3284640" y="4381920"/>
            <a:ext cx="4206960" cy="1387440"/>
          </a:xfrm>
          <a:prstGeom prst="parallelogram">
            <a:avLst>
              <a:gd name="adj" fmla="val 9798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21542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11:29:45Z</dcterms:created>
  <dc:creator>Мама</dc:creator>
  <dc:description/>
  <dc:language>en-US</dc:language>
  <cp:lastModifiedBy>Мама</cp:lastModifiedBy>
  <dcterms:modified xsi:type="dcterms:W3CDTF">2013-06-27T22:12:45Z</dcterms:modified>
  <cp:revision>11</cp:revision>
  <dc:subject/>
  <dc:title>Слайд 1</dc:title>
</cp:coreProperties>
</file>