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27A-BE1F-4BD1-B776-1AEF31414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знакомить с задачами на разрез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е ш е н и е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сделаем разрезы, как на рисунке п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атем перегнём один край по АВ на 18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елаем сгиб по прям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он должен сделать не то, что делал перед началом отсчёта первых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 е ш е н и е: Из условия задачи следует, что Мудрых Сов и Усатых Тараканов – двое, а Говорящих Котов и Усатых Тараканов – тоже дв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выполняется в двух случаях: либо Тараканов – 2, Котов и Сов – 0, либо и Котов, и Сов, и Тараканов –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вый случай не годится, так как в условии сказано, что и Совы, и Коты живут в избушке. Значит, у Бабы Яги поселились Говорящий Кот, Мудрая Сова и Усатый Таракан – всего тр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вертах выдаются 4 вида разрезанного квадрата. Ребята должны из этих частей собрать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FD8-AB77-4CC6-8AD8-0B51012F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6F-D7E6-479E-B262-23605DC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620-966C-4EB7-9D8E-03CB72ED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DEE-678D-4654-90DA-3C1C3252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1E7-5680-4527-A4C5-A9AAEBAF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F4D-B912-4D8A-8A39-F9A48708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6A1-6BC7-4FA8-9714-E341E96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24B-FA9E-4DF0-BBDC-3B23EC9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7D9-0850-4D90-AE3C-02D0A32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E09-9398-4BAA-BAE2-1B8BA56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B4E-C133-4B36-A3CD-89D09512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40F-9A61-44FD-9FA1-54C0271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05AB-091B-4386-B93C-D695C063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ollady.ru/index.php?name=Pages&amp;op=page&amp;pid=2596" TargetMode="External"/><Relationship Id="rId2" Type="http://schemas.openxmlformats.org/officeDocument/2006/relationships/hyperlink" Target="http://www.weblancer.net/files/portfolio/345/34573/95601.jpg" TargetMode="External"/><Relationship Id="rId3" Type="http://schemas.openxmlformats.org/officeDocument/2006/relationships/hyperlink" Target="http://mistergid.ru/image/upload/2011-08-07/330026694634_yo-5-ryerryiryos.jpg" TargetMode="External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582b"/>
                </a:solidFill>
                <a:latin typeface="Times New Roman"/>
              </a:rPr>
              <a:t>Занят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9440" y="2205000"/>
            <a:ext cx="533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зрезание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клад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ских фиг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80000" y="189000"/>
            <a:ext cx="3313080" cy="2376360"/>
            <a:chOff x="5580000" y="189000"/>
            <a:chExt cx="3313080" cy="2376360"/>
          </a:xfrm>
        </p:grpSpPr>
        <p:sp>
          <p:nvSpPr>
            <p:cNvPr id="54" name=""/>
            <p:cNvSpPr/>
            <p:nvPr/>
          </p:nvSpPr>
          <p:spPr>
            <a:xfrm>
              <a:off x="6697440" y="1413000"/>
              <a:ext cx="1008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Каратано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Марин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иколаев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580000" y="189000"/>
              <a:ext cx="33130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6507600">
            <a:off x="1187280" y="2636640"/>
            <a:ext cx="2016000" cy="2016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37000">
            <a:off x="179280" y="4508640"/>
            <a:ext cx="4289400" cy="1436400"/>
          </a:xfrm>
          <a:prstGeom prst="parallelogram">
            <a:avLst>
              <a:gd name="adj" fmla="val 99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308000">
            <a:off x="3851280" y="2636640"/>
            <a:ext cx="194292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2017400">
            <a:off x="6226920" y="213336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8268600">
            <a:off x="3708000" y="537336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662200">
            <a:off x="4990680" y="4076280"/>
            <a:ext cx="4152960" cy="1413000"/>
          </a:xfrm>
          <a:prstGeom prst="parallelogram">
            <a:avLst>
              <a:gd name="adj" fmla="val 9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115560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1676160" y="115560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898800">
            <a:off x="538920" y="2437200"/>
            <a:ext cx="4289400" cy="1436760"/>
          </a:xfrm>
          <a:prstGeom prst="parallelogram">
            <a:avLst>
              <a:gd name="adj" fmla="val 99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728880" y="1118880"/>
            <a:ext cx="194328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692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676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954600">
            <a:off x="2626920" y="2420640"/>
            <a:ext cx="4152960" cy="1412640"/>
          </a:xfrm>
          <a:prstGeom prst="parallelogram">
            <a:avLst>
              <a:gd name="adj" fmla="val 978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421000"/>
            <a:ext cx="1008000" cy="39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421000"/>
            <a:ext cx="100980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234936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2421000"/>
            <a:ext cx="100944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371628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2000" y="162864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628640"/>
            <a:ext cx="1008360" cy="396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270828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573360"/>
            <a:ext cx="1008000" cy="20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508640"/>
            <a:ext cx="10065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62864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628640"/>
            <a:ext cx="100800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62864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80360" y="3573360"/>
            <a:ext cx="131760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6939600">
            <a:off x="323280" y="3213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488400">
            <a:off x="5292360" y="270828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8872800">
            <a:off x="539280" y="522864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4309400">
            <a:off x="2700000" y="3355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5080" y="1197000"/>
            <a:ext cx="4032000" cy="403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669200">
            <a:off x="2771280" y="2565360"/>
            <a:ext cx="1317600" cy="1295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688400">
            <a:off x="1692360" y="18864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488400">
            <a:off x="3708000" y="2131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8872800">
            <a:off x="1763280" y="4149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4309400">
            <a:off x="-250920" y="2204280"/>
            <a:ext cx="3384360" cy="208944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91240" y="126828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вторить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620640"/>
            <a:ext cx="1440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73" r="2507" b="0"/>
          <a:stretch/>
        </p:blipFill>
        <p:spPr>
          <a:xfrm>
            <a:off x="755640" y="2133720"/>
            <a:ext cx="3887640" cy="4457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3429000"/>
            <a:ext cx="39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гура, изображённа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унке, не склеена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езана из одного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маги. Попробуйте, взя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жницы и лист бума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торить фиг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30480" cy="2924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19640" y="476280"/>
            <a:ext cx="4752720" cy="58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429000"/>
            <a:ext cx="0" cy="28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41600" y="493560"/>
            <a:ext cx="2405160" cy="5786640"/>
          </a:xfrm>
          <a:custGeom>
            <a:avLst/>
            <a:gdLst/>
            <a:ahLst/>
            <a:rect l="l" t="t" r="r" b="b"/>
            <a:pathLst>
              <a:path w="1515" h="3645">
                <a:moveTo>
                  <a:pt x="0" y="0"/>
                </a:moveTo>
                <a:lnTo>
                  <a:pt x="924" y="0"/>
                </a:lnTo>
                <a:lnTo>
                  <a:pt x="932" y="1857"/>
                </a:lnTo>
                <a:lnTo>
                  <a:pt x="1515" y="1872"/>
                </a:lnTo>
                <a:lnTo>
                  <a:pt x="1508" y="3645"/>
                </a:lnTo>
                <a:lnTo>
                  <a:pt x="7" y="3638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22560" y="3429000"/>
            <a:ext cx="61214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944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944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7416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7452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74160" y="2924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380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4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9080" y="4653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0400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1664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0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1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40649 L -2.5E-006 4.07407E-006 E">
                                      <p:cBhvr>
                                        <p:cTn id="33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8480" y="1989000"/>
            <a:ext cx="71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ollady.ru/index.php?name=Pages&amp;op=page&amp;pid=25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7760" y="256536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eblancer.net/files/portfolio/345/34573/95601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1000" y="314172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istergid.ru/image/upload/2011-08-07/330026694634_yo-5-ryerryiryo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6320" y="378936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960" y="4437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5&amp;pg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960" y="515772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6&amp;pg=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3336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еометрию. 6 класс: планирование, консп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й / авт.-сост. И.В.Фотина. – Волгоград: Учитель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3640" y="170028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а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2766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у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2560" y="28526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укуру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414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 Баба-Я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3500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797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, сова, таракан, к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рпич весит 2 кг и ещё треть собственного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02000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720" y="5170320"/>
            <a:ext cx="1368360" cy="100836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d2d2d2"/>
              </a:gs>
              <a:gs pos="50000">
                <a:srgbClr val="969696"/>
              </a:gs>
              <a:gs pos="100000">
                <a:srgbClr val="d2d2d2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82640" y="4954680"/>
            <a:ext cx="3581280" cy="189000"/>
            <a:chOff x="782640" y="4954680"/>
            <a:chExt cx="3581280" cy="189000"/>
          </a:xfrm>
        </p:grpSpPr>
        <p:sp>
          <p:nvSpPr>
            <p:cNvPr id="63" name=""/>
            <p:cNvSpPr/>
            <p:nvPr/>
          </p:nvSpPr>
          <p:spPr>
            <a:xfrm rot="5400000">
              <a:off x="2502360" y="3282120"/>
              <a:ext cx="141840" cy="358128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2640" y="4954680"/>
              <a:ext cx="358128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7960" y="4954680"/>
            <a:ext cx="3582000" cy="189000"/>
            <a:chOff x="5277960" y="4954680"/>
            <a:chExt cx="3582000" cy="189000"/>
          </a:xfrm>
        </p:grpSpPr>
        <p:sp>
          <p:nvSpPr>
            <p:cNvPr id="66" name=""/>
            <p:cNvSpPr/>
            <p:nvPr/>
          </p:nvSpPr>
          <p:spPr>
            <a:xfrm rot="5400000">
              <a:off x="6997680" y="3281760"/>
              <a:ext cx="141840" cy="358164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8320" y="4954680"/>
              <a:ext cx="358164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11640" y="5013360"/>
            <a:ext cx="1066680" cy="475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34520" y="3573360"/>
            <a:ext cx="878760" cy="1438200"/>
            <a:chOff x="6734520" y="3573360"/>
            <a:chExt cx="878760" cy="1438200"/>
          </a:xfrm>
        </p:grpSpPr>
        <p:sp>
          <p:nvSpPr>
            <p:cNvPr id="70" name=""/>
            <p:cNvSpPr/>
            <p:nvPr/>
          </p:nvSpPr>
          <p:spPr>
            <a:xfrm>
              <a:off x="6745320" y="3573360"/>
              <a:ext cx="860400" cy="1438200"/>
            </a:xfrm>
            <a:custGeom>
              <a:avLst/>
              <a:gdLst/>
              <a:ahLst/>
              <a:rect l="l" t="t" r="r" b="b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5480" y="3585960"/>
              <a:ext cx="614160" cy="1216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4520" y="422568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?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47640" y="4005360"/>
            <a:ext cx="2232360" cy="1081080"/>
          </a:xfrm>
          <a:prstGeom prst="cube">
            <a:avLst>
              <a:gd name="adj" fmla="val 1219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11280" y="765000"/>
            <a:ext cx="4608720" cy="2592720"/>
          </a:xfrm>
          <a:prstGeom prst="cube">
            <a:avLst>
              <a:gd name="adj" fmla="val 1219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357720"/>
            <a:ext cx="432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3707280" y="3140640"/>
            <a:ext cx="289080" cy="2881440"/>
          </a:xfrm>
          <a:custGeom>
            <a:avLst/>
            <a:gdLst>
              <a:gd name="textAreaLeft" fmla="*/ 84960 w 289080"/>
              <a:gd name="textAreaRight" fmla="*/ 289080 w 289080"/>
              <a:gd name="textAreaTop" fmla="*/ 322560 h 2881440"/>
              <a:gd name="textAreaBottom" fmla="*/ 25588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19"/>
                  <a:pt x="0" y="4838"/>
                </a:cubicBezTo>
                <a:lnTo>
                  <a:pt x="0" y="16762"/>
                </a:lnTo>
                <a:cubicBezTo>
                  <a:pt x="0" y="19181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1800" y="3860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424400" y="3000240"/>
            <a:ext cx="295200" cy="4321440"/>
          </a:xfrm>
          <a:custGeom>
            <a:avLst/>
            <a:gdLst>
              <a:gd name="textAreaLeft" fmla="*/ 188640 w 295200"/>
              <a:gd name="textAreaRight" fmla="*/ 295200 w 29520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5084640"/>
            <a:ext cx="1295280" cy="1008360"/>
          </a:xfrm>
          <a:prstGeom prst="cloudCallout">
            <a:avLst>
              <a:gd name="adj1" fmla="val 10296"/>
              <a:gd name="adj2" fmla="val 690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776240" cy="225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7080" y="191628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22037 E">
                                      <p:cBhvr>
                                        <p:cTn id="1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Конёк-Горбунок не будет семь суток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 не будет семь суток спать, то лишится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шебной силы. Допустим, он в течение не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ел и не спал. Что он должен сделать в пер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редь к концу седьмых суток – поесть или посп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не потерять с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52252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97164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4000" y="1557360"/>
            <a:ext cx="525744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687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68786"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31440" y="2789640"/>
            <a:ext cx="504000" cy="2421360"/>
            <a:chOff x="6031440" y="2789640"/>
            <a:chExt cx="504000" cy="2421360"/>
          </a:xfrm>
        </p:grpSpPr>
        <p:sp>
          <p:nvSpPr>
            <p:cNvPr id="92" name=""/>
            <p:cNvSpPr/>
            <p:nvPr/>
          </p:nvSpPr>
          <p:spPr>
            <a:xfrm rot="20840400">
              <a:off x="6158880" y="280368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 rot="20840400">
              <a:off x="6153120" y="405360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5240" y="2406240"/>
            <a:ext cx="1416960" cy="3279960"/>
            <a:chOff x="5565240" y="2406240"/>
            <a:chExt cx="1416960" cy="3279960"/>
          </a:xfrm>
        </p:grpSpPr>
        <p:sp>
          <p:nvSpPr>
            <p:cNvPr id="95" name=""/>
            <p:cNvSpPr/>
            <p:nvPr/>
          </p:nvSpPr>
          <p:spPr>
            <a:xfrm rot="14331600">
              <a:off x="5580360" y="2800440"/>
              <a:ext cx="1380600" cy="81468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 rot="14331600">
              <a:off x="5586120" y="4476960"/>
              <a:ext cx="1380960" cy="81432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22680" y="1535040"/>
            <a:ext cx="5096160" cy="5143680"/>
            <a:chOff x="3622680" y="1535040"/>
            <a:chExt cx="5096160" cy="5143680"/>
          </a:xfrm>
        </p:grpSpPr>
        <p:sp>
          <p:nvSpPr>
            <p:cNvPr id="98" name=""/>
            <p:cNvSpPr/>
            <p:nvPr/>
          </p:nvSpPr>
          <p:spPr>
            <a:xfrm>
              <a:off x="7158240" y="1833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43760" y="2633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2680" y="3780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600" y="597528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1800" y="1535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1040" y="18860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38320" y="2630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680" y="4930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3920" y="5716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99400" y="4919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08920" y="5557680"/>
              <a:ext cx="47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600" y="3773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3080" y="39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http://www.weblancer.net/files/portfolio/345/34573/95601.jpg"/>
          <p:cNvPicPr/>
          <p:nvPr/>
        </p:nvPicPr>
        <p:blipFill>
          <a:blip r:embed="rId1"/>
          <a:stretch/>
        </p:blipFill>
        <p:spPr>
          <a:xfrm>
            <a:off x="755640" y="1052640"/>
            <a:ext cx="2303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71800" y="3525120"/>
            <a:ext cx="3272400" cy="2790000"/>
            <a:chOff x="271800" y="3525120"/>
            <a:chExt cx="3272400" cy="2790000"/>
          </a:xfrm>
        </p:grpSpPr>
        <p:pic>
          <p:nvPicPr>
            <p:cNvPr id="113" name="" descr="http://mistergid.ru/image/upload/2011-08-07/330026694634_yo-5-ryerryiryos.jpg"/>
            <p:cNvPicPr/>
            <p:nvPr/>
          </p:nvPicPr>
          <p:blipFill>
            <a:blip r:embed="rId2"/>
            <a:srcRect l="3543" t="0" r="52777" b="0"/>
            <a:stretch/>
          </p:blipFill>
          <p:spPr>
            <a:xfrm rot="3859800">
              <a:off x="1483920" y="3924000"/>
              <a:ext cx="14256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http://mistergid.ru/image/upload/2011-08-07/330026694634_yo-5-ryerryiryos.jpg"/>
            <p:cNvPicPr/>
            <p:nvPr/>
          </p:nvPicPr>
          <p:blipFill>
            <a:blip r:embed="rId3"/>
            <a:srcRect l="60638" t="0" r="0" b="4834"/>
            <a:stretch/>
          </p:blipFill>
          <p:spPr>
            <a:xfrm rot="3560400">
              <a:off x="1042200" y="393408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http://mistergid.ru/image/upload/2011-08-07/330026694634_yo-5-ryerryiryos.jpg"/>
            <p:cNvPicPr/>
            <p:nvPr/>
          </p:nvPicPr>
          <p:blipFill>
            <a:blip r:embed="rId4"/>
            <a:srcRect l="60638" t="0" r="0" b="4834"/>
            <a:stretch/>
          </p:blipFill>
          <p:spPr>
            <a:xfrm rot="17676000">
              <a:off x="898920" y="429300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http://mistergid.ru/image/upload/2011-08-07/330026694634_yo-5-ryerryiryos.jpg"/>
            <p:cNvPicPr/>
            <p:nvPr/>
          </p:nvPicPr>
          <p:blipFill>
            <a:blip r:embed="rId5"/>
            <a:srcRect l="3543" t="0" r="52777" b="0"/>
            <a:stretch/>
          </p:blipFill>
          <p:spPr>
            <a:xfrm rot="13971000">
              <a:off x="907920" y="3636360"/>
              <a:ext cx="1425600" cy="23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1406160" y="54936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8720" y="3357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28464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213000"/>
            <a:ext cx="216000" cy="976320"/>
          </a:xfrm>
          <a:prstGeom prst="up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00174 0.78564 E">
                                      <p:cBhvr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2"/>
          <a:stretch/>
        </p:blipFill>
        <p:spPr>
          <a:xfrm>
            <a:off x="-1440" y="4437000"/>
            <a:ext cx="208440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&amp;Vcy;&amp;iecy;&amp;kcy;&amp;tcy;&amp;ocy;&amp;rcy;&amp;ncy;&amp;ycy;&amp;jcy; &amp;kcy;&amp;lcy;&amp;icy;&amp;pcy;&amp;acy;&amp;rcy;&amp;tcy; - &amp;Bcy;&amp;acy;&amp;bcy;&amp;acy;-&amp;YAcy;&amp;gcy;&amp;acy;"/>
          <p:cNvPicPr/>
          <p:nvPr/>
        </p:nvPicPr>
        <p:blipFill>
          <a:blip r:embed="rId3"/>
          <a:stretch/>
        </p:blipFill>
        <p:spPr>
          <a:xfrm>
            <a:off x="1619280" y="5672160"/>
            <a:ext cx="130176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а Яга в своей избушке на курьих ножках за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зочных животных. Все они, кроме двух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ящие Коты; все, кроме двух, - Мудрые со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льные – Усатые Тарак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обитателей в избушке у Бабы Яг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4"/>
          <a:stretch/>
        </p:blipFill>
        <p:spPr>
          <a:xfrm>
            <a:off x="7816680" y="3284640"/>
            <a:ext cx="132732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5"/>
          <a:stretch/>
        </p:blipFill>
        <p:spPr>
          <a:xfrm>
            <a:off x="7524720" y="4508640"/>
            <a:ext cx="1417680" cy="127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6"/>
          <a:stretch/>
        </p:blipFill>
        <p:spPr>
          <a:xfrm>
            <a:off x="5724360" y="4724280"/>
            <a:ext cx="766800" cy="148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6443640" y="5229360"/>
            <a:ext cx="82224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8"/>
          <a:stretch/>
        </p:blipFill>
        <p:spPr>
          <a:xfrm>
            <a:off x="5508720" y="5229360"/>
            <a:ext cx="841320" cy="162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9"/>
          <a:stretch/>
        </p:blipFill>
        <p:spPr>
          <a:xfrm>
            <a:off x="4067280" y="4508640"/>
            <a:ext cx="923760" cy="129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0"/>
          <a:stretch/>
        </p:blipFill>
        <p:spPr>
          <a:xfrm>
            <a:off x="3348000" y="4581360"/>
            <a:ext cx="963720" cy="135432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"/>
          <a:stretch/>
        </p:blipFill>
        <p:spPr>
          <a:xfrm>
            <a:off x="395280" y="333360"/>
            <a:ext cx="1373040" cy="1930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2"/>
          <a:stretch/>
        </p:blipFill>
        <p:spPr>
          <a:xfrm>
            <a:off x="539640" y="2349360"/>
            <a:ext cx="100332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3"/>
          <a:stretch/>
        </p:blipFill>
        <p:spPr>
          <a:xfrm>
            <a:off x="250920" y="4292640"/>
            <a:ext cx="1566720" cy="22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647640" cy="3889440"/>
          </a:xfrm>
          <a:custGeom>
            <a:avLst/>
            <a:gdLst>
              <a:gd name="textAreaLeft" fmla="*/ 0 w 647640"/>
              <a:gd name="textAreaRight" fmla="*/ 234000 w 64764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576000" cy="3889440"/>
          </a:xfrm>
          <a:custGeom>
            <a:avLst/>
            <a:gdLst>
              <a:gd name="textAreaLeft" fmla="*/ 0 w 576000"/>
              <a:gd name="textAreaRight" fmla="*/ 208080 w 57600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080" y="184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7440" y="4149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33360"/>
            <a:ext cx="576000" cy="6264360"/>
          </a:xfrm>
          <a:custGeom>
            <a:avLst/>
            <a:gdLst>
              <a:gd name="textAreaLeft" fmla="*/ 0 w 576000"/>
              <a:gd name="textAreaRight" fmla="*/ 208080 w 57600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8520" y="29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4"/>
          <a:stretch/>
        </p:blipFill>
        <p:spPr>
          <a:xfrm>
            <a:off x="5651640" y="1844640"/>
            <a:ext cx="319392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5"/>
          <a:stretch/>
        </p:blipFill>
        <p:spPr>
          <a:xfrm>
            <a:off x="6948360" y="765000"/>
            <a:ext cx="963720" cy="1354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6"/>
          <a:stretch/>
        </p:blipFill>
        <p:spPr>
          <a:xfrm>
            <a:off x="7020000" y="4149720"/>
            <a:ext cx="1979640" cy="1784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5435640" y="3860640"/>
            <a:ext cx="10033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88400">
            <a:off x="6084360" y="2133720"/>
            <a:ext cx="1944720" cy="187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670200">
            <a:off x="755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430800">
            <a:off x="6156000" y="4842000"/>
            <a:ext cx="2016000" cy="2016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667200">
            <a:off x="468000" y="494172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 rot="12363600">
            <a:off x="2195280" y="2852640"/>
            <a:ext cx="4206600" cy="1387440"/>
          </a:xfrm>
          <a:prstGeom prst="parallelogram">
            <a:avLst>
              <a:gd name="adj" fmla="val 979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19640" y="2205000"/>
            <a:ext cx="3960720" cy="3889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2205000"/>
            <a:ext cx="1944720" cy="187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419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64000" y="4078080"/>
            <a:ext cx="2016000" cy="201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898800">
            <a:off x="2300040" y="345060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8882000">
            <a:off x="3284640" y="4381920"/>
            <a:ext cx="4206960" cy="1387440"/>
          </a:xfrm>
          <a:prstGeom prst="parallelogram">
            <a:avLst>
              <a:gd name="adj" fmla="val 979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1:29:45Z</dcterms:created>
  <dc:creator>Мама</dc:creator>
  <dc:description/>
  <dc:language>en-US</dc:language>
  <cp:lastModifiedBy>Мама</cp:lastModifiedBy>
  <dcterms:modified xsi:type="dcterms:W3CDTF">2013-06-27T22:12:45Z</dcterms:modified>
  <cp:revision>11</cp:revision>
  <dc:subject/>
  <dc:title>Слайд 1</dc:title>
</cp:coreProperties>
</file>