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CC75E-7061-4312-9344-3BD2D00236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: познакомить с задачами на разрез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 е ш е н и е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ачала сделаем разрезы, как на рисунке по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, b, c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Затем перегнём один край по АВ на 18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сделаем сгиб по прямой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твет: он должен сделать не то, что делал перед началом отсчёта первых сут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 е ш е н и е: Из условия задачи следует, что Мудрых Сов и Усатых Тараканов – двое, а Говорящих Котов и Усатых Тараканов – тоже дв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Это выполняется в двух случаях: либо Тараканов – 2, Котов и Сов – 0, либо и Котов, и Сов, и Тараканов – по од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ервый случай не годится, так как в условии сказано, что и Совы, и Коты живут в избушке. Значит, у Бабы Яги поселились Говорящий Кот, Мудрая Сова и Усатый Таракан – всего тр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конвертах выдаются 4 вида разрезанного квадрата. Ребята должны из этих частей собрать квадра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F146-1E64-4F13-81AB-18640EA9A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DA23-A882-4C0A-BF07-110AFC773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7496-793E-4F34-A791-8C383B14E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62BD-7127-4122-93BC-FE623BE84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949E-315E-4D48-B69A-E15AB2854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0693-6A6B-46FC-BF9D-4461E276B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9810-E8AD-4502-A377-32F4FD56A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BD90-B64E-46C8-8379-30B9EB10A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3883-F0EF-4284-B1D0-7D87BB7BD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6BCF-C1E6-48AB-84AB-D1142697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5257-CEE8-4D44-8FB3-6B6B8054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1A64-2B5B-415A-AC94-61F0A207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4"/>
            </a:gs>
            <a:gs pos="50000">
              <a:srgbClr val="fefefe"/>
            </a:gs>
            <a:gs pos="100000">
              <a:srgbClr val="fefe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5560D-6FDD-4651-8996-41CDA9355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coollady.ru/index.php?name=Pages&amp;op=page&amp;pid=2596" TargetMode="External"/><Relationship Id="rId2" Type="http://schemas.openxmlformats.org/officeDocument/2006/relationships/hyperlink" Target="http://www.weblancer.net/files/portfolio/345/34573/95601.jpg" TargetMode="External"/><Relationship Id="rId3" Type="http://schemas.openxmlformats.org/officeDocument/2006/relationships/hyperlink" Target="http://mistergid.ru/image/upload/2011-08-07/330026694634_yo-5-ryerryiryos.jpg" TargetMode="External"/><Relationship Id="rId4" Type="http://schemas.openxmlformats.org/officeDocument/2006/relationships/hyperlink" Target="http://www.it-n.ru/profil.aspx?cat_no=692&amp;d_no=9658" TargetMode="External"/><Relationship Id="rId5" Type="http://schemas.openxmlformats.org/officeDocument/2006/relationships/hyperlink" Target="http://www.it-n.ru/profil.aspx?cat_no=692&amp;d_no=9658" TargetMode="External"/><Relationship Id="rId6" Type="http://schemas.openxmlformats.org/officeDocument/2006/relationships/hyperlink" Target="http://www.it-n.ru/profil.aspx?cat_no=692&amp;d_no=9658" TargetMode="External"/><Relationship Id="rId7" Type="http://schemas.openxmlformats.org/officeDocument/2006/relationships/hyperlink" Target="http://www.it-n.ru/profil.aspx?cat_no=692&amp;d_no=9658" TargetMode="External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2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png"/><Relationship Id="rId3" Type="http://schemas.openxmlformats.org/officeDocument/2006/relationships/image" Target="../media/image10.png"/><Relationship Id="rId4" Type="http://schemas.openxmlformats.org/officeDocument/2006/relationships/image" Target="../media/image15.png"/><Relationship Id="rId5" Type="http://schemas.openxmlformats.org/officeDocument/2006/relationships/image" Target="../media/image14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4"/>
            </a:gs>
            <a:gs pos="50000">
              <a:srgbClr val="fefefe"/>
            </a:gs>
            <a:gs pos="100000">
              <a:srgbClr val="fefe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9280" y="189000"/>
            <a:ext cx="5616720" cy="11509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c0c0c0"/>
              </a:gs>
              <a:gs pos="50000">
                <a:srgbClr val="fefefe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ведение в геометр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48000" y="5516640"/>
            <a:ext cx="5616720" cy="11509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c0c0c0"/>
              </a:gs>
              <a:gs pos="50000">
                <a:srgbClr val="fefefe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ратанова Марина Никола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КОУ СОШ №256 ГО ЗАТО г.Фоки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морский кр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640" y="1386000"/>
            <a:ext cx="197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582b"/>
                </a:solidFill>
                <a:latin typeface="Times New Roman"/>
              </a:rPr>
              <a:t>Занятие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9440" y="2205000"/>
            <a:ext cx="5333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Разрезание и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складыв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плоских фигу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5994360"/>
            <a:ext cx="16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6 кла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580000" y="189000"/>
            <a:ext cx="3313080" cy="2376360"/>
            <a:chOff x="5580000" y="189000"/>
            <a:chExt cx="3313080" cy="2376360"/>
          </a:xfrm>
        </p:grpSpPr>
        <p:sp>
          <p:nvSpPr>
            <p:cNvPr id="54" name=""/>
            <p:cNvSpPr/>
            <p:nvPr/>
          </p:nvSpPr>
          <p:spPr>
            <a:xfrm>
              <a:off x="6697440" y="1413000"/>
              <a:ext cx="1008360" cy="43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Каратанов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Марина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Николаевн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5580000" y="189000"/>
              <a:ext cx="3313080" cy="2376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4"/>
            </a:gs>
            <a:gs pos="50000">
              <a:srgbClr val="fefefe"/>
            </a:gs>
            <a:gs pos="100000">
              <a:srgbClr val="fefe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c0c0c0"/>
              </a:gs>
              <a:gs pos="50000">
                <a:srgbClr val="fefefe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06520" y="1268280"/>
            <a:ext cx="28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Собери квадр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79280" y="620640"/>
            <a:ext cx="1944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d07c00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d07c00"/>
                    </a:gs>
                  </a:gsLst>
                  <a:lin ang="5400000"/>
                </a:gradFill>
                <a:latin typeface="Times New Roman"/>
              </a:rPr>
              <a:t>1-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d07c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69" name="">
            <a:hlinkClick r:id="" action="ppaction://hlinkshowjump?jump=nextslide"/>
          </p:cNvPr>
          <p:cNvSpPr/>
          <p:nvPr/>
        </p:nvSpPr>
        <p:spPr>
          <a:xfrm>
            <a:off x="7380360" y="6093000"/>
            <a:ext cx="1511280" cy="504720"/>
          </a:xfrm>
          <a:custGeom>
            <a:avLst/>
            <a:gdLst>
              <a:gd name="textAreaLeft" fmla="*/ 32400 w 1511280"/>
              <a:gd name="textAreaRight" fmla="*/ 1478880 w 1511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64646" h="21600">
                <a:moveTo>
                  <a:pt x="0" y="0"/>
                </a:moveTo>
                <a:lnTo>
                  <a:pt x="64646" y="0"/>
                </a:lnTo>
                <a:lnTo>
                  <a:pt x="64646" y="21600"/>
                </a:lnTo>
                <a:lnTo>
                  <a:pt x="0" y="21600"/>
                </a:lnTo>
                <a:close/>
              </a:path>
              <a:path fill="lightenLess" w="64646" h="21600">
                <a:moveTo>
                  <a:pt x="0" y="0"/>
                </a:moveTo>
                <a:lnTo>
                  <a:pt x="64646" y="0"/>
                </a:lnTo>
                <a:lnTo>
                  <a:pt x="63246" y="1400"/>
                </a:lnTo>
                <a:lnTo>
                  <a:pt x="1400" y="1400"/>
                </a:lnTo>
                <a:close/>
              </a:path>
              <a:path fill="darken" w="64646" h="21600">
                <a:moveTo>
                  <a:pt x="64646" y="0"/>
                </a:moveTo>
                <a:lnTo>
                  <a:pt x="64646" y="21600"/>
                </a:lnTo>
                <a:lnTo>
                  <a:pt x="63246" y="20200"/>
                </a:lnTo>
                <a:lnTo>
                  <a:pt x="63246" y="1400"/>
                </a:lnTo>
                <a:close/>
              </a:path>
              <a:path fill="darkenLess" w="64646" h="21600">
                <a:moveTo>
                  <a:pt x="646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6" y="20200"/>
                </a:lnTo>
                <a:close/>
              </a:path>
              <a:path fill="lighten" w="646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6507600">
            <a:off x="1187280" y="2636640"/>
            <a:ext cx="2016000" cy="201636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537000">
            <a:off x="179280" y="4508640"/>
            <a:ext cx="4289400" cy="1436400"/>
          </a:xfrm>
          <a:prstGeom prst="parallelogram">
            <a:avLst>
              <a:gd name="adj" fmla="val 996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1308000">
            <a:off x="3851280" y="2636640"/>
            <a:ext cx="1942920" cy="201600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2017400">
            <a:off x="6226920" y="2133360"/>
            <a:ext cx="2016360" cy="201600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8268600">
            <a:off x="3708000" y="5373360"/>
            <a:ext cx="2016000" cy="201600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2662200">
            <a:off x="4990680" y="4076280"/>
            <a:ext cx="4152960" cy="1413000"/>
          </a:xfrm>
          <a:prstGeom prst="parallelogram">
            <a:avLst>
              <a:gd name="adj" fmla="val 977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4"/>
            </a:gs>
            <a:gs pos="50000">
              <a:srgbClr val="fefefe"/>
            </a:gs>
            <a:gs pos="100000">
              <a:srgbClr val="fefe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676520" y="1155600"/>
            <a:ext cx="4033800" cy="39592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5400000">
            <a:off x="1676160" y="1155600"/>
            <a:ext cx="2016360" cy="201600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18898800">
            <a:off x="538920" y="2437200"/>
            <a:ext cx="4289400" cy="1436760"/>
          </a:xfrm>
          <a:prstGeom prst="parallelogram">
            <a:avLst>
              <a:gd name="adj" fmla="val 996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5400000">
            <a:off x="3728880" y="1118880"/>
            <a:ext cx="1943280" cy="201600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3692520" y="3098880"/>
            <a:ext cx="2016000" cy="201600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16200000">
            <a:off x="1676520" y="3098880"/>
            <a:ext cx="2016000" cy="201600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18954600">
            <a:off x="2626920" y="2420640"/>
            <a:ext cx="4152960" cy="1412640"/>
          </a:xfrm>
          <a:prstGeom prst="parallelogram">
            <a:avLst>
              <a:gd name="adj" fmla="val 9780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6659640" y="4005360"/>
            <a:ext cx="1974600" cy="26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4000"/>
                            </p:stCondLst>
                            <p:childTnLst>
                              <p:par>
                                <p:cTn id="1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80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4"/>
            </a:gs>
            <a:gs pos="50000">
              <a:srgbClr val="fefefe"/>
            </a:gs>
            <a:gs pos="100000">
              <a:srgbClr val="fefe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c0c0c0"/>
              </a:gs>
              <a:gs pos="50000">
                <a:srgbClr val="fefefe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06520" y="1268280"/>
            <a:ext cx="28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Собери квадр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79280" y="620640"/>
            <a:ext cx="1944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d07c00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d07c00"/>
                    </a:gs>
                  </a:gsLst>
                  <a:lin ang="5400000"/>
                </a:gradFill>
                <a:latin typeface="Times New Roman"/>
              </a:rPr>
              <a:t>1-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d07c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71640" y="2421000"/>
            <a:ext cx="1008000" cy="396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68360" y="2421000"/>
            <a:ext cx="1009800" cy="2881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012000" y="2421000"/>
            <a:ext cx="1008000" cy="20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36000" y="2349360"/>
            <a:ext cx="1006200" cy="1081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564000" y="2421000"/>
            <a:ext cx="1009440" cy="2881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59280" y="2421000"/>
            <a:ext cx="1008000" cy="20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236000" y="3716280"/>
            <a:ext cx="1006200" cy="1081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>
            <a:hlinkClick r:id="" action="ppaction://hlinkshowjump?jump=nextslide"/>
          </p:cNvPr>
          <p:cNvSpPr/>
          <p:nvPr/>
        </p:nvSpPr>
        <p:spPr>
          <a:xfrm>
            <a:off x="7380360" y="6093000"/>
            <a:ext cx="1511280" cy="504720"/>
          </a:xfrm>
          <a:custGeom>
            <a:avLst/>
            <a:gdLst>
              <a:gd name="textAreaLeft" fmla="*/ 32400 w 1511280"/>
              <a:gd name="textAreaRight" fmla="*/ 1478880 w 1511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64646" h="21600">
                <a:moveTo>
                  <a:pt x="0" y="0"/>
                </a:moveTo>
                <a:lnTo>
                  <a:pt x="64646" y="0"/>
                </a:lnTo>
                <a:lnTo>
                  <a:pt x="64646" y="21600"/>
                </a:lnTo>
                <a:lnTo>
                  <a:pt x="0" y="21600"/>
                </a:lnTo>
                <a:close/>
              </a:path>
              <a:path fill="lightenLess" w="64646" h="21600">
                <a:moveTo>
                  <a:pt x="0" y="0"/>
                </a:moveTo>
                <a:lnTo>
                  <a:pt x="64646" y="0"/>
                </a:lnTo>
                <a:lnTo>
                  <a:pt x="63246" y="1400"/>
                </a:lnTo>
                <a:lnTo>
                  <a:pt x="1400" y="1400"/>
                </a:lnTo>
                <a:close/>
              </a:path>
              <a:path fill="darken" w="64646" h="21600">
                <a:moveTo>
                  <a:pt x="64646" y="0"/>
                </a:moveTo>
                <a:lnTo>
                  <a:pt x="64646" y="21600"/>
                </a:lnTo>
                <a:lnTo>
                  <a:pt x="63246" y="20200"/>
                </a:lnTo>
                <a:lnTo>
                  <a:pt x="63246" y="1400"/>
                </a:lnTo>
                <a:close/>
              </a:path>
              <a:path fill="darkenLess" w="64646" h="21600">
                <a:moveTo>
                  <a:pt x="646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6" y="20200"/>
                </a:lnTo>
                <a:close/>
              </a:path>
              <a:path fill="lighten" w="646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4"/>
            </a:gs>
            <a:gs pos="50000">
              <a:srgbClr val="fefefe"/>
            </a:gs>
            <a:gs pos="100000">
              <a:srgbClr val="fefe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132000" y="1628640"/>
            <a:ext cx="4033800" cy="39592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132000" y="1628640"/>
            <a:ext cx="1008360" cy="3961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40360" y="2708280"/>
            <a:ext cx="1009440" cy="28814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148360" y="3573360"/>
            <a:ext cx="1008000" cy="201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156360" y="4508640"/>
            <a:ext cx="1006560" cy="1081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56360" y="1628640"/>
            <a:ext cx="1009440" cy="28814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148360" y="1628640"/>
            <a:ext cx="1008000" cy="1944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40360" y="1628640"/>
            <a:ext cx="1006200" cy="1081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21542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80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4"/>
            </a:gs>
            <a:gs pos="50000">
              <a:srgbClr val="fefefe"/>
            </a:gs>
            <a:gs pos="100000">
              <a:srgbClr val="fefe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c0c0c0"/>
              </a:gs>
              <a:gs pos="50000">
                <a:srgbClr val="fefefe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520" y="1268280"/>
            <a:ext cx="28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Собери квадр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79280" y="620640"/>
            <a:ext cx="1944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d07c00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d07c00"/>
                    </a:gs>
                  </a:gsLst>
                  <a:lin ang="5400000"/>
                </a:gradFill>
                <a:latin typeface="Times New Roman"/>
              </a:rPr>
              <a:t>1-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d07c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380360" y="3573360"/>
            <a:ext cx="1317600" cy="1295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6939600">
            <a:off x="323280" y="3213000"/>
            <a:ext cx="3384720" cy="208908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3488400">
            <a:off x="5292360" y="2708280"/>
            <a:ext cx="3384360" cy="208908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rot="8872800">
            <a:off x="539280" y="5228640"/>
            <a:ext cx="3384720" cy="208908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rot="14309400">
            <a:off x="2700000" y="3355920"/>
            <a:ext cx="3384720" cy="208908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>
            <a:hlinkClick r:id="" action="ppaction://hlinkshowjump?jump=nextslide"/>
          </p:cNvPr>
          <p:cNvSpPr/>
          <p:nvPr/>
        </p:nvSpPr>
        <p:spPr>
          <a:xfrm>
            <a:off x="7380360" y="6093000"/>
            <a:ext cx="1511280" cy="504720"/>
          </a:xfrm>
          <a:custGeom>
            <a:avLst/>
            <a:gdLst>
              <a:gd name="textAreaLeft" fmla="*/ 32400 w 1511280"/>
              <a:gd name="textAreaRight" fmla="*/ 1478880 w 1511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64646" h="21600">
                <a:moveTo>
                  <a:pt x="0" y="0"/>
                </a:moveTo>
                <a:lnTo>
                  <a:pt x="64646" y="0"/>
                </a:lnTo>
                <a:lnTo>
                  <a:pt x="64646" y="21600"/>
                </a:lnTo>
                <a:lnTo>
                  <a:pt x="0" y="21600"/>
                </a:lnTo>
                <a:close/>
              </a:path>
              <a:path fill="lightenLess" w="64646" h="21600">
                <a:moveTo>
                  <a:pt x="0" y="0"/>
                </a:moveTo>
                <a:lnTo>
                  <a:pt x="64646" y="0"/>
                </a:lnTo>
                <a:lnTo>
                  <a:pt x="63246" y="1400"/>
                </a:lnTo>
                <a:lnTo>
                  <a:pt x="1400" y="1400"/>
                </a:lnTo>
                <a:close/>
              </a:path>
              <a:path fill="darken" w="64646" h="21600">
                <a:moveTo>
                  <a:pt x="64646" y="0"/>
                </a:moveTo>
                <a:lnTo>
                  <a:pt x="64646" y="21600"/>
                </a:lnTo>
                <a:lnTo>
                  <a:pt x="63246" y="20200"/>
                </a:lnTo>
                <a:lnTo>
                  <a:pt x="63246" y="1400"/>
                </a:lnTo>
                <a:close/>
              </a:path>
              <a:path fill="darkenLess" w="64646" h="21600">
                <a:moveTo>
                  <a:pt x="646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6" y="20200"/>
                </a:lnTo>
                <a:close/>
              </a:path>
              <a:path fill="lighten" w="646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4"/>
            </a:gs>
            <a:gs pos="50000">
              <a:srgbClr val="fefefe"/>
            </a:gs>
            <a:gs pos="100000">
              <a:srgbClr val="fefe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405080" y="1197000"/>
            <a:ext cx="4032000" cy="40323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9669200">
            <a:off x="2771280" y="2565360"/>
            <a:ext cx="1317600" cy="1295280"/>
          </a:xfrm>
          <a:prstGeom prst="rect">
            <a:avLst/>
          </a:prstGeom>
          <a:solidFill>
            <a:srgbClr val="ff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9688400">
            <a:off x="1692360" y="188640"/>
            <a:ext cx="3384360" cy="208908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3488400">
            <a:off x="3708000" y="2131920"/>
            <a:ext cx="3384720" cy="208908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8872800">
            <a:off x="1763280" y="4149000"/>
            <a:ext cx="3384720" cy="208908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14309400">
            <a:off x="-250920" y="2204280"/>
            <a:ext cx="3384360" cy="208944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6659640" y="4005360"/>
            <a:ext cx="1974600" cy="26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400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800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4"/>
            </a:gs>
            <a:gs pos="50000">
              <a:srgbClr val="fefefe"/>
            </a:gs>
            <a:gs pos="100000">
              <a:srgbClr val="fefe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c0c0c0"/>
              </a:gs>
              <a:gs pos="50000">
                <a:srgbClr val="fefefe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991240" y="1268280"/>
            <a:ext cx="328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Повторить фигу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95280" y="620640"/>
            <a:ext cx="144000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d07c00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d07c00"/>
                    </a:gs>
                  </a:gsLst>
                  <a:lin ang="5400000"/>
                </a:gradFill>
                <a:latin typeface="Times New Roman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d07c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rcRect l="0" t="1573" r="2507" b="0"/>
          <a:stretch/>
        </p:blipFill>
        <p:spPr>
          <a:xfrm>
            <a:off x="755640" y="2133720"/>
            <a:ext cx="3887640" cy="44575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4716360" y="3429000"/>
            <a:ext cx="3961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игура, изображённая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исунке, не склеена,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ырезана из одного ли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умаги. Попробуйте, взя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ожницы и лист бумаг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вторить фигу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" action="ppaction://hlinkshowjump?jump=nextslide"/>
          </p:cNvPr>
          <p:cNvSpPr/>
          <p:nvPr/>
        </p:nvSpPr>
        <p:spPr>
          <a:xfrm>
            <a:off x="7380360" y="6093000"/>
            <a:ext cx="1511280" cy="504720"/>
          </a:xfrm>
          <a:custGeom>
            <a:avLst/>
            <a:gdLst>
              <a:gd name="textAreaLeft" fmla="*/ 32400 w 1511280"/>
              <a:gd name="textAreaRight" fmla="*/ 1478880 w 1511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64646" h="21600">
                <a:moveTo>
                  <a:pt x="0" y="0"/>
                </a:moveTo>
                <a:lnTo>
                  <a:pt x="64646" y="0"/>
                </a:lnTo>
                <a:lnTo>
                  <a:pt x="64646" y="21600"/>
                </a:lnTo>
                <a:lnTo>
                  <a:pt x="0" y="21600"/>
                </a:lnTo>
                <a:close/>
              </a:path>
              <a:path fill="lightenLess" w="64646" h="21600">
                <a:moveTo>
                  <a:pt x="0" y="0"/>
                </a:moveTo>
                <a:lnTo>
                  <a:pt x="64646" y="0"/>
                </a:lnTo>
                <a:lnTo>
                  <a:pt x="63246" y="1400"/>
                </a:lnTo>
                <a:lnTo>
                  <a:pt x="1400" y="1400"/>
                </a:lnTo>
                <a:close/>
              </a:path>
              <a:path fill="darken" w="64646" h="21600">
                <a:moveTo>
                  <a:pt x="64646" y="0"/>
                </a:moveTo>
                <a:lnTo>
                  <a:pt x="64646" y="21600"/>
                </a:lnTo>
                <a:lnTo>
                  <a:pt x="63246" y="20200"/>
                </a:lnTo>
                <a:lnTo>
                  <a:pt x="63246" y="1400"/>
                </a:lnTo>
                <a:close/>
              </a:path>
              <a:path fill="darkenLess" w="64646" h="21600">
                <a:moveTo>
                  <a:pt x="646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6" y="20200"/>
                </a:lnTo>
                <a:close/>
              </a:path>
              <a:path fill="lighten" w="646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4"/>
            </a:gs>
            <a:gs pos="50000">
              <a:srgbClr val="fefefe"/>
            </a:gs>
            <a:gs pos="100000">
              <a:srgbClr val="fefe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0" y="3933720"/>
            <a:ext cx="2130480" cy="29242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3419640" y="476280"/>
            <a:ext cx="4752720" cy="5832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932360" y="476280"/>
            <a:ext cx="0" cy="2952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867280" y="3429000"/>
            <a:ext cx="0" cy="288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441600" y="493560"/>
            <a:ext cx="2405160" cy="5786640"/>
          </a:xfrm>
          <a:custGeom>
            <a:avLst/>
            <a:gdLst/>
            <a:ahLst/>
            <a:rect l="l" t="t" r="r" b="b"/>
            <a:pathLst>
              <a:path w="1515" h="3645">
                <a:moveTo>
                  <a:pt x="0" y="0"/>
                </a:moveTo>
                <a:lnTo>
                  <a:pt x="924" y="0"/>
                </a:lnTo>
                <a:lnTo>
                  <a:pt x="932" y="1857"/>
                </a:lnTo>
                <a:lnTo>
                  <a:pt x="1515" y="1872"/>
                </a:lnTo>
                <a:lnTo>
                  <a:pt x="1508" y="3645"/>
                </a:lnTo>
                <a:lnTo>
                  <a:pt x="7" y="3638"/>
                </a:lnTo>
                <a:lnTo>
                  <a:pt x="0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22560" y="3429000"/>
            <a:ext cx="612144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989440" y="6165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989440" y="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174160" y="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174520" y="6165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174160" y="292428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933800" y="1700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734160" y="1700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869080" y="465300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03640" y="-243000"/>
            <a:ext cx="770040" cy="758880"/>
          </a:xfrm>
          <a:custGeom>
            <a:avLst/>
            <a:gdLst/>
            <a:ahLst/>
            <a:rect l="l" t="t" r="r" b="b"/>
            <a:pathLst>
              <a:path w="485" h="478">
                <a:moveTo>
                  <a:pt x="303" y="220"/>
                </a:moveTo>
                <a:lnTo>
                  <a:pt x="311" y="0"/>
                </a:lnTo>
                <a:lnTo>
                  <a:pt x="0" y="478"/>
                </a:lnTo>
                <a:lnTo>
                  <a:pt x="485" y="190"/>
                </a:lnTo>
                <a:lnTo>
                  <a:pt x="319" y="220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732720" y="476280"/>
            <a:ext cx="0" cy="2952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804000" y="-243000"/>
            <a:ext cx="770040" cy="758880"/>
          </a:xfrm>
          <a:custGeom>
            <a:avLst/>
            <a:gdLst/>
            <a:ahLst/>
            <a:rect l="l" t="t" r="r" b="b"/>
            <a:pathLst>
              <a:path w="485" h="478">
                <a:moveTo>
                  <a:pt x="303" y="220"/>
                </a:moveTo>
                <a:lnTo>
                  <a:pt x="311" y="0"/>
                </a:lnTo>
                <a:lnTo>
                  <a:pt x="0" y="478"/>
                </a:lnTo>
                <a:lnTo>
                  <a:pt x="485" y="190"/>
                </a:lnTo>
                <a:lnTo>
                  <a:pt x="319" y="220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867280" y="5516640"/>
            <a:ext cx="770040" cy="758880"/>
          </a:xfrm>
          <a:custGeom>
            <a:avLst/>
            <a:gdLst/>
            <a:ahLst/>
            <a:rect l="l" t="t" r="r" b="b"/>
            <a:pathLst>
              <a:path w="485" h="478">
                <a:moveTo>
                  <a:pt x="303" y="220"/>
                </a:moveTo>
                <a:lnTo>
                  <a:pt x="311" y="0"/>
                </a:lnTo>
                <a:lnTo>
                  <a:pt x="0" y="478"/>
                </a:lnTo>
                <a:lnTo>
                  <a:pt x="485" y="190"/>
                </a:lnTo>
                <a:lnTo>
                  <a:pt x="319" y="220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59259E-006 L -0.00261 0.40648 E">
                                      <p:cBhvr>
                                        <p:cTn id="303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59259E-006 L -0.00261 0.40648 E">
                                      <p:cBhvr>
                                        <p:cTn id="319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61 -0.40649 L -2.5E-006 4.07407E-006 E">
                                      <p:cBhvr>
                                        <p:cTn id="335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4"/>
            </a:gs>
            <a:gs pos="50000">
              <a:srgbClr val="fefefe"/>
            </a:gs>
            <a:gs pos="100000">
              <a:srgbClr val="fefe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58480" y="1989000"/>
            <a:ext cx="714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oollady.ru/index.php?name=Pages&amp;op=page&amp;pid=2596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57760" y="2565360"/>
            <a:ext cx="634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weblancer.net/files/portfolio/345/34573/95601.jp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61000" y="3141720"/>
            <a:ext cx="83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mistergid.ru/image/upload/2011-08-07/330026694634_yo-5-ryerryiryos.jp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56320" y="3789360"/>
            <a:ext cx="562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it-n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/profil.aspx?cat_no=692&amp;d_no=96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55960" y="4437000"/>
            <a:ext cx="503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ivanivanich.ru/disc.php?id=25&amp;pg=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55960" y="5157720"/>
            <a:ext cx="503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ivanivanich.ru/disc.php?id=26&amp;pg=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9640" y="333360"/>
            <a:ext cx="712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Методическое пособ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ведени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геометрию. 6 класс: планирование, конспе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нятий / авт.-сост. И.В.Фотина. – Волгоград: Учитель, 20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8"/>
          <a:stretch/>
        </p:blipFill>
        <p:spPr>
          <a:xfrm>
            <a:off x="7192800" y="4221000"/>
            <a:ext cx="1951200" cy="26370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323640" y="1700280"/>
            <a:ext cx="134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ошад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2276640"/>
            <a:ext cx="85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у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2560" y="285264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укуруз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24000" y="4148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екторный клипарт Баба-Яг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24000" y="350028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Час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4000" y="4797360"/>
            <a:ext cx="54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екторный клипарт, сова, таракан, к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4"/>
            </a:gs>
            <a:gs pos="50000">
              <a:srgbClr val="fefefe"/>
            </a:gs>
            <a:gs pos="100000">
              <a:srgbClr val="fefe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c0c0c0"/>
              </a:gs>
              <a:gs pos="50000">
                <a:srgbClr val="fefefe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зм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439640" cy="20178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900000" y="2421000"/>
            <a:ext cx="5040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ирпич весит 2 кг и ещё треть собственного ве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колько весит кирпич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093080" y="981000"/>
            <a:ext cx="14414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d07c00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d07c00"/>
                    </a:gs>
                  </a:gsLst>
                  <a:lin ang="5400000"/>
                </a:gradFill>
                <a:latin typeface="Times New Roman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d07c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7020000" y="5516640"/>
            <a:ext cx="1511280" cy="504720"/>
          </a:xfrm>
          <a:custGeom>
            <a:avLst/>
            <a:gdLst>
              <a:gd name="textAreaLeft" fmla="*/ 32400 w 1511280"/>
              <a:gd name="textAreaRight" fmla="*/ 1478880 w 1511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64646" h="21600">
                <a:moveTo>
                  <a:pt x="0" y="0"/>
                </a:moveTo>
                <a:lnTo>
                  <a:pt x="64646" y="0"/>
                </a:lnTo>
                <a:lnTo>
                  <a:pt x="64646" y="21600"/>
                </a:lnTo>
                <a:lnTo>
                  <a:pt x="0" y="21600"/>
                </a:lnTo>
                <a:close/>
              </a:path>
              <a:path fill="lightenLess" w="64646" h="21600">
                <a:moveTo>
                  <a:pt x="0" y="0"/>
                </a:moveTo>
                <a:lnTo>
                  <a:pt x="64646" y="0"/>
                </a:lnTo>
                <a:lnTo>
                  <a:pt x="63246" y="1400"/>
                </a:lnTo>
                <a:lnTo>
                  <a:pt x="1400" y="1400"/>
                </a:lnTo>
                <a:close/>
              </a:path>
              <a:path fill="darken" w="64646" h="21600">
                <a:moveTo>
                  <a:pt x="64646" y="0"/>
                </a:moveTo>
                <a:lnTo>
                  <a:pt x="64646" y="21600"/>
                </a:lnTo>
                <a:lnTo>
                  <a:pt x="63246" y="20200"/>
                </a:lnTo>
                <a:lnTo>
                  <a:pt x="63246" y="1400"/>
                </a:lnTo>
                <a:close/>
              </a:path>
              <a:path fill="darkenLess" w="64646" h="21600">
                <a:moveTo>
                  <a:pt x="646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6" y="20200"/>
                </a:lnTo>
                <a:close/>
              </a:path>
              <a:path fill="lighten" w="646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60720" y="5170320"/>
            <a:ext cx="1368360" cy="1008360"/>
          </a:xfrm>
          <a:prstGeom prst="triangle">
            <a:avLst>
              <a:gd name="adj" fmla="val 48144"/>
            </a:avLst>
          </a:prstGeom>
          <a:gradFill rotWithShape="0">
            <a:gsLst>
              <a:gs pos="0">
                <a:srgbClr val="d2d2d2"/>
              </a:gs>
              <a:gs pos="50000">
                <a:srgbClr val="969696"/>
              </a:gs>
              <a:gs pos="100000">
                <a:srgbClr val="d2d2d2"/>
              </a:gs>
            </a:gsLst>
            <a:lin ang="8100000"/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782640" y="4954680"/>
            <a:ext cx="3581280" cy="189000"/>
            <a:chOff x="782640" y="4954680"/>
            <a:chExt cx="3581280" cy="189000"/>
          </a:xfrm>
        </p:grpSpPr>
        <p:sp>
          <p:nvSpPr>
            <p:cNvPr id="63" name=""/>
            <p:cNvSpPr/>
            <p:nvPr/>
          </p:nvSpPr>
          <p:spPr>
            <a:xfrm rot="5400000">
              <a:off x="2502360" y="3282120"/>
              <a:ext cx="141840" cy="3581280"/>
            </a:xfrm>
            <a:prstGeom prst="flowChartDelay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82640" y="4954680"/>
              <a:ext cx="3581280" cy="1062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0099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277960" y="4954680"/>
            <a:ext cx="3582000" cy="189000"/>
            <a:chOff x="5277960" y="4954680"/>
            <a:chExt cx="3582000" cy="189000"/>
          </a:xfrm>
        </p:grpSpPr>
        <p:sp>
          <p:nvSpPr>
            <p:cNvPr id="66" name=""/>
            <p:cNvSpPr/>
            <p:nvPr/>
          </p:nvSpPr>
          <p:spPr>
            <a:xfrm rot="5400000">
              <a:off x="6997680" y="3281760"/>
              <a:ext cx="141840" cy="3581640"/>
            </a:xfrm>
            <a:prstGeom prst="flowChartDelay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278320" y="4954680"/>
              <a:ext cx="3581640" cy="1062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0099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4211640" y="5013360"/>
            <a:ext cx="1066680" cy="4752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6734520" y="3573360"/>
            <a:ext cx="878760" cy="1438200"/>
            <a:chOff x="6734520" y="3573360"/>
            <a:chExt cx="878760" cy="1438200"/>
          </a:xfrm>
        </p:grpSpPr>
        <p:sp>
          <p:nvSpPr>
            <p:cNvPr id="70" name=""/>
            <p:cNvSpPr/>
            <p:nvPr/>
          </p:nvSpPr>
          <p:spPr>
            <a:xfrm>
              <a:off x="6745320" y="3573360"/>
              <a:ext cx="860400" cy="1438200"/>
            </a:xfrm>
            <a:custGeom>
              <a:avLst/>
              <a:gdLst/>
              <a:ahLst/>
              <a:rect l="l" t="t" r="r" b="b"/>
              <a:pathLst>
                <a:path w="522" h="808">
                  <a:moveTo>
                    <a:pt x="272" y="804"/>
                  </a:moveTo>
                  <a:cubicBezTo>
                    <a:pt x="243" y="804"/>
                    <a:pt x="140" y="808"/>
                    <a:pt x="98" y="798"/>
                  </a:cubicBezTo>
                  <a:cubicBezTo>
                    <a:pt x="56" y="788"/>
                    <a:pt x="36" y="781"/>
                    <a:pt x="20" y="744"/>
                  </a:cubicBezTo>
                  <a:cubicBezTo>
                    <a:pt x="4" y="707"/>
                    <a:pt x="2" y="655"/>
                    <a:pt x="2" y="576"/>
                  </a:cubicBezTo>
                  <a:cubicBezTo>
                    <a:pt x="2" y="497"/>
                    <a:pt x="0" y="332"/>
                    <a:pt x="20" y="270"/>
                  </a:cubicBezTo>
                  <a:cubicBezTo>
                    <a:pt x="40" y="208"/>
                    <a:pt x="98" y="222"/>
                    <a:pt x="122" y="204"/>
                  </a:cubicBezTo>
                  <a:cubicBezTo>
                    <a:pt x="146" y="186"/>
                    <a:pt x="167" y="178"/>
                    <a:pt x="164" y="162"/>
                  </a:cubicBezTo>
                  <a:cubicBezTo>
                    <a:pt x="161" y="146"/>
                    <a:pt x="118" y="127"/>
                    <a:pt x="104" y="108"/>
                  </a:cubicBezTo>
                  <a:cubicBezTo>
                    <a:pt x="90" y="89"/>
                    <a:pt x="71" y="65"/>
                    <a:pt x="80" y="48"/>
                  </a:cubicBezTo>
                  <a:cubicBezTo>
                    <a:pt x="89" y="31"/>
                    <a:pt x="119" y="12"/>
                    <a:pt x="158" y="6"/>
                  </a:cubicBezTo>
                  <a:cubicBezTo>
                    <a:pt x="197" y="0"/>
                    <a:pt x="271" y="6"/>
                    <a:pt x="315" y="12"/>
                  </a:cubicBezTo>
                  <a:cubicBezTo>
                    <a:pt x="359" y="18"/>
                    <a:pt x="404" y="29"/>
                    <a:pt x="422" y="42"/>
                  </a:cubicBezTo>
                  <a:cubicBezTo>
                    <a:pt x="440" y="55"/>
                    <a:pt x="433" y="70"/>
                    <a:pt x="422" y="90"/>
                  </a:cubicBezTo>
                  <a:cubicBezTo>
                    <a:pt x="411" y="110"/>
                    <a:pt x="361" y="143"/>
                    <a:pt x="356" y="162"/>
                  </a:cubicBezTo>
                  <a:cubicBezTo>
                    <a:pt x="351" y="181"/>
                    <a:pt x="369" y="191"/>
                    <a:pt x="392" y="204"/>
                  </a:cubicBezTo>
                  <a:cubicBezTo>
                    <a:pt x="415" y="217"/>
                    <a:pt x="473" y="202"/>
                    <a:pt x="494" y="240"/>
                  </a:cubicBezTo>
                  <a:cubicBezTo>
                    <a:pt x="515" y="278"/>
                    <a:pt x="514" y="378"/>
                    <a:pt x="518" y="432"/>
                  </a:cubicBezTo>
                  <a:cubicBezTo>
                    <a:pt x="522" y="486"/>
                    <a:pt x="522" y="511"/>
                    <a:pt x="519" y="564"/>
                  </a:cubicBezTo>
                  <a:cubicBezTo>
                    <a:pt x="516" y="617"/>
                    <a:pt x="516" y="711"/>
                    <a:pt x="502" y="750"/>
                  </a:cubicBezTo>
                  <a:cubicBezTo>
                    <a:pt x="488" y="789"/>
                    <a:pt x="470" y="789"/>
                    <a:pt x="434" y="798"/>
                  </a:cubicBezTo>
                  <a:cubicBezTo>
                    <a:pt x="398" y="807"/>
                    <a:pt x="315" y="803"/>
                    <a:pt x="284" y="804"/>
                  </a:cubicBezTo>
                </a:path>
              </a:pathLst>
            </a:custGeom>
            <a:gradFill rotWithShape="0">
              <a:gsLst>
                <a:gs pos="0">
                  <a:srgbClr val="808080"/>
                </a:gs>
                <a:gs pos="50000">
                  <a:srgbClr val="333333"/>
                </a:gs>
                <a:gs pos="100000">
                  <a:srgbClr val="808080"/>
                </a:gs>
              </a:gsLst>
              <a:lin ang="81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855480" y="3585960"/>
              <a:ext cx="614160" cy="121680"/>
            </a:xfrm>
            <a:prstGeom prst="ellipse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734520" y="4225680"/>
              <a:ext cx="878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?к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547640" y="4005360"/>
            <a:ext cx="2232360" cy="1081080"/>
          </a:xfrm>
          <a:prstGeom prst="cube">
            <a:avLst>
              <a:gd name="adj" fmla="val 12199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4"/>
            </a:gs>
            <a:gs pos="50000">
              <a:srgbClr val="fefefe"/>
            </a:gs>
            <a:gs pos="100000">
              <a:srgbClr val="fefe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411280" y="765000"/>
            <a:ext cx="4608720" cy="2592720"/>
          </a:xfrm>
          <a:prstGeom prst="cube">
            <a:avLst>
              <a:gd name="adj" fmla="val 12199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11280" y="3357720"/>
            <a:ext cx="4321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51280" y="4724280"/>
            <a:ext cx="0" cy="289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292720" y="4724280"/>
            <a:ext cx="0" cy="289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5400000">
            <a:off x="3707280" y="3140640"/>
            <a:ext cx="289080" cy="2881440"/>
          </a:xfrm>
          <a:custGeom>
            <a:avLst/>
            <a:gdLst>
              <a:gd name="textAreaLeft" fmla="*/ 84960 w 289080"/>
              <a:gd name="textAreaRight" fmla="*/ 289080 w 289080"/>
              <a:gd name="textAreaTop" fmla="*/ 322560 h 2881440"/>
              <a:gd name="textAreaBottom" fmla="*/ 2558880 h 28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419"/>
                  <a:pt x="0" y="4838"/>
                </a:cubicBezTo>
                <a:lnTo>
                  <a:pt x="0" y="16762"/>
                </a:lnTo>
                <a:cubicBezTo>
                  <a:pt x="0" y="19181"/>
                  <a:pt x="108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421800" y="386064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к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6200000">
            <a:off x="4424400" y="3000240"/>
            <a:ext cx="295200" cy="4321440"/>
          </a:xfrm>
          <a:custGeom>
            <a:avLst/>
            <a:gdLst>
              <a:gd name="textAreaLeft" fmla="*/ 188640 w 295200"/>
              <a:gd name="textAreaRight" fmla="*/ 295200 w 295200"/>
              <a:gd name="textAreaTop" fmla="*/ 112680 h 4321440"/>
              <a:gd name="textAreaBottom" fmla="*/ 4208760 h 432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5084640"/>
            <a:ext cx="1295280" cy="1008360"/>
          </a:xfrm>
          <a:prstGeom prst="cloudCallout">
            <a:avLst>
              <a:gd name="adj1" fmla="val 10296"/>
              <a:gd name="adj2" fmla="val 6905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1776240" cy="22575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997080" y="1916280"/>
            <a:ext cx="116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 к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33333E-006 L 0 0.22037 E">
                                      <p:cBhvr>
                                        <p:cTn id="11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4"/>
            </a:gs>
            <a:gs pos="50000">
              <a:srgbClr val="fefefe"/>
            </a:gs>
            <a:gs pos="100000">
              <a:srgbClr val="fefe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c0c0c0"/>
              </a:gs>
              <a:gs pos="50000">
                <a:srgbClr val="fefefe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зм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439640" cy="20178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7093080" y="981000"/>
            <a:ext cx="14414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d07c00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d07c00"/>
                    </a:gs>
                  </a:gsLst>
                  <a:lin ang="5400000"/>
                </a:gradFill>
                <a:latin typeface="Times New Roman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d07c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00000" y="2997360"/>
            <a:ext cx="5040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сли Конёк-Горбунок не будет семь суток е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ли не будет семь суток спать, то лишится сво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олшебной силы. Допустим, он в течение неде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 ел и не спал. Что он должен сделать в перву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чередь к концу седьмых суток – поесть или поспа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тобы не потерять сил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012000" y="4076640"/>
            <a:ext cx="2522520" cy="2781360"/>
          </a:xfrm>
          <a:prstGeom prst="rect">
            <a:avLst/>
          </a:prstGeom>
          <a:ln w="0">
            <a:noFill/>
          </a:ln>
        </p:spPr>
      </p:pic>
      <p:sp>
        <p:nvSpPr>
          <p:cNvPr id="89" name="">
            <a:hlinkClick r:id="" action="ppaction://hlinkshowjump?jump=nextslide"/>
          </p:cNvPr>
          <p:cNvSpPr/>
          <p:nvPr/>
        </p:nvSpPr>
        <p:spPr>
          <a:xfrm>
            <a:off x="971640" y="5516640"/>
            <a:ext cx="1511280" cy="504720"/>
          </a:xfrm>
          <a:custGeom>
            <a:avLst/>
            <a:gdLst>
              <a:gd name="textAreaLeft" fmla="*/ 32400 w 1511280"/>
              <a:gd name="textAreaRight" fmla="*/ 1478880 w 1511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64646" h="21600">
                <a:moveTo>
                  <a:pt x="0" y="0"/>
                </a:moveTo>
                <a:lnTo>
                  <a:pt x="64646" y="0"/>
                </a:lnTo>
                <a:lnTo>
                  <a:pt x="64646" y="21600"/>
                </a:lnTo>
                <a:lnTo>
                  <a:pt x="0" y="21600"/>
                </a:lnTo>
                <a:close/>
              </a:path>
              <a:path fill="lightenLess" w="64646" h="21600">
                <a:moveTo>
                  <a:pt x="0" y="0"/>
                </a:moveTo>
                <a:lnTo>
                  <a:pt x="64646" y="0"/>
                </a:lnTo>
                <a:lnTo>
                  <a:pt x="63246" y="1400"/>
                </a:lnTo>
                <a:lnTo>
                  <a:pt x="1400" y="1400"/>
                </a:lnTo>
                <a:close/>
              </a:path>
              <a:path fill="darken" w="64646" h="21600">
                <a:moveTo>
                  <a:pt x="64646" y="0"/>
                </a:moveTo>
                <a:lnTo>
                  <a:pt x="64646" y="21600"/>
                </a:lnTo>
                <a:lnTo>
                  <a:pt x="63246" y="20200"/>
                </a:lnTo>
                <a:lnTo>
                  <a:pt x="63246" y="1400"/>
                </a:lnTo>
                <a:close/>
              </a:path>
              <a:path fill="darkenLess" w="64646" h="21600">
                <a:moveTo>
                  <a:pt x="646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6" y="20200"/>
                </a:lnTo>
                <a:close/>
              </a:path>
              <a:path fill="lighten" w="646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4"/>
            </a:gs>
            <a:gs pos="50000">
              <a:srgbClr val="fefefe"/>
            </a:gs>
            <a:gs pos="100000">
              <a:srgbClr val="fefe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564000" y="1557360"/>
            <a:ext cx="5257440" cy="502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156878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1568786"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6031440" y="2789640"/>
            <a:ext cx="504000" cy="2421360"/>
            <a:chOff x="6031440" y="2789640"/>
            <a:chExt cx="504000" cy="2421360"/>
          </a:xfrm>
        </p:grpSpPr>
        <p:sp>
          <p:nvSpPr>
            <p:cNvPr id="92" name=""/>
            <p:cNvSpPr/>
            <p:nvPr/>
          </p:nvSpPr>
          <p:spPr>
            <a:xfrm rot="20840400">
              <a:off x="6158880" y="2803680"/>
              <a:ext cx="254160" cy="1143000"/>
            </a:xfrm>
            <a:custGeom>
              <a:avLst/>
              <a:gdLst/>
              <a:ahLst/>
              <a:rect l="l" t="t" r="r" b="b"/>
              <a:pathLst>
                <a:path w="160" h="720">
                  <a:moveTo>
                    <a:pt x="0" y="720"/>
                  </a:moveTo>
                  <a:lnTo>
                    <a:pt x="16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 rot="20840400">
              <a:off x="6153120" y="4053600"/>
              <a:ext cx="254160" cy="1143000"/>
            </a:xfrm>
            <a:custGeom>
              <a:avLst/>
              <a:gdLst/>
              <a:ahLst/>
              <a:rect l="l" t="t" r="r" b="b"/>
              <a:pathLst>
                <a:path w="160" h="720">
                  <a:moveTo>
                    <a:pt x="0" y="720"/>
                  </a:moveTo>
                  <a:lnTo>
                    <a:pt x="16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565240" y="2406240"/>
            <a:ext cx="1416960" cy="3279960"/>
            <a:chOff x="5565240" y="2406240"/>
            <a:chExt cx="1416960" cy="3279960"/>
          </a:xfrm>
        </p:grpSpPr>
        <p:sp>
          <p:nvSpPr>
            <p:cNvPr id="95" name=""/>
            <p:cNvSpPr/>
            <p:nvPr/>
          </p:nvSpPr>
          <p:spPr>
            <a:xfrm rot="14331600">
              <a:off x="5580360" y="2800440"/>
              <a:ext cx="1380600" cy="814680"/>
            </a:xfrm>
            <a:custGeom>
              <a:avLst/>
              <a:gdLst/>
              <a:ahLst/>
              <a:rect l="l" t="t" r="r" b="b"/>
              <a:pathLst>
                <a:path w="870" h="513">
                  <a:moveTo>
                    <a:pt x="0" y="0"/>
                  </a:moveTo>
                  <a:lnTo>
                    <a:pt x="870" y="513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flipV="1" rot="14331600">
              <a:off x="5586120" y="4476960"/>
              <a:ext cx="1380960" cy="814320"/>
            </a:xfrm>
            <a:custGeom>
              <a:avLst/>
              <a:gdLst/>
              <a:ahLst/>
              <a:rect l="l" t="t" r="r" b="b"/>
              <a:pathLst>
                <a:path w="870" h="513">
                  <a:moveTo>
                    <a:pt x="0" y="0"/>
                  </a:moveTo>
                  <a:lnTo>
                    <a:pt x="870" y="51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3622680" y="1535040"/>
            <a:ext cx="5096160" cy="5143680"/>
            <a:chOff x="3622680" y="1535040"/>
            <a:chExt cx="5096160" cy="5143680"/>
          </a:xfrm>
        </p:grpSpPr>
        <p:sp>
          <p:nvSpPr>
            <p:cNvPr id="98" name=""/>
            <p:cNvSpPr/>
            <p:nvPr/>
          </p:nvSpPr>
          <p:spPr>
            <a:xfrm>
              <a:off x="7158240" y="18334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43760" y="26337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622680" y="37800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9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07600" y="5975280"/>
              <a:ext cx="561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 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41800" y="153504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1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631040" y="1886040"/>
              <a:ext cx="63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1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838320" y="263052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054680" y="49309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8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903920" y="571644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7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799400" y="49197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08920" y="5557680"/>
              <a:ext cx="473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283600" y="37735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193080" y="3933720"/>
              <a:ext cx="144360" cy="142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" name="" descr="http://www.weblancer.net/files/portfolio/345/34573/95601.jpg"/>
          <p:cNvPicPr/>
          <p:nvPr/>
        </p:nvPicPr>
        <p:blipFill>
          <a:blip r:embed="rId1"/>
          <a:stretch/>
        </p:blipFill>
        <p:spPr>
          <a:xfrm>
            <a:off x="755640" y="1052640"/>
            <a:ext cx="2303640" cy="204624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271800" y="3525120"/>
            <a:ext cx="3272400" cy="2790000"/>
            <a:chOff x="271800" y="3525120"/>
            <a:chExt cx="3272400" cy="2790000"/>
          </a:xfrm>
        </p:grpSpPr>
        <p:pic>
          <p:nvPicPr>
            <p:cNvPr id="113" name="" descr="http://mistergid.ru/image/upload/2011-08-07/330026694634_yo-5-ryerryiryos.jpg"/>
            <p:cNvPicPr/>
            <p:nvPr/>
          </p:nvPicPr>
          <p:blipFill>
            <a:blip r:embed="rId2"/>
            <a:srcRect l="3543" t="0" r="52777" b="0"/>
            <a:stretch/>
          </p:blipFill>
          <p:spPr>
            <a:xfrm rot="3859800">
              <a:off x="1483920" y="3924000"/>
              <a:ext cx="1425600" cy="23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http://mistergid.ru/image/upload/2011-08-07/330026694634_yo-5-ryerryiryos.jpg"/>
            <p:cNvPicPr/>
            <p:nvPr/>
          </p:nvPicPr>
          <p:blipFill>
            <a:blip r:embed="rId3"/>
            <a:srcRect l="60638" t="0" r="0" b="4834"/>
            <a:stretch/>
          </p:blipFill>
          <p:spPr>
            <a:xfrm rot="3560400">
              <a:off x="1042200" y="3934080"/>
              <a:ext cx="1216080" cy="207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http://mistergid.ru/image/upload/2011-08-07/330026694634_yo-5-ryerryiryos.jpg"/>
            <p:cNvPicPr/>
            <p:nvPr/>
          </p:nvPicPr>
          <p:blipFill>
            <a:blip r:embed="rId4"/>
            <a:srcRect l="60638" t="0" r="0" b="4834"/>
            <a:stretch/>
          </p:blipFill>
          <p:spPr>
            <a:xfrm rot="17676000">
              <a:off x="898920" y="4293000"/>
              <a:ext cx="1216080" cy="207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http://mistergid.ru/image/upload/2011-08-07/330026694634_yo-5-ryerryiryos.jpg"/>
            <p:cNvPicPr/>
            <p:nvPr/>
          </p:nvPicPr>
          <p:blipFill>
            <a:blip r:embed="rId5"/>
            <a:srcRect l="3543" t="0" r="52777" b="0"/>
            <a:stretch/>
          </p:blipFill>
          <p:spPr>
            <a:xfrm rot="13971000">
              <a:off x="907920" y="3636360"/>
              <a:ext cx="1425600" cy="2305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"/>
          <p:cNvSpPr/>
          <p:nvPr/>
        </p:nvSpPr>
        <p:spPr>
          <a:xfrm>
            <a:off x="1406160" y="54936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С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48720" y="33577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16000" y="3284640"/>
            <a:ext cx="216000" cy="976320"/>
          </a:xfrm>
          <a:prstGeom prst="downArrow">
            <a:avLst>
              <a:gd name="adj1" fmla="val 50000"/>
              <a:gd name="adj2" fmla="val 113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40000" y="3213000"/>
            <a:ext cx="216000" cy="976320"/>
          </a:xfrm>
          <a:prstGeom prst="upArrow">
            <a:avLst>
              <a:gd name="adj1" fmla="val 50000"/>
              <a:gd name="adj2" fmla="val 113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6000"/>
                            </p:stCondLst>
                            <p:childTnLst>
                              <p:par>
                                <p:cTn id="6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8000"/>
                            </p:stCondLst>
                            <p:childTnLst>
                              <p:par>
                                <p:cTn id="6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07407E-006 L -0.00174 0.78564 E">
                                      <p:cBhvr>
                                        <p:cTn id="94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9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4"/>
            </a:gs>
            <a:gs pos="50000">
              <a:srgbClr val="fefefe"/>
            </a:gs>
            <a:gs pos="100000">
              <a:srgbClr val="fefe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c0c0c0"/>
              </a:gs>
              <a:gs pos="50000">
                <a:srgbClr val="fefefe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зм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439640" cy="2017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7093080" y="981000"/>
            <a:ext cx="14414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d07c00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d07c00"/>
                    </a:gs>
                  </a:gsLst>
                  <a:lin ang="5400000"/>
                </a:gradFill>
                <a:latin typeface="Times New Roman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d07c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24" name="" descr="&amp;Vcy;&amp;iecy;&amp;kcy;&amp;tcy;&amp;ocy;&amp;rcy;&amp;ncy;&amp;ycy;&amp;jcy; &amp;kcy;&amp;lcy;&amp;icy;&amp;pcy;&amp;acy;&amp;rcy;&amp;tcy; - &amp;Icy;&amp;zcy;&amp;bcy;&amp;ucy;&amp;shcy;&amp;kcy;&amp;acy; &amp;Bcy;&amp;acy;&amp;bcy;&amp;ycy;-&amp;YAcy;&amp;gcy;&amp;icy;"/>
          <p:cNvPicPr/>
          <p:nvPr/>
        </p:nvPicPr>
        <p:blipFill>
          <a:blip r:embed="rId2"/>
          <a:stretch/>
        </p:blipFill>
        <p:spPr>
          <a:xfrm>
            <a:off x="-1440" y="4437000"/>
            <a:ext cx="2084400" cy="22654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&amp;Vcy;&amp;iecy;&amp;kcy;&amp;tcy;&amp;ocy;&amp;rcy;&amp;ncy;&amp;ycy;&amp;jcy; &amp;kcy;&amp;lcy;&amp;icy;&amp;pcy;&amp;acy;&amp;rcy;&amp;tcy; - &amp;Bcy;&amp;acy;&amp;bcy;&amp;acy;-&amp;YAcy;&amp;gcy;&amp;acy;"/>
          <p:cNvPicPr/>
          <p:nvPr/>
        </p:nvPicPr>
        <p:blipFill>
          <a:blip r:embed="rId3"/>
          <a:stretch/>
        </p:blipFill>
        <p:spPr>
          <a:xfrm>
            <a:off x="1619280" y="5672160"/>
            <a:ext cx="1301760" cy="11858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900000" y="2997360"/>
            <a:ext cx="5040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аба Яга в своей избушке на курьих ножках зав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казочных животных. Все они, кроме двух,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оворящие Коты; все, кроме двух, - Мудрые сов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стальные – Усатые Тарака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колько обитателей в избушке у Бабы Яг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&amp;Vcy;&amp;iecy;&amp;kcy;&amp;tcy;&amp;ocy;&amp;rcy;&amp;ncy;&amp;ycy;&amp;jcy; &amp;kcy;&amp;lcy;&amp;icy;&amp;pcy;&amp;acy;&amp;rcy;&amp;tcy; - &amp;kcy;&amp;ocy;&amp;tcy;&amp;icy;&amp;kcy;"/>
          <p:cNvPicPr/>
          <p:nvPr/>
        </p:nvPicPr>
        <p:blipFill>
          <a:blip r:embed="rId4"/>
          <a:stretch/>
        </p:blipFill>
        <p:spPr>
          <a:xfrm>
            <a:off x="7816680" y="3284640"/>
            <a:ext cx="1327320" cy="19288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&amp;Vcy;&amp;iecy;&amp;kcy;&amp;tcy;&amp;ocy;&amp;rcy;&amp;ncy;&amp;ycy;&amp;jcy; &amp;kcy;&amp;lcy;&amp;icy;&amp;pcy;&amp;acy;&amp;rcy;&amp;tcy; - &amp;kcy;&amp;ocy;&amp;tcy;&amp;icy;&amp;kcy;"/>
          <p:cNvPicPr/>
          <p:nvPr/>
        </p:nvPicPr>
        <p:blipFill>
          <a:blip r:embed="rId5"/>
          <a:stretch/>
        </p:blipFill>
        <p:spPr>
          <a:xfrm>
            <a:off x="7524720" y="4508640"/>
            <a:ext cx="1417680" cy="1277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&amp;Vcy;&amp;iecy;&amp;kcy;&amp;tcy;&amp;ocy;&amp;rcy;&amp;ncy;&amp;ycy;&amp;jcy; &amp;kcy;&amp;lcy;&amp;icy;&amp;pcy;&amp;acy;&amp;rcy;&amp;tcy; - &amp;tcy;&amp;acy;&amp;rcy;&amp;acy;&amp;kcy;&amp;acy;&amp;ncy;"/>
          <p:cNvPicPr/>
          <p:nvPr/>
        </p:nvPicPr>
        <p:blipFill>
          <a:blip r:embed="rId6"/>
          <a:stretch/>
        </p:blipFill>
        <p:spPr>
          <a:xfrm>
            <a:off x="5724360" y="4724280"/>
            <a:ext cx="766800" cy="1484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&amp;Vcy;&amp;iecy;&amp;kcy;&amp;tcy;&amp;ocy;&amp;rcy;&amp;ncy;&amp;ycy;&amp;jcy; &amp;kcy;&amp;lcy;&amp;icy;&amp;pcy;&amp;acy;&amp;rcy;&amp;tcy; - &amp;tcy;&amp;acy;&amp;rcy;&amp;acy;&amp;kcy;&amp;acy;&amp;ncy;"/>
          <p:cNvPicPr/>
          <p:nvPr/>
        </p:nvPicPr>
        <p:blipFill>
          <a:blip r:embed="rId7"/>
          <a:stretch/>
        </p:blipFill>
        <p:spPr>
          <a:xfrm>
            <a:off x="6443640" y="5229360"/>
            <a:ext cx="822240" cy="1484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&amp;Vcy;&amp;iecy;&amp;kcy;&amp;tcy;&amp;ocy;&amp;rcy;&amp;ncy;&amp;ycy;&amp;jcy; &amp;kcy;&amp;lcy;&amp;icy;&amp;pcy;&amp;acy;&amp;rcy;&amp;tcy; - &amp;tcy;&amp;acy;&amp;rcy;&amp;acy;&amp;kcy;&amp;acy;&amp;ncy;"/>
          <p:cNvPicPr/>
          <p:nvPr/>
        </p:nvPicPr>
        <p:blipFill>
          <a:blip r:embed="rId8"/>
          <a:stretch/>
        </p:blipFill>
        <p:spPr>
          <a:xfrm>
            <a:off x="5508720" y="5229360"/>
            <a:ext cx="841320" cy="16286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&amp;Vcy;&amp;iecy;&amp;kcy;&amp;tcy;&amp;ocy;&amp;rcy;&amp;ncy;&amp;ycy;&amp;jcy; &amp;kcy;&amp;lcy;&amp;icy;&amp;pcy;&amp;acy;&amp;rcy;&amp;tcy; - &amp;scy;&amp;ocy;&amp;vcy;&amp;acy;"/>
          <p:cNvPicPr/>
          <p:nvPr/>
        </p:nvPicPr>
        <p:blipFill>
          <a:blip r:embed="rId9"/>
          <a:stretch/>
        </p:blipFill>
        <p:spPr>
          <a:xfrm>
            <a:off x="4067280" y="4508640"/>
            <a:ext cx="923760" cy="1296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&amp;Vcy;&amp;iecy;&amp;kcy;&amp;tcy;&amp;ocy;&amp;rcy;&amp;ncy;&amp;ycy;&amp;jcy; &amp;kcy;&amp;lcy;&amp;icy;&amp;pcy;&amp;acy;&amp;rcy;&amp;tcy; - &amp;scy;&amp;ocy;&amp;vcy;&amp;acy;"/>
          <p:cNvPicPr/>
          <p:nvPr/>
        </p:nvPicPr>
        <p:blipFill>
          <a:blip r:embed="rId10"/>
          <a:stretch/>
        </p:blipFill>
        <p:spPr>
          <a:xfrm>
            <a:off x="3348000" y="4581360"/>
            <a:ext cx="963720" cy="1354320"/>
          </a:xfrm>
          <a:prstGeom prst="rect">
            <a:avLst/>
          </a:prstGeom>
          <a:ln w="0">
            <a:noFill/>
          </a:ln>
        </p:spPr>
      </p:pic>
      <p:sp>
        <p:nvSpPr>
          <p:cNvPr id="134" name="">
            <a:hlinkClick r:id="" action="ppaction://hlinkshowjump?jump=nextslide"/>
          </p:cNvPr>
          <p:cNvSpPr/>
          <p:nvPr/>
        </p:nvSpPr>
        <p:spPr>
          <a:xfrm>
            <a:off x="7380360" y="6093000"/>
            <a:ext cx="1511280" cy="504720"/>
          </a:xfrm>
          <a:custGeom>
            <a:avLst/>
            <a:gdLst>
              <a:gd name="textAreaLeft" fmla="*/ 32400 w 1511280"/>
              <a:gd name="textAreaRight" fmla="*/ 1478880 w 1511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64646" h="21600">
                <a:moveTo>
                  <a:pt x="0" y="0"/>
                </a:moveTo>
                <a:lnTo>
                  <a:pt x="64646" y="0"/>
                </a:lnTo>
                <a:lnTo>
                  <a:pt x="64646" y="21600"/>
                </a:lnTo>
                <a:lnTo>
                  <a:pt x="0" y="21600"/>
                </a:lnTo>
                <a:close/>
              </a:path>
              <a:path fill="lightenLess" w="64646" h="21600">
                <a:moveTo>
                  <a:pt x="0" y="0"/>
                </a:moveTo>
                <a:lnTo>
                  <a:pt x="64646" y="0"/>
                </a:lnTo>
                <a:lnTo>
                  <a:pt x="63246" y="1400"/>
                </a:lnTo>
                <a:lnTo>
                  <a:pt x="1400" y="1400"/>
                </a:lnTo>
                <a:close/>
              </a:path>
              <a:path fill="darken" w="64646" h="21600">
                <a:moveTo>
                  <a:pt x="64646" y="0"/>
                </a:moveTo>
                <a:lnTo>
                  <a:pt x="64646" y="21600"/>
                </a:lnTo>
                <a:lnTo>
                  <a:pt x="63246" y="20200"/>
                </a:lnTo>
                <a:lnTo>
                  <a:pt x="63246" y="1400"/>
                </a:lnTo>
                <a:close/>
              </a:path>
              <a:path fill="darkenLess" w="64646" h="21600">
                <a:moveTo>
                  <a:pt x="646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6" y="20200"/>
                </a:lnTo>
                <a:close/>
              </a:path>
              <a:path fill="lighten" w="646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4"/>
            </a:gs>
            <a:gs pos="50000">
              <a:srgbClr val="fefefe"/>
            </a:gs>
            <a:gs pos="100000">
              <a:srgbClr val="fefe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&amp;Vcy;&amp;iecy;&amp;kcy;&amp;tcy;&amp;ocy;&amp;rcy;&amp;ncy;&amp;ycy;&amp;jcy; &amp;kcy;&amp;lcy;&amp;icy;&amp;pcy;&amp;acy;&amp;rcy;&amp;tcy; - &amp;scy;&amp;ocy;&amp;vcy;&amp;acy;"/>
          <p:cNvPicPr/>
          <p:nvPr/>
        </p:nvPicPr>
        <p:blipFill>
          <a:blip r:embed="rId1"/>
          <a:stretch/>
        </p:blipFill>
        <p:spPr>
          <a:xfrm>
            <a:off x="395280" y="333360"/>
            <a:ext cx="1373040" cy="19303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&amp;Vcy;&amp;iecy;&amp;kcy;&amp;tcy;&amp;ocy;&amp;rcy;&amp;ncy;&amp;ycy;&amp;jcy; &amp;kcy;&amp;lcy;&amp;icy;&amp;pcy;&amp;acy;&amp;rcy;&amp;tcy; - &amp;tcy;&amp;acy;&amp;rcy;&amp;acy;&amp;kcy;&amp;acy;&amp;ncy;"/>
          <p:cNvPicPr/>
          <p:nvPr/>
        </p:nvPicPr>
        <p:blipFill>
          <a:blip r:embed="rId2"/>
          <a:stretch/>
        </p:blipFill>
        <p:spPr>
          <a:xfrm>
            <a:off x="539640" y="2349360"/>
            <a:ext cx="1003320" cy="19432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&amp;Vcy;&amp;iecy;&amp;kcy;&amp;tcy;&amp;ocy;&amp;rcy;&amp;ncy;&amp;ycy;&amp;jcy; &amp;kcy;&amp;lcy;&amp;icy;&amp;pcy;&amp;acy;&amp;rcy;&amp;tcy; - &amp;kcy;&amp;ocy;&amp;tcy;&amp;icy;&amp;kcy;"/>
          <p:cNvPicPr/>
          <p:nvPr/>
        </p:nvPicPr>
        <p:blipFill>
          <a:blip r:embed="rId3"/>
          <a:stretch/>
        </p:blipFill>
        <p:spPr>
          <a:xfrm>
            <a:off x="250920" y="4292640"/>
            <a:ext cx="1566720" cy="22762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195640" y="404640"/>
            <a:ext cx="647640" cy="3889440"/>
          </a:xfrm>
          <a:custGeom>
            <a:avLst/>
            <a:gdLst>
              <a:gd name="textAreaLeft" fmla="*/ 0 w 647640"/>
              <a:gd name="textAreaRight" fmla="*/ 234000 w 647640"/>
              <a:gd name="textAreaTop" fmla="*/ 101160 h 3889440"/>
              <a:gd name="textAreaBottom" fmla="*/ 3788280 h 388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19640" y="2708280"/>
            <a:ext cx="576000" cy="3889440"/>
          </a:xfrm>
          <a:custGeom>
            <a:avLst/>
            <a:gdLst>
              <a:gd name="textAreaLeft" fmla="*/ 0 w 576000"/>
              <a:gd name="textAreaRight" fmla="*/ 208080 w 576000"/>
              <a:gd name="textAreaTop" fmla="*/ 101160 h 3889440"/>
              <a:gd name="textAreaBottom" fmla="*/ 3788280 h 388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5080" y="184464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97440" y="414972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00720" y="333360"/>
            <a:ext cx="576000" cy="6264360"/>
          </a:xfrm>
          <a:custGeom>
            <a:avLst/>
            <a:gdLst>
              <a:gd name="textAreaLeft" fmla="*/ 0 w 576000"/>
              <a:gd name="textAreaRight" fmla="*/ 208080 w 576000"/>
              <a:gd name="textAreaTop" fmla="*/ 163080 h 6264360"/>
              <a:gd name="textAreaBottom" fmla="*/ 6101280 h 626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078520" y="292428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cc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&amp;Vcy;&amp;iecy;&amp;kcy;&amp;tcy;&amp;ocy;&amp;rcy;&amp;ncy;&amp;ycy;&amp;jcy; &amp;kcy;&amp;lcy;&amp;icy;&amp;pcy;&amp;acy;&amp;rcy;&amp;tcy; - &amp;Icy;&amp;zcy;&amp;bcy;&amp;ucy;&amp;shcy;&amp;kcy;&amp;acy; &amp;Bcy;&amp;acy;&amp;bcy;&amp;ycy;-&amp;YAcy;&amp;gcy;&amp;icy;"/>
          <p:cNvPicPr/>
          <p:nvPr/>
        </p:nvPicPr>
        <p:blipFill>
          <a:blip r:embed="rId4"/>
          <a:stretch/>
        </p:blipFill>
        <p:spPr>
          <a:xfrm>
            <a:off x="5651640" y="1844640"/>
            <a:ext cx="3193920" cy="3240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&amp;Vcy;&amp;iecy;&amp;kcy;&amp;tcy;&amp;ocy;&amp;rcy;&amp;ncy;&amp;ycy;&amp;jcy; &amp;kcy;&amp;lcy;&amp;icy;&amp;pcy;&amp;acy;&amp;rcy;&amp;tcy; - &amp;scy;&amp;ocy;&amp;vcy;&amp;acy;"/>
          <p:cNvPicPr/>
          <p:nvPr/>
        </p:nvPicPr>
        <p:blipFill>
          <a:blip r:embed="rId5"/>
          <a:stretch/>
        </p:blipFill>
        <p:spPr>
          <a:xfrm>
            <a:off x="6948360" y="765000"/>
            <a:ext cx="963720" cy="13543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&amp;Vcy;&amp;iecy;&amp;kcy;&amp;tcy;&amp;ocy;&amp;rcy;&amp;ncy;&amp;ycy;&amp;jcy; &amp;kcy;&amp;lcy;&amp;icy;&amp;pcy;&amp;acy;&amp;rcy;&amp;tcy; - &amp;kcy;&amp;ocy;&amp;tcy;&amp;icy;&amp;kcy;"/>
          <p:cNvPicPr/>
          <p:nvPr/>
        </p:nvPicPr>
        <p:blipFill>
          <a:blip r:embed="rId6"/>
          <a:stretch/>
        </p:blipFill>
        <p:spPr>
          <a:xfrm>
            <a:off x="7020000" y="4149720"/>
            <a:ext cx="1979640" cy="17845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&amp;Vcy;&amp;iecy;&amp;kcy;&amp;tcy;&amp;ocy;&amp;rcy;&amp;ncy;&amp;ycy;&amp;jcy; &amp;kcy;&amp;lcy;&amp;icy;&amp;pcy;&amp;acy;&amp;rcy;&amp;tcy; - &amp;tcy;&amp;acy;&amp;rcy;&amp;acy;&amp;kcy;&amp;acy;&amp;ncy;"/>
          <p:cNvPicPr/>
          <p:nvPr/>
        </p:nvPicPr>
        <p:blipFill>
          <a:blip r:embed="rId7"/>
          <a:stretch/>
        </p:blipFill>
        <p:spPr>
          <a:xfrm>
            <a:off x="5435640" y="3860640"/>
            <a:ext cx="10033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4"/>
            </a:gs>
            <a:gs pos="50000">
              <a:srgbClr val="fefefe"/>
            </a:gs>
            <a:gs pos="100000">
              <a:srgbClr val="fefe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c0c0c0"/>
              </a:gs>
              <a:gs pos="50000">
                <a:srgbClr val="fefefe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06520" y="1268280"/>
            <a:ext cx="28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Собери квадр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79280" y="620640"/>
            <a:ext cx="1944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d07c00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d07c00"/>
                    </a:gs>
                  </a:gsLst>
                  <a:lin ang="5400000"/>
                </a:gradFill>
                <a:latin typeface="Times New Roman"/>
              </a:rPr>
              <a:t>1-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d07c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1388400">
            <a:off x="6084360" y="2133720"/>
            <a:ext cx="1944720" cy="1873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3670200">
            <a:off x="755640" y="2205000"/>
            <a:ext cx="2016000" cy="201600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6430800">
            <a:off x="6156000" y="4842000"/>
            <a:ext cx="2016000" cy="2016000"/>
          </a:xfrm>
          <a:prstGeom prst="rtTriangl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667200">
            <a:off x="468000" y="4941720"/>
            <a:ext cx="4218120" cy="1363680"/>
          </a:xfrm>
          <a:prstGeom prst="parallelogram">
            <a:avLst>
              <a:gd name="adj" fmla="val 1004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 rot="12363600">
            <a:off x="2195280" y="2852640"/>
            <a:ext cx="4206600" cy="1387440"/>
          </a:xfrm>
          <a:prstGeom prst="parallelogram">
            <a:avLst>
              <a:gd name="adj" fmla="val 9797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7380360" y="6093000"/>
            <a:ext cx="1511280" cy="504720"/>
          </a:xfrm>
          <a:custGeom>
            <a:avLst/>
            <a:gdLst>
              <a:gd name="textAreaLeft" fmla="*/ 32400 w 1511280"/>
              <a:gd name="textAreaRight" fmla="*/ 1478880 w 1511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64646" h="21600">
                <a:moveTo>
                  <a:pt x="0" y="0"/>
                </a:moveTo>
                <a:lnTo>
                  <a:pt x="64646" y="0"/>
                </a:lnTo>
                <a:lnTo>
                  <a:pt x="64646" y="21600"/>
                </a:lnTo>
                <a:lnTo>
                  <a:pt x="0" y="21600"/>
                </a:lnTo>
                <a:close/>
              </a:path>
              <a:path fill="lightenLess" w="64646" h="21600">
                <a:moveTo>
                  <a:pt x="0" y="0"/>
                </a:moveTo>
                <a:lnTo>
                  <a:pt x="64646" y="0"/>
                </a:lnTo>
                <a:lnTo>
                  <a:pt x="63246" y="1400"/>
                </a:lnTo>
                <a:lnTo>
                  <a:pt x="1400" y="1400"/>
                </a:lnTo>
                <a:close/>
              </a:path>
              <a:path fill="darken" w="64646" h="21600">
                <a:moveTo>
                  <a:pt x="64646" y="0"/>
                </a:moveTo>
                <a:lnTo>
                  <a:pt x="64646" y="21600"/>
                </a:lnTo>
                <a:lnTo>
                  <a:pt x="63246" y="20200"/>
                </a:lnTo>
                <a:lnTo>
                  <a:pt x="63246" y="1400"/>
                </a:lnTo>
                <a:close/>
              </a:path>
              <a:path fill="darkenLess" w="64646" h="21600">
                <a:moveTo>
                  <a:pt x="646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6" y="20200"/>
                </a:lnTo>
                <a:close/>
              </a:path>
              <a:path fill="lighten" w="646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b4"/>
            </a:gs>
            <a:gs pos="50000">
              <a:srgbClr val="fefefe"/>
            </a:gs>
            <a:gs pos="100000">
              <a:srgbClr val="fefe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419640" y="2205000"/>
            <a:ext cx="3960720" cy="38894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35640" y="2205000"/>
            <a:ext cx="1944720" cy="18734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5400000">
            <a:off x="3419640" y="2205000"/>
            <a:ext cx="2016000" cy="201600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5364000" y="4078080"/>
            <a:ext cx="2016000" cy="2016360"/>
          </a:xfrm>
          <a:prstGeom prst="rtTriangl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8898800">
            <a:off x="2300040" y="3450600"/>
            <a:ext cx="4218120" cy="1363680"/>
          </a:xfrm>
          <a:prstGeom prst="parallelogram">
            <a:avLst>
              <a:gd name="adj" fmla="val 1004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 rot="18882000">
            <a:off x="3284640" y="4381920"/>
            <a:ext cx="4206960" cy="1387440"/>
          </a:xfrm>
          <a:prstGeom prst="parallelogram">
            <a:avLst>
              <a:gd name="adj" fmla="val 9798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21542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4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60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80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2T11:29:45Z</dcterms:created>
  <dc:creator>Мама</dc:creator>
  <dc:description/>
  <dc:language>en-US</dc:language>
  <cp:lastModifiedBy>Мама</cp:lastModifiedBy>
  <dcterms:modified xsi:type="dcterms:W3CDTF">2013-06-27T22:12:45Z</dcterms:modified>
  <cp:revision>11</cp:revision>
  <dc:subject/>
  <dc:title>Слайд 1</dc:title>
</cp:coreProperties>
</file>